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694C-7E49-4A1B-9EF3-65FEAA8E6C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64F5-FD06-44F8-A200-9147ED4D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2543-30BE-49EB-9EF7-69600A9E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2E72E-59B1-4CA5-8AA4-3EE6DA0F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A082A-2F37-40F0-AF60-DDF0AB21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97BD1-0790-4D54-B903-BD1A5596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BB0B7-3365-4171-8871-D2579A2E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0CBE8-F4C2-49EE-BE92-6C81A1B3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C1BE6-FAF3-437F-8586-97CED29E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91205-9910-43DD-BB0A-4CCC298C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C919B-AE8D-4F7A-845F-21C0A870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F2FA7-EE2E-419A-857F-F8EADF02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5A42B-B566-46B5-8F9B-71B5CC1A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65B5-D35C-4BA8-B314-4D969630D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53BB0-09A7-49A5-A5EE-586239FC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5ADE8-3387-4773-B194-6CC57FE7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6980D-0429-448A-BFD3-7B98F9D8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C19EA-0D91-4F78-9320-30730B26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EA3CD-6519-4D44-956E-B6ADC5F5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1BAD9-A666-4DF6-86F2-A18F10ED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A3D64-E09C-49DB-AA3D-2036AA13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66082-9426-4753-AEC2-F5863424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3FABE-A326-41E3-8EE4-B4CEA42D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5E7B7-A0F6-4793-B74F-5F322415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1BAE-62D2-43C0-AAFF-6EF0FCEB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23F1C-A1BB-40EB-B454-F34B5732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7F143-0B27-41FC-90A2-4AA47B9D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2AB18-3A5D-4A79-8061-86EB61A0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323A0-AB2F-43C3-A2E8-973DDBB4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40108-A3AB-43A7-B594-70F2D4EF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CF70E-1ED0-4E93-B9C1-9F80E1D8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030D4-2F1D-496F-BF23-EDA80C01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B0EC8-D1DA-46F7-AC92-CA9E30B8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D9B17-6A46-4F9B-8510-A0F2578E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9F2EE-47EC-4A3F-9F71-B64BDE4B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FF27-5BDC-43EE-8420-395B7076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2167B-6730-4EB4-AF8D-9354A31C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4ACC6-3A36-4FCB-9400-46326428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EC7A3-7B00-4319-8360-ACF6FA15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63065-175A-4D08-BBB1-477B8D7C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19793-5616-4C85-B7EE-CA55440B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85D60-0B2D-4EC7-B610-F16FFE29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5FF00-BE36-4CDB-8E44-363A7BF8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38F94-F4B8-46BB-B93D-771F5D30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51F369-DDAD-4462-B3FF-220C7FA8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CBF9C-F7E5-4772-896F-54C74EC1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36CF-64B5-4594-9621-65D395B0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21E80-1E93-445F-9DC4-7FC21161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12152-C066-4542-AD9A-99209E74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D2ED4-74D4-4F71-93E0-37F0AB0C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3A11E-9E4B-477C-9957-BDD0C67F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CA46A-172D-4EE9-8A7D-6AC16E23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55E942-A0F4-4F89-A35F-8E015D56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920BB5-1F88-4D48-923B-D2430C66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19330A-7512-4C8A-BC04-6426F84B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AB92ED-CF8A-4EA4-865B-81F75B21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1DEFCF-CA62-400B-B459-84C116AA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17CD-4B9D-4765-8C71-F541F5AB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1D9D2C-1FA6-494F-AF0E-EDB26088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C4E947-DF92-4EC6-A254-E64230AE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7DD6E5-A617-4898-B09A-45FD5F51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A62013-9A12-4967-85E4-0D0DC3F0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18575A-6C71-4B39-B1A2-B54D4C10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45F18B-823F-46B7-851E-34A14853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3E13DD-EAC5-47EE-A17B-D68DCA41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3C8D801-6AAB-4E45-80C0-715C4979E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9322D65-D9A8-4896-840C-0C0D8794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54ACA96-EAFC-4009-9CB1-C447FACA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9436-AC4B-4430-A470-0FF4776E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35523BE-D238-4FA3-8C60-17FA2C27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460399D-9F7E-4022-B07B-A9883FC4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F398DBD-EBFE-4E56-B033-2B6F8B18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767136-01BC-4333-BD7C-1DECF438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43C8333-6BC4-419C-A2DE-6B9EC829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AB96F5F-64C1-4576-BF7D-C7C55C82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E632C5D-4783-42B9-A380-5B49D726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4AD25B1-DD36-4107-8293-48FF3966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151ADA7-DDAE-4268-85AA-E29846F8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DD90-D6EC-4F74-9144-1096D98F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1643-0E2A-41B0-BE65-56AE32C4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D533-D0C0-4ABB-9825-0864C86D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3350-6814-45C3-9886-574BFB86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B411-5C0B-4C8E-9213-C617120F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E30F-A422-4F36-B5AA-1EBED924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197B-032B-4085-94D8-FAEE3362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F0BC-31C3-4EDD-9C50-A1D01E38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D28B-ECDE-4380-BC57-0A7D7121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4655B-FCBA-42B8-BB99-7EA6775F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310E7-E3E2-4D96-8291-E6254AE2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F92CE-A9CA-45AC-BE01-F4B5B803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651E7-C90A-472E-91EA-21FD63E0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5687B-8F71-4F3C-9AA0-8FAF2C10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4A6F-0834-49EE-B2E8-999B131C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C239B-138F-4FFB-82FD-5D849468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4BD7B-A24A-42B1-A0EE-D2984B33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3BAF6-5A3F-44AB-AD53-5D530557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71BA5-EF03-4157-B4CF-19D66F91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A0E97-27D4-4529-B50C-D89ACF12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38BB3-62FB-4567-A250-23050C16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DC3CD-354F-43B1-BF8B-8042AFDD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9B34A-5BAD-4101-8E44-76E8079E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8A206-EC67-43AE-B620-F70CB113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B93EA-0D49-4861-B836-8E9A3FBD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DB23-317B-4399-A3D2-7C6574BD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9DC6C-FA80-4274-8744-EB93D265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A7492-B173-4FEB-BA2B-FFF22754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4508A-D4AB-4821-9FA1-F6EB9480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767C4-F26E-489B-B52C-7EC5D489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FF8C0-19DE-494C-B35E-73DD9720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765B9-8344-4EAB-B336-1B1CFBB1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A1CAB-7486-47A1-8DAE-94F8A2FB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7C396-23FB-4C9A-9C4D-93E1AF7D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0DC7D-7372-4D43-AC56-0396DF1F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2BD2A-6330-4669-B072-A2F18640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66EF-5399-492C-8834-5155D1A7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AC171-E8EE-4A01-BB66-FA97F581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63130-B0B1-4F17-825E-888B3300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4AB62-AC05-4EC3-9734-DDC6D166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FF19A-42DA-4D7A-AA8C-49C2F888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6E59C-DD7F-40EE-85F8-9CA6B6F2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D108A-F25D-4D30-90F3-E19ECDEB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E171B-AB18-4D4C-B03B-B9743B93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28DE5-274C-4840-B553-4D414A4D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658FF-BAA6-48E5-A82E-7C5EECC4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C23ED-114F-43DF-BBD1-E23FDB4A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F548-EAD2-4528-810A-B19D448E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8E0D2-9BCF-4502-B4DC-615C1574B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309A1-CEAA-484F-8EA7-96EDB973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A7705-CD5D-4313-A56F-A25E2AE0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BEC22-7F25-4969-8D47-8BC4CD47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C1D80-BD12-4039-898C-690DB3DB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80759-6EEE-4AE8-9692-D95A711A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F62D8-934F-448E-B07F-8B882747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C5558-32C1-4889-B076-81672310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A6A1A-AF7A-473C-8AC9-E5EE8951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5857F-D2AE-4CFF-B970-AC07D907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6547-3C63-4A5A-A88B-9E273E02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603AA-5EE2-44BC-9A55-88DCC9A8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93D53-587F-415E-BD2C-A62BAD82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0523F-5A8E-4185-AAB1-0E672BA9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452D6-3F66-42E7-9927-37A8A81E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2DF7F-548B-42B4-8C43-41BC4CA0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4391D-8E5E-470F-94CA-6AF7046F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C994B-C5BF-47B2-9255-ADCABED7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6B6BC-CF95-421F-AEF9-FC0611AF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D847B-5CB8-4244-9A2A-F8B5AE76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A1C48-6011-44F1-8E6B-5B199AF0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3E3C-BC6F-408E-8B14-2407C718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9EE2C-6ABA-4ED3-A7A4-B42070F9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2DBAA-BFD8-406D-B7BF-7C699448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221FF-9E47-4088-9A7A-A4C401DC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C9053-D64C-4458-9477-7892F959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FECC6-4B9B-4446-B77F-1CDA5F18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5FF01-1676-4D35-B9C8-B91431CD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C92B6-4379-4124-AABD-1CF0DFF1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D322F-E612-4CD2-A127-B2061037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71BAF-7C7E-4340-A6E2-D001912A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0699C-DDA7-44A4-99B5-C8A8FF00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77B6-4A42-498E-8EC2-D079A9E0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1A2E9-F934-431E-8F99-46E79FF9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71325-7817-4396-B23C-03D2C5E7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4EA9A-CA81-462D-B5BD-88875291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79055-6A78-4BB7-A980-E022DDDE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7E72A-2564-4E01-909F-E127837E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56926-8142-4012-894D-E55D8948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BAC92-DB5B-4384-8ADF-4D7BD188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9EA22-20B4-4498-9F73-4F48010E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0D7F3-2549-42F4-9AC0-665912AB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DEA00-431E-4CD5-8412-E9FB2892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B643-4A0B-4143-9B55-332F11FA1CD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4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4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25A2-79BB-4D9D-AB68-CD1E3C80D4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92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94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3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3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35B5-A7BC-4B8D-9E99-8AB6C304D9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639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641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45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dt" idx="3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ftr" idx="3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F0FD-2EA2-4856-B97A-B8D230B686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DB16-1DC0-4FF6-878C-D490597085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5811-26CA-42C8-B713-2D0274E032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09A5-B1C1-4019-BE06-9163DE8A097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49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51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56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62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66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70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74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CD6A-58A3-4B01-ABAE-5BDD74A411F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3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4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5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5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6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6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B79C-64F8-427F-A2D4-6080545C3B9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15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AEFE-6D1A-42E7-8032-3C2824B0F6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E819-A179-49B5-8ABA-D711B77831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00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01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04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3462-93B2-4C25-851C-16FFE5B0FE6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48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2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8BAD-A0AB-43B3-B825-33924891719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29E9-4C05-4241-8A0A-52E664EFE7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590560" y="1599840"/>
            <a:ext cx="6095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8c0039"/>
                </a:solidFill>
                <a:latin typeface="Arial"/>
              </a:rPr>
              <a:t>Навчальні та виробничі практики студентів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952880" y="61102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Доповідач: доцент Азуркін В.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Verdana"/>
              </a:rPr>
              <a:t>Кафедра Ботаніки, генетики та фізіології рослин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228600" y="1523880"/>
          <a:ext cx="8763120" cy="5123160"/>
        </p:xfrm>
        <a:graphic>
          <a:graphicData uri="http://schemas.openxmlformats.org/drawingml/2006/table">
            <a:tbl>
              <a:tblPr/>
              <a:tblGrid>
                <a:gridCol w="515880"/>
                <a:gridCol w="3141720"/>
                <a:gridCol w="981000"/>
                <a:gridCol w="1030320"/>
                <a:gridCol w="1935360"/>
                <a:gridCol w="115884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/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зва прак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ем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етодичні вказі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ік вид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идано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ойшли метод. комісію університе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прям підготовки «Екологія та ОНС» ОКР «Бакалав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Біологі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Інформатика і системологі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прям підготовки «Агрономія» ОКР «Бакалав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Ботані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пеціальність “Плодоовочівництво і виноградарство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Ботані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прям підготовки “Лісове та садово-паркове господарство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Ботані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Verdana"/>
              </a:rPr>
              <a:t>Кафедра ґрунтознавства, землеробства та агрохімії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228600" y="1600200"/>
          <a:ext cx="8686800" cy="4876920"/>
        </p:xfrm>
        <a:graphic>
          <a:graphicData uri="http://schemas.openxmlformats.org/drawingml/2006/table">
            <a:tbl>
              <a:tblPr/>
              <a:tblGrid>
                <a:gridCol w="511200"/>
                <a:gridCol w="2994120"/>
                <a:gridCol w="1093680"/>
                <a:gridCol w="985680"/>
                <a:gridCol w="1952640"/>
                <a:gridCol w="1149480"/>
              </a:tblGrid>
              <a:tr h="469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/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зва прак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ем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етодичні вказі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ік вид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идано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ойшли метод. комісію університе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9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прям підготовки «Екологія та ОНС» ОКР «Бакалав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Ґрунтознав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Агрохімі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прям підготовки «Агрономія» ОКР «Бакалав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Ґрунтознав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Агрохімі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агальне землеробст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Verdana"/>
              </a:rPr>
              <a:t>Кафедра рослинництва та технологій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228600" y="1600200"/>
          <a:ext cx="8686800" cy="4876920"/>
        </p:xfrm>
        <a:graphic>
          <a:graphicData uri="http://schemas.openxmlformats.org/drawingml/2006/table">
            <a:tbl>
              <a:tblPr/>
              <a:tblGrid>
                <a:gridCol w="511200"/>
                <a:gridCol w="2994120"/>
                <a:gridCol w="1093680"/>
                <a:gridCol w="1022400"/>
                <a:gridCol w="1915920"/>
                <a:gridCol w="1149480"/>
              </a:tblGrid>
              <a:tr h="403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/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зва прак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ем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етодичні вказі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ік вид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идано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ойшли метод. комісію університе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прям підготовки «Екологія та ОНС» ОКР «Бакалав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ТВП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ослинництво та кормовиробниц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прям підготовки «Агрономія» ОКР «Бакалав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знайом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ослинниц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прям підготовки “Лісове та садово-паркове господарство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ТВП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Verdana"/>
              </a:rPr>
              <a:t>Кафедра ентомології, фітопатології та захисту рослин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799" name=""/>
          <p:cNvGraphicFramePr/>
          <p:nvPr/>
        </p:nvGraphicFramePr>
        <p:xfrm>
          <a:off x="228600" y="1600200"/>
          <a:ext cx="8686800" cy="4659480"/>
        </p:xfrm>
        <a:graphic>
          <a:graphicData uri="http://schemas.openxmlformats.org/drawingml/2006/table">
            <a:tbl>
              <a:tblPr/>
              <a:tblGrid>
                <a:gridCol w="511200"/>
                <a:gridCol w="2994120"/>
                <a:gridCol w="1093680"/>
                <a:gridCol w="1022400"/>
                <a:gridCol w="1915920"/>
                <a:gridCol w="1149480"/>
              </a:tblGrid>
              <a:tr h="581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/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зва прак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ем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етодичні вказі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ік вид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идано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ойшли метод. комісію університе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8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прям підготовки «Агрономія» ОКР «Бакалав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знайом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агальна ентомологі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агальна фітопатологі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ФФЗЗ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Verdana"/>
              </a:rPr>
              <a:t>Кафедра плодівництва, овочівництва, ТЗіППР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801" name=""/>
          <p:cNvGraphicFramePr/>
          <p:nvPr/>
        </p:nvGraphicFramePr>
        <p:xfrm>
          <a:off x="304920" y="1600200"/>
          <a:ext cx="8610120" cy="4800240"/>
        </p:xfrm>
        <a:graphic>
          <a:graphicData uri="http://schemas.openxmlformats.org/drawingml/2006/table">
            <a:tbl>
              <a:tblPr/>
              <a:tblGrid>
                <a:gridCol w="506160"/>
                <a:gridCol w="2912760"/>
                <a:gridCol w="1139400"/>
                <a:gridCol w="1013040"/>
                <a:gridCol w="1899360"/>
                <a:gridCol w="1139400"/>
              </a:tblGrid>
              <a:tr h="511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/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зва прак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ем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етодичні вказі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ік вид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идано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ойшли метод. комісію університе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08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прям підготовки «Агрономія» ОКР «Бакалав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знайом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лодівниц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вочівниц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прям підготовки “Лісове та садово-паркове господарство 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Геодезі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Verdana"/>
              </a:rPr>
              <a:t>Кафедра селекції та насінництв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457200" y="1905120"/>
          <a:ext cx="8229600" cy="3124080"/>
        </p:xfrm>
        <a:graphic>
          <a:graphicData uri="http://schemas.openxmlformats.org/drawingml/2006/table">
            <a:tbl>
              <a:tblPr/>
              <a:tblGrid>
                <a:gridCol w="666720"/>
                <a:gridCol w="2600280"/>
                <a:gridCol w="1089000"/>
                <a:gridCol w="968400"/>
                <a:gridCol w="1816200"/>
                <a:gridCol w="1089000"/>
              </a:tblGrid>
              <a:tr h="826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/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зва прак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ем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етодичні вказі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ік вид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идано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ойшли метод. комісію університе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1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прям підготовки «Агрономія» ОКР «Бакалав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елекція та насінниц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Verdana"/>
              </a:rPr>
              <a:t>Кафедра Лісівництва та кормовиробництв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457200" y="1905120"/>
          <a:ext cx="8229600" cy="3124080"/>
        </p:xfrm>
        <a:graphic>
          <a:graphicData uri="http://schemas.openxmlformats.org/drawingml/2006/table">
            <a:tbl>
              <a:tblPr/>
              <a:tblGrid>
                <a:gridCol w="666720"/>
                <a:gridCol w="2600280"/>
                <a:gridCol w="1089000"/>
                <a:gridCol w="968400"/>
                <a:gridCol w="1816200"/>
                <a:gridCol w="1089000"/>
              </a:tblGrid>
              <a:tr h="826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/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зва прак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ем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етодичні вказі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ік вид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идано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ойшли метод. комісію університе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1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прям підготовки «Лісове та садово-паркове господарств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знайом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Verdana"/>
              </a:rPr>
              <a:t>Кафедра Тракторів та автомобілів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457200" y="1905120"/>
          <a:ext cx="8229600" cy="3124080"/>
        </p:xfrm>
        <a:graphic>
          <a:graphicData uri="http://schemas.openxmlformats.org/drawingml/2006/table">
            <a:tbl>
              <a:tblPr/>
              <a:tblGrid>
                <a:gridCol w="666720"/>
                <a:gridCol w="2600280"/>
                <a:gridCol w="1089000"/>
                <a:gridCol w="968400"/>
                <a:gridCol w="1816200"/>
                <a:gridCol w="1089000"/>
              </a:tblGrid>
              <a:tr h="826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/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зва прак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ем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етодичні вказі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ік вид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идано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ойшли метод. комісію університе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1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прям підготовки «Агрономія» ОКР «Бакалав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Трактори і автомобіл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Verdana"/>
              </a:rPr>
              <a:t>Кафедра С.-г. машин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457200" y="1905120"/>
          <a:ext cx="8229600" cy="3170160"/>
        </p:xfrm>
        <a:graphic>
          <a:graphicData uri="http://schemas.openxmlformats.org/drawingml/2006/table">
            <a:tbl>
              <a:tblPr/>
              <a:tblGrid>
                <a:gridCol w="666720"/>
                <a:gridCol w="2600280"/>
                <a:gridCol w="1089000"/>
                <a:gridCol w="968400"/>
                <a:gridCol w="1816200"/>
                <a:gridCol w="1089000"/>
              </a:tblGrid>
              <a:tr h="826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/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зва прак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ем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етодичні вказі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ік вид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идано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ойшли метод. комісію університе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1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прям підготовки «Агрономія» ОКР «Бакалав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ільськогосподарські маши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Verdana"/>
              </a:rPr>
              <a:t>Виробнича практик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811" name=""/>
          <p:cNvGraphicFramePr/>
          <p:nvPr/>
        </p:nvGraphicFramePr>
        <p:xfrm>
          <a:off x="304920" y="1295280"/>
          <a:ext cx="8610480" cy="4900680"/>
        </p:xfrm>
        <a:graphic>
          <a:graphicData uri="http://schemas.openxmlformats.org/drawingml/2006/table">
            <a:tbl>
              <a:tblPr/>
              <a:tblGrid>
                <a:gridCol w="623880"/>
                <a:gridCol w="2746440"/>
                <a:gridCol w="1149120"/>
                <a:gridCol w="1022400"/>
                <a:gridCol w="1919160"/>
                <a:gridCol w="1149480"/>
              </a:tblGrid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/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зва прак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ем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етодичні вказі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ік вид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идано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ойшли метод. комісію університе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прям підготовки «Агрономія» ОКР «Бакалав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Агротехнологіч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Навчально-науково-дослідна</a:t>
                      </a: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 (спец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9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уково-дослідна (ма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Наскрізна програма практик (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Наскрізна програма практик (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актична підготовка студентів є невід'ємною складовою частиною навчального процесу Вінницького НАУ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Мета практик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- закріплення теоретичних знань, які були отримані в процесі навчання, формування у студентів професійних умінь та навичок, оволодіння студентами сучасними методами та формами організації виробниц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330033"/>
                </a:solidFill>
                <a:latin typeface="Times New Roman"/>
              </a:rPr>
              <a:t>Пропозиції щодо покращення практичної підготовки студентів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14400" y="186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безпечити всі види практик методичними вказівками проведення практ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новити методичні вказівки проведення практик та провести їх через методичну комісію університе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тримуватися проведення навчальних практик відповідно до програми практ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силити контроль за проведенням виробничих практик на місцях з боку керівників практик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914040" y="2133720"/>
            <a:ext cx="6870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200" spc="-1" strike="noStrike">
                <a:solidFill>
                  <a:srgbClr val="ffffff"/>
                </a:solidFill>
                <a:latin typeface="Tahoma"/>
              </a:rPr>
              <a:t>Дякую за увагу</a:t>
            </a:r>
            <a:endParaRPr b="0" lang="en-US" sz="6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ідповідно до навчального плану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агрономічного факультету ВНАУ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 процесі підготовки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студентів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дбачається проведення трьох видів практи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навчаль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агротехнологіч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Переддипломн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(виробнич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6840" y="152388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6666"/>
                </a:solidFill>
                <a:latin typeface="Arial"/>
              </a:rPr>
              <a:t>Навчальна практика</a:t>
            </a:r>
            <a:br>
              <a:rPr sz="32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Завдання навчальної практики</a:t>
            </a:r>
            <a:r>
              <a:rPr b="0" lang="uk-UA" sz="3200" spc="-1" strike="noStrike">
                <a:solidFill>
                  <a:srgbClr val="003366"/>
                </a:solidFill>
                <a:latin typeface="Arial"/>
              </a:rPr>
              <a:t> - ознайомлення студентів із специфікою майбутньої спеціальності, отримання первинних професійних умінь і навичок із загальнопрофесійних та спеціальних дисциплін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834120" y="529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6666"/>
                </a:solidFill>
                <a:latin typeface="Arial"/>
              </a:rPr>
              <a:t>Агротехнологічна практика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003366"/>
                </a:solidFill>
                <a:latin typeface="Arial"/>
              </a:rPr>
              <a:t>Мета агротехнологічної практики</a:t>
            </a:r>
            <a:r>
              <a:rPr b="0" lang="uk-UA" sz="2600" spc="-1" strike="noStrike">
                <a:solidFill>
                  <a:srgbClr val="003366"/>
                </a:solidFill>
                <a:latin typeface="Arial"/>
              </a:rPr>
              <a:t> - ознайомлення студентів-практикантів безпосередньо на підприємствах, в організаціях, установах з виробничим процесом і технологічним циклом виробництва, відпрацювання вмінь і навичок зі спеціальності, закріплення знань, отриманих при вивченні певного циклу теоретичних дисциплін та придбання первинного практичного досвіду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834120" y="6814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6666"/>
                </a:solidFill>
                <a:latin typeface="Arial"/>
              </a:rPr>
              <a:t>Переддипломна практика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3366"/>
                </a:solidFill>
                <a:latin typeface="Arial"/>
              </a:rPr>
              <a:t>Переддипломна практика є завершальним етапом навчання і проводиться з метою узагальнення знань, практичних умінь та навичок на базі конкретного суб’єкта господарювання, оволодіння професійним досвідом та готовності майбутнього фахівця до самостійної трудової діяльності, збору матеріалів для дипломного проекту.</a:t>
            </a:r>
            <a:br>
              <a:rPr sz="2600"/>
            </a:br>
            <a:r>
              <a:rPr b="1" lang="uk-UA" sz="2600" spc="-1" strike="noStrike">
                <a:solidFill>
                  <a:srgbClr val="003366"/>
                </a:solidFill>
                <a:latin typeface="Arial"/>
              </a:rPr>
              <a:t>Мета практики –</a:t>
            </a:r>
            <a:r>
              <a:rPr b="0" lang="uk-UA" sz="2600" spc="-1" strike="noStrike">
                <a:solidFill>
                  <a:srgbClr val="003366"/>
                </a:solidFill>
                <a:latin typeface="Arial"/>
              </a:rPr>
              <a:t> поглиблення та систематизація знань студентів шляхом рішення виробничо - ситуаційних проблем сільськогосподарського виробництва і різних галузей залежно від спеціалізації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909360" y="299520"/>
            <a:ext cx="765072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Tahoma"/>
              </a:rPr>
              <a:t>Підведення підсумків практики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Після закінчення терміну практики студенти звітують про виконання програми практики. Форма звітності студента - подання письмового звіту, підписаного і оціненого безпосередньо керівником від бази практики, який подається керівнику практики від навчального закладу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Звіт з практики оцінюється, оцінка вноситься в заліково-екзаменаційну відомість та залікову книжку студента за підписом членів комісії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6666"/>
                </a:solidFill>
                <a:latin typeface="Verdana"/>
              </a:rPr>
              <a:t>Забезпеченість практик методичними вказівками</a:t>
            </a:r>
            <a:endParaRPr b="0" lang="en-US" sz="3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152280" y="1066680"/>
          <a:ext cx="8839440" cy="5637240"/>
        </p:xfrm>
        <a:graphic>
          <a:graphicData uri="http://schemas.openxmlformats.org/drawingml/2006/table">
            <a:tbl>
              <a:tblPr/>
              <a:tblGrid>
                <a:gridCol w="598680"/>
                <a:gridCol w="3446280"/>
                <a:gridCol w="1347840"/>
                <a:gridCol w="1198800"/>
                <a:gridCol w="2247840"/>
              </a:tblGrid>
              <a:tr h="339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/п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зва кафедр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Кількість практи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етодичні вказів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идано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ойшли метод. комісію університет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Екології та ОНС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Ботаніки, генетики та фізіології росли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Ентомології, фітопатології та захисту росли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ослинництва та технологі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Ґрунтознавства, землеробства та агрохімії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лодівництва, овочівництва, ТЗіПП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елекція та насінництв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Лісівництва та кормовиробниц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Тракторів та автомобілі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.-г. маши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Всь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38/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29/76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23/60,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Verdana"/>
              </a:rPr>
              <a:t>Кафедра екології та ОНС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152280" y="685800"/>
          <a:ext cx="8763120" cy="6016680"/>
        </p:xfrm>
        <a:graphic>
          <a:graphicData uri="http://schemas.openxmlformats.org/drawingml/2006/table">
            <a:tbl>
              <a:tblPr/>
              <a:tblGrid>
                <a:gridCol w="515880"/>
                <a:gridCol w="3221280"/>
                <a:gridCol w="901800"/>
                <a:gridCol w="1029960"/>
                <a:gridCol w="1935360"/>
                <a:gridCol w="115884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/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зва прак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еме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етодичні вказі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ік вид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ида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ойшли метод. комісію університе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КР «Бакалавр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знайом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снови загальної еколог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Ландшафтно-екологічна (польов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Гідроло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земні екосистеми та методи біомоніторин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оніторинг довкіл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Техноекологі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иробнич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иробнича (переддипломна практи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КР «Спеціаліс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ереддипломна (виробнич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КР «Магістр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уково-дослідницька та педагогічна прак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2-23T07:18:57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