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302A-09F7-4679-9B5A-F0A6D72A1E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B52-6328-4DF1-B92C-00777CD7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DAE-DD02-4F6B-805C-4C519AE7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A5031-D1A1-4984-83F3-DCE070D1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A3388-AC84-49DB-A55F-7341363B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2AD81-E8E3-4F80-9ACB-5FEE713A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753D6-ABB9-4654-8B86-E8033808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0D043-106A-468C-A4B9-8B36036B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6D905-907C-4806-9FFC-A68A45BD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D000D-D83A-41C4-AB13-3D5CD3E2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85280-8537-4765-BA5F-0EBF28D0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01D3B-54EB-4E03-B488-48E14259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D4CBD-19DE-4CF7-AD45-1B22E35C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559-85BC-4202-90DA-7B29618D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0BC48-D249-4000-BDC3-075B057B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1AB72-A267-4F4B-A5EC-4B0EB95E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B0C96-2EB7-459D-8D44-EF581584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16CAC-CDC0-40E1-A137-05135189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DF01F-2F01-4FF9-B09A-DA642584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099B0-B5DE-4B55-BA08-34F52118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0B1AA-C021-466B-8202-E4D31F37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D918E-22D0-472E-81BB-91705385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32D6E-6FC9-4A5E-9A18-910BC0EB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833E3-96DB-4BFD-9A89-F8DD48BA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64C-106C-4593-A696-B2635924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2AA5D-A4D3-457F-B7F0-D4C055AF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FEF6B-C83F-4BCA-8738-CA69F932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154F1-BF0C-4857-A915-DF9FB10B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0848F-E057-402C-82DE-690480ED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64F3C-32FD-43AB-B480-E2C433DE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8C787-4858-40CA-88EF-05888A54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2825D-E0D1-41C3-AB5A-855C799E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46AA5-CEF4-4B98-9AEB-43306726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F40E1-0E95-45CE-8D60-A94F2B59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03D9E-0C2C-4D77-87B0-C32146CB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D671-9379-4C85-BE2F-B5B83DC5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297F3-8D72-4900-98D6-262BA6BF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1C454-9229-4812-8755-A18F0D7C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DE6D3-44C9-41F4-8B27-A33BAFA3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EA1C6-1408-44DB-BA9A-EC12A750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BACBF-913A-4FD9-BCBD-8E878DA0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1F932-743A-4420-855C-93129F40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DD770-D267-45ED-9F93-A8050A7E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17754-28D1-4F33-8E8F-ACC7CCAB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1CF9A-A073-4995-8C6C-1730D756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01993-8D3E-4EC4-B572-E2C174DA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341D-A075-4FDF-BED3-DD6D9506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B8801-71F6-49F1-A29C-E360415E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D4DA4-D679-45CC-90A7-F93197EF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67EB9-F884-419D-952B-EC73E362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676DA-00D0-4BB7-8EEB-8F4B9B19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277E1-4080-44A2-864A-FDB75B23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117A5-B76F-45E9-BB76-3D40E6E8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B647E-E78E-47F3-B396-F17C4BC2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DF0EE-6418-47FE-9C89-B487C439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D095B-A896-4199-9A93-5EF91743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8FAA7-AB56-461C-82A5-6F9ADF18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D616-5BD6-486A-81A0-BC15C5A8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68B0F-0256-4227-B5E5-16156636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9C973-37F0-46CE-BD41-F27B9886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FB041-8007-4B01-8246-60C89104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637E9-4104-4018-A668-B18D460B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F3A9B-AC6C-4E78-AB98-B645B033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CD897-FA7C-41A7-9EAF-FEBB12D7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45E04-5A33-41D3-8F0C-DB274881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117C9D-A646-4F2F-933C-DD2028AE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890749-961A-4B7A-A10D-605CA36F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8C8657-0C9E-4439-AA9D-A15E2664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F781-59E8-410D-A286-92958AFD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0E0E45-27AB-4523-B4CF-C00F2D9D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779140-AE01-4A43-8282-A9E7A1F1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5D1044-D66D-436C-A2C9-3DAFCD53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F4E26E-8F0A-48EE-AFA6-84FFAF5C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37A72D-8511-4516-9C4B-433805E0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1A85D3-790E-4701-8225-0A8B49FF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62452D-C40F-455D-BD8F-418DD27F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F2FCDA-F3A4-4A5B-9918-BCA9DD46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1A8126-2041-4A29-B059-D571B9F7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FE0A-D33F-4188-9185-4F54ADAE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B9CC-D5EB-485B-80E4-76A4ED46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18B2-710C-4A04-9782-80E757BB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BF8-BEC4-4B25-B89C-674474DC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F030-67AA-4B32-8FB9-7B80F1B3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B58C-E386-4B22-9756-D367069D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B090-BF27-4398-825F-1C7C36DD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8485-330A-407C-A595-A3AD41A0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C662-DED1-4E2C-84FF-99B82C92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DE24D-07D4-4585-8DB0-9D80C333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2C6B-A7F3-4835-B4D3-328759C1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B172E-F045-4101-B201-A5ECA4F1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589AA-DD10-4567-A64B-E231679F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18481-64E7-43D6-817D-B467172D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118-B759-42AC-9C11-A3A3AB28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D72E-CD42-4E1B-97E3-2F258A45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199D8-129B-4F28-ABBB-C22DA41A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D21B2-97BE-4296-937D-962EC8CA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391D8-7CBA-4FF8-8291-04E8A5BF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62C05-CE50-4BF7-9579-F9B3F3F7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D859-3134-4089-91F7-2F58CF84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7CFA-2111-4FA7-B3F9-4E549E60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343EE-531F-46E2-960B-74E8AAD3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37087-E7E7-44DD-9762-4AD2ADA3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7D5D9-D9F1-469B-B56C-AAB0D61B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812-03A6-4708-8E04-7E9DB3FA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E79DC-8220-4751-8801-79A14D8B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F3FCE-F034-4C3B-BB8F-5298A131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944FA-F3CE-4146-869A-48586F55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4B2C0-7810-4F58-A631-1759983D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3DB64-D2F1-4B5E-8CCD-2D96B49F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59E93-4A35-4495-9EA7-3B184CC6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8FD74-2D6D-4B20-AF22-450E3C0E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77059-E7F8-471E-AC08-38CE83F9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6B2A3-38A2-4869-AE98-3E964F68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E1131-D15E-4A28-B82F-363BCBC8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6EA-4F28-46FE-B244-4EF73F46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DC331-8907-41D6-A229-E6FFA5E4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806B3-C337-44FA-8A3E-348A77D2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6C10A-1FC0-4B6D-8417-501559BB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812ED-2640-40EF-8ED4-A93B922B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C684D-86CF-4BFC-BC27-FFF87CCD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A62E4-7D8C-459D-A781-DE3EE251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8ECB6-DB79-4E1F-9E71-0C3A6B8E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533D3-3260-48CB-9679-E483FB21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65E60-AF0E-4729-9A1F-6C7837F7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A980A-B8A6-4945-9E54-813E4734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C5A-7398-4FEC-9FCB-737E3D3A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F40BA-5C3A-437B-A2B2-2A2CBCE1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13A3E-9293-4A3C-82E5-7141F883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652F1-2164-4F2D-A4F9-D858195A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382D0-00E2-480D-852A-6CBDB20F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CF9FD-DDAF-4CE3-B799-A81A2F07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A35E6-EC25-4545-9AB2-5C7A346E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070DA-970C-4FF8-9913-CEBF5E8C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5AA64-4556-451B-A37A-90AC0C36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D5CE2-CA65-4008-AFE7-53CA22B6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EF795-CBAA-4F95-A338-F368ADCE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CDB-B047-4779-A193-D96B1112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C85D3-8A20-4444-A0A5-C7BD7960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4E33E-26E2-43DB-8891-0AAB02B5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6FF84-17AB-48D2-B968-3E2AC7DE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DE831-0A86-48B1-AB20-1DBAD7EB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36E00-318D-4932-A6F4-71195FB6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3AB6B-5EA4-4A4F-BDA1-C07741B6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706F1-5CD6-4B08-BCF4-0E73A8CE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61255-A285-46E1-B82A-AA089671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756D8-02AF-401F-AF9B-CF36B6F9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8A4C4-E894-4C94-B3FB-3550CBC5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8C2-BA91-49D0-8C63-089F9A0D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E4977-7530-4B53-B626-65321BE3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4D6AC-8604-4D80-A449-C9828FAC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76714-FFD0-469A-944A-69CEE83A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E32AD-9A0B-4BD6-91AD-B180D881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31940-9B5B-4EC8-B510-29DDF02F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5A9CE-D3D2-4F0F-AEA0-F795C2FC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E5461-CE24-4E65-8F64-044881A3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F2B2F-D40F-4E41-9829-34591206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383BA-D7B8-43F3-84A8-89A3D51B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750D1-73C5-4F3D-A59A-6461505C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7C8-C656-4615-BB19-1551D46C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79577-0279-4FAA-A623-01517A2C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07902-B789-44AE-AC69-A003D447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D75CF-0F2D-4F71-9EB8-0DED97A9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BE012-1588-43B3-A6EB-7DDAB633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C5483-B4E5-4B2F-8A7E-334770DB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703EC-B1E0-451C-941A-A7864FEA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C440A-7ACC-4C51-9260-8DDFAAA7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38155-B9DF-4897-A1CA-E6FDEB64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C8481-0E5E-4AEB-A527-4E52CEEC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0FC7C-187C-4472-B38F-01C33493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174D-17FF-4B22-AA34-70513AE98F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4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4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2B76-9E93-4126-BA48-BBFAE76C50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9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9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60D3-E46C-4DC2-BB2B-B3BEEBACC8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3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4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4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E09D-FAB0-4A66-87A9-5AA99C3695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3149-B2F2-4B1D-B3D4-13FCC776B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0776-CE75-4526-A697-0874769C8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40B7-6637-4B22-8533-DEC78C5E09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49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51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56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62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66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70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74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7D89-1E1E-4C25-B63F-F313B940CA8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34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48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52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56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60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64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9791-BE63-480D-B644-25F2B4D7A2C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1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1DB1-0276-4C7D-9E84-8D10E54179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89C7-8709-41E8-B3B4-CA98C9F839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00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04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CFFC-342F-4387-9934-944A20019E6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457A-5B0A-4D62-AD29-67F897671A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185E-246B-40C8-9E33-36866F2AAD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590560" y="1599840"/>
            <a:ext cx="6095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8c0039"/>
                </a:solidFill>
                <a:latin typeface="Arial"/>
              </a:rPr>
              <a:t>Навчальні та виробничі практики студентів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952880" y="6110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Доповідач: доцент Азуркін В.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Ботаніки, генетики та фізіології рослин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228600" y="1523880"/>
          <a:ext cx="8763120" cy="5123160"/>
        </p:xfrm>
        <a:graphic>
          <a:graphicData uri="http://schemas.openxmlformats.org/drawingml/2006/table">
            <a:tbl>
              <a:tblPr/>
              <a:tblGrid>
                <a:gridCol w="515880"/>
                <a:gridCol w="3141720"/>
                <a:gridCol w="981000"/>
                <a:gridCol w="1030320"/>
                <a:gridCol w="1935360"/>
                <a:gridCol w="115884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Екологія та ОНС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іологі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Інформатика і системолог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отані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пеціальність “Плодоовочівництво і виноградарство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отані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“Лісове та садово-паркове господарство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отані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ґрунтознавства, землеробства та агрохімії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228600" y="1600200"/>
          <a:ext cx="8686800" cy="4876920"/>
        </p:xfrm>
        <a:graphic>
          <a:graphicData uri="http://schemas.openxmlformats.org/drawingml/2006/table">
            <a:tbl>
              <a:tblPr/>
              <a:tblGrid>
                <a:gridCol w="511200"/>
                <a:gridCol w="2994120"/>
                <a:gridCol w="1093680"/>
                <a:gridCol w="985680"/>
                <a:gridCol w="1952640"/>
                <a:gridCol w="1149480"/>
              </a:tblGrid>
              <a:tr h="469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Екологія та ОНС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Ґрунтознав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грохімі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Ґрунтознав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грохім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агальне землероб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рослинництва та технологій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228600" y="1600200"/>
          <a:ext cx="8686800" cy="4876920"/>
        </p:xfrm>
        <a:graphic>
          <a:graphicData uri="http://schemas.openxmlformats.org/drawingml/2006/table">
            <a:tbl>
              <a:tblPr/>
              <a:tblGrid>
                <a:gridCol w="511200"/>
                <a:gridCol w="2994120"/>
                <a:gridCol w="1093680"/>
                <a:gridCol w="1022400"/>
                <a:gridCol w="1915920"/>
                <a:gridCol w="1149480"/>
              </a:tblGrid>
              <a:tr h="403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Екологія та ОНС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ТВП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ослинництво та кормовиробниц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знайом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ослинниц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“Лісове та садово-паркове господарство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ТВП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ентомології, фітопатології та захисту рослин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228600" y="1600200"/>
          <a:ext cx="8686800" cy="4659480"/>
        </p:xfrm>
        <a:graphic>
          <a:graphicData uri="http://schemas.openxmlformats.org/drawingml/2006/table">
            <a:tbl>
              <a:tblPr/>
              <a:tblGrid>
                <a:gridCol w="511200"/>
                <a:gridCol w="2994120"/>
                <a:gridCol w="1093680"/>
                <a:gridCol w="1022400"/>
                <a:gridCol w="1915920"/>
                <a:gridCol w="1149480"/>
              </a:tblGrid>
              <a:tr h="581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знайом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агальна ентомолог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агальна фітопатолог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ФФЗЗ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плодівництва, овочівництва, ТЗіППР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304920" y="1600200"/>
          <a:ext cx="8610120" cy="4800240"/>
        </p:xfrm>
        <a:graphic>
          <a:graphicData uri="http://schemas.openxmlformats.org/drawingml/2006/table">
            <a:tbl>
              <a:tblPr/>
              <a:tblGrid>
                <a:gridCol w="506160"/>
                <a:gridCol w="2912760"/>
                <a:gridCol w="1139400"/>
                <a:gridCol w="1013040"/>
                <a:gridCol w="1899360"/>
                <a:gridCol w="1139400"/>
              </a:tblGrid>
              <a:tr h="511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8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знайом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лодівниц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вочівниц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“Лісове та садово-паркове господарство 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еодез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селекції та насінництв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457200" y="1905120"/>
          <a:ext cx="8229600" cy="3124080"/>
        </p:xfrm>
        <a:graphic>
          <a:graphicData uri="http://schemas.openxmlformats.org/drawingml/2006/table">
            <a:tbl>
              <a:tblPr/>
              <a:tblGrid>
                <a:gridCol w="666720"/>
                <a:gridCol w="2600280"/>
                <a:gridCol w="1089000"/>
                <a:gridCol w="968400"/>
                <a:gridCol w="1816200"/>
                <a:gridCol w="1089000"/>
              </a:tblGrid>
              <a:tr h="826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лекція та насінниц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Лісівництва та кормовиробництв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457200" y="1905120"/>
          <a:ext cx="8229600" cy="3124080"/>
        </p:xfrm>
        <a:graphic>
          <a:graphicData uri="http://schemas.openxmlformats.org/drawingml/2006/table">
            <a:tbl>
              <a:tblPr/>
              <a:tblGrid>
                <a:gridCol w="666720"/>
                <a:gridCol w="2600280"/>
                <a:gridCol w="1089000"/>
                <a:gridCol w="968400"/>
                <a:gridCol w="1816200"/>
                <a:gridCol w="1089000"/>
              </a:tblGrid>
              <a:tr h="826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Лісове та садово-паркове господарств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знайом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Тракторів та автомобілів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457200" y="1905120"/>
          <a:ext cx="8229600" cy="3124080"/>
        </p:xfrm>
        <a:graphic>
          <a:graphicData uri="http://schemas.openxmlformats.org/drawingml/2006/table">
            <a:tbl>
              <a:tblPr/>
              <a:tblGrid>
                <a:gridCol w="666720"/>
                <a:gridCol w="2600280"/>
                <a:gridCol w="1089000"/>
                <a:gridCol w="968400"/>
                <a:gridCol w="1816200"/>
                <a:gridCol w="1089000"/>
              </a:tblGrid>
              <a:tr h="826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Трактори і автомобіл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С.-г. машин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457200" y="1905120"/>
          <a:ext cx="8229600" cy="3170160"/>
        </p:xfrm>
        <a:graphic>
          <a:graphicData uri="http://schemas.openxmlformats.org/drawingml/2006/table">
            <a:tbl>
              <a:tblPr/>
              <a:tblGrid>
                <a:gridCol w="666720"/>
                <a:gridCol w="2600280"/>
                <a:gridCol w="1089000"/>
                <a:gridCol w="968400"/>
                <a:gridCol w="1816200"/>
                <a:gridCol w="1089000"/>
              </a:tblGrid>
              <a:tr h="826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ільськогосподарські маши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Виробнича практи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304920" y="1295280"/>
          <a:ext cx="8610480" cy="4900680"/>
        </p:xfrm>
        <a:graphic>
          <a:graphicData uri="http://schemas.openxmlformats.org/drawingml/2006/table">
            <a:tbl>
              <a:tblPr/>
              <a:tblGrid>
                <a:gridCol w="623880"/>
                <a:gridCol w="2746440"/>
                <a:gridCol w="1149120"/>
                <a:gridCol w="1022400"/>
                <a:gridCol w="1919160"/>
                <a:gridCol w="1149480"/>
              </a:tblGrid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прям підготовки «Агрономія» ОКР «Бакала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Агротехнологіч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Навчально-науково-дослідна</a:t>
                      </a: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(спец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уково-дослідна (ма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Наскрізна програма практик (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Наскрізна програма практик (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ктична підготовка студентів є невід'ємною складовою частиною навчального процесу Вінницького НА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ета практик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- закріплення теоретичних знань, які були отримані в процесі навчання, формування у студентів професійних умінь та навичок, оволодіння студентами сучасними методами та формами організації виробниц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Пропозиції щодо покращення практичної підготовки студенті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86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ити всі види практик методичними вказівками проведення практ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новити методичні вказівки проведення практик та провести їх через методичну комісію університ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тримуватися проведення навчальних практик відповідно до програми практ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илити контроль за проведенням виробничих практик на місцях з боку керівників практик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040" y="2133720"/>
            <a:ext cx="6870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200" spc="-1" strike="noStrike">
                <a:solidFill>
                  <a:srgbClr val="ffffff"/>
                </a:solidFill>
                <a:latin typeface="Tahoma"/>
              </a:rPr>
              <a:t>Дякую за увагу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ідповідно до навчального плану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агрономічного факультету ВНА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процесі підготовки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тудентів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дбачається проведення трьох видів практи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авчаль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агротехнологіч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ереддипломн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(виробнич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15238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66"/>
                </a:solidFill>
                <a:latin typeface="Arial"/>
              </a:rPr>
              <a:t>Навчальна практика</a:t>
            </a:r>
            <a:br>
              <a:rPr sz="32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Завдання навчальної практики</a:t>
            </a: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 - ознайомлення студентів із специфікою майбутньої спеціальності, отримання первинних професійних умінь і навичок із загальнопрофесійних та спеціальних дисциплін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6666"/>
                </a:solidFill>
                <a:latin typeface="Arial"/>
              </a:rPr>
              <a:t>Агротехнологічна практика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003366"/>
                </a:solidFill>
                <a:latin typeface="Arial"/>
              </a:rPr>
              <a:t>Мета агротехнологічної практики</a:t>
            </a:r>
            <a:r>
              <a:rPr b="0" lang="uk-UA" sz="2600" spc="-1" strike="noStrike">
                <a:solidFill>
                  <a:srgbClr val="003366"/>
                </a:solidFill>
                <a:latin typeface="Arial"/>
              </a:rPr>
              <a:t> - ознайомлення студентів-практикантів безпосередньо на підприємствах, в організаціях, установах з виробничим процесом і технологічним циклом виробництва, відпрацювання вмінь і навичок зі спеціальності, закріплення знань, отриманих при вивченні певного циклу теоретичних дисциплін та придбання первинного практичного досвіду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6814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66"/>
                </a:solidFill>
                <a:latin typeface="Arial"/>
              </a:rPr>
              <a:t>Переддипломна практика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3366"/>
                </a:solidFill>
                <a:latin typeface="Arial"/>
              </a:rPr>
              <a:t>Переддипломна практика є завершальним етапом навчання і проводиться з метою узагальнення знань, практичних умінь та навичок на базі конкретного суб’єкта господарювання, оволодіння професійним досвідом та готовності майбутнього фахівця до самостійної трудової діяльності, збору матеріалів для дипломного проекту.</a:t>
            </a:r>
            <a:br>
              <a:rPr sz="2600"/>
            </a:br>
            <a:r>
              <a:rPr b="1" lang="uk-UA" sz="2600" spc="-1" strike="noStrike">
                <a:solidFill>
                  <a:srgbClr val="003366"/>
                </a:solidFill>
                <a:latin typeface="Arial"/>
              </a:rPr>
              <a:t>Мета практики –</a:t>
            </a:r>
            <a:r>
              <a:rPr b="0" lang="uk-UA" sz="2600" spc="-1" strike="noStrike">
                <a:solidFill>
                  <a:srgbClr val="003366"/>
                </a:solidFill>
                <a:latin typeface="Arial"/>
              </a:rPr>
              <a:t> поглиблення та систематизація знань студентів шляхом рішення виробничо - ситуаційних проблем сільськогосподарського виробництва і різних галузей залежно від спеціалізації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909360" y="299520"/>
            <a:ext cx="765072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Tahoma"/>
              </a:rPr>
              <a:t>Підведення підсумків практик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ісля закінчення терміну практики студенти звітують про виконання програми практики. Форма звітності студента - подання письмового звіту, підписаного і оціненого безпосередньо керівником від бази практики, який подається керівнику практики від навчального закладу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віт з практики оцінюється, оцінка вноситься в заліково-екзаменаційну відомість та залікову книжку студента за підписом членів комісії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6666"/>
                </a:solidFill>
                <a:latin typeface="Verdana"/>
              </a:rPr>
              <a:t>Забезпеченість практик методичними вказівками</a:t>
            </a:r>
            <a:endParaRPr b="0" lang="en-US" sz="3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152280" y="1066680"/>
          <a:ext cx="8839440" cy="5637240"/>
        </p:xfrm>
        <a:graphic>
          <a:graphicData uri="http://schemas.openxmlformats.org/drawingml/2006/table">
            <a:tbl>
              <a:tblPr/>
              <a:tblGrid>
                <a:gridCol w="598680"/>
                <a:gridCol w="3446280"/>
                <a:gridCol w="1347840"/>
                <a:gridCol w="1198800"/>
                <a:gridCol w="2247840"/>
              </a:tblGrid>
              <a:tr h="339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кафедр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ількість практи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Екології та ОН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отаніки, генетики та фізіології росл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Ентомології, фітопатології та захисту росл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ослинництва та технологі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Ґрунтознавства, землеробства та агрохімії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лодівництва, овочівництва, ТЗіПП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лекція та насінництв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Лісівництва та кормовиробниц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Тракторів та автомобілі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.-г. маш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Всь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38/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9/7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23/60,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Verdana"/>
              </a:rPr>
              <a:t>Кафедра екології та ОНС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152280" y="685800"/>
          <a:ext cx="8763120" cy="6016680"/>
        </p:xfrm>
        <a:graphic>
          <a:graphicData uri="http://schemas.openxmlformats.org/drawingml/2006/table">
            <a:tbl>
              <a:tblPr/>
              <a:tblGrid>
                <a:gridCol w="515880"/>
                <a:gridCol w="3221280"/>
                <a:gridCol w="901800"/>
                <a:gridCol w="1029960"/>
                <a:gridCol w="1935360"/>
                <a:gridCol w="115884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/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ва пр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тодичні вказі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ік вид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да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йшли метод. комісію університ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КР «Бакалавр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знайом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снови загальної еколог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Ландшафтно-екологічна (польо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ідроло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земні екосистеми та методи біомоніторин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оніторинг довкіл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Техноекологі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робнич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иробнича (переддипломна практи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КР «Спеціаліс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ереддипломна (виробнич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КР «Магіст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уково-дослідницька та педагогічна прак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2-23T07:18:5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