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1C8-AFE6-416A-813E-6A3F61EB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09F-1B9F-4C9C-A91E-C825D570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987-F3C8-4A9F-88DD-F068A00A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DC8-0D7B-45B1-9073-1DEC95E4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E969-C3FB-4766-AC18-CCE458A0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68DD-C922-4553-AFCE-28C9A26E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9AE9-4B1E-4DBB-BA2F-84CA3702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8152-3D5F-48F7-AEEF-C326AA10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4D7A-C11F-423A-997C-3BC2194E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5F01-4897-4D86-9532-D12B00B0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BFFF-2294-4B78-8125-5C803BE7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ABD-9DB3-4BE6-9467-C674E575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A0D7-3E92-426A-885A-836C46FC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59F-A208-4A8C-9A75-A86F04CA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DFB-9D24-4562-8826-4C8DD9F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4712-4E7F-4996-92CE-68DFB609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2305-B974-4D08-A95C-7B8B12BD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72B-4A42-4DED-BFD1-B0FCBBD5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571-99AB-4693-9FB3-5A8CA41E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2BE-0A6A-424B-BFB7-A7D8133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2E1-CA69-4398-AD48-5657804F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E45-FCE9-41E8-89C0-8F4DCFA7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537-A259-4973-88EE-D85923E4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28C-0C3A-466F-A37F-5A1F302A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EE7-B0A8-4D6F-9C70-2A8183D6A95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C82-7EC2-4FE2-BE3B-29F13A9A187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2f5897"/>
                </a:solidFill>
                <a:latin typeface="Palatino Linotype"/>
              </a:rPr>
              <a:t>Промислова екологія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19807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Галузь знань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: 10 – "Природничі науки"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Спеціальність: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  101 – "Екологія"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Освітній ступінь: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 "Магістр"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Факультет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 агрономії та лісівництв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Мета  дисципліни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8380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ивчення дисципліни «Промислової екології» - одержання студентами знань, необхідних майбутньому спеціалісту екологу для роботи на виробничих підприємствах і в структурі державних підрозділів за напрямком екологічного моніторингу довкілля, екологічної експертизи та паспортизації різних об'єктів, розробки ресурсозберігаючих технологій. Дисципліна відноситься до циклу нормативних, професійно-орієнтованих і базується на знаннях студентів, які одержані при вивченні загально-інженерних дисциплін: фізики; хімії; біології; геології з основами геоморфології, метеорології і кліматології; загальної гідрології; ґрунтознавства; основ загальної екології; моніторингу довкілля; ландшафтної екології. Особливість дисципліни полягає в її комплексному характері: методи боротьби з техногенними забрудненнями довкілля вивчаються в різних аспектах: глобальних, соціальних, науково-технічних, екологічних, економічних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f5897"/>
                </a:solidFill>
                <a:latin typeface="Times New Roman"/>
              </a:rPr>
              <a:t>Завдання дисципліни</a:t>
            </a:r>
            <a:r>
              <a:rPr b="0" lang="uk-UA" sz="4000" spc="-1" strike="noStrike">
                <a:solidFill>
                  <a:srgbClr val="2f5897"/>
                </a:solidFill>
                <a:latin typeface="Palatino Linotype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знати основні типи промислових, енергетичних, транспортних, забруднень та їх небезпечність для екосистем; методи очистки від різних техногенних забруднень повітря і стічних вод; методи відновлення техногенних ландшафтів; альтернативні технології безвідходного виробництва; методи стимулювання розвитку екологічно чистих виробництв;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уміти визначати небезпечність шкідливих речовин в атмосферному повітрі, поверхневих водах та ґрунтах за гранично допустимими концентраціями; розраховувати величини окремих та комплексних техногенних навантажень на природні об'єкти та екосистеми; класифікувати техногенні забруднення довкілля за походженням, ступенем небезпечності для живих істот, тривалістю дії, об'ємами; приймати обґрунтовані рішення щодо покращення технології виробництва та закриття екологонебезпечних підприємств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знань студентів здійснюється за допомогою модульних колоквіумів, контрольних, тестів і плинних опитувань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Програма навчальної дисципліни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Атестація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1. Промислова екологія - основні завдання та напрям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1.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Сучасні екологічні проблеми промислових об’єктів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2.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Механічне очищення виробничих стічних вод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3.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Фізико-хімічне очищення виробничих стічних вод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4.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Біологічне очищення виробничих стічних вод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Атестація 2. Методи очищення промислових об’єктів.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5.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Перспективи  екологізації  сільського виробниц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6.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Екотехнологічні  методи  основані на безвідходній  переробці сільськогосподарської продукції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7.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Методи проведення моніторингу в харчовій промисловості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8.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Класи небезпечності шкідливих речовин за ступенем дії їх на людину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2f5897"/>
                </a:solidFill>
                <a:latin typeface="Palatino Linotype"/>
              </a:rPr>
              <a:t>Теми практичних занят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52388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 Еволоція взаємин людини і природ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Основні фактори деградації довкілл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. Екологічні катастроф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.Основні техногенні забруднювачі природного середовищ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Енергетик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Промисловість.Сільське господарство їх вплив на навколишнє природне середовищ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7.Транспорт і військова діяльність,забруднювачі навколишнього середовищ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Рекомендована література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14300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1. </a:t>
            </a:r>
            <a:r>
              <a:rPr b="0" i="1" lang="uk-UA" sz="2400" spc="-1" strike="noStrike">
                <a:solidFill>
                  <a:srgbClr val="000000"/>
                </a:solidFill>
                <a:latin typeface="Century Gothic"/>
              </a:rPr>
              <a:t> Екологічна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 біотехнологія / О.В. Швед, О.Б. Миколів, О.З.                             Комаровська-Порохнявець, В.П. Новіков: У 2-х кн. — Л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Львів.  Політехніка, 2010. — 792 с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2. Клименко Т.О. «Техноекологія»: навч. посіб. – Київ. Академія. 2011р. – 254с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3. Левандовський Л.В., Бублієнко Н.О., Семенова О.І. Природоохоронні технології та обладнення: Підручник. –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.: НУХТ, 2013. - 243с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4. Промислова екологія: нав. посіб./ Я.І. Бедрій, Б.О. Білінський, Р.М. Івах, М.М. Козяр. – 4 – вид., перероб. – Київ: Кондор – 2010 р. – 372 с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2-21T13:00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