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722-7BF8-4484-9FB2-0FA52BE7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FFB-77AE-4FEF-9048-ADC52C15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9A0-405D-4CAB-939E-1248197B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30A-030D-4674-BFA9-C890BA1A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F94D-DE5A-49CC-854A-6E996993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12B2-4A8C-434D-8606-041F9753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649B-027C-4B27-979E-94D66567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7B6F-E208-4694-90C4-3E2D692D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B8ED-3E40-43E4-A18E-F93892D2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C526-1673-4375-9585-43EABAFA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4371-B729-46CD-B759-2F48B044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C7D-650C-4994-A569-2E8B9978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91AA-3238-4418-8915-834E9113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5B68-2176-4C9B-B635-B8CF391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3C3B-3BAE-4968-824D-4A418A53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4DBF-0F50-401E-97C0-10430A97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C8E5-C6E9-42EF-93DF-93180F21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1FE-0C8E-4DF3-BEDD-F3FA91C9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A95-2C3B-4A80-9048-EF1600E7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2CB-F25B-4C7E-A7F0-AFC2209D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F3D-8C28-48DC-85C7-04734018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3F4-5A81-4CC0-994F-363C646F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69C-96E8-4A4F-9C9C-C10A055A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F3D-3FE6-4468-B3F1-C95554A4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79A1-00ED-4362-A15C-8451FBFD527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5D50-45D3-4463-BB10-3721D6859AC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2f5897"/>
                </a:solidFill>
                <a:latin typeface="Palatino Linotype"/>
              </a:rPr>
              <a:t>Промислова екологія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880" y="19807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Галузь знань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: 10 – "Природничі науки"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Спеціальність: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  101 – "Екологія"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Освітній ступінь: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 "Магістр"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Факультет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 агрономії та лісівництв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f5897"/>
                </a:solidFill>
                <a:latin typeface="Palatino Linotype"/>
              </a:rPr>
              <a:t>Мета  дисципліни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8380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Вивчення дисципліни «Промислової екології» - одержання студентами знань, необхідних майбутньому спеціалісту екологу для роботи на виробничих підприємствах і в структурі державних підрозділів за напрямком екологічного моніторингу довкілля, екологічної експертизи та паспортизації різних об'єктів, розробки ресурсозберігаючих технологій. Дисципліна відноситься до циклу нормативних, професійно-орієнтованих і базується на знаннях студентів, які одержані при вивченні загально-інженерних дисциплін: фізики; хімії; біології; геології з основами геоморфології, метеорології і кліматології; загальної гідрології; ґрунтознавства; основ загальної екології; моніторингу довкілля; ландшафтної екології. Особливість дисципліни полягає в її комплексному характері: методи боротьби з техногенними забрудненнями довкілля вивчаються в різних аспектах: глобальних, соціальних, науково-технічних, екологічних, економічних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2f5897"/>
                </a:solidFill>
                <a:latin typeface="Times New Roman"/>
              </a:rPr>
              <a:t>Завдання дисципліни</a:t>
            </a:r>
            <a:r>
              <a:rPr b="0" lang="uk-UA" sz="4000" spc="-1" strike="noStrike">
                <a:solidFill>
                  <a:srgbClr val="2f5897"/>
                </a:solidFill>
                <a:latin typeface="Palatino Linotype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знати основні типи промислових, енергетичних, транспортних, забруднень та їх небезпечність для екосистем; методи очистки від різних техногенних забруднень повітря і стічних вод; методи відновлення техногенних ландшафтів; альтернативні технології безвідходного виробництва; методи стимулювання розвитку екологічно чистих виробництв;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уміти визначати небезпечність шкідливих речовин в атмосферному повітрі, поверхневих водах та ґрунтах за гранично допустимими концентраціями; розраховувати величини окремих та комплексних техногенних навантажень на природні об'єкти та екосистеми; класифікувати техногенні забруднення довкілля за походженням, ступенем небезпечності для живих істот, тривалістю дії, об'ємами; приймати обґрунтовані рішення щодо покращення технології виробництва та закриття екологонебезпечних підприємств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знань студентів здійснюється за допомогою модульних колоквіумів, контрольних, тестів і плинних опитувань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f5897"/>
                </a:solidFill>
                <a:latin typeface="Palatino Linotype"/>
              </a:rPr>
              <a:t>Програма навчальної дисципліни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Атестація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1. Промислова екологія - основні завдання та напрямк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1.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Сучасні екологічні проблеми промислових об’єктів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2. 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Механічне очищення виробничих стічних вод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3. 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Фізико-хімічне очищення виробничих стічних вод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4. 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Біологічне очищення виробничих стічних вод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f5897"/>
                </a:solidFill>
                <a:latin typeface="Palatino Linotype"/>
              </a:rPr>
              <a:t>Атестація 2. Методи очищення промислових об’єктів.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   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5.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Перспективи  екологізації  сільського виробниц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6.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Екотехнологічні  методи  основані на безвідходній  переробці сільськогосподарської продукції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7.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Методи проведення моніторингу в харчовій промисловості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Тема 8.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  Класи небезпечності шкідливих речовин за ступенем дії їх на людину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2f5897"/>
                </a:solidFill>
                <a:latin typeface="Palatino Linotype"/>
              </a:rPr>
              <a:t>Теми практичних занят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523880"/>
            <a:ext cx="8458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. Еволоція взаємин людини і природ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Основні фактори деградації довкілл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. Екологічні катастроф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4.Основні техногенні забруднювачі природного середовищ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. Енергетик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6.Промисловість.Сільське господарство їх вплив на навколишнє природне середовищ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7.Транспорт і військова діяльність,забруднювачі навколишнього середовищ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f5897"/>
                </a:solidFill>
                <a:latin typeface="Palatino Linotype"/>
              </a:rPr>
              <a:t>Рекомендована література</a:t>
            </a:r>
            <a:br>
              <a:rPr sz="40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1143000"/>
            <a:ext cx="8381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1. </a:t>
            </a:r>
            <a:r>
              <a:rPr b="0" i="1" lang="uk-UA" sz="2400" spc="-1" strike="noStrike">
                <a:solidFill>
                  <a:srgbClr val="000000"/>
                </a:solidFill>
                <a:latin typeface="Century Gothic"/>
              </a:rPr>
              <a:t> Екологічна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 біотехнологія / О.В. Швед, О.Б. Миколів, О.З.                             Комаровська-Порохнявець, В.П. Новіков: У 2-х кн. — Л</a:t>
            </a: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Львів.  Політехніка, 2010. — 792 с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2. Клименко Т.О. «Техноекологія»: навч. посіб. – Київ. Академія. 2011р. – 254с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3. Левандовський Л.В., Бублієнко Н.О., Семенова О.І. Природоохоронні технології та обладнення: Підручник. –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.: НУХТ, 2013. - 243с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4. Промислова екологія: нав. посіб./ Я.І. Бедрій, Б.О. Білінський, Р.М. Івах, М.М. Козяр. – 4 – вид., перероб. – Київ: Кондор – 2010 р. – 372 с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2-21T13:00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