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4BC-8494-42B3-8A6A-F433F9C5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74F-700A-43DF-882F-F6F81415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B70-FA04-4477-8FA8-A30FA679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2CF-73C6-4319-9BD8-9D73ECD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549-FF6A-4CFD-A2B0-C265840F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F4EF-2C14-4329-B901-D533CF8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D8F-5524-4E03-A424-4D501E11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390C-8A48-4328-BA4B-4593A8D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A8BE-AD8A-4B21-A649-BC0956F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5D7-5652-4130-BB73-201EAEF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53D2-524A-4154-9509-61A3359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C70-124C-48E8-BC4D-DB184B60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383-834D-43F8-AC10-D9E7F80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27F-FBEB-49A5-BCB3-A8FFBBC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8F1D-4753-42D8-A61E-A0336EA4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0A18-71AC-43F0-AD1D-EB47E96B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0CB-6C4B-45DF-91CA-49D88739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F263-3684-4A6C-9F5A-1AFEC584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4CDD-CD1E-4C69-9C1B-CAC0CD5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72ED-572A-4F35-8807-0AA3FFBD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FE04-AD77-4715-9489-59A2D83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6684-216E-4546-B5CA-F2E4577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502-60A7-484D-9F2D-9CAC62AC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2B11-50F7-4868-AD90-27D537C7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98B2-AE4C-4D10-93B9-65D5713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C345-8B11-425A-91E0-DC93790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1F15-41CF-4BBA-BFE9-D5E983A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7740-DC4A-4365-B39F-D7CF753C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6026-E4C7-40B0-BF1E-079CC83C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C4AE-B790-41E6-9125-8C7E1411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3C98-8FD5-4299-AD31-5FF945BC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44C9-E61E-473A-9674-A56321F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A949-DC7C-4015-8026-4104473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B9-D7B2-4077-9579-E3DA672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182E-D57A-40C6-AF40-3AE2D55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139B-E4F8-4C24-8232-71FF5F14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B56F-8598-4AAA-BD5C-C8833091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8E02-523F-4196-9D64-52F068EA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CA19-C9E3-4130-984E-453DACF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A501-99EF-49F0-BC63-A90DB10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09C0-28EE-4F03-8903-DAAAF36D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A5AF-6D00-49BC-A2E9-DAE96C7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973B-1B0F-4AA5-9CE0-39DE150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F44-3BA8-4AFC-B98C-1929F16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C0B-1161-4DA2-A2CE-AA0189A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89F-5EE3-4C8E-B72C-0C2E234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706-57CE-4346-8BE3-6C28652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70C-DF4B-42F6-AB8B-7BC206E2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305-751E-4F11-9272-56120CD15343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0FB8-B8B2-4E52-B7FB-ECF6F009C36E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A83B-B1E1-405A-9AEC-A9F3D36B0B7B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626B-50D0-4D12-B404-AABE5D0EA53F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49120" y="-55440"/>
            <a:ext cx="8645760" cy="750600"/>
          </a:xfrm>
          <a:prstGeom prst="rect">
            <a:avLst/>
          </a:prstGeom>
          <a:ln w="0">
            <a:noFill/>
          </a:ln>
        </p:spPr>
      </p:pic>
      <p:sp>
        <p:nvSpPr>
          <p:cNvPr id="215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кутник 132"/>
          <p:cNvSpPr/>
          <p:nvPr/>
        </p:nvSpPr>
        <p:spPr>
          <a:xfrm>
            <a:off x="3959280" y="6238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91d34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кутник 26"/>
          <p:cNvSpPr/>
          <p:nvPr/>
        </p:nvSpPr>
        <p:spPr>
          <a:xfrm>
            <a:off x="171360" y="1197000"/>
            <a:ext cx="8793360" cy="1557000"/>
          </a:xfrm>
          <a:prstGeom prst="rect">
            <a:avLst/>
          </a:prstGeom>
          <a:solidFill>
            <a:srgbClr val="ffcca6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гальні відомості про виконавчі механізми та вимоги до ни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лектромагнітні виконавчі механізм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лектродвигунні виконавчі механізм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невматичні та гідравлічні виконавчі механіз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solidFill>
            <a:srgbClr val="95a4de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 Носов, В.А. Кондратец, Л.Г. Сакало, Л.И. Середа; Ред. Г.Р. 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96840" y="533520"/>
            <a:ext cx="8939160" cy="5180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ні та гідравлічні виконавчі механізми мають однаковий принцип дії заснований на переміщенні вихідного органу під дією тиску газів або рідин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112680" y="1055520"/>
            <a:ext cx="8939160" cy="518040"/>
          </a:xfrm>
          <a:prstGeom prst="rect">
            <a:avLst/>
          </a:prstGeom>
          <a:solidFill>
            <a:srgbClr val="ffe6d3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ні виконавчі механізми (ПМВ) – сприймають енергію стиснутого повітря і перетворюють її в зусилля вихідного што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101520" y="1579680"/>
            <a:ext cx="2619360" cy="2329920"/>
          </a:xfrm>
          <a:prstGeom prst="rect">
            <a:avLst/>
          </a:prstGeom>
          <a:solidFill>
            <a:srgbClr val="919ac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переваг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тот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а надійні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а варті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ькі експлуатаційні витра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головний недолік низький к.к.д. – до 70%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95" name="Группа 1"/>
          <p:cNvGrpSpPr/>
          <p:nvPr/>
        </p:nvGrpSpPr>
        <p:grpSpPr>
          <a:xfrm>
            <a:off x="2757600" y="1579680"/>
            <a:ext cx="6296040" cy="5168160"/>
            <a:chOff x="2757600" y="1579680"/>
            <a:chExt cx="6296040" cy="5168160"/>
          </a:xfrm>
        </p:grpSpPr>
        <p:pic>
          <p:nvPicPr>
            <p:cNvPr id="296" name="Picture 10" descr="Гідрвикмех"/>
            <p:cNvPicPr/>
            <p:nvPr/>
          </p:nvPicPr>
          <p:blipFill>
            <a:blip r:embed="rId1"/>
            <a:srcRect l="0" t="0" r="0" b="44312"/>
            <a:stretch/>
          </p:blipFill>
          <p:spPr>
            <a:xfrm>
              <a:off x="2757600" y="1579680"/>
              <a:ext cx="629568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Прямоугольник 6"/>
            <p:cNvSpPr/>
            <p:nvPr/>
          </p:nvSpPr>
          <p:spPr>
            <a:xfrm>
              <a:off x="2757600" y="5970960"/>
              <a:ext cx="6296040" cy="776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bb5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– мембранний з пружиною; б – мембранний без пружи-ни; в – поршневий; г – сильфонний; д –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мбранний пово-ротний; е - лопатний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8" name="Прямоугольник 9"/>
          <p:cNvSpPr/>
          <p:nvPr/>
        </p:nvSpPr>
        <p:spPr>
          <a:xfrm>
            <a:off x="114480" y="3672000"/>
            <a:ext cx="2612880" cy="18122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виду робочого органу ПМВ поділяються на:</a:t>
            </a:r>
            <a:br>
              <a:rPr sz="2000"/>
            </a:b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мбран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шнев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фон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пат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101520" y="5504040"/>
            <a:ext cx="2656080" cy="15534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спосо-бу повернення штока у вихідне положення ПМВ бувають пружинними та безпружинн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5"/>
          <p:cNvSpPr/>
          <p:nvPr/>
        </p:nvSpPr>
        <p:spPr>
          <a:xfrm>
            <a:off x="96840" y="533520"/>
            <a:ext cx="8928000" cy="10976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ні рухи робочого органу (валу) в ПМВ створюються шляхом механічного перетворення поступального руху штоку в ку-товий, або при застосуванні лопатних ПМ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108000" y="1700280"/>
            <a:ext cx="8939160" cy="1097640"/>
          </a:xfrm>
          <a:prstGeom prst="rect">
            <a:avLst/>
          </a:prstGeom>
          <a:solidFill>
            <a:srgbClr val="ffe6d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е розповсюдження отримали мембранні ПМВ. Вони можуть розвинути зусилля до 40 кН і забезпечують переміщення вихідного органу від 4 до 100 м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96840" y="2906640"/>
            <a:ext cx="8939160" cy="109764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ерування регулюючими органами, що вимагають перемі-щення штоку до 400 мм, застосовують поршневі ПМВ, вони розви-вають зусилля до 100 к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85680" y="4076640"/>
            <a:ext cx="8939160" cy="109764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фонні ПМВ застосовують при малих (від 1 до 6 мм) пере-міщеннях регулювального органу (пневмопідвіска автобуса із пристроєм для вирівнювання нахилу на поворотах і нерівностях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96840" y="5229360"/>
            <a:ext cx="8939160" cy="1463400"/>
          </a:xfrm>
          <a:prstGeom prst="rect">
            <a:avLst/>
          </a:prstGeom>
          <a:solidFill>
            <a:srgbClr val="ffff0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опатних ПМВ первинним силовим елементом є лопать, що розміщена у камері прямокутного перерізу. Лопаті мають кут по-вороту 60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90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застосовуються переважно у системах двох-позиційного регулюван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5"/>
          <p:cNvSpPr/>
          <p:nvPr/>
        </p:nvSpPr>
        <p:spPr>
          <a:xfrm>
            <a:off x="108000" y="549360"/>
            <a:ext cx="8928000" cy="61020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авлічні виконавчі механізми (ГВМ) – що використовують як робоче тіло рідину, мають ряд переваг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96840" y="4894200"/>
            <a:ext cx="8929800" cy="1829880"/>
          </a:xfrm>
          <a:prstGeom prst="rect">
            <a:avLst/>
          </a:prstGeom>
          <a:solidFill>
            <a:srgbClr val="ffc00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ого розповсюдження отримали поршневі ГВ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 ПМВ та ГВМ здійснюється переважно за допомогою золотникових пристрої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идкість переміщення вихідного штоку поршня пропорційна площі поршня і залежить від зміщення золотника та перепаду тиску на поршні. Оскільки площа поршня постійна, то перепад тиску пропорційний зусиллю на што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13" descr="ГідрОЦвикмех"/>
          <p:cNvPicPr/>
          <p:nvPr/>
        </p:nvPicPr>
        <p:blipFill>
          <a:blip r:embed="rId1"/>
          <a:srcRect l="13678" t="32613" r="8207" b="0"/>
          <a:stretch/>
        </p:blipFill>
        <p:spPr>
          <a:xfrm>
            <a:off x="3419640" y="857160"/>
            <a:ext cx="5616360" cy="39704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14"/>
          <p:cNvSpPr/>
          <p:nvPr/>
        </p:nvSpPr>
        <p:spPr>
          <a:xfrm>
            <a:off x="108000" y="1165320"/>
            <a:ext cx="3311640" cy="392652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у швидкодію (швид-кість переміщення вихідного органу більше 100 мм/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кі зусилля (від 2,4 до 130 кН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і габарит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у масу, що приходиться на одиницю зусилля (від 0,006 до 0,5 кг маси на 10Н сили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сутність люфт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ступінчасте регулювання швидкості рух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пускають великі коротко-часні переванта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92"/>
          <p:cNvSpPr/>
          <p:nvPr/>
        </p:nvSpPr>
        <p:spPr>
          <a:xfrm>
            <a:off x="108000" y="936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Arial"/>
              </a:rPr>
              <a:t>ЗАГАЛЬНІ ВІДОМОСТІ ПРО ВИКОНАВЧІ МЕХАНІЗ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кутник 22"/>
          <p:cNvSpPr/>
          <p:nvPr/>
        </p:nvSpPr>
        <p:spPr>
          <a:xfrm>
            <a:off x="179280" y="485640"/>
            <a:ext cx="8856720" cy="19011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конавчими механізмами автоматичних систем називають пристрої, що діють безпосередньо на регулюючий орган керованого об’єкт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иконавчого механізму звичайно входить двигун та передавальний пристрі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кутник 32"/>
          <p:cNvSpPr/>
          <p:nvPr/>
        </p:nvSpPr>
        <p:spPr>
          <a:xfrm>
            <a:off x="144360" y="2492280"/>
            <a:ext cx="8858520" cy="803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Залежно від виду двигуна розрізняють такі виконавчі механізм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кутник 33"/>
          <p:cNvSpPr/>
          <p:nvPr/>
        </p:nvSpPr>
        <p:spPr>
          <a:xfrm>
            <a:off x="144360" y="3357720"/>
            <a:ext cx="8858520" cy="14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електричні (електромагнітні, електродвигунні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механічн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гідравлічн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пневматич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108000" y="4941720"/>
            <a:ext cx="8858160" cy="825480"/>
          </a:xfrm>
          <a:prstGeom prst="rect">
            <a:avLst/>
          </a:prstGeom>
          <a:solidFill>
            <a:srgbClr val="4fadf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йбільш розповсюджені - електричні та гідравлічні </a:t>
            </a: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виконавчі механізми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108000" y="5877000"/>
            <a:ext cx="8858160" cy="825480"/>
          </a:xfrm>
          <a:prstGeom prst="rect">
            <a:avLst/>
          </a:prstGeom>
          <a:solidFill>
            <a:srgbClr val="ffb37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Часто підсилювачі та виконавчі механізми являють собою єдиний пристрі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кутник 35"/>
          <p:cNvSpPr/>
          <p:nvPr/>
        </p:nvSpPr>
        <p:spPr>
          <a:xfrm>
            <a:off x="155520" y="3060720"/>
            <a:ext cx="8856720" cy="43812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имоги до виконавчих механізмів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20600" y="3573360"/>
            <a:ext cx="8885160" cy="3220560"/>
          </a:xfrm>
          <a:prstGeom prst="rect">
            <a:avLst/>
          </a:prstGeom>
          <a:solidFill>
            <a:srgbClr val="caf297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потужність на виході виконавчого механізму повинна бути достатньою для переміщення регулюючого органу із заданою швидкістю при всіх режима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переміщення виконавчого механізму на виході повинно бути узгодженим із відповідним переміщенням регулюючого органу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ихідна величина виконавчого механізму повинна бути (по можливості) пропорційною вхідному сигналу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они повинні мати високі техніко-економічні показн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 Box 92"/>
          <p:cNvSpPr/>
          <p:nvPr/>
        </p:nvSpPr>
        <p:spPr>
          <a:xfrm>
            <a:off x="108000" y="936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Arial"/>
              </a:rPr>
              <a:t>ЗАГАЛЬНІ ВІДОМОСТІ ПРО ВИКОНАВЧІ МЕХАНІЗ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кутник 32"/>
          <p:cNvSpPr/>
          <p:nvPr/>
        </p:nvSpPr>
        <p:spPr>
          <a:xfrm>
            <a:off x="133200" y="547560"/>
            <a:ext cx="8858520" cy="803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оловними показниками, що характеризують регулювальні властивості виконавчих механізмів є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кутник 33"/>
          <p:cNvSpPr/>
          <p:nvPr/>
        </p:nvSpPr>
        <p:spPr>
          <a:xfrm>
            <a:off x="133200" y="1484280"/>
            <a:ext cx="8858520" cy="14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коефіцієнт підсиленні потужност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зусилля на виході механізму, або обертовий момент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лінійне або кутове переміщення, частота обертів…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час переміщ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кутник 22"/>
          <p:cNvSpPr/>
          <p:nvPr/>
        </p:nvSpPr>
        <p:spPr>
          <a:xfrm>
            <a:off x="108000" y="471600"/>
            <a:ext cx="8928000" cy="74268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Широке застосування у системах автоматики знаходять електромагнітні виконавчі механізми дискретної дії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кутник 35"/>
          <p:cNvSpPr/>
          <p:nvPr/>
        </p:nvSpPr>
        <p:spPr>
          <a:xfrm>
            <a:off x="112680" y="1266840"/>
            <a:ext cx="8928000" cy="107784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Їх використовують для керування різного роду регулюваль-ними та запірними клапанами, вентилями, золотниками та ін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кутник 32"/>
          <p:cNvSpPr/>
          <p:nvPr/>
        </p:nvSpPr>
        <p:spPr>
          <a:xfrm>
            <a:off x="108000" y="2149560"/>
            <a:ext cx="8928000" cy="7426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За видом руху виконавчого органу (шток, вихідний вал) їх поділяють на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кутник 32"/>
          <p:cNvSpPr/>
          <p:nvPr/>
        </p:nvSpPr>
        <p:spPr>
          <a:xfrm>
            <a:off x="103320" y="2608200"/>
            <a:ext cx="8928000" cy="7426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266760" indent="-2667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електромагнітні із прямолінійним рухом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електромагнітні муфти із обертовим рух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кутник 32"/>
          <p:cNvSpPr/>
          <p:nvPr/>
        </p:nvSpPr>
        <p:spPr>
          <a:xfrm>
            <a:off x="108000" y="3381480"/>
            <a:ext cx="8928000" cy="74268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Залежно від типу, конструктивного виконання та умов застосування вихідною величиною цих механізмів може бут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кутник 32"/>
          <p:cNvSpPr/>
          <p:nvPr/>
        </p:nvSpPr>
        <p:spPr>
          <a:xfrm>
            <a:off x="103320" y="4149720"/>
            <a:ext cx="8928000" cy="14130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для елементів із прямолінійним рухом робочого органу – переміщення, швидкість, зусилля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для елементів із обертовим рухом робочого органу – кут повороту, частота обертів, обертовий момент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кутник 32"/>
          <p:cNvSpPr/>
          <p:nvPr/>
        </p:nvSpPr>
        <p:spPr>
          <a:xfrm>
            <a:off x="127080" y="5686560"/>
            <a:ext cx="8928000" cy="1077840"/>
          </a:xfrm>
          <a:prstGeom prst="rect">
            <a:avLst/>
          </a:prstGeom>
          <a:solidFill>
            <a:srgbClr val="92d05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Вхідною величиною (керуючою дією) електромагнітних вико-навчих механізмів є електричний струм у обмотці, який створює магнітне поле і діє через нього на робочий орган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кутник 35"/>
          <p:cNvSpPr/>
          <p:nvPr/>
        </p:nvSpPr>
        <p:spPr>
          <a:xfrm>
            <a:off x="106200" y="1312920"/>
            <a:ext cx="4826160" cy="116964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дходженні струму у котушку, якір переміщається під дією електро-магнітної сили та переміщає зв’язаний із ним регулюючий орга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кутник 32"/>
          <p:cNvSpPr/>
          <p:nvPr/>
        </p:nvSpPr>
        <p:spPr>
          <a:xfrm>
            <a:off x="88920" y="2568600"/>
            <a:ext cx="4843440" cy="19926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і механізми викорис-товують у системах автоматики позицій-ного керування, оскільки керуючий орган (клапан, вентиль) може знаходитись тіль-ки у двох кінцевих положеннях, що відпові-дають двом положенням осердя електро-магніту: виключено та включе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кутник 32"/>
          <p:cNvSpPr/>
          <p:nvPr/>
        </p:nvSpPr>
        <p:spPr>
          <a:xfrm>
            <a:off x="88920" y="4653000"/>
            <a:ext cx="897084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Сучасні електромагнітні механізми такого типу здатні здійснювати переміщення до 6…8 мм при зусиллі до 100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106200" y="5516640"/>
            <a:ext cx="8958600" cy="1008720"/>
          </a:xfrm>
          <a:prstGeom prst="rect">
            <a:avLst/>
          </a:prstGeom>
          <a:solidFill>
            <a:srgbClr val="caf29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Недолік електромагнітних клапанів та вентилів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– можливість вини-кнення гідравлічних ударів у трубопроводах із рідинами при практично миттєвому перемикан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кутник 22"/>
          <p:cNvSpPr/>
          <p:nvPr/>
        </p:nvSpPr>
        <p:spPr>
          <a:xfrm>
            <a:off x="90360" y="471600"/>
            <a:ext cx="4842000" cy="10778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86600"/>
                <a:tab algn="l" pos="8077320"/>
                <a:tab algn="l" pos="8429760"/>
                <a:tab algn="l" pos="9334440"/>
                <a:tab algn="l" pos="1026792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Електромагнітні механізми прямо-лінійного руху, (соленоїдні механізми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9" name="Группа 8"/>
          <p:cNvGrpSpPr/>
          <p:nvPr/>
        </p:nvGrpSpPr>
        <p:grpSpPr>
          <a:xfrm>
            <a:off x="5003640" y="533520"/>
            <a:ext cx="4044960" cy="4047840"/>
            <a:chOff x="5003640" y="533520"/>
            <a:chExt cx="4044960" cy="4047840"/>
          </a:xfrm>
        </p:grpSpPr>
        <p:sp>
          <p:nvSpPr>
            <p:cNvPr id="250" name="Text Box 12"/>
            <p:cNvSpPr/>
            <p:nvPr/>
          </p:nvSpPr>
          <p:spPr>
            <a:xfrm>
              <a:off x="5003640" y="3994200"/>
              <a:ext cx="4044960" cy="587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Arial"/>
                </a:rPr>
                <a:t>1 - котушка; 2 – осердя; 3 – якір; 4 – регулюючий орган (клапан)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51" name="Picture 4" descr="електромагвикмех"/>
            <p:cNvPicPr/>
            <p:nvPr/>
          </p:nvPicPr>
          <p:blipFill>
            <a:blip r:embed="rId1"/>
            <a:stretch/>
          </p:blipFill>
          <p:spPr>
            <a:xfrm>
              <a:off x="5003640" y="533520"/>
              <a:ext cx="4044960" cy="34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кутник 35"/>
          <p:cNvSpPr/>
          <p:nvPr/>
        </p:nvSpPr>
        <p:spPr>
          <a:xfrm>
            <a:off x="133200" y="533520"/>
            <a:ext cx="8902800" cy="74268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rebuchet MS"/>
              </a:rPr>
              <a:t>Електромагнітні муфти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Trebuchet MS"/>
              </a:rPr>
              <a:t> – служать ланкою, що зв’язує привод та робочий механізм.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кутник 32"/>
          <p:cNvSpPr/>
          <p:nvPr/>
        </p:nvSpPr>
        <p:spPr>
          <a:xfrm>
            <a:off x="135000" y="1282680"/>
            <a:ext cx="4005360" cy="129204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поділяються н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кційні муфти сухого терт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фти в’язкого терт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ційні муфти.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кутник 32"/>
          <p:cNvSpPr/>
          <p:nvPr/>
        </p:nvSpPr>
        <p:spPr>
          <a:xfrm>
            <a:off x="133200" y="2616120"/>
            <a:ext cx="4078440" cy="98712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фта сухого тертя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е поле долаючи зусилля пружини при-тягує ведену напівмуфту до ведучо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кутник 32"/>
          <p:cNvSpPr/>
          <p:nvPr/>
        </p:nvSpPr>
        <p:spPr>
          <a:xfrm>
            <a:off x="133200" y="5667480"/>
            <a:ext cx="8902800" cy="98712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фти сухого тертя типу ЭМ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номінальним моментом від 10 до 1000 Н м, та найбільшою частотою обер-тання 1500 та 3000 обертів при потужності котушки збудження 11,5…50 В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кутник 32"/>
          <p:cNvSpPr/>
          <p:nvPr/>
        </p:nvSpPr>
        <p:spPr>
          <a:xfrm>
            <a:off x="133200" y="3618000"/>
            <a:ext cx="4007160" cy="1292040"/>
          </a:xfrm>
          <a:prstGeom prst="rect">
            <a:avLst/>
          </a:prstGeom>
          <a:solidFill>
            <a:srgbClr val="8cc9f7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ертя між напівмуфтами дозволяє передавати обертовий мо-мент із ведучого вала на веден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кутник 32"/>
          <p:cNvSpPr/>
          <p:nvPr/>
        </p:nvSpPr>
        <p:spPr>
          <a:xfrm>
            <a:off x="133200" y="4641840"/>
            <a:ext cx="4007160" cy="98712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більшення обертового мо-менту, що передається, муфти ви-готовляють багатодисков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0" name="Группа 1"/>
          <p:cNvGrpSpPr/>
          <p:nvPr/>
        </p:nvGrpSpPr>
        <p:grpSpPr>
          <a:xfrm>
            <a:off x="4100400" y="1349280"/>
            <a:ext cx="4926240" cy="4537080"/>
            <a:chOff x="4100400" y="1349280"/>
            <a:chExt cx="4926240" cy="4537080"/>
          </a:xfrm>
        </p:grpSpPr>
        <p:pic>
          <p:nvPicPr>
            <p:cNvPr id="261" name="Picture 3" descr="Елмуфта"/>
            <p:cNvPicPr/>
            <p:nvPr/>
          </p:nvPicPr>
          <p:blipFill>
            <a:blip r:embed="rId1"/>
            <a:stretch/>
          </p:blipFill>
          <p:spPr>
            <a:xfrm>
              <a:off x="4100400" y="1349280"/>
              <a:ext cx="4896720" cy="34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4100400" y="4829400"/>
              <a:ext cx="4926240" cy="10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 – обмотка; 2 – контактні кільця;  3 – ве-дучий вал; 4 – щітки; 5 - ведуча напівмуф-та; 6 - ведена напівмуфта;  7 – пружина;     8 – шліци; 9 - ведений вал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69840" y="549360"/>
            <a:ext cx="8966160" cy="77688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фти в’язкого терт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еропорошкові або магнітоемульсійні  працюють за принципом намагнічування магнітного порошку, що створює при цьому шар, який з’єднує ведучі  та ведені елементи муф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79200" y="1336680"/>
            <a:ext cx="4205520" cy="103572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 збільшенням магнітного потоку об-мотки намагнічування, зростає і величина обертового моменту, що передаєть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69840" y="2173320"/>
            <a:ext cx="4214880" cy="219492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муфти поділяют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структивним виконанням, та розміщенням котушок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однополюсні, багатополюсні)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ислом котушок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окотушеч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гатокотушечні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ою робочої поверхні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79200" y="6021360"/>
            <a:ext cx="8983800" cy="1008720"/>
          </a:xfrm>
          <a:prstGeom prst="rect">
            <a:avLst/>
          </a:prstGeom>
          <a:solidFill>
            <a:srgbClr val="d85c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муфти не бояться перевантажень, як виконавчі механізми – швидкодіючі із постійною часу 0,005…0,008 сек. та коефіцієнтом передачі, що сягає 3500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79200" y="4389480"/>
            <a:ext cx="1822680" cy="61020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ков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иліндрич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2397240" y="4389480"/>
            <a:ext cx="1823760" cy="61020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рабан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ус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106200" y="5003640"/>
            <a:ext cx="9004320" cy="91512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ислом робочих зазорів: – одно та багатозазор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дом струмопроводів: – із контактними кільцями та безконтакт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швидкістю спрацювання: – мало інерційні та інерцій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2" name="Группа 2"/>
          <p:cNvGrpSpPr/>
          <p:nvPr/>
        </p:nvGrpSpPr>
        <p:grpSpPr>
          <a:xfrm>
            <a:off x="4284720" y="1120680"/>
            <a:ext cx="4782960" cy="3884760"/>
            <a:chOff x="4284720" y="1120680"/>
            <a:chExt cx="4782960" cy="3884760"/>
          </a:xfrm>
        </p:grpSpPr>
        <p:pic>
          <p:nvPicPr>
            <p:cNvPr id="273" name="Picture 4" descr="Елмуфта1"/>
            <p:cNvPicPr/>
            <p:nvPr/>
          </p:nvPicPr>
          <p:blipFill>
            <a:blip r:embed="rId1"/>
            <a:stretch/>
          </p:blipFill>
          <p:spPr>
            <a:xfrm>
              <a:off x="4284720" y="1120680"/>
              <a:ext cx="4782960" cy="30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4284720" y="4169520"/>
              <a:ext cx="4751280" cy="83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 – обмотка; 2 – контактні кільця; 3 – ве-дуча напівмуфта; 4 – щітки; 5 –магнітний порошок; 6 - ведена напівмуфта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8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8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8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5"/>
          <p:cNvSpPr/>
          <p:nvPr/>
        </p:nvSpPr>
        <p:spPr>
          <a:xfrm>
            <a:off x="69840" y="527040"/>
            <a:ext cx="8966160" cy="1035720"/>
          </a:xfrm>
          <a:prstGeom prst="rect">
            <a:avLst/>
          </a:prstGeom>
          <a:solidFill>
            <a:srgbClr val="81d31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дукційні муфти ковза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ються із двох головних частин – ведучого якоря 3, що кріпиться до приводного електродвигуна 5 та веденого вала 7 з індук-тором 6 та обмоткою збудження 1, яка розміщена між його зубчастими части-нами, і живиться струмом через кільця 2 та щітки 4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18"/>
          <p:cNvSpPr/>
          <p:nvPr/>
        </p:nvSpPr>
        <p:spPr>
          <a:xfrm>
            <a:off x="69840" y="1611360"/>
            <a:ext cx="3457440" cy="3106440"/>
          </a:xfrm>
          <a:prstGeom prst="rect">
            <a:avLst/>
          </a:prstGeom>
          <a:solidFill>
            <a:srgbClr val="8cc9f7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, що протікає по ін-дукторі, створює магнітний потік, який наводить на якорі е.р.с., під дією якої у якорі ви-никають вихрові струм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и взаємодіють із маг-нітним потоком полюсів ство-рюючи при цьому електромаг-нітний момент, який штовхає ведену частину муфти, у тому напрямку, що і ведуч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19"/>
          <p:cNvSpPr/>
          <p:nvPr/>
        </p:nvSpPr>
        <p:spPr>
          <a:xfrm>
            <a:off x="54000" y="5651640"/>
            <a:ext cx="8966160" cy="109764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бочих механізмів малої потужності випускаються муфти типу ПМС із номінальними моментами 1,7…30 Н м, для безступінчатого регулювання швидкості у діапазоні 1:8. Муфти серії  ІМС із номінальними моментами 70…1600 Н м – застосовують для робочих механізмів великої потужност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0" name="Группа 1"/>
          <p:cNvGrpSpPr/>
          <p:nvPr/>
        </p:nvGrpSpPr>
        <p:grpSpPr>
          <a:xfrm>
            <a:off x="3527280" y="1584360"/>
            <a:ext cx="5538960" cy="4067280"/>
            <a:chOff x="3527280" y="1584360"/>
            <a:chExt cx="5538960" cy="4067280"/>
          </a:xfrm>
        </p:grpSpPr>
        <p:pic>
          <p:nvPicPr>
            <p:cNvPr id="281" name="Picture 7" descr="Елмуфта2"/>
            <p:cNvPicPr/>
            <p:nvPr/>
          </p:nvPicPr>
          <p:blipFill>
            <a:blip r:embed="rId1"/>
            <a:stretch/>
          </p:blipFill>
          <p:spPr>
            <a:xfrm>
              <a:off x="3527280" y="1584360"/>
              <a:ext cx="5538960" cy="31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6"/>
            <p:cNvSpPr/>
            <p:nvPr/>
          </p:nvSpPr>
          <p:spPr>
            <a:xfrm>
              <a:off x="3527280" y="4745880"/>
              <a:ext cx="5500440" cy="90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 – обмотка збудження; 2 – контактні кільця;    3 – ведучий якір; 4 – щітки; 5 –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иводний електродвигун; 6 – індуктор; 7 – ведений вал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3" name="Прямоугольник 23"/>
          <p:cNvSpPr/>
          <p:nvPr/>
        </p:nvSpPr>
        <p:spPr>
          <a:xfrm>
            <a:off x="69840" y="4489560"/>
            <a:ext cx="3457440" cy="1035720"/>
          </a:xfrm>
          <a:prstGeom prst="rect">
            <a:avLst/>
          </a:prstGeom>
          <a:solidFill>
            <a:srgbClr val="919aca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 обертів веденого вала залежить від струму збудження і моменту опору на веденому вал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3"/>
          <p:cNvSpPr/>
          <p:nvPr/>
        </p:nvSpPr>
        <p:spPr>
          <a:xfrm>
            <a:off x="69840" y="549360"/>
            <a:ext cx="8966160" cy="61020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вигунні виконавчі механізми складаються із двигуна, редуктора та гальм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79200" y="1155600"/>
            <a:ext cx="8956800" cy="134100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керування подається одночасно на двигун та гальмо, при цьому двигун розгальмовується та приводить у рух робочий орган. При знятті сигналу двигун вимикається, а гальмо зупиняє рух робочого орган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Calibri"/>
              </a:rPr>
              <a:t>Електродвигунні</a:t>
            </a:r>
            <a:r>
              <a:rPr b="1" lang="uk-UA" sz="28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212745"/>
                </a:solidFill>
                <a:latin typeface="Calibri"/>
              </a:rPr>
              <a:t>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69840" y="2184480"/>
            <a:ext cx="8956800" cy="3819240"/>
          </a:xfrm>
          <a:prstGeom prst="rect">
            <a:avLst/>
          </a:prstGeom>
          <a:solidFill>
            <a:srgbClr val="c8cde5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вигунні виконавчі механізми розрізняють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дом руху виконавчого органу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ооборот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гатооборот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охід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швидкістю руху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постійною швидкіст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і змінною швидкіст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керування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тактні з релейно-контактними апаратам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контактні із керуючими пристроями неперервної дії на основі магнітних підсилювачі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8"/>
          <p:cNvSpPr/>
          <p:nvPr/>
        </p:nvSpPr>
        <p:spPr>
          <a:xfrm>
            <a:off x="81000" y="6093000"/>
            <a:ext cx="8956800" cy="670680"/>
          </a:xfrm>
          <a:prstGeom prst="rect">
            <a:avLst/>
          </a:prstGeom>
          <a:solidFill>
            <a:srgbClr val="dff5e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кості виконавчих двигунів використовують однофазні, двохфазні та трьохфазні короткозамкнуті асинхронні двигун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6:57:52Z</dcterms:created>
  <dc:creator>Master</dc:creator>
  <dc:description/>
  <dc:language>en-US</dc:language>
  <cp:lastModifiedBy>Master</cp:lastModifiedBy>
  <dcterms:modified xsi:type="dcterms:W3CDTF">2019-01-30T07:20:56Z</dcterms:modified>
  <cp:revision>80</cp:revision>
  <dc:subject/>
  <dc:title>ПІДСИЛЮВАЛЬНІ ПРИСТРОЇ</dc:title>
</cp:coreProperties>
</file>