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0.png" ContentType="image/png"/>
  <Override PartName="/ppt/media/image2.png" ContentType="image/png"/>
  <Override PartName="/ppt/media/image14.wmf" ContentType="image/x-wmf"/>
  <Override PartName="/ppt/media/image6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7EBE-0CC4-43B5-8D8C-6CE6808C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321E-233C-4A8B-B6EE-FA999892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C375-676E-430E-8619-D5EB74B8E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2BDC-D713-44A2-AFBA-BA92C9B3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3CB8-262A-4108-B875-CE9DFC8D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5C62-0892-42A6-A5EE-D6D2F7BF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F72E-A4E9-4FD9-8E66-0138D9B3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4298-0F57-4C75-B795-337C2213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0000-3586-466A-AA68-7EE2F74E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77C2-DE05-40BD-988A-7D2F6360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D991-5975-4625-868A-825027E3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8A96-0F77-4AA2-A2D8-B0456DE7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8643-A11E-47EA-A909-17FE7FAB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DDE1-8C74-484E-83A7-9D87DFB8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0D1F-4FA3-45CF-B558-D231DAC0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CE8D-34A6-40F5-ACEC-21DD4E32A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02F3-B198-4DD2-9C0A-F99A7634F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7515B-C895-4A04-95E9-B2F5FDA9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A7EBB-0521-4AA2-BE15-35880E5C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975ED-514D-464B-96D9-B21AF892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14F79-9A33-4497-AC6A-07826C85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1E754-746A-4EED-A7AA-BC19CCDB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D8DA-98D3-4215-962E-8064C025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2CAFA-35B8-45A4-8095-020FAD1F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76140-A9BA-4162-BBF3-49DB40CF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6E6F2-51A3-447C-B227-3866C27A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BDCD2-EDAA-45C5-87BB-F7AA50F0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B2179-88BE-499A-BFAD-D57647A2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8AA3A-2543-4784-BE10-14C0DA87C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70C58-3EE2-4CE3-B2EE-706210DAA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0B980-F520-400D-8EA2-D6C13C05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53654-9593-4B0F-A3BF-F9C1F267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931E3-F4D5-44C9-96F1-A88979BB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E78D-9387-481D-A30E-94C30E9A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8F438-25EC-4A2B-AFC2-1498773E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E1C39-1654-424A-ADC8-E319B929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A9486-DC75-4E3F-8596-A4B67899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862BE-CF9E-4647-ADE8-22A3D235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4C935-6B00-42F0-9C2B-15D50AEE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ADDE1-6127-476F-A1D2-BBFBE48E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6D230-D6F7-483E-9B05-8F4F21BC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FA747-9235-4256-B45E-4F907865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D320B-DE00-4343-AB53-0EC59DC2D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7DF9-09ED-423E-B2E6-72591D57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9641-322F-4691-B627-B61E3E48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6FD6-17AC-4B93-9697-1E690412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751E-F42A-43F8-B129-4D9D73AE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9E4F-4451-43C8-8D11-37EAA22F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C640-71B0-47E6-A2DC-3ABD81FCD42E}" type="slidenum">
              <a:rPr b="1" lang="uk-U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1669-9F2B-4185-B48D-DCE233DFA490}" type="slidenum">
              <a:rPr b="1" lang="uk-U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6CBE-FE7E-46D2-8E66-00E7C637D280}" type="slidenum">
              <a:rPr b="1" lang="uk-U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B2DF-3FD5-4362-A474-7100CBDF62EF}" type="slidenum">
              <a:rPr b="1" lang="uk-U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249120" y="-55440"/>
            <a:ext cx="8645760" cy="750600"/>
          </a:xfrm>
          <a:prstGeom prst="rect">
            <a:avLst/>
          </a:prstGeom>
          <a:ln w="0">
            <a:noFill/>
          </a:ln>
        </p:spPr>
      </p:pic>
      <p:sp>
        <p:nvSpPr>
          <p:cNvPr id="215" name="Line 93"/>
          <p:cNvSpPr/>
          <p:nvPr/>
        </p:nvSpPr>
        <p:spPr>
          <a:xfrm>
            <a:off x="324000" y="5810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Прямокутник 132"/>
          <p:cNvSpPr/>
          <p:nvPr/>
        </p:nvSpPr>
        <p:spPr>
          <a:xfrm>
            <a:off x="3959280" y="623880"/>
            <a:ext cx="1297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91d34"/>
                </a:solidFill>
                <a:latin typeface="Times New Roman"/>
                <a:ea typeface="Times New Roman"/>
              </a:rPr>
              <a:t>План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Прямокутник 26"/>
          <p:cNvSpPr/>
          <p:nvPr/>
        </p:nvSpPr>
        <p:spPr>
          <a:xfrm>
            <a:off x="171360" y="1197000"/>
            <a:ext cx="8793360" cy="1557000"/>
          </a:xfrm>
          <a:prstGeom prst="rect">
            <a:avLst/>
          </a:prstGeom>
          <a:solidFill>
            <a:srgbClr val="ffcca6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гальні відомості про виконавчі механізми та вимоги до них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Електромагнітні виконавчі механізми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лектродвигунні виконавчі механізми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невматичні та гідравлічні виконавчі механізм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Line 93"/>
          <p:cNvSpPr/>
          <p:nvPr/>
        </p:nvSpPr>
        <p:spPr>
          <a:xfrm>
            <a:off x="324000" y="5810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Прямокутник 142"/>
          <p:cNvSpPr/>
          <p:nvPr/>
        </p:nvSpPr>
        <p:spPr>
          <a:xfrm>
            <a:off x="179280" y="3284640"/>
            <a:ext cx="8785440" cy="3121560"/>
          </a:xfrm>
          <a:prstGeom prst="rect">
            <a:avLst/>
          </a:prstGeom>
          <a:solidFill>
            <a:srgbClr val="95a4de"/>
          </a:solidFill>
          <a:ln w="15840">
            <a:solidFill>
              <a:srgbClr val="293d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тература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втоматизація технологічних процесів і виробництв харчової промисловос-ті: Підручник/ Ландюк А. П., Трегуб В. Г., Ельперін  І. В., Цюцюра В. Д. – К.: Аграрна освіта, 2001. – 224 с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ка и автоматизация мобильных сельскохозяйственных машин: Учеб. Пособ./ Г.Р. Носов, В.А. Кондратец, Л.Г. Сакало, Л.И. Середа; Ред. Г.Р. Носов. – К.: Вища школа, 1984. – 248 c.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втоматика и автоматизация производственных процессов: учеб. пособие для студентов с.-х. учеб. заведений/ И. И. Мартыненко, Б. Л. Головинский, Р. Д. Проценко, Т, Ф. Резниченко. – М. : Агропромиздат, 1985. – 334 c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3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3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3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3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8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92"/>
          <p:cNvSpPr/>
          <p:nvPr/>
        </p:nvSpPr>
        <p:spPr>
          <a:xfrm>
            <a:off x="96840" y="9360"/>
            <a:ext cx="89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12745"/>
                </a:solidFill>
                <a:latin typeface="Arial"/>
              </a:rPr>
              <a:t>Пневматичні та гідравлічні виконавчі механізм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Прямоугольник 5"/>
          <p:cNvSpPr/>
          <p:nvPr/>
        </p:nvSpPr>
        <p:spPr>
          <a:xfrm>
            <a:off x="96840" y="533520"/>
            <a:ext cx="8939160" cy="518040"/>
          </a:xfrm>
          <a:prstGeom prst="rect">
            <a:avLst/>
          </a:prstGeom>
          <a:solidFill>
            <a:srgbClr val="caf297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атичні та гідравлічні виконавчі механізми мають однаковий принцип дії заснований на переміщенні вихідного органу під дією тиску газів або рідин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Прямоугольник 7"/>
          <p:cNvSpPr/>
          <p:nvPr/>
        </p:nvSpPr>
        <p:spPr>
          <a:xfrm>
            <a:off x="112680" y="1055520"/>
            <a:ext cx="8939160" cy="518040"/>
          </a:xfrm>
          <a:prstGeom prst="rect">
            <a:avLst/>
          </a:prstGeom>
          <a:solidFill>
            <a:srgbClr val="ffe6d3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атичні виконавчі механізми (ПМВ) – сприймають енергію стиснутого повітря і перетворюють її в зусилля вихідного штоку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Прямоугольник 8"/>
          <p:cNvSpPr/>
          <p:nvPr/>
        </p:nvSpPr>
        <p:spPr>
          <a:xfrm>
            <a:off x="101520" y="1579680"/>
            <a:ext cx="2619360" cy="2329920"/>
          </a:xfrm>
          <a:prstGeom prst="rect">
            <a:avLst/>
          </a:prstGeom>
          <a:solidFill>
            <a:srgbClr val="919aca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Їх переваги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стота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сока надійність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ла вартість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изькі експлуатаційні витрат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Їх головний недолік низький к.к.д. – до 70%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95" name="Группа 1"/>
          <p:cNvGrpSpPr/>
          <p:nvPr/>
        </p:nvGrpSpPr>
        <p:grpSpPr>
          <a:xfrm>
            <a:off x="2757600" y="1579680"/>
            <a:ext cx="6296040" cy="5168160"/>
            <a:chOff x="2757600" y="1579680"/>
            <a:chExt cx="6296040" cy="5168160"/>
          </a:xfrm>
        </p:grpSpPr>
        <p:pic>
          <p:nvPicPr>
            <p:cNvPr id="296" name="Picture 10" descr="Гідрвикмех"/>
            <p:cNvPicPr/>
            <p:nvPr/>
          </p:nvPicPr>
          <p:blipFill>
            <a:blip r:embed="rId1"/>
            <a:srcRect l="0" t="0" r="0" b="44312"/>
            <a:stretch/>
          </p:blipFill>
          <p:spPr>
            <a:xfrm>
              <a:off x="2757600" y="1579680"/>
              <a:ext cx="6295680" cy="445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Прямоугольник 6"/>
            <p:cNvSpPr/>
            <p:nvPr/>
          </p:nvSpPr>
          <p:spPr>
            <a:xfrm>
              <a:off x="2757600" y="5970960"/>
              <a:ext cx="6296040" cy="776880"/>
            </a:xfrm>
            <a:prstGeom prst="rect">
              <a:avLst/>
            </a:prstGeom>
            <a:solidFill>
              <a:srgbClr val="ffff00"/>
            </a:solidFill>
            <a:ln w="15840">
              <a:solidFill>
                <a:srgbClr val="bb51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 – мембранний з пружиною; б – мембранний без пружи-ни; в – поршневий; г – сильфонний; д –</a:t>
              </a: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мбранний пово-ротний; е - лопатний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98" name="Прямоугольник 9"/>
          <p:cNvSpPr/>
          <p:nvPr/>
        </p:nvSpPr>
        <p:spPr>
          <a:xfrm>
            <a:off x="114480" y="3672000"/>
            <a:ext cx="2612880" cy="1812240"/>
          </a:xfrm>
          <a:prstGeom prst="rect">
            <a:avLst/>
          </a:prstGeom>
          <a:solidFill>
            <a:srgbClr val="caf297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ежно від виду робочого органу ПМВ поділяються на:</a:t>
            </a:r>
            <a:br>
              <a:rPr sz="2000"/>
            </a:b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мбранні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ршневі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ильфони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опатні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Прямоугольник 11"/>
          <p:cNvSpPr/>
          <p:nvPr/>
        </p:nvSpPr>
        <p:spPr>
          <a:xfrm>
            <a:off x="101520" y="5504040"/>
            <a:ext cx="2656080" cy="1553400"/>
          </a:xfrm>
          <a:prstGeom prst="rect">
            <a:avLst/>
          </a:prstGeom>
          <a:solidFill>
            <a:srgbClr val="caf297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ежно від спосо-бу повернення штока у вихідне положення ПМВ бувають пружинними та безпружинним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55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рямоугольник 5"/>
          <p:cNvSpPr/>
          <p:nvPr/>
        </p:nvSpPr>
        <p:spPr>
          <a:xfrm>
            <a:off x="96840" y="533520"/>
            <a:ext cx="8928000" cy="1097640"/>
          </a:xfrm>
          <a:prstGeom prst="rect">
            <a:avLst/>
          </a:prstGeom>
          <a:solidFill>
            <a:srgbClr val="caf297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оротні рухи робочого органу (валу) в ПМВ створюються шляхом механічного перетворення поступального руху штоку в ку-товий, або при застосуванні лопатних ПМВ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Прямоугольник 6"/>
          <p:cNvSpPr/>
          <p:nvPr/>
        </p:nvSpPr>
        <p:spPr>
          <a:xfrm>
            <a:off x="108000" y="1700280"/>
            <a:ext cx="8939160" cy="1097640"/>
          </a:xfrm>
          <a:prstGeom prst="rect">
            <a:avLst/>
          </a:prstGeom>
          <a:solidFill>
            <a:srgbClr val="ffe6d3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більше розповсюдження отримали мембранні ПМВ. Вони можуть розвинути зусилля до 40 кН і забезпечують переміщення вихідного органу від 4 до 100 м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Прямоугольник 7"/>
          <p:cNvSpPr/>
          <p:nvPr/>
        </p:nvSpPr>
        <p:spPr>
          <a:xfrm>
            <a:off x="96840" y="2906640"/>
            <a:ext cx="8939160" cy="1097640"/>
          </a:xfrm>
          <a:prstGeom prst="rect">
            <a:avLst/>
          </a:prstGeom>
          <a:solidFill>
            <a:srgbClr val="81d31a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ерування регулюючими органами, що вимагають перемі-щення штоку до 400 мм, застосовують поршневі ПМВ, вони розви-вають зусилля до 100 кН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Прямоугольник 9"/>
          <p:cNvSpPr/>
          <p:nvPr/>
        </p:nvSpPr>
        <p:spPr>
          <a:xfrm>
            <a:off x="85680" y="4076640"/>
            <a:ext cx="8939160" cy="1097640"/>
          </a:xfrm>
          <a:prstGeom prst="rect">
            <a:avLst/>
          </a:prstGeom>
          <a:solidFill>
            <a:srgbClr val="ffc000"/>
          </a:solidFill>
          <a:ln w="15840">
            <a:solidFill>
              <a:srgbClr val="3194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фонні ПМВ застосовують при малих (від 1 до 6 мм) пере-міщеннях регулювального органу (пневмопідвіска автобуса із пристроєм для вирівнювання нахилу на поворотах і нерівностях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Прямоугольник 10"/>
          <p:cNvSpPr/>
          <p:nvPr/>
        </p:nvSpPr>
        <p:spPr>
          <a:xfrm>
            <a:off x="96840" y="5229360"/>
            <a:ext cx="8939160" cy="1463400"/>
          </a:xfrm>
          <a:prstGeom prst="rect">
            <a:avLst/>
          </a:prstGeom>
          <a:solidFill>
            <a:srgbClr val="ffff00"/>
          </a:solidFill>
          <a:ln w="15840">
            <a:solidFill>
              <a:srgbClr val="199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лопатних ПМВ первинним силовим елементом є лопать, що розміщена у камері прямокутного перерізу. Лопаті мають кут по-вороту 60</a:t>
            </a:r>
            <a:r>
              <a:rPr b="0" i="1" lang="uk-U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 90</a:t>
            </a:r>
            <a:r>
              <a:rPr b="0" i="1" lang="uk-U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 застосовуються переважно у системах двох-позиційного регулюванн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Text Box 92"/>
          <p:cNvSpPr/>
          <p:nvPr/>
        </p:nvSpPr>
        <p:spPr>
          <a:xfrm>
            <a:off x="96840" y="9360"/>
            <a:ext cx="89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12745"/>
                </a:solidFill>
                <a:latin typeface="Arial"/>
              </a:rPr>
              <a:t>Пневматичні та гідравлічні виконавчі механізм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8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8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8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8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8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8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5"/>
          <p:cNvSpPr/>
          <p:nvPr/>
        </p:nvSpPr>
        <p:spPr>
          <a:xfrm>
            <a:off x="108000" y="549360"/>
            <a:ext cx="8928000" cy="610200"/>
          </a:xfrm>
          <a:prstGeom prst="rect">
            <a:avLst/>
          </a:prstGeom>
          <a:solidFill>
            <a:srgbClr val="81d31a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дравлічні виконавчі механізми (ГВМ) – що використовують як робоче тіло рідину, мають ряд переваг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Прямоугольник 7"/>
          <p:cNvSpPr/>
          <p:nvPr/>
        </p:nvSpPr>
        <p:spPr>
          <a:xfrm>
            <a:off x="96840" y="4894200"/>
            <a:ext cx="8929800" cy="1829880"/>
          </a:xfrm>
          <a:prstGeom prst="rect">
            <a:avLst/>
          </a:prstGeom>
          <a:solidFill>
            <a:srgbClr val="ffc000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більшого розповсюдження отримали поршневі ГВМ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ування ПМВ та ГВМ здійснюється переважно за допомогою золотникових пристроїв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видкість переміщення вихідного штоку поршня пропорційна площі поршня і залежить від зміщення золотника та перепаду тиску на поршні. Оскільки площа поршня постійна, то перепад тиску пропорційний зусиллю на штоку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9" name="Text Box 92"/>
          <p:cNvSpPr/>
          <p:nvPr/>
        </p:nvSpPr>
        <p:spPr>
          <a:xfrm>
            <a:off x="96840" y="9360"/>
            <a:ext cx="89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12745"/>
                </a:solidFill>
                <a:latin typeface="Arial"/>
              </a:rPr>
              <a:t>Пневматичні та гідравлічні виконавчі механізм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1" name="Picture 13" descr="ГідрОЦвикмех"/>
          <p:cNvPicPr/>
          <p:nvPr/>
        </p:nvPicPr>
        <p:blipFill>
          <a:blip r:embed="rId1"/>
          <a:srcRect l="13678" t="32613" r="8207" b="0"/>
          <a:stretch/>
        </p:blipFill>
        <p:spPr>
          <a:xfrm>
            <a:off x="3419640" y="857160"/>
            <a:ext cx="5616360" cy="3970440"/>
          </a:xfrm>
          <a:prstGeom prst="rect">
            <a:avLst/>
          </a:prstGeom>
          <a:ln w="0">
            <a:noFill/>
          </a:ln>
        </p:spPr>
      </p:pic>
      <p:sp>
        <p:nvSpPr>
          <p:cNvPr id="312" name="Прямоугольник 14"/>
          <p:cNvSpPr/>
          <p:nvPr/>
        </p:nvSpPr>
        <p:spPr>
          <a:xfrm>
            <a:off x="108000" y="1165320"/>
            <a:ext cx="3311640" cy="3926520"/>
          </a:xfrm>
          <a:prstGeom prst="rect">
            <a:avLst/>
          </a:prstGeom>
          <a:solidFill>
            <a:srgbClr val="81d31a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соку швидкодію (швид-кість переміщення вихідного органу більше 100 мм/с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еликі зусилля (від 2,4 до 130 кН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лі габарити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лу масу, що приходиться на одиницю зусилля (від 0,006 до 0,5 кг маси на 10Н сили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ідсутність люфті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езступінчасте регулювання швидкості руху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пускають великі коротко-часні перевантаженн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92"/>
          <p:cNvSpPr/>
          <p:nvPr/>
        </p:nvSpPr>
        <p:spPr>
          <a:xfrm>
            <a:off x="108000" y="9360"/>
            <a:ext cx="89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12745"/>
                </a:solidFill>
                <a:latin typeface="Arial"/>
              </a:rPr>
              <a:t>ЗАГАЛЬНІ ВІДОМОСТІ ПРО ВИКОНАВЧІ МЕХАНІЗМ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Прямокутник 22"/>
          <p:cNvSpPr/>
          <p:nvPr/>
        </p:nvSpPr>
        <p:spPr>
          <a:xfrm>
            <a:off x="179280" y="485640"/>
            <a:ext cx="8856720" cy="1901160"/>
          </a:xfrm>
          <a:prstGeom prst="rect">
            <a:avLst/>
          </a:prstGeom>
          <a:solidFill>
            <a:srgbClr val="caf297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конавчими механізмами автоматичних систем називають пристрої, що діють безпосередньо на регулюючий орган керованого об’єкт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виконавчого механізму звичайно входить двигун та передавальний пристрі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Line 93"/>
          <p:cNvSpPr/>
          <p:nvPr/>
        </p:nvSpPr>
        <p:spPr>
          <a:xfrm>
            <a:off x="324000" y="48276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Прямокутник 32"/>
          <p:cNvSpPr/>
          <p:nvPr/>
        </p:nvSpPr>
        <p:spPr>
          <a:xfrm>
            <a:off x="144360" y="2492280"/>
            <a:ext cx="8858520" cy="803880"/>
          </a:xfrm>
          <a:prstGeom prst="rect">
            <a:avLst/>
          </a:prstGeom>
          <a:solidFill>
            <a:srgbClr val="00b0f0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rebuchet MS"/>
              </a:rPr>
              <a:t>Залежно від виду двигуна розрізняють такі виконавчі механізми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Прямокутник 33"/>
          <p:cNvSpPr/>
          <p:nvPr/>
        </p:nvSpPr>
        <p:spPr>
          <a:xfrm>
            <a:off x="144360" y="3357720"/>
            <a:ext cx="8858520" cy="1463400"/>
          </a:xfrm>
          <a:prstGeom prst="rect">
            <a:avLst/>
          </a:prstGeom>
          <a:solidFill>
            <a:srgbClr val="ffffff"/>
          </a:solidFill>
          <a:ln w="15840">
            <a:solidFill>
              <a:srgbClr val="199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- електричні (електромагнітні, електродвигунні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- механічні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- гідравлічні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- пневматичні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Прямоугольник 1"/>
          <p:cNvSpPr/>
          <p:nvPr/>
        </p:nvSpPr>
        <p:spPr>
          <a:xfrm>
            <a:off x="108000" y="4941720"/>
            <a:ext cx="8858160" cy="825480"/>
          </a:xfrm>
          <a:prstGeom prst="rect">
            <a:avLst/>
          </a:prstGeom>
          <a:solidFill>
            <a:srgbClr val="4fadf3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Найбільш розповсюджені - електричні та гідравлічні </a:t>
            </a:r>
            <a:r>
              <a:rPr b="0" i="1" lang="uk-UA" sz="2400" spc="-1" strike="noStrike">
                <a:solidFill>
                  <a:srgbClr val="000000"/>
                </a:solidFill>
                <a:latin typeface="Trebuchet MS"/>
              </a:rPr>
              <a:t>виконавчі механізми</a:t>
            </a: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Прямоугольник 9"/>
          <p:cNvSpPr/>
          <p:nvPr/>
        </p:nvSpPr>
        <p:spPr>
          <a:xfrm>
            <a:off x="108000" y="5877000"/>
            <a:ext cx="8858160" cy="825480"/>
          </a:xfrm>
          <a:prstGeom prst="rect">
            <a:avLst/>
          </a:prstGeom>
          <a:solidFill>
            <a:srgbClr val="ffb37a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Часто підсилювачі та виконавчі механізми являють собою єдиний пристрі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8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8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кутник 35"/>
          <p:cNvSpPr/>
          <p:nvPr/>
        </p:nvSpPr>
        <p:spPr>
          <a:xfrm>
            <a:off x="155520" y="3060720"/>
            <a:ext cx="8856720" cy="438120"/>
          </a:xfrm>
          <a:prstGeom prst="rect">
            <a:avLst/>
          </a:prstGeom>
          <a:solidFill>
            <a:srgbClr val="8cc9f7"/>
          </a:solidFill>
          <a:ln w="15840">
            <a:solidFill>
              <a:srgbClr val="199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Вимоги до виконавчих механізмів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Прямоугольник 1"/>
          <p:cNvSpPr/>
          <p:nvPr/>
        </p:nvSpPr>
        <p:spPr>
          <a:xfrm>
            <a:off x="120600" y="3573360"/>
            <a:ext cx="8885160" cy="3220560"/>
          </a:xfrm>
          <a:prstGeom prst="rect">
            <a:avLst/>
          </a:prstGeom>
          <a:solidFill>
            <a:srgbClr val="caf297"/>
          </a:solidFill>
          <a:ln w="15840">
            <a:solidFill>
              <a:srgbClr val="811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потужність на виході виконавчого механізму повинна бути достатньою для переміщення регулюючого органу із заданою швидкістю при всіх режимах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5840" indent="-285840">
              <a:lnSpc>
                <a:spcPct val="9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переміщення виконавчого механізму на виході повинно бути узгодженим із відповідним переміщенням регулюючого органу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5840" indent="-285840">
              <a:lnSpc>
                <a:spcPct val="9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вихідна величина виконавчого механізму повинна бути (по можливості) пропорційною вхідному сигналу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5840" indent="-285840">
              <a:lnSpc>
                <a:spcPct val="9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вони повинні мати високі техніко-економічні показник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Text Box 92"/>
          <p:cNvSpPr/>
          <p:nvPr/>
        </p:nvSpPr>
        <p:spPr>
          <a:xfrm>
            <a:off x="108000" y="9360"/>
            <a:ext cx="89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12745"/>
                </a:solidFill>
                <a:latin typeface="Arial"/>
              </a:rPr>
              <a:t>ЗАГАЛЬНІ ВІДОМОСТІ ПРО ВИКОНАВЧІ МЕХАНІЗМ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Line 93"/>
          <p:cNvSpPr/>
          <p:nvPr/>
        </p:nvSpPr>
        <p:spPr>
          <a:xfrm>
            <a:off x="324000" y="48276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Прямокутник 32"/>
          <p:cNvSpPr/>
          <p:nvPr/>
        </p:nvSpPr>
        <p:spPr>
          <a:xfrm>
            <a:off x="133200" y="547560"/>
            <a:ext cx="8858520" cy="803880"/>
          </a:xfrm>
          <a:prstGeom prst="rect">
            <a:avLst/>
          </a:prstGeom>
          <a:solidFill>
            <a:srgbClr val="00b0f0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Головними показниками, що характеризують регулювальні властивості виконавчих механізмів є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Прямокутник 33"/>
          <p:cNvSpPr/>
          <p:nvPr/>
        </p:nvSpPr>
        <p:spPr>
          <a:xfrm>
            <a:off x="133200" y="1484280"/>
            <a:ext cx="8858520" cy="1463400"/>
          </a:xfrm>
          <a:prstGeom prst="rect">
            <a:avLst/>
          </a:prstGeom>
          <a:solidFill>
            <a:srgbClr val="ffffff"/>
          </a:solidFill>
          <a:ln w="15840">
            <a:solidFill>
              <a:srgbClr val="199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- коефіцієнт підсиленні потужності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- зусилля на виході механізму, або обертовий момент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- лінійне або кутове переміщення, частота обертів…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- час переміщень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8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8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92"/>
          <p:cNvSpPr/>
          <p:nvPr/>
        </p:nvSpPr>
        <p:spPr>
          <a:xfrm>
            <a:off x="252360" y="936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Електромагнітні виконавчі механізм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Прямокутник 22"/>
          <p:cNvSpPr/>
          <p:nvPr/>
        </p:nvSpPr>
        <p:spPr>
          <a:xfrm>
            <a:off x="108000" y="471600"/>
            <a:ext cx="8928000" cy="742680"/>
          </a:xfrm>
          <a:prstGeom prst="rect">
            <a:avLst/>
          </a:prstGeom>
          <a:solidFill>
            <a:srgbClr val="caf297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Trebuchet MS"/>
              </a:rPr>
              <a:t>Широке застосування у системах автоматики знаходять електромагнітні виконавчі механізми дискретної дії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Прямокутник 35"/>
          <p:cNvSpPr/>
          <p:nvPr/>
        </p:nvSpPr>
        <p:spPr>
          <a:xfrm>
            <a:off x="112680" y="1266840"/>
            <a:ext cx="8928000" cy="1077840"/>
          </a:xfrm>
          <a:prstGeom prst="rect">
            <a:avLst/>
          </a:prstGeom>
          <a:solidFill>
            <a:srgbClr val="00b050"/>
          </a:solidFill>
          <a:ln w="15840">
            <a:solidFill>
              <a:srgbClr val="199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uk-UA" sz="2200" spc="-1" strike="noStrike">
                <a:solidFill>
                  <a:srgbClr val="000000"/>
                </a:solidFill>
                <a:latin typeface="Trebuchet MS"/>
              </a:rPr>
              <a:t>Їх використовують для керування різного роду регулюваль-ними та запірними клапанами, вентилями, золотниками та ін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Прямокутник 32"/>
          <p:cNvSpPr/>
          <p:nvPr/>
        </p:nvSpPr>
        <p:spPr>
          <a:xfrm>
            <a:off x="108000" y="2149560"/>
            <a:ext cx="8928000" cy="742680"/>
          </a:xfrm>
          <a:prstGeom prst="rect">
            <a:avLst/>
          </a:prstGeom>
          <a:solidFill>
            <a:srgbClr val="00b0f0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rebuchet MS"/>
              </a:rPr>
              <a:t>За видом руху виконавчого органу (шток, вихідний вал) їх поділяють на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Прямокутник 32"/>
          <p:cNvSpPr/>
          <p:nvPr/>
        </p:nvSpPr>
        <p:spPr>
          <a:xfrm>
            <a:off x="103320" y="2608200"/>
            <a:ext cx="8928000" cy="742680"/>
          </a:xfrm>
          <a:prstGeom prst="rect">
            <a:avLst/>
          </a:prstGeom>
          <a:solidFill>
            <a:srgbClr val="00b0f0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266760" indent="-2667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rebuchet MS"/>
              </a:rPr>
              <a:t>- електромагнітні із прямолінійним рухом;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6760" indent="-2667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rebuchet MS"/>
              </a:rPr>
              <a:t>- електромагнітні муфти із обертовим рухом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Прямокутник 32"/>
          <p:cNvSpPr/>
          <p:nvPr/>
        </p:nvSpPr>
        <p:spPr>
          <a:xfrm>
            <a:off x="108000" y="3381480"/>
            <a:ext cx="8928000" cy="742680"/>
          </a:xfrm>
          <a:prstGeom prst="rect">
            <a:avLst/>
          </a:prstGeom>
          <a:solidFill>
            <a:srgbClr val="ffcca6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Trebuchet MS"/>
              </a:rPr>
              <a:t>Залежно від типу, конструктивного виконання та умов застосування вихідною величиною цих механізмів може бути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Прямокутник 32"/>
          <p:cNvSpPr/>
          <p:nvPr/>
        </p:nvSpPr>
        <p:spPr>
          <a:xfrm>
            <a:off x="103320" y="4149720"/>
            <a:ext cx="8928000" cy="1413000"/>
          </a:xfrm>
          <a:prstGeom prst="rect">
            <a:avLst/>
          </a:prstGeom>
          <a:solidFill>
            <a:srgbClr val="ffcca6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rebuchet MS"/>
              </a:rPr>
              <a:t>- для елементів із прямолінійним рухом робочого органу – переміщення, швидкість, зусилля;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rebuchet MS"/>
              </a:rPr>
              <a:t>- для елементів із обертовим рухом робочого органу – кут повороту, частота обертів, обертовий момент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Прямокутник 32"/>
          <p:cNvSpPr/>
          <p:nvPr/>
        </p:nvSpPr>
        <p:spPr>
          <a:xfrm>
            <a:off x="127080" y="5686560"/>
            <a:ext cx="8928000" cy="1077840"/>
          </a:xfrm>
          <a:prstGeom prst="rect">
            <a:avLst/>
          </a:prstGeom>
          <a:solidFill>
            <a:srgbClr val="92d050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Trebuchet MS"/>
              </a:rPr>
              <a:t>Вхідною величиною (керуючою дією) електромагнітних вико-навчих механізмів є електричний струм у обмотці, який створює магнітне поле і діє через нього на робочий орган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кутник 35"/>
          <p:cNvSpPr/>
          <p:nvPr/>
        </p:nvSpPr>
        <p:spPr>
          <a:xfrm>
            <a:off x="106200" y="1312920"/>
            <a:ext cx="4826160" cy="1169640"/>
          </a:xfrm>
          <a:prstGeom prst="rect">
            <a:avLst/>
          </a:prstGeom>
          <a:solidFill>
            <a:srgbClr val="4fadf3"/>
          </a:solidFill>
          <a:ln w="15840">
            <a:solidFill>
              <a:srgbClr val="199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дходженні струму у котушку, якір переміщається під дією електро-магнітної сили та переміщає зв’язаний із ним регулюючий орган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Прямокутник 32"/>
          <p:cNvSpPr/>
          <p:nvPr/>
        </p:nvSpPr>
        <p:spPr>
          <a:xfrm>
            <a:off x="88920" y="2568600"/>
            <a:ext cx="4843440" cy="1992600"/>
          </a:xfrm>
          <a:prstGeom prst="rect">
            <a:avLst/>
          </a:prstGeom>
          <a:solidFill>
            <a:srgbClr val="00b0f0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магнітні механізми викорис-товують у системах автоматики позицій-ного керування, оскільки керуючий орган (клапан, вентиль) може знаходитись тіль-ки у двох кінцевих положеннях, що відпові-дають двом положенням осердя електро-магніту: виключено та включено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Прямокутник 32"/>
          <p:cNvSpPr/>
          <p:nvPr/>
        </p:nvSpPr>
        <p:spPr>
          <a:xfrm>
            <a:off x="88920" y="4653000"/>
            <a:ext cx="8970840" cy="682200"/>
          </a:xfrm>
          <a:prstGeom prst="rect">
            <a:avLst/>
          </a:prstGeom>
          <a:solidFill>
            <a:srgbClr val="00b0f0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Сучасні електромагнітні механізми такого типу здатні здійснювати переміщення до 6…8 мм при зусиллі до 100Н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Прямоугольник 12"/>
          <p:cNvSpPr/>
          <p:nvPr/>
        </p:nvSpPr>
        <p:spPr>
          <a:xfrm>
            <a:off x="106200" y="5516640"/>
            <a:ext cx="8958600" cy="1008720"/>
          </a:xfrm>
          <a:prstGeom prst="rect">
            <a:avLst/>
          </a:prstGeom>
          <a:solidFill>
            <a:srgbClr val="caf297"/>
          </a:solidFill>
          <a:ln w="15840">
            <a:solidFill>
              <a:srgbClr val="199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rebuchet MS"/>
              </a:rPr>
              <a:t>Недолік електромагнітних клапанів та вентилів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– можливість вини-кнення гідравлічних ударів у трубопроводах із рідинами при практично миттєвому перемиканні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Text Box 92"/>
          <p:cNvSpPr/>
          <p:nvPr/>
        </p:nvSpPr>
        <p:spPr>
          <a:xfrm>
            <a:off x="252360" y="936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Електромагнітні виконавчі механізм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Прямокутник 22"/>
          <p:cNvSpPr/>
          <p:nvPr/>
        </p:nvSpPr>
        <p:spPr>
          <a:xfrm>
            <a:off x="90360" y="471600"/>
            <a:ext cx="4842000" cy="1077840"/>
          </a:xfrm>
          <a:prstGeom prst="rect">
            <a:avLst/>
          </a:prstGeom>
          <a:solidFill>
            <a:srgbClr val="caf297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86600"/>
                <a:tab algn="l" pos="8077320"/>
                <a:tab algn="l" pos="8429760"/>
                <a:tab algn="l" pos="9334440"/>
                <a:tab algn="l" pos="1026792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Електромагнітні механізми прямо-лінійного руху, (соленоїдні механізми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49" name="Группа 8"/>
          <p:cNvGrpSpPr/>
          <p:nvPr/>
        </p:nvGrpSpPr>
        <p:grpSpPr>
          <a:xfrm>
            <a:off x="5003640" y="533520"/>
            <a:ext cx="4044960" cy="4047840"/>
            <a:chOff x="5003640" y="533520"/>
            <a:chExt cx="4044960" cy="4047840"/>
          </a:xfrm>
        </p:grpSpPr>
        <p:sp>
          <p:nvSpPr>
            <p:cNvPr id="250" name="Text Box 12"/>
            <p:cNvSpPr/>
            <p:nvPr/>
          </p:nvSpPr>
          <p:spPr>
            <a:xfrm>
              <a:off x="5003640" y="3994200"/>
              <a:ext cx="4044960" cy="587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10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000000"/>
                  </a:solidFill>
                  <a:latin typeface="Arial"/>
                </a:rPr>
                <a:t>1 - котушка; 2 – осердя; 3 – якір; 4 – регулюючий орган (клапан)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251" name="Picture 4" descr="електромагвикмех"/>
            <p:cNvPicPr/>
            <p:nvPr/>
          </p:nvPicPr>
          <p:blipFill>
            <a:blip r:embed="rId1"/>
            <a:stretch/>
          </p:blipFill>
          <p:spPr>
            <a:xfrm>
              <a:off x="5003640" y="533520"/>
              <a:ext cx="4044960" cy="3450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кутник 35"/>
          <p:cNvSpPr/>
          <p:nvPr/>
        </p:nvSpPr>
        <p:spPr>
          <a:xfrm>
            <a:off x="133200" y="533520"/>
            <a:ext cx="8902800" cy="742680"/>
          </a:xfrm>
          <a:prstGeom prst="rect">
            <a:avLst/>
          </a:prstGeom>
          <a:solidFill>
            <a:srgbClr val="4fadf3"/>
          </a:solidFill>
          <a:ln w="15840">
            <a:solidFill>
              <a:srgbClr val="199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Trebuchet MS"/>
              </a:rPr>
              <a:t>Електромагнітні муфти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Trebuchet MS"/>
              </a:rPr>
              <a:t> – служать ланкою, що зв’язує привод та робочий механізм.</a:t>
            </a:r>
            <a:r>
              <a:rPr b="0" lang="uk-UA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Прямокутник 32"/>
          <p:cNvSpPr/>
          <p:nvPr/>
        </p:nvSpPr>
        <p:spPr>
          <a:xfrm>
            <a:off x="135000" y="1282680"/>
            <a:ext cx="4005360" cy="1292040"/>
          </a:xfrm>
          <a:prstGeom prst="rect">
            <a:avLst/>
          </a:prstGeom>
          <a:solidFill>
            <a:srgbClr val="00b0f0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ни поділяються на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икційні муфти сухого тертя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фти в’язкого тертя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дукційні муфти.          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Text Box 92"/>
          <p:cNvSpPr/>
          <p:nvPr/>
        </p:nvSpPr>
        <p:spPr>
          <a:xfrm>
            <a:off x="252360" y="936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Електромагнітні виконавчі механізм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Прямокутник 32"/>
          <p:cNvSpPr/>
          <p:nvPr/>
        </p:nvSpPr>
        <p:spPr>
          <a:xfrm>
            <a:off x="133200" y="2616120"/>
            <a:ext cx="4078440" cy="987120"/>
          </a:xfrm>
          <a:prstGeom prst="rect">
            <a:avLst/>
          </a:prstGeom>
          <a:solidFill>
            <a:srgbClr val="dcf7ba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уфта сухого тертя.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ітне поле долаючи зусилля пружини при-тягує ведену напівмуфту до ведучої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Прямокутник 32"/>
          <p:cNvSpPr/>
          <p:nvPr/>
        </p:nvSpPr>
        <p:spPr>
          <a:xfrm>
            <a:off x="133200" y="5667480"/>
            <a:ext cx="8902800" cy="987120"/>
          </a:xfrm>
          <a:prstGeom prst="rect">
            <a:avLst/>
          </a:prstGeom>
          <a:solidFill>
            <a:srgbClr val="ffcca6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фти сухого тертя типу ЭМ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з номінальним моментом від 10 до 1000 Н м, та найбільшою частотою обер-тання 1500 та 3000 обертів при потужності котушки збудження 11,5…50 Вт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Прямокутник 32"/>
          <p:cNvSpPr/>
          <p:nvPr/>
        </p:nvSpPr>
        <p:spPr>
          <a:xfrm>
            <a:off x="133200" y="3618000"/>
            <a:ext cx="4007160" cy="1292040"/>
          </a:xfrm>
          <a:prstGeom prst="rect">
            <a:avLst/>
          </a:prstGeom>
          <a:solidFill>
            <a:srgbClr val="8cc9f7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ертя між напівмуфтами дозволяє передавати обертовий мо-мент із ведучого вала на ведений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Прямокутник 32"/>
          <p:cNvSpPr/>
          <p:nvPr/>
        </p:nvSpPr>
        <p:spPr>
          <a:xfrm>
            <a:off x="133200" y="4641840"/>
            <a:ext cx="4007160" cy="987120"/>
          </a:xfrm>
          <a:prstGeom prst="rect">
            <a:avLst/>
          </a:prstGeom>
          <a:solidFill>
            <a:srgbClr val="ffcca6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збільшення обертового мо-менту, що передається, муфти ви-готовляють багатодисковим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60" name="Группа 1"/>
          <p:cNvGrpSpPr/>
          <p:nvPr/>
        </p:nvGrpSpPr>
        <p:grpSpPr>
          <a:xfrm>
            <a:off x="4100400" y="1349280"/>
            <a:ext cx="4926240" cy="4537080"/>
            <a:chOff x="4100400" y="1349280"/>
            <a:chExt cx="4926240" cy="4537080"/>
          </a:xfrm>
        </p:grpSpPr>
        <p:pic>
          <p:nvPicPr>
            <p:cNvPr id="261" name="Picture 3" descr="Елмуфта"/>
            <p:cNvPicPr/>
            <p:nvPr/>
          </p:nvPicPr>
          <p:blipFill>
            <a:blip r:embed="rId1"/>
            <a:stretch/>
          </p:blipFill>
          <p:spPr>
            <a:xfrm>
              <a:off x="4100400" y="1349280"/>
              <a:ext cx="4896720" cy="34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 Box 4"/>
            <p:cNvSpPr/>
            <p:nvPr/>
          </p:nvSpPr>
          <p:spPr>
            <a:xfrm>
              <a:off x="4100400" y="4829400"/>
              <a:ext cx="4926240" cy="1056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10800" anchor="t">
              <a:noAutofit/>
            </a:bodyPr>
            <a:p>
              <a:pPr algn="ctr">
                <a:lnSpc>
                  <a:spcPct val="8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 – обмотка; 2 – контактні кільця;  3 – ве-дучий вал; 4 – щітки; 5 - ведуча напівмуф-та; 6 - ведена напівмуфта;  7 – пружина;     8 – шліци; 9 - ведений вал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8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8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8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8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8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8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8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8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8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8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8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8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8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8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8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8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8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8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рямоугольник 3"/>
          <p:cNvSpPr/>
          <p:nvPr/>
        </p:nvSpPr>
        <p:spPr>
          <a:xfrm>
            <a:off x="69840" y="549360"/>
            <a:ext cx="8966160" cy="776880"/>
          </a:xfrm>
          <a:prstGeom prst="rect">
            <a:avLst/>
          </a:prstGeom>
          <a:solidFill>
            <a:srgbClr val="ffe6d3"/>
          </a:solidFill>
          <a:ln w="15840">
            <a:solidFill>
              <a:srgbClr val="3194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уфти в’язкого тертя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феропорошкові або магнітоемульсійні  працюють за принципом намагнічування магнітного порошку, що створює при цьому шар, який з’єднує ведучі  та ведені елементи муфт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Прямоугольник 4"/>
          <p:cNvSpPr/>
          <p:nvPr/>
        </p:nvSpPr>
        <p:spPr>
          <a:xfrm>
            <a:off x="79200" y="1336680"/>
            <a:ext cx="4205520" cy="1035720"/>
          </a:xfrm>
          <a:prstGeom prst="rect">
            <a:avLst/>
          </a:prstGeom>
          <a:solidFill>
            <a:srgbClr val="dcf7ba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і збільшенням магнітного потоку об-мотки намагнічування, зростає і величина обертового моменту, що передаєтьс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Прямоугольник 5"/>
          <p:cNvSpPr/>
          <p:nvPr/>
        </p:nvSpPr>
        <p:spPr>
          <a:xfrm>
            <a:off x="69840" y="2173320"/>
            <a:ext cx="4214880" cy="2194920"/>
          </a:xfrm>
          <a:prstGeom prst="rect">
            <a:avLst/>
          </a:prstGeom>
          <a:solidFill>
            <a:srgbClr val="ffc000"/>
          </a:solidFill>
          <a:ln w="15840">
            <a:solidFill>
              <a:srgbClr val="3194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 муфти поділяють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онструктивним виконанням, та розміщенням котушок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(однополюсні, багатополюсні)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 числом котушок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днокотушечні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агатокотушечні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формою робочої поверхні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Прямоугольник 7"/>
          <p:cNvSpPr/>
          <p:nvPr/>
        </p:nvSpPr>
        <p:spPr>
          <a:xfrm>
            <a:off x="79200" y="6021360"/>
            <a:ext cx="8983800" cy="1008720"/>
          </a:xfrm>
          <a:prstGeom prst="rect">
            <a:avLst/>
          </a:prstGeom>
          <a:solidFill>
            <a:srgbClr val="d85c00"/>
          </a:solidFill>
          <a:ln w="15840">
            <a:solidFill>
              <a:srgbClr val="3194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 муфти не бояться перевантажень, як виконавчі механізми – швидкодіючі із постійною часу 0,005…0,008 сек. та коефіцієнтом передачі, що сягає 3500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Text Box 92"/>
          <p:cNvSpPr/>
          <p:nvPr/>
        </p:nvSpPr>
        <p:spPr>
          <a:xfrm>
            <a:off x="252360" y="936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Електромагнітні виконавчі механізм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Прямоугольник 14"/>
          <p:cNvSpPr/>
          <p:nvPr/>
        </p:nvSpPr>
        <p:spPr>
          <a:xfrm>
            <a:off x="79200" y="4389480"/>
            <a:ext cx="1822680" cy="610200"/>
          </a:xfrm>
          <a:prstGeom prst="rect">
            <a:avLst/>
          </a:prstGeom>
          <a:solidFill>
            <a:srgbClr val="ffc000"/>
          </a:solidFill>
          <a:ln w="15840">
            <a:solidFill>
              <a:srgbClr val="3194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кові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иліндричні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Прямоугольник 15"/>
          <p:cNvSpPr/>
          <p:nvPr/>
        </p:nvSpPr>
        <p:spPr>
          <a:xfrm>
            <a:off x="2397240" y="4389480"/>
            <a:ext cx="1823760" cy="610200"/>
          </a:xfrm>
          <a:prstGeom prst="rect">
            <a:avLst/>
          </a:prstGeom>
          <a:solidFill>
            <a:srgbClr val="ffc000"/>
          </a:solidFill>
          <a:ln w="15840">
            <a:solidFill>
              <a:srgbClr val="3194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арабанні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усні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Прямоугольник 16"/>
          <p:cNvSpPr/>
          <p:nvPr/>
        </p:nvSpPr>
        <p:spPr>
          <a:xfrm>
            <a:off x="106200" y="5003640"/>
            <a:ext cx="9004320" cy="915120"/>
          </a:xfrm>
          <a:prstGeom prst="rect">
            <a:avLst/>
          </a:prstGeom>
          <a:solidFill>
            <a:srgbClr val="ffc000"/>
          </a:solidFill>
          <a:ln w="15840">
            <a:solidFill>
              <a:srgbClr val="3194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числом робочих зазорів: – одно та багатозазорні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идом струмопроводів: – із контактними кільцями та безконтактні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швидкістю спрацювання: – мало інерційні та інерційні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72" name="Группа 2"/>
          <p:cNvGrpSpPr/>
          <p:nvPr/>
        </p:nvGrpSpPr>
        <p:grpSpPr>
          <a:xfrm>
            <a:off x="4284720" y="1120680"/>
            <a:ext cx="4782960" cy="3884760"/>
            <a:chOff x="4284720" y="1120680"/>
            <a:chExt cx="4782960" cy="3884760"/>
          </a:xfrm>
        </p:grpSpPr>
        <p:pic>
          <p:nvPicPr>
            <p:cNvPr id="273" name="Picture 4" descr="Елмуфта1"/>
            <p:cNvPicPr/>
            <p:nvPr/>
          </p:nvPicPr>
          <p:blipFill>
            <a:blip r:embed="rId1"/>
            <a:stretch/>
          </p:blipFill>
          <p:spPr>
            <a:xfrm>
              <a:off x="4284720" y="1120680"/>
              <a:ext cx="4782960" cy="302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"/>
            <p:cNvSpPr/>
            <p:nvPr/>
          </p:nvSpPr>
          <p:spPr>
            <a:xfrm>
              <a:off x="4284720" y="4169520"/>
              <a:ext cx="4751280" cy="835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10800" anchor="t">
              <a:noAutofit/>
            </a:bodyPr>
            <a:p>
              <a:pPr algn="ctr">
                <a:lnSpc>
                  <a:spcPct val="8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1 – обмотка; 2 – контактні кільця; 3 – ве-дуча напівмуфта; 4 – щітки; 5 –магнітний порошок; 6 - ведена напівмуфта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3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8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8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8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8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8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8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8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8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8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8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8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8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8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8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8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8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8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8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8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8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8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8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8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8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8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8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8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8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8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8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8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8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8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8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8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8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8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8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8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8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8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8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8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8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8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8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8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8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8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8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8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8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8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8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8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8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8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8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8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8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8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Прямоугольник 5"/>
          <p:cNvSpPr/>
          <p:nvPr/>
        </p:nvSpPr>
        <p:spPr>
          <a:xfrm>
            <a:off x="69840" y="527040"/>
            <a:ext cx="8966160" cy="1035720"/>
          </a:xfrm>
          <a:prstGeom prst="rect">
            <a:avLst/>
          </a:prstGeom>
          <a:solidFill>
            <a:srgbClr val="81d31a"/>
          </a:solidFill>
          <a:ln w="15840">
            <a:solidFill>
              <a:srgbClr val="3194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Індукційні муфти ковзання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аються із двох головних частин – ведучого якоря 3, що кріпиться до приводного електродвигуна 5 та веденого вала 7 з індук-тором 6 та обмоткою збудження 1, яка розміщена між його зубчастими части-нами, і живиться струмом через кільця 2 та щітки 4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Прямоугольник 18"/>
          <p:cNvSpPr/>
          <p:nvPr/>
        </p:nvSpPr>
        <p:spPr>
          <a:xfrm>
            <a:off x="69840" y="1611360"/>
            <a:ext cx="3457440" cy="3106440"/>
          </a:xfrm>
          <a:prstGeom prst="rect">
            <a:avLst/>
          </a:prstGeom>
          <a:solidFill>
            <a:srgbClr val="8cc9f7"/>
          </a:solidFill>
          <a:ln w="15840">
            <a:solidFill>
              <a:srgbClr val="293d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м, що протікає по ін-дукторі, створює магнітний потік, який наводить на якорі е.р.с., під дією якої у якорі ви-никають вихрові струми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ми взаємодіють із маг-нітним потоком полюсів ство-рюючи при цьому електромаг-нітний момент, який штовхає ведену частину муфти, у тому напрямку, що і ведуча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Прямоугольник 19"/>
          <p:cNvSpPr/>
          <p:nvPr/>
        </p:nvSpPr>
        <p:spPr>
          <a:xfrm>
            <a:off x="54000" y="5651640"/>
            <a:ext cx="8966160" cy="1097640"/>
          </a:xfrm>
          <a:prstGeom prst="rect">
            <a:avLst/>
          </a:prstGeom>
          <a:solidFill>
            <a:srgbClr val="ffcca6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бочих механізмів малої потужності випускаються муфти типу ПМС із номінальними моментами 1,7…30 Н м, для безступінчатого регулювання швидкості у діапазоні 1:8. Муфти серії  ІМС із номінальними моментами 70…1600 Н м – застосовують для робочих механізмів великої потужності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Text Box 92"/>
          <p:cNvSpPr/>
          <p:nvPr/>
        </p:nvSpPr>
        <p:spPr>
          <a:xfrm>
            <a:off x="252360" y="936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Електромагнітні виконавчі механізм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80" name="Группа 1"/>
          <p:cNvGrpSpPr/>
          <p:nvPr/>
        </p:nvGrpSpPr>
        <p:grpSpPr>
          <a:xfrm>
            <a:off x="3527280" y="1584360"/>
            <a:ext cx="5538960" cy="4067280"/>
            <a:chOff x="3527280" y="1584360"/>
            <a:chExt cx="5538960" cy="4067280"/>
          </a:xfrm>
        </p:grpSpPr>
        <p:pic>
          <p:nvPicPr>
            <p:cNvPr id="281" name="Picture 7" descr="Елмуфта2"/>
            <p:cNvPicPr/>
            <p:nvPr/>
          </p:nvPicPr>
          <p:blipFill>
            <a:blip r:embed="rId1"/>
            <a:stretch/>
          </p:blipFill>
          <p:spPr>
            <a:xfrm>
              <a:off x="3527280" y="1584360"/>
              <a:ext cx="5538960" cy="314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6"/>
            <p:cNvSpPr/>
            <p:nvPr/>
          </p:nvSpPr>
          <p:spPr>
            <a:xfrm>
              <a:off x="3527280" y="4745880"/>
              <a:ext cx="5500440" cy="905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10800" anchor="t">
              <a:noAutofit/>
            </a:bodyPr>
            <a:p>
              <a:pPr algn="ctr">
                <a:lnSpc>
                  <a:spcPct val="8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1 – обмотка збудження; 2 – контактні кільця;    3 – ведучий якір; 4 – щітки; 5 –</a:t>
              </a: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</a:t>
              </a: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приводний електродвигун; 6 – індуктор; 7 – ведений вал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83" name="Прямоугольник 23"/>
          <p:cNvSpPr/>
          <p:nvPr/>
        </p:nvSpPr>
        <p:spPr>
          <a:xfrm>
            <a:off x="69840" y="4489560"/>
            <a:ext cx="3457440" cy="1035720"/>
          </a:xfrm>
          <a:prstGeom prst="rect">
            <a:avLst/>
          </a:prstGeom>
          <a:solidFill>
            <a:srgbClr val="919aca"/>
          </a:solidFill>
          <a:ln w="15840">
            <a:solidFill>
              <a:srgbClr val="293d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та обертів веденого вала залежить від струму збудження і моменту опору на веденому валу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6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рямоугольник 3"/>
          <p:cNvSpPr/>
          <p:nvPr/>
        </p:nvSpPr>
        <p:spPr>
          <a:xfrm>
            <a:off x="69840" y="549360"/>
            <a:ext cx="8966160" cy="610200"/>
          </a:xfrm>
          <a:prstGeom prst="rect">
            <a:avLst/>
          </a:prstGeom>
          <a:solidFill>
            <a:srgbClr val="ffe6d3"/>
          </a:solidFill>
          <a:ln w="15840">
            <a:solidFill>
              <a:srgbClr val="3194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вигунні виконавчі механізми складаються із двигуна, редуктора та гальма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Прямоугольник 4"/>
          <p:cNvSpPr/>
          <p:nvPr/>
        </p:nvSpPr>
        <p:spPr>
          <a:xfrm>
            <a:off x="79200" y="1155600"/>
            <a:ext cx="8956800" cy="1341000"/>
          </a:xfrm>
          <a:prstGeom prst="rect">
            <a:avLst/>
          </a:prstGeom>
          <a:solidFill>
            <a:srgbClr val="dcf7ba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ал керування подається одночасно на двигун та гальмо, при цьому двигун розгальмовується та приводить у рух робочий орган. При знятті сигналу двигун вимикається, а гальмо зупиняє рух робочого органу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Text Box 92"/>
          <p:cNvSpPr/>
          <p:nvPr/>
        </p:nvSpPr>
        <p:spPr>
          <a:xfrm>
            <a:off x="252360" y="936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12745"/>
                </a:solidFill>
                <a:latin typeface="Calibri"/>
              </a:rPr>
              <a:t>Електродвигунні</a:t>
            </a:r>
            <a:r>
              <a:rPr b="1" lang="uk-UA" sz="2800" spc="-1" strike="noStrike">
                <a:solidFill>
                  <a:srgbClr val="212745"/>
                </a:solidFill>
                <a:latin typeface="Calibri"/>
              </a:rPr>
              <a:t> </a:t>
            </a:r>
            <a:r>
              <a:rPr b="1" i="1" lang="uk-UA" sz="2800" spc="-1" strike="noStrike">
                <a:solidFill>
                  <a:srgbClr val="212745"/>
                </a:solidFill>
                <a:latin typeface="Calibri"/>
              </a:rPr>
              <a:t>виконавчі механізм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Прямоугольник 7"/>
          <p:cNvSpPr/>
          <p:nvPr/>
        </p:nvSpPr>
        <p:spPr>
          <a:xfrm>
            <a:off x="69840" y="2184480"/>
            <a:ext cx="8956800" cy="3819240"/>
          </a:xfrm>
          <a:prstGeom prst="rect">
            <a:avLst/>
          </a:prstGeom>
          <a:solidFill>
            <a:srgbClr val="c8cde5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вигунні виконавчі механізми розрізняють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идом руху виконавчого органу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днооборотні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агатооборотні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ямохідні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швидкістю руху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із постійною швидкістю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і змінною швидкістю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пособом керування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тактні з релейно-контактними апаратами;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езконтактні із керуючими пристроями неперервної дії на основі магнітних підсилювачів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Прямоугольник 8"/>
          <p:cNvSpPr/>
          <p:nvPr/>
        </p:nvSpPr>
        <p:spPr>
          <a:xfrm>
            <a:off x="81000" y="6093000"/>
            <a:ext cx="8956800" cy="670680"/>
          </a:xfrm>
          <a:prstGeom prst="rect">
            <a:avLst/>
          </a:prstGeom>
          <a:solidFill>
            <a:srgbClr val="dff5ef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якості виконавчих двигунів використовують однофазні, двохфазні та трьохфазні короткозамкнуті асинхронні двигуни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7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8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8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9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3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1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31T06:57:52Z</dcterms:created>
  <dc:creator>Master</dc:creator>
  <dc:description/>
  <dc:language>en-US</dc:language>
  <cp:lastModifiedBy>Master</cp:lastModifiedBy>
  <dcterms:modified xsi:type="dcterms:W3CDTF">2019-01-30T07:20:56Z</dcterms:modified>
  <cp:revision>80</cp:revision>
  <dc:subject/>
  <dc:title>ПІДСИЛЮВАЛЬНІ ПРИСТРОЇ</dc:title>
</cp:coreProperties>
</file>