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33.wmf" ContentType="image/x-wmf"/>
  <Override PartName="/ppt/media/image5.png" ContentType="image/png"/>
  <Override PartName="/ppt/media/image4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4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33D-C603-42AE-8F08-AED160CF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027-BF98-47EB-BBFF-2A77084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D4E-480E-4795-AF6C-9C1C8574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C2B-9273-4074-AB12-323A3127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827-04E8-42C7-A089-709691E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ED53-8E5D-41F4-842D-4F5EDCD1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983-0BE4-41D0-84D3-6CCED43F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5021-33F9-4FA5-A396-CAD9A5DC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56F3-D9B7-416E-AE62-1895D64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FB6B-56D4-402F-904D-EA4FB00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7979-344A-47BE-9B31-C5DCF17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792-3928-430D-8076-5BB55857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5670-D94D-452A-84D3-4EE898D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79BE-2761-42A8-860D-1A07B8F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32E7-5700-402D-B2ED-DFA0E97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FE6E-184A-46B7-8171-6D753125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AB4-AC63-41CB-92E0-68D129D4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DD43-F0D1-4E7B-863D-19343B48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39CE-09C1-4B64-88C3-16F0DE3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F543-A0DF-476F-A965-E0DC05B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3CFB-1127-4203-9B94-70ADB20C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0DE1-1E85-41E6-821B-92DD48B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7DD-3DB6-4E20-BE0A-C3F97154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B269-E043-405C-973A-0F1C0548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A1F8-4B99-4D58-990F-DF856FD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8866-5C6F-4FF5-913D-CF08FDD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347C-D5B4-4D78-9F71-83921B6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3C10-A605-49EB-8652-D6E4095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5675-9C02-49A0-B2FC-F2B2FD88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2BC2-CAB7-4A2B-B0C3-AFE70D55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30B4-0EF9-43B4-9B83-BFD583E9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9AD6-5936-4093-ADAC-B401FC0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228C-E460-417D-9C0F-D5696B7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0B7-DCDC-4DF9-AC4C-B4BEAC8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184A-B00A-4347-AEA5-1363176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1B35-CC9F-4CF8-9ABA-96AD5D0E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EE3A-9F1B-4D54-A648-73CEDD04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7546-963D-414B-BF8F-74DCCD3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F0EE-2A76-4E89-9BE2-8F02F66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D8E4-B6E5-426B-903C-4F4216C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2EBD-7AD2-4117-9BDA-83119AB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62AD-7E06-4829-A549-1A457106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3B94-59D3-43EE-85C7-80C742FD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663-930F-4341-A3FA-471F707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EF3-DC59-4C53-BA51-B518815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1CB-15CF-490A-BCBD-DFB0AAF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EBE-D5B1-457A-BED1-BEDAC06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15B-7064-401D-9C3A-2500EC9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F6C-CC37-4C2E-836B-E18E0A39FF43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AD60-5163-421A-822F-782E08A04F75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D39A-B24D-4258-BB57-8A8BDC04207E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11B-88D0-468E-8B54-EE3CFFD49A4E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49120" y="-55440"/>
            <a:ext cx="8645760" cy="787320"/>
          </a:xfrm>
          <a:prstGeom prst="rect">
            <a:avLst/>
          </a:prstGeom>
          <a:ln w="0">
            <a:noFill/>
          </a:ln>
        </p:spPr>
      </p:pic>
      <p:sp>
        <p:nvSpPr>
          <p:cNvPr id="215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кутник 132"/>
          <p:cNvSpPr/>
          <p:nvPr/>
        </p:nvSpPr>
        <p:spPr>
          <a:xfrm>
            <a:off x="3959280" y="6238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91d34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кутник 26"/>
          <p:cNvSpPr/>
          <p:nvPr/>
        </p:nvSpPr>
        <p:spPr>
          <a:xfrm>
            <a:off x="171360" y="1197000"/>
            <a:ext cx="8793360" cy="1922760"/>
          </a:xfrm>
          <a:prstGeom prst="rect">
            <a:avLst/>
          </a:prstGeom>
          <a:solidFill>
            <a:srgbClr val="ffcca6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гальні відомості та класифікація реле автомати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лектромагніт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отоелектрич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невматичні та гідравліч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лектромагнітні крокові шукач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solidFill>
            <a:srgbClr val="b8c2e9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2" descr="rele"/>
          <p:cNvPicPr/>
          <p:nvPr/>
        </p:nvPicPr>
        <p:blipFill>
          <a:blip r:embed="rId1"/>
          <a:stretch/>
        </p:blipFill>
        <p:spPr>
          <a:xfrm>
            <a:off x="179280" y="549360"/>
            <a:ext cx="3529080" cy="3527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DOC000153443"/>
          <p:cNvPicPr/>
          <p:nvPr/>
        </p:nvPicPr>
        <p:blipFill>
          <a:blip r:embed="rId2"/>
          <a:stretch/>
        </p:blipFill>
        <p:spPr>
          <a:xfrm>
            <a:off x="539640" y="4076640"/>
            <a:ext cx="4060800" cy="259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electromagnetic-relay"/>
          <p:cNvPicPr/>
          <p:nvPr/>
        </p:nvPicPr>
        <p:blipFill>
          <a:blip r:embed="rId3"/>
          <a:stretch/>
        </p:blipFill>
        <p:spPr>
          <a:xfrm>
            <a:off x="4788000" y="54936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96920" y="592200"/>
            <a:ext cx="5022720" cy="53510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 дії поляризованих реле. Якщо струму в робочій обмотці нема, то якір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аходиться в нейтральному поло-женні, тому що магнітні поток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створювані постійними магнітами, рівні і протилежні. Контактна груп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е знахо-дитися в розімкнутому стані. При подачі в робочу обмотку струму тієї чи іншої по-лярності виникає потік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що накладаєть-ся на поток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з одним сумується, а від іншого віднімається). Рівновага пору-шується, якір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ритягається до магніту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, повертаючись на ос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икає ліву чи праву пару контактів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створення потоків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ожуть бути використані електромагні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0" name="Групувати 7"/>
          <p:cNvGrpSpPr/>
          <p:nvPr/>
        </p:nvGrpSpPr>
        <p:grpSpPr>
          <a:xfrm>
            <a:off x="5292720" y="620640"/>
            <a:ext cx="3743280" cy="6008760"/>
            <a:chOff x="5292720" y="620640"/>
            <a:chExt cx="3743280" cy="6008760"/>
          </a:xfrm>
        </p:grpSpPr>
        <p:sp>
          <p:nvSpPr>
            <p:cNvPr id="321" name="Прямоугольник 6"/>
            <p:cNvSpPr/>
            <p:nvPr/>
          </p:nvSpPr>
          <p:spPr>
            <a:xfrm>
              <a:off x="5364000" y="620640"/>
              <a:ext cx="3538800" cy="703800"/>
            </a:xfrm>
            <a:prstGeom prst="rect">
              <a:avLst/>
            </a:prstGeom>
            <a:solidFill>
              <a:srgbClr val="ffcca6"/>
            </a:solidFill>
            <a:ln w="15840">
              <a:solidFill>
                <a:srgbClr val="bb5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Конструктивна сема поляризованих реле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22" name="Picture 7" descr="Реле1"/>
            <p:cNvPicPr/>
            <p:nvPr/>
          </p:nvPicPr>
          <p:blipFill>
            <a:blip r:embed="rId1"/>
            <a:stretch/>
          </p:blipFill>
          <p:spPr>
            <a:xfrm>
              <a:off x="5292720" y="1340640"/>
              <a:ext cx="3743280" cy="528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ОЛЯРИЗОВА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5" name="Picture 2" descr="rp4"/>
          <p:cNvPicPr/>
          <p:nvPr/>
        </p:nvPicPr>
        <p:blipFill>
          <a:blip r:embed="rId1"/>
          <a:srcRect l="13152" t="9449" r="8768" b="3150"/>
          <a:stretch/>
        </p:blipFill>
        <p:spPr>
          <a:xfrm>
            <a:off x="250920" y="692280"/>
            <a:ext cx="3457440" cy="5384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220px-Relais_%28Telegrafenrelais_1%29"/>
          <p:cNvPicPr/>
          <p:nvPr/>
        </p:nvPicPr>
        <p:blipFill>
          <a:blip r:embed="rId2"/>
          <a:srcRect l="8857" t="5154" r="11072" b="5154"/>
          <a:stretch/>
        </p:blipFill>
        <p:spPr>
          <a:xfrm>
            <a:off x="6084720" y="620640"/>
            <a:ext cx="27720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 ЗМІННОГО СТРУМ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108000" y="495360"/>
            <a:ext cx="8928000" cy="51627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електромагнітних реле змінн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струму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сердя набирається з листової тран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форматорної сталі з метою зменшенн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трат на вихрові струми. Для усунення віб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ації контактів, що викликається періодич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ою зміною значення і напрямку синусої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ального струму, а отже, і зусилля, створю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аного його магнітним полем, на торец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електромагніта насаджується мідний корот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о замкнутий виток. Магнітний по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поді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ляється на два складових потоки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 По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наводить у коротко замкнутому витк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трум, магнітний по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якого сумується з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током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віднімається від потоку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 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езультаті виходять потоки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зсунут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дин відносно іншого на деякий кут. Кожний з потоків створює тягове зусилля, а їхнє результуюче зусилля буде мати тим менше пульсацій, чим більший кут взаєм-ного зсуву потоків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10" descr="Реле3"/>
          <p:cNvPicPr/>
          <p:nvPr/>
        </p:nvPicPr>
        <p:blipFill>
          <a:blip r:embed="rId1"/>
          <a:stretch/>
        </p:blipFill>
        <p:spPr>
          <a:xfrm>
            <a:off x="4859280" y="549360"/>
            <a:ext cx="4183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 ЗМІННОГО СТРУМ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3" name="Picture 10" descr="15818"/>
          <p:cNvPicPr/>
          <p:nvPr/>
        </p:nvPicPr>
        <p:blipFill>
          <a:blip r:embed="rId1"/>
          <a:srcRect l="9737" t="3307" r="12392" b="5197"/>
          <a:stretch/>
        </p:blipFill>
        <p:spPr>
          <a:xfrm>
            <a:off x="108000" y="476280"/>
            <a:ext cx="2744640" cy="3024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1936-982-large"/>
          <p:cNvPicPr/>
          <p:nvPr/>
        </p:nvPicPr>
        <p:blipFill>
          <a:blip r:embed="rId2"/>
          <a:srcRect l="21416" t="6299" r="13857" b="2520"/>
          <a:stretch/>
        </p:blipFill>
        <p:spPr>
          <a:xfrm>
            <a:off x="2916360" y="476280"/>
            <a:ext cx="2160360" cy="3043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3126-2"/>
          <p:cNvPicPr/>
          <p:nvPr/>
        </p:nvPicPr>
        <p:blipFill>
          <a:blip r:embed="rId3"/>
          <a:srcRect l="3539" t="2571" r="2654" b="5142"/>
          <a:stretch/>
        </p:blipFill>
        <p:spPr>
          <a:xfrm>
            <a:off x="324000" y="3573360"/>
            <a:ext cx="4679640" cy="3171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1801535i"/>
          <p:cNvPicPr/>
          <p:nvPr/>
        </p:nvPicPr>
        <p:blipFill>
          <a:blip r:embed="rId4"/>
          <a:srcRect l="5062" t="3543" r="7593" b="2835"/>
          <a:stretch/>
        </p:blipFill>
        <p:spPr>
          <a:xfrm>
            <a:off x="5364000" y="620640"/>
            <a:ext cx="359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0"/>
          <p:cNvSpPr/>
          <p:nvPr/>
        </p:nvSpPr>
        <p:spPr>
          <a:xfrm>
            <a:off x="115920" y="5300640"/>
            <a:ext cx="8920080" cy="1646280"/>
          </a:xfrm>
          <a:prstGeom prst="rect">
            <a:avLst/>
          </a:prstGeom>
          <a:solidFill>
            <a:srgbClr val="caf297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трум, що протікає по котушці, при подачі сигналу на вхід реле, створює маг-нітний потік, що замикається усередині котушки по пластинках, що намагнічують-ся і здобувають протилежну полярність. Між пластинками виникають сили притя-гання, вони замикаються, і на виході з'являється сигнал. При знятті вхідного сиг-налу пластини повертаються у вихідне положе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Реле з магнітокерованими конта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108000" y="476280"/>
            <a:ext cx="8928000" cy="1920600"/>
          </a:xfrm>
          <a:prstGeom prst="rect">
            <a:avLst/>
          </a:prstGeom>
          <a:solidFill>
            <a:srgbClr val="beebdf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Реле з магнітокерованими контакт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називані також герконами (гермети-зовані контакти), являють собою скляну ампулу, з якої викачане повітря –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акуумні геркон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заповнену інертним газом (азотом, аргоном) –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газонаповнені геркон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ампулу упаяні тонкі пружні феромагнітні пластинки (електрод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о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ують одночасно роль контактів, пружних елементів і частини магнітопровода. На пласти-ни герконів наносять покриття з добре провідних матеріалів (срібла, золота, родію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7" name="Picture 27" descr="36230_html_m27fef5b3"/>
          <p:cNvPicPr/>
          <p:nvPr/>
        </p:nvPicPr>
        <p:blipFill>
          <a:blip r:embed="rId1"/>
          <a:stretch/>
        </p:blipFill>
        <p:spPr>
          <a:xfrm>
            <a:off x="676440" y="2138400"/>
            <a:ext cx="76309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Реле з магнітокерованими конта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Прямоугольник 20"/>
          <p:cNvSpPr/>
          <p:nvPr/>
        </p:nvSpPr>
        <p:spPr>
          <a:xfrm>
            <a:off x="179280" y="3789360"/>
            <a:ext cx="8785440" cy="823320"/>
          </a:xfrm>
          <a:prstGeom prst="rect">
            <a:avLst/>
          </a:prstGeom>
          <a:solidFill>
            <a:srgbClr val="4fadf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ипускаються різні типи реле з герконами: РЭС42 - з одним контактом КЭМ-2; РЭС43 - із двома контактами КЭМ-2; РЭС44 - із трьома контактами КЭМ-2 і і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0" name="Picture 21" descr="beginner109-2"/>
          <p:cNvPicPr/>
          <p:nvPr/>
        </p:nvPicPr>
        <p:blipFill>
          <a:blip r:embed="rId1"/>
          <a:stretch/>
        </p:blipFill>
        <p:spPr>
          <a:xfrm>
            <a:off x="179280" y="4292640"/>
            <a:ext cx="8785440" cy="24303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21"/>
          <p:cNvSpPr/>
          <p:nvPr/>
        </p:nvSpPr>
        <p:spPr>
          <a:xfrm>
            <a:off x="108000" y="476280"/>
            <a:ext cx="8928000" cy="1646280"/>
          </a:xfrm>
          <a:prstGeom prst="rect">
            <a:avLst/>
          </a:prstGeom>
          <a:solidFill>
            <a:srgbClr val="12b2eb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мисловість випускає ряд типів герконів (КЭМ-1, КЭМ-2, КЭМ-3, МК4, МКВ, МКП, МУП, МКО ін.) з розмірами ампули: довжиною 20...50 мм і діаметром кілька міліметрів. Сила, що намагнічує, коливається від 25 А (для МКО) до 250 А - (для МКП), час спрацювання 50...2500 мкс, струм, що комутується до 1,0 А і більше при напрузі до 50...60 В, число спрацювань 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..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rebuchet MS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опір контактного переходу 0,05...0,2 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22" descr="gerkon1"/>
          <p:cNvPicPr/>
          <p:nvPr/>
        </p:nvPicPr>
        <p:blipFill>
          <a:blip r:embed="rId2"/>
          <a:stretch/>
        </p:blipFill>
        <p:spPr>
          <a:xfrm>
            <a:off x="108000" y="2133720"/>
            <a:ext cx="4189320" cy="1655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3" descr="1-gruppe-switches_15"/>
          <p:cNvPicPr/>
          <p:nvPr/>
        </p:nvPicPr>
        <p:blipFill>
          <a:blip r:embed="rId3"/>
          <a:stretch/>
        </p:blipFill>
        <p:spPr>
          <a:xfrm>
            <a:off x="5724360" y="1844640"/>
            <a:ext cx="31449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Trebuchet MS"/>
              </a:rPr>
              <a:t>Фотоелектри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179280" y="476280"/>
            <a:ext cx="7272360" cy="5490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Фотореле служить для автоматичного керування освітлення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108000" y="765000"/>
            <a:ext cx="8928000" cy="16308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фотореле входять такі елементи: блок живлення, фоторезистор СФК-2, стру-мовий ключ та виконавче електромагнітне реле KV. Блок живлення складається з діодного моста V1 – V4, стабілітрона V5, конденсатора С1, що служить для обмеження струму в ко-лі живлення, резисторів R2 та R1, що служать для обмеження струму в колі стабілітрона V5, в момент вмикання фотореле та розряджання конденсатора С1 при вимкненні. Струмо-вий ключ побудований на транзисторах VТ1 та VТ2, резисторах R3 - R8 та тиристорі V5. Для включення фотореле служить тумблер SA1.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9" name="Object 14"/>
          <p:cNvGraphicFramePr/>
          <p:nvPr/>
        </p:nvGraphicFramePr>
        <p:xfrm>
          <a:off x="108000" y="2421000"/>
          <a:ext cx="878688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421000"/>
                    <a:ext cx="87868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Прямокутник 15"/>
          <p:cNvSpPr/>
          <p:nvPr/>
        </p:nvSpPr>
        <p:spPr>
          <a:xfrm>
            <a:off x="108000" y="5157720"/>
            <a:ext cx="8928000" cy="1630800"/>
          </a:xfrm>
          <a:prstGeom prst="rect">
            <a:avLst/>
          </a:prstGeom>
          <a:solidFill>
            <a:srgbClr val="b8c2e9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реле працює таким чином. При зменшенні освітленості опір фоторе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рос-тає із 1...2 кОм до 3...5 кОм, що призводить до зростання колекторних струмів транзисто-рі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відкриття тир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6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цьому спрацьовує виконавче електромагнітне рел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е вмикає освітлення. При збільшенні освітленості опір фоторе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мен-шується, зменшується і колекторний струм тран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2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 призводить до закриття тир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6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відпускання виконавчого електромагнітного рел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е вимикає освіт-лення. Поріг спрацювання фотореле встановлюється резистором змінного опору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Trebuchet MS"/>
              </a:rPr>
              <a:t>Фотоелектри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5219640" y="549360"/>
            <a:ext cx="3816360" cy="27435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Фотореле (автомат светлочутли-вий), суміщений з таймером АСТ-10 призначене для автоматичного вмикання і вимикання вуличного освітлення, а також може служити елементом автоматичного керування в системах промислової та побутової автомати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6" name="Picture 2" descr="419480"/>
          <p:cNvPicPr/>
          <p:nvPr/>
        </p:nvPicPr>
        <p:blipFill>
          <a:blip r:embed="rId1"/>
          <a:stretch/>
        </p:blipFill>
        <p:spPr>
          <a:xfrm>
            <a:off x="108000" y="549360"/>
            <a:ext cx="2311200" cy="2860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13498_0"/>
          <p:cNvPicPr/>
          <p:nvPr/>
        </p:nvPicPr>
        <p:blipFill>
          <a:blip r:embed="rId2"/>
          <a:srcRect l="18172" t="16355" r="18172" b="16355"/>
          <a:stretch/>
        </p:blipFill>
        <p:spPr>
          <a:xfrm>
            <a:off x="2484360" y="549360"/>
            <a:ext cx="2656080" cy="2808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%d1%84%d0%be%d1%82%d0%be%d1%80%d0%be%d0%bb%d0%b5-%d1%81-%d0%b2%d1%8b%d0%bd%d0%be%d1%81%d0%bd%d1%8b%d0%bc-%d0%b4%d0%b0%d1%82%d1%87%d0%b8%d0%ba%d0%be%d0%bc"/>
          <p:cNvPicPr/>
          <p:nvPr/>
        </p:nvPicPr>
        <p:blipFill>
          <a:blip r:embed="rId3"/>
          <a:srcRect l="10754" t="8450" r="10754" b="7682"/>
          <a:stretch/>
        </p:blipFill>
        <p:spPr>
          <a:xfrm>
            <a:off x="108000" y="3471840"/>
            <a:ext cx="3024000" cy="3232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fr_7e"/>
          <p:cNvPicPr/>
          <p:nvPr/>
        </p:nvPicPr>
        <p:blipFill>
          <a:blip r:embed="rId4"/>
          <a:srcRect l="1783" t="3705" r="1783" b="5558"/>
          <a:stretch/>
        </p:blipFill>
        <p:spPr>
          <a:xfrm>
            <a:off x="5078520" y="3243240"/>
            <a:ext cx="38322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92"/>
          <p:cNvSpPr/>
          <p:nvPr/>
        </p:nvSpPr>
        <p:spPr>
          <a:xfrm>
            <a:off x="252360" y="936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Пневматичні та гідравлі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73080" y="471600"/>
            <a:ext cx="6370560" cy="5490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значені для контролю та двохпозиційного регулю-вання тиску рідких та газоподібних середовищ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3048120" y="1268280"/>
            <a:ext cx="3468600" cy="3292200"/>
          </a:xfrm>
          <a:prstGeom prst="rect">
            <a:avLst/>
          </a:prstGeom>
          <a:solidFill>
            <a:srgbClr val="ffc00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еле тиску застосовується для послідовного вмикання або вимикання окремих виконавчих органів машин та для здійснення дистанційного керування. Реле тиску може забезпечити контроль за тиском у гідросистемі із подачею електричного сигналу що свідчить наприклад про перевантаження систе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5" name="Picture 11" descr="dem102"/>
          <p:cNvPicPr/>
          <p:nvPr/>
        </p:nvPicPr>
        <p:blipFill>
          <a:blip r:embed="rId1"/>
          <a:stretch/>
        </p:blipFill>
        <p:spPr>
          <a:xfrm>
            <a:off x="6516720" y="0"/>
            <a:ext cx="2475000" cy="3762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image_21"/>
          <p:cNvPicPr/>
          <p:nvPr/>
        </p:nvPicPr>
        <p:blipFill>
          <a:blip r:embed="rId2"/>
          <a:stretch/>
        </p:blipFill>
        <p:spPr>
          <a:xfrm>
            <a:off x="108000" y="1125360"/>
            <a:ext cx="2859120" cy="3240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image_26"/>
          <p:cNvPicPr/>
          <p:nvPr/>
        </p:nvPicPr>
        <p:blipFill>
          <a:blip r:embed="rId3"/>
          <a:stretch/>
        </p:blipFill>
        <p:spPr>
          <a:xfrm>
            <a:off x="179280" y="4437000"/>
            <a:ext cx="2664000" cy="23367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кутник 13"/>
          <p:cNvSpPr/>
          <p:nvPr/>
        </p:nvSpPr>
        <p:spPr>
          <a:xfrm>
            <a:off x="2843280" y="4365720"/>
            <a:ext cx="3024000" cy="2194920"/>
          </a:xfrm>
          <a:prstGeom prst="rect">
            <a:avLst/>
          </a:prstGeom>
          <a:solidFill>
            <a:srgbClr val="0d79ca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атчик-реле тиску ДРД призначений для сигналіза-ції надлишкового та вакуум метричного тиску газу (роз-рідження), при його зміні вище або нижче встановле-ного рів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9" name="Picture 14" descr="izipress-600x600"/>
          <p:cNvPicPr/>
          <p:nvPr/>
        </p:nvPicPr>
        <p:blipFill>
          <a:blip r:embed="rId4"/>
          <a:srcRect l="20157" t="25197" r="20157" b="25197"/>
          <a:stretch/>
        </p:blipFill>
        <p:spPr>
          <a:xfrm>
            <a:off x="6156360" y="4365720"/>
            <a:ext cx="28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92"/>
          <p:cNvSpPr/>
          <p:nvPr/>
        </p:nvSpPr>
        <p:spPr>
          <a:xfrm>
            <a:off x="28728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кутник 22"/>
          <p:cNvSpPr/>
          <p:nvPr/>
        </p:nvSpPr>
        <p:spPr>
          <a:xfrm>
            <a:off x="179280" y="485640"/>
            <a:ext cx="8856720" cy="6822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 сільськогосподарській автоматиці широкого застосування набу-ли електричні і механічні рел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кутник 35"/>
          <p:cNvSpPr/>
          <p:nvPr/>
        </p:nvSpPr>
        <p:spPr>
          <a:xfrm>
            <a:off x="179280" y="1197000"/>
            <a:ext cx="8856720" cy="98712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Реле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це пристрій, у якому при плавній зміні вхідної величини і досяг-ненні нею певного значення, вихідна величина змінюється стрибко-подіб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кутник 32"/>
          <p:cNvSpPr/>
          <p:nvPr/>
        </p:nvSpPr>
        <p:spPr>
          <a:xfrm>
            <a:off x="179280" y="2349360"/>
            <a:ext cx="8856720" cy="3772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еле класифікують за такими ознакам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кутник 33"/>
          <p:cNvSpPr/>
          <p:nvPr/>
        </p:nvSpPr>
        <p:spPr>
          <a:xfrm>
            <a:off x="179280" y="2708280"/>
            <a:ext cx="8856720" cy="152496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родом фізичних величин, на які реле реагує: електричні, механічні, магнітні, теплові, хімічні, акустичні, та ін.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араметру від якого вони спрацьовують: струмові, напруги, потужності, часу та ін.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ризначенням: захисту, керування, зв’язку, автоматики та і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179280" y="4292640"/>
            <a:ext cx="8856720" cy="1220040"/>
          </a:xfrm>
          <a:prstGeom prst="rect">
            <a:avLst/>
          </a:prstGeom>
          <a:solidFill>
            <a:srgbClr val="caf297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ектричні реле реагують на напругу, струм, потужність, поляр-ність, фазу, частоту, тривалість імпульсу, а механічні - на тиск, пере-міщення, швидкість, обертовий момент, рівень контрольованого сере-довища, температуру і т.п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179280" y="5661000"/>
            <a:ext cx="8856720" cy="610200"/>
          </a:xfrm>
          <a:prstGeom prst="rect">
            <a:avLst/>
          </a:prstGeom>
          <a:solidFill>
            <a:srgbClr val="4fadf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 будові таких реле можна виділити три основних функціональних елементи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Прямокутник 10" descr=""/>
          <p:cNvPicPr/>
          <p:nvPr/>
        </p:nvPicPr>
        <p:blipFill>
          <a:blip r:embed="rId1"/>
          <a:stretch/>
        </p:blipFill>
        <p:spPr>
          <a:xfrm>
            <a:off x="317520" y="6278400"/>
            <a:ext cx="872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108000" y="549360"/>
            <a:ext cx="8928000" cy="1164960"/>
          </a:xfrm>
          <a:prstGeom prst="rect">
            <a:avLst/>
          </a:prstGeom>
          <a:solidFill>
            <a:srgbClr val="dcf7b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Електромагнітні крокові шукач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що називаються також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кроковими розподіль-никами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служать для почергового підключення ряду вихідних електричних кіл до одного входу, тобто вони мають один вхід і декілька виходів і можуть здійснювати з'єднання цього входу з кожним з виходів. Шукач складається з трьох основних частин: контактного поля, ротора і прив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Прямоугольник 9"/>
          <p:cNvSpPr/>
          <p:nvPr/>
        </p:nvSpPr>
        <p:spPr>
          <a:xfrm>
            <a:off x="4788000" y="1700280"/>
            <a:ext cx="4248000" cy="209664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ові шукачі є електромагнітними імпульсними перемикачами, що пере-сувають контактні щітки при кожному імпульсі з одного нерухомого контакту (ламелі) на іншій. Переключення може відбуватися на початку імпульсу – шу-качі прямої дії і після закінчення імпульсу - шукачі зворотної дії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Прямоугольник 9"/>
          <p:cNvSpPr/>
          <p:nvPr/>
        </p:nvSpPr>
        <p:spPr>
          <a:xfrm>
            <a:off x="108000" y="3573360"/>
            <a:ext cx="8928000" cy="3261240"/>
          </a:xfrm>
          <a:prstGeom prst="rect">
            <a:avLst/>
          </a:prstGeom>
          <a:solidFill>
            <a:srgbClr val="dce1f4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 кроковому шукачі прямої дії ламел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озташовують по дузі. Вони займа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ють 1/3 чи 1/2 кола, і тому кожна щіт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а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кладається з трьох чи двох про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менів, зсунутих на 120° чи 180° од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ідносно іншої (у даному випадку - із двох). Коли один промінь щітки виходить з контактного ряду, іншої входить у ньо-го, роблячи комутацію безупинною. Розташовуючись по дузі кола в кілька контакт-них рядів, ламелі утворять контактне поле. Кожен контактний ряд має свою щітку, з'єднану через ковзкий контакт із виводом 7. На кожен ряд передбачена одна ну-льова ламель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0,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що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ідповідає нульовому (вихідному) положенню щітки. У даному шукачі контактне поле з чотирьох рядів і чотирьох щіто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б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в, г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що складаються з двох паралельних пружин і охоплюють ламелі з двох сторін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6" name="Picture 134" descr="Кршук"/>
          <p:cNvPicPr/>
          <p:nvPr/>
        </p:nvPicPr>
        <p:blipFill>
          <a:blip r:embed="rId1"/>
          <a:stretch/>
        </p:blipFill>
        <p:spPr>
          <a:xfrm>
            <a:off x="71280" y="1700280"/>
            <a:ext cx="4716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34" descr="Кршук"/>
          <p:cNvPicPr/>
          <p:nvPr/>
        </p:nvPicPr>
        <p:blipFill>
          <a:blip r:embed="rId1"/>
          <a:stretch/>
        </p:blipFill>
        <p:spPr>
          <a:xfrm>
            <a:off x="1258920" y="636480"/>
            <a:ext cx="6114960" cy="42022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кутник 3"/>
          <p:cNvSpPr/>
          <p:nvPr/>
        </p:nvSpPr>
        <p:spPr>
          <a:xfrm>
            <a:off x="77760" y="4869000"/>
            <a:ext cx="8958240" cy="1553400"/>
          </a:xfrm>
          <a:prstGeom prst="rect">
            <a:avLst/>
          </a:prstGeom>
          <a:solidFill>
            <a:srgbClr val="dcf7b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ри подачі імпульсу якір 4 притягається до осердя електромагніту 3 і собачка 5 штовхає зуб храпового колеса 6, жорстко з'єднаного з ро-тором та зі щітками. Ротор повертається і переводить щітки по ламелях у наступне контакт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ісля зникнення імпульсу пружина 8 повертає якір у вихід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Text Box 92"/>
          <p:cNvSpPr/>
          <p:nvPr/>
        </p:nvSpPr>
        <p:spPr>
          <a:xfrm>
            <a:off x="28404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Line 93"/>
          <p:cNvSpPr/>
          <p:nvPr/>
        </p:nvSpPr>
        <p:spPr>
          <a:xfrm>
            <a:off x="35568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2"/>
          <p:cNvSpPr/>
          <p:nvPr/>
        </p:nvSpPr>
        <p:spPr>
          <a:xfrm>
            <a:off x="28404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Line 93"/>
          <p:cNvSpPr/>
          <p:nvPr/>
        </p:nvSpPr>
        <p:spPr>
          <a:xfrm>
            <a:off x="35568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Прямокутник 7"/>
          <p:cNvSpPr/>
          <p:nvPr/>
        </p:nvSpPr>
        <p:spPr>
          <a:xfrm>
            <a:off x="104760" y="549360"/>
            <a:ext cx="8928000" cy="182988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астосовувані в практичних схемах шукачі ШИ-11, ШИ-17 (прямої дії) і ШИ-25, ШИ-50 (зворотної дії) мають у кожному контактному ряді відпо-відно по 11, 17, 25 і 50 робочих ламелей. Допустиме значення струму, що розривається контактами, складає 0,2 А, споживана електромагнітна потужність 50...70 Вт, час спрацьову-вання 0,007...0,01 с, а відпускання - 0,04...0,007 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5" name="Picture 2" descr="70242462"/>
          <p:cNvPicPr/>
          <p:nvPr/>
        </p:nvPicPr>
        <p:blipFill>
          <a:blip r:embed="rId1"/>
          <a:stretch/>
        </p:blipFill>
        <p:spPr>
          <a:xfrm>
            <a:off x="77760" y="2492280"/>
            <a:ext cx="4468680" cy="4300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937792_1"/>
          <p:cNvPicPr/>
          <p:nvPr/>
        </p:nvPicPr>
        <p:blipFill>
          <a:blip r:embed="rId2"/>
          <a:stretch/>
        </p:blipFill>
        <p:spPr>
          <a:xfrm>
            <a:off x="5508720" y="2471760"/>
            <a:ext cx="35240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5940360" y="549360"/>
            <a:ext cx="3083040" cy="6858360"/>
          </a:xfrm>
          <a:prstGeom prst="rect">
            <a:avLst/>
          </a:prstGeom>
          <a:solidFill>
            <a:srgbClr val="c8cde5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ові шукачі поділяють на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обертальн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ШИ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підйом-но-обертальн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(декадні) ДШИ. Обертальні крокові шукачі відрізняються один від одного ємністю контакт-ного поля: числом пластин у ряді і числом рядів, а також типом привода, що може бу-ти прямої і зворотної дії. Привод прямої дії здійснює рух ротора при притяганні електромагнітного якоря, а зворотної дії - при відпус-канні якоря в результаті зу-силля поворотних пружин. Залежно від числа пластин у ряді шукачам ШИ привлас-нюється той чи інший но-мер, наприклад, ШИ-17 оз-начає, що кроковий шукач має 17 пластин у ряд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2" name="Picture 10" descr="shagiskatel"/>
          <p:cNvPicPr/>
          <p:nvPr/>
        </p:nvPicPr>
        <p:blipFill>
          <a:blip r:embed="rId1"/>
          <a:srcRect l="1027" t="548" r="856" b="913"/>
          <a:stretch/>
        </p:blipFill>
        <p:spPr>
          <a:xfrm>
            <a:off x="168120" y="579600"/>
            <a:ext cx="57564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 Box 92"/>
          <p:cNvSpPr/>
          <p:nvPr/>
        </p:nvSpPr>
        <p:spPr>
          <a:xfrm>
            <a:off x="345960" y="158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93"/>
          <p:cNvSpPr/>
          <p:nvPr/>
        </p:nvSpPr>
        <p:spPr>
          <a:xfrm>
            <a:off x="287280" y="49860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кутник 35"/>
          <p:cNvSpPr/>
          <p:nvPr/>
        </p:nvSpPr>
        <p:spPr>
          <a:xfrm>
            <a:off x="108000" y="549360"/>
            <a:ext cx="8928000" cy="159696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Сприймаючий елемент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езпосередньо реагує па зовнішній контро-льований параметр і перетворює його у фізичну величину, необхідну для подальшої роботи реле (у контактних реле, як правило, у механічну си-лу). Отже, сприймаючий елемент є рушійним органом, що в електрич-них реле може бути виконаний на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108000" y="213372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Електромагніт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дукцій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Електродинаміч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4356000" y="21337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Магнітоелектрич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езонанс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ших принцип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108000" y="4437000"/>
            <a:ext cx="8928000" cy="91512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иконавчий елемент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у контактних реле - контактна система), приймає команду від проміжного, впливає на кероване коло, змінюючи його парамет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49"/>
          <p:cNvSpPr/>
          <p:nvPr/>
        </p:nvSpPr>
        <p:spPr>
          <a:xfrm>
            <a:off x="2916360" y="5013360"/>
            <a:ext cx="3168360" cy="7038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ри цьому розрізняют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1"/>
          <p:cNvSpPr/>
          <p:nvPr/>
        </p:nvSpPr>
        <p:spPr>
          <a:xfrm>
            <a:off x="108000" y="3141720"/>
            <a:ext cx="8928000" cy="1220040"/>
          </a:xfrm>
          <a:prstGeom prst="rect">
            <a:avLst/>
          </a:prstGeom>
          <a:solidFill>
            <a:srgbClr val="dcf7b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роміжний елемент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у контактних реле - пружина), одержавши від сприймаючого елемента перетворений сигнал, порівнює його з заданим і у випадку відхилення від нього формує команду на спрацьовування реле, тобто передає дію виконавчому елемент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179280" y="5445000"/>
            <a:ext cx="8856720" cy="61020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прямої дії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ли виконавчий елемент безпосередньо діє на контрольоване кол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13"/>
          <p:cNvSpPr/>
          <p:nvPr/>
        </p:nvSpPr>
        <p:spPr>
          <a:xfrm>
            <a:off x="179280" y="6093000"/>
            <a:ext cx="8856720" cy="61020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непрямої дії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ли виконавчий елемент діє на контрольоване коло через інші апара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кутник 22"/>
          <p:cNvSpPr/>
          <p:nvPr/>
        </p:nvSpPr>
        <p:spPr>
          <a:xfrm>
            <a:off x="179280" y="471600"/>
            <a:ext cx="8785440" cy="98712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Основною характеристикою реле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статична характеристика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а-лежність вихід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ід вхідної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ля більшості реле вона має гістерезисну петл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кутник 35"/>
          <p:cNvSpPr/>
          <p:nvPr/>
        </p:nvSpPr>
        <p:spPr>
          <a:xfrm>
            <a:off x="179280" y="1557360"/>
            <a:ext cx="4824360" cy="532692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арактеристика властива двох-позиційним нейтральним реле, що не реагують на знак вхідного сигналу. При зміні вхідного сигналу від 0 до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реле не змінює свого стану. Вихідний сигнал у стрибкоподібно змінюється від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до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ри досягненні вхідним сигналом порогового значення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і за-лишається незмінним, тобто            у =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t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при подальшому збіль-шенні х. При зменшенні х від значення х&gt;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до х =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у не змінюється, тобто у =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і при досягненні вхідним сигна-лом значення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вихідна величина стрибкоподібно зміниться від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до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4" name="Групувати 13"/>
          <p:cNvGrpSpPr/>
          <p:nvPr/>
        </p:nvGrpSpPr>
        <p:grpSpPr>
          <a:xfrm>
            <a:off x="5122080" y="1628640"/>
            <a:ext cx="3923640" cy="4721400"/>
            <a:chOff x="5122080" y="1628640"/>
            <a:chExt cx="3923640" cy="4721400"/>
          </a:xfrm>
        </p:grpSpPr>
        <p:pic>
          <p:nvPicPr>
            <p:cNvPr id="265" name="Picture 11" descr="Ctathar"/>
            <p:cNvPicPr/>
            <p:nvPr/>
          </p:nvPicPr>
          <p:blipFill>
            <a:blip r:embed="rId1"/>
            <a:stretch/>
          </p:blipFill>
          <p:spPr>
            <a:xfrm>
              <a:off x="5148360" y="1988640"/>
              <a:ext cx="3870720" cy="43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кутник 11"/>
            <p:cNvSpPr/>
            <p:nvPr/>
          </p:nvSpPr>
          <p:spPr>
            <a:xfrm>
              <a:off x="5122080" y="1628640"/>
              <a:ext cx="39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rebuchet MS"/>
                </a:rPr>
                <a:t>Двохпозиційне нейтральне реле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кутник 35"/>
          <p:cNvSpPr/>
          <p:nvPr/>
        </p:nvSpPr>
        <p:spPr>
          <a:xfrm>
            <a:off x="179280" y="1125360"/>
            <a:ext cx="5256360" cy="168048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ристрої такою характеристикою відріз-няються інвертуванням сигналу. Якщо вхі-дний сигнал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= 0, то вихідний сигнал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якщо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=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то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0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чи має мінімальне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кутник 32"/>
          <p:cNvSpPr/>
          <p:nvPr/>
        </p:nvSpPr>
        <p:spPr>
          <a:xfrm>
            <a:off x="3059280" y="4653000"/>
            <a:ext cx="5840280" cy="1901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Характеристика двохпозиційних релейних пристроїв із двома стійкими станами. При знятті вхідного сигналу х = 0 реле залишиться в стані, що знаходилося до цього. Зміна знака вхідного сигналу змінює знак вихідного сигнал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11" descr="Ctathar1"/>
          <p:cNvPicPr/>
          <p:nvPr/>
        </p:nvPicPr>
        <p:blipFill>
          <a:blip r:embed="rId1"/>
          <a:stretch/>
        </p:blipFill>
        <p:spPr>
          <a:xfrm>
            <a:off x="5435640" y="549360"/>
            <a:ext cx="3516120" cy="3990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кутник 13"/>
          <p:cNvSpPr/>
          <p:nvPr/>
        </p:nvSpPr>
        <p:spPr>
          <a:xfrm>
            <a:off x="1619280" y="476280"/>
            <a:ext cx="3816360" cy="64260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Двохпозиційне нейтральне реле з інвертуванням сигнал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кутник 14"/>
          <p:cNvSpPr/>
          <p:nvPr/>
        </p:nvSpPr>
        <p:spPr>
          <a:xfrm>
            <a:off x="108000" y="2924280"/>
            <a:ext cx="5256000" cy="27468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Двохпозиційне реле з двома стійкими стан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12" descr="Ctathar2"/>
          <p:cNvPicPr/>
          <p:nvPr/>
        </p:nvPicPr>
        <p:blipFill>
          <a:blip r:embed="rId2"/>
          <a:stretch/>
        </p:blipFill>
        <p:spPr>
          <a:xfrm>
            <a:off x="179280" y="3213000"/>
            <a:ext cx="28083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7" name="Групувати 10"/>
          <p:cNvGrpSpPr/>
          <p:nvPr/>
        </p:nvGrpSpPr>
        <p:grpSpPr>
          <a:xfrm>
            <a:off x="4427640" y="549360"/>
            <a:ext cx="4537080" cy="5567400"/>
            <a:chOff x="4427640" y="549360"/>
            <a:chExt cx="4537080" cy="5567400"/>
          </a:xfrm>
        </p:grpSpPr>
        <p:sp>
          <p:nvSpPr>
            <p:cNvPr id="278" name="Прямокутник 5"/>
            <p:cNvSpPr/>
            <p:nvPr/>
          </p:nvSpPr>
          <p:spPr>
            <a:xfrm>
              <a:off x="4427640" y="549360"/>
              <a:ext cx="45370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Характеристика трьохпозиційного ре-лейного елемента із зоною нечутли-вості і з неоднозначною залежністю сигналу на виході від вхідного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79" name="Picture 2" descr="Ctathar3"/>
            <p:cNvPicPr/>
            <p:nvPr/>
          </p:nvPicPr>
          <p:blipFill>
            <a:blip r:embed="rId1"/>
            <a:stretch/>
          </p:blipFill>
          <p:spPr>
            <a:xfrm>
              <a:off x="5075640" y="1845000"/>
              <a:ext cx="3457080" cy="42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Групувати 9"/>
          <p:cNvGrpSpPr/>
          <p:nvPr/>
        </p:nvGrpSpPr>
        <p:grpSpPr>
          <a:xfrm>
            <a:off x="179280" y="549360"/>
            <a:ext cx="4032360" cy="5192280"/>
            <a:chOff x="179280" y="549360"/>
            <a:chExt cx="4032360" cy="5192280"/>
          </a:xfrm>
        </p:grpSpPr>
        <p:pic>
          <p:nvPicPr>
            <p:cNvPr id="281" name="Picture 3" descr="Ctathar4"/>
            <p:cNvPicPr/>
            <p:nvPr/>
          </p:nvPicPr>
          <p:blipFill>
            <a:blip r:embed="rId2"/>
            <a:stretch/>
          </p:blipFill>
          <p:spPr>
            <a:xfrm>
              <a:off x="395280" y="1485000"/>
              <a:ext cx="3456360" cy="42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кутник 8"/>
            <p:cNvSpPr/>
            <p:nvPr/>
          </p:nvSpPr>
          <p:spPr>
            <a:xfrm>
              <a:off x="179280" y="549360"/>
              <a:ext cx="403236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Характеристика трьохпозиційного релейного елемента із зоною нечутливості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кутник 35"/>
          <p:cNvSpPr/>
          <p:nvPr/>
        </p:nvSpPr>
        <p:spPr>
          <a:xfrm>
            <a:off x="179280" y="549360"/>
            <a:ext cx="8856720" cy="61020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о основних параметрів, що характеризують роботу реле, відносятьс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кутник 32"/>
          <p:cNvSpPr/>
          <p:nvPr/>
        </p:nvSpPr>
        <p:spPr>
          <a:xfrm>
            <a:off x="108000" y="907920"/>
            <a:ext cx="8928000" cy="159696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Параметр спрацюва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мінімальне значення вхідного сигналу, при якому реле діє (спрацьовує). Цей параметр характеризує чутливість реле. Наприклад, у струмових реле параметр спрацювання складає від десятків мікроамперів до десятків ампері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Прямокутник 32"/>
          <p:cNvSpPr/>
          <p:nvPr/>
        </p:nvSpPr>
        <p:spPr>
          <a:xfrm>
            <a:off x="108000" y="2205000"/>
            <a:ext cx="892800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Параметр відпуска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максимальне значення вхідного сигналу, при якому реле повертається у вихід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кутник 32"/>
          <p:cNvSpPr/>
          <p:nvPr/>
        </p:nvSpPr>
        <p:spPr>
          <a:xfrm>
            <a:off x="108000" y="2924280"/>
            <a:ext cx="8928000" cy="98712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поверне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являє собою відношення параметрів відпус-кання і спрацьовування. В електричних реле він завжди менше одиниці (від 0,4 в електромагнітних до 0,99 в електронних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3276720" y="3933720"/>
                <a:ext cx="2879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ідп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р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Прямокутник 32"/>
          <p:cNvSpPr/>
          <p:nvPr/>
        </p:nvSpPr>
        <p:spPr>
          <a:xfrm>
            <a:off x="108000" y="4508640"/>
            <a:ext cx="8928000" cy="98712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Робочий параметр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найбільше значення вхідної величини, при якому реле тривалий час знаходиться у включеному стані і працює нормально (сприймаючий елемент не перегрівається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кутник 32"/>
          <p:cNvSpPr/>
          <p:nvPr/>
        </p:nvSpPr>
        <p:spPr>
          <a:xfrm>
            <a:off x="108000" y="5516640"/>
            <a:ext cx="892800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запасу при спрацюванн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(він завжди більший одиниці) - це відношення робочого параметра до параметра спрацюванн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8"/>
              <p:cNvSpPr txBox="1"/>
              <p:nvPr/>
            </p:nvSpPr>
            <p:spPr>
              <a:xfrm>
                <a:off x="2843280" y="6165720"/>
                <a:ext cx="2651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С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р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Прямоугольник 3"/>
          <p:cNvSpPr/>
          <p:nvPr/>
        </p:nvSpPr>
        <p:spPr>
          <a:xfrm>
            <a:off x="69840" y="549360"/>
            <a:ext cx="8966160" cy="91512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запасу при відпусканні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(поверненні)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(він завжди менший одиниці) - це відношення параметра відпускання до робочого парамет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108000" y="1557360"/>
            <a:ext cx="8928000" cy="65196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 спрацюва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іод від моменту надходження сигналу на сприймаю-чий елемент до моменту появи сигналу в керованому колі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5"/>
          <p:cNvSpPr/>
          <p:nvPr/>
        </p:nvSpPr>
        <p:spPr>
          <a:xfrm>
            <a:off x="108000" y="2205000"/>
            <a:ext cx="8928000" cy="203868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спрацювання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реле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інерційн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,001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идкодіюч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,05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5...0,25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вільненого дії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...1,0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имки часу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1,0 с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77760" y="4221000"/>
            <a:ext cx="8967960" cy="956880"/>
          </a:xfrm>
          <a:prstGeom prst="rect">
            <a:avLst/>
          </a:prstGeom>
          <a:solidFill>
            <a:srgbClr val="f9b3a7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 відпуска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П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іод від моменту зняття сигналу, що діє на сприйма-ючий елемент до моменту припинення дії виконавчого елемента на кероване кол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108000" y="4869000"/>
            <a:ext cx="8928000" cy="642600"/>
          </a:xfrm>
          <a:prstGeom prst="rect">
            <a:avLst/>
          </a:prstGeom>
          <a:solidFill>
            <a:srgbClr val="d85c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значення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відпуск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е поділяють на ті ж категорії що і за часом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цюва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108000" y="5661000"/>
            <a:ext cx="8928000" cy="91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rebuchet MS"/>
              </a:rPr>
              <a:t>Термін служби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- допустиме число спрацювань реле (для різних реле число спрацьовувань може складати від декількох тисяч до декількох десятків мільйонів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3564000" y="1125360"/>
                <a:ext cx="2151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В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ідп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69840" y="549360"/>
            <a:ext cx="8966160" cy="610200"/>
          </a:xfrm>
          <a:prstGeom prst="rect">
            <a:avLst/>
          </a:prstGeom>
          <a:solidFill>
            <a:srgbClr val="81d31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Електромагнітне реле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типовий і найбільш розповсюджений вид електричних рел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08000" y="1197000"/>
            <a:ext cx="5111640" cy="3624120"/>
          </a:xfrm>
          <a:prstGeom prst="rect">
            <a:avLst/>
          </a:prstGeom>
          <a:solidFill>
            <a:srgbClr val="8cc9f7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е рел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панного типу міс-тить скоб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рд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юсний наконечник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котушку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 і осердя виготовлені з магнітом’якого матеріалу. Коли по обмотці реле протікає струм, якір притягається до осердя, повертається відносно призм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діє на замикання контакт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зникненні стру-му якір і контакти повертаються у вихідне по-ложення зусиллям пруж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чник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блений з немагнітного матеріалу (латунь чи мідь), щоб під впливом залишкового магнітно-го потоку якір після відключення струму не залишався притягнутим до осерд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18" descr="Реле"/>
          <p:cNvPicPr/>
          <p:nvPr/>
        </p:nvPicPr>
        <p:blipFill>
          <a:blip r:embed="rId1"/>
          <a:stretch/>
        </p:blipFill>
        <p:spPr>
          <a:xfrm>
            <a:off x="5219640" y="907920"/>
            <a:ext cx="3816360" cy="39610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кутник 20"/>
          <p:cNvSpPr/>
          <p:nvPr/>
        </p:nvSpPr>
        <p:spPr>
          <a:xfrm>
            <a:off x="108000" y="4869000"/>
            <a:ext cx="8928000" cy="610200"/>
          </a:xfrm>
          <a:prstGeom prst="rect">
            <a:avLst/>
          </a:prstGeom>
          <a:solidFill>
            <a:srgbClr val="9ee2c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і реле можуть бути постійного і змінного струму промислової і високої часто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Прямокутник 21"/>
          <p:cNvSpPr/>
          <p:nvPr/>
        </p:nvSpPr>
        <p:spPr>
          <a:xfrm>
            <a:off x="108000" y="5516640"/>
            <a:ext cx="8928000" cy="1220040"/>
          </a:xfrm>
          <a:prstGeom prst="rect">
            <a:avLst/>
          </a:prstGeom>
          <a:solidFill>
            <a:srgbClr val="9ee2c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постійного струму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поділяються на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нейтральні і поляризовані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У нейтральних реле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сприймаючий орган однаково реагує на постійний струм незалежно від його полярності, а в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оляризованих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олярність сиг-налу впливає на напрямок зусилля, що діє на які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6:57:52Z</dcterms:created>
  <dc:creator>Master</dc:creator>
  <dc:description/>
  <dc:language>en-US</dc:language>
  <cp:lastModifiedBy>Master</cp:lastModifiedBy>
  <dcterms:modified xsi:type="dcterms:W3CDTF">2015-11-29T19:29:35Z</dcterms:modified>
  <cp:revision>74</cp:revision>
  <dc:subject/>
  <dc:title>ПІДСИЛЮВАЛЬНІ ПРИСТРОЇ</dc:title>
</cp:coreProperties>
</file>