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38A-8921-406C-B95D-3C202542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BD7A-40A6-4FA3-9220-39912761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7FE-BE7C-4746-95E7-2EEF5697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452-1A59-4A48-BC6E-8B09DAB6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A59C-0AD8-4E09-82CA-656473EA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01E-5419-4E88-BA22-7F823C0D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5684-04B6-43DA-9681-CB3B9AFF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F33-4E07-4594-8BA0-3BF463F4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46A2-2763-4F47-A5F6-BAD485FB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2E8B-C0ED-4AB9-85B6-0AE56E9F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AE8C-7C06-48ED-9091-F506587A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2FF5-3DE8-4636-BD9A-601B8D20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2C04-E218-4FA7-B4CA-819F4C860D3E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2"/>
          <p:cNvSpPr/>
          <p:nvPr/>
        </p:nvSpPr>
        <p:spPr>
          <a:xfrm>
            <a:off x="108000" y="189000"/>
            <a:ext cx="89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1f497d"/>
                </a:solidFill>
                <a:uFillTx/>
                <a:latin typeface="Arial"/>
              </a:rPr>
              <a:t>ПОНЯТТЯ ПРО СИСТЕМУ АВТОМАТИЧНОГО КЕРУВАННЯ ТА ЇЇ СТРУКТУР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кутник 132"/>
          <p:cNvSpPr/>
          <p:nvPr/>
        </p:nvSpPr>
        <p:spPr>
          <a:xfrm>
            <a:off x="3922560" y="1012680"/>
            <a:ext cx="1297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кутник 142"/>
          <p:cNvSpPr/>
          <p:nvPr/>
        </p:nvSpPr>
        <p:spPr>
          <a:xfrm>
            <a:off x="179280" y="3284640"/>
            <a:ext cx="8785440" cy="32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терату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томатизація технологічних процесів і виробництв харчової промисловос-ті: Підручник/ Ландюк А. П., Трегуб В. Г., Ельперін І. В., Цюцюра В. Д. – К.: Аграрна освіта, 2001. – 224 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ка и автоматизация мобильных сельскохозяйственных машин: Учеб. Пособ./ Г.Р.Носов, В.А. Кондратец, Л.Г. Сакало, Л.И. Середа; Ред. Г.Р.Носов. – К.: Вища школа, 1984. – 248 c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втоматика и автоматизация производственных процессов: учеб. пособие для студентов с.-х. учеб. заведений/ И. И. Мартыненко, Б. Л. Головинский, Р. Д. Проценко, Т, Ф. Резниченко. – М. : Агропромиздат, 1985. – 334 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кутник 26"/>
          <p:cNvSpPr/>
          <p:nvPr/>
        </p:nvSpPr>
        <p:spPr>
          <a:xfrm>
            <a:off x="250920" y="144792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Роль вітчизняних вчених у розвитку автоматизації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Особливості автоматизації сільськогосподарського виробниц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Основні поняття і визначення автоматизації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Задачі автоматичного керува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6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6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6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6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6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кутник 129"/>
          <p:cNvSpPr/>
          <p:nvPr/>
        </p:nvSpPr>
        <p:spPr>
          <a:xfrm>
            <a:off x="111240" y="692280"/>
            <a:ext cx="8920080" cy="10778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 с/г виробництві використовується безліч машин, установок, призна-чених для виконання різноманітних функцій. Керування машиною направлено на досягнення певної мети, для якої ця машина створе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92"/>
          <p:cNvSpPr/>
          <p:nvPr/>
        </p:nvSpPr>
        <p:spPr>
          <a:xfrm>
            <a:off x="76320" y="93600"/>
            <a:ext cx="89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Задачі автоматичного керу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93"/>
          <p:cNvSpPr/>
          <p:nvPr/>
        </p:nvSpPr>
        <p:spPr>
          <a:xfrm>
            <a:off x="189000" y="61740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кутник 129"/>
          <p:cNvSpPr/>
          <p:nvPr/>
        </p:nvSpPr>
        <p:spPr>
          <a:xfrm>
            <a:off x="111240" y="1781280"/>
            <a:ext cx="8920080" cy="141300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Сукупність правил, положень або математичних залежностей, що виз-начають послідовність зміни вихідної величини, яка відповідає нормаль-ному функціонуванню об'єкта, називає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лгоритмом функціонування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(АФ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кутник 129"/>
          <p:cNvSpPr/>
          <p:nvPr/>
        </p:nvSpPr>
        <p:spPr>
          <a:xfrm>
            <a:off x="117360" y="2886120"/>
            <a:ext cx="8918640" cy="1077840"/>
          </a:xfrm>
          <a:prstGeom prst="rect">
            <a:avLst/>
          </a:prstGeom>
          <a:solidFill>
            <a:srgbClr val="00b0f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Ф відображає і представляє фактичну мету керування і визначається на основі технологічних, економічних і інших вимог зміни вихідної вели-чини об'єкту в процесі його функціонува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кутник 129"/>
          <p:cNvSpPr/>
          <p:nvPr/>
        </p:nvSpPr>
        <p:spPr>
          <a:xfrm>
            <a:off x="111240" y="3975120"/>
            <a:ext cx="8920080" cy="407520"/>
          </a:xfrm>
          <a:prstGeom prst="rect">
            <a:avLst/>
          </a:prstGeom>
          <a:solidFill>
            <a:srgbClr val="ffc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У техніці використовуються такі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сновні алгоритми функціонуванн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кутник 129"/>
          <p:cNvSpPr/>
          <p:nvPr/>
        </p:nvSpPr>
        <p:spPr>
          <a:xfrm>
            <a:off x="111240" y="4414680"/>
            <a:ext cx="8920080" cy="2300040"/>
          </a:xfrm>
          <a:prstGeom prst="rect">
            <a:avLst/>
          </a:prstGeom>
          <a:solidFill>
            <a:srgbClr val="ffc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1. Стабілізація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- це АФ, при якому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вихідна величина об'єкту підтриму-ється незмінною.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АК, в яких реалізується цей АФ, називаю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системами стабілізації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 В системах стабілізації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у(t)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const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еруючий пристрій, що здійснює стабілізацію вихідної величини об'єкту виходу, називає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втоматичним регулятором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(все режимний регулятор частоти обертів вала дизельного двигуна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кутник 129"/>
          <p:cNvSpPr/>
          <p:nvPr/>
        </p:nvSpPr>
        <p:spPr>
          <a:xfrm>
            <a:off x="111240" y="692280"/>
            <a:ext cx="8920080" cy="10778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2. Програмне керування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це АФ, при якому вихідна величина об'єкту змінюється за наперед заданою програмо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истеми, що реалізують цей АФ,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називаю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рограмним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92"/>
          <p:cNvSpPr/>
          <p:nvPr/>
        </p:nvSpPr>
        <p:spPr>
          <a:xfrm>
            <a:off x="76320" y="93600"/>
            <a:ext cx="89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Задачі автоматичного керу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93"/>
          <p:cNvSpPr/>
          <p:nvPr/>
        </p:nvSpPr>
        <p:spPr>
          <a:xfrm>
            <a:off x="189000" y="61740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кутник 129"/>
          <p:cNvSpPr/>
          <p:nvPr/>
        </p:nvSpPr>
        <p:spPr>
          <a:xfrm>
            <a:off x="111240" y="1916280"/>
            <a:ext cx="8920080" cy="74268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ограма може бути задана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в часі (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очасове програмне керування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) і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в просторі (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росторове програмне керування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кутник 129"/>
          <p:cNvSpPr/>
          <p:nvPr/>
        </p:nvSpPr>
        <p:spPr>
          <a:xfrm>
            <a:off x="111240" y="2781360"/>
            <a:ext cx="8920080" cy="1077840"/>
          </a:xfrm>
          <a:prstGeom prst="rect">
            <a:avLst/>
          </a:prstGeom>
          <a:solidFill>
            <a:srgbClr val="ffc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почасовому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задані програми, у якості задатчика застосовують програмне реле часу або годинниковий механізм, за допомогою якого задається програма роботи САК у час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кутник 129"/>
          <p:cNvSpPr/>
          <p:nvPr/>
        </p:nvSpPr>
        <p:spPr>
          <a:xfrm>
            <a:off x="111240" y="3933720"/>
            <a:ext cx="8920080" cy="2418480"/>
          </a:xfrm>
          <a:prstGeom prst="rect">
            <a:avLst/>
          </a:prstGeom>
          <a:solidFill>
            <a:srgbClr val="e6b9b8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росторове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 програмне керування використовується для завдання руху по певній траєкторії в просторі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: наприклад, рух фрези по заданому контуру у верстаті з програмним керування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ограма в цьому випадку може бути задана у вигляді шаблону, по якому переміщається копір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верстатах з числовим програмним керуванням програма задається у вигляді чисел, що визначають координати обробки детал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кутник 129"/>
          <p:cNvSpPr/>
          <p:nvPr/>
        </p:nvSpPr>
        <p:spPr>
          <a:xfrm>
            <a:off x="111240" y="692280"/>
            <a:ext cx="8920080" cy="174816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3. Слідкуючі системи.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АФ слідкуючої системи полягає в тому, що вихідна величина повинна повторювати зміну вхідної величини, закон зміни якої наперед невідом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лідкуюча система є підсилювачем потужності, і її основна задача - точно відтворювати вхідну величину за наявності збурен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92"/>
          <p:cNvSpPr/>
          <p:nvPr/>
        </p:nvSpPr>
        <p:spPr>
          <a:xfrm>
            <a:off x="76320" y="93600"/>
            <a:ext cx="89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Задачі автоматичного керу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93"/>
          <p:cNvSpPr/>
          <p:nvPr/>
        </p:nvSpPr>
        <p:spPr>
          <a:xfrm>
            <a:off x="189000" y="61740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кутник 129"/>
          <p:cNvSpPr/>
          <p:nvPr/>
        </p:nvSpPr>
        <p:spPr>
          <a:xfrm>
            <a:off x="111240" y="2457360"/>
            <a:ext cx="8920080" cy="174816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априклад, в просапних знаряддях слідкуюча система використову-ється для керування положенням робочих органів залежно від напряму рядів рослин. Спеціальний пристрій - копір стежить за напрямом рядів і задає необхідне положення просапних органів, щоб вони не пошкоджу-вали росли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кутник 129"/>
          <p:cNvSpPr/>
          <p:nvPr/>
        </p:nvSpPr>
        <p:spPr>
          <a:xfrm>
            <a:off x="111240" y="4224240"/>
            <a:ext cx="8920080" cy="742680"/>
          </a:xfrm>
          <a:prstGeom prst="rect">
            <a:avLst/>
          </a:prstGeom>
          <a:solidFill>
            <a:srgbClr val="e6b9b8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4.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лгоритм пошуку екстремуму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передбачає пошук і підтримку екстремуму вихідної величини КО при зміні стану об'єкту і дії збурен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кутник 129"/>
          <p:cNvSpPr/>
          <p:nvPr/>
        </p:nvSpPr>
        <p:spPr>
          <a:xfrm>
            <a:off x="111240" y="4995720"/>
            <a:ext cx="8920080" cy="1748160"/>
          </a:xfrm>
          <a:prstGeom prst="rect">
            <a:avLst/>
          </a:prstGeom>
          <a:solidFill>
            <a:srgbClr val="ebf1de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икладом може служити теплогенератор, статична характеристика якого має екстремум температури паливних газів при даній витраті пали-ва. Для підтримки екстремуму температури необхідно підтримувати вит-рату повітря і палива строго постійними за наявності неконтрольованих збурен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кутник 129"/>
          <p:cNvSpPr/>
          <p:nvPr/>
        </p:nvSpPr>
        <p:spPr>
          <a:xfrm>
            <a:off x="111240" y="692280"/>
            <a:ext cx="8920080" cy="10778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дин зі способів визначення напряму дії заснований на визначенні знака і значення похідної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у/dи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бо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/dt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В точці екстремуму швидкість зміни вихідної величини рівна нулю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у/dи = 0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92"/>
          <p:cNvSpPr/>
          <p:nvPr/>
        </p:nvSpPr>
        <p:spPr>
          <a:xfrm>
            <a:off x="76320" y="93600"/>
            <a:ext cx="89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Задачі автоматичного керу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93"/>
          <p:cNvSpPr/>
          <p:nvPr/>
        </p:nvSpPr>
        <p:spPr>
          <a:xfrm>
            <a:off x="189000" y="61740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кутник 129"/>
          <p:cNvSpPr/>
          <p:nvPr/>
        </p:nvSpPr>
        <p:spPr>
          <a:xfrm>
            <a:off x="111240" y="1787400"/>
            <a:ext cx="8920080" cy="141300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Щоб визначити тип екстремуму необхідно визначити знак похідної до точки екстремуму і після неї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Якщо, знак похідної зміниться з «+» на «-» то екстремум є максимумом, а якщо, знак похідної зміниться з «-» на «+» то екстремум є мінімум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кутник 129"/>
          <p:cNvSpPr/>
          <p:nvPr/>
        </p:nvSpPr>
        <p:spPr>
          <a:xfrm>
            <a:off x="112680" y="3214800"/>
            <a:ext cx="8918640" cy="1748160"/>
          </a:xfrm>
          <a:prstGeom prst="rect">
            <a:avLst/>
          </a:prstGeom>
          <a:solidFill>
            <a:srgbClr val="e6b9b8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5.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лгоритм оптимального керування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припускає досягнення найкра-щих умов роботи КО в перехідному режимі за наявності обмежень на вхідні, вихідні величини і змінні стану об'єк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Такими умовами можуть бути, наприклад, мінімальні витрати енергії, швидкодія і і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кутник 129"/>
          <p:cNvSpPr/>
          <p:nvPr/>
        </p:nvSpPr>
        <p:spPr>
          <a:xfrm>
            <a:off x="112680" y="4979880"/>
            <a:ext cx="8918640" cy="1780920"/>
          </a:xfrm>
          <a:prstGeom prst="rect">
            <a:avLst/>
          </a:prstGeom>
          <a:solidFill>
            <a:srgbClr val="ccc1da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6.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лгоритм адаптації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припускає таку зміну вихідних величин КО, при яких зберігається задана якість роботи об'єкту, при цьому система може змінювати свої параметри і структур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икладом системи, що пристосовується, може бути система, що забе-зпечує зміну режиму роботи тракторного агрегату при зміні умов роботи: оранки на нерівному рельєфі, на ґрунтах з різними властивостями і т.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1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6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кутник 129"/>
          <p:cNvSpPr/>
          <p:nvPr/>
        </p:nvSpPr>
        <p:spPr>
          <a:xfrm>
            <a:off x="111240" y="692280"/>
            <a:ext cx="8920080" cy="74268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ля виконання заданого АФ керованого об'єкту необхідно відповід-ним чином формувати керуючі дії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92"/>
          <p:cNvSpPr/>
          <p:nvPr/>
        </p:nvSpPr>
        <p:spPr>
          <a:xfrm>
            <a:off x="76320" y="93600"/>
            <a:ext cx="89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Задачі автоматичного керу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93"/>
          <p:cNvSpPr/>
          <p:nvPr/>
        </p:nvSpPr>
        <p:spPr>
          <a:xfrm>
            <a:off x="189000" y="61740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кутник 129"/>
          <p:cNvSpPr/>
          <p:nvPr/>
        </p:nvSpPr>
        <p:spPr>
          <a:xfrm>
            <a:off x="111240" y="1449360"/>
            <a:ext cx="8920080" cy="107784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равило формування послідовності керуючих дій, що забезпечує ви-конання АФ керованого об'єкту з необхідною точністю, називається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лго-ритмом керування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кутник 129"/>
          <p:cNvSpPr/>
          <p:nvPr/>
        </p:nvSpPr>
        <p:spPr>
          <a:xfrm>
            <a:off x="111240" y="2538360"/>
            <a:ext cx="8920080" cy="742680"/>
          </a:xfrm>
          <a:prstGeom prst="rect">
            <a:avLst/>
          </a:prstGeom>
          <a:solidFill>
            <a:srgbClr val="b9cde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лгоритм керування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залежить як від АФ, так і від динамічних власти-востей К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кутник 129"/>
          <p:cNvSpPr/>
          <p:nvPr/>
        </p:nvSpPr>
        <p:spPr>
          <a:xfrm>
            <a:off x="111240" y="3287880"/>
            <a:ext cx="8920080" cy="74268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Математична залежність, що встановлює зв'язок між керуючою дією і вихідною змінною керованого об'єкту, називає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законом керування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кутник 129"/>
          <p:cNvSpPr/>
          <p:nvPr/>
        </p:nvSpPr>
        <p:spPr>
          <a:xfrm>
            <a:off x="111240" y="4037040"/>
            <a:ext cx="8920080" cy="742680"/>
          </a:xfrm>
          <a:prstGeom prst="rect">
            <a:avLst/>
          </a:prstGeom>
          <a:solidFill>
            <a:srgbClr val="00b0f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 с/г виробництві застосовуються переважно регулятори релейної і безперервної дії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кутник 129"/>
          <p:cNvSpPr/>
          <p:nvPr/>
        </p:nvSpPr>
        <p:spPr>
          <a:xfrm>
            <a:off x="111240" y="4786200"/>
            <a:ext cx="8920080" cy="1077840"/>
          </a:xfrm>
          <a:prstGeom prst="rect">
            <a:avLst/>
          </a:prstGeom>
          <a:solidFill>
            <a:srgbClr val="00b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Релейний закон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ерування реалізується регуляторами релейної дії, в яких керуюча дія з'являється тільки досягненні керованої величиною за-даного порогового значе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кутник 129"/>
          <p:cNvSpPr/>
          <p:nvPr/>
        </p:nvSpPr>
        <p:spPr>
          <a:xfrm>
            <a:off x="120600" y="5881680"/>
            <a:ext cx="8920080" cy="742680"/>
          </a:xfrm>
          <a:prstGeom prst="rect">
            <a:avLst/>
          </a:prstGeom>
          <a:solidFill>
            <a:srgbClr val="31859c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 лінійних регуляторах безперервної дії керуюча дія лінійно залежить від відхилення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його інтеграла чи першої похідної в час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кутник 129"/>
          <p:cNvSpPr/>
          <p:nvPr/>
        </p:nvSpPr>
        <p:spPr>
          <a:xfrm>
            <a:off x="111240" y="692280"/>
            <a:ext cx="8920080" cy="43812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техніці використовують такі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езперервні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кони керуванн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92"/>
          <p:cNvSpPr/>
          <p:nvPr/>
        </p:nvSpPr>
        <p:spPr>
          <a:xfrm>
            <a:off x="76320" y="93600"/>
            <a:ext cx="89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Задачі автоматичного керу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93"/>
          <p:cNvSpPr/>
          <p:nvPr/>
        </p:nvSpPr>
        <p:spPr>
          <a:xfrm>
            <a:off x="189000" y="61740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кутник 129"/>
          <p:cNvSpPr/>
          <p:nvPr/>
        </p:nvSpPr>
        <p:spPr>
          <a:xfrm>
            <a:off x="111240" y="1103400"/>
            <a:ext cx="7124760" cy="43812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опорційний закон (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-закон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кутник 129"/>
          <p:cNvSpPr/>
          <p:nvPr/>
        </p:nvSpPr>
        <p:spPr>
          <a:xfrm>
            <a:off x="111240" y="1546200"/>
            <a:ext cx="7556400" cy="48852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остійну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називають коефіцієнтом передачі регулят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Объект 9"/>
              <p:cNvSpPr txBox="1"/>
              <p:nvPr/>
            </p:nvSpPr>
            <p:spPr>
              <a:xfrm>
                <a:off x="7667640" y="1116000"/>
                <a:ext cx="1338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Прямокутник 129"/>
          <p:cNvSpPr/>
          <p:nvPr/>
        </p:nvSpPr>
        <p:spPr>
          <a:xfrm>
            <a:off x="189000" y="2057400"/>
            <a:ext cx="4748040" cy="438120"/>
          </a:xfrm>
          <a:prstGeom prst="rect">
            <a:avLst/>
          </a:prstGeom>
          <a:solidFill>
            <a:srgbClr val="dbeef4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Інтегральний закон (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-закон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Объект 12"/>
              <p:cNvSpPr txBox="1"/>
              <p:nvPr/>
            </p:nvSpPr>
            <p:spPr>
              <a:xfrm>
                <a:off x="6084720" y="1987560"/>
                <a:ext cx="29466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и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T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εd</m:t>
                        </m:r>
                      </m:e>
                    </m:nary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Прямокутник 129"/>
          <p:cNvSpPr/>
          <p:nvPr/>
        </p:nvSpPr>
        <p:spPr>
          <a:xfrm>
            <a:off x="189000" y="2500200"/>
            <a:ext cx="5251320" cy="803880"/>
          </a:xfrm>
          <a:prstGeom prst="rect">
            <a:avLst/>
          </a:prstGeom>
          <a:solidFill>
            <a:srgbClr val="dbeef4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е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ає розмірність часу, і її називають постійною інтегрува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кутник 129"/>
          <p:cNvSpPr/>
          <p:nvPr/>
        </p:nvSpPr>
        <p:spPr>
          <a:xfrm>
            <a:off x="189000" y="3392640"/>
            <a:ext cx="5035320" cy="803880"/>
          </a:xfrm>
          <a:prstGeom prst="rect">
            <a:avLst/>
          </a:prstGeom>
          <a:solidFill>
            <a:srgbClr val="e6b9b8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опорційно-інтегральний закон (Пі-закон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Объект 16"/>
              <p:cNvSpPr txBox="1"/>
              <p:nvPr/>
            </p:nvSpPr>
            <p:spPr>
              <a:xfrm>
                <a:off x="5508720" y="3375000"/>
                <a:ext cx="354492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T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ε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Прямокутник 129"/>
          <p:cNvSpPr/>
          <p:nvPr/>
        </p:nvSpPr>
        <p:spPr>
          <a:xfrm>
            <a:off x="189000" y="4797360"/>
            <a:ext cx="8713800" cy="438120"/>
          </a:xfrm>
          <a:prstGeom prst="rect">
            <a:avLst/>
          </a:prstGeom>
          <a:solidFill>
            <a:srgbClr val="95b3d7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опорційно-інтегрально-диференційний закон (ПІД-закон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Объект 19"/>
              <p:cNvSpPr txBox="1"/>
              <p:nvPr/>
            </p:nvSpPr>
            <p:spPr>
              <a:xfrm>
                <a:off x="4311720" y="5425920"/>
                <a:ext cx="47196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ε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Д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dε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Прямокутник 129"/>
          <p:cNvSpPr/>
          <p:nvPr/>
        </p:nvSpPr>
        <p:spPr>
          <a:xfrm>
            <a:off x="189000" y="5254560"/>
            <a:ext cx="4095720" cy="1509840"/>
          </a:xfrm>
          <a:prstGeom prst="rect">
            <a:avLst/>
          </a:prstGeom>
          <a:solidFill>
            <a:srgbClr val="95b3d7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е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- постійні часу, відпо-відно, називають постійними часу інтегрування і диферен-ціюва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92"/>
          <p:cNvSpPr/>
          <p:nvPr/>
        </p:nvSpPr>
        <p:spPr>
          <a:xfrm>
            <a:off x="76320" y="93600"/>
            <a:ext cx="89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Задачі автоматичного керу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Line 93"/>
          <p:cNvSpPr/>
          <p:nvPr/>
        </p:nvSpPr>
        <p:spPr>
          <a:xfrm>
            <a:off x="189000" y="61740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кутник 129"/>
          <p:cNvSpPr/>
          <p:nvPr/>
        </p:nvSpPr>
        <p:spPr>
          <a:xfrm>
            <a:off x="111240" y="647640"/>
            <a:ext cx="8920080" cy="174816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Типовим задаючим сигналом, який подають на вхід регулятора, є ступінчастий сигнал. Якщо його подати на вхід операційного підсилювача, то на виході отримаємо такий самий за формою сигнал, тільки більший, чи менший за рівнем. Такий підсилювач називають пропорційним регулятор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кутник 129"/>
          <p:cNvSpPr/>
          <p:nvPr/>
        </p:nvSpPr>
        <p:spPr>
          <a:xfrm>
            <a:off x="111240" y="2413080"/>
            <a:ext cx="8920080" cy="107784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Якщо в операційному підсилювачі є інтегруюча ланка, то вона інтегрує вхідний сигнал, а у вихідному сигналі до пропорційної складової добавиться інтегральна складова. Тепер це буде ПІ-регулято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кутник 129"/>
          <p:cNvSpPr/>
          <p:nvPr/>
        </p:nvSpPr>
        <p:spPr>
          <a:xfrm>
            <a:off x="112680" y="3500280"/>
            <a:ext cx="8920080" cy="1077840"/>
          </a:xfrm>
          <a:prstGeom prst="rect">
            <a:avLst/>
          </a:prstGeom>
          <a:solidFill>
            <a:srgbClr val="b9cde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Інтегральна складова змінює властивості ПІ-регулятора. Пропорційна складова забезпечує швидкодію відпрацювання вихідної величини, а інтегральна складова зменшує статичну похибк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кутник 129"/>
          <p:cNvSpPr/>
          <p:nvPr/>
        </p:nvSpPr>
        <p:spPr>
          <a:xfrm>
            <a:off x="127080" y="4613400"/>
            <a:ext cx="8920080" cy="208332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аявність диференціальної складової в ПІД-регуляторі дозволяє ще більше збільшити швидкодію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сучасних системах керування функції ПІД- регулятора виконує програмований логічний контролер ПЛК (PLC), який отримує інформацію від давачів тиску, давачів рівня, давачів швидкості потоку, температури та інших елементів автомати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кутник 129"/>
          <p:cNvSpPr/>
          <p:nvPr/>
        </p:nvSpPr>
        <p:spPr>
          <a:xfrm>
            <a:off x="85680" y="620640"/>
            <a:ext cx="8928000" cy="12920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втоматизація - найвищий етап розвитку техніки і технології, на якому праців-ники вивільняються не тільки від фізичної праці, але і від функцій контролю за машинами, устаткуванням, виробничими процесами і операціями і керування ни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92"/>
          <p:cNvSpPr/>
          <p:nvPr/>
        </p:nvSpPr>
        <p:spPr>
          <a:xfrm>
            <a:off x="324000" y="936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Arial"/>
              </a:rPr>
              <a:t>Роль вітчизняних вчених у розвитку автоматизаці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93"/>
          <p:cNvSpPr/>
          <p:nvPr/>
        </p:nvSpPr>
        <p:spPr>
          <a:xfrm>
            <a:off x="324000" y="50472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кутник 132"/>
          <p:cNvSpPr/>
          <p:nvPr/>
        </p:nvSpPr>
        <p:spPr>
          <a:xfrm>
            <a:off x="81000" y="1955880"/>
            <a:ext cx="8932680" cy="1596960"/>
          </a:xfrm>
          <a:prstGeom prst="rect">
            <a:avLst/>
          </a:prstGeom>
          <a:solidFill>
            <a:srgbClr val="92d05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Автоматизація сприяє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ідвищенню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меншенню собівартості продукції і підвищується її які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ближенню праці фізичної з розумово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оліпшенню умов праці люд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кутник 142"/>
          <p:cNvSpPr/>
          <p:nvPr/>
        </p:nvSpPr>
        <p:spPr>
          <a:xfrm>
            <a:off x="106200" y="3573360"/>
            <a:ext cx="8929800" cy="987120"/>
          </a:xfrm>
          <a:prstGeom prst="rect">
            <a:avLst/>
          </a:prstGeom>
          <a:solidFill>
            <a:srgbClr val="c4bd9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Автоматика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 галузь науки і техніки, яка досліджує і застосовує теорію авто-матичного керування, принципи побудови автоматичних систем і технічні засоби для реалізації цих сист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кутник 33"/>
          <p:cNvSpPr/>
          <p:nvPr/>
        </p:nvSpPr>
        <p:spPr>
          <a:xfrm>
            <a:off x="95400" y="4568760"/>
            <a:ext cx="8905680" cy="987120"/>
          </a:xfrm>
          <a:prstGeom prst="rect">
            <a:avLst/>
          </a:prstGeom>
          <a:solidFill>
            <a:srgbClr val="00b0f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Як наука вона виникла в другій половині XVIII століття, коли з'явилися перші складні машини - знаряддя (прядильні, ткацькі верстати і ін.), які замінили важку ручну працю і дали можливість різко підняти її продуктивні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кутник 33"/>
          <p:cNvSpPr/>
          <p:nvPr/>
        </p:nvSpPr>
        <p:spPr>
          <a:xfrm>
            <a:off x="95400" y="5581800"/>
            <a:ext cx="8905680" cy="1107720"/>
          </a:xfrm>
          <a:prstGeom prst="rect">
            <a:avLst/>
          </a:prstGeom>
          <a:solidFill>
            <a:srgbClr val="e6b9b8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Тоді ж на зміну найпростішим двигунам (вітряним і гідравлічним) прийшли парові машини, першу з яких винайшов в 1765 році І. І. Ползунов, що створив першу у світі замкнуту автоматичну систему для регулювання рівня води у паровому котл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кутник 129"/>
          <p:cNvSpPr/>
          <p:nvPr/>
        </p:nvSpPr>
        <p:spPr>
          <a:xfrm>
            <a:off x="85680" y="620640"/>
            <a:ext cx="8928000" cy="193212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 міру розвитку техніки і звільнення людини від важкої фізичної праці функції керування процесами і знаряддями праці не тільки не зменшувалися, а, навпаки, все більше розширялися і ускладнювалися. У багатьох випадках людина втратила можливість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правлят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механізованим виробництвом без спеціальних додатко-вих пристроїв. Це і зумовило виникнення і розвиток автоматичного виробниц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92"/>
          <p:cNvSpPr/>
          <p:nvPr/>
        </p:nvSpPr>
        <p:spPr>
          <a:xfrm>
            <a:off x="324000" y="936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Arial"/>
              </a:rPr>
              <a:t>Роль вітчизняних вчених у розвитку автоматизаці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93"/>
          <p:cNvSpPr/>
          <p:nvPr/>
        </p:nvSpPr>
        <p:spPr>
          <a:xfrm>
            <a:off x="324000" y="50472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кутник 132"/>
          <p:cNvSpPr/>
          <p:nvPr/>
        </p:nvSpPr>
        <p:spPr>
          <a:xfrm>
            <a:off x="73080" y="2263680"/>
            <a:ext cx="8932680" cy="1748160"/>
          </a:xfrm>
          <a:prstGeom prst="rect">
            <a:avLst/>
          </a:prstGeom>
          <a:solidFill>
            <a:srgbClr val="92d05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астосування автоматів у промисловості відіграло важливу роль у роз-витку техніки. Цей період можна назвати періодом формування принци-пів автоматики: принцип регулювання за відхиленням (Ползунова-Уатта), за збуренням (Понселе), метод регулювання за похідною (братів Сіменсів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кутник 132"/>
          <p:cNvSpPr/>
          <p:nvPr/>
        </p:nvSpPr>
        <p:spPr>
          <a:xfrm>
            <a:off x="81000" y="4005360"/>
            <a:ext cx="8932680" cy="132228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аме в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цей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час появились перші теоретичні дослідження, присвячені вивче-нню процесів регулювання машин. У 1868 р. опублікована робота Максвела «Про регулятори»,  в 1876 р. робота І. А. Вишнєградського «Про регулятори прямої дії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кутник 132"/>
          <p:cNvSpPr/>
          <p:nvPr/>
        </p:nvSpPr>
        <p:spPr>
          <a:xfrm>
            <a:off x="114480" y="5032440"/>
            <a:ext cx="8932680" cy="1663560"/>
          </a:xfrm>
          <a:prstGeom prst="rect">
            <a:avLst/>
          </a:prstGeom>
          <a:solidFill>
            <a:srgbClr val="fcd5b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одальший розвиток автоматики йшов як шляхом створення автома-тичних пристроїв у всіх галузях техніки так і теоретичних розробок основ автоматики. Великий вклад у розвиток основ автоматики внесли вчені І.А. Вишнєградський, І. Н. Вознесенський, А. І. Ляпунов, М. Є. Жуковський, Л.В. Михайлов, В. В. Солодовніков, Я. З. Ципкін та і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кутник 129"/>
          <p:cNvSpPr/>
          <p:nvPr/>
        </p:nvSpPr>
        <p:spPr>
          <a:xfrm>
            <a:off x="85680" y="620640"/>
            <a:ext cx="8928000" cy="10778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еликий практичний та теоретичний досвід, що накопичений при автоматизації промисловості, дозволяє використовувати його при автоматизації процесів у сільськогосподарському виробництв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92"/>
          <p:cNvSpPr/>
          <p:nvPr/>
        </p:nvSpPr>
        <p:spPr>
          <a:xfrm>
            <a:off x="85680" y="93600"/>
            <a:ext cx="892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Особливості автоматизації сільськогосподарського виробниц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93"/>
          <p:cNvSpPr/>
          <p:nvPr/>
        </p:nvSpPr>
        <p:spPr>
          <a:xfrm>
            <a:off x="179280" y="50472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кутник 132"/>
          <p:cNvSpPr/>
          <p:nvPr/>
        </p:nvSpPr>
        <p:spPr>
          <a:xfrm>
            <a:off x="81000" y="1709640"/>
            <a:ext cx="8932680" cy="4893480"/>
          </a:xfrm>
          <a:prstGeom prst="rect">
            <a:avLst/>
          </a:prstGeom>
          <a:solidFill>
            <a:srgbClr val="92d05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и цьому необхідно зважати на його специфічні особливості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елика кількість приміщень із агресивним середовищем, із підвищено-ю запиленістю, з широкими межами зміни температури та вологості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в'язок сільськогосподарських машин та іншої техніки із біологічними об’єктами (тваринами та рослинами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елика кількість мобільних машин, що працюють при значній вібрації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розосередженість сільськогосподарських машин та агрегатів на значних площах, а також їх віддаленість від ремонтних баз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ля контролю великої кількості параметрів застосовують серійні про-мислові датчики, однак у с/г виробництві ще не до кінця розроблені датчики для контролю технологічних процесів чи якості с/г продукції (вміст жирів, білків, кислот та солей у молоці, ступеня свіжості м’яса, яєць, ступінь спілості овочів та фруктів, вміст вологи, білків і крохмалю у зерні і т. д.). Окрім того с/г виробництву необхідна велика кількість спеціальних датчиків для контролю та керування фізіологічними процесами життєдіяльності тварин та росли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кутник 129"/>
          <p:cNvSpPr/>
          <p:nvPr/>
        </p:nvSpPr>
        <p:spPr>
          <a:xfrm>
            <a:off x="85680" y="555480"/>
            <a:ext cx="8928000" cy="121140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 с/г автоматизація почала розвиватися порівняно недавно, але вже показала свою високу ефективність. Комплексна автоматизація приготу-вання кормів на потокових лініях забезпечує зменшення трудових затрат в 4...5 разів і зниження собівартості приготування кормів на 30...50%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92"/>
          <p:cNvSpPr/>
          <p:nvPr/>
        </p:nvSpPr>
        <p:spPr>
          <a:xfrm>
            <a:off x="85680" y="93600"/>
            <a:ext cx="892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Особливості автоматизації сільськогосподарського виробниц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93"/>
          <p:cNvSpPr/>
          <p:nvPr/>
        </p:nvSpPr>
        <p:spPr>
          <a:xfrm>
            <a:off x="179280" y="50472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кутник 129"/>
          <p:cNvSpPr/>
          <p:nvPr/>
        </p:nvSpPr>
        <p:spPr>
          <a:xfrm>
            <a:off x="87480" y="1781280"/>
            <a:ext cx="8928000" cy="1748160"/>
          </a:xfrm>
          <a:prstGeom prst="rect">
            <a:avLst/>
          </a:prstGeom>
          <a:solidFill>
            <a:srgbClr val="fcd5b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начний економічний ефект дає автоматизація процесів в птахівництві. На сучасних птахофабриках, де повністю механізовані і автоматизовані роздача кормів, водопостачання, видалення посліду, збирання яєць і під-тримка режимів мікроклімату, затрати праці на виробництво 1000 яєць у декілька разів менше, ніж на звичайних птахоферм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кутник 129"/>
          <p:cNvSpPr/>
          <p:nvPr/>
        </p:nvSpPr>
        <p:spPr>
          <a:xfrm>
            <a:off x="73080" y="3559320"/>
            <a:ext cx="8928000" cy="1413000"/>
          </a:xfrm>
          <a:prstGeom prst="rect">
            <a:avLst/>
          </a:prstGeom>
          <a:solidFill>
            <a:srgbClr val="8eb4e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оте вживані в с/г автоматичні системи відносяться до класу локаль-них, які здійснюють автоматичне керування окремими пристроями і про-цесами, діють ізольовано без зв'язку один з одним, не забезпечують оп-тимального керування технологічними процесами і об'єктами в цілом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кутник 129"/>
          <p:cNvSpPr/>
          <p:nvPr/>
        </p:nvSpPr>
        <p:spPr>
          <a:xfrm>
            <a:off x="73080" y="4991040"/>
            <a:ext cx="8928000" cy="2065680"/>
          </a:xfrm>
          <a:prstGeom prst="rect">
            <a:avLst/>
          </a:prstGeom>
          <a:solidFill>
            <a:srgbClr val="ffc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му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творюються принципово нові автоматизовані системи керування АСУТП, АСУП і ін., в структуру яких вводяться керуючі обчислювальні ма-шини (КОМ). Завдяки функціонуванню КОМ такі системи управляють тех-нологічними процесами і виробництвом в цілому в оптимальних режи-мах і дають можливість значно зменшити витрати праці і одночасно збільшити кількість і поліпшити якість продукції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кутник 129"/>
          <p:cNvSpPr/>
          <p:nvPr/>
        </p:nvSpPr>
        <p:spPr>
          <a:xfrm>
            <a:off x="85680" y="555480"/>
            <a:ext cx="8928000" cy="141300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ля того щоб машина виконувала свої функції відповідно до її призна-чення в умовах виробництва, нею необхідно управляти, тобто здійснюва-ти запуск, зупинку, змінювати режим роботи та інші операції керування, направлені на виконання машиною певного технологічного процес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92"/>
          <p:cNvSpPr/>
          <p:nvPr/>
        </p:nvSpPr>
        <p:spPr>
          <a:xfrm>
            <a:off x="85680" y="93600"/>
            <a:ext cx="89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Основні поняття, термінологія та визначення автоматизаці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93"/>
          <p:cNvSpPr/>
          <p:nvPr/>
        </p:nvSpPr>
        <p:spPr>
          <a:xfrm>
            <a:off x="179280" y="50472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кутник 129"/>
          <p:cNvSpPr/>
          <p:nvPr/>
        </p:nvSpPr>
        <p:spPr>
          <a:xfrm>
            <a:off x="87480" y="1987560"/>
            <a:ext cx="8928000" cy="742680"/>
          </a:xfrm>
          <a:prstGeom prst="rect">
            <a:avLst/>
          </a:prstGeom>
          <a:solidFill>
            <a:srgbClr val="fcd5b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та керування може бути різною залежно від призначення машини, режиму її роботи і інших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чинникі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кутник 129"/>
          <p:cNvSpPr/>
          <p:nvPr/>
        </p:nvSpPr>
        <p:spPr>
          <a:xfrm>
            <a:off x="73080" y="2763720"/>
            <a:ext cx="8928000" cy="174816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ерування здійснюється шляхом дії на органи керування, що передба-чені в будь-якій машині або установц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ерування може здійснювати людина або технічний пристрі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 першому випадку керування називається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ручним,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 другому –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авто-матични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кутник 129"/>
          <p:cNvSpPr/>
          <p:nvPr/>
        </p:nvSpPr>
        <p:spPr>
          <a:xfrm>
            <a:off x="85680" y="4529160"/>
            <a:ext cx="8928000" cy="74268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ашина або установка, що обладнана технічним керуючим пристро-єм і діє без безпосередньої участі людини, називає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втоматом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кутник 129"/>
          <p:cNvSpPr/>
          <p:nvPr/>
        </p:nvSpPr>
        <p:spPr>
          <a:xfrm>
            <a:off x="103320" y="5300640"/>
            <a:ext cx="8928000" cy="1413000"/>
          </a:xfrm>
          <a:prstGeom prst="rect">
            <a:avLst/>
          </a:prstGeom>
          <a:solidFill>
            <a:srgbClr val="b7dee8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творення і використання автоматів представляє собою новий етап машинного виробництва, який називає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втоматизацією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втоматизація, як більш високий етап машинного виробництва, роз-вивається на базі механізації і електрифікації с/г виробницт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кутник 129"/>
          <p:cNvSpPr/>
          <p:nvPr/>
        </p:nvSpPr>
        <p:spPr>
          <a:xfrm>
            <a:off x="85680" y="555480"/>
            <a:ext cx="8928000" cy="10778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втомат можна розглядати як систему, яка складається з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керованого об'єкту (КО) і автоматичного керуючого пристрою (АКП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), що взаємодіють між собою в процесі роботи для досягнення певної мети керува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92"/>
          <p:cNvSpPr/>
          <p:nvPr/>
        </p:nvSpPr>
        <p:spPr>
          <a:xfrm>
            <a:off x="85680" y="93600"/>
            <a:ext cx="89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Основні поняття, термінологія та визначення автоматизаці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93"/>
          <p:cNvSpPr/>
          <p:nvPr/>
        </p:nvSpPr>
        <p:spPr>
          <a:xfrm>
            <a:off x="179280" y="50472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кутник 129"/>
          <p:cNvSpPr/>
          <p:nvPr/>
        </p:nvSpPr>
        <p:spPr>
          <a:xfrm>
            <a:off x="87480" y="1643040"/>
            <a:ext cx="8928000" cy="1748160"/>
          </a:xfrm>
          <a:prstGeom prst="rect">
            <a:avLst/>
          </a:prstGeom>
          <a:solidFill>
            <a:srgbClr val="fcd5b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ерованим об'єктом може бути не тільки окрема машина, але і набір машин в технологічній лінії, технологічний процес, цех, виробництво, які для правильного виконання своїх функцій потребують керуючих дій. Тому в більш широкому сенсі установки, в яких керування здійснюється за до-помогою АКП, називають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системами автоматичного керування (САК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кутник 129"/>
          <p:cNvSpPr/>
          <p:nvPr/>
        </p:nvSpPr>
        <p:spPr>
          <a:xfrm>
            <a:off x="77760" y="3409920"/>
            <a:ext cx="8928000" cy="1413000"/>
          </a:xfrm>
          <a:prstGeom prst="rect">
            <a:avLst/>
          </a:prstGeom>
          <a:solidFill>
            <a:srgbClr val="b7dee8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ля можливості керування КО має один або декілька регулюючих ор-ганів (РО), за допомогою яких можна змінювати надходження в КО енер-гії або речовини, змінюючи його стан відповідно до заданого режиму робо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кутник 129"/>
          <p:cNvSpPr/>
          <p:nvPr/>
        </p:nvSpPr>
        <p:spPr>
          <a:xfrm>
            <a:off x="73080" y="4835520"/>
            <a:ext cx="8928000" cy="174816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тан КО може характеризуватися багатьма показниками або парамет-рами.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Основний показник, для якого визначається мета керування, в автоматиці називає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керованою змінною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бо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вихідною величиною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КО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ихідну величину будемо позначати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у(t)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залежно від її фізичної природ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кутник 129"/>
          <p:cNvSpPr/>
          <p:nvPr/>
        </p:nvSpPr>
        <p:spPr>
          <a:xfrm>
            <a:off x="85680" y="555480"/>
            <a:ext cx="8928000" cy="141300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оложення регулюючого органу або пропорційна йому кількість енергії чи речовини, що вводиться в об'єкт називають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керуючою дією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бо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 вхідною величиною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об'єкту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еруючу дію будемо позначати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(t)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залежно від її фізичної природ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92"/>
          <p:cNvSpPr/>
          <p:nvPr/>
        </p:nvSpPr>
        <p:spPr>
          <a:xfrm>
            <a:off x="85680" y="93600"/>
            <a:ext cx="89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Основні поняття, термінологія та визначення автоматизаці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93"/>
          <p:cNvSpPr/>
          <p:nvPr/>
        </p:nvSpPr>
        <p:spPr>
          <a:xfrm>
            <a:off x="179280" y="50472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кутник 129"/>
          <p:cNvSpPr/>
          <p:nvPr/>
        </p:nvSpPr>
        <p:spPr>
          <a:xfrm>
            <a:off x="87480" y="1982880"/>
            <a:ext cx="8928000" cy="80388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найпростішому випадку в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САК мають одну вхідну і одну вихід-ну величину, такі САК називають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одномірними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кутник 129"/>
          <p:cNvSpPr/>
          <p:nvPr/>
        </p:nvSpPr>
        <p:spPr>
          <a:xfrm>
            <a:off x="101520" y="2803680"/>
            <a:ext cx="8928360" cy="742680"/>
          </a:xfrm>
          <a:prstGeom prst="rect">
            <a:avLst/>
          </a:prstGeom>
          <a:solidFill>
            <a:srgbClr val="fcd5b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Системи з декількома вхідними і вихідними величинами називають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багатовимірними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кутник 129"/>
          <p:cNvSpPr/>
          <p:nvPr/>
        </p:nvSpPr>
        <p:spPr>
          <a:xfrm>
            <a:off x="101520" y="3554280"/>
            <a:ext cx="8928360" cy="1748160"/>
          </a:xfrm>
          <a:prstGeom prst="rect">
            <a:avLst/>
          </a:prstGeom>
          <a:solidFill>
            <a:srgbClr val="b3a2c7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 процесі роботи на керований об'єкт діють зовнішні і внутрішні чинники, які приводять до зміни керованої змінної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t)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б'єк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Дії, що порушують заданий стан керованого об'єкту, і мають випадко-вий характер, називаю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збуреннями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бурення будемо позначати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t)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залежно від їх фізичної природ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кутник 129"/>
          <p:cNvSpPr/>
          <p:nvPr/>
        </p:nvSpPr>
        <p:spPr>
          <a:xfrm>
            <a:off x="101520" y="5349960"/>
            <a:ext cx="8928360" cy="407520"/>
          </a:xfrm>
          <a:prstGeom prst="rect">
            <a:avLst/>
          </a:prstGeom>
          <a:solidFill>
            <a:srgbClr val="fcd5b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Основним збуренням будь-якого керованого об'єкту є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навантаження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кутник 129"/>
          <p:cNvSpPr/>
          <p:nvPr/>
        </p:nvSpPr>
        <p:spPr>
          <a:xfrm>
            <a:off x="101520" y="5775480"/>
            <a:ext cx="8928360" cy="742680"/>
          </a:xfrm>
          <a:prstGeom prst="rect">
            <a:avLst/>
          </a:prstGeom>
          <a:solidFill>
            <a:srgbClr val="00b0f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ругорядні збурення роблять менш істотний вплив на вихідну величину порівняно з навантаження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кутник 129"/>
          <p:cNvSpPr/>
          <p:nvPr/>
        </p:nvSpPr>
        <p:spPr>
          <a:xfrm>
            <a:off x="85680" y="555480"/>
            <a:ext cx="8920080" cy="236772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 ході роботи у системі автоматичного керування вимірюється фактичне значення керованої величини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t)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орівнюється із завданням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і в разі виникнення відхилення керованої величини від завдання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|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t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оно подається на вхід АКП для вироблення керуючої дії на об'єкт через його регулюючий орган для усунення розходження яке виникло. (Щоб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92"/>
          <p:cNvSpPr/>
          <p:nvPr/>
        </p:nvSpPr>
        <p:spPr>
          <a:xfrm>
            <a:off x="85680" y="93600"/>
            <a:ext cx="89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Основні поняття, термінологія та визначення автоматизаці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93"/>
          <p:cNvSpPr/>
          <p:nvPr/>
        </p:nvSpPr>
        <p:spPr>
          <a:xfrm>
            <a:off x="179280" y="50472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2"/>
          <p:cNvGrpSpPr/>
          <p:nvPr/>
        </p:nvGrpSpPr>
        <p:grpSpPr>
          <a:xfrm>
            <a:off x="1476360" y="2844720"/>
            <a:ext cx="6597720" cy="3823920"/>
            <a:chOff x="1476360" y="2844720"/>
            <a:chExt cx="6597720" cy="3823920"/>
          </a:xfrm>
        </p:grpSpPr>
        <p:grpSp>
          <p:nvGrpSpPr>
            <p:cNvPr id="106" name="Group 3"/>
            <p:cNvGrpSpPr/>
            <p:nvPr/>
          </p:nvGrpSpPr>
          <p:grpSpPr>
            <a:xfrm>
              <a:off x="2656440" y="3579120"/>
              <a:ext cx="2133720" cy="885240"/>
              <a:chOff x="2656440" y="3579120"/>
              <a:chExt cx="2133720" cy="885240"/>
            </a:xfrm>
          </p:grpSpPr>
          <p:sp>
            <p:nvSpPr>
              <p:cNvPr id="107" name="AutoShape 4"/>
              <p:cNvSpPr/>
              <p:nvPr/>
            </p:nvSpPr>
            <p:spPr>
              <a:xfrm>
                <a:off x="2656440" y="3579120"/>
                <a:ext cx="2133720" cy="885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Text Box 5"/>
              <p:cNvSpPr/>
              <p:nvPr/>
            </p:nvSpPr>
            <p:spPr>
              <a:xfrm>
                <a:off x="2820240" y="3727080"/>
                <a:ext cx="1805760" cy="589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" tIns="10800" bIns="10800" anchor="t">
                <a:noAutofit/>
              </a:bodyPr>
              <a:p>
                <a:pPr algn="ctr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400" spc="-1" strike="noStrike">
                    <a:solidFill>
                      <a:srgbClr val="000000"/>
                    </a:solidFill>
                    <a:latin typeface="Calibri"/>
                  </a:rPr>
                  <a:t>КЕРОВАНИЙ ОБ’ЄК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" name="AutoShape 6"/>
            <p:cNvSpPr/>
            <p:nvPr/>
          </p:nvSpPr>
          <p:spPr>
            <a:xfrm>
              <a:off x="2492280" y="5637960"/>
              <a:ext cx="2791800" cy="1030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 Box 7"/>
            <p:cNvSpPr/>
            <p:nvPr/>
          </p:nvSpPr>
          <p:spPr>
            <a:xfrm>
              <a:off x="2656440" y="5785560"/>
              <a:ext cx="2463840" cy="83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Calibri"/>
                </a:rPr>
                <a:t>АВТОМАТИЧНИЙ КЕРУЮЧИЙ ПРСТРІ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4790160" y="4022280"/>
              <a:ext cx="27903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>
              <a:off x="6267960" y="4022280"/>
              <a:ext cx="1080" cy="132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 flipH="1">
              <a:off x="6267600" y="5345640"/>
              <a:ext cx="16419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6267960" y="5345640"/>
              <a:ext cx="1080" cy="88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 flipH="1">
              <a:off x="5282640" y="6226560"/>
              <a:ext cx="9846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 flipH="1">
              <a:off x="1507680" y="6226560"/>
              <a:ext cx="9835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Line 14"/>
            <p:cNvSpPr/>
            <p:nvPr/>
          </p:nvSpPr>
          <p:spPr>
            <a:xfrm flipV="1">
              <a:off x="1507680" y="4021200"/>
              <a:ext cx="720" cy="220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Line 15"/>
            <p:cNvSpPr/>
            <p:nvPr/>
          </p:nvSpPr>
          <p:spPr>
            <a:xfrm>
              <a:off x="1507680" y="4021200"/>
              <a:ext cx="1148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Line 16"/>
            <p:cNvSpPr/>
            <p:nvPr/>
          </p:nvSpPr>
          <p:spPr>
            <a:xfrm>
              <a:off x="4134600" y="2844720"/>
              <a:ext cx="720" cy="73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 Box 17"/>
            <p:cNvSpPr/>
            <p:nvPr/>
          </p:nvSpPr>
          <p:spPr>
            <a:xfrm>
              <a:off x="4902840" y="3669840"/>
              <a:ext cx="230004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</a:rPr>
                <a:t>вихідна величина 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Text Box 18" descr=""/>
            <p:cNvPicPr/>
            <p:nvPr/>
          </p:nvPicPr>
          <p:blipFill>
            <a:blip r:embed="rId1"/>
            <a:stretch/>
          </p:blipFill>
          <p:spPr>
            <a:xfrm>
              <a:off x="1476360" y="4163760"/>
              <a:ext cx="53928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9"/>
            <p:cNvSpPr/>
            <p:nvPr/>
          </p:nvSpPr>
          <p:spPr>
            <a:xfrm>
              <a:off x="6432120" y="5050080"/>
              <a:ext cx="1641960" cy="2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</a:rPr>
                <a:t>завдання 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i="1" lang="uk-UA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 Box 20"/>
            <p:cNvSpPr/>
            <p:nvPr/>
          </p:nvSpPr>
          <p:spPr>
            <a:xfrm>
              <a:off x="5447160" y="6282720"/>
              <a:ext cx="2300040" cy="29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</a:rPr>
                <a:t>відхилення 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ε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 Box 21"/>
            <p:cNvSpPr/>
            <p:nvPr/>
          </p:nvSpPr>
          <p:spPr>
            <a:xfrm>
              <a:off x="4186800" y="3130560"/>
              <a:ext cx="1476360" cy="29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</a:rPr>
                <a:t>збурення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08:44:46Z</dcterms:created>
  <dc:creator>Master</dc:creator>
  <dc:description/>
  <dc:language>en-US</dc:language>
  <cp:lastModifiedBy>Master</cp:lastModifiedBy>
  <dcterms:modified xsi:type="dcterms:W3CDTF">2019-10-13T11:25:12Z</dcterms:modified>
  <cp:revision>60</cp:revision>
  <dc:subject/>
  <dc:title>Презентация PowerPoint</dc:title>
</cp:coreProperties>
</file>