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11E-6DB2-4A27-9F86-1B452044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B4C-353C-4533-AD43-776E4A2B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D32-9A9F-410E-9DA8-2C3D530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187-F607-4F20-B5D9-40AA3625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72C-66CA-4765-A771-D301EE5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430-F1AA-4C30-91AA-88B3AD0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35F-F32E-4353-9B75-84E9C92B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E2A-3AED-4435-A3E0-60F83A5A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21C-92F3-473D-9DD8-525F5DEF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725-BE73-419E-8B57-B2A105D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D36-21E4-45D8-BEFF-683522F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6F5-C17E-45B3-B9D8-35B6C99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96A-A89E-4F89-9142-EFB372B3CF3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1f497d"/>
                </a:solidFill>
                <a:uFillTx/>
                <a:latin typeface="Arial"/>
              </a:rPr>
              <a:t>ПОНЯТТЯ ПРО СИСТЕМУ АВТОМАТИЧНОГО КЕРУВАННЯ ТА ЇЇ СТРУКТУ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кутник 132"/>
          <p:cNvSpPr/>
          <p:nvPr/>
        </p:nvSpPr>
        <p:spPr>
          <a:xfrm>
            <a:off x="3922560" y="101268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кутник 142"/>
          <p:cNvSpPr/>
          <p:nvPr/>
        </p:nvSpPr>
        <p:spPr>
          <a:xfrm>
            <a:off x="179280" y="3284640"/>
            <a:ext cx="878544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кутник 26"/>
          <p:cNvSpPr/>
          <p:nvPr/>
        </p:nvSpPr>
        <p:spPr>
          <a:xfrm>
            <a:off x="250920" y="144792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ль вітчизняних вчених у розвитку автоматиз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собливості автоматизації сільськогосподарського виробниц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сновні поняття і визначення автоматиз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дачі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виробництві використовується безліч машин, установок, призна-чених для виконання різноманітних функцій. Керування машиною направлено на досягнення певної мети, для якої ця машина створ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кутник 129"/>
          <p:cNvSpPr/>
          <p:nvPr/>
        </p:nvSpPr>
        <p:spPr>
          <a:xfrm>
            <a:off x="111240" y="1781280"/>
            <a:ext cx="8920080" cy="141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укупність правил, положень або математичних залежностей, що виз-начають послідовність зміни вихідної величини, яка відповідає нормаль-ному функціонуванню об'єкта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ом функціонування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(АФ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129"/>
          <p:cNvSpPr/>
          <p:nvPr/>
        </p:nvSpPr>
        <p:spPr>
          <a:xfrm>
            <a:off x="117360" y="2886120"/>
            <a:ext cx="8918640" cy="107784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Ф відображає і представляє фактичну мету керування і визначається на основі технологічних, економічних і інших вимог зміни вихідної вели-чини об'єкту в процесі його функціону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кутник 129"/>
          <p:cNvSpPr/>
          <p:nvPr/>
        </p:nvSpPr>
        <p:spPr>
          <a:xfrm>
            <a:off x="111240" y="3975120"/>
            <a:ext cx="8920080" cy="40752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техніці використовуються такі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сновні алгоритми функціонуванн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кутник 129"/>
          <p:cNvSpPr/>
          <p:nvPr/>
        </p:nvSpPr>
        <p:spPr>
          <a:xfrm>
            <a:off x="111240" y="4414680"/>
            <a:ext cx="8920080" cy="23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1. Стабілізація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це АФ, при якому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ихідна величина об'єкту підтриму-ється незмінною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АК, в яких реалізується цей АФ,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ами стабілізації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В системах стабілізації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(t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const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ючий пристрій, що здійснює стабілізацію вихідної величини об'єкту виходу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ичним регулятором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(все режимний регулятор частоти обертів вала дизельного двигу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2. Програмне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це АФ, при якому вихідна величина об'єкту змінюється за наперед заданою програм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истеми, що реалізують цей АФ,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грам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кутник 129"/>
          <p:cNvSpPr/>
          <p:nvPr/>
        </p:nvSpPr>
        <p:spPr>
          <a:xfrm>
            <a:off x="111240" y="1916280"/>
            <a:ext cx="892008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грама може бути задана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 часі (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очасове програмне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) і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 просторі (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сторове програмне керування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кутник 129"/>
          <p:cNvSpPr/>
          <p:nvPr/>
        </p:nvSpPr>
        <p:spPr>
          <a:xfrm>
            <a:off x="111240" y="2781360"/>
            <a:ext cx="8920080" cy="107784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часово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задані програми, у якості задатчика застосовують програмне реле часу або годинниковий механізм, за допомогою якого задається програма роботи САК у час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129"/>
          <p:cNvSpPr/>
          <p:nvPr/>
        </p:nvSpPr>
        <p:spPr>
          <a:xfrm>
            <a:off x="111240" y="3933720"/>
            <a:ext cx="8920080" cy="24184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сторове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програмне керування використовується для завдання руху по певній траєкторії в простор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 наприклад, рух фрези по заданому контуру у верстаті з програмним керуванн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грама в цьому випадку може бути задана у вигляді шаблону, по якому переміщається копі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верстатах з числовим програмним керуванням програма задається у вигляді чисел, що визначають координати обробки детал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кутник 129"/>
          <p:cNvSpPr/>
          <p:nvPr/>
        </p:nvSpPr>
        <p:spPr>
          <a:xfrm>
            <a:off x="111240" y="692280"/>
            <a:ext cx="892008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3. Слідкуючі системи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АФ слідкуючої системи полягає в тому, що вихідна величина повинна повторювати зміну вхідної величини, закон зміни якої наперед невідом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лідкуюча система є підсилювачем потужності, і її основна задача - точно відтворювати вхідну величину за наявності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кутник 129"/>
          <p:cNvSpPr/>
          <p:nvPr/>
        </p:nvSpPr>
        <p:spPr>
          <a:xfrm>
            <a:off x="111240" y="2457360"/>
            <a:ext cx="892008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приклад, в просапних знаряддях слідкуюча система використову-ється для керування положенням робочих органів залежно від напряму рядів рослин. Спеціальний пристрій - копір стежить за напрямом рядів і задає необхідне положення просапних органів, щоб вони не пошкоджу-вали росл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129"/>
          <p:cNvSpPr/>
          <p:nvPr/>
        </p:nvSpPr>
        <p:spPr>
          <a:xfrm>
            <a:off x="111240" y="4224240"/>
            <a:ext cx="8920080" cy="7426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пошуку екстрему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бачає пошук і підтримку екстремуму вихідної величини КО при зміні стану об'єкту і дії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129"/>
          <p:cNvSpPr/>
          <p:nvPr/>
        </p:nvSpPr>
        <p:spPr>
          <a:xfrm>
            <a:off x="111240" y="4995720"/>
            <a:ext cx="8920080" cy="17481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кладом може служити теплогенератор, статична характеристика якого має екстремум температури паливних газів при даній витраті пали-ва. Для підтримки екстремуму температури необхідно підтримувати вит-рату повітря і палива строго постійними за наявності неконтрольованих збур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кутник 129"/>
          <p:cNvSpPr/>
          <p:nvPr/>
        </p:nvSpPr>
        <p:spPr>
          <a:xfrm>
            <a:off x="111240" y="692280"/>
            <a:ext cx="892008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дин зі способів визначення напряму дії заснований на визначенні знака і значення похідної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у/d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б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/dt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 точці екстремуму швидкість зміни вихідної величини рівна нулю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у/dи = 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кутник 129"/>
          <p:cNvSpPr/>
          <p:nvPr/>
        </p:nvSpPr>
        <p:spPr>
          <a:xfrm>
            <a:off x="111240" y="1787400"/>
            <a:ext cx="8920080" cy="141300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Щоб визначити тип екстремуму необхідно визначити знак похідної до точки екстремуму і після неї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Якщо, знак похідної зміниться з «+» на «-» то екстремум є максимумом, а якщо, знак похідної зміниться з «-» на «+» то екстремум є мінімум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кутник 129"/>
          <p:cNvSpPr/>
          <p:nvPr/>
        </p:nvSpPr>
        <p:spPr>
          <a:xfrm>
            <a:off x="112680" y="3214800"/>
            <a:ext cx="8918640" cy="174816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5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оптимального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ипускає досягнення найкра-щих умов роботи КО в перехідному режимі за наявності обмежень на вхідні, вихідні величини і змінні стану об'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акими умовами можуть бути, наприклад, мінімальні витрати енергії, швидкодія і і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кутник 129"/>
          <p:cNvSpPr/>
          <p:nvPr/>
        </p:nvSpPr>
        <p:spPr>
          <a:xfrm>
            <a:off x="112680" y="4979880"/>
            <a:ext cx="8918640" cy="1780920"/>
          </a:xfrm>
          <a:prstGeom prst="rect">
            <a:avLst/>
          </a:prstGeom>
          <a:solidFill>
            <a:srgbClr val="ccc1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6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адаптації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ипускає таку зміну вихідних величин КО, при яких зберігається задана якість роботи об'єкту, при цьому система може змінювати свої параметри і структур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кладом системи, що пристосовується, може бути система, що забе-зпечує зміну режиму роботи тракторного агрегату при зміні умов роботи: оранки на нерівному рельєфі, на ґрунтах з різними властивостями і т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29"/>
          <p:cNvSpPr/>
          <p:nvPr/>
        </p:nvSpPr>
        <p:spPr>
          <a:xfrm>
            <a:off x="111240" y="692280"/>
            <a:ext cx="8920080" cy="7426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виконання заданого АФ керованого об'єкту необхідно відповід-ним чином формувати керуючі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129"/>
          <p:cNvSpPr/>
          <p:nvPr/>
        </p:nvSpPr>
        <p:spPr>
          <a:xfrm>
            <a:off x="111240" y="1449360"/>
            <a:ext cx="8920080" cy="10778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авило формування послідовності керуючих дій, що забезпечує ви-конання АФ керованого об'єкту з необхідною точністю, називаєтьс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-ритмом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129"/>
          <p:cNvSpPr/>
          <p:nvPr/>
        </p:nvSpPr>
        <p:spPr>
          <a:xfrm>
            <a:off x="111240" y="2538360"/>
            <a:ext cx="8920080" cy="74268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керуванн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залежить як від АФ, так і від динамічних власти-востей К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кутник 129"/>
          <p:cNvSpPr/>
          <p:nvPr/>
        </p:nvSpPr>
        <p:spPr>
          <a:xfrm>
            <a:off x="111240" y="3287880"/>
            <a:ext cx="892008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атематична залежність, що встановлює зв'язок між керуючою дією і вихідною змінною керованого об'єкту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аконом керування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129"/>
          <p:cNvSpPr/>
          <p:nvPr/>
        </p:nvSpPr>
        <p:spPr>
          <a:xfrm>
            <a:off x="111240" y="4037040"/>
            <a:ext cx="8920080" cy="7426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виробництві застосовуються переважно регулятори релейної і безперервної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кутник 129"/>
          <p:cNvSpPr/>
          <p:nvPr/>
        </p:nvSpPr>
        <p:spPr>
          <a:xfrm>
            <a:off x="111240" y="4786200"/>
            <a:ext cx="8920080" cy="1077840"/>
          </a:xfrm>
          <a:prstGeom prst="rect">
            <a:avLst/>
          </a:prstGeom>
          <a:solidFill>
            <a:srgbClr val="00b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Релейний закон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реалізується регуляторами релейної дії, в яких керуюча дія з'являється тільки досягненні керованої величиною за-даного порогового знач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кутник 129"/>
          <p:cNvSpPr/>
          <p:nvPr/>
        </p:nvSpPr>
        <p:spPr>
          <a:xfrm>
            <a:off x="120600" y="5881680"/>
            <a:ext cx="8920080" cy="742680"/>
          </a:xfrm>
          <a:prstGeom prst="rect">
            <a:avLst/>
          </a:prstGeom>
          <a:solidFill>
            <a:srgbClr val="31859c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лінійних регуляторах безперервної дії керуюча дія лінійно залежить від відхилення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його інтеграла чи першої похідної в час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кутник 129"/>
          <p:cNvSpPr/>
          <p:nvPr/>
        </p:nvSpPr>
        <p:spPr>
          <a:xfrm>
            <a:off x="111240" y="692280"/>
            <a:ext cx="8920080" cy="438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хніці використовують так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перервн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и керуван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кутник 129"/>
          <p:cNvSpPr/>
          <p:nvPr/>
        </p:nvSpPr>
        <p:spPr>
          <a:xfrm>
            <a:off x="111240" y="1103400"/>
            <a:ext cx="7124760" cy="4381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ий закон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129"/>
          <p:cNvSpPr/>
          <p:nvPr/>
        </p:nvSpPr>
        <p:spPr>
          <a:xfrm>
            <a:off x="111240" y="1546200"/>
            <a:ext cx="7556400" cy="4885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стійн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зивають коефіцієнтом передачі регулят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Объект 9"/>
              <p:cNvSpPr txBox="1"/>
              <p:nvPr/>
            </p:nvSpPr>
            <p:spPr>
              <a:xfrm>
                <a:off x="7667640" y="1116000"/>
                <a:ext cx="1338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Прямокутник 129"/>
          <p:cNvSpPr/>
          <p:nvPr/>
        </p:nvSpPr>
        <p:spPr>
          <a:xfrm>
            <a:off x="189000" y="2057400"/>
            <a:ext cx="4748040" cy="438120"/>
          </a:xfrm>
          <a:prstGeom prst="rect">
            <a:avLst/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тегральний закон (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Объект 12"/>
              <p:cNvSpPr txBox="1"/>
              <p:nvPr/>
            </p:nvSpPr>
            <p:spPr>
              <a:xfrm>
                <a:off x="6084720" y="1987560"/>
                <a:ext cx="29466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T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εd</m:t>
                        </m:r>
                      </m:e>
                    </m:nary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Прямокутник 129"/>
          <p:cNvSpPr/>
          <p:nvPr/>
        </p:nvSpPr>
        <p:spPr>
          <a:xfrm>
            <a:off x="189000" y="2500200"/>
            <a:ext cx="5251320" cy="803880"/>
          </a:xfrm>
          <a:prstGeom prst="rect">
            <a:avLst/>
          </a:prstGeom>
          <a:solidFill>
            <a:srgbClr val="dbeef4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є розмірність часу, і її називають постійною інтег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кутник 129"/>
          <p:cNvSpPr/>
          <p:nvPr/>
        </p:nvSpPr>
        <p:spPr>
          <a:xfrm>
            <a:off x="189000" y="3392640"/>
            <a:ext cx="5035320" cy="8038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о-інтегральний закон (Пі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Объект 16"/>
              <p:cNvSpPr txBox="1"/>
              <p:nvPr/>
            </p:nvSpPr>
            <p:spPr>
              <a:xfrm>
                <a:off x="5508720" y="3375000"/>
                <a:ext cx="35449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ε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Прямокутник 129"/>
          <p:cNvSpPr/>
          <p:nvPr/>
        </p:nvSpPr>
        <p:spPr>
          <a:xfrm>
            <a:off x="189000" y="4797360"/>
            <a:ext cx="8713800" cy="438120"/>
          </a:xfrm>
          <a:prstGeom prst="rect">
            <a:avLst/>
          </a:prstGeom>
          <a:solidFill>
            <a:srgbClr val="95b3d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опорційно-інтегрально-диференційний закон (ПІД-зако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Объект 19"/>
              <p:cNvSpPr txBox="1"/>
              <p:nvPr/>
            </p:nvSpPr>
            <p:spPr>
              <a:xfrm>
                <a:off x="4311720" y="5425920"/>
                <a:ext cx="47196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ε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dε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Прямокутник 129"/>
          <p:cNvSpPr/>
          <p:nvPr/>
        </p:nvSpPr>
        <p:spPr>
          <a:xfrm>
            <a:off x="189000" y="5254560"/>
            <a:ext cx="4095720" cy="1509840"/>
          </a:xfrm>
          <a:prstGeom prst="rect">
            <a:avLst/>
          </a:prstGeom>
          <a:solidFill>
            <a:srgbClr val="95b3d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постійні часу, відпо-відно, називають постійними часу інтегрування і диферен-цію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92"/>
          <p:cNvSpPr/>
          <p:nvPr/>
        </p:nvSpPr>
        <p:spPr>
          <a:xfrm>
            <a:off x="76320" y="93600"/>
            <a:ext cx="89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Задачі автоматичного кер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93"/>
          <p:cNvSpPr/>
          <p:nvPr/>
        </p:nvSpPr>
        <p:spPr>
          <a:xfrm>
            <a:off x="189000" y="61740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кутник 129"/>
          <p:cNvSpPr/>
          <p:nvPr/>
        </p:nvSpPr>
        <p:spPr>
          <a:xfrm>
            <a:off x="111240" y="647640"/>
            <a:ext cx="892008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иповим задаючим сигналом, який подають на вхід регулятора, є ступінчастий сигнал. Якщо його подати на вхід операційного підсилювача, то на виході отримаємо такий самий за формою сигнал, тільки більший, чи менший за рівнем. Такий підсилювач називають пропорційним регулятор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кутник 129"/>
          <p:cNvSpPr/>
          <p:nvPr/>
        </p:nvSpPr>
        <p:spPr>
          <a:xfrm>
            <a:off x="111240" y="2413080"/>
            <a:ext cx="8920080" cy="107784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в операційному підсилювачі є інтегруюча ланка, то вона інтегрує вхідний сигнал, а у вихідному сигналі до пропорційної складової добавиться інтегральна складова. Тепер це буде ПІ-регулято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кутник 129"/>
          <p:cNvSpPr/>
          <p:nvPr/>
        </p:nvSpPr>
        <p:spPr>
          <a:xfrm>
            <a:off x="112680" y="3500280"/>
            <a:ext cx="8920080" cy="10778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нтегральна складова змінює властивості ПІ-регулятора. Пропорційна складова забезпечує швидкодію відпрацювання вихідної величини, а інтегральна складова зменшує статичну похиб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кутник 129"/>
          <p:cNvSpPr/>
          <p:nvPr/>
        </p:nvSpPr>
        <p:spPr>
          <a:xfrm>
            <a:off x="127080" y="4613400"/>
            <a:ext cx="8920080" cy="208332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явність диференціальної складової в ПІД-регуляторі дозволяє ще більше збільшити швидкоді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учасних системах керування функції ПІД- регулятора виконує програмований логічний контролер ПЛК (PLC), який отримує інформацію від давачів тиску, давачів рівня, давачів швидкості потоку, температури та інших елементів автомати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кутник 129"/>
          <p:cNvSpPr/>
          <p:nvPr/>
        </p:nvSpPr>
        <p:spPr>
          <a:xfrm>
            <a:off x="85680" y="620640"/>
            <a:ext cx="8928000" cy="12920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втоматизація - найвищий етап розвитку техніки і технології, на якому праців-ники вивільняються не тільки від фізичної праці, але і від функцій контролю за машинами, устаткуванням, виробничими процесами і операціями і керування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92"/>
          <p:cNvSpPr/>
          <p:nvPr/>
        </p:nvSpPr>
        <p:spPr>
          <a:xfrm>
            <a:off x="324000" y="936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Роль вітчизняних вчених у розвитку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кутник 132"/>
          <p:cNvSpPr/>
          <p:nvPr/>
        </p:nvSpPr>
        <p:spPr>
          <a:xfrm>
            <a:off x="81000" y="1955880"/>
            <a:ext cx="8932680" cy="15969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ія сприя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ідвищенню продуктивності прац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меншенню собівартості продукції і підвищується її які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ближенню праці фізичної з розумово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оліпшенню умов праці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42"/>
          <p:cNvSpPr/>
          <p:nvPr/>
        </p:nvSpPr>
        <p:spPr>
          <a:xfrm>
            <a:off x="106200" y="3573360"/>
            <a:ext cx="8929800" cy="987120"/>
          </a:xfrm>
          <a:prstGeom prst="rect">
            <a:avLst/>
          </a:prstGeom>
          <a:solidFill>
            <a:srgbClr val="c4bd9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втоматика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 галузь науки і техніки, яка досліджує і застосовує теорію авто-матичного керування, принципи побудови автоматичних систем і технічні засоби для реалізації цих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кутник 33"/>
          <p:cNvSpPr/>
          <p:nvPr/>
        </p:nvSpPr>
        <p:spPr>
          <a:xfrm>
            <a:off x="95400" y="4568760"/>
            <a:ext cx="890568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 наука вона виникла в другій половині XVIII століття, коли з'явилися перші складні машини - знаряддя (прядильні, ткацькі верстати і ін.), які замінили важку ручну працю і дали можливість різко підняти її продуктивні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кутник 33"/>
          <p:cNvSpPr/>
          <p:nvPr/>
        </p:nvSpPr>
        <p:spPr>
          <a:xfrm>
            <a:off x="95400" y="5581800"/>
            <a:ext cx="8905680" cy="110772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Тоді ж на зміну найпростішим двигунам (вітряним і гідравлічним) прийшли парові машини, першу з яких винайшов в 1765 році І. І. Ползунов, що створив першу у світі замкнуту автоматичну систему для регулювання рівня води у паровому котл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кутник 129"/>
          <p:cNvSpPr/>
          <p:nvPr/>
        </p:nvSpPr>
        <p:spPr>
          <a:xfrm>
            <a:off x="85680" y="620640"/>
            <a:ext cx="8928000" cy="1932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міру розвитку техніки і звільнення людини від важкої фізичної праці функції керування процесами і знаряддями праці не тільки не зменшувалися, а, навпаки, все більше розширялися і ускладнювалися. У багатьох випадках людина втратила можливість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правля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механізованим виробництвом без спеціальних додатко-вих пристроїв. Це і зумовило виникнення і розвиток автоматичного виробниц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92"/>
          <p:cNvSpPr/>
          <p:nvPr/>
        </p:nvSpPr>
        <p:spPr>
          <a:xfrm>
            <a:off x="324000" y="936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Роль вітчизняних вчених у розвитку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0472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73080" y="2263680"/>
            <a:ext cx="893268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стосування автоматів у промисловості відіграло важливу роль у роз-витку техніки. Цей період можна назвати періодом формування принци-пів автоматики: принцип регулювання за відхиленням (Ползунова-Уатта), за збуренням (Понселе), метод регулювання за похідною (братів Сіменсів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132"/>
          <p:cNvSpPr/>
          <p:nvPr/>
        </p:nvSpPr>
        <p:spPr>
          <a:xfrm>
            <a:off x="81000" y="4005360"/>
            <a:ext cx="8932680" cy="13222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аме в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ей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час появились перші теоретичні дослідження, присвячені вивче-нню процесів регулювання машин. У 1868 р. опублікована робота Максвела «Про регулятори»,  в 1876 р. робота І. А. Вишнєградського «Про регулятори прямої дії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кутник 132"/>
          <p:cNvSpPr/>
          <p:nvPr/>
        </p:nvSpPr>
        <p:spPr>
          <a:xfrm>
            <a:off x="114480" y="5032440"/>
            <a:ext cx="8932680" cy="1663560"/>
          </a:xfrm>
          <a:prstGeom prst="rect">
            <a:avLst/>
          </a:prstGeom>
          <a:solidFill>
            <a:srgbClr val="fcd5b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дальший розвиток автоматики йшов як шляхом створення автома-тичних пристроїв у всіх галузях техніки так і теоретичних розробок основ автоматики. Великий вклад у розвиток основ автоматики внесли вчені І.А. Вишнєградський, І. Н. Вознесенський, А. І. Ляпунов, М. Є. Жуковський, Л.В. Михайлов, В. В. Солодовніков, Я. З. Ципкін та і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кутник 129"/>
          <p:cNvSpPr/>
          <p:nvPr/>
        </p:nvSpPr>
        <p:spPr>
          <a:xfrm>
            <a:off x="85680" y="62064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ий практичний та теоретичний досвід, що накопичений при автоматизації промисловості, дозволяє використовувати його при автоматизації процесів у сільськогосподарському виробництв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2"/>
          <p:cNvSpPr/>
          <p:nvPr/>
        </p:nvSpPr>
        <p:spPr>
          <a:xfrm>
            <a:off x="85680" y="93600"/>
            <a:ext cx="89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обливості автоматизації сільськогосподарського виробниц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кутник 132"/>
          <p:cNvSpPr/>
          <p:nvPr/>
        </p:nvSpPr>
        <p:spPr>
          <a:xfrm>
            <a:off x="81000" y="1709640"/>
            <a:ext cx="8932680" cy="489348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цьому необхідно зважати на його специфічні особливості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а кількість приміщень із агресивним середовищем, із підвищено-ю запиленістю, з широкими межами зміни температури та вологості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'язок сільськогосподарських машин та іншої техніки із біологічними об’єктами (тваринами та рослинам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лика кількість мобільних машин, що працюють при значній вібрації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зосередженість сільськогосподарських машин та агрегатів на значних площах, а також їх віддаленість від ремонтних баз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контролю великої кількості параметрів застосовують серійні про-мислові датчики, однак у с/г виробництві ще не до кінця розроблені датчики для контролю технологічних процесів чи якості с/г продукції (вміст жирів, білків, кислот та солей у молоці, ступеня свіжості м’яса, яєць, ступінь спілості овочів та фруктів, вміст вологи, білків і крохмалю у зерні і т. д.). Окрім того с/г виробництву необхідна велика кількість спеціальних датчиків для контролю та керування фізіологічними процесами життєдіяльності тварин та росл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кутник 129"/>
          <p:cNvSpPr/>
          <p:nvPr/>
        </p:nvSpPr>
        <p:spPr>
          <a:xfrm>
            <a:off x="85680" y="555480"/>
            <a:ext cx="8928000" cy="12114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с/г автоматизація почала розвиватися порівняно недавно, але вже показала свою високу ефективність. Комплексна автоматизація приготу-вання кормів на потокових лініях забезпечує зменшення трудових затрат в 4...5 разів і зниження собівартості приготування кормів на 30...50%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92"/>
          <p:cNvSpPr/>
          <p:nvPr/>
        </p:nvSpPr>
        <p:spPr>
          <a:xfrm>
            <a:off x="85680" y="93600"/>
            <a:ext cx="89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обливості автоматизації сільськогосподарського виробниц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129"/>
          <p:cNvSpPr/>
          <p:nvPr/>
        </p:nvSpPr>
        <p:spPr>
          <a:xfrm>
            <a:off x="87480" y="1781280"/>
            <a:ext cx="8928000" cy="174816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начний економічний ефект дає автоматизація процесів в птахівництві. На сучасних птахофабриках, де повністю механізовані і автоматизовані роздача кормів, водопостачання, видалення посліду, збирання яєць і під-тримка режимів мікроклімату, затрати праці на виробництво 1000 яєць у декілька разів менше, ніж на звичайних птахоферм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29"/>
          <p:cNvSpPr/>
          <p:nvPr/>
        </p:nvSpPr>
        <p:spPr>
          <a:xfrm>
            <a:off x="73080" y="3559320"/>
            <a:ext cx="8928000" cy="141300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те вживані в с/г автоматичні системи відносяться до класу локаль-них, які здійснюють автоматичне керування окремими пристроями і про-цесами, діють ізольовано без зв'язку один з одним, не забезпечують оп-тимального керування технологічними процесами і об'єктами в ціл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кутник 129"/>
          <p:cNvSpPr/>
          <p:nvPr/>
        </p:nvSpPr>
        <p:spPr>
          <a:xfrm>
            <a:off x="73080" y="4991040"/>
            <a:ext cx="8928000" cy="2065680"/>
          </a:xfrm>
          <a:prstGeom prst="rect">
            <a:avLst/>
          </a:prstGeom>
          <a:solidFill>
            <a:srgbClr val="ffc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му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ворюються принципово нові автоматизовані системи керування АСУТП, АСУП і ін., в структуру яких вводяться керуючі обчислювальні ма-шини (КОМ). Завдяки функціонуванню КОМ такі системи управляють тех-нологічними процесами і виробництвом в цілому в оптимальних режи-мах і дають можливість значно зменшити витрати праці і одночасно збільшити кількість і поліпшити якість продукц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кутник 129"/>
          <p:cNvSpPr/>
          <p:nvPr/>
        </p:nvSpPr>
        <p:spPr>
          <a:xfrm>
            <a:off x="85680" y="555480"/>
            <a:ext cx="8928000" cy="14130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того щоб машина виконувала свої функції відповідно до її призна-чення в умовах виробництва, нею необхідно управляти, тобто здійснюва-ти запуск, зупинку, змінювати режим роботи та інші операції керування, направлені на виконання машиною певного технологічного процес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29"/>
          <p:cNvSpPr/>
          <p:nvPr/>
        </p:nvSpPr>
        <p:spPr>
          <a:xfrm>
            <a:off x="87480" y="1987560"/>
            <a:ext cx="8928000" cy="7426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та керування може бути різною залежно від призначення машини, режиму її роботи і інших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инник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кутник 129"/>
          <p:cNvSpPr/>
          <p:nvPr/>
        </p:nvSpPr>
        <p:spPr>
          <a:xfrm>
            <a:off x="73080" y="2763720"/>
            <a:ext cx="8928000" cy="1748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здійснюється шляхом дії на органи керування, що передба-чені в будь-якій машині або установц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вання може здійснювати людина або технічний пристр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першому випадку керування називаєтьс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ручним,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другому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авто-матичн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кутник 129"/>
          <p:cNvSpPr/>
          <p:nvPr/>
        </p:nvSpPr>
        <p:spPr>
          <a:xfrm>
            <a:off x="85680" y="4529160"/>
            <a:ext cx="8928000" cy="7426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шина або установка, що обладнана технічним керуючим пристро-єм і діє без безпосередньої участі людини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ом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кутник 129"/>
          <p:cNvSpPr/>
          <p:nvPr/>
        </p:nvSpPr>
        <p:spPr>
          <a:xfrm>
            <a:off x="103320" y="5300640"/>
            <a:ext cx="8928000" cy="1413000"/>
          </a:xfrm>
          <a:prstGeom prst="rect">
            <a:avLst/>
          </a:prstGeom>
          <a:solidFill>
            <a:srgbClr val="b7dee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ворення і використання автоматів представляє собою новий етап машинного виробництва, який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втоматизацією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зація, як більш високий етап машинного виробництва, роз-вивається на базі механізації і електрифікації с/г виробниц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кутник 129"/>
          <p:cNvSpPr/>
          <p:nvPr/>
        </p:nvSpPr>
        <p:spPr>
          <a:xfrm>
            <a:off x="85680" y="55548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 можна розглядати як систему, яка складається з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ованого об'єкту (КО) і автоматичного керуючого пристрою (АКП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), що взаємодіють між собою в процесі роботи для досягнення певної мети керу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кутник 129"/>
          <p:cNvSpPr/>
          <p:nvPr/>
        </p:nvSpPr>
        <p:spPr>
          <a:xfrm>
            <a:off x="87480" y="1643040"/>
            <a:ext cx="8928000" cy="174816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ованим об'єктом може бути не тільки окрема машина, але і набір машин в технологічній лінії, технологічний процес, цех, виробництво, які для правильного виконання своїх функцій потребують керуючих дій. Тому в більш широкому сенсі установки, в яких керування здійснюється за до-помогою АКП, називають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ами автоматичного керування (САК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кутник 129"/>
          <p:cNvSpPr/>
          <p:nvPr/>
        </p:nvSpPr>
        <p:spPr>
          <a:xfrm>
            <a:off x="77760" y="3409920"/>
            <a:ext cx="8928000" cy="1413000"/>
          </a:xfrm>
          <a:prstGeom prst="rect">
            <a:avLst/>
          </a:prstGeom>
          <a:solidFill>
            <a:srgbClr val="b7dee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можливості керування КО має один або декілька регулюючих ор-ганів (РО), за допомогою яких можна змінювати надходження в КО енер-гії або речовини, змінюючи його стан відповідно до заданого режиму робо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129"/>
          <p:cNvSpPr/>
          <p:nvPr/>
        </p:nvSpPr>
        <p:spPr>
          <a:xfrm>
            <a:off x="73080" y="4835520"/>
            <a:ext cx="8928000" cy="17481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ан КО може характеризуватися багатьма показниками або парамет-рами.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ий показник, для якого визначається мета керування, в автоматиці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ованою змін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б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вихідною величи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хідну величину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(t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ї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кутник 129"/>
          <p:cNvSpPr/>
          <p:nvPr/>
        </p:nvSpPr>
        <p:spPr>
          <a:xfrm>
            <a:off x="85680" y="555480"/>
            <a:ext cx="8928000" cy="14130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ложення регулюючого органу або пропорційна йому кількість енергії чи речовини, що вводиться в об'єкт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еруючою діє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бо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вхідною величиною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б'єкт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еруючу дію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ї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кутник 129"/>
          <p:cNvSpPr/>
          <p:nvPr/>
        </p:nvSpPr>
        <p:spPr>
          <a:xfrm>
            <a:off x="87480" y="1982880"/>
            <a:ext cx="8928000" cy="803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йпростішому випадку в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АК мають одну вхідну і одну вихід-ну величину, такі САК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дномірни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129"/>
          <p:cNvSpPr/>
          <p:nvPr/>
        </p:nvSpPr>
        <p:spPr>
          <a:xfrm>
            <a:off x="101520" y="2803680"/>
            <a:ext cx="8928360" cy="7426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истеми з декількома вхідними і вихідними величинам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багатовимірним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129"/>
          <p:cNvSpPr/>
          <p:nvPr/>
        </p:nvSpPr>
        <p:spPr>
          <a:xfrm>
            <a:off x="101520" y="3554280"/>
            <a:ext cx="8928360" cy="1748160"/>
          </a:xfrm>
          <a:prstGeom prst="rect">
            <a:avLst/>
          </a:prstGeom>
          <a:solidFill>
            <a:srgbClr val="b3a2c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процесі роботи на керований об'єкт діють зовнішні і внутрішні чинники, які приводять до зміни керованої змінної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б'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Дії, що порушують заданий стан керованого об'єкту, і мають випадко-вий характер,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буренням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бурення будемо позначат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о від їх фізичної приро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129"/>
          <p:cNvSpPr/>
          <p:nvPr/>
        </p:nvSpPr>
        <p:spPr>
          <a:xfrm>
            <a:off x="101520" y="5349960"/>
            <a:ext cx="8928360" cy="40752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им збуренням будь-якого керованого об'єкту є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авантаження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кутник 129"/>
          <p:cNvSpPr/>
          <p:nvPr/>
        </p:nvSpPr>
        <p:spPr>
          <a:xfrm>
            <a:off x="101520" y="5775480"/>
            <a:ext cx="8928360" cy="742680"/>
          </a:xfrm>
          <a:prstGeom prst="rect">
            <a:avLst/>
          </a:prstGeom>
          <a:solidFill>
            <a:srgbClr val="00b0f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ругорядні збурення роблять менш істотний вплив на вихідну величину порівняно з навантаженн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кутник 129"/>
          <p:cNvSpPr/>
          <p:nvPr/>
        </p:nvSpPr>
        <p:spPr>
          <a:xfrm>
            <a:off x="85680" y="555480"/>
            <a:ext cx="8920080" cy="23677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ході роботи у системі автоматичного керування вимірюється фактичне значення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рівнюється із завдання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 в разі виникнення відхилення керованої величини від завд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но подається на вхід АКП для вироблення керуючої дії на об'єкт через його регулюючий орган для усунення розходження яке виникло. (Щоб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2"/>
          <p:cNvSpPr/>
          <p:nvPr/>
        </p:nvSpPr>
        <p:spPr>
          <a:xfrm>
            <a:off x="85680" y="93600"/>
            <a:ext cx="89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Calibri"/>
              </a:rPr>
              <a:t>Основні поняття, термінологія та визначення автоматиз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93"/>
          <p:cNvSpPr/>
          <p:nvPr/>
        </p:nvSpPr>
        <p:spPr>
          <a:xfrm>
            <a:off x="179280" y="504720"/>
            <a:ext cx="8713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76360" y="2844720"/>
            <a:ext cx="6597720" cy="3823920"/>
            <a:chOff x="1476360" y="2844720"/>
            <a:chExt cx="6597720" cy="3823920"/>
          </a:xfrm>
        </p:grpSpPr>
        <p:grpSp>
          <p:nvGrpSpPr>
            <p:cNvPr id="106" name="Group 3"/>
            <p:cNvGrpSpPr/>
            <p:nvPr/>
          </p:nvGrpSpPr>
          <p:grpSpPr>
            <a:xfrm>
              <a:off x="2656440" y="3579120"/>
              <a:ext cx="2133720" cy="885240"/>
              <a:chOff x="2656440" y="3579120"/>
              <a:chExt cx="2133720" cy="885240"/>
            </a:xfrm>
          </p:grpSpPr>
          <p:sp>
            <p:nvSpPr>
              <p:cNvPr id="107" name="AutoShape 4"/>
              <p:cNvSpPr/>
              <p:nvPr/>
            </p:nvSpPr>
            <p:spPr>
              <a:xfrm>
                <a:off x="2656440" y="3579120"/>
                <a:ext cx="2133720" cy="885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 Box 5"/>
              <p:cNvSpPr/>
              <p:nvPr/>
            </p:nvSpPr>
            <p:spPr>
              <a:xfrm>
                <a:off x="2820240" y="3727080"/>
                <a:ext cx="1805760" cy="58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" tIns="10800" bIns="10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Calibri"/>
                  </a:rPr>
                  <a:t>КЕРОВАНИЙ ОБ’ЄК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AutoShape 6"/>
            <p:cNvSpPr/>
            <p:nvPr/>
          </p:nvSpPr>
          <p:spPr>
            <a:xfrm>
              <a:off x="2492280" y="5637960"/>
              <a:ext cx="2791800" cy="103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656440" y="5785560"/>
              <a:ext cx="2463840" cy="83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Calibri"/>
                </a:rPr>
                <a:t>АВТОМАТИЧНИЙ КЕРУЮЧИЙ ПРСТРІ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4790160" y="4022280"/>
              <a:ext cx="27903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6267960" y="4022280"/>
              <a:ext cx="1080" cy="132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H="1">
              <a:off x="6267600" y="5345640"/>
              <a:ext cx="16419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267960" y="5345640"/>
              <a:ext cx="1080" cy="88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282640" y="6226560"/>
              <a:ext cx="9846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 flipH="1">
              <a:off x="1507680" y="6226560"/>
              <a:ext cx="9835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V="1">
              <a:off x="1507680" y="4021200"/>
              <a:ext cx="720" cy="22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>
              <a:off x="1507680" y="4021200"/>
              <a:ext cx="1148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>
              <a:off x="4134600" y="2844720"/>
              <a:ext cx="720" cy="73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4902840" y="3669840"/>
              <a:ext cx="230004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вихідна величина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Text Box 18" descr=""/>
            <p:cNvPicPr/>
            <p:nvPr/>
          </p:nvPicPr>
          <p:blipFill>
            <a:blip r:embed="rId1"/>
            <a:stretch/>
          </p:blipFill>
          <p:spPr>
            <a:xfrm>
              <a:off x="1476360" y="4163760"/>
              <a:ext cx="5392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9"/>
            <p:cNvSpPr/>
            <p:nvPr/>
          </p:nvSpPr>
          <p:spPr>
            <a:xfrm>
              <a:off x="6432120" y="5050080"/>
              <a:ext cx="164196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завдання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i="1" lang="uk-UA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5447160" y="6282720"/>
              <a:ext cx="2300040" cy="29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відхилення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ε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21"/>
            <p:cNvSpPr/>
            <p:nvPr/>
          </p:nvSpPr>
          <p:spPr>
            <a:xfrm>
              <a:off x="4186800" y="3130560"/>
              <a:ext cx="1476360" cy="29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збурення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19-10-13T11:25:12Z</dcterms:modified>
  <cp:revision>60</cp:revision>
  <dc:subject/>
  <dc:title>Презентация PowerPoint</dc:title>
</cp:coreProperties>
</file>