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0208-847D-4453-AA2E-9107A287E32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6906-6747-4EED-871A-59E241BBC2E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2E4-FEB2-4058-9826-1C2A3E8D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8D7-78CF-47AE-81C8-AF2989AC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809-E633-455B-99E2-693CB496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712-4E25-467E-82F5-E9F70D43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649-3C2B-40D9-85BD-F5A1A184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CB9E-E209-4716-8C13-3E7F8D11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680-EB2B-4D3A-9689-3F6A8DDA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E2F-9188-49EF-BFAE-B345897A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4B3-3A65-4FA2-91C7-76B513F0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B88-4246-4667-BA78-1B78E142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719-EE2C-4819-AA22-82556EC0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FC8-4555-47A6-A411-32286282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A11B-00DB-49E7-877B-3F2A8343925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2"/>
          <p:cNvSpPr/>
          <p:nvPr/>
        </p:nvSpPr>
        <p:spPr>
          <a:xfrm>
            <a:off x="108000" y="18900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Arial"/>
              </a:rPr>
              <a:t>ФУНКЦІОНУВАННЯ СИСТЕМ АВТОМАТИЧНОГО КЕР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кутник 132"/>
          <p:cNvSpPr/>
          <p:nvPr/>
        </p:nvSpPr>
        <p:spPr>
          <a:xfrm>
            <a:off x="3995640" y="76500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кутник 142"/>
          <p:cNvSpPr/>
          <p:nvPr/>
        </p:nvSpPr>
        <p:spPr>
          <a:xfrm>
            <a:off x="179280" y="3284640"/>
            <a:ext cx="878544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Носов, В.А. Кондратец, Л.Г. Сакало, Л.И. Середа; Ред. Г.Р.Носов. – К.: Вища школа, 1984. – 248 c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кутник 26"/>
          <p:cNvSpPr/>
          <p:nvPr/>
        </p:nvSpPr>
        <p:spPr>
          <a:xfrm>
            <a:off x="900000" y="112536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даментальні принципи керув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и систем автоматичного керув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ональні елементи автоматичних пристрої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 системи автоматичного кер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6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6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6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6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71280" y="3324240"/>
            <a:ext cx="8964720" cy="1220040"/>
          </a:xfrm>
          <a:prstGeom prst="rect">
            <a:avLst/>
          </a:prstGeom>
          <a:solidFill>
            <a:srgbClr val="ccc1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ідсилюючий елемент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ужить для підсилення сигнал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о потужності, достатньої для приведення в дію інших еле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ментів САК (за рахунок енергії додаткових джерел живлен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я – блоків живленн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кутник 81"/>
          <p:cNvSpPr/>
          <p:nvPr/>
        </p:nvSpPr>
        <p:spPr>
          <a:xfrm>
            <a:off x="71280" y="476280"/>
            <a:ext cx="8964720" cy="160848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Елемент порівнянн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служить для порівняння завда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і фактичного значення керованої величини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 виход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цього елемента отримуємо результат порівняння у вигляд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t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ля цього обидві порівнювані величини п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ні бути однакової фізичної природ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92"/>
          <p:cNvSpPr/>
          <p:nvPr/>
        </p:nvSpPr>
        <p:spPr>
          <a:xfrm>
            <a:off x="25092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f81bd"/>
                </a:solidFill>
                <a:latin typeface="Calibri"/>
              </a:rPr>
              <a:t>ФУНКЦІОНАЛЬНІ ЕЛЕМЕНТИ АВТОМАТИЧНИХ КЕРУЮЧИХ ПРИСТРОЇ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Line 93"/>
          <p:cNvSpPr/>
          <p:nvPr/>
        </p:nvSpPr>
        <p:spPr>
          <a:xfrm>
            <a:off x="287280" y="3999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окутник 81"/>
          <p:cNvSpPr/>
          <p:nvPr/>
        </p:nvSpPr>
        <p:spPr>
          <a:xfrm>
            <a:off x="61920" y="2052720"/>
            <a:ext cx="8947080" cy="122004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еруючий елемент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формує керуючий сигнал відпові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о до прийнятого алгоритму керування. При формуванн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кладніших алгоритмів керування, як КЕ можуть бути логічні елементи і електрон-ні обчислювальні маши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Группа 46"/>
          <p:cNvGrpSpPr/>
          <p:nvPr/>
        </p:nvGrpSpPr>
        <p:grpSpPr>
          <a:xfrm>
            <a:off x="6562800" y="2052720"/>
            <a:ext cx="2413080" cy="674640"/>
            <a:chOff x="6562800" y="2052720"/>
            <a:chExt cx="2413080" cy="674640"/>
          </a:xfrm>
        </p:grpSpPr>
        <p:pic>
          <p:nvPicPr>
            <p:cNvPr id="243" name="Picture 3" descr="Функцсх2"/>
            <p:cNvPicPr/>
            <p:nvPr/>
          </p:nvPicPr>
          <p:blipFill>
            <a:blip r:embed="rId1"/>
            <a:srcRect l="0" t="11075" r="51293" b="38643"/>
            <a:stretch/>
          </p:blipFill>
          <p:spPr>
            <a:xfrm>
              <a:off x="6562800" y="2052720"/>
              <a:ext cx="241308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Прямоугольник 48"/>
            <p:cNvSpPr/>
            <p:nvPr/>
          </p:nvSpPr>
          <p:spPr>
            <a:xfrm>
              <a:off x="7508520" y="2234880"/>
              <a:ext cx="44568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800" spc="-1" strike="noStrike">
                  <a:solidFill>
                    <a:srgbClr val="000000"/>
                  </a:solidFill>
                  <a:latin typeface="Arial"/>
                </a:rPr>
                <a:t>КЕ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Прямокутник 81"/>
          <p:cNvSpPr/>
          <p:nvPr/>
        </p:nvSpPr>
        <p:spPr>
          <a:xfrm>
            <a:off x="58680" y="4653000"/>
            <a:ext cx="8947080" cy="1691640"/>
          </a:xfrm>
          <a:prstGeom prst="rect">
            <a:avLst/>
          </a:prstGeom>
          <a:solidFill>
            <a:srgbClr val="00b0f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Виконавчий елемент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перетворює керуючий сигнал у 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уючу дію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(t)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 керований об'єкт через його регулююч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рг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що регулюючий орган об'єкту вимагає механічного переміщення (засувка, реостат і т. п.), то ВЕ називають виконавчим механізмом або сервомеханізм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Группа 57"/>
          <p:cNvGrpSpPr/>
          <p:nvPr/>
        </p:nvGrpSpPr>
        <p:grpSpPr>
          <a:xfrm>
            <a:off x="6597720" y="4699080"/>
            <a:ext cx="2411280" cy="674640"/>
            <a:chOff x="6597720" y="4699080"/>
            <a:chExt cx="2411280" cy="674640"/>
          </a:xfrm>
        </p:grpSpPr>
        <p:pic>
          <p:nvPicPr>
            <p:cNvPr id="247" name="Picture 3" descr="Функцсх2"/>
            <p:cNvPicPr/>
            <p:nvPr/>
          </p:nvPicPr>
          <p:blipFill>
            <a:blip r:embed="rId2"/>
            <a:srcRect l="0" t="11075" r="51293" b="38643"/>
            <a:stretch/>
          </p:blipFill>
          <p:spPr>
            <a:xfrm>
              <a:off x="6597720" y="4699080"/>
              <a:ext cx="241128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Прямоугольник 59"/>
            <p:cNvSpPr/>
            <p:nvPr/>
          </p:nvSpPr>
          <p:spPr>
            <a:xfrm>
              <a:off x="7542720" y="4881240"/>
              <a:ext cx="47304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800" spc="-1" strike="noStrike">
                  <a:solidFill>
                    <a:srgbClr val="000000"/>
                  </a:solidFill>
                  <a:latin typeface="Arial"/>
                </a:rPr>
                <a:t>ВЕ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Прямокутник 81"/>
          <p:cNvSpPr/>
          <p:nvPr/>
        </p:nvSpPr>
        <p:spPr>
          <a:xfrm>
            <a:off x="61920" y="6116760"/>
            <a:ext cx="8947080" cy="915120"/>
          </a:xfrm>
          <a:prstGeom prst="rect">
            <a:avLst/>
          </a:prstGeom>
          <a:solidFill>
            <a:srgbClr val="ddd9c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оректуючі елемент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поліпшують динамічні властивості процесу регулюван-ня і вводяться в автоматичний керуючий пристрій при обґрунтованій необхідн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Группа 3"/>
          <p:cNvGrpSpPr/>
          <p:nvPr/>
        </p:nvGrpSpPr>
        <p:grpSpPr>
          <a:xfrm>
            <a:off x="6661080" y="458640"/>
            <a:ext cx="2374920" cy="1217880"/>
            <a:chOff x="6661080" y="458640"/>
            <a:chExt cx="2374920" cy="1217880"/>
          </a:xfrm>
        </p:grpSpPr>
        <p:pic>
          <p:nvPicPr>
            <p:cNvPr id="251" name="Picture 3" descr="Функцсх2"/>
            <p:cNvPicPr/>
            <p:nvPr/>
          </p:nvPicPr>
          <p:blipFill>
            <a:blip r:embed="rId3"/>
            <a:srcRect l="52187" t="0" r="-167" b="0"/>
            <a:stretch/>
          </p:blipFill>
          <p:spPr>
            <a:xfrm>
              <a:off x="6661080" y="458640"/>
              <a:ext cx="2374920" cy="12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Box 2"/>
            <p:cNvSpPr/>
            <p:nvPr/>
          </p:nvSpPr>
          <p:spPr>
            <a:xfrm>
              <a:off x="6732000" y="852120"/>
              <a:ext cx="502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(t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44"/>
            <p:cNvSpPr/>
            <p:nvPr/>
          </p:nvSpPr>
          <p:spPr>
            <a:xfrm>
              <a:off x="8316360" y="820800"/>
              <a:ext cx="360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ε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Группа 9"/>
          <p:cNvGrpSpPr/>
          <p:nvPr/>
        </p:nvGrpSpPr>
        <p:grpSpPr>
          <a:xfrm>
            <a:off x="6526080" y="3367080"/>
            <a:ext cx="2411640" cy="1185480"/>
            <a:chOff x="6526080" y="3367080"/>
            <a:chExt cx="2411640" cy="1185480"/>
          </a:xfrm>
        </p:grpSpPr>
        <p:grpSp>
          <p:nvGrpSpPr>
            <p:cNvPr id="255" name="Группа 54"/>
            <p:cNvGrpSpPr/>
            <p:nvPr/>
          </p:nvGrpSpPr>
          <p:grpSpPr>
            <a:xfrm>
              <a:off x="6526080" y="3367080"/>
              <a:ext cx="2411640" cy="674640"/>
              <a:chOff x="6526080" y="3367080"/>
              <a:chExt cx="2411640" cy="674640"/>
            </a:xfrm>
          </p:grpSpPr>
          <p:pic>
            <p:nvPicPr>
              <p:cNvPr id="256" name="Picture 3" descr="Функцсх2"/>
              <p:cNvPicPr/>
              <p:nvPr/>
            </p:nvPicPr>
            <p:blipFill>
              <a:blip r:embed="rId4"/>
              <a:srcRect l="0" t="11075" r="51293" b="38643"/>
              <a:stretch/>
            </p:blipFill>
            <p:spPr>
              <a:xfrm>
                <a:off x="6526080" y="3367080"/>
                <a:ext cx="2411640" cy="6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Прямоугольник 56"/>
              <p:cNvSpPr/>
              <p:nvPr/>
            </p:nvSpPr>
            <p:spPr>
              <a:xfrm>
                <a:off x="7470720" y="3549240"/>
                <a:ext cx="494640" cy="426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2800" spc="-1" strike="noStrike">
                    <a:solidFill>
                      <a:srgbClr val="000000"/>
                    </a:solidFill>
                    <a:latin typeface="Arial"/>
                  </a:rPr>
                  <a:t>П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8" name="TextBox 4"/>
            <p:cNvSpPr/>
            <p:nvPr/>
          </p:nvSpPr>
          <p:spPr>
            <a:xfrm>
              <a:off x="6660720" y="4092840"/>
              <a:ext cx="719280" cy="459720"/>
            </a:xfrm>
            <a:prstGeom prst="rect">
              <a:avLst/>
            </a:prstGeom>
            <a:noFill/>
            <a:ln w="38160">
              <a:solidFill>
                <a:srgbClr val="000000">
                  <a:alpha val="71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Б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59" name="Соединительная линия уступом 6"/>
            <p:cNvCxnSpPr>
              <a:stCxn id="258" idx="3"/>
              <a:endCxn id="257" idx="2"/>
            </p:cNvCxnSpPr>
            <p:nvPr/>
          </p:nvCxnSpPr>
          <p:spPr>
            <a:xfrm flipV="1">
              <a:off x="7380000" y="3979080"/>
              <a:ext cx="338760" cy="345240"/>
            </a:xfrm>
            <a:prstGeom prst="bentConnector2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92"/>
          <p:cNvSpPr/>
          <p:nvPr/>
        </p:nvSpPr>
        <p:spPr>
          <a:xfrm>
            <a:off x="34920" y="44280"/>
            <a:ext cx="90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f81bd"/>
                </a:solidFill>
                <a:latin typeface="Calibri"/>
              </a:rPr>
              <a:t>Приклад системи автоматичного регулювання тиску повітря в резервуар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ine 93"/>
          <p:cNvSpPr/>
          <p:nvPr/>
        </p:nvSpPr>
        <p:spPr>
          <a:xfrm>
            <a:off x="374760" y="444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34920" y="5732640"/>
            <a:ext cx="9010800" cy="1009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1 - циліндрична пружина з пристосуванням для її стиснення; 2 - гідравлічний циліндр; 3 - гідравлічний підсилювач типу «сопло-заслінка»; 4 - важіль ; 5 – мано-метрична пружина; 6 – резервуар; 7 – клапан; 8 - вентил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4" descr="Функцсх1"/>
          <p:cNvPicPr/>
          <p:nvPr/>
        </p:nvPicPr>
        <p:blipFill>
          <a:blip r:embed="rId1"/>
          <a:stretch/>
        </p:blipFill>
        <p:spPr>
          <a:xfrm>
            <a:off x="971640" y="549360"/>
            <a:ext cx="72025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1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f81bd"/>
                </a:solidFill>
                <a:latin typeface="Calibri"/>
              </a:rPr>
              <a:t>Функціональна схема системи регулювання тиску повітря в резервуар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Line 93"/>
          <p:cNvSpPr/>
          <p:nvPr/>
        </p:nvSpPr>
        <p:spPr>
          <a:xfrm>
            <a:off x="476280" y="58104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6" descr="Функцсх3"/>
          <p:cNvPicPr/>
          <p:nvPr/>
        </p:nvPicPr>
        <p:blipFill>
          <a:blip r:embed="rId1"/>
          <a:stretch/>
        </p:blipFill>
        <p:spPr>
          <a:xfrm>
            <a:off x="231840" y="765000"/>
            <a:ext cx="8785080" cy="374364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8"/>
          <p:cNvSpPr/>
          <p:nvPr/>
        </p:nvSpPr>
        <p:spPr>
          <a:xfrm>
            <a:off x="231840" y="4653000"/>
            <a:ext cx="8661240" cy="926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Calibri"/>
              </a:rPr>
              <a:t>М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- тиск повітря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-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переміщення;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– подача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Calibri"/>
              </a:rPr>
              <a:t>М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- масла,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Calibri"/>
              </a:rPr>
              <a:t>П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- повітря);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F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- зусил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кутник 129"/>
          <p:cNvSpPr/>
          <p:nvPr/>
        </p:nvSpPr>
        <p:spPr>
          <a:xfrm>
            <a:off x="85680" y="620640"/>
            <a:ext cx="8928000" cy="159696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і побудови систем автоматичного керування лежать загальні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да-ментальні принципи керування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визначають, мету керування та вказують, яким чином здійснюється взаємоузгодження алгоритмів керування із завданням і фактичним функціонуванням системи, а іноді і зі збуреннями, що викликали відхилення вихідної величини від заданого значе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92"/>
          <p:cNvSpPr/>
          <p:nvPr/>
        </p:nvSpPr>
        <p:spPr>
          <a:xfrm>
            <a:off x="324000" y="936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504d"/>
                </a:solidFill>
                <a:latin typeface="Arial"/>
              </a:rPr>
              <a:t>ФУНДАМЕНТАЛЬНІ ПРИНЦИПИ КЕРУВА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93"/>
          <p:cNvSpPr/>
          <p:nvPr/>
        </p:nvSpPr>
        <p:spPr>
          <a:xfrm>
            <a:off x="324000" y="50472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кутник 132"/>
          <p:cNvSpPr/>
          <p:nvPr/>
        </p:nvSpPr>
        <p:spPr>
          <a:xfrm>
            <a:off x="108000" y="2232000"/>
            <a:ext cx="8785080" cy="129204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ніці використовуються три основні фундаментальні принцип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імкненого керування (програмного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ії збурення (керування за збуренням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ування за відхиленням (керування по замкнутому контуру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кутник 142"/>
          <p:cNvSpPr/>
          <p:nvPr/>
        </p:nvSpPr>
        <p:spPr>
          <a:xfrm>
            <a:off x="106200" y="3573360"/>
            <a:ext cx="8929800" cy="1596960"/>
          </a:xfrm>
          <a:prstGeom prst="rect">
            <a:avLst/>
          </a:prstGeom>
          <a:solidFill>
            <a:srgbClr val="c4bd9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цип розімкненого керуванн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гає в тому, що алгоритм керування будується тільки на основі алгоритму функціонування шляхом вибору законів, які визначають дію керуючого пристрою з урахуванням властивостей керовано-го об'єкту, при цьому не враховується фактичне значення керованої величини і дія збуре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кутник 33"/>
          <p:cNvSpPr/>
          <p:nvPr/>
        </p:nvSpPr>
        <p:spPr>
          <a:xfrm>
            <a:off x="130320" y="5246640"/>
            <a:ext cx="8905680" cy="1596960"/>
          </a:xfrm>
          <a:prstGeom prst="rect">
            <a:avLst/>
          </a:prstGeom>
          <a:solidFill>
            <a:srgbClr val="00b0f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лгоритм функціонування може задаватися окремим пристроєм – задатчи-ком алгоритму функціонування (ЗАФ) або закладений в конструкцію блоку керу-вання (БК). Тоді ЗАФ може бути взагалі відсутній. За розімкненим принципом побудовані багато які задатчики програми, наприклад програмні реле часу, кулачкові механізми газорозподілу двигунів внутрішнього згоряння та і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кутник 22"/>
          <p:cNvSpPr/>
          <p:nvPr/>
        </p:nvSpPr>
        <p:spPr>
          <a:xfrm>
            <a:off x="144360" y="692280"/>
            <a:ext cx="8891640" cy="11696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цип компенса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ерування за збуренням)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ягає в тому, що керуючий пристрій формує керуючу дію так, щоб компенсува-ти дію збурення на КО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кутник 23"/>
          <p:cNvSpPr/>
          <p:nvPr/>
        </p:nvSpPr>
        <p:spPr>
          <a:xfrm>
            <a:off x="120600" y="1901880"/>
            <a:ext cx="8915400" cy="1341000"/>
          </a:xfrm>
          <a:prstGeom prst="rect">
            <a:avLst/>
          </a:prstGeom>
          <a:solidFill>
            <a:srgbClr val="92d050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цип компенсації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був запропонований французьким інженером Ж. Понселе в 1830 р. і реалізований на практиці в 1869 р. російським інже-нером В. Н. Чикалевим в установці автоматичного регулювання горіння дугових ламп. Цей принцип називають принципом Понселе - Чикале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92"/>
          <p:cNvSpPr/>
          <p:nvPr/>
        </p:nvSpPr>
        <p:spPr>
          <a:xfrm>
            <a:off x="324000" y="18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504d"/>
                </a:solidFill>
                <a:latin typeface="Arial"/>
              </a:rPr>
              <a:t>ФУНДАМЕНТАЛЬНІ ПРИНЦИПИ КЕРУВА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кутник 23"/>
          <p:cNvSpPr/>
          <p:nvPr/>
        </p:nvSpPr>
        <p:spPr>
          <a:xfrm>
            <a:off x="120600" y="3262320"/>
            <a:ext cx="8915400" cy="670680"/>
          </a:xfrm>
          <a:prstGeom prst="rect">
            <a:avLst/>
          </a:prstGeom>
          <a:solidFill>
            <a:srgbClr val="00b0f0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ому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для кожного виду збурення необхідно використовувати окремий компенсуючий пристрій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кутник 23"/>
          <p:cNvSpPr/>
          <p:nvPr/>
        </p:nvSpPr>
        <p:spPr>
          <a:xfrm>
            <a:off x="114480" y="4692600"/>
            <a:ext cx="8915400" cy="569880"/>
          </a:xfrm>
          <a:prstGeom prst="rect">
            <a:avLst/>
          </a:prstGeom>
          <a:solidFill>
            <a:srgbClr val="e6b9b8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Тому, звичайно, виділяють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основне збуренн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яке створює найбільший вплив на КО і для нього передбачають компенсуючий пристрі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кутник 23"/>
          <p:cNvSpPr/>
          <p:nvPr/>
        </p:nvSpPr>
        <p:spPr>
          <a:xfrm>
            <a:off x="103320" y="5288040"/>
            <a:ext cx="8915400" cy="569880"/>
          </a:xfrm>
          <a:prstGeom prst="rect">
            <a:avLst/>
          </a:prstGeom>
          <a:solidFill>
            <a:srgbClr val="b9cde5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і САК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ають високу швидкодію, оскільки система безпосередньо реагує на причину, яка призвела до небажаної зміни керованої величин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кутник 23"/>
          <p:cNvSpPr/>
          <p:nvPr/>
        </p:nvSpPr>
        <p:spPr>
          <a:xfrm>
            <a:off x="103320" y="5877000"/>
            <a:ext cx="8915400" cy="854640"/>
          </a:xfrm>
          <a:prstGeom prst="rect">
            <a:avLst/>
          </a:prstGeom>
          <a:solidFill>
            <a:srgbClr val="fcd5b5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омпенсація усіх збурень ускладнена і неголовними збуреннями, як правило, нехтують, але їх сумарна дія може бути значною – що є істотним недоліком даного принципу керува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кутник 23"/>
          <p:cNvSpPr/>
          <p:nvPr/>
        </p:nvSpPr>
        <p:spPr>
          <a:xfrm>
            <a:off x="103320" y="3940200"/>
            <a:ext cx="8915400" cy="670680"/>
          </a:xfrm>
          <a:prstGeom prst="rect">
            <a:avLst/>
          </a:prstGeom>
          <a:solidFill>
            <a:srgbClr val="dbeef4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 на КО діє, як правило, багато збурень, і компенсація їх усіх становить значні труднощі.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кутник 18"/>
          <p:cNvSpPr/>
          <p:nvPr/>
        </p:nvSpPr>
        <p:spPr>
          <a:xfrm>
            <a:off x="108000" y="684360"/>
            <a:ext cx="8928000" cy="100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инцип керування за відхиленням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полягає в тому,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що керуюча дія форму-ється тільки при відхиленні керованої величини від заданого значенн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92"/>
          <p:cNvSpPr/>
          <p:nvPr/>
        </p:nvSpPr>
        <p:spPr>
          <a:xfrm>
            <a:off x="324000" y="18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504d"/>
                </a:solidFill>
                <a:latin typeface="Arial"/>
              </a:rPr>
              <a:t>ФУНДАМЕНТАЛЬНІ ПРИНЦИПИ КЕРУВА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кутник 18"/>
          <p:cNvSpPr/>
          <p:nvPr/>
        </p:nvSpPr>
        <p:spPr>
          <a:xfrm>
            <a:off x="77760" y="1413000"/>
            <a:ext cx="8928000" cy="1524960"/>
          </a:xfrm>
          <a:prstGeom prst="rect">
            <a:avLst/>
          </a:prstGeom>
          <a:solidFill>
            <a:srgbClr val="b9cde5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ринцип керування за відхиленням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вперше набув застосування в регуляторі рівня води в казані, запропонованому російським техніком І. І. Ползуновим (1765 р.), і у відцентровому регуляторі частоти обертання валу парової машини англійського механіка Дж. Уатта (1784 р.). У зв'язку з цим принцип керування за відхиленням носить назву принципу Ползунова-Уат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кутник 18"/>
          <p:cNvSpPr/>
          <p:nvPr/>
        </p:nvSpPr>
        <p:spPr>
          <a:xfrm>
            <a:off x="66600" y="3024360"/>
            <a:ext cx="8928000" cy="915120"/>
          </a:xfrm>
          <a:prstGeom prst="rect">
            <a:avLst/>
          </a:prstGeom>
          <a:solidFill>
            <a:srgbClr val="fcd5b5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ля порівняння заданого алгоритму функціонування і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фактичного значення вихідної величини керованого об'єкту в схему вводиться додатковий зв'язок з виходу керованого об'єкту в АК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кутник 18"/>
          <p:cNvSpPr/>
          <p:nvPr/>
        </p:nvSpPr>
        <p:spPr>
          <a:xfrm>
            <a:off x="66600" y="4005360"/>
            <a:ext cx="8928000" cy="610200"/>
          </a:xfrm>
          <a:prstGeom prst="rect">
            <a:avLst/>
          </a:prstGeom>
          <a:solidFill>
            <a:srgbClr val="ddd9c3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Цей зв'язок називається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лінією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зворотного зв'язку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скільки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 ній передається сигнал у зворотному напрямі з виходу об'єкту в блок керув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кутник 18"/>
          <p:cNvSpPr/>
          <p:nvPr/>
        </p:nvSpPr>
        <p:spPr>
          <a:xfrm>
            <a:off x="66600" y="4680000"/>
            <a:ext cx="8928000" cy="610200"/>
          </a:xfrm>
          <a:prstGeom prst="rect">
            <a:avLst/>
          </a:prstGeom>
          <a:solidFill>
            <a:srgbClr val="92d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Лінія зворотного зв'язку ніби замикає контур керування, тому таке керування носить назву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ерування за замкнутим конту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кутник 18"/>
          <p:cNvSpPr/>
          <p:nvPr/>
        </p:nvSpPr>
        <p:spPr>
          <a:xfrm>
            <a:off x="47520" y="5373720"/>
            <a:ext cx="8928360" cy="610200"/>
          </a:xfrm>
          <a:prstGeom prst="rect">
            <a:avLst/>
          </a:prstGeom>
          <a:solidFill>
            <a:srgbClr val="00b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втоматичне керування у функції відхилення фактичного значення вихідної величини від її заданого значення називається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автоматичним регулюванням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кутник 18"/>
          <p:cNvSpPr/>
          <p:nvPr/>
        </p:nvSpPr>
        <p:spPr>
          <a:xfrm>
            <a:off x="47520" y="6048360"/>
            <a:ext cx="8928360" cy="610200"/>
          </a:xfrm>
          <a:prstGeom prst="rect">
            <a:avLst/>
          </a:prstGeom>
          <a:solidFill>
            <a:srgbClr val="b9cde5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і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АК реагують на всі збурення, але мають порівняно невелику швидкоді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Группа 60"/>
          <p:cNvGrpSpPr/>
          <p:nvPr/>
        </p:nvGrpSpPr>
        <p:grpSpPr>
          <a:xfrm>
            <a:off x="77760" y="743040"/>
            <a:ext cx="4133880" cy="3205080"/>
            <a:chOff x="77760" y="743040"/>
            <a:chExt cx="4133880" cy="3205080"/>
          </a:xfrm>
        </p:grpSpPr>
        <p:grpSp>
          <p:nvGrpSpPr>
            <p:cNvPr id="122" name="Группа 61"/>
            <p:cNvGrpSpPr/>
            <p:nvPr/>
          </p:nvGrpSpPr>
          <p:grpSpPr>
            <a:xfrm>
              <a:off x="77760" y="743040"/>
              <a:ext cx="4133880" cy="3205080"/>
              <a:chOff x="77760" y="743040"/>
              <a:chExt cx="4133880" cy="3205080"/>
            </a:xfrm>
          </p:grpSpPr>
          <p:sp>
            <p:nvSpPr>
              <p:cNvPr id="123" name="Надпись 2"/>
              <p:cNvSpPr/>
              <p:nvPr/>
            </p:nvSpPr>
            <p:spPr>
              <a:xfrm>
                <a:off x="77760" y="743040"/>
                <a:ext cx="4086000" cy="3205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1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4" name="Group 2" descr=""/>
              <p:cNvPicPr/>
              <p:nvPr/>
            </p:nvPicPr>
            <p:blipFill>
              <a:blip r:embed="rId1"/>
              <a:stretch/>
            </p:blipFill>
            <p:spPr>
              <a:xfrm>
                <a:off x="84960" y="797760"/>
                <a:ext cx="4126680" cy="310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5" name="Овал 62"/>
            <p:cNvSpPr/>
            <p:nvPr/>
          </p:nvSpPr>
          <p:spPr>
            <a:xfrm>
              <a:off x="3043080" y="2802240"/>
              <a:ext cx="53280" cy="57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92"/>
          <p:cNvSpPr/>
          <p:nvPr/>
        </p:nvSpPr>
        <p:spPr>
          <a:xfrm>
            <a:off x="32400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504d"/>
                </a:solidFill>
                <a:latin typeface="Arial"/>
              </a:rPr>
              <a:t>ФУНДАМЕНТАЛЬНІ ПРИНЦИПИ КЕРУВА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93"/>
          <p:cNvSpPr/>
          <p:nvPr/>
        </p:nvSpPr>
        <p:spPr>
          <a:xfrm>
            <a:off x="324000" y="404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кутник 6"/>
          <p:cNvSpPr/>
          <p:nvPr/>
        </p:nvSpPr>
        <p:spPr>
          <a:xfrm>
            <a:off x="108000" y="468360"/>
            <a:ext cx="8928000" cy="6102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ереваги систем керування за відхиленням забезпечуються використанням зворотного зв'язку, який ділиться на декілька видів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кутник 6"/>
          <p:cNvSpPr/>
          <p:nvPr/>
        </p:nvSpPr>
        <p:spPr>
          <a:xfrm>
            <a:off x="1332000" y="1103400"/>
            <a:ext cx="1942920" cy="6102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кутник 6"/>
          <p:cNvSpPr/>
          <p:nvPr/>
        </p:nvSpPr>
        <p:spPr>
          <a:xfrm>
            <a:off x="4284720" y="1103400"/>
            <a:ext cx="1977840" cy="6102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рстк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учк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кутник 6"/>
          <p:cNvSpPr/>
          <p:nvPr/>
        </p:nvSpPr>
        <p:spPr>
          <a:xfrm>
            <a:off x="96840" y="1773360"/>
            <a:ext cx="8928000" cy="610200"/>
          </a:xfrm>
          <a:prstGeom prst="rect">
            <a:avLst/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Коли дія по лінії зворотного зв'язку складається із задаючою, то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такий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воротний зв'язок називається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озитивним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кутник 6"/>
          <p:cNvSpPr/>
          <p:nvPr/>
        </p:nvSpPr>
        <p:spPr>
          <a:xfrm>
            <a:off x="87480" y="2448000"/>
            <a:ext cx="8928000" cy="61020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що ж дія по лінії зворотного зв'язку віднімається із задаючої дії, то зворотний зв'язок називається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негативн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кутник 6"/>
          <p:cNvSpPr/>
          <p:nvPr/>
        </p:nvSpPr>
        <p:spPr>
          <a:xfrm>
            <a:off x="84240" y="3095640"/>
            <a:ext cx="8928000" cy="610200"/>
          </a:xfrm>
          <a:prstGeom prst="rect">
            <a:avLst/>
          </a:prstGeom>
          <a:solidFill>
            <a:srgbClr val="c4bd97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Системи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втоматичного керування, що працюють за відхиленням, є системами з негативним зворотним зв'яз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кутник 6"/>
          <p:cNvSpPr/>
          <p:nvPr/>
        </p:nvSpPr>
        <p:spPr>
          <a:xfrm>
            <a:off x="92160" y="3743280"/>
            <a:ext cx="8928000" cy="61020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Жорсткий зворотний зв'язок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іє в усталеному і в перехідному режимах, тоді як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гнучкий зворотний зв'язок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іє тільки в перехідному режим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кутник 6"/>
          <p:cNvSpPr/>
          <p:nvPr/>
        </p:nvSpPr>
        <p:spPr>
          <a:xfrm>
            <a:off x="84240" y="4392720"/>
            <a:ext cx="8928000" cy="915120"/>
          </a:xfrm>
          <a:prstGeom prst="rect">
            <a:avLst/>
          </a:prstGeom>
          <a:solidFill>
            <a:srgbClr val="b9cde5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лежно від виду зворотного зв'язку – (жорсткий або гнучкий) САК стабілізації діляться на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статичні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і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астатичні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Ці поняття відносяться до усталеного режиму в системі автоматичного регулюв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кутник 6"/>
          <p:cNvSpPr/>
          <p:nvPr/>
        </p:nvSpPr>
        <p:spPr>
          <a:xfrm>
            <a:off x="84240" y="5364000"/>
            <a:ext cx="8928000" cy="610200"/>
          </a:xfrm>
          <a:prstGeom prst="rect">
            <a:avLst/>
          </a:prstGeom>
          <a:solidFill>
            <a:srgbClr val="c3d69b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егулювання, при якому усталене значення регульованої величини при постій-ному збуренні залежить від значення цього збурення, називається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статичним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кутник 6"/>
          <p:cNvSpPr/>
          <p:nvPr/>
        </p:nvSpPr>
        <p:spPr>
          <a:xfrm>
            <a:off x="96840" y="6021360"/>
            <a:ext cx="8928000" cy="610200"/>
          </a:xfrm>
          <a:prstGeom prst="rect">
            <a:avLst/>
          </a:prstGeom>
          <a:solidFill>
            <a:srgbClr val="f2f2f2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ідхилення регульованої величини від її значення, встановленого завданням, складає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статичну похиб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кутник 11"/>
          <p:cNvSpPr/>
          <p:nvPr/>
        </p:nvSpPr>
        <p:spPr>
          <a:xfrm>
            <a:off x="108000" y="455760"/>
            <a:ext cx="8928000" cy="1524960"/>
          </a:xfrm>
          <a:prstGeom prst="rect">
            <a:avLst/>
          </a:prstGeom>
          <a:solidFill>
            <a:srgbClr val="d7e4bd"/>
          </a:solidFill>
          <a:ln w="2844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Фізична суть виникнення статичної похибки полягає в тому, що в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системах з жорстким зворотним зв'язком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ий зберігає свою дію в усталеному режимі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, для компенсації впливу збурень (навантаження) необхідно змінити керуючу дію.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 результаті кожному значенню збурення (навантаження) буде відповідати своє значення статичної похиб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Таблиця 6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92"/>
          <p:cNvSpPr/>
          <p:nvPr/>
        </p:nvSpPr>
        <p:spPr>
          <a:xfrm>
            <a:off x="32400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504d"/>
                </a:solidFill>
                <a:latin typeface="Arial"/>
              </a:rPr>
              <a:t>ФУНДАМЕНТАЛЬНІ ПРИНЦИПИ КЕРУВА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93"/>
          <p:cNvSpPr/>
          <p:nvPr/>
        </p:nvSpPr>
        <p:spPr>
          <a:xfrm>
            <a:off x="324000" y="404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кутник 11"/>
          <p:cNvSpPr/>
          <p:nvPr/>
        </p:nvSpPr>
        <p:spPr>
          <a:xfrm>
            <a:off x="71280" y="2060640"/>
            <a:ext cx="8964720" cy="915120"/>
          </a:xfrm>
          <a:prstGeom prst="rect">
            <a:avLst/>
          </a:prstGeom>
          <a:solidFill>
            <a:srgbClr val="f2dcdb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егулювання, при якому усталена похибка при постійному збуренні (наван-таженні) рівна нулю(при гнучкому зворотному зв'язку), називається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астатичн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кутник 11"/>
          <p:cNvSpPr/>
          <p:nvPr/>
        </p:nvSpPr>
        <p:spPr>
          <a:xfrm>
            <a:off x="88920" y="2735280"/>
            <a:ext cx="8966160" cy="305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Класифікація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Таблица 3" descr=""/>
          <p:cNvPicPr/>
          <p:nvPr/>
        </p:nvPicPr>
        <p:blipFill>
          <a:blip r:embed="rId1"/>
          <a:stretch/>
        </p:blipFill>
        <p:spPr>
          <a:xfrm>
            <a:off x="96840" y="3084480"/>
            <a:ext cx="9083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кутник 81"/>
          <p:cNvSpPr/>
          <p:nvPr/>
        </p:nvSpPr>
        <p:spPr>
          <a:xfrm>
            <a:off x="108000" y="476280"/>
            <a:ext cx="8928000" cy="91512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ля вивчення принципу роботи систем автоматики у цілому, взаємодії їхніх різних елементів, їх поведінки в усталених та динамічних режимах системи представляють у вигляді схе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92"/>
          <p:cNvSpPr/>
          <p:nvPr/>
        </p:nvSpPr>
        <p:spPr>
          <a:xfrm>
            <a:off x="25092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f81bd"/>
                </a:solidFill>
                <a:latin typeface="Calibri"/>
              </a:rPr>
              <a:t>СХЕМ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93"/>
          <p:cNvSpPr/>
          <p:nvPr/>
        </p:nvSpPr>
        <p:spPr>
          <a:xfrm>
            <a:off x="287280" y="3999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кутник 81"/>
          <p:cNvSpPr/>
          <p:nvPr/>
        </p:nvSpPr>
        <p:spPr>
          <a:xfrm>
            <a:off x="71280" y="1440000"/>
            <a:ext cx="8964720" cy="61020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и розробці САК використовують три види схе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 принципові;       -  функціональні;     -  структурн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кутник 81"/>
          <p:cNvSpPr/>
          <p:nvPr/>
        </p:nvSpPr>
        <p:spPr>
          <a:xfrm>
            <a:off x="71280" y="2076480"/>
            <a:ext cx="3741840" cy="46314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а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ринциповій схемі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всі еле-менти, що входять до системи та зв’язки між ними зображуються за допомогою умовних стандарт-них позначень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(принципові кіне-матичні схеми автомобілів та тракторів, принципові електричні схеми радіоприймачів та телеві-зорів). Для зручності читання при-нципових схем кожному елементу привласнюють буквене або циф-рове позначе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Ці схеми використовують при вивченні принципу роботи всього пристрою, при налаштуванні, контролі та ремонті систе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Группа 6"/>
          <p:cNvGrpSpPr/>
          <p:nvPr/>
        </p:nvGrpSpPr>
        <p:grpSpPr>
          <a:xfrm>
            <a:off x="3813120" y="2101680"/>
            <a:ext cx="5230800" cy="4631040"/>
            <a:chOff x="3813120" y="2101680"/>
            <a:chExt cx="5230800" cy="4631040"/>
          </a:xfrm>
        </p:grpSpPr>
        <p:sp>
          <p:nvSpPr>
            <p:cNvPr id="170" name="Text Box 25"/>
            <p:cNvSpPr/>
            <p:nvPr/>
          </p:nvSpPr>
          <p:spPr>
            <a:xfrm>
              <a:off x="3820320" y="6093000"/>
              <a:ext cx="5223600" cy="63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Принципова схема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системи регулювання тиску повітря в резервуарі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1" name="Picture 26" descr="Функцсх1"/>
            <p:cNvPicPr/>
            <p:nvPr/>
          </p:nvPicPr>
          <p:blipFill>
            <a:blip r:embed="rId1"/>
            <a:stretch/>
          </p:blipFill>
          <p:spPr>
            <a:xfrm>
              <a:off x="3813120" y="2101680"/>
              <a:ext cx="5223600" cy="399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92"/>
          <p:cNvSpPr/>
          <p:nvPr/>
        </p:nvSpPr>
        <p:spPr>
          <a:xfrm>
            <a:off x="25092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f81bd"/>
                </a:solidFill>
                <a:latin typeface="Calibri"/>
              </a:rPr>
              <a:t>СХЕМ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93"/>
          <p:cNvSpPr/>
          <p:nvPr/>
        </p:nvSpPr>
        <p:spPr>
          <a:xfrm>
            <a:off x="287280" y="3999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кутник 81"/>
          <p:cNvSpPr/>
          <p:nvPr/>
        </p:nvSpPr>
        <p:spPr>
          <a:xfrm>
            <a:off x="71280" y="476280"/>
            <a:ext cx="8964720" cy="152496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Функціональні схеми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САК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відображають певні процеси, які протікають в окре-мих функціональних частинах системи, що зображуються прямокутниками у які вписуються назви елементів відповідно до функцій, що вони виконую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в'язки між функціональними елементами зображуються стрілками над якими приводяться величини, що передаються від одного елемента до іншо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93"/>
          <p:cNvSpPr/>
          <p:nvPr/>
        </p:nvSpPr>
        <p:spPr>
          <a:xfrm>
            <a:off x="287280" y="3999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кутник 81"/>
          <p:cNvSpPr/>
          <p:nvPr/>
        </p:nvSpPr>
        <p:spPr>
          <a:xfrm>
            <a:off x="52560" y="2055960"/>
            <a:ext cx="8966160" cy="122004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иходячи із задач керування, у кожному конкретному випадку може бути складена тільки одна функціональна схема керуванн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 однією функціональною схемою, як правило, можна розробити декілька принципових схем та вибрати із них кращ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кутник 81"/>
          <p:cNvSpPr/>
          <p:nvPr/>
        </p:nvSpPr>
        <p:spPr>
          <a:xfrm>
            <a:off x="88920" y="3348000"/>
            <a:ext cx="8966160" cy="915120"/>
          </a:xfrm>
          <a:prstGeom prst="rect">
            <a:avLst/>
          </a:prstGeom>
          <a:solidFill>
            <a:srgbClr val="c6d9f1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Щоб скласти функціональну схему САК, слід виділити функціональні елементи, їх вхідні і вихідні величини і представити їх умовними позначеннями, вказавши напрям передачі сигналу від одного елемента до іншо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кутник 81"/>
          <p:cNvSpPr/>
          <p:nvPr/>
        </p:nvSpPr>
        <p:spPr>
          <a:xfrm>
            <a:off x="52560" y="4276800"/>
            <a:ext cx="9002520" cy="2439720"/>
          </a:xfrm>
          <a:prstGeom prst="rect">
            <a:avLst/>
          </a:prstGeom>
          <a:solidFill>
            <a:srgbClr val="fdeada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Структурні схеми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казують взаємозв’язок окремих частин системи та харак-теризують їхні динамічні властивості. На структурній схемі всі ланки, що входять до неї зображуються у вигляді прямокутників куди вписуються їхні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ередавальні функції (математичні залежності між вхідними та вихідними величинами даної ланки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, а зв’язки між ланками зображуються стрілками над якими приводяться величини, що передаються від однієї ланки до іншо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труктурні схеми широко використовуються при дослідженні динаміки САК (їхньої роботи в усталених та перехідних режима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92"/>
          <p:cNvSpPr/>
          <p:nvPr/>
        </p:nvSpPr>
        <p:spPr>
          <a:xfrm>
            <a:off x="25092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f81bd"/>
                </a:solidFill>
                <a:latin typeface="Calibri"/>
              </a:rPr>
              <a:t>ФУНКЦІОНАЛЬНІ ЕЛЕМЕНТИ АВТОМАТИЧНИХ КЕРУЮЧИХ ПРИСТРОЇ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кутник 81"/>
          <p:cNvSpPr/>
          <p:nvPr/>
        </p:nvSpPr>
        <p:spPr>
          <a:xfrm>
            <a:off x="71280" y="476280"/>
            <a:ext cx="8964720" cy="122004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КП і регулятори складаються з окремих елементів, які виконують певні функ-ції. Якщо регулятор конструктивно виконаний у вигляді окремого виробу, то в ньо-му можна виділити складові частини або деталі, що виконують функції, необхідні і обов'язкові для АКП або регулято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93"/>
          <p:cNvSpPr/>
          <p:nvPr/>
        </p:nvSpPr>
        <p:spPr>
          <a:xfrm>
            <a:off x="287280" y="3999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кутник 81"/>
          <p:cNvSpPr/>
          <p:nvPr/>
        </p:nvSpPr>
        <p:spPr>
          <a:xfrm>
            <a:off x="52560" y="1773360"/>
            <a:ext cx="8966160" cy="30528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сновні функціональні елементи АКП і регулято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кутник 81"/>
          <p:cNvSpPr/>
          <p:nvPr/>
        </p:nvSpPr>
        <p:spPr>
          <a:xfrm>
            <a:off x="71280" y="3960720"/>
            <a:ext cx="8947440" cy="1261800"/>
          </a:xfrm>
          <a:prstGeom prst="rect">
            <a:avLst/>
          </a:prstGeom>
          <a:solidFill>
            <a:srgbClr val="c6d9f1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Задаючий елемент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служить для установлення завд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я регулятору; він виробляє еталонну величину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, з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о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рівнюється фактичне значення керованої величин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 ЗЕ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дає алгоритм функціонування керованого об'єк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кутник 81"/>
          <p:cNvSpPr/>
          <p:nvPr/>
        </p:nvSpPr>
        <p:spPr>
          <a:xfrm>
            <a:off x="61920" y="5256360"/>
            <a:ext cx="8947080" cy="122004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Сприймаючий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(вимірювальний, чутливий)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елемент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(датчик) призначений для отримання інформації про ф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тичне значення керованої (регульованої) величини об'єкту у вигляді сигналу певної фізичної природ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Группа 29"/>
          <p:cNvGrpSpPr/>
          <p:nvPr/>
        </p:nvGrpSpPr>
        <p:grpSpPr>
          <a:xfrm>
            <a:off x="6562800" y="5256360"/>
            <a:ext cx="2413080" cy="674640"/>
            <a:chOff x="6562800" y="5256360"/>
            <a:chExt cx="2413080" cy="674640"/>
          </a:xfrm>
        </p:grpSpPr>
        <p:pic>
          <p:nvPicPr>
            <p:cNvPr id="205" name="Picture 3" descr="Функцсх2"/>
            <p:cNvPicPr/>
            <p:nvPr/>
          </p:nvPicPr>
          <p:blipFill>
            <a:blip r:embed="rId1"/>
            <a:srcRect l="0" t="11075" r="51293" b="38643"/>
            <a:stretch/>
          </p:blipFill>
          <p:spPr>
            <a:xfrm>
              <a:off x="6562800" y="5256360"/>
              <a:ext cx="241308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Прямоугольник 31"/>
            <p:cNvSpPr/>
            <p:nvPr/>
          </p:nvSpPr>
          <p:spPr>
            <a:xfrm>
              <a:off x="7509240" y="5438520"/>
              <a:ext cx="49284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i="1" lang="uk-UA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Группа 1"/>
          <p:cNvGrpSpPr/>
          <p:nvPr/>
        </p:nvGrpSpPr>
        <p:grpSpPr>
          <a:xfrm>
            <a:off x="7415280" y="3887640"/>
            <a:ext cx="1549440" cy="747720"/>
            <a:chOff x="7415280" y="3887640"/>
            <a:chExt cx="1549440" cy="747720"/>
          </a:xfrm>
        </p:grpSpPr>
        <p:pic>
          <p:nvPicPr>
            <p:cNvPr id="208" name="Picture 3" descr="Функцсх2"/>
            <p:cNvPicPr/>
            <p:nvPr/>
          </p:nvPicPr>
          <p:blipFill>
            <a:blip r:embed="rId2"/>
            <a:srcRect l="17032" t="11067" r="51722" b="38653"/>
            <a:stretch/>
          </p:blipFill>
          <p:spPr>
            <a:xfrm>
              <a:off x="7415280" y="3958920"/>
              <a:ext cx="1549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Прямоугольник 3"/>
            <p:cNvSpPr/>
            <p:nvPr/>
          </p:nvSpPr>
          <p:spPr>
            <a:xfrm>
              <a:off x="7516800" y="4141800"/>
              <a:ext cx="45504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800" spc="-1" strike="noStrike">
                  <a:solidFill>
                    <a:srgbClr val="000000"/>
                  </a:solidFill>
                  <a:latin typeface="Arial"/>
                </a:rPr>
                <a:t>ЗЕ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Прямоугольник 3"/>
            <p:cNvSpPr/>
            <p:nvPr/>
          </p:nvSpPr>
          <p:spPr>
            <a:xfrm>
              <a:off x="8190000" y="3887640"/>
              <a:ext cx="559080" cy="4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i="1" lang="uk-UA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1" name="Прямокутник 81" descr=""/>
          <p:cNvPicPr/>
          <p:nvPr/>
        </p:nvPicPr>
        <p:blipFill>
          <a:blip r:embed="rId3"/>
          <a:stretch/>
        </p:blipFill>
        <p:spPr>
          <a:xfrm>
            <a:off x="-96840" y="2017800"/>
            <a:ext cx="9118440" cy="206064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кутник 81"/>
          <p:cNvSpPr/>
          <p:nvPr/>
        </p:nvSpPr>
        <p:spPr>
          <a:xfrm>
            <a:off x="4067280" y="2565360"/>
            <a:ext cx="4897440" cy="61020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крім цих елементів, в складніших АКП застосовуються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оректуючі елемент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8:44:46Z</dcterms:created>
  <dc:creator>Master</dc:creator>
  <dc:description/>
  <dc:language>en-US</dc:language>
  <cp:lastModifiedBy>Master</cp:lastModifiedBy>
  <dcterms:modified xsi:type="dcterms:W3CDTF">2020-08-31T12:44:15Z</dcterms:modified>
  <cp:revision>45</cp:revision>
  <dc:subject/>
  <dc:title>Презентация PowerPoint</dc:title>
</cp:coreProperties>
</file>