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D8D-97F0-4047-AFC7-0AE4FE4B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B17-2104-45C9-836C-F73EE8A7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54E-264B-4240-A648-02924723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CFC-BC93-4A23-BD97-6909CB1F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BCA-C378-493D-9D0B-878EED24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853-AD31-48E4-A279-F21AAE48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D18-0CB5-4DC3-84E8-4609A43A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A33-FADA-44C2-9EB0-8EA78796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4A0-EE03-462F-9D07-291CE5D8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2EC-7514-4EDC-8563-31534E4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9EC-82CF-4693-AD57-1085B531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E61-1FEE-4F60-8524-87C2E610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9242-5FA0-43C4-8FCA-E6F026E0EDB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2"/>
          <p:cNvSpPr/>
          <p:nvPr/>
        </p:nvSpPr>
        <p:spPr>
          <a:xfrm>
            <a:off x="108000" y="1890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f81bd"/>
                </a:solidFill>
                <a:latin typeface="Arial"/>
              </a:rPr>
              <a:t>АНАЛІЗ СИСТЕМ АВТОМАТИЧНОГО КЕР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кутник 132"/>
          <p:cNvSpPr/>
          <p:nvPr/>
        </p:nvSpPr>
        <p:spPr>
          <a:xfrm>
            <a:off x="3995640" y="76500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кутник 26"/>
          <p:cNvSpPr/>
          <p:nvPr/>
        </p:nvSpPr>
        <p:spPr>
          <a:xfrm>
            <a:off x="324000" y="112536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систем автоматичного кер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ійкість роботи систем автоматичного кер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сть роботи систем автоматичного кер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ійність елементів і систем автома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71280" y="3419640"/>
            <a:ext cx="8964720" cy="1220040"/>
          </a:xfrm>
          <a:prstGeom prst="rect">
            <a:avLst/>
          </a:prstGeom>
          <a:solidFill>
            <a:srgbClr val="ccc1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ступові відмови відбуваються в результаті зношування і старіння елементів, вони піддаються вивченню і можуть прогнозуватис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 Решта з перерахованих від-мов практично не піддаються прогнозуванню, і їх розглядає теорія надій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кутник 81"/>
          <p:cNvSpPr/>
          <p:nvPr/>
        </p:nvSpPr>
        <p:spPr>
          <a:xfrm>
            <a:off x="61920" y="2124000"/>
            <a:ext cx="894708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Збій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– це самозникаюча відмова, що приводить до короткочасної втрати працездат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кутник 81"/>
          <p:cNvSpPr/>
          <p:nvPr/>
        </p:nvSpPr>
        <p:spPr>
          <a:xfrm>
            <a:off x="58680" y="4392720"/>
            <a:ext cx="8947080" cy="129456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ажаючи на те що відмови залежать від безлічі дрібних причин технологічно-го і експлуатаційного характеру,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адійність доводиться розглядати як випадкову величину, що підкоряється законам рівномірного, експоненціального, логариф-мічного нормальног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ама-розподілу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чи розподілам Релея, Вейбулла і Ерланга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кутник 81"/>
          <p:cNvSpPr/>
          <p:nvPr/>
        </p:nvSpPr>
        <p:spPr>
          <a:xfrm>
            <a:off x="71280" y="5511960"/>
            <a:ext cx="8947440" cy="915120"/>
          </a:xfrm>
          <a:prstGeom prst="rect">
            <a:avLst/>
          </a:prstGeom>
          <a:solidFill>
            <a:srgbClr val="ddd9c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визначення характеристик надійності потрібно мати в своєму розпоряд-женні необхідні статистичні відомості, які визначаються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з досвіду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ксплуатації або зі спеціально поставлених лабораторних дослідж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кутник 81"/>
          <p:cNvSpPr/>
          <p:nvPr/>
        </p:nvSpPr>
        <p:spPr>
          <a:xfrm>
            <a:off x="88920" y="542880"/>
            <a:ext cx="8966160" cy="61020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вн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е відмова, після виникнення якої використання об'єкту за призначенням неможливе до відновлення його працездат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93"/>
          <p:cNvSpPr/>
          <p:nvPr/>
        </p:nvSpPr>
        <p:spPr>
          <a:xfrm>
            <a:off x="26820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кутник 81"/>
          <p:cNvSpPr/>
          <p:nvPr/>
        </p:nvSpPr>
        <p:spPr>
          <a:xfrm>
            <a:off x="82440" y="1158840"/>
            <a:ext cx="8966160" cy="91512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Частков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е відмова, після виникнення якої використання об'єкту за призначенням можливе, але при цьому значення одного або декількох основ-них параметрів знаходяться поза допустимими меж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кутник 81"/>
          <p:cNvSpPr/>
          <p:nvPr/>
        </p:nvSpPr>
        <p:spPr>
          <a:xfrm>
            <a:off x="71280" y="2749680"/>
            <a:ext cx="894744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ереміжн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е збій одного і того ж характеру, що багаторазово пов-торює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кутник 81"/>
          <p:cNvSpPr/>
          <p:nvPr/>
        </p:nvSpPr>
        <p:spPr>
          <a:xfrm>
            <a:off x="79200" y="1508040"/>
            <a:ext cx="894888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Імовірність безвідмовної роботи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це імовірність того, що елемент зберігатиме параметри в заданих межах протягом певного часу і за певних умов експлуатац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кутник 81"/>
          <p:cNvSpPr/>
          <p:nvPr/>
        </p:nvSpPr>
        <p:spPr>
          <a:xfrm>
            <a:off x="88920" y="542880"/>
            <a:ext cx="8966160" cy="91512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Для оцінки надійності елементів найчастіше використовують ймовірність без-відмовної роботи протягом певного часу, середній час безвідмовної роботи, час-тоту і небезпеку відмов в певних умовах експлуатації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ine 93"/>
          <p:cNvSpPr/>
          <p:nvPr/>
        </p:nvSpPr>
        <p:spPr>
          <a:xfrm>
            <a:off x="26820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кутник 81"/>
          <p:cNvSpPr/>
          <p:nvPr/>
        </p:nvSpPr>
        <p:spPr>
          <a:xfrm>
            <a:off x="88920" y="2647800"/>
            <a:ext cx="894708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кількість елементів, що пропрацювали без відмови протягом час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- кількість елементів у випробовуваній парт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3071880" y="2124000"/>
            <a:ext cx="19285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кутник 81"/>
          <p:cNvSpPr/>
          <p:nvPr/>
        </p:nvSpPr>
        <p:spPr>
          <a:xfrm>
            <a:off x="61920" y="3311640"/>
            <a:ext cx="8983800" cy="610200"/>
          </a:xfrm>
          <a:prstGeom prst="rect">
            <a:avLst/>
          </a:prstGeom>
          <a:solidFill>
            <a:srgbClr val="c6d9f1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мовірність безвідмовної роботи характеризує зміну надійності в часі і враховує в основному всі чинники, що істотно впливають на надійність елемен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кутник 81"/>
          <p:cNvSpPr/>
          <p:nvPr/>
        </p:nvSpPr>
        <p:spPr>
          <a:xfrm>
            <a:off x="42840" y="3952800"/>
            <a:ext cx="8985240" cy="610200"/>
          </a:xfrm>
          <a:prstGeom prst="rect">
            <a:avLst/>
          </a:prstGeom>
          <a:solidFill>
            <a:srgbClr val="e6e0ec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дійність елементів також можна характеризувати імовірністю відмови про-тягом певного час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2640600" y="4384800"/>
            <a:ext cx="22165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кутник 81"/>
          <p:cNvSpPr/>
          <p:nvPr/>
        </p:nvSpPr>
        <p:spPr>
          <a:xfrm>
            <a:off x="79200" y="4967280"/>
            <a:ext cx="8985600" cy="610200"/>
          </a:xfrm>
          <a:prstGeom prst="rect">
            <a:avLst/>
          </a:prstGeom>
          <a:solidFill>
            <a:srgbClr val="c6d9f1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ередній час безвідмовної роботи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це математичне сподівання часу роботи, коли елемент знаходиться в справному стані (до першої відмов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Объект 9"/>
              <p:cNvSpPr txBox="1"/>
              <p:nvPr/>
            </p:nvSpPr>
            <p:spPr>
              <a:xfrm>
                <a:off x="3235320" y="5583240"/>
                <a:ext cx="21398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3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13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13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13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14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14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1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кутник 81"/>
          <p:cNvSpPr/>
          <p:nvPr/>
        </p:nvSpPr>
        <p:spPr>
          <a:xfrm>
            <a:off x="108000" y="2492280"/>
            <a:ext cx="894708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Частота відмов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це густина імовірності часу роботи елементу з моменту включення до відмов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3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13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13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13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14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4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92"/>
          <p:cNvSpPr/>
          <p:nvPr/>
        </p:nvSpPr>
        <p:spPr>
          <a:xfrm>
            <a:off x="420840" y="1062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Прямокутник 81"/>
          <p:cNvSpPr/>
          <p:nvPr/>
        </p:nvSpPr>
        <p:spPr>
          <a:xfrm>
            <a:off x="88920" y="695160"/>
            <a:ext cx="8966160" cy="6519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 підставі експериментальних даних величи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оже бути визначений із залежност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93"/>
          <p:cNvSpPr/>
          <p:nvPr/>
        </p:nvSpPr>
        <p:spPr>
          <a:xfrm>
            <a:off x="420840" y="6285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Объект 10"/>
              <p:cNvSpPr txBox="1"/>
              <p:nvPr/>
            </p:nvSpPr>
            <p:spPr>
              <a:xfrm>
                <a:off x="2195640" y="1003320"/>
                <a:ext cx="15127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Прямокутник 81"/>
          <p:cNvSpPr/>
          <p:nvPr/>
        </p:nvSpPr>
        <p:spPr>
          <a:xfrm>
            <a:off x="3851280" y="1328760"/>
            <a:ext cx="5221440" cy="6519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час безвідмовної робот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го елемен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Прямоугольник 11"/>
          <p:cNvSpPr/>
          <p:nvPr/>
        </p:nvSpPr>
        <p:spPr>
          <a:xfrm>
            <a:off x="2874600" y="2800440"/>
            <a:ext cx="25567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n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Прямокутник 81"/>
          <p:cNvSpPr/>
          <p:nvPr/>
        </p:nvSpPr>
        <p:spPr>
          <a:xfrm>
            <a:off x="98280" y="3324240"/>
            <a:ext cx="894744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кількість елементів, що відмовили протягом час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кількість випробо-вуваних елемен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Прямокутник 81"/>
          <p:cNvSpPr/>
          <p:nvPr/>
        </p:nvSpPr>
        <p:spPr>
          <a:xfrm>
            <a:off x="88920" y="3995640"/>
            <a:ext cx="8947080" cy="610200"/>
          </a:xfrm>
          <a:prstGeom prst="rect">
            <a:avLst/>
          </a:prstGeom>
          <a:solidFill>
            <a:srgbClr val="b9cde5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Цей показник дозволяє знаходити кількість елементів, які можуть відмовити протягом певного часу робо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Прямокутник 81"/>
          <p:cNvSpPr/>
          <p:nvPr/>
        </p:nvSpPr>
        <p:spPr>
          <a:xfrm>
            <a:off x="71280" y="4680000"/>
            <a:ext cx="8947440" cy="915120"/>
          </a:xfrm>
          <a:prstGeom prst="rect">
            <a:avLst/>
          </a:prstGeom>
          <a:solidFill>
            <a:srgbClr val="fdeada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безпека або інтенсивність відмов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це умовна густина імовірності часу роботи до відмови у певний момент час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за умови, що до цього момент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еле-мент не відмови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Прямоугольник 12"/>
          <p:cNvSpPr/>
          <p:nvPr/>
        </p:nvSpPr>
        <p:spPr>
          <a:xfrm>
            <a:off x="2496960" y="5300640"/>
            <a:ext cx="234324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а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Р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Прямокутник 81"/>
          <p:cNvSpPr/>
          <p:nvPr/>
        </p:nvSpPr>
        <p:spPr>
          <a:xfrm>
            <a:off x="71280" y="5867280"/>
            <a:ext cx="8947440" cy="915120"/>
          </a:xfrm>
          <a:prstGeom prst="rect">
            <a:avLst/>
          </a:prstGeom>
          <a:solidFill>
            <a:srgbClr val="e6e0e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она є основною якісною характеристико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ійності елементів, оскільки доз-воляє знаходити вірогідність безвідмовної роботи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P(t)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 потім з розглянутих спів-відношень визначати решту кількісних характеристик надій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7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кутник 81"/>
          <p:cNvSpPr/>
          <p:nvPr/>
        </p:nvSpPr>
        <p:spPr>
          <a:xfrm>
            <a:off x="71280" y="936720"/>
            <a:ext cx="8974440" cy="61020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процесі роботи елементу зазвичай можна чітко виділити три характерні пе-ріо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1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3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13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3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13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14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4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13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3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13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13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4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4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92"/>
          <p:cNvSpPr/>
          <p:nvPr/>
        </p:nvSpPr>
        <p:spPr>
          <a:xfrm>
            <a:off x="403200" y="284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кутник 81"/>
          <p:cNvSpPr/>
          <p:nvPr/>
        </p:nvSpPr>
        <p:spPr>
          <a:xfrm>
            <a:off x="98280" y="569880"/>
            <a:ext cx="8966520" cy="30528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більшості елементів інтенсивність відмов не є величиною постійною в час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93"/>
          <p:cNvSpPr/>
          <p:nvPr/>
        </p:nvSpPr>
        <p:spPr>
          <a:xfrm>
            <a:off x="403200" y="503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кутник 81"/>
          <p:cNvSpPr/>
          <p:nvPr/>
        </p:nvSpPr>
        <p:spPr>
          <a:xfrm>
            <a:off x="71280" y="3527280"/>
            <a:ext cx="8947440" cy="12200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2 - період нормальної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оботи (інтенсивні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мов знижується 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тає майже постійною величиною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кутник 81"/>
          <p:cNvSpPr/>
          <p:nvPr/>
        </p:nvSpPr>
        <p:spPr>
          <a:xfrm>
            <a:off x="85680" y="5627520"/>
            <a:ext cx="8947080" cy="1097640"/>
          </a:xfrm>
          <a:prstGeom prst="rect">
            <a:avLst/>
          </a:prstGeom>
          <a:solidFill>
            <a:srgbClr val="e6e0e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нтенсивність відмов залежить від вигляду і якості елементів, режиму і умов ро-боти і може коливатися в широких межах навіть у разі однотипних елементів, що працюють в однакових умовах і режимі. Це пояснюється в основному відмінністю якості виготовлення елемен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Прямокутник 81"/>
          <p:cNvSpPr/>
          <p:nvPr/>
        </p:nvSpPr>
        <p:spPr>
          <a:xfrm>
            <a:off x="85680" y="1628640"/>
            <a:ext cx="2685960" cy="18298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1 - період припрацюва-ння і ранніх відмов (ха-рактеризується підвище-ною кількістю відмов через приховані дефект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кутник 81"/>
          <p:cNvSpPr/>
          <p:nvPr/>
        </p:nvSpPr>
        <p:spPr>
          <a:xfrm>
            <a:off x="69840" y="4791240"/>
            <a:ext cx="8947080" cy="7768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3 - період старіння та недопустимого зношування елементів (інтенсивність від-мов знову збільшується – звичайно при цьому з економічної точки зору необхідно припиняти експлуатаці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9" name="Объект 2"/>
          <p:cNvGraphicFramePr/>
          <p:nvPr/>
        </p:nvGraphicFramePr>
        <p:xfrm>
          <a:off x="2603520" y="1243080"/>
          <a:ext cx="64548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3520" y="1243080"/>
                    <a:ext cx="64548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кутник 81"/>
          <p:cNvSpPr/>
          <p:nvPr/>
        </p:nvSpPr>
        <p:spPr>
          <a:xfrm>
            <a:off x="71280" y="1152360"/>
            <a:ext cx="8974440" cy="5180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слідовному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’єднані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елементів відмова будь-якого з них викликає відмову всього пристрою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92"/>
          <p:cNvSpPr/>
          <p:nvPr/>
        </p:nvSpPr>
        <p:spPr>
          <a:xfrm>
            <a:off x="403200" y="284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Прямокутник 81"/>
          <p:cNvSpPr/>
          <p:nvPr/>
        </p:nvSpPr>
        <p:spPr>
          <a:xfrm>
            <a:off x="98280" y="569880"/>
            <a:ext cx="8966520" cy="5180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реальних пристроях автоматики з погляду надійності прості елементи з’єд-нані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слідовно і паралельно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Line 93"/>
          <p:cNvSpPr/>
          <p:nvPr/>
        </p:nvSpPr>
        <p:spPr>
          <a:xfrm>
            <a:off x="403200" y="503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Прямокутник 81"/>
          <p:cNvSpPr/>
          <p:nvPr/>
        </p:nvSpPr>
        <p:spPr>
          <a:xfrm>
            <a:off x="73080" y="2281320"/>
            <a:ext cx="8980560" cy="7768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 підставі теореми множення незалежних подій імовірність безвідмовної ро-боти пристрою, що місти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слідовно з’єднаних елементів, визначиться залежніст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Прямокутник 81"/>
          <p:cNvSpPr/>
          <p:nvPr/>
        </p:nvSpPr>
        <p:spPr>
          <a:xfrm>
            <a:off x="85680" y="1728720"/>
            <a:ext cx="8972640" cy="5180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аралельному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з'єднанні відмова всього пристрою наступає після відмови всіх елемен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Прямоугольник 16"/>
          <p:cNvSpPr/>
          <p:nvPr/>
        </p:nvSpPr>
        <p:spPr>
          <a:xfrm>
            <a:off x="2491920" y="2805120"/>
            <a:ext cx="391572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Р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∙ Р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∙∙∙ Р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Прямокутник 81"/>
          <p:cNvSpPr/>
          <p:nvPr/>
        </p:nvSpPr>
        <p:spPr>
          <a:xfrm>
            <a:off x="85680" y="3343320"/>
            <a:ext cx="8980560" cy="133020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тже,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послідовному з'єднанні елементів імовірність безвідмовної роботи пристрою буде меншою від найменшого значенн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лементу, що входить в з'єднання, тому для забезпечення високої надійності пристрою при послідовному з'єднанні необхідно застосовувати елементи з імовірністю безвідмовної роботи, близькою до одиниц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Прямокутник 81"/>
          <p:cNvSpPr/>
          <p:nvPr/>
        </p:nvSpPr>
        <p:spPr>
          <a:xfrm>
            <a:off x="71280" y="4729320"/>
            <a:ext cx="8982360" cy="518040"/>
          </a:xfrm>
          <a:prstGeom prst="rect">
            <a:avLst/>
          </a:prstGeom>
          <a:solidFill>
            <a:srgbClr val="ebf1de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що пристрій містить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аралельно з’єднаних елементів, імовірність безвід-мовної його роботи визначиться вираз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Прямокутник 81"/>
          <p:cNvSpPr/>
          <p:nvPr/>
        </p:nvSpPr>
        <p:spPr>
          <a:xfrm>
            <a:off x="98280" y="5518080"/>
            <a:ext cx="8980560" cy="133020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разі паралельного з'єднання імовірність безвідмовної роботи пристрою мо-же бути високою при порівняно невеликих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проте паралельні з'єднання уск-ладнюють пристрої автоматики, через резервування елементів та призводять до підвищення витрат енергії і тому в системах сільськогосподарського призначення практично не застосовую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Прямоугольник 19"/>
          <p:cNvSpPr/>
          <p:nvPr/>
        </p:nvSpPr>
        <p:spPr>
          <a:xfrm>
            <a:off x="4695840" y="4991040"/>
            <a:ext cx="435780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∙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∙∙∙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1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кутник 81"/>
          <p:cNvSpPr/>
          <p:nvPr/>
        </p:nvSpPr>
        <p:spPr>
          <a:xfrm>
            <a:off x="85680" y="1557360"/>
            <a:ext cx="8972640" cy="93240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даний час висока імовірність безвідмовної роботи елементів сільськогосподарської автоматики може досягатися трьома групами методів: виробничою, схемно-конструктивною і експлуатаційн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92"/>
          <p:cNvSpPr/>
          <p:nvPr/>
        </p:nvSpPr>
        <p:spPr>
          <a:xfrm>
            <a:off x="403200" y="284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Прямокутник 81"/>
          <p:cNvSpPr/>
          <p:nvPr/>
        </p:nvSpPr>
        <p:spPr>
          <a:xfrm>
            <a:off x="98280" y="569880"/>
            <a:ext cx="8966520" cy="932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сока надійність сільськогосподарських пристроїв автоматики досягається високою імовірністю безвідмовної роботи окремих елемент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Line 93"/>
          <p:cNvSpPr/>
          <p:nvPr/>
        </p:nvSpPr>
        <p:spPr>
          <a:xfrm>
            <a:off x="403200" y="503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Прямокутник 81"/>
          <p:cNvSpPr/>
          <p:nvPr/>
        </p:nvSpPr>
        <p:spPr>
          <a:xfrm>
            <a:off x="90360" y="2565360"/>
            <a:ext cx="8974440" cy="932400"/>
          </a:xfrm>
          <a:prstGeom prst="rect">
            <a:avLst/>
          </a:prstGeom>
          <a:solidFill>
            <a:srgbClr val="e6e0ec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робнича група методів включає вдосконалення технології виго-товлення елементів, аналіз причин відмов з подальшим усуненням, вдосконалення контролю в процесі виробниц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Прямокутник 81"/>
          <p:cNvSpPr/>
          <p:nvPr/>
        </p:nvSpPr>
        <p:spPr>
          <a:xfrm>
            <a:off x="58680" y="3598920"/>
            <a:ext cx="8974080" cy="93240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руга група методів включає розробку схем з широкими допус-ками на відхилення параметрів, вибір відповідних величин навантажень і так дал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Прямокутник 81"/>
          <p:cNvSpPr/>
          <p:nvPr/>
        </p:nvSpPr>
        <p:spPr>
          <a:xfrm>
            <a:off x="76320" y="4687920"/>
            <a:ext cx="8974080" cy="621720"/>
          </a:xfrm>
          <a:prstGeom prst="rect">
            <a:avLst/>
          </a:prstGeom>
          <a:solidFill>
            <a:srgbClr val="ebf1de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ксплуатаційна група методів включає корекцію робочих режимів елементів і профілактичні захо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1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кутник 129"/>
          <p:cNvSpPr/>
          <p:nvPr/>
        </p:nvSpPr>
        <p:spPr>
          <a:xfrm>
            <a:off x="85680" y="620640"/>
            <a:ext cx="8950320" cy="6822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розробці САК завжди виникає питання вибору найкращого варіанту принципової схе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92"/>
          <p:cNvSpPr/>
          <p:nvPr/>
        </p:nvSpPr>
        <p:spPr>
          <a:xfrm>
            <a:off x="344520" y="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ВИМОГИ ДО СИСТЕМ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93"/>
          <p:cNvSpPr/>
          <p:nvPr/>
        </p:nvSpPr>
        <p:spPr>
          <a:xfrm>
            <a:off x="324000" y="50472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кутник 132"/>
          <p:cNvSpPr/>
          <p:nvPr/>
        </p:nvSpPr>
        <p:spPr>
          <a:xfrm>
            <a:off x="71280" y="1413000"/>
            <a:ext cx="8955360" cy="159696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ерш за все необхідно наддавати перевагу варіантам схем, що забезпечують високу експлуатаційну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адійність систем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цьому слід ураховувати, що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надійна система автоматичного регулюван-ня за інших добрих її характеристиках виявля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рактично недоцільною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кутник 142"/>
          <p:cNvSpPr/>
          <p:nvPr/>
        </p:nvSpPr>
        <p:spPr>
          <a:xfrm>
            <a:off x="63360" y="2852640"/>
            <a:ext cx="8972640" cy="682200"/>
          </a:xfrm>
          <a:prstGeom prst="rect">
            <a:avLst/>
          </a:prstGeom>
          <a:solidFill>
            <a:srgbClr val="00b05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Другою умовою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якій повинна задовольняти САК, є забезпеченн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тійкості і необхідної якості роботи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кутник 33"/>
          <p:cNvSpPr/>
          <p:nvPr/>
        </p:nvSpPr>
        <p:spPr>
          <a:xfrm>
            <a:off x="104760" y="3716280"/>
            <a:ext cx="8962920" cy="98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стійка система характеризується безмежним відхиленням регульованої величини від заданого значення у бік збільшення або зменшення за наявності збурюючих дій і тому є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працездатною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кутник 33"/>
          <p:cNvSpPr/>
          <p:nvPr/>
        </p:nvSpPr>
        <p:spPr>
          <a:xfrm>
            <a:off x="81000" y="4869000"/>
            <a:ext cx="8964720" cy="98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изькі якісні показники САК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тобто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точність підтримки регульованої величи-ни, оцінювана за величиною її відхилення від заданого значення в усталеному і перехідному режимах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 дозволяють використовувати їх на практиці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кутник 33"/>
          <p:cNvSpPr/>
          <p:nvPr/>
        </p:nvSpPr>
        <p:spPr>
          <a:xfrm>
            <a:off x="90360" y="5996160"/>
            <a:ext cx="8963280" cy="682200"/>
          </a:xfrm>
          <a:prstGeom prst="rect">
            <a:avLst/>
          </a:prstGeom>
          <a:solidFill>
            <a:srgbClr val="92d05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ому при розробці САК основною задачею є отримання стійких, надійних систем автоматичного регулювання, які працюють із заданою якіст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кутник 22"/>
          <p:cNvSpPr/>
          <p:nvPr/>
        </p:nvSpPr>
        <p:spPr>
          <a:xfrm>
            <a:off x="144360" y="692280"/>
            <a:ext cx="8891640" cy="803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и вирішенні даної задачі використовують два підходи : -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аналіз та синте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кутник 23"/>
          <p:cNvSpPr/>
          <p:nvPr/>
        </p:nvSpPr>
        <p:spPr>
          <a:xfrm>
            <a:off x="103320" y="1557360"/>
            <a:ext cx="8932680" cy="670680"/>
          </a:xfrm>
          <a:prstGeom prst="rect">
            <a:avLst/>
          </a:prstGeom>
          <a:solidFill>
            <a:srgbClr val="92d05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 аналізі досліджують наявну систему і визначають, наскільки вона задовольняє поставленим вимога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92"/>
          <p:cNvSpPr/>
          <p:nvPr/>
        </p:nvSpPr>
        <p:spPr>
          <a:xfrm>
            <a:off x="293760" y="1033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ВИМОГИ ДО СИСТЕМ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93"/>
          <p:cNvSpPr/>
          <p:nvPr/>
        </p:nvSpPr>
        <p:spPr>
          <a:xfrm>
            <a:off x="324000" y="53352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кутник 23"/>
          <p:cNvSpPr/>
          <p:nvPr/>
        </p:nvSpPr>
        <p:spPr>
          <a:xfrm>
            <a:off x="69840" y="2309760"/>
            <a:ext cx="8960040" cy="1005840"/>
          </a:xfrm>
          <a:prstGeom prst="rect">
            <a:avLst/>
          </a:prstGeom>
          <a:solidFill>
            <a:srgbClr val="00b0f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наліз системи звичайно здійснюють декілька разів, змінюючи кількість і параметри елементів і добиваючись задовільної якості процесу регулю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кутник 23"/>
          <p:cNvSpPr/>
          <p:nvPr/>
        </p:nvSpPr>
        <p:spPr>
          <a:xfrm>
            <a:off x="87480" y="3384720"/>
            <a:ext cx="8962920" cy="1005840"/>
          </a:xfrm>
          <a:prstGeom prst="rect">
            <a:avLst/>
          </a:prstGeom>
          <a:solidFill>
            <a:srgbClr val="e6b9b8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наліз лінійних систем автоматичного регулювання розроблений дос-татньо повно, але є трудомістким процесом оскільки вимагає практичної наявності цих систем «реалізованих у металі» та додаткових елементі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кутник 23"/>
          <p:cNvSpPr/>
          <p:nvPr/>
        </p:nvSpPr>
        <p:spPr>
          <a:xfrm>
            <a:off x="90360" y="4464000"/>
            <a:ext cx="8963280" cy="670680"/>
          </a:xfrm>
          <a:prstGeom prst="rect">
            <a:avLst/>
          </a:prstGeom>
          <a:solidFill>
            <a:srgbClr val="b9cde5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 синтезі проектують систему автоматичного регулювання за заданими вимогами якості робот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кутник 23"/>
          <p:cNvSpPr/>
          <p:nvPr/>
        </p:nvSpPr>
        <p:spPr>
          <a:xfrm>
            <a:off x="69840" y="5219640"/>
            <a:ext cx="8960040" cy="670680"/>
          </a:xfrm>
          <a:prstGeom prst="rect">
            <a:avLst/>
          </a:prstGeom>
          <a:solidFill>
            <a:srgbClr val="fcd5b5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 синтезі САК розбивають на дві частин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: - 1) -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 незмінними характеристика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; 2)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і змінними характеристика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кутник 23"/>
          <p:cNvSpPr/>
          <p:nvPr/>
        </p:nvSpPr>
        <p:spPr>
          <a:xfrm>
            <a:off x="69840" y="5975280"/>
            <a:ext cx="8960040" cy="670680"/>
          </a:xfrm>
          <a:prstGeom prst="rect">
            <a:avLst/>
          </a:prstGeom>
          <a:solidFill>
            <a:srgbClr val="f2dcdb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незмінної частини системи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вичайно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входять керований об'єкт, датчик, виконавчий і порівнюючий елементи регулятор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7520" y="-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кутник 18"/>
          <p:cNvSpPr/>
          <p:nvPr/>
        </p:nvSpPr>
        <p:spPr>
          <a:xfrm>
            <a:off x="96840" y="1471680"/>
            <a:ext cx="8928000" cy="1097640"/>
          </a:xfrm>
          <a:prstGeom prst="rect">
            <a:avLst/>
          </a:prstGeom>
          <a:solidFill>
            <a:srgbClr val="ffc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В процесі синтезу знаходять параметри і структуру змінної час-тини САК за яких забезпечується виконання вимог, що ставляться до не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92"/>
          <p:cNvSpPr/>
          <p:nvPr/>
        </p:nvSpPr>
        <p:spPr>
          <a:xfrm>
            <a:off x="324000" y="572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ВИМОГИ ДО СИСТЕМ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93"/>
          <p:cNvSpPr/>
          <p:nvPr/>
        </p:nvSpPr>
        <p:spPr>
          <a:xfrm>
            <a:off x="334800" y="57312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кутник 18"/>
          <p:cNvSpPr/>
          <p:nvPr/>
        </p:nvSpPr>
        <p:spPr>
          <a:xfrm>
            <a:off x="90360" y="2708280"/>
            <a:ext cx="8928360" cy="1097640"/>
          </a:xfrm>
          <a:prstGeom prst="rect">
            <a:avLst/>
          </a:prstGeom>
          <a:solidFill>
            <a:srgbClr val="b9cde5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тримання САК із заданими якісними показниками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ом аналізу трудомістке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интез спрощує розробку автоматичних систем але, як правило, також не має однозначного вирішенн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кутник 18"/>
          <p:cNvSpPr/>
          <p:nvPr/>
        </p:nvSpPr>
        <p:spPr>
          <a:xfrm>
            <a:off x="109440" y="3922560"/>
            <a:ext cx="8928360" cy="731880"/>
          </a:xfrm>
          <a:prstGeom prst="rect">
            <a:avLst/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Тому звичайно складають декілька варіантів принципових схем і вибирають найкращий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кутник 18"/>
          <p:cNvSpPr/>
          <p:nvPr/>
        </p:nvSpPr>
        <p:spPr>
          <a:xfrm>
            <a:off x="74520" y="4797360"/>
            <a:ext cx="8928360" cy="1097640"/>
          </a:xfrm>
          <a:prstGeom prst="rect">
            <a:avLst/>
          </a:prstGeom>
          <a:solidFill>
            <a:srgbClr val="ddd9c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наявності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декількох варіантів принципових схем із задовільними якісними показниками роботи приймають найбільш економічно ефективний варіант САК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кутник 23"/>
          <p:cNvSpPr/>
          <p:nvPr/>
        </p:nvSpPr>
        <p:spPr>
          <a:xfrm>
            <a:off x="111240" y="692280"/>
            <a:ext cx="8961480" cy="731880"/>
          </a:xfrm>
          <a:prstGeom prst="rect">
            <a:avLst/>
          </a:prstGeom>
          <a:solidFill>
            <a:srgbClr val="00b0f0"/>
          </a:solidFill>
          <a:ln w="2844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змінну частину включають підсилювач і один або декілька коректуючих пристрої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92"/>
          <p:cNvSpPr/>
          <p:nvPr/>
        </p:nvSpPr>
        <p:spPr>
          <a:xfrm>
            <a:off x="32400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СТІЙКІСТЬ РОБОТИ САК</a:t>
            </a:r>
            <a:r>
              <a:rPr b="1" i="1" lang="uk-UA" sz="28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93"/>
          <p:cNvSpPr/>
          <p:nvPr/>
        </p:nvSpPr>
        <p:spPr>
          <a:xfrm>
            <a:off x="324000" y="4478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кутник 6"/>
          <p:cNvSpPr/>
          <p:nvPr/>
        </p:nvSpPr>
        <p:spPr>
          <a:xfrm>
            <a:off x="108000" y="503280"/>
            <a:ext cx="8928000" cy="915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К повинна бути працездатною, а отже мати властивості, які утримували б параметри у таких межах, щоб не було істотних порушень технологічного процесу роботи агрегат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кутник 6"/>
          <p:cNvSpPr/>
          <p:nvPr/>
        </p:nvSpPr>
        <p:spPr>
          <a:xfrm>
            <a:off x="108000" y="1476360"/>
            <a:ext cx="8424720" cy="36612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ацездатність САК в основному визначається її стійкіст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кутник 6"/>
          <p:cNvSpPr/>
          <p:nvPr/>
        </p:nvSpPr>
        <p:spPr>
          <a:xfrm>
            <a:off x="84240" y="1916280"/>
            <a:ext cx="8928000" cy="7318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тійкість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це здатність системи повертатись у вихідний стан після зняття обмежених збурюючих або керуючих дій на сист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кутник 6"/>
          <p:cNvSpPr/>
          <p:nvPr/>
        </p:nvSpPr>
        <p:spPr>
          <a:xfrm>
            <a:off x="84240" y="2700360"/>
            <a:ext cx="8928000" cy="402228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хідна величина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иведеної із рівноваги САК в результаті вільних коливань мо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1. точно або із деяко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хибкою вернутис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о попередньог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наченн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2. безмежно віддаля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ись від задано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наченн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3. здійснювати незату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хаючі автоколиван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Объект 2"/>
          <p:cNvGraphicFramePr/>
          <p:nvPr/>
        </p:nvGraphicFramePr>
        <p:xfrm>
          <a:off x="2843280" y="3116160"/>
          <a:ext cx="619272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16160"/>
                    <a:ext cx="619272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кутник 11"/>
          <p:cNvSpPr/>
          <p:nvPr/>
        </p:nvSpPr>
        <p:spPr>
          <a:xfrm>
            <a:off x="108000" y="523800"/>
            <a:ext cx="8928000" cy="1097640"/>
          </a:xfrm>
          <a:prstGeom prst="rect">
            <a:avLst/>
          </a:prstGeom>
          <a:solidFill>
            <a:srgbClr val="d7e4bd"/>
          </a:solidFill>
          <a:ln w="2844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першому випадку система буде стійкою і працездатною, у другому – нестійкою і непрацездатною, у третьому випадку система знаходиться на межі стійкості але не працездат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92"/>
          <p:cNvSpPr/>
          <p:nvPr/>
        </p:nvSpPr>
        <p:spPr>
          <a:xfrm>
            <a:off x="32400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СТІЙКІСТЬ РОБОТИ САК</a:t>
            </a:r>
            <a:r>
              <a:rPr b="1" i="1" lang="uk-UA" sz="28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93"/>
          <p:cNvSpPr/>
          <p:nvPr/>
        </p:nvSpPr>
        <p:spPr>
          <a:xfrm>
            <a:off x="324000" y="4683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кутник 11"/>
          <p:cNvSpPr/>
          <p:nvPr/>
        </p:nvSpPr>
        <p:spPr>
          <a:xfrm>
            <a:off x="88920" y="1773360"/>
            <a:ext cx="8966160" cy="1829160"/>
          </a:xfrm>
          <a:prstGeom prst="rect">
            <a:avLst/>
          </a:prstGeom>
          <a:solidFill>
            <a:srgbClr val="f2dcdb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ля забезпечення заданих показників якості роботи системи при змінних зовнішніх збуреннях ряд її параметрів роблять регульо-ваними, надмірне  регулювання може призвести до втрати стійкості, тому важливо визначити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межі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(або області) можливих регулювань параметрів за умов збереження стійкості систем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кутник 11"/>
          <p:cNvSpPr/>
          <p:nvPr/>
        </p:nvSpPr>
        <p:spPr>
          <a:xfrm>
            <a:off x="115920" y="3789360"/>
            <a:ext cx="8964720" cy="731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Запас стійкості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це величина, яка вказує на скільки віддалене дане значення регульованого параметру від межі стійк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кутник 81"/>
          <p:cNvSpPr/>
          <p:nvPr/>
        </p:nvSpPr>
        <p:spPr>
          <a:xfrm>
            <a:off x="108000" y="523800"/>
            <a:ext cx="8928000" cy="6102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тійкість САК  - необхідна але не достатня умова її працездат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истема повинна мати ще й необхідні якісні показн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ЯКІСТЬ РОБОТИ С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кутник 81"/>
          <p:cNvSpPr/>
          <p:nvPr/>
        </p:nvSpPr>
        <p:spPr>
          <a:xfrm>
            <a:off x="52560" y="1197000"/>
            <a:ext cx="8966160" cy="91512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процесі роботи САК повинна достатньо точно відтворювати задаючу дію, достатньо швидко компенсувати дію збурюючої величини і при цьому її динамічні відхилення повинні бути обмежен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кутник 81"/>
          <p:cNvSpPr/>
          <p:nvPr/>
        </p:nvSpPr>
        <p:spPr>
          <a:xfrm>
            <a:off x="71280" y="2179800"/>
            <a:ext cx="8964720" cy="115812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ість роботи автоматичної системи визначається рядом її показникі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визначення показників якості системи зазвичай проводять аналіз реакції системи на різні типові дії (одиничний стрибок, одиничний імпульс, гармонійна дія, стаціонарний випадковий проце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кутник 81"/>
          <p:cNvSpPr/>
          <p:nvPr/>
        </p:nvSpPr>
        <p:spPr>
          <a:xfrm>
            <a:off x="88920" y="3419640"/>
            <a:ext cx="8966160" cy="86868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йважливішим критерієм якості роботи системи є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точність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, яка визначаєть-ся різницею між заданим значенням вихідної величини та її значенням в різних усталених режимах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кутник 81"/>
          <p:cNvSpPr/>
          <p:nvPr/>
        </p:nvSpPr>
        <p:spPr>
          <a:xfrm>
            <a:off x="71280" y="4826160"/>
            <a:ext cx="8964720" cy="6188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зад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задане значення регульованої величини;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сталене значення вихідної велич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320560" y="4303800"/>
            <a:ext cx="374184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= (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зад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100 %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кутник 81"/>
          <p:cNvSpPr/>
          <p:nvPr/>
        </p:nvSpPr>
        <p:spPr>
          <a:xfrm>
            <a:off x="46080" y="5516640"/>
            <a:ext cx="9009000" cy="1237320"/>
          </a:xfrm>
          <a:prstGeom prst="rect">
            <a:avLst/>
          </a:prstGeom>
          <a:solidFill>
            <a:srgbClr val="ffc0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Швидкодія системи оцінюється часом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</a:t>
            </a:r>
            <a:r>
              <a:rPr b="0" i="1" lang="uk-UA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, який визначається проміжком часу від моменту прикладення дії до того моменту, коли різниця між заданою і вихідною величинами увесь подальший час буде меншою деякої величини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 Звичайно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приймається рівною 3...5% від нового усталеного значення вихідної величин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кутник 81"/>
          <p:cNvSpPr/>
          <p:nvPr/>
        </p:nvSpPr>
        <p:spPr>
          <a:xfrm>
            <a:off x="61920" y="565200"/>
            <a:ext cx="8966160" cy="5180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еререгулювання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%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характеризує величину максимального динамічного відхилення системи в перехідному процесі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кутник 81"/>
          <p:cNvSpPr/>
          <p:nvPr/>
        </p:nvSpPr>
        <p:spPr>
          <a:xfrm>
            <a:off x="76320" y="2448000"/>
            <a:ext cx="4082760" cy="81252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Число напівколивань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 час пере-хідного процес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ег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є мірою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олив-ності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систе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кутник 81"/>
          <p:cNvSpPr/>
          <p:nvPr/>
        </p:nvSpPr>
        <p:spPr>
          <a:xfrm>
            <a:off x="61920" y="3254400"/>
            <a:ext cx="4070520" cy="1553400"/>
          </a:xfrm>
          <a:prstGeom prst="rect">
            <a:avLst/>
          </a:prstGeom>
          <a:solidFill>
            <a:srgbClr val="dbeef4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регулювання і коливність в основному залежать від запасу стійкості системи і можуть служити його непрямими показниками. Чим ближче система до межі стійкості, тим більше значен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403200" y="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ЯКІСТЬ РОБОТИ С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93"/>
          <p:cNvSpPr/>
          <p:nvPr/>
        </p:nvSpPr>
        <p:spPr>
          <a:xfrm>
            <a:off x="43956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15228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15228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322920" y="1087560"/>
            <a:ext cx="376380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ах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100 %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кутник 81"/>
          <p:cNvSpPr/>
          <p:nvPr/>
        </p:nvSpPr>
        <p:spPr>
          <a:xfrm>
            <a:off x="88920" y="1638360"/>
            <a:ext cx="4070160" cy="84816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ах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максимальне значення регу-льованої величини;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сталене зна-чення вихідної велич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Объект 3"/>
          <p:cNvGraphicFramePr/>
          <p:nvPr/>
        </p:nvGraphicFramePr>
        <p:xfrm>
          <a:off x="3924360" y="1185840"/>
          <a:ext cx="5130720" cy="55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185840"/>
                    <a:ext cx="513072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Прямокутник 81"/>
          <p:cNvSpPr/>
          <p:nvPr/>
        </p:nvSpPr>
        <p:spPr>
          <a:xfrm>
            <a:off x="46080" y="4869000"/>
            <a:ext cx="3878280" cy="1812240"/>
          </a:xfrm>
          <a:prstGeom prst="rect">
            <a:avLst/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истема повинна забезпечува-ти задану точність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≤ 3...5 %, мати задану швидкодію, величина пере-регулюван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е повинна пере-вищувати 20 %, а число напівколи-вань за час регулювання повинне бути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≤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..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f81bd"/>
                </a:solidFill>
                <a:latin typeface="Calibri"/>
              </a:rPr>
              <a:t>НАДІЙНІСТЬ ЕЛЕМЕНТІВ І СИСТЕМ АВТО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кутник 81"/>
          <p:cNvSpPr/>
          <p:nvPr/>
        </p:nvSpPr>
        <p:spPr>
          <a:xfrm>
            <a:off x="88920" y="542880"/>
            <a:ext cx="8966160" cy="91512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адійність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- це здатність елементу або САК виконувати поставлені завдання, зберігаючи свої експлуатаційні показники у заданих межах при певних режимах та умовах експлуатації протягом необхідного проміжку час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93"/>
          <p:cNvSpPr/>
          <p:nvPr/>
        </p:nvSpPr>
        <p:spPr>
          <a:xfrm>
            <a:off x="26820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кутник 81"/>
          <p:cNvSpPr/>
          <p:nvPr/>
        </p:nvSpPr>
        <p:spPr>
          <a:xfrm>
            <a:off x="88920" y="1511280"/>
            <a:ext cx="8966160" cy="91512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итання надійності є вельми важливим і набуває все більшого значення з огля-ду на зростаюче ускладнення систем автоматичного управління і регулювання.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кутник 81"/>
          <p:cNvSpPr/>
          <p:nvPr/>
        </p:nvSpPr>
        <p:spPr>
          <a:xfrm>
            <a:off x="44280" y="2190600"/>
            <a:ext cx="8947440" cy="30528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дійність системи визначається надійністю її елементів деталей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і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узл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кутник 81"/>
          <p:cNvSpPr/>
          <p:nvPr/>
        </p:nvSpPr>
        <p:spPr>
          <a:xfrm>
            <a:off x="65160" y="2565360"/>
            <a:ext cx="8989920" cy="6102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 надійністю тісно пов'язано поняття відмов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це подія, що полягає в порушенні працездатності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кутник 81"/>
          <p:cNvSpPr/>
          <p:nvPr/>
        </p:nvSpPr>
        <p:spPr>
          <a:xfrm>
            <a:off x="539640" y="3211560"/>
            <a:ext cx="8136000" cy="30528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мови діляться на декілька типів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кутник 81"/>
          <p:cNvSpPr/>
          <p:nvPr/>
        </p:nvSpPr>
        <p:spPr>
          <a:xfrm>
            <a:off x="539640" y="3578400"/>
            <a:ext cx="1632240" cy="61020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аптов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ступов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кутник 81"/>
          <p:cNvSpPr/>
          <p:nvPr/>
        </p:nvSpPr>
        <p:spPr>
          <a:xfrm>
            <a:off x="2484360" y="3573360"/>
            <a:ext cx="1631880" cy="61020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вн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частков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кутник 81"/>
          <p:cNvSpPr/>
          <p:nvPr/>
        </p:nvSpPr>
        <p:spPr>
          <a:xfrm>
            <a:off x="4284720" y="3560760"/>
            <a:ext cx="1631880" cy="61020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езалежн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лежн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кутник 81"/>
          <p:cNvSpPr/>
          <p:nvPr/>
        </p:nvSpPr>
        <p:spPr>
          <a:xfrm>
            <a:off x="6084720" y="3560760"/>
            <a:ext cx="2590920" cy="61020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бої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міжні відмо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кутник 81"/>
          <p:cNvSpPr/>
          <p:nvPr/>
        </p:nvSpPr>
        <p:spPr>
          <a:xfrm>
            <a:off x="65160" y="4224240"/>
            <a:ext cx="8989920" cy="6102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Раптов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е відмова, що характеризується стрибкоподібною зміною значень одного або декількох основних параметрів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кутник 81"/>
          <p:cNvSpPr/>
          <p:nvPr/>
        </p:nvSpPr>
        <p:spPr>
          <a:xfrm>
            <a:off x="65160" y="4840200"/>
            <a:ext cx="8989920" cy="6102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ступов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– це відмова, що характеризується поступовою зміною значень одного або декількох основних параметрів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кутник 81"/>
          <p:cNvSpPr/>
          <p:nvPr/>
        </p:nvSpPr>
        <p:spPr>
          <a:xfrm>
            <a:off x="77760" y="5494320"/>
            <a:ext cx="8988480" cy="6102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езалежн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лементу - відмова елементу об'єкту, що не зумовлена пошкодженнями і відмовами інших елементів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кутник 81"/>
          <p:cNvSpPr/>
          <p:nvPr/>
        </p:nvSpPr>
        <p:spPr>
          <a:xfrm>
            <a:off x="77760" y="6119640"/>
            <a:ext cx="8988480" cy="6102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алежна відмова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елементу - відмова елементу об'єкту, що зумовлена пошкодженнями або відмовами інших елементів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20-02-14T12:12:27Z</dcterms:modified>
  <cp:revision>58</cp:revision>
  <dc:subject/>
  <dc:title>Презентация PowerPoint</dc:title>
</cp:coreProperties>
</file>