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A59-874E-4BCD-929D-5738DD39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18E-A9F5-46EA-85F5-EADB0080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22E-1C4A-41CC-B796-0519F436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898-A837-4ECB-A78C-FC8C7B65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99C1-19CB-44E4-9A71-974CED29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915-8351-4335-91AA-BF91A7A4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323-806A-4FCF-AFAE-2087208F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E16-002E-495D-AEB7-58A5FA37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AF5-2F14-4B06-8203-5158EC58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9C6-298D-4079-A19E-0C27102A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6E16-FCA3-4414-950B-A5F403E5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F34-ED27-41E9-B806-8A5ABF18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3641-A263-46F8-9937-4ADE1B12490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2"/>
          <p:cNvSpPr/>
          <p:nvPr/>
        </p:nvSpPr>
        <p:spPr>
          <a:xfrm>
            <a:off x="108000" y="18900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f497d"/>
                </a:solidFill>
                <a:latin typeface="Arial"/>
              </a:rPr>
              <a:t>МАТЕМАТИЧНИЙ ОПИС САК ТА ЇХ ЕЛЕМЕНТ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93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кутник 132"/>
          <p:cNvSpPr/>
          <p:nvPr/>
        </p:nvSpPr>
        <p:spPr>
          <a:xfrm>
            <a:off x="3995640" y="765000"/>
            <a:ext cx="129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кутник 142"/>
          <p:cNvSpPr/>
          <p:nvPr/>
        </p:nvSpPr>
        <p:spPr>
          <a:xfrm>
            <a:off x="179280" y="3284640"/>
            <a:ext cx="878544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томатизація технологічних процесів і виробництв харчової промисловос-ті: Підручник/ Ландюк А. П., Трегуб В. Г., Ельперін І. В., Цюцюра В. Д. – К.: Аграрна освіта, 2001. – 224 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ка и автоматизация мобильных сельскохозяйственных машин: Учеб. Пособ./ Г.Р.Носов, В.А. Кондратец, Л.Г. Сакало, Л.И. Середа; Ред. Г.Р.Носов. – К.: Вища школа, 1984. – 248 c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матика и автоматизация производственных процессов: учеб. пособие для студентов с.-х. учеб. заведений/ И. И. Мартыненко, Б. Л. Головинский, Р. Д. Проценко, Т, Ф. Резниченко. – М. : Агропромиздат, 1985. – 334 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кутник 26"/>
          <p:cNvSpPr/>
          <p:nvPr/>
        </p:nvSpPr>
        <p:spPr>
          <a:xfrm>
            <a:off x="900000" y="11253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и руху автоматичних сист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 елементів і систем в статичному режимі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 елементів і систем в динамічному режимі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ідна функці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вальна функція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6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6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6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6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6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98280" y="3357720"/>
            <a:ext cx="8936280" cy="1148040"/>
          </a:xfrm>
          <a:prstGeom prst="rect">
            <a:avLst/>
          </a:prstGeom>
          <a:solidFill>
            <a:srgbClr val="ccc1d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ід початковими умовами розуміють значення вихідної величини (і всіх її похідних) в момент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=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за умови, що до цього зовнішні дії були відсутн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кутник 81"/>
          <p:cNvSpPr/>
          <p:nvPr/>
        </p:nvSpPr>
        <p:spPr>
          <a:xfrm>
            <a:off x="101520" y="620640"/>
            <a:ext cx="8964720" cy="146340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Розв’язок диференціального рівняння, яким описується ланка або система при заданих початкових умовах, також відображає їх динаміку. Воно представляє перехідний процес ланки або системи в час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ПЕРЕХІДНА ФУНК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кутник 81"/>
          <p:cNvSpPr/>
          <p:nvPr/>
        </p:nvSpPr>
        <p:spPr>
          <a:xfrm>
            <a:off x="128520" y="2151000"/>
            <a:ext cx="8917200" cy="109764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Для порівняння динамічних властивостей різних елементів роз-глядають їх перехідні процеси при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нульових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початкових умовах і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типових вхідних діях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кутник 81"/>
          <p:cNvSpPr/>
          <p:nvPr/>
        </p:nvSpPr>
        <p:spPr>
          <a:xfrm>
            <a:off x="98280" y="4581360"/>
            <a:ext cx="8947440" cy="664560"/>
          </a:xfrm>
          <a:prstGeom prst="rect">
            <a:avLst/>
          </a:prstGeom>
          <a:solidFill>
            <a:srgbClr val="00b0f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очаткові умови називають нульовими, якщо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=у’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=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y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’’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=…=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y</a:t>
            </a:r>
            <a:r>
              <a:rPr b="0" i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=0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рямокутник 81"/>
          <p:cNvSpPr/>
          <p:nvPr/>
        </p:nvSpPr>
        <p:spPr>
          <a:xfrm>
            <a:off x="88920" y="5300640"/>
            <a:ext cx="8947080" cy="1463400"/>
          </a:xfrm>
          <a:prstGeom prst="rect">
            <a:avLst/>
          </a:prstGeom>
          <a:solidFill>
            <a:srgbClr val="ddd9c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Як типові вхідні дії приймають певні форми дій, найбільш зручні з огляду їх математичного опису, практичної реалізації і опису реак-ції ланки на ці дії. В автоматиці використовують типові дії, що опису-ються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східчастою, імпульсною і гармонійною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функці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кутник 81"/>
          <p:cNvSpPr/>
          <p:nvPr/>
        </p:nvSpPr>
        <p:spPr>
          <a:xfrm>
            <a:off x="101520" y="620640"/>
            <a:ext cx="4622760" cy="109764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Східчаста дія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описується оди-ничною східчастою функцією вигляд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ПЕРЕХІДНА ФУНК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кутник 81"/>
          <p:cNvSpPr/>
          <p:nvPr/>
        </p:nvSpPr>
        <p:spPr>
          <a:xfrm>
            <a:off x="101520" y="2997360"/>
            <a:ext cx="4622760" cy="182916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Реакція ланки на одиничну схід-часту функцію при нульових почат-кових умовах називається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ерехід-ною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функцією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яку прийнято познача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Объект 2"/>
              <p:cNvSpPr txBox="1"/>
              <p:nvPr/>
            </p:nvSpPr>
            <p:spPr>
              <a:xfrm>
                <a:off x="1155600" y="1752480"/>
                <a:ext cx="29498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ри</m:t>
                            </m:r>
                            <m:r>
                              <m:t xml:space="preserve">t</m:t>
                            </m:r>
                            <m:r>
                              <m:t xml:space="preserve">≥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21" name="Picture 17" descr="лекцавт198"/>
          <p:cNvPicPr/>
          <p:nvPr/>
        </p:nvPicPr>
        <p:blipFill>
          <a:blip r:embed="rId1"/>
          <a:srcRect l="2508" t="3931" r="1929" b="1102"/>
          <a:stretch/>
        </p:blipFill>
        <p:spPr>
          <a:xfrm>
            <a:off x="4788000" y="568440"/>
            <a:ext cx="4286160" cy="522900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кутник 81"/>
          <p:cNvSpPr/>
          <p:nvPr/>
        </p:nvSpPr>
        <p:spPr>
          <a:xfrm>
            <a:off x="101520" y="4941720"/>
            <a:ext cx="4622760" cy="1097640"/>
          </a:xfrm>
          <a:prstGeom prst="rect">
            <a:avLst/>
          </a:prstGeom>
          <a:solidFill>
            <a:srgbClr val="b9cde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Графічне зображення перехід-ної функції називають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ерехідною характеристикою ланки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ПЕРЕХІДНА ФУНК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кутник 81"/>
          <p:cNvSpPr/>
          <p:nvPr/>
        </p:nvSpPr>
        <p:spPr>
          <a:xfrm>
            <a:off x="101520" y="620640"/>
            <a:ext cx="4757760" cy="256068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Імпульсна перехідна функція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Імпульсна дія описується дельта-функцією Дірака, математичною ідеалізацією короткого імпульсу,  площа якого рівна 1 при його трива-лості, рівній 0 і амплітуді, рівній нескінченності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15" descr="лекцавт199"/>
          <p:cNvPicPr/>
          <p:nvPr/>
        </p:nvPicPr>
        <p:blipFill>
          <a:blip r:embed="rId1"/>
          <a:srcRect l="4266" t="2120" r="841" b="1667"/>
          <a:stretch/>
        </p:blipFill>
        <p:spPr>
          <a:xfrm>
            <a:off x="4859280" y="612720"/>
            <a:ext cx="4176720" cy="36482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Объект 2"/>
              <p:cNvSpPr txBox="1"/>
              <p:nvPr/>
            </p:nvSpPr>
            <p:spPr>
              <a:xfrm>
                <a:off x="2131920" y="2871720"/>
                <a:ext cx="280044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∞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ри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0" name="Прямокутник 81"/>
          <p:cNvSpPr/>
          <p:nvPr/>
        </p:nvSpPr>
        <p:spPr>
          <a:xfrm>
            <a:off x="119160" y="4005360"/>
            <a:ext cx="1860480" cy="731880"/>
          </a:xfrm>
          <a:prstGeom prst="rect">
            <a:avLst/>
          </a:prstGeom>
          <a:solidFill>
            <a:srgbClr val="e6b9b8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скільки за визначення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Объект 5"/>
              <p:cNvSpPr txBox="1"/>
              <p:nvPr/>
            </p:nvSpPr>
            <p:spPr>
              <a:xfrm>
                <a:off x="2195640" y="4038480"/>
                <a:ext cx="16556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Прямокутник 81"/>
          <p:cNvSpPr/>
          <p:nvPr/>
        </p:nvSpPr>
        <p:spPr>
          <a:xfrm>
            <a:off x="3995640" y="4260960"/>
            <a:ext cx="728640" cy="366120"/>
          </a:xfrm>
          <a:prstGeom prst="rect">
            <a:avLst/>
          </a:prstGeom>
          <a:solidFill>
            <a:srgbClr val="e6b9b8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5015520" y="4260960"/>
            <a:ext cx="2157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кутник 81"/>
          <p:cNvSpPr/>
          <p:nvPr/>
        </p:nvSpPr>
        <p:spPr>
          <a:xfrm>
            <a:off x="146160" y="5084640"/>
            <a:ext cx="8889840" cy="932400"/>
          </a:xfrm>
          <a:prstGeom prst="rect">
            <a:avLst/>
          </a:prstGeom>
          <a:solidFill>
            <a:srgbClr val="c3d69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Нормальна реакція ланки на імпульсну функцію називається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ім-пульсною перехідною функцією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або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ваговою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функцією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яку прийня-то позначат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кутник 81"/>
          <p:cNvSpPr/>
          <p:nvPr/>
        </p:nvSpPr>
        <p:spPr>
          <a:xfrm>
            <a:off x="101520" y="6119640"/>
            <a:ext cx="8890200" cy="621720"/>
          </a:xfrm>
          <a:prstGeom prst="rect">
            <a:avLst/>
          </a:prstGeom>
          <a:solidFill>
            <a:srgbClr val="8eb4e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Графічне зображення вагової функції називають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імпульсною пере-хідною характеристикою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ла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5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ПЕРЕХІДНА ФУНК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кутник 81"/>
          <p:cNvSpPr/>
          <p:nvPr/>
        </p:nvSpPr>
        <p:spPr>
          <a:xfrm>
            <a:off x="101520" y="620640"/>
            <a:ext cx="8934480" cy="109764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іж перехідною і ваговою функціями однієї і тієї ж ланки існує математичний зв'язок, що витікає з однозначного зв'язку між східчастою і імпульсною функція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оугольник 8"/>
          <p:cNvSpPr/>
          <p:nvPr/>
        </p:nvSpPr>
        <p:spPr>
          <a:xfrm>
            <a:off x="1923840" y="1714680"/>
            <a:ext cx="33930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h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Объект 10"/>
              <p:cNvSpPr txBox="1"/>
              <p:nvPr/>
            </p:nvSpPr>
            <p:spPr>
              <a:xfrm>
                <a:off x="5580000" y="1341360"/>
                <a:ext cx="21481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Прямокутник 81"/>
          <p:cNvSpPr/>
          <p:nvPr/>
        </p:nvSpPr>
        <p:spPr>
          <a:xfrm>
            <a:off x="119160" y="2492280"/>
            <a:ext cx="8935920" cy="731880"/>
          </a:xfrm>
          <a:prstGeom prst="rect">
            <a:avLst/>
          </a:prstGeom>
          <a:solidFill>
            <a:srgbClr val="d99694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ерехідна і вагова функції характеризують динамічні власти-вості ланки так само, як і диференціальне рівня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окутник 81"/>
          <p:cNvSpPr/>
          <p:nvPr/>
        </p:nvSpPr>
        <p:spPr>
          <a:xfrm>
            <a:off x="119160" y="3284640"/>
            <a:ext cx="8935920" cy="1097640"/>
          </a:xfrm>
          <a:prstGeom prst="rect">
            <a:avLst/>
          </a:prstGeom>
          <a:solidFill>
            <a:srgbClr val="ccc1da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Якщо до ланки прикладена дія, відмінна від східчастої або ім-пульсної, то її представляють як суму послідовних східчастих або імпульсних дій на ланк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кутник 81"/>
          <p:cNvSpPr/>
          <p:nvPr/>
        </p:nvSpPr>
        <p:spPr>
          <a:xfrm>
            <a:off x="101520" y="4437000"/>
            <a:ext cx="8934480" cy="731880"/>
          </a:xfrm>
          <a:prstGeom prst="rect">
            <a:avLst/>
          </a:prstGeom>
          <a:solidFill>
            <a:srgbClr val="c4bd97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ерехідна та імпульсна перехідна характеристики відносяться до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часових характеристик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ланки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кутник 81"/>
          <p:cNvSpPr/>
          <p:nvPr/>
        </p:nvSpPr>
        <p:spPr>
          <a:xfrm>
            <a:off x="101520" y="5219640"/>
            <a:ext cx="8934480" cy="1463400"/>
          </a:xfrm>
          <a:prstGeom prst="rect">
            <a:avLst/>
          </a:prstGeom>
          <a:solidFill>
            <a:srgbClr val="fdeada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 недоліків опису ланок часовими характеристиками слід від-нести складність і трудомісткість розрахунків часових характеристик систем, що описуються диференціальними рівняннями високого поряд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7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03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ПЕРЕДАВАЛЬНА ФУНК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окутник 81"/>
          <p:cNvSpPr/>
          <p:nvPr/>
        </p:nvSpPr>
        <p:spPr>
          <a:xfrm>
            <a:off x="115920" y="544680"/>
            <a:ext cx="8934480" cy="56988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пис елементів і систем автоматичного управління істотно спрощуєть-ся при використовуванні методів операційного числе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кутник 81"/>
          <p:cNvSpPr/>
          <p:nvPr/>
        </p:nvSpPr>
        <p:spPr>
          <a:xfrm>
            <a:off x="101520" y="1141560"/>
            <a:ext cx="8934480" cy="854640"/>
          </a:xfrm>
          <a:prstGeom prst="rect">
            <a:avLst/>
          </a:prstGeom>
          <a:solidFill>
            <a:srgbClr val="ccc1da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инаміка функціональних елементів і систем автоматичного управлін-ня описується диференціальним рівнянням, яке в загальному випадку має такий вигляд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Объект 9"/>
              <p:cNvSpPr txBox="1"/>
              <p:nvPr/>
            </p:nvSpPr>
            <p:spPr>
              <a:xfrm>
                <a:off x="1996920" y="1763640"/>
                <a:ext cx="705168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0" name="Прямокутник 81"/>
          <p:cNvSpPr/>
          <p:nvPr/>
        </p:nvSpPr>
        <p:spPr>
          <a:xfrm>
            <a:off x="133200" y="3816360"/>
            <a:ext cx="8934480" cy="893880"/>
          </a:xfrm>
          <a:prstGeom prst="rect">
            <a:avLst/>
          </a:prstGeom>
          <a:solidFill>
            <a:srgbClr val="ccc1da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вихідна величина (у відхиленнях від стану рівноваги);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вхідна ве-личина елемента (у відхиленнях від стану рівноваги);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пос-тійні коефіцієнти рівня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кутник 81"/>
          <p:cNvSpPr/>
          <p:nvPr/>
        </p:nvSpPr>
        <p:spPr>
          <a:xfrm>
            <a:off x="133200" y="4716360"/>
            <a:ext cx="6759720" cy="335520"/>
          </a:xfrm>
          <a:prstGeom prst="rect">
            <a:avLst/>
          </a:prstGeom>
          <a:solidFill>
            <a:srgbClr val="8eb4e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операторній формі це рівняння записують так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12"/>
          <p:cNvSpPr/>
          <p:nvPr/>
        </p:nvSpPr>
        <p:spPr>
          <a:xfrm>
            <a:off x="151200" y="5072040"/>
            <a:ext cx="2977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p)y(t) = P(p)x(t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кутник 81"/>
          <p:cNvSpPr/>
          <p:nvPr/>
        </p:nvSpPr>
        <p:spPr>
          <a:xfrm>
            <a:off x="2255760" y="5719680"/>
            <a:ext cx="649440" cy="366120"/>
          </a:xfrm>
          <a:prstGeom prst="rect">
            <a:avLst/>
          </a:prstGeom>
          <a:solidFill>
            <a:srgbClr val="8eb4e3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14"/>
          <p:cNvSpPr/>
          <p:nvPr/>
        </p:nvSpPr>
        <p:spPr>
          <a:xfrm>
            <a:off x="3129120" y="5641920"/>
            <a:ext cx="579276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p) =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…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15"/>
          <p:cNvSpPr/>
          <p:nvPr/>
        </p:nvSpPr>
        <p:spPr>
          <a:xfrm>
            <a:off x="3090600" y="6237360"/>
            <a:ext cx="569628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p) =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…+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+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7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ПЕРЕДАВАЛЬНА ФУНК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кутник 81"/>
          <p:cNvSpPr/>
          <p:nvPr/>
        </p:nvSpPr>
        <p:spPr>
          <a:xfrm>
            <a:off x="101520" y="620640"/>
            <a:ext cx="8934480" cy="109764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ідставляючи у вихідне рівняння замість функцій часу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функції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омплексної змінної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при нульових початкових умовах, одержуємо лінійне рівняння алгебр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кутник 81"/>
          <p:cNvSpPr/>
          <p:nvPr/>
        </p:nvSpPr>
        <p:spPr>
          <a:xfrm>
            <a:off x="104760" y="3645000"/>
            <a:ext cx="8934480" cy="1463400"/>
          </a:xfrm>
          <a:prstGeom prst="rect">
            <a:avLst/>
          </a:prstGeom>
          <a:solidFill>
            <a:srgbClr val="ccc1da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Такий перехід від диференціального рівняння до рівняння алгеб-ри називається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рямим перетворенням Лапласа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 Функції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(t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азиваються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оригіналами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а функції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 відповідно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зобра-женнями цих функцій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Объект 8"/>
              <p:cNvSpPr txBox="1"/>
              <p:nvPr/>
            </p:nvSpPr>
            <p:spPr>
              <a:xfrm>
                <a:off x="399960" y="1728720"/>
                <a:ext cx="82710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2" name="Прямоугольник 9"/>
          <p:cNvSpPr/>
          <p:nvPr/>
        </p:nvSpPr>
        <p:spPr>
          <a:xfrm>
            <a:off x="543240" y="2997360"/>
            <a:ext cx="650160" cy="4597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0"/>
          <p:cNvSpPr/>
          <p:nvPr/>
        </p:nvSpPr>
        <p:spPr>
          <a:xfrm>
            <a:off x="1349640" y="2997360"/>
            <a:ext cx="298836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кутник 81"/>
          <p:cNvSpPr/>
          <p:nvPr/>
        </p:nvSpPr>
        <p:spPr>
          <a:xfrm>
            <a:off x="104760" y="5229360"/>
            <a:ext cx="8934480" cy="109764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 порівняння цих виразів із попередніми видно, що обидві фор-ми запису збігаються, з чого витікає, що комплексна змінна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може бути ототожнена з оператором диференціювання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ПЕРЕДАВАЛЬНА ФУНК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окутник 81"/>
          <p:cNvSpPr/>
          <p:nvPr/>
        </p:nvSpPr>
        <p:spPr>
          <a:xfrm>
            <a:off x="101520" y="620640"/>
            <a:ext cx="1446120" cy="36612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раз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Прямокутник 81"/>
          <p:cNvSpPr/>
          <p:nvPr/>
        </p:nvSpPr>
        <p:spPr>
          <a:xfrm>
            <a:off x="104760" y="2060640"/>
            <a:ext cx="8934480" cy="109764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ередавальною функцією називається відношенн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лапласов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о-го зображення вихідної величини до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лапласов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ого зображення вхід-ної величини при нульових початкових умов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Объект 9"/>
              <p:cNvSpPr txBox="1"/>
              <p:nvPr/>
            </p:nvSpPr>
            <p:spPr>
              <a:xfrm>
                <a:off x="1692360" y="571680"/>
                <a:ext cx="282420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Прямокутник 81"/>
          <p:cNvSpPr/>
          <p:nvPr/>
        </p:nvSpPr>
        <p:spPr>
          <a:xfrm>
            <a:off x="100080" y="1566720"/>
            <a:ext cx="5695920" cy="36612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значає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ередавальну функцію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систе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Прямокутник 81"/>
          <p:cNvSpPr/>
          <p:nvPr/>
        </p:nvSpPr>
        <p:spPr>
          <a:xfrm>
            <a:off x="74520" y="3284640"/>
            <a:ext cx="8934480" cy="731880"/>
          </a:xfrm>
          <a:prstGeom prst="rect">
            <a:avLst/>
          </a:prstGeom>
          <a:solidFill>
            <a:srgbClr val="00b0f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 рівняння передавальної функції витікає, що зображення вихід-ної величини  має вигля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Объект 13"/>
              <p:cNvSpPr txBox="1"/>
              <p:nvPr/>
            </p:nvSpPr>
            <p:spPr>
              <a:xfrm>
                <a:off x="3492360" y="4149720"/>
                <a:ext cx="26640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Прямокутник 81"/>
          <p:cNvSpPr/>
          <p:nvPr/>
        </p:nvSpPr>
        <p:spPr>
          <a:xfrm>
            <a:off x="104760" y="4797360"/>
            <a:ext cx="8934480" cy="1829160"/>
          </a:xfrm>
          <a:prstGeom prst="rect">
            <a:avLst/>
          </a:prstGeom>
          <a:solidFill>
            <a:srgbClr val="c3d69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раховуючи тотожність оператора диференціювання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і комп-лексної змінної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в перетворенні Лапласа, формальне отримання передавальної функції за диференціальним рівнянням полягає в за-міні оператора диференціювання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комплексною змінною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і функ-цій часу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їх зображенням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ПЕРЕДАВАЛЬНА ФУНК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Прямокутник 81"/>
          <p:cNvSpPr/>
          <p:nvPr/>
        </p:nvSpPr>
        <p:spPr>
          <a:xfrm>
            <a:off x="88920" y="536400"/>
            <a:ext cx="8935920" cy="33552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априклад, для ланки, що описується диференціальним рівняння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оугольник 9"/>
          <p:cNvSpPr/>
          <p:nvPr/>
        </p:nvSpPr>
        <p:spPr>
          <a:xfrm>
            <a:off x="1696680" y="874800"/>
            <a:ext cx="520416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/dt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/dt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/dt+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Прямокутник 81"/>
          <p:cNvSpPr/>
          <p:nvPr/>
        </p:nvSpPr>
        <p:spPr>
          <a:xfrm>
            <a:off x="101520" y="1397160"/>
            <a:ext cx="5943600" cy="33552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ередавальна функція має такий вигляд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Объект 12"/>
              <p:cNvSpPr txBox="1"/>
              <p:nvPr/>
            </p:nvSpPr>
            <p:spPr>
              <a:xfrm>
                <a:off x="2443320" y="1738440"/>
                <a:ext cx="47926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Прямокутник 81"/>
          <p:cNvSpPr/>
          <p:nvPr/>
        </p:nvSpPr>
        <p:spPr>
          <a:xfrm>
            <a:off x="111240" y="2781360"/>
            <a:ext cx="8958240" cy="85464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Багаточлен, що приведений в знаменнику передавальної функції, нази-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истичним багаточленом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ланки або системи, а рівняння вигляду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Прямокутник 81"/>
          <p:cNvSpPr/>
          <p:nvPr/>
        </p:nvSpPr>
        <p:spPr>
          <a:xfrm>
            <a:off x="111240" y="3919680"/>
            <a:ext cx="6365880" cy="33552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истичним рівнянням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Прямокутник 81"/>
          <p:cNvSpPr/>
          <p:nvPr/>
        </p:nvSpPr>
        <p:spPr>
          <a:xfrm>
            <a:off x="101520" y="4319640"/>
            <a:ext cx="8958240" cy="85464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орені характеристичного рівняння називаю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олюсам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переда-вальної функції, а корені багаточлена, розташованого в чисельнику пере-давальної функції, 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нулям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передавальної функції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Прямокутник 81"/>
          <p:cNvSpPr/>
          <p:nvPr/>
        </p:nvSpPr>
        <p:spPr>
          <a:xfrm>
            <a:off x="92160" y="5219640"/>
            <a:ext cx="8935920" cy="569880"/>
          </a:xfrm>
          <a:prstGeom prst="rect">
            <a:avLst/>
          </a:prstGeom>
          <a:solidFill>
            <a:srgbClr val="93cdd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воротний перехід від зображення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до оригіналу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виконується за допомогою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воротного перетворення Лапласа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Прямокутник 81"/>
          <p:cNvSpPr/>
          <p:nvPr/>
        </p:nvSpPr>
        <p:spPr>
          <a:xfrm>
            <a:off x="114480" y="5867280"/>
            <a:ext cx="8934120" cy="854640"/>
          </a:xfrm>
          <a:prstGeom prst="rect">
            <a:avLst/>
          </a:prstGeom>
          <a:solidFill>
            <a:srgbClr val="fac09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ля багато яких дробово-раціональних функцій отримані зворотні перетворення Лапласа і зведені в таблиці. Використання таблиць значно полегшує розв’язок диференціальних рівнян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Объект 1"/>
              <p:cNvSpPr txBox="1"/>
              <p:nvPr/>
            </p:nvSpPr>
            <p:spPr>
              <a:xfrm>
                <a:off x="1854360" y="3360600"/>
                <a:ext cx="39416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7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92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ПЕРЕДАВАЛЬНА ФУНК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Line 93"/>
          <p:cNvSpPr/>
          <p:nvPr/>
        </p:nvSpPr>
        <p:spPr>
          <a:xfrm>
            <a:off x="287280" y="476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Прямокутник 81"/>
          <p:cNvSpPr/>
          <p:nvPr/>
        </p:nvSpPr>
        <p:spPr>
          <a:xfrm>
            <a:off x="68400" y="528480"/>
            <a:ext cx="8934480" cy="1005840"/>
          </a:xfrm>
          <a:prstGeom prst="rect">
            <a:avLst/>
          </a:prstGeom>
          <a:solidFill>
            <a:srgbClr val="ffc00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ерехід від передавальної функції до диференціального рівняння фор-мально виконується шляхом заміни змінної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на змінну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а зобра-жень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- їх оригіналами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Прямокутник 81"/>
          <p:cNvSpPr/>
          <p:nvPr/>
        </p:nvSpPr>
        <p:spPr>
          <a:xfrm>
            <a:off x="68400" y="1619280"/>
            <a:ext cx="8934480" cy="1005840"/>
          </a:xfrm>
          <a:prstGeom prst="rect">
            <a:avLst/>
          </a:prstGeom>
          <a:solidFill>
            <a:srgbClr val="b9cde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крім опису елементів і систем часовими характеристиками і переда-вальними функціями, в автоматиці використовується опис частотними характеристиками при гармонійній вхідній дії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Прямокутник 81"/>
          <p:cNvSpPr/>
          <p:nvPr/>
        </p:nvSpPr>
        <p:spPr>
          <a:xfrm>
            <a:off x="68400" y="2700360"/>
            <a:ext cx="8934480" cy="67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Якщо у якості типової вхідної дії використовується гармонійна функція, то реакція ланки в усталеному режимі також буде гармонійною функцією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рямокутник 81"/>
          <p:cNvSpPr/>
          <p:nvPr/>
        </p:nvSpPr>
        <p:spPr>
          <a:xfrm>
            <a:off x="68400" y="3419640"/>
            <a:ext cx="8934480" cy="100584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ідношення амплітуди вихідної величини до амплітуди вхідної величи-ни залежно від частоти називають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амплітудно-частотною характерис-тикою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(АЧХ) ланк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оугольник 16"/>
          <p:cNvSpPr/>
          <p:nvPr/>
        </p:nvSpPr>
        <p:spPr>
          <a:xfrm>
            <a:off x="2694240" y="4165560"/>
            <a:ext cx="249012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кутник 81"/>
          <p:cNvSpPr/>
          <p:nvPr/>
        </p:nvSpPr>
        <p:spPr>
          <a:xfrm>
            <a:off x="39600" y="4724280"/>
            <a:ext cx="8934480" cy="67068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 залежність різниці фаз коливань залежно від частоти називають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фазочастотною характеристикою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(ФЧХ) ланк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угольник 18"/>
          <p:cNvSpPr/>
          <p:nvPr/>
        </p:nvSpPr>
        <p:spPr>
          <a:xfrm>
            <a:off x="4169880" y="5400720"/>
            <a:ext cx="232668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φ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кутник 81"/>
          <p:cNvSpPr/>
          <p:nvPr/>
        </p:nvSpPr>
        <p:spPr>
          <a:xfrm>
            <a:off x="85680" y="5985000"/>
            <a:ext cx="8934480" cy="6706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Частотні характеристики ланки залежать тільки від її властивостей, але не залежать від амплітуди і фази вхідних гармонійних ді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кутник 129"/>
          <p:cNvSpPr/>
          <p:nvPr/>
        </p:nvSpPr>
        <p:spPr>
          <a:xfrm>
            <a:off x="108000" y="620640"/>
            <a:ext cx="8928000" cy="10778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ематичний опис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ів і САК застосовують в тих випадках, коли необхідно вивчити систему в процесі її роботи за наявності збурю-ючих і керуючих дій.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92"/>
          <p:cNvSpPr/>
          <p:nvPr/>
        </p:nvSpPr>
        <p:spPr>
          <a:xfrm>
            <a:off x="324000" y="936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РЕЖИМИ РУХУ АВТОМАТИЧНИХ СИСТ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93"/>
          <p:cNvSpPr/>
          <p:nvPr/>
        </p:nvSpPr>
        <p:spPr>
          <a:xfrm>
            <a:off x="324000" y="539640"/>
            <a:ext cx="856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кутник 132"/>
          <p:cNvSpPr/>
          <p:nvPr/>
        </p:nvSpPr>
        <p:spPr>
          <a:xfrm>
            <a:off x="133200" y="3678120"/>
            <a:ext cx="8921880" cy="1413000"/>
          </a:xfrm>
          <a:prstGeom prst="rect">
            <a:avLst/>
          </a:prstGeom>
          <a:solidFill>
            <a:srgbClr val="92d05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намічним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ивається такий режим, в якому основним станом системи є неустален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усталений режим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ється тим, що діючі на елемент або систему дії викликають в них ряд перехідних процесі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кутник 142"/>
          <p:cNvSpPr/>
          <p:nvPr/>
        </p:nvSpPr>
        <p:spPr>
          <a:xfrm>
            <a:off x="114480" y="5151600"/>
            <a:ext cx="8929440" cy="742680"/>
          </a:xfrm>
          <a:prstGeom prst="rect">
            <a:avLst/>
          </a:prstGeom>
          <a:solidFill>
            <a:srgbClr val="00b05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хідний процес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роцес переходу САК із одного усталеного режиму у інший усталений режи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кутник 33"/>
          <p:cNvSpPr/>
          <p:nvPr/>
        </p:nvSpPr>
        <p:spPr>
          <a:xfrm>
            <a:off x="138240" y="1708200"/>
            <a:ext cx="8905680" cy="1077840"/>
          </a:xfrm>
          <a:prstGeom prst="rect">
            <a:avLst/>
          </a:prstGeom>
          <a:solidFill>
            <a:srgbClr val="00b0f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талений режим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роцес роботи системи при постійній вели-чині збурюючої або керуючої дій (робота із постійними параметрами при постійному навантажені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кутник 33"/>
          <p:cNvSpPr/>
          <p:nvPr/>
        </p:nvSpPr>
        <p:spPr>
          <a:xfrm>
            <a:off x="112680" y="6021360"/>
            <a:ext cx="8906040" cy="742680"/>
          </a:xfrm>
          <a:prstGeom prst="rect">
            <a:avLst/>
          </a:prstGeom>
          <a:solidFill>
            <a:srgbClr val="ffc0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кщо на вхід системи поступає дія, то рух її складається з власно-го (вільного) руху і з реакції на вхідну дію (вимушений рух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кутник 129"/>
          <p:cNvSpPr/>
          <p:nvPr/>
        </p:nvSpPr>
        <p:spPr>
          <a:xfrm>
            <a:off x="133200" y="2843280"/>
            <a:ext cx="8928360" cy="74268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збурюючі і керуючі дії в системі безперервно змінюються, то система знаходиться в динамічному режим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кутник 23"/>
          <p:cNvSpPr/>
          <p:nvPr/>
        </p:nvSpPr>
        <p:spPr>
          <a:xfrm>
            <a:off x="152280" y="2997360"/>
            <a:ext cx="8915400" cy="731880"/>
          </a:xfrm>
          <a:prstGeom prst="rect">
            <a:avLst/>
          </a:prstGeom>
          <a:solidFill>
            <a:srgbClr val="92d050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жим, який характеризується усталеним процесом в елементі або системі, називається статичним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кутник 23"/>
          <p:cNvSpPr/>
          <p:nvPr/>
        </p:nvSpPr>
        <p:spPr>
          <a:xfrm>
            <a:off x="104760" y="3860640"/>
            <a:ext cx="8915400" cy="1097640"/>
          </a:xfrm>
          <a:prstGeom prst="rect">
            <a:avLst/>
          </a:prstGeom>
          <a:solidFill>
            <a:srgbClr val="00b0f0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ючі системи автоматичного регулювання знаходяться в дина-мічному режимі, тому і опис їх в динамічному режимі є основн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кутник 23"/>
          <p:cNvSpPr/>
          <p:nvPr/>
        </p:nvSpPr>
        <p:spPr>
          <a:xfrm>
            <a:off x="104760" y="4869000"/>
            <a:ext cx="8915400" cy="1097640"/>
          </a:xfrm>
          <a:prstGeom prst="rect">
            <a:avLst/>
          </a:prstGeom>
          <a:solidFill>
            <a:srgbClr val="e6b9b8"/>
          </a:solidFill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чний режим в діючій системі представляє собою пев-ною мірою ідеалізацію, яку застосовують для опису елемента або системи після закінчення перехідного процес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кутник 129"/>
          <p:cNvSpPr/>
          <p:nvPr/>
        </p:nvSpPr>
        <p:spPr>
          <a:xfrm>
            <a:off x="136440" y="2046240"/>
            <a:ext cx="8883720" cy="80388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льний рух стійкої системи з часом затухає, і вона приходить в усталений режим за умови, що дії залишаються незмінни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92"/>
          <p:cNvSpPr/>
          <p:nvPr/>
        </p:nvSpPr>
        <p:spPr>
          <a:xfrm>
            <a:off x="476280" y="24624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РЕЖИМИ РУХУ АВТОМАТИЧНИХ СИСТ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93"/>
          <p:cNvSpPr/>
          <p:nvPr/>
        </p:nvSpPr>
        <p:spPr>
          <a:xfrm>
            <a:off x="476280" y="692280"/>
            <a:ext cx="8569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31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35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37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8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кутник 33"/>
          <p:cNvSpPr/>
          <p:nvPr/>
        </p:nvSpPr>
        <p:spPr>
          <a:xfrm>
            <a:off x="119160" y="770040"/>
            <a:ext cx="8905680" cy="1169640"/>
          </a:xfrm>
          <a:prstGeom prst="rect">
            <a:avLst/>
          </a:prstGeom>
          <a:solidFill>
            <a:srgbClr val="ffc0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ідний процес представляє собою тільки власний (віль-ний) рух системи, який залежить від динамічних властивостей елементів системи і початкових у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кутник 18"/>
          <p:cNvSpPr/>
          <p:nvPr/>
        </p:nvSpPr>
        <p:spPr>
          <a:xfrm>
            <a:off x="79200" y="620640"/>
            <a:ext cx="8928360" cy="1097640"/>
          </a:xfrm>
          <a:prstGeom prst="rect">
            <a:avLst/>
          </a:prstGeom>
          <a:solidFill>
            <a:srgbClr val="ffc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Статичний режим - це усталений стан рівноваги при постій-ній дії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. Усталений стан в елементі наступає після закінчення перехідного процесу, викликаного зміною ді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92"/>
          <p:cNvSpPr/>
          <p:nvPr/>
        </p:nvSpPr>
        <p:spPr>
          <a:xfrm>
            <a:off x="108000" y="8568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ОПИС ЕЛЕМЕНТІВ І САК У СТАТИЧНОМУ РЕЖИМ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93"/>
          <p:cNvSpPr/>
          <p:nvPr/>
        </p:nvSpPr>
        <p:spPr>
          <a:xfrm>
            <a:off x="227160" y="52560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кутник 18"/>
          <p:cNvSpPr/>
          <p:nvPr/>
        </p:nvSpPr>
        <p:spPr>
          <a:xfrm>
            <a:off x="108000" y="1757520"/>
            <a:ext cx="8928000" cy="1005840"/>
          </a:xfrm>
          <a:prstGeom prst="rect">
            <a:avLst/>
          </a:prstGeom>
          <a:solidFill>
            <a:srgbClr val="b9cde5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Залежність вихідної величини елемента від вхідної в усталеному режи-мі 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статичною характеристикою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 Стан елемента в статич-ному режимі описується статичною хар-ко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кутник 18"/>
          <p:cNvSpPr/>
          <p:nvPr/>
        </p:nvSpPr>
        <p:spPr>
          <a:xfrm>
            <a:off x="90360" y="2847960"/>
            <a:ext cx="5445360" cy="1005840"/>
          </a:xfrm>
          <a:prstGeom prst="rect">
            <a:avLst/>
          </a:prstGeom>
          <a:solidFill>
            <a:srgbClr val="fcd5b5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татичну хар-ку зображають у вигляді гра-фіка, на якому по осі абсцис задають вхідну величину, а по осі ординат - вихідн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кутник 18"/>
          <p:cNvSpPr/>
          <p:nvPr/>
        </p:nvSpPr>
        <p:spPr>
          <a:xfrm>
            <a:off x="108000" y="3949560"/>
            <a:ext cx="5464080" cy="670680"/>
          </a:xfrm>
          <a:prstGeom prst="rect">
            <a:avLst/>
          </a:prstGeom>
          <a:solidFill>
            <a:srgbClr val="ddd9c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більшості випадків статичні хар-ки реальних елементів і САК є нелінійни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кутник 18"/>
          <p:cNvSpPr/>
          <p:nvPr/>
        </p:nvSpPr>
        <p:spPr>
          <a:xfrm>
            <a:off x="90360" y="4716360"/>
            <a:ext cx="5454720" cy="1341000"/>
          </a:xfrm>
          <a:prstGeom prst="rect">
            <a:avLst/>
          </a:prstGeom>
          <a:solidFill>
            <a:srgbClr val="92d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інженерній практиці нелінійні хар-ки замінюють наближеними лінійними мето-дом усереднювання або методом малих відхил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кутник 18"/>
          <p:cNvSpPr/>
          <p:nvPr/>
        </p:nvSpPr>
        <p:spPr>
          <a:xfrm>
            <a:off x="71280" y="6119640"/>
            <a:ext cx="8939520" cy="670680"/>
          </a:xfrm>
          <a:prstGeom prst="rect">
            <a:avLst/>
          </a:prstGeom>
          <a:solidFill>
            <a:srgbClr val="00b05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оцес заміни нелінійної хар-ки її лінійним наближенням називають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лінеаризацією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Группа 2"/>
          <p:cNvGrpSpPr/>
          <p:nvPr/>
        </p:nvGrpSpPr>
        <p:grpSpPr>
          <a:xfrm>
            <a:off x="5535720" y="2421000"/>
            <a:ext cx="3502080" cy="3699720"/>
            <a:chOff x="5535720" y="2421000"/>
            <a:chExt cx="3502080" cy="3699720"/>
          </a:xfrm>
        </p:grpSpPr>
        <p:sp>
          <p:nvSpPr>
            <p:cNvPr id="127" name="Прямоугольник 1"/>
            <p:cNvSpPr/>
            <p:nvPr/>
          </p:nvSpPr>
          <p:spPr>
            <a:xfrm>
              <a:off x="5535720" y="2421000"/>
              <a:ext cx="3502080" cy="6102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Види статичних характеристик елементів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19"/>
            <p:cNvSpPr/>
            <p:nvPr/>
          </p:nvSpPr>
          <p:spPr>
            <a:xfrm>
              <a:off x="5554080" y="5510520"/>
              <a:ext cx="3456000" cy="610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1 - лінійна; 2 - нелінійна;       3 - переривист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9" name="Picture 13" descr="лекцавт195"/>
            <p:cNvPicPr/>
            <p:nvPr/>
          </p:nvPicPr>
          <p:blipFill>
            <a:blip r:embed="rId1"/>
            <a:srcRect l="4483" t="3167" r="2242" b="3167"/>
            <a:stretch/>
          </p:blipFill>
          <p:spPr>
            <a:xfrm>
              <a:off x="5554080" y="3043080"/>
              <a:ext cx="3483720" cy="249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кутник 6"/>
          <p:cNvSpPr/>
          <p:nvPr/>
        </p:nvSpPr>
        <p:spPr>
          <a:xfrm>
            <a:off x="108000" y="692280"/>
            <a:ext cx="4751280" cy="182916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айпростіша лінеаризація –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ме-тод усереднення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використовується у тому випадку, коли достатньо гладка хар-ка не може бути апрок-симована аналітичною функціє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кутник 6"/>
          <p:cNvSpPr/>
          <p:nvPr/>
        </p:nvSpPr>
        <p:spPr>
          <a:xfrm>
            <a:off x="4691160" y="4508640"/>
            <a:ext cx="4371840" cy="1879560"/>
          </a:xfrm>
          <a:prstGeom prst="rect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Метод малих відхилень зас-нований на заміні нелінійної хар-ки в околицях точки О з ко-ординатами (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х</a:t>
            </a:r>
            <a:r>
              <a:rPr b="0" i="1" lang="uk-UA" sz="24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, у</a:t>
            </a:r>
            <a:r>
              <a:rPr b="0" i="1" lang="uk-UA" sz="24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0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) прямою, до-тичною в цій точц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92"/>
          <p:cNvSpPr/>
          <p:nvPr/>
        </p:nvSpPr>
        <p:spPr>
          <a:xfrm>
            <a:off x="169920" y="14292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ОПИС ЕЛЕМЕНТІВ І САК У СТАТИЧНОМУ РЕЖИМ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93"/>
          <p:cNvSpPr/>
          <p:nvPr/>
        </p:nvSpPr>
        <p:spPr>
          <a:xfrm>
            <a:off x="276120" y="59364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2" descr="лекцавт196"/>
          <p:cNvPicPr/>
          <p:nvPr/>
        </p:nvPicPr>
        <p:blipFill>
          <a:blip r:embed="rId1"/>
          <a:stretch/>
        </p:blipFill>
        <p:spPr>
          <a:xfrm>
            <a:off x="4859280" y="669960"/>
            <a:ext cx="4176720" cy="338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3" descr="лекцавт197"/>
          <p:cNvPicPr/>
          <p:nvPr/>
        </p:nvPicPr>
        <p:blipFill>
          <a:blip r:embed="rId2"/>
          <a:srcRect l="0" t="0" r="0" b="7620"/>
          <a:stretch/>
        </p:blipFill>
        <p:spPr>
          <a:xfrm>
            <a:off x="108000" y="2997360"/>
            <a:ext cx="4545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Таблиця 6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кутник 11"/>
          <p:cNvSpPr/>
          <p:nvPr/>
        </p:nvSpPr>
        <p:spPr>
          <a:xfrm>
            <a:off x="98280" y="1628640"/>
            <a:ext cx="8964720" cy="569880"/>
          </a:xfrm>
          <a:prstGeom prst="rect">
            <a:avLst/>
          </a:prstGeom>
          <a:solidFill>
            <a:srgbClr val="f2dcdb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алишаючи в цьому розкладі тільки лінійну частину, одержуємо лінеаризовану функцію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кутник 6"/>
          <p:cNvSpPr/>
          <p:nvPr/>
        </p:nvSpPr>
        <p:spPr>
          <a:xfrm>
            <a:off x="108000" y="692280"/>
            <a:ext cx="8916840" cy="8546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Якщо статична характеристика описується аналітичною функцією, то лінеаризація виконується шляхом розкладання функцій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х)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в ряд Тейло-ра для вибраної точки розклада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92"/>
          <p:cNvSpPr/>
          <p:nvPr/>
        </p:nvSpPr>
        <p:spPr>
          <a:xfrm>
            <a:off x="169920" y="14292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Arial"/>
              </a:rPr>
              <a:t>ОПИС ЕЛЕМЕНТІВ І САК У СТАТИЧНОМУ РЕЖИМ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93"/>
          <p:cNvSpPr/>
          <p:nvPr/>
        </p:nvSpPr>
        <p:spPr>
          <a:xfrm>
            <a:off x="276120" y="59364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Объект 2"/>
              <p:cNvSpPr txBox="1"/>
              <p:nvPr/>
            </p:nvSpPr>
            <p:spPr>
              <a:xfrm>
                <a:off x="3276720" y="1935000"/>
                <a:ext cx="41259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d>
                      </m:e>
                      <m:sup>
                        <m:sSub>
                          <m:e>
                            <m:eqAr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eqAr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sup>
                    </m:sSup>
                    <m:r>
                      <m:t xml:space="preserve">Δ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Прямокутник 11"/>
          <p:cNvSpPr/>
          <p:nvPr/>
        </p:nvSpPr>
        <p:spPr>
          <a:xfrm>
            <a:off x="90360" y="2781360"/>
            <a:ext cx="8963280" cy="569880"/>
          </a:xfrm>
          <a:prstGeom prst="rect">
            <a:avLst/>
          </a:prstGeom>
          <a:solidFill>
            <a:srgbClr val="c6d9f1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відхиленнях від рівноважного стану лінеаризована функція має вигляд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кутник 11"/>
          <p:cNvSpPr/>
          <p:nvPr/>
        </p:nvSpPr>
        <p:spPr>
          <a:xfrm>
            <a:off x="84240" y="4005360"/>
            <a:ext cx="8964360" cy="569880"/>
          </a:xfrm>
          <a:prstGeom prst="rect">
            <a:avLst/>
          </a:prstGeom>
          <a:solidFill>
            <a:srgbClr val="d7e4bd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Функціональні елементи і системи автоматичного керування в статич-ному режимі характеризую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коефіцієнтом передачі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4851000" y="3357720"/>
            <a:ext cx="474840" cy="42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Объект 8"/>
              <p:cNvSpPr txBox="1"/>
              <p:nvPr/>
            </p:nvSpPr>
            <p:spPr>
              <a:xfrm>
                <a:off x="5651640" y="3121200"/>
                <a:ext cx="2261880" cy="67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Прямоугольник 9"/>
          <p:cNvSpPr/>
          <p:nvPr/>
        </p:nvSpPr>
        <p:spPr>
          <a:xfrm>
            <a:off x="1631520" y="4597560"/>
            <a:ext cx="2814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≈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y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x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кутник 11"/>
          <p:cNvSpPr/>
          <p:nvPr/>
        </p:nvSpPr>
        <p:spPr>
          <a:xfrm>
            <a:off x="60480" y="5127480"/>
            <a:ext cx="8964360" cy="569880"/>
          </a:xfrm>
          <a:prstGeom prst="rect">
            <a:avLst/>
          </a:prstGeom>
          <a:solidFill>
            <a:srgbClr val="8eb4e3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Отже,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коефіцієнт передачі є відношення приросту вихідної величини до приросту вхідної величини в усталеному режимі  роботи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кутник 11"/>
          <p:cNvSpPr/>
          <p:nvPr/>
        </p:nvSpPr>
        <p:spPr>
          <a:xfrm>
            <a:off x="68400" y="5724360"/>
            <a:ext cx="8964360" cy="1071720"/>
          </a:xfrm>
          <a:prstGeom prst="rect">
            <a:avLst/>
          </a:prstGeom>
          <a:solidFill>
            <a:srgbClr val="fdeada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оефіцієнт передачі деяких функціональних елементів має спеціальну назву, а саме коефіцієнт передачі первинних перетворювачів і датчиків називається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чутливістю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 або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коефіцієнтом чутливості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, а коефіцієнт передачі підсилювача -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коефіцієнтом підсиленн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Объект 2"/>
              <p:cNvSpPr txBox="1"/>
              <p:nvPr/>
            </p:nvSpPr>
            <p:spPr>
              <a:xfrm>
                <a:off x="1116000" y="3079800"/>
                <a:ext cx="32097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bSup>
                    <m:r>
                      <m:t xml:space="preserve">Δ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кутник 81"/>
          <p:cNvSpPr/>
          <p:nvPr/>
        </p:nvSpPr>
        <p:spPr>
          <a:xfrm>
            <a:off x="112680" y="2708280"/>
            <a:ext cx="8918640" cy="1737360"/>
          </a:xfrm>
          <a:prstGeom prst="rect">
            <a:avLst/>
          </a:prstGeom>
          <a:solidFill>
            <a:srgbClr val="92d05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Якщо реакції елемента на вхідні дії однакові за значенням, але різні за знаком, ідентичні формою і відрізняються тільки знаками, то такий елемент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лінійний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і описується лінійним рівняння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Якщо ж елемент реагує по-різному на такі вхідні дії, то він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нелінійний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і описується нелінійним рівнянн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кутник 11"/>
          <p:cNvSpPr/>
          <p:nvPr/>
        </p:nvSpPr>
        <p:spPr>
          <a:xfrm>
            <a:off x="108000" y="1871640"/>
            <a:ext cx="8964720" cy="731880"/>
          </a:xfrm>
          <a:prstGeom prst="rect">
            <a:avLst/>
          </a:prstGeom>
          <a:solidFill>
            <a:srgbClr val="f2dcdb"/>
          </a:solidFill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атематична модель елемента може бути лінійною і неліній-ною залежно від реакції елемента на вхідну ді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кутник 6"/>
          <p:cNvSpPr/>
          <p:nvPr/>
        </p:nvSpPr>
        <p:spPr>
          <a:xfrm>
            <a:off x="108000" y="692280"/>
            <a:ext cx="8916840" cy="109764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лежність вихідних величин від вхідних в динамічному режимі описується у вигляді диференціальних рівнянь, в яких незалежною змінною є час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92"/>
          <p:cNvSpPr/>
          <p:nvPr/>
        </p:nvSpPr>
        <p:spPr>
          <a:xfrm>
            <a:off x="169920" y="14292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ОПИС ЕЛЕМЕНТІВ І САК В ДИНАМІЧНОМУ РЕЖИМ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Line 93"/>
          <p:cNvSpPr/>
          <p:nvPr/>
        </p:nvSpPr>
        <p:spPr>
          <a:xfrm>
            <a:off x="276120" y="59364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кутник 81"/>
          <p:cNvSpPr/>
          <p:nvPr/>
        </p:nvSpPr>
        <p:spPr>
          <a:xfrm>
            <a:off x="108000" y="4581360"/>
            <a:ext cx="8916840" cy="695160"/>
          </a:xfrm>
          <a:prstGeom prst="rect">
            <a:avLst/>
          </a:prstGeom>
          <a:solidFill>
            <a:srgbClr val="c6d9f1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ля спрощення запису лінійних рівнянь операцію диференцію-вання замінюють символом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а операцію інтеграції - символом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р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1"/>
          <p:cNvSpPr/>
          <p:nvPr/>
        </p:nvSpPr>
        <p:spPr>
          <a:xfrm>
            <a:off x="401400" y="5499000"/>
            <a:ext cx="176256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р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Объект 3"/>
              <p:cNvSpPr txBox="1"/>
              <p:nvPr/>
            </p:nvSpPr>
            <p:spPr>
              <a:xfrm>
                <a:off x="2424240" y="5450040"/>
                <a:ext cx="2676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р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у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Объект 5"/>
              <p:cNvSpPr txBox="1"/>
              <p:nvPr/>
            </p:nvSpPr>
            <p:spPr>
              <a:xfrm>
                <a:off x="5587920" y="5329080"/>
                <a:ext cx="21589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xdt</m:t>
                        </m:r>
                      </m:e>
                    </m:nary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кутник 81"/>
          <p:cNvSpPr/>
          <p:nvPr/>
        </p:nvSpPr>
        <p:spPr>
          <a:xfrm>
            <a:off x="179280" y="1728720"/>
            <a:ext cx="6821640" cy="36612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уде мати вигляд алгебраїчного рівня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кутник 81"/>
          <p:cNvSpPr/>
          <p:nvPr/>
        </p:nvSpPr>
        <p:spPr>
          <a:xfrm>
            <a:off x="84240" y="2771640"/>
            <a:ext cx="8966160" cy="366120"/>
          </a:xfrm>
          <a:prstGeom prst="rect">
            <a:avLst/>
          </a:prstGeom>
          <a:solidFill>
            <a:srgbClr val="c6d9f1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пис якого можна спростити і подати у такому вигляді: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кутник 81"/>
          <p:cNvSpPr/>
          <p:nvPr/>
        </p:nvSpPr>
        <p:spPr>
          <a:xfrm>
            <a:off x="90360" y="3851280"/>
            <a:ext cx="9001080" cy="731880"/>
          </a:xfrm>
          <a:prstGeom prst="rect">
            <a:avLst/>
          </a:prstGeom>
          <a:solidFill>
            <a:srgbClr val="fdeada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Така форма запису диференціального рівняння називається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операторною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кутник 6"/>
          <p:cNvSpPr/>
          <p:nvPr/>
        </p:nvSpPr>
        <p:spPr>
          <a:xfrm>
            <a:off x="108000" y="692280"/>
            <a:ext cx="8916840" cy="36612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У такій формі запису диференціальне рівняння елемен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92"/>
          <p:cNvSpPr/>
          <p:nvPr/>
        </p:nvSpPr>
        <p:spPr>
          <a:xfrm>
            <a:off x="127080" y="14292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ОПИС ЕЛЕМЕНТІВ І САК В ДИНАМІЧНОМУ РЕЖИМ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93"/>
          <p:cNvSpPr/>
          <p:nvPr/>
        </p:nvSpPr>
        <p:spPr>
          <a:xfrm>
            <a:off x="276120" y="59364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1"/>
          <p:cNvSpPr/>
          <p:nvPr/>
        </p:nvSpPr>
        <p:spPr>
          <a:xfrm>
            <a:off x="1704600" y="1116000"/>
            <a:ext cx="587592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/dt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uk-UA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/d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/dt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3126240" y="2160720"/>
            <a:ext cx="397080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x+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2534040" y="3203640"/>
            <a:ext cx="4737600" cy="579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+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y(t)=(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+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x(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кутник 81"/>
          <p:cNvSpPr/>
          <p:nvPr/>
        </p:nvSpPr>
        <p:spPr>
          <a:xfrm>
            <a:off x="108000" y="4716360"/>
            <a:ext cx="8959680" cy="731880"/>
          </a:xfrm>
          <a:prstGeom prst="rect">
            <a:avLst/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Математичну модель функціонального елемента називають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ланкою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системи автоматичного керу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кутник 81"/>
          <p:cNvSpPr/>
          <p:nvPr/>
        </p:nvSpPr>
        <p:spPr>
          <a:xfrm>
            <a:off x="84240" y="5580000"/>
            <a:ext cx="9001080" cy="1097640"/>
          </a:xfrm>
          <a:prstGeom prst="rect">
            <a:avLst/>
          </a:prstGeom>
          <a:solidFill>
            <a:srgbClr val="c6d9f1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ід ланкою розуміють всяку фізичну або нефізичну систему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φ(х)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, що перетворює вхідну величину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, яка змінюється в часі, у вихідну величину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, що також змінюється в час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кутник 81"/>
          <p:cNvSpPr/>
          <p:nvPr/>
        </p:nvSpPr>
        <p:spPr>
          <a:xfrm>
            <a:off x="115920" y="1511280"/>
            <a:ext cx="8908920" cy="731880"/>
          </a:xfrm>
          <a:prstGeom prst="rect">
            <a:avLst/>
          </a:prstGeom>
          <a:solidFill>
            <a:srgbClr val="f2dcdb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Ланка називається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лінійною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, якщо вихідна величина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пов'язана зі вхідною величиною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лінійною залежніст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кутник 81"/>
          <p:cNvSpPr/>
          <p:nvPr/>
        </p:nvSpPr>
        <p:spPr>
          <a:xfrm>
            <a:off x="93600" y="3213000"/>
            <a:ext cx="8947080" cy="1097640"/>
          </a:xfrm>
          <a:prstGeom prst="rect">
            <a:avLst/>
          </a:prstGeom>
          <a:solidFill>
            <a:srgbClr val="c6d9f1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Ланка характеризує тільки математичний зв'язок між вихідною і вхідною величинами,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причому ланка передає дію тільки в одному напрямі: з входу на вихід. Її називають ланкою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ої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 дії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кутник 81"/>
          <p:cNvSpPr/>
          <p:nvPr/>
        </p:nvSpPr>
        <p:spPr>
          <a:xfrm>
            <a:off x="115920" y="5373720"/>
            <a:ext cx="8893080" cy="1463400"/>
          </a:xfrm>
          <a:prstGeom prst="rect">
            <a:avLst/>
          </a:prstGeom>
          <a:solidFill>
            <a:srgbClr val="d7e4b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Якщо функціональний елемент або система описуються дифе-ренціальним рівнянням вищого порядку, то його математична мо-дель може бути представлена декількома елементарними лан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кутник 6"/>
          <p:cNvSpPr/>
          <p:nvPr/>
        </p:nvSpPr>
        <p:spPr>
          <a:xfrm>
            <a:off x="108000" y="692280"/>
            <a:ext cx="8916840" cy="731880"/>
          </a:xfrm>
          <a:prstGeom prst="rect">
            <a:avLst/>
          </a:prstGeom>
          <a:solidFill>
            <a:srgbClr val="d7e4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Ланка характеризується властивостями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лінійності і стаціонарності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92"/>
          <p:cNvSpPr/>
          <p:nvPr/>
        </p:nvSpPr>
        <p:spPr>
          <a:xfrm>
            <a:off x="127080" y="14292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ОПИС ЕЛЕМЕНТІВ І САК В ДИНАМІЧНОМУ РЕЖИМ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93"/>
          <p:cNvSpPr/>
          <p:nvPr/>
        </p:nvSpPr>
        <p:spPr>
          <a:xfrm>
            <a:off x="276120" y="593640"/>
            <a:ext cx="874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кутник 81"/>
          <p:cNvSpPr/>
          <p:nvPr/>
        </p:nvSpPr>
        <p:spPr>
          <a:xfrm>
            <a:off x="127080" y="2340000"/>
            <a:ext cx="8913600" cy="731880"/>
          </a:xfrm>
          <a:prstGeom prst="rect">
            <a:avLst/>
          </a:prstGeom>
          <a:solidFill>
            <a:srgbClr val="dce6f2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Ланка називається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стаціонарною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, якщо її реакція не залежить від часу прикладання вхідної ді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кутник 81"/>
          <p:cNvSpPr/>
          <p:nvPr/>
        </p:nvSpPr>
        <p:spPr>
          <a:xfrm>
            <a:off x="108000" y="4437000"/>
            <a:ext cx="8901000" cy="731880"/>
          </a:xfrm>
          <a:prstGeom prst="rect">
            <a:avLst/>
          </a:prstGeom>
          <a:solidFill>
            <a:srgbClr val="fcd5b5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Ланка, що описується рівнянням не вище другого порядку, називається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елементарною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8:44:46Z</dcterms:created>
  <dc:creator>Master</dc:creator>
  <dc:description/>
  <dc:language>en-US</dc:language>
  <cp:lastModifiedBy>Master</cp:lastModifiedBy>
  <dcterms:modified xsi:type="dcterms:W3CDTF">2020-10-12T06:37:36Z</dcterms:modified>
  <cp:revision>78</cp:revision>
  <dc:subject/>
  <dc:title>Презентация PowerPoint</dc:title>
</cp:coreProperties>
</file>