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0BB-1FFA-4C00-88A2-0F45D8F3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1B4-7E04-48BD-A89F-B723ADF5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1C2-F203-4ADC-9063-1A4AE44B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E90-E25C-4424-88A0-F0E09029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F08-E88B-461D-B8EB-E82BAF91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28C-F37D-4A2A-8102-58E5C171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F64-7EEE-421E-8231-4CE9A2FE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F9DC-B372-4ED4-8475-D87EFA7D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392-94A8-45FB-9FA7-BA7172D6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447-C374-429C-891C-881185B3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212-3B8F-47E4-BCCD-509202C3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AB1-49F1-4F0B-B978-881676BA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5796-8B4F-48EE-BD5C-B56873B0E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2"/>
          <p:cNvSpPr/>
          <p:nvPr/>
        </p:nvSpPr>
        <p:spPr>
          <a:xfrm>
            <a:off x="108000" y="11592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ТИПОВІ ДИНАМІЧНІ ЛА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93"/>
          <p:cNvSpPr/>
          <p:nvPr/>
        </p:nvSpPr>
        <p:spPr>
          <a:xfrm>
            <a:off x="324000" y="60948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кутник 132"/>
          <p:cNvSpPr/>
          <p:nvPr/>
        </p:nvSpPr>
        <p:spPr>
          <a:xfrm>
            <a:off x="3995640" y="68436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кутник 142"/>
          <p:cNvSpPr/>
          <p:nvPr/>
        </p:nvSpPr>
        <p:spPr>
          <a:xfrm>
            <a:off x="108000" y="4508640"/>
            <a:ext cx="878508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-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кутник 26"/>
          <p:cNvSpPr/>
          <p:nvPr/>
        </p:nvSpPr>
        <p:spPr>
          <a:xfrm>
            <a:off x="216000" y="976320"/>
            <a:ext cx="885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і відомості про типові динамічні ла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і динамічні ланки лінійних систем автоматичного керув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Аперіодична ла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Коливна ланк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 Диференціальна ла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Інтегральна ла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 Підсилювальна ла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6 Ланка із запізненн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’єднання динамічних ла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6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6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6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6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6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6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6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6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6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кутник 5"/>
          <p:cNvSpPr/>
          <p:nvPr/>
        </p:nvSpPr>
        <p:spPr>
          <a:xfrm>
            <a:off x="3363120" y="62064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Інтеграль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Групувати 29"/>
          <p:cNvGrpSpPr/>
          <p:nvPr/>
        </p:nvGrpSpPr>
        <p:grpSpPr>
          <a:xfrm>
            <a:off x="4791960" y="907920"/>
            <a:ext cx="3957120" cy="2665440"/>
            <a:chOff x="4791960" y="907920"/>
            <a:chExt cx="3957120" cy="2665440"/>
          </a:xfrm>
        </p:grpSpPr>
        <p:sp>
          <p:nvSpPr>
            <p:cNvPr id="232" name="Прямокутник 16"/>
            <p:cNvSpPr/>
            <p:nvPr/>
          </p:nvSpPr>
          <p:spPr>
            <a:xfrm>
              <a:off x="4791960" y="907920"/>
              <a:ext cx="39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лектродвигун постійного струм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3" descr=""/>
            <p:cNvPicPr/>
            <p:nvPr/>
          </p:nvPicPr>
          <p:blipFill>
            <a:blip r:embed="rId1"/>
            <a:stretch/>
          </p:blipFill>
          <p:spPr>
            <a:xfrm>
              <a:off x="5076000" y="1267920"/>
              <a:ext cx="3673080" cy="23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Прямокутник 19"/>
          <p:cNvSpPr/>
          <p:nvPr/>
        </p:nvSpPr>
        <p:spPr>
          <a:xfrm>
            <a:off x="250920" y="4724280"/>
            <a:ext cx="62658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ізняють ідеальну інтегральну ланку, що описує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6732720" y="4437000"/>
                <a:ext cx="18856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х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Прямокутник 22"/>
          <p:cNvSpPr/>
          <p:nvPr/>
        </p:nvSpPr>
        <p:spPr>
          <a:xfrm>
            <a:off x="827280" y="537372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6"/>
              <p:cNvSpPr txBox="1"/>
              <p:nvPr/>
            </p:nvSpPr>
            <p:spPr>
              <a:xfrm>
                <a:off x="2340000" y="5084640"/>
                <a:ext cx="22143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kх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Прямокутник 25"/>
          <p:cNvSpPr/>
          <p:nvPr/>
        </p:nvSpPr>
        <p:spPr>
          <a:xfrm>
            <a:off x="324000" y="602136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вальна функція такої інтегральної ла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8"/>
              <p:cNvSpPr txBox="1"/>
              <p:nvPr/>
            </p:nvSpPr>
            <p:spPr>
              <a:xfrm>
                <a:off x="6300720" y="6093000"/>
                <a:ext cx="1665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3" name="Группа 8"/>
          <p:cNvGrpSpPr/>
          <p:nvPr/>
        </p:nvGrpSpPr>
        <p:grpSpPr>
          <a:xfrm>
            <a:off x="172440" y="836640"/>
            <a:ext cx="3843000" cy="3936960"/>
            <a:chOff x="172440" y="836640"/>
            <a:chExt cx="3843000" cy="3936960"/>
          </a:xfrm>
        </p:grpSpPr>
        <p:grpSp>
          <p:nvGrpSpPr>
            <p:cNvPr id="244" name="Групувати 28"/>
            <p:cNvGrpSpPr/>
            <p:nvPr/>
          </p:nvGrpSpPr>
          <p:grpSpPr>
            <a:xfrm>
              <a:off x="172440" y="836640"/>
              <a:ext cx="3843000" cy="3936960"/>
              <a:chOff x="172440" y="836640"/>
              <a:chExt cx="3843000" cy="3936960"/>
            </a:xfrm>
          </p:grpSpPr>
          <p:sp>
            <p:nvSpPr>
              <p:cNvPr id="245" name="Прямокутник 15"/>
              <p:cNvSpPr/>
              <p:nvPr/>
            </p:nvSpPr>
            <p:spPr>
              <a:xfrm>
                <a:off x="172440" y="836640"/>
                <a:ext cx="38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ембранний виконавчий механіз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39280" y="1196640"/>
                <a:ext cx="3384360" cy="357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7" name="Прямая соединительная линия 5"/>
            <p:cNvSpPr/>
            <p:nvPr/>
          </p:nvSpPr>
          <p:spPr>
            <a:xfrm>
              <a:off x="2926080" y="2060640"/>
              <a:ext cx="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Дуга 7"/>
            <p:cNvSpPr/>
            <p:nvPr/>
          </p:nvSpPr>
          <p:spPr>
            <a:xfrm>
              <a:off x="2514600" y="1941480"/>
              <a:ext cx="411120" cy="268200"/>
            </a:xfrm>
            <a:custGeom>
              <a:avLst/>
              <a:gdLst/>
              <a:ahLst/>
              <a:rect l="l" t="t" r="r" b="b"/>
              <a:pathLst>
                <a:path stroke="0" w="411163" h="268287">
                  <a:moveTo>
                    <a:pt x="205581" y="0"/>
                  </a:moveTo>
                  <a:cubicBezTo>
                    <a:pt x="319121" y="0"/>
                    <a:pt x="411163" y="60058"/>
                    <a:pt x="411163" y="134144"/>
                  </a:cubicBezTo>
                  <a:lnTo>
                    <a:pt x="205582" y="134144"/>
                  </a:lnTo>
                  <a:cubicBezTo>
                    <a:pt x="205582" y="89429"/>
                    <a:pt x="205581" y="44715"/>
                    <a:pt x="205581" y="0"/>
                  </a:cubicBezTo>
                  <a:close/>
                </a:path>
                <a:path fill="none" w="411163" h="268287">
                  <a:moveTo>
                    <a:pt x="205581" y="0"/>
                  </a:moveTo>
                  <a:cubicBezTo>
                    <a:pt x="319121" y="0"/>
                    <a:pt x="411163" y="60058"/>
                    <a:pt x="411163" y="134144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кутник 5"/>
          <p:cNvSpPr/>
          <p:nvPr/>
        </p:nvSpPr>
        <p:spPr>
          <a:xfrm>
            <a:off x="3363120" y="62064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Інтеграль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кутник 18"/>
          <p:cNvSpPr/>
          <p:nvPr/>
        </p:nvSpPr>
        <p:spPr>
          <a:xfrm>
            <a:off x="2845080" y="90792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Реальна інтегральна ла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кутник 19"/>
          <p:cNvSpPr/>
          <p:nvPr/>
        </p:nvSpPr>
        <p:spPr>
          <a:xfrm>
            <a:off x="179280" y="1268280"/>
            <a:ext cx="87854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і розглянуті вище пристрої можна вважати ідеальними інтегруючими ланка-ми, якщо їх постійні часу достатньо малі і ними можна знехтувати. В реальній інтегруючій ланці перехідний процес описується диференціальним рівнянн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"/>
              <p:cNvSpPr txBox="1"/>
              <p:nvPr/>
            </p:nvSpPr>
            <p:spPr>
              <a:xfrm>
                <a:off x="2484360" y="2205000"/>
                <a:ext cx="3208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х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Прямокутник 22"/>
          <p:cNvSpPr/>
          <p:nvPr/>
        </p:nvSpPr>
        <p:spPr>
          <a:xfrm>
            <a:off x="179280" y="3068640"/>
            <a:ext cx="8785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а інтегральна  ланка відрізняється інерційністю. Постійна часу Т зале-жить від параметрів елементів, що входять в ланку. Або в операторній форм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2700360" y="3645000"/>
                <a:ext cx="2913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х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Прямокутник 25"/>
          <p:cNvSpPr/>
          <p:nvPr/>
        </p:nvSpPr>
        <p:spPr>
          <a:xfrm>
            <a:off x="179280" y="4076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чне рівняння реальної інтегральної ланки має вигля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5"/>
              <p:cNvSpPr txBox="1"/>
              <p:nvPr/>
            </p:nvSpPr>
            <p:spPr>
              <a:xfrm>
                <a:off x="2843280" y="4437000"/>
                <a:ext cx="1657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р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Прямокутник 28"/>
          <p:cNvSpPr/>
          <p:nvPr/>
        </p:nvSpPr>
        <p:spPr>
          <a:xfrm>
            <a:off x="179280" y="50133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дки визначимо передавальну функцію реальної інтегральної ла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4932360" y="5084640"/>
                <a:ext cx="2922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Прямокутник 31"/>
          <p:cNvSpPr/>
          <p:nvPr/>
        </p:nvSpPr>
        <p:spPr>
          <a:xfrm>
            <a:off x="250920" y="573264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истемах автоматики реальну інтегральну ланку можна розчленувати на ідеальну інтегральну і аперіодичну ла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6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6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кутник 5"/>
          <p:cNvSpPr/>
          <p:nvPr/>
        </p:nvSpPr>
        <p:spPr>
          <a:xfrm>
            <a:off x="3367800" y="62064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Підсилюваль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кутник 19"/>
          <p:cNvSpPr/>
          <p:nvPr/>
        </p:nvSpPr>
        <p:spPr>
          <a:xfrm>
            <a:off x="179280" y="836640"/>
            <a:ext cx="8785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ідсилювальною називається ланка, в якій вихідна величина без спотворень і запізнювання відтворює вхідну величину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даній ланці будь-які зміни вхідної величини миттєво передаються вихідній, тому в усталеному і перехідному режимах системи справедливо рівня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"/>
              <p:cNvSpPr txBox="1"/>
              <p:nvPr/>
            </p:nvSpPr>
            <p:spPr>
              <a:xfrm>
                <a:off x="4788000" y="1773360"/>
                <a:ext cx="1814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х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Прямокутник 22"/>
          <p:cNvSpPr/>
          <p:nvPr/>
        </p:nvSpPr>
        <p:spPr>
          <a:xfrm>
            <a:off x="179280" y="2060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оефіцієнт передачі або коефіцієнт  підсил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кутник 23"/>
          <p:cNvSpPr/>
          <p:nvPr/>
        </p:nvSpPr>
        <p:spPr>
          <a:xfrm>
            <a:off x="179280" y="2349360"/>
            <a:ext cx="69138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дки визначимо передавальну функцію підсилювальної ла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7093080" y="2276640"/>
                <a:ext cx="1352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1" name="Групувати 32"/>
          <p:cNvGrpSpPr/>
          <p:nvPr/>
        </p:nvGrpSpPr>
        <p:grpSpPr>
          <a:xfrm>
            <a:off x="179280" y="2708280"/>
            <a:ext cx="4105440" cy="2233440"/>
            <a:chOff x="179280" y="2708280"/>
            <a:chExt cx="4105440" cy="2233440"/>
          </a:xfrm>
        </p:grpSpPr>
        <p:sp>
          <p:nvSpPr>
            <p:cNvPr id="302" name="Прямокутник 26"/>
            <p:cNvSpPr/>
            <p:nvPr/>
          </p:nvSpPr>
          <p:spPr>
            <a:xfrm>
              <a:off x="829440" y="2708280"/>
              <a:ext cx="23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ажільна передач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Picture 5" descr=""/>
            <p:cNvPicPr/>
            <p:nvPr/>
          </p:nvPicPr>
          <p:blipFill>
            <a:blip r:embed="rId1"/>
            <a:stretch/>
          </p:blipFill>
          <p:spPr>
            <a:xfrm>
              <a:off x="179280" y="3068280"/>
              <a:ext cx="4105440" cy="187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Групувати 33"/>
          <p:cNvGrpSpPr/>
          <p:nvPr/>
        </p:nvGrpSpPr>
        <p:grpSpPr>
          <a:xfrm>
            <a:off x="4932360" y="2708280"/>
            <a:ext cx="2876760" cy="2332080"/>
            <a:chOff x="4932360" y="2708280"/>
            <a:chExt cx="2876760" cy="2332080"/>
          </a:xfrm>
        </p:grpSpPr>
        <p:sp>
          <p:nvSpPr>
            <p:cNvPr id="305" name="Прямокутник 27"/>
            <p:cNvSpPr/>
            <p:nvPr/>
          </p:nvSpPr>
          <p:spPr>
            <a:xfrm>
              <a:off x="5217480" y="2708280"/>
              <a:ext cx="259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дукторна передач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6" name="Picture 6" descr=""/>
            <p:cNvPicPr/>
            <p:nvPr/>
          </p:nvPicPr>
          <p:blipFill>
            <a:blip r:embed="rId2"/>
            <a:stretch/>
          </p:blipFill>
          <p:spPr>
            <a:xfrm>
              <a:off x="4932360" y="3068280"/>
              <a:ext cx="2808720" cy="19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Прямокутник 30"/>
          <p:cNvSpPr/>
          <p:nvPr/>
        </p:nvSpPr>
        <p:spPr>
          <a:xfrm>
            <a:off x="179280" y="4941720"/>
            <a:ext cx="878544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ім того, підсилювальною ланкою є всі датчики опору, індуктивні і інші пере-творювачі. При малих постійних часу підсилювальною ланкою є і підсилювач типу «сопло-заслінка». З наведених прикладів видно, що пристрої, що є підси-лювальною ланкою, в основному служать для передачі дій, тобто сполучають між собою різні елементи систем автоматичного регулювання. Тому підсилю-вальну ланку іноді називають жорстким зв'яз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кутник 5"/>
          <p:cNvSpPr/>
          <p:nvPr/>
        </p:nvSpPr>
        <p:spPr>
          <a:xfrm>
            <a:off x="3357360" y="62064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Ланка із запізненн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кутник 21"/>
          <p:cNvSpPr/>
          <p:nvPr/>
        </p:nvSpPr>
        <p:spPr>
          <a:xfrm>
            <a:off x="179280" y="836640"/>
            <a:ext cx="896472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анка із запізненням це ланка, в якій вихідна величина відтворює вхідну, але з деяким постійним відставанням в час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кутник 22"/>
          <p:cNvSpPr/>
          <p:nvPr/>
        </p:nvSpPr>
        <p:spPr>
          <a:xfrm>
            <a:off x="179280" y="1413000"/>
            <a:ext cx="878544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и ланки із запізненням: якщо конвеєр завантажують з одного кінця, а виміряють навантаження в перетині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деякій відстані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ід перетину за-вантаженн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зміни, що виникли на вході ланки, в перетині вимірювання позна-чаться тільки через деякий постійний час τ . В даному випадку час запізнювання: τ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Групувати 28"/>
          <p:cNvGrpSpPr/>
          <p:nvPr/>
        </p:nvGrpSpPr>
        <p:grpSpPr>
          <a:xfrm>
            <a:off x="179280" y="2852640"/>
            <a:ext cx="4572000" cy="3456000"/>
            <a:chOff x="179280" y="2852640"/>
            <a:chExt cx="4572000" cy="3456000"/>
          </a:xfrm>
        </p:grpSpPr>
        <p:sp>
          <p:nvSpPr>
            <p:cNvPr id="329" name="Прямокутник 23"/>
            <p:cNvSpPr/>
            <p:nvPr/>
          </p:nvSpPr>
          <p:spPr>
            <a:xfrm>
              <a:off x="179280" y="2852640"/>
              <a:ext cx="457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веєр з рознесеними точками завантаження і вимірювання товщини шару завантаже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2" descr=""/>
            <p:cNvPicPr/>
            <p:nvPr/>
          </p:nvPicPr>
          <p:blipFill>
            <a:blip r:embed="rId1"/>
            <a:stretch/>
          </p:blipFill>
          <p:spPr>
            <a:xfrm>
              <a:off x="323280" y="3860640"/>
              <a:ext cx="3729960" cy="24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Групувати 29"/>
          <p:cNvGrpSpPr/>
          <p:nvPr/>
        </p:nvGrpSpPr>
        <p:grpSpPr>
          <a:xfrm>
            <a:off x="4572000" y="2637000"/>
            <a:ext cx="4239000" cy="3651120"/>
            <a:chOff x="4572000" y="2637000"/>
            <a:chExt cx="4239000" cy="3651120"/>
          </a:xfrm>
        </p:grpSpPr>
        <p:sp>
          <p:nvSpPr>
            <p:cNvPr id="332" name="Прямокутник 25"/>
            <p:cNvSpPr/>
            <p:nvPr/>
          </p:nvSpPr>
          <p:spPr>
            <a:xfrm>
              <a:off x="4576320" y="2637000"/>
              <a:ext cx="42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стеми з довгими пневмопровод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3" descr=""/>
            <p:cNvPicPr/>
            <p:nvPr/>
          </p:nvPicPr>
          <p:blipFill>
            <a:blip r:embed="rId2"/>
            <a:stretch/>
          </p:blipFill>
          <p:spPr>
            <a:xfrm>
              <a:off x="4572000" y="2997000"/>
              <a:ext cx="3384720" cy="32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Rectangle 4"/>
          <p:cNvSpPr/>
          <p:nvPr/>
        </p:nvSpPr>
        <p:spPr>
          <a:xfrm>
            <a:off x="179280" y="6157800"/>
            <a:ext cx="896472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ж вхідною і вихідною величинами ланки із запізненням, існує залежність: у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х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-τ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З’ЄДНАННЯ ДИНАМІЧНИХ ЛА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кутник 21"/>
          <p:cNvSpPr/>
          <p:nvPr/>
        </p:nvSpPr>
        <p:spPr>
          <a:xfrm>
            <a:off x="179280" y="765000"/>
            <a:ext cx="8964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лідовному з’єднанні динамічних ланок із передавальними функціям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передавальна функція розімкнутої системи буде рівною добутку передавальних функцій цих ла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"/>
              <p:cNvSpPr txBox="1"/>
              <p:nvPr/>
            </p:nvSpPr>
            <p:spPr>
              <a:xfrm>
                <a:off x="1619280" y="1700280"/>
                <a:ext cx="50706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Прямокутник 24"/>
          <p:cNvSpPr/>
          <p:nvPr/>
        </p:nvSpPr>
        <p:spPr>
          <a:xfrm>
            <a:off x="179280" y="2492280"/>
            <a:ext cx="87854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аралельному з’єднанні динамічних ланок із передавальними функціям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передавальна функція розімкнутої системи буде рівною сумі передавальних функцій цих ла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1692360" y="3500280"/>
                <a:ext cx="55292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Прямокутник 27"/>
          <p:cNvSpPr/>
          <p:nvPr/>
        </p:nvSpPr>
        <p:spPr>
          <a:xfrm>
            <a:off x="179280" y="4221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вальна функція лінії зворотного зв’язку рівна одиниц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7236000" y="4149720"/>
                <a:ext cx="12967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Прямокутник 30"/>
          <p:cNvSpPr/>
          <p:nvPr/>
        </p:nvSpPr>
        <p:spPr>
          <a:xfrm>
            <a:off x="179280" y="465300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миканні елементів лінією зворотного зв’язку результуюча передавальна функція буде рівно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7"/>
              <p:cNvSpPr txBox="1"/>
              <p:nvPr/>
            </p:nvSpPr>
            <p:spPr>
              <a:xfrm>
                <a:off x="2916360" y="5013360"/>
                <a:ext cx="3090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увати 43"/>
          <p:cNvGrpSpPr/>
          <p:nvPr/>
        </p:nvGrpSpPr>
        <p:grpSpPr>
          <a:xfrm>
            <a:off x="179280" y="5732640"/>
            <a:ext cx="8785440" cy="485640"/>
            <a:chOff x="179280" y="5732640"/>
            <a:chExt cx="8785440" cy="485640"/>
          </a:xfrm>
        </p:grpSpPr>
        <p:sp>
          <p:nvSpPr>
            <p:cNvPr id="347" name="Прямокутник 39"/>
            <p:cNvSpPr/>
            <p:nvPr/>
          </p:nvSpPr>
          <p:spPr>
            <a:xfrm>
              <a:off x="179280" y="5804640"/>
              <a:ext cx="87854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               - передавальна функція ланок, що охоплюються зворотним зв’язко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15"/>
                <p:cNvSpPr txBox="1"/>
                <p:nvPr/>
              </p:nvSpPr>
              <p:spPr>
                <a:xfrm>
                  <a:off x="539280" y="5732640"/>
                  <a:ext cx="86400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9" name="Прямокутник 42"/>
          <p:cNvSpPr/>
          <p:nvPr/>
        </p:nvSpPr>
        <p:spPr>
          <a:xfrm>
            <a:off x="179280" y="616572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плюс ставлять при негативному а знак мінус при позитивному зворотному зв’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92"/>
          <p:cNvSpPr/>
          <p:nvPr/>
        </p:nvSpPr>
        <p:spPr>
          <a:xfrm>
            <a:off x="32400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Загальні відомості про типові динамічні ла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3"/>
          <p:cNvSpPr/>
          <p:nvPr/>
        </p:nvSpPr>
        <p:spPr>
          <a:xfrm>
            <a:off x="324000" y="404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кутник 6"/>
          <p:cNvSpPr/>
          <p:nvPr/>
        </p:nvSpPr>
        <p:spPr>
          <a:xfrm>
            <a:off x="108000" y="404640"/>
            <a:ext cx="8928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цесі досліджень елементів автоматики встановлено, що перехідні процеси у різних за конструктивним виконанням та принципу дії пристроях описуються однаковими диференціальними рівняннями, і можуть бути предс-тавлені елементарними ланками, число типів елементарних ланок обмеже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кутник 9"/>
          <p:cNvSpPr/>
          <p:nvPr/>
        </p:nvSpPr>
        <p:spPr>
          <a:xfrm>
            <a:off x="179280" y="1773360"/>
            <a:ext cx="79930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аперіодична ланка;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- інтегральна ла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оливна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ланка;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- підсилювальна ла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диференціальна ланка;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- ланка із запізненн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кутник 18"/>
          <p:cNvSpPr/>
          <p:nvPr/>
        </p:nvSpPr>
        <p:spPr>
          <a:xfrm>
            <a:off x="179280" y="2708280"/>
            <a:ext cx="89647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ий пристрій може бути представлений типовою динамічною ланкою або комбінацією декількох ланок залежно від прийнятих допущень і вибору вхідної і вихідної величин цього пристрою. Один і той же пристрій може бути представ-лений різними типами динамічних ланок залежно від ступеня його ідеаліз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кутник 16"/>
          <p:cNvSpPr/>
          <p:nvPr/>
        </p:nvSpPr>
        <p:spPr>
          <a:xfrm>
            <a:off x="179280" y="5013360"/>
            <a:ext cx="878544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руктурних схемах типові ланки зображуються прямокутниками із вписаними передавальними функціями та вказують стрілками напрям вхідної та вихідної дії. Замінивши всі конструктивні елементи типовими ланками і з’єднавши їх відповідно до передачі дії отримаємо структурну схему системи автоматичного кер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кутник 17"/>
          <p:cNvSpPr/>
          <p:nvPr/>
        </p:nvSpPr>
        <p:spPr>
          <a:xfrm>
            <a:off x="179280" y="4005360"/>
            <a:ext cx="878544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м описом ланки є диференціальне рівняння, за яким визначають перехідну функцію, вагову функцію і передавальну функцію, що характеризують динамічні властивості ла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кутник 11"/>
          <p:cNvSpPr/>
          <p:nvPr/>
        </p:nvSpPr>
        <p:spPr>
          <a:xfrm>
            <a:off x="179280" y="836640"/>
            <a:ext cx="871380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ріодичною ланкою в системах автоматики можна замінювати елементи, процеси в яких пов'язані з накопиченням або витратою - речовини чи енергії.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періодична ланка містить накопичувальний елемент, здатний накопичувати або витрачати речовину чи енергію і опір, що перешкоджає цій витраті або накопиченню.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аперіодичних ланок віднося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2"/>
          <p:cNvSpPr/>
          <p:nvPr/>
        </p:nvSpPr>
        <p:spPr>
          <a:xfrm>
            <a:off x="25092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3"/>
          <p:cNvSpPr/>
          <p:nvPr/>
        </p:nvSpPr>
        <p:spPr>
          <a:xfrm>
            <a:off x="324000" y="47628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Таблиця 6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кутник 14"/>
          <p:cNvSpPr/>
          <p:nvPr/>
        </p:nvSpPr>
        <p:spPr>
          <a:xfrm>
            <a:off x="3216240" y="5493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Аперіодич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Групувати 17"/>
          <p:cNvGrpSpPr/>
          <p:nvPr/>
        </p:nvGrpSpPr>
        <p:grpSpPr>
          <a:xfrm>
            <a:off x="179280" y="2492280"/>
            <a:ext cx="4321440" cy="3384720"/>
            <a:chOff x="179280" y="2492280"/>
            <a:chExt cx="4321440" cy="3384720"/>
          </a:xfrm>
        </p:grpSpPr>
        <p:pic>
          <p:nvPicPr>
            <p:cNvPr id="80" name="Рисунок 3" descr="Описание: апер ланка"/>
            <p:cNvPicPr/>
            <p:nvPr/>
          </p:nvPicPr>
          <p:blipFill>
            <a:blip r:embed="rId1"/>
            <a:srcRect l="2356" t="8455" r="59676" b="56784"/>
            <a:stretch/>
          </p:blipFill>
          <p:spPr>
            <a:xfrm>
              <a:off x="395280" y="3428280"/>
              <a:ext cx="3678480" cy="24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Прямокутник 15"/>
            <p:cNvSpPr/>
            <p:nvPr/>
          </p:nvSpPr>
          <p:spPr>
            <a:xfrm>
              <a:off x="179280" y="2492280"/>
              <a:ext cx="432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лектричні кола, що містять ємність або індуктивність і опі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Групувати 18"/>
          <p:cNvGrpSpPr/>
          <p:nvPr/>
        </p:nvGrpSpPr>
        <p:grpSpPr>
          <a:xfrm>
            <a:off x="4572000" y="2565360"/>
            <a:ext cx="3960720" cy="3240000"/>
            <a:chOff x="4572000" y="2565360"/>
            <a:chExt cx="3960720" cy="3240000"/>
          </a:xfrm>
        </p:grpSpPr>
        <p:pic>
          <p:nvPicPr>
            <p:cNvPr id="83" name="Рисунок 4" descr="Описание: апер ланка"/>
            <p:cNvPicPr/>
            <p:nvPr/>
          </p:nvPicPr>
          <p:blipFill>
            <a:blip r:embed="rId2"/>
            <a:srcRect l="41766" t="12884" r="24319" b="59469"/>
            <a:stretch/>
          </p:blipFill>
          <p:spPr>
            <a:xfrm>
              <a:off x="4644000" y="3717360"/>
              <a:ext cx="3644640" cy="20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Прямокутник 16"/>
            <p:cNvSpPr/>
            <p:nvPr/>
          </p:nvSpPr>
          <p:spPr>
            <a:xfrm>
              <a:off x="4572000" y="2565360"/>
              <a:ext cx="396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енератор постійного струму з незалежним збудження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кутник 81"/>
          <p:cNvSpPr/>
          <p:nvPr/>
        </p:nvSpPr>
        <p:spPr>
          <a:xfrm>
            <a:off x="179280" y="4437000"/>
            <a:ext cx="59770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ійне рівняння аперіодичної ланки в загальному випадку можна представити у вигляд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кутник 87"/>
          <p:cNvSpPr/>
          <p:nvPr/>
        </p:nvSpPr>
        <p:spPr>
          <a:xfrm>
            <a:off x="179280" y="5084640"/>
            <a:ext cx="87854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і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, постійна часу та коефіцієнт передач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2"/>
          <p:cNvSpPr/>
          <p:nvPr/>
        </p:nvSpPr>
        <p:spPr>
          <a:xfrm>
            <a:off x="25092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3"/>
          <p:cNvSpPr/>
          <p:nvPr/>
        </p:nvSpPr>
        <p:spPr>
          <a:xfrm>
            <a:off x="324000" y="47628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кутник 21"/>
          <p:cNvSpPr/>
          <p:nvPr/>
        </p:nvSpPr>
        <p:spPr>
          <a:xfrm>
            <a:off x="3216240" y="5493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Аперіодич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увати 32"/>
          <p:cNvGrpSpPr/>
          <p:nvPr/>
        </p:nvGrpSpPr>
        <p:grpSpPr>
          <a:xfrm>
            <a:off x="179280" y="907920"/>
            <a:ext cx="4321440" cy="3529080"/>
            <a:chOff x="179280" y="907920"/>
            <a:chExt cx="4321440" cy="3529080"/>
          </a:xfrm>
        </p:grpSpPr>
        <p:sp>
          <p:nvSpPr>
            <p:cNvPr id="91" name="Прямокутник 85"/>
            <p:cNvSpPr/>
            <p:nvPr/>
          </p:nvSpPr>
          <p:spPr>
            <a:xfrm>
              <a:off x="179280" y="907920"/>
              <a:ext cx="43214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зервуар зі стиснутим газом, магіст-раллю і встановленим між ними опо-ром, що перешкоджає проходу газ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Рисунок 5" descr="Описание: апер ланка"/>
            <p:cNvPicPr/>
            <p:nvPr/>
          </p:nvPicPr>
          <p:blipFill>
            <a:blip r:embed="rId1"/>
            <a:srcRect l="75417" t="10334" r="2356" b="49940"/>
            <a:stretch/>
          </p:blipFill>
          <p:spPr>
            <a:xfrm>
              <a:off x="611280" y="1916280"/>
              <a:ext cx="2016720" cy="25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Групувати 33"/>
          <p:cNvGrpSpPr/>
          <p:nvPr/>
        </p:nvGrpSpPr>
        <p:grpSpPr>
          <a:xfrm>
            <a:off x="4643280" y="907920"/>
            <a:ext cx="4032360" cy="3451320"/>
            <a:chOff x="4643280" y="907920"/>
            <a:chExt cx="4032360" cy="3451320"/>
          </a:xfrm>
        </p:grpSpPr>
        <p:sp>
          <p:nvSpPr>
            <p:cNvPr id="94" name="Прямокутник 70"/>
            <p:cNvSpPr/>
            <p:nvPr/>
          </p:nvSpPr>
          <p:spPr>
            <a:xfrm>
              <a:off x="4643280" y="907920"/>
              <a:ext cx="403236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ідравлічні виконавчі механізми односторонньої дії з управляючим органом типу «сопло-заслінк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Рисунок 6" descr="Описание: апер ланка"/>
            <p:cNvPicPr/>
            <p:nvPr/>
          </p:nvPicPr>
          <p:blipFill>
            <a:blip r:embed="rId2"/>
            <a:srcRect l="2356" t="44303" r="65331" b="5503"/>
            <a:stretch/>
          </p:blipFill>
          <p:spPr>
            <a:xfrm>
              <a:off x="4931280" y="1844280"/>
              <a:ext cx="2304360" cy="25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2"/>
              <p:cNvSpPr txBox="1"/>
              <p:nvPr/>
            </p:nvSpPr>
            <p:spPr>
              <a:xfrm>
                <a:off x="5940360" y="4365720"/>
                <a:ext cx="2808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Прямокутник 26"/>
          <p:cNvSpPr/>
          <p:nvPr/>
        </p:nvSpPr>
        <p:spPr>
          <a:xfrm>
            <a:off x="179280" y="5445000"/>
            <a:ext cx="59770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йшовши до зображення по Лапласу при нульових початкових умовах (прямий перехід), має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4"/>
              <p:cNvSpPr txBox="1"/>
              <p:nvPr/>
            </p:nvSpPr>
            <p:spPr>
              <a:xfrm>
                <a:off x="6156360" y="5516640"/>
                <a:ext cx="26636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Прямокутник 29"/>
          <p:cNvSpPr/>
          <p:nvPr/>
        </p:nvSpPr>
        <p:spPr>
          <a:xfrm>
            <a:off x="179280" y="6021360"/>
            <a:ext cx="39610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дки визначимо передавальну  функцію аперіодичної ла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6"/>
              <p:cNvSpPr txBox="1"/>
              <p:nvPr/>
            </p:nvSpPr>
            <p:spPr>
              <a:xfrm>
                <a:off x="5867280" y="6237360"/>
                <a:ext cx="2367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T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кутник 128"/>
          <p:cNvSpPr/>
          <p:nvPr/>
        </p:nvSpPr>
        <p:spPr>
          <a:xfrm>
            <a:off x="179280" y="907920"/>
            <a:ext cx="878544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ка у якій вихідна величина після подачі на її вхід одиночної ступінчатої дії здійснює усталені коливання називається коливною.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Коливною ланкою є частина системи автоматичного керування, що складається, із двох накопичувальних елементів у яких акумулюється речовина або енергія з подальшим взаємним обміном цими запасами.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До таких ланок віднося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кутник 14"/>
          <p:cNvSpPr/>
          <p:nvPr/>
        </p:nvSpPr>
        <p:spPr>
          <a:xfrm>
            <a:off x="3358440" y="62064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Колив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Групувати 21"/>
          <p:cNvGrpSpPr/>
          <p:nvPr/>
        </p:nvGrpSpPr>
        <p:grpSpPr>
          <a:xfrm>
            <a:off x="611280" y="2492280"/>
            <a:ext cx="3168720" cy="4141800"/>
            <a:chOff x="611280" y="2492280"/>
            <a:chExt cx="3168720" cy="4141800"/>
          </a:xfrm>
        </p:grpSpPr>
        <p:sp>
          <p:nvSpPr>
            <p:cNvPr id="113" name="Прямокутник 126"/>
            <p:cNvSpPr/>
            <p:nvPr/>
          </p:nvSpPr>
          <p:spPr>
            <a:xfrm>
              <a:off x="611280" y="2492280"/>
              <a:ext cx="316872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ужна механічна систе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 масою і тертя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13" descr=""/>
            <p:cNvPicPr/>
            <p:nvPr/>
          </p:nvPicPr>
          <p:blipFill>
            <a:blip r:embed="rId1"/>
            <a:stretch/>
          </p:blipFill>
          <p:spPr>
            <a:xfrm>
              <a:off x="899280" y="3140280"/>
              <a:ext cx="2016360" cy="349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Групувати 22"/>
          <p:cNvGrpSpPr/>
          <p:nvPr/>
        </p:nvGrpSpPr>
        <p:grpSpPr>
          <a:xfrm>
            <a:off x="4788000" y="2492280"/>
            <a:ext cx="3600360" cy="3621240"/>
            <a:chOff x="4788000" y="2492280"/>
            <a:chExt cx="3600360" cy="3621240"/>
          </a:xfrm>
        </p:grpSpPr>
        <p:pic>
          <p:nvPicPr>
            <p:cNvPr id="116" name="Picture 14" descr=""/>
            <p:cNvPicPr/>
            <p:nvPr/>
          </p:nvPicPr>
          <p:blipFill>
            <a:blip r:embed="rId2"/>
            <a:stretch/>
          </p:blipFill>
          <p:spPr>
            <a:xfrm>
              <a:off x="4932000" y="3284640"/>
              <a:ext cx="223236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Прямокутник 20"/>
            <p:cNvSpPr/>
            <p:nvPr/>
          </p:nvSpPr>
          <p:spPr>
            <a:xfrm>
              <a:off x="4788000" y="2492280"/>
              <a:ext cx="360036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вигун постійного струму з незалежним збудження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кутник 150"/>
          <p:cNvSpPr/>
          <p:nvPr/>
        </p:nvSpPr>
        <p:spPr>
          <a:xfrm>
            <a:off x="179280" y="3645000"/>
            <a:ext cx="453708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ідний процес в таких ланках описується диференціальним рівнянням другого поряд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кутник 150"/>
          <p:cNvSpPr/>
          <p:nvPr/>
        </p:nvSpPr>
        <p:spPr>
          <a:xfrm>
            <a:off x="179280" y="4653000"/>
            <a:ext cx="8785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Т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Т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стійні часу, що визначаються параметрами елементів ла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в операторній форм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кутник 26"/>
          <p:cNvSpPr/>
          <p:nvPr/>
        </p:nvSpPr>
        <p:spPr>
          <a:xfrm>
            <a:off x="3358440" y="62064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Колив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увати 34"/>
          <p:cNvGrpSpPr/>
          <p:nvPr/>
        </p:nvGrpSpPr>
        <p:grpSpPr>
          <a:xfrm>
            <a:off x="179280" y="836640"/>
            <a:ext cx="4105440" cy="2666880"/>
            <a:chOff x="179280" y="836640"/>
            <a:chExt cx="4105440" cy="2666880"/>
          </a:xfrm>
        </p:grpSpPr>
        <p:sp>
          <p:nvSpPr>
            <p:cNvPr id="135" name="Прямокутник 22"/>
            <p:cNvSpPr/>
            <p:nvPr/>
          </p:nvSpPr>
          <p:spPr>
            <a:xfrm>
              <a:off x="179280" y="836640"/>
              <a:ext cx="410544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лектричне коло з активним опором, індуктивністю і ємніст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22" descr=""/>
            <p:cNvPicPr/>
            <p:nvPr/>
          </p:nvPicPr>
          <p:blipFill>
            <a:blip r:embed="rId1"/>
            <a:stretch/>
          </p:blipFill>
          <p:spPr>
            <a:xfrm>
              <a:off x="179280" y="1484640"/>
              <a:ext cx="3960720" cy="20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Групувати 32"/>
          <p:cNvGrpSpPr/>
          <p:nvPr/>
        </p:nvGrpSpPr>
        <p:grpSpPr>
          <a:xfrm>
            <a:off x="5364000" y="836640"/>
            <a:ext cx="3311640" cy="2592360"/>
            <a:chOff x="5364000" y="836640"/>
            <a:chExt cx="3311640" cy="2592360"/>
          </a:xfrm>
        </p:grpSpPr>
        <p:sp>
          <p:nvSpPr>
            <p:cNvPr id="138" name="Прямокутник 129"/>
            <p:cNvSpPr/>
            <p:nvPr/>
          </p:nvSpPr>
          <p:spPr>
            <a:xfrm>
              <a:off x="5364000" y="836640"/>
              <a:ext cx="33116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нометрична пружи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23" descr=""/>
            <p:cNvPicPr/>
            <p:nvPr/>
          </p:nvPicPr>
          <p:blipFill>
            <a:blip r:embed="rId2"/>
            <a:stretch/>
          </p:blipFill>
          <p:spPr>
            <a:xfrm>
              <a:off x="5890680" y="1222560"/>
              <a:ext cx="2257920" cy="22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4"/>
              <p:cNvSpPr txBox="1"/>
              <p:nvPr/>
            </p:nvSpPr>
            <p:spPr>
              <a:xfrm>
                <a:off x="4788000" y="3716280"/>
                <a:ext cx="41767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6"/>
              <p:cNvSpPr txBox="1"/>
              <p:nvPr/>
            </p:nvSpPr>
            <p:spPr>
              <a:xfrm>
                <a:off x="3348000" y="5013360"/>
                <a:ext cx="33116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Прямокутник 38"/>
          <p:cNvSpPr/>
          <p:nvPr/>
        </p:nvSpPr>
        <p:spPr>
          <a:xfrm>
            <a:off x="179280" y="5373720"/>
            <a:ext cx="468000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чне рівняння лінійного диференціального рівняння має вигля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28"/>
              <p:cNvSpPr txBox="1"/>
              <p:nvPr/>
            </p:nvSpPr>
            <p:spPr>
              <a:xfrm>
                <a:off x="4932360" y="5504040"/>
                <a:ext cx="2087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Прямокутник 41"/>
          <p:cNvSpPr/>
          <p:nvPr/>
        </p:nvSpPr>
        <p:spPr>
          <a:xfrm>
            <a:off x="179280" y="6021360"/>
            <a:ext cx="457200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дки визначимо передавальну функцію аперіодичної ла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0"/>
              <p:cNvSpPr txBox="1"/>
              <p:nvPr/>
            </p:nvSpPr>
            <p:spPr>
              <a:xfrm>
                <a:off x="4859280" y="6165720"/>
                <a:ext cx="28083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кутник 5"/>
          <p:cNvSpPr/>
          <p:nvPr/>
        </p:nvSpPr>
        <p:spPr>
          <a:xfrm>
            <a:off x="3361680" y="62064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Диференціаль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кутник 9"/>
          <p:cNvSpPr/>
          <p:nvPr/>
        </p:nvSpPr>
        <p:spPr>
          <a:xfrm>
            <a:off x="179280" y="981000"/>
            <a:ext cx="61930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ференціальною називається ланка, в якій вихідна величина пропорційна швидкості зміни вхідної величи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"/>
              <p:cNvSpPr txBox="1"/>
              <p:nvPr/>
            </p:nvSpPr>
            <p:spPr>
              <a:xfrm>
                <a:off x="6516720" y="907920"/>
                <a:ext cx="16556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Прямокутник 12"/>
          <p:cNvSpPr/>
          <p:nvPr/>
        </p:nvSpPr>
        <p:spPr>
          <a:xfrm>
            <a:off x="179280" y="1700280"/>
            <a:ext cx="61930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оефіцієнт підсил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вальна функція такої диференціальної ла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6516720" y="1773360"/>
                <a:ext cx="1440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Прямокутник 15"/>
          <p:cNvSpPr/>
          <p:nvPr/>
        </p:nvSpPr>
        <p:spPr>
          <a:xfrm>
            <a:off x="179280" y="2276640"/>
            <a:ext cx="885672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 ланка називається ідеальною. Вихідна величина ідеальної диференціаль-ної ланки рівна нулю при постійній вхідній і прямує до нескінченного значення при миттєвій зміні вхідної величини. Практично такій перехідній процес неможливий, тому виготовлення ідеальної диференціальної ланки неможливе.   На практиці використовують, реальні диференціальні ланки, в яких вказаний перехідний процес проходить приблиз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кутник 16"/>
          <p:cNvSpPr/>
          <p:nvPr/>
        </p:nvSpPr>
        <p:spPr>
          <a:xfrm>
            <a:off x="179280" y="4076640"/>
            <a:ext cx="547236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ідний процес в реальній диференціальній ланці описується рівнянн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5867280" y="3994200"/>
                <a:ext cx="2943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T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Rectangle 7"/>
          <p:cNvSpPr/>
          <p:nvPr/>
        </p:nvSpPr>
        <p:spPr>
          <a:xfrm>
            <a:off x="179280" y="4502880"/>
            <a:ext cx="66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Т - постійна часу, що визначається параметрами ла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в операторній формі: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5796000" y="5013360"/>
                <a:ext cx="24480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p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Прямокутник 22"/>
          <p:cNvSpPr/>
          <p:nvPr/>
        </p:nvSpPr>
        <p:spPr>
          <a:xfrm>
            <a:off x="179280" y="5300640"/>
            <a:ext cx="457200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чне рівняння диференціальної ланки має вигля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0"/>
              <p:cNvSpPr txBox="1"/>
              <p:nvPr/>
            </p:nvSpPr>
            <p:spPr>
              <a:xfrm>
                <a:off x="5622840" y="5468760"/>
                <a:ext cx="1224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p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Прямокутник 25"/>
          <p:cNvSpPr/>
          <p:nvPr/>
        </p:nvSpPr>
        <p:spPr>
          <a:xfrm>
            <a:off x="179280" y="5934240"/>
            <a:ext cx="482436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дки визначимо передавальну функцію реальної диференціальної ла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2"/>
              <p:cNvSpPr txBox="1"/>
              <p:nvPr/>
            </p:nvSpPr>
            <p:spPr>
              <a:xfrm>
                <a:off x="5580000" y="6062760"/>
                <a:ext cx="2435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T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кутник 5"/>
          <p:cNvSpPr/>
          <p:nvPr/>
        </p:nvSpPr>
        <p:spPr>
          <a:xfrm>
            <a:off x="3361680" y="62064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Диференціаль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Групувати 25"/>
          <p:cNvGrpSpPr/>
          <p:nvPr/>
        </p:nvGrpSpPr>
        <p:grpSpPr>
          <a:xfrm>
            <a:off x="5148360" y="3716280"/>
            <a:ext cx="3600360" cy="2952720"/>
            <a:chOff x="5148360" y="3716280"/>
            <a:chExt cx="3600360" cy="2952720"/>
          </a:xfrm>
        </p:grpSpPr>
        <p:sp>
          <p:nvSpPr>
            <p:cNvPr id="188" name="Прямокутник 15"/>
            <p:cNvSpPr/>
            <p:nvPr/>
          </p:nvSpPr>
          <p:spPr>
            <a:xfrm>
              <a:off x="5148360" y="3716280"/>
              <a:ext cx="360036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лектричні кола, що містять ємність і активний опі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2" descr=""/>
            <p:cNvPicPr/>
            <p:nvPr/>
          </p:nvPicPr>
          <p:blipFill>
            <a:blip r:embed="rId1"/>
            <a:stretch/>
          </p:blipFill>
          <p:spPr>
            <a:xfrm>
              <a:off x="5201640" y="4380480"/>
              <a:ext cx="2904120" cy="228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Групувати 24"/>
          <p:cNvGrpSpPr/>
          <p:nvPr/>
        </p:nvGrpSpPr>
        <p:grpSpPr>
          <a:xfrm>
            <a:off x="4788000" y="907920"/>
            <a:ext cx="3529080" cy="2811600"/>
            <a:chOff x="4788000" y="907920"/>
            <a:chExt cx="3529080" cy="2811600"/>
          </a:xfrm>
        </p:grpSpPr>
        <p:sp>
          <p:nvSpPr>
            <p:cNvPr id="191" name="Прямокутник 16"/>
            <p:cNvSpPr/>
            <p:nvPr/>
          </p:nvSpPr>
          <p:spPr>
            <a:xfrm>
              <a:off x="4788000" y="907920"/>
              <a:ext cx="352908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лектричні кола, що містять індуктивність і активний опі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3" descr=""/>
            <p:cNvPicPr/>
            <p:nvPr/>
          </p:nvPicPr>
          <p:blipFill>
            <a:blip r:embed="rId2"/>
            <a:stretch/>
          </p:blipFill>
          <p:spPr>
            <a:xfrm>
              <a:off x="5220000" y="1556280"/>
              <a:ext cx="2448720" cy="21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Групувати 26"/>
          <p:cNvGrpSpPr/>
          <p:nvPr/>
        </p:nvGrpSpPr>
        <p:grpSpPr>
          <a:xfrm>
            <a:off x="539640" y="4437000"/>
            <a:ext cx="2538360" cy="2232000"/>
            <a:chOff x="539640" y="4437000"/>
            <a:chExt cx="2538360" cy="2232000"/>
          </a:xfrm>
        </p:grpSpPr>
        <p:sp>
          <p:nvSpPr>
            <p:cNvPr id="194" name="Прямокутник 19"/>
            <p:cNvSpPr/>
            <p:nvPr/>
          </p:nvSpPr>
          <p:spPr>
            <a:xfrm>
              <a:off x="894240" y="4437000"/>
              <a:ext cx="202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ансформа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"/>
            <p:cNvPicPr/>
            <p:nvPr/>
          </p:nvPicPr>
          <p:blipFill>
            <a:blip r:embed="rId3"/>
            <a:stretch/>
          </p:blipFill>
          <p:spPr>
            <a:xfrm>
              <a:off x="539640" y="4869000"/>
              <a:ext cx="253836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Групувати 23"/>
          <p:cNvGrpSpPr/>
          <p:nvPr/>
        </p:nvGrpSpPr>
        <p:grpSpPr>
          <a:xfrm>
            <a:off x="179280" y="907920"/>
            <a:ext cx="3240360" cy="3522960"/>
            <a:chOff x="179280" y="907920"/>
            <a:chExt cx="3240360" cy="3522960"/>
          </a:xfrm>
        </p:grpSpPr>
        <p:sp>
          <p:nvSpPr>
            <p:cNvPr id="197" name="Прямокутник 20"/>
            <p:cNvSpPr/>
            <p:nvPr/>
          </p:nvSpPr>
          <p:spPr>
            <a:xfrm>
              <a:off x="179280" y="907920"/>
              <a:ext cx="324036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ханічна система з гнучким гідравлічним зв'язк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5" descr=""/>
            <p:cNvPicPr/>
            <p:nvPr/>
          </p:nvPicPr>
          <p:blipFill>
            <a:blip r:embed="rId4"/>
            <a:stretch/>
          </p:blipFill>
          <p:spPr>
            <a:xfrm>
              <a:off x="375120" y="1627920"/>
              <a:ext cx="2900520" cy="280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Типові динамічні ланк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кутник 5"/>
          <p:cNvSpPr/>
          <p:nvPr/>
        </p:nvSpPr>
        <p:spPr>
          <a:xfrm>
            <a:off x="3363120" y="62064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Інтегральна л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кутник 18"/>
          <p:cNvSpPr/>
          <p:nvPr/>
        </p:nvSpPr>
        <p:spPr>
          <a:xfrm>
            <a:off x="179280" y="90792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Інтегральними називаються ланки, в яких швидкість зміни вихідної величини пропорційна вхідній величині.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інтегральних ланок відносяться так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79280" y="1560960"/>
            <a:ext cx="8785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4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л, що обертається, якщо вхідною величиною вважати кутову швидкість обертання приводного кінця, а вихідною - кут повороту вільного кінця ва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4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лектричні кола, що містять ємність і індуктивність, і т. д.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Групувати 24"/>
          <p:cNvGrpSpPr/>
          <p:nvPr/>
        </p:nvGrpSpPr>
        <p:grpSpPr>
          <a:xfrm>
            <a:off x="250920" y="2565360"/>
            <a:ext cx="3830400" cy="3384720"/>
            <a:chOff x="250920" y="2565360"/>
            <a:chExt cx="3830400" cy="3384720"/>
          </a:xfrm>
        </p:grpSpPr>
        <p:sp>
          <p:nvSpPr>
            <p:cNvPr id="214" name="Прямокутник 20"/>
            <p:cNvSpPr/>
            <p:nvPr/>
          </p:nvSpPr>
          <p:spPr>
            <a:xfrm>
              <a:off x="1045800" y="2565360"/>
              <a:ext cx="14911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к з рідино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5" descr=""/>
            <p:cNvPicPr/>
            <p:nvPr/>
          </p:nvPicPr>
          <p:blipFill>
            <a:blip r:embed="rId1"/>
            <a:stretch/>
          </p:blipFill>
          <p:spPr>
            <a:xfrm>
              <a:off x="250920" y="2925360"/>
              <a:ext cx="3830400" cy="302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Групувати 25"/>
          <p:cNvGrpSpPr/>
          <p:nvPr/>
        </p:nvGrpSpPr>
        <p:grpSpPr>
          <a:xfrm>
            <a:off x="4643280" y="2565360"/>
            <a:ext cx="4276800" cy="3527640"/>
            <a:chOff x="4643280" y="2565360"/>
            <a:chExt cx="4276800" cy="3527640"/>
          </a:xfrm>
        </p:grpSpPr>
        <p:sp>
          <p:nvSpPr>
            <p:cNvPr id="217" name="Прямокутник 21"/>
            <p:cNvSpPr/>
            <p:nvPr/>
          </p:nvSpPr>
          <p:spPr>
            <a:xfrm>
              <a:off x="4862880" y="2565360"/>
              <a:ext cx="39538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ідравлічний циліндр з підсилювач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6" descr=""/>
            <p:cNvPicPr/>
            <p:nvPr/>
          </p:nvPicPr>
          <p:blipFill>
            <a:blip r:embed="rId2"/>
            <a:stretch/>
          </p:blipFill>
          <p:spPr>
            <a:xfrm>
              <a:off x="4643280" y="2925360"/>
              <a:ext cx="4276800" cy="316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20:34:53Z</dcterms:created>
  <dc:creator>Сергей Левицкий</dc:creator>
  <dc:description/>
  <dc:language>en-US</dc:language>
  <cp:lastModifiedBy>Master</cp:lastModifiedBy>
  <dcterms:modified xsi:type="dcterms:W3CDTF">2015-10-04T18:12:33Z</dcterms:modified>
  <cp:revision>163</cp:revision>
  <dc:subject/>
  <dc:title>Слайд 1</dc:title>
</cp:coreProperties>
</file>