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8890-DA07-4AB8-876B-AA8DF0B31DE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C129-F64C-4DD3-ABEC-7AE80F89689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C299-6EFD-4D32-A1F5-8906821E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8A2F-91A5-4208-A0F9-20BE1125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D83B-99D5-4DC8-8BAB-3539EFB95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D40C-FBAC-4384-A6C8-1539334D8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C1A9-5D83-4FF5-AB64-A24BEEFD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D369-CB81-4418-A75A-A1F00133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B068-232A-4B99-84C4-5DED8C68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076B-A2C3-47EC-A399-99941FBD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5051-B493-4F87-8743-56911B52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284E-82E2-409E-A68B-0EE67AE8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3369-16F3-4C6E-840C-018B3AA6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AEB8-DFAE-42C5-B141-6DE1A402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10C6-50B4-4C1D-9066-A946F87613A1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92"/>
          <p:cNvSpPr/>
          <p:nvPr/>
        </p:nvSpPr>
        <p:spPr>
          <a:xfrm>
            <a:off x="108000" y="18900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Arial"/>
              </a:rPr>
              <a:t>СКЛАДАННЯ РІВНЯНЬ ДИНАМІКИ СА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ine 93"/>
          <p:cNvSpPr/>
          <p:nvPr/>
        </p:nvSpPr>
        <p:spPr>
          <a:xfrm>
            <a:off x="324000" y="620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кутник 132"/>
          <p:cNvSpPr/>
          <p:nvPr/>
        </p:nvSpPr>
        <p:spPr>
          <a:xfrm>
            <a:off x="3995640" y="765000"/>
            <a:ext cx="1297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План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кутник 142"/>
          <p:cNvSpPr/>
          <p:nvPr/>
        </p:nvSpPr>
        <p:spPr>
          <a:xfrm>
            <a:off x="179280" y="3284640"/>
            <a:ext cx="8785440" cy="31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тератур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втоматизація технологічних процесів і виробництв харчової промисловос-ті: Підручник/ Ландюк А. П., Трегуб В. Г., Ельперін І. В., Цюцюра В. Д. – К.: Аграрна освіта, 2001. – 224 с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ка и автоматизация мобильных сельскохозяйственных машин: Учеб. Пособ./ Г.Р.Носов, В.А. Кондратец, Л.Г. Сакало, Л.И. Середа; Ред. Г.Р.Носов. – К.: Вища школа, 1984. – 248 c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втоматика и автоматизация производственных процессов: учеб. пособие для студентов с.-х. учеб. заведений/ И. И. Мартыненко, Б. Л. Головинский, Р. Д. Проценко, Т, Ф. Резниченко. – М. : Агропромиздат, 1985. – 334 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кутник 26"/>
          <p:cNvSpPr/>
          <p:nvPr/>
        </p:nvSpPr>
        <p:spPr>
          <a:xfrm>
            <a:off x="900000" y="112536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статичного регулюванн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астатичного регулюванн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6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6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6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6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кутник 81"/>
          <p:cNvSpPr/>
          <p:nvPr/>
        </p:nvSpPr>
        <p:spPr>
          <a:xfrm>
            <a:off x="101520" y="620640"/>
            <a:ext cx="8964720" cy="121932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Оскільки в усталеному режимі похідні усіх порядків дорівнюють нулю,  отримаємо: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;      у = х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бо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у = у – х = 0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кутник 81"/>
          <p:cNvSpPr/>
          <p:nvPr/>
        </p:nvSpPr>
        <p:spPr>
          <a:xfrm>
            <a:off x="88920" y="1484280"/>
            <a:ext cx="8956800" cy="146340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У розглянутій системі відсутній зв'язок вихідної і вхідної величин в усталеному режимі, тому на відміну від статичної системи вона 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ивається астатичною. Астатичні системи здійснюють регулювання без статичної похибки при будь-яких постійних збурюючих ді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92"/>
          <p:cNvSpPr/>
          <p:nvPr/>
        </p:nvSpPr>
        <p:spPr>
          <a:xfrm>
            <a:off x="169920" y="142920"/>
            <a:ext cx="8928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Arial"/>
              </a:rPr>
              <a:t>СИСТЕМИ АСТАТИЧНОГО РЕГУЛЮВ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Line 93"/>
          <p:cNvSpPr/>
          <p:nvPr/>
        </p:nvSpPr>
        <p:spPr>
          <a:xfrm>
            <a:off x="276120" y="593640"/>
            <a:ext cx="8748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92"/>
          <p:cNvSpPr/>
          <p:nvPr/>
        </p:nvSpPr>
        <p:spPr>
          <a:xfrm>
            <a:off x="324000" y="936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СИСТЕМИ СТАТИЧНОГО РЕГУЛЮВ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93"/>
          <p:cNvSpPr/>
          <p:nvPr/>
        </p:nvSpPr>
        <p:spPr>
          <a:xfrm>
            <a:off x="324000" y="539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кутник 132"/>
          <p:cNvSpPr/>
          <p:nvPr/>
        </p:nvSpPr>
        <p:spPr>
          <a:xfrm>
            <a:off x="98280" y="596880"/>
            <a:ext cx="4083120" cy="3731400"/>
          </a:xfrm>
          <a:prstGeom prst="rect">
            <a:avLst/>
          </a:prstGeom>
          <a:solidFill>
            <a:srgbClr val="92d05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Об'єктом регулювання в даному випадку є резервуар, на вході якого встановлений регулюючий орган (клапан), а на виході - три патрубки з вентилями. Регульованою величи-ною буде тиск стиснутого повітря в резервуарі, що поступає від компре-сора через регулюючий орган, вхід-ною величиною - положення штока регулюючого органу, а навантажен-ня об'єкту - кількість працюючих пневмоліні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кутник 33"/>
          <p:cNvSpPr/>
          <p:nvPr/>
        </p:nvSpPr>
        <p:spPr>
          <a:xfrm>
            <a:off x="98280" y="4383000"/>
            <a:ext cx="8961480" cy="2206800"/>
          </a:xfrm>
          <a:prstGeom prst="rect">
            <a:avLst/>
          </a:prstGeom>
          <a:solidFill>
            <a:srgbClr val="00b0f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У цій САК для підтримання незмі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ого значення вихідної величини не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обхідно ввести постійну задаючу дію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яка може бути виражена наприклад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у вигляді сили. При цьому задаю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ія може порівнюватися безпосередньо із зусиллям, що розвивається приводом системи, і переміщає шток регулюючого орган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Группа 1"/>
          <p:cNvGrpSpPr/>
          <p:nvPr/>
        </p:nvGrpSpPr>
        <p:grpSpPr>
          <a:xfrm>
            <a:off x="4149720" y="600120"/>
            <a:ext cx="4910040" cy="5357880"/>
            <a:chOff x="4149720" y="600120"/>
            <a:chExt cx="4910040" cy="5357880"/>
          </a:xfrm>
        </p:grpSpPr>
        <p:sp>
          <p:nvSpPr>
            <p:cNvPr id="71" name="Прямокутник 129"/>
            <p:cNvSpPr/>
            <p:nvPr/>
          </p:nvSpPr>
          <p:spPr>
            <a:xfrm>
              <a:off x="4149720" y="600120"/>
              <a:ext cx="4886280" cy="641880"/>
            </a:xfrm>
            <a:prstGeom prst="rect">
              <a:avLst/>
            </a:prstGeom>
            <a:solidFill>
              <a:srgbClr val="d7e4bd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uk-U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истема автоматичного регулювання тиску повітря. 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" name="Picture 4" descr="Функцсх1"/>
            <p:cNvPicPr/>
            <p:nvPr/>
          </p:nvPicPr>
          <p:blipFill>
            <a:blip r:embed="rId1"/>
            <a:stretch/>
          </p:blipFill>
          <p:spPr>
            <a:xfrm>
              <a:off x="4182480" y="1248120"/>
              <a:ext cx="4869000" cy="34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3"/>
            <p:cNvSpPr/>
            <p:nvPr/>
          </p:nvSpPr>
          <p:spPr>
            <a:xfrm>
              <a:off x="4182480" y="4692960"/>
              <a:ext cx="4877280" cy="1265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8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Calibri"/>
                </a:rPr>
                <a:t>1 - циліндрична пружина з гайкою; 2 – гід-равлічний циліндр; 3 - гідравлічний підси-лювач типу «сопло-заслінка»; 4 - важіль ;   5 – манометрична пружина; 6 – резервуар; 7 – клапан; 8 - вентилі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кутник 23"/>
          <p:cNvSpPr/>
          <p:nvPr/>
        </p:nvSpPr>
        <p:spPr>
          <a:xfrm>
            <a:off x="109440" y="3924360"/>
            <a:ext cx="8915400" cy="1220040"/>
          </a:xfrm>
          <a:prstGeom prst="rect">
            <a:avLst/>
          </a:prstGeom>
          <a:solidFill>
            <a:srgbClr val="00b0f0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 усталеному режимі, в між дросельному просторі гідравлічного підсилювача типу "сопло-заслінка" і гідравлічному циліндрі встановлюється певний тиск оли-ви, а отже, і зусилля на поршні. Пружина - задатчик компенсує це зусилля і шток клапана знаходиться в нерухомому стан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кутник 23"/>
          <p:cNvSpPr/>
          <p:nvPr/>
        </p:nvSpPr>
        <p:spPr>
          <a:xfrm>
            <a:off x="104760" y="5219640"/>
            <a:ext cx="8915400" cy="1553400"/>
          </a:xfrm>
          <a:prstGeom prst="rect">
            <a:avLst/>
          </a:prstGeom>
          <a:solidFill>
            <a:srgbClr val="e6b9b8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 підвищенням тиску в об'єкті 6 вільний кінець манометричної пружини 5 переміщається вверх, захоплюючи жорсткий важіль підсилювача 4 і збільшуючи проміжок в гідравлічному підсилювачі 3. При цьому тиск оливи в гідравлічному підсилювачі і циліндрі 2 знижується, під дією пружини - задатчика 1 поршень пе-реміщається вниз, прикриваючи клапан 7. Тиск в об'єкті знижується в результаті зменшення припливу стиснутого повітр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кутник 33"/>
          <p:cNvSpPr/>
          <p:nvPr/>
        </p:nvSpPr>
        <p:spPr>
          <a:xfrm>
            <a:off x="109440" y="617400"/>
            <a:ext cx="2594160" cy="3121560"/>
          </a:xfrm>
          <a:prstGeom prst="rect">
            <a:avLst/>
          </a:prstGeom>
          <a:solidFill>
            <a:srgbClr val="ffc00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Ф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ункціональна схе-ма САК регулювання тиску повітря в резер-вуарі, в загальному ви-падку містить датчик тиску, підсилювачі, привод, задатчик, ви-конавчий елемент та елемент порівняння і регулюючий орга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92"/>
          <p:cNvSpPr/>
          <p:nvPr/>
        </p:nvSpPr>
        <p:spPr>
          <a:xfrm>
            <a:off x="324000" y="936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СИСТЕМИ СТАТИЧНОГО РЕГУЛЮВ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Line 93"/>
          <p:cNvSpPr/>
          <p:nvPr/>
        </p:nvSpPr>
        <p:spPr>
          <a:xfrm>
            <a:off x="324000" y="539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Группа 1"/>
          <p:cNvGrpSpPr/>
          <p:nvPr/>
        </p:nvGrpSpPr>
        <p:grpSpPr>
          <a:xfrm>
            <a:off x="2703600" y="595440"/>
            <a:ext cx="6364080" cy="3300840"/>
            <a:chOff x="2703600" y="595440"/>
            <a:chExt cx="6364080" cy="3300840"/>
          </a:xfrm>
        </p:grpSpPr>
        <p:pic>
          <p:nvPicPr>
            <p:cNvPr id="80" name="Picture 6" descr="Функцсх3"/>
            <p:cNvPicPr/>
            <p:nvPr/>
          </p:nvPicPr>
          <p:blipFill>
            <a:blip r:embed="rId1"/>
            <a:stretch/>
          </p:blipFill>
          <p:spPr>
            <a:xfrm>
              <a:off x="2703600" y="595440"/>
              <a:ext cx="6364080" cy="26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Прямоугольник 40"/>
            <p:cNvSpPr/>
            <p:nvPr/>
          </p:nvSpPr>
          <p:spPr>
            <a:xfrm>
              <a:off x="2703600" y="3284640"/>
              <a:ext cx="6364080" cy="611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Calibri"/>
                </a:rPr>
                <a:t>Р  - тиск повітря;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alibri"/>
                </a:rPr>
                <a:t>  - </a:t>
              </a:r>
              <a:r>
                <a:rPr b="0" i="1" lang="uk-UA" sz="2000" spc="-1" strike="noStrike">
                  <a:solidFill>
                    <a:srgbClr val="000000"/>
                  </a:solidFill>
                  <a:latin typeface="Calibri"/>
                </a:rPr>
                <a:t>переміщення;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alibri"/>
                </a:rPr>
                <a:t>Q</a:t>
              </a:r>
              <a:r>
                <a:rPr b="0" i="1" lang="uk-UA" sz="2000" spc="-1" strike="noStrike">
                  <a:solidFill>
                    <a:srgbClr val="000000"/>
                  </a:solidFill>
                  <a:latin typeface="Calibri"/>
                </a:rPr>
                <a:t> – подача (масла, повітря);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alibri"/>
                </a:rPr>
                <a:t>  F </a:t>
              </a:r>
              <a:r>
                <a:rPr b="0" i="1" lang="uk-UA" sz="2000" spc="-1" strike="noStrike">
                  <a:solidFill>
                    <a:srgbClr val="000000"/>
                  </a:solidFill>
                  <a:latin typeface="Calibri"/>
                </a:rPr>
                <a:t> - зусилля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кутник 18"/>
          <p:cNvSpPr/>
          <p:nvPr/>
        </p:nvSpPr>
        <p:spPr>
          <a:xfrm>
            <a:off x="79200" y="620640"/>
            <a:ext cx="8928360" cy="1220040"/>
          </a:xfrm>
          <a:prstGeom prst="rect">
            <a:avLst/>
          </a:prstGeom>
          <a:solidFill>
            <a:srgbClr val="ffc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 точки зору динамічних властивостей регульований об'єкт з клапаном є апе-ріодичною ланкою, манометрична пружина - коливною, важільний підсилювач - підсилювальною, гідравлічний циліндр з пружиною і підсилювачем типу "сопло - заслінка" - аперіодично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кутник 18"/>
          <p:cNvSpPr/>
          <p:nvPr/>
        </p:nvSpPr>
        <p:spPr>
          <a:xfrm>
            <a:off x="71280" y="1916280"/>
            <a:ext cx="8928360" cy="610200"/>
          </a:xfrm>
          <a:prstGeom prst="rect">
            <a:avLst/>
          </a:prstGeom>
          <a:solidFill>
            <a:srgbClr val="b9cde5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амінивши конструктивні елементи перерахованими ланками, отримаємо структурну схему системи автоматичного керування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кутник 18"/>
          <p:cNvSpPr/>
          <p:nvPr/>
        </p:nvSpPr>
        <p:spPr>
          <a:xfrm>
            <a:off x="87480" y="4029120"/>
            <a:ext cx="8912160" cy="610200"/>
          </a:xfrm>
          <a:prstGeom prst="rect">
            <a:avLst/>
          </a:prstGeom>
          <a:solidFill>
            <a:srgbClr val="92d05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раховуючи, що динамічні ланки з'єднані послідовно і замкнені зворотним зв'язком, можна знайти передавальну функцію замкнутої СА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кутник 18"/>
          <p:cNvSpPr/>
          <p:nvPr/>
        </p:nvSpPr>
        <p:spPr>
          <a:xfrm>
            <a:off x="79200" y="4683240"/>
            <a:ext cx="8939520" cy="651960"/>
          </a:xfrm>
          <a:prstGeom prst="rect">
            <a:avLst/>
          </a:prstGeom>
          <a:solidFill>
            <a:srgbClr val="00b05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Ланки з передавальними функціями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’єднані пос-лідовно, тому передавальна функція розімкненої системи буде рівн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92"/>
          <p:cNvSpPr/>
          <p:nvPr/>
        </p:nvSpPr>
        <p:spPr>
          <a:xfrm>
            <a:off x="324000" y="936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СИСТЕМИ СТАТИЧНОГО РЕГУЛЮВ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93"/>
          <p:cNvSpPr/>
          <p:nvPr/>
        </p:nvSpPr>
        <p:spPr>
          <a:xfrm>
            <a:off x="324000" y="539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Группа 9"/>
          <p:cNvGrpSpPr/>
          <p:nvPr/>
        </p:nvGrpSpPr>
        <p:grpSpPr>
          <a:xfrm>
            <a:off x="97560" y="2690640"/>
            <a:ext cx="8902080" cy="1208160"/>
            <a:chOff x="97560" y="2690640"/>
            <a:chExt cx="8902080" cy="1208160"/>
          </a:xfrm>
        </p:grpSpPr>
        <p:grpSp>
          <p:nvGrpSpPr>
            <p:cNvPr id="89" name="Группа 42"/>
            <p:cNvGrpSpPr/>
            <p:nvPr/>
          </p:nvGrpSpPr>
          <p:grpSpPr>
            <a:xfrm>
              <a:off x="97560" y="2690640"/>
              <a:ext cx="8902080" cy="1208160"/>
              <a:chOff x="97560" y="2690640"/>
              <a:chExt cx="8902080" cy="1208160"/>
            </a:xfrm>
          </p:grpSpPr>
          <p:grpSp>
            <p:nvGrpSpPr>
              <p:cNvPr id="90" name="Группа 43"/>
              <p:cNvGrpSpPr/>
              <p:nvPr/>
            </p:nvGrpSpPr>
            <p:grpSpPr>
              <a:xfrm>
                <a:off x="97560" y="2706480"/>
                <a:ext cx="8902080" cy="1192320"/>
                <a:chOff x="97560" y="2706480"/>
                <a:chExt cx="8902080" cy="1192320"/>
              </a:xfrm>
            </p:grpSpPr>
            <p:sp>
              <p:nvSpPr>
                <p:cNvPr id="91" name="Поле 12"/>
                <p:cNvSpPr/>
                <p:nvPr/>
              </p:nvSpPr>
              <p:spPr>
                <a:xfrm>
                  <a:off x="1262520" y="2738160"/>
                  <a:ext cx="422640" cy="349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uk-UA" sz="2000" spc="-1" strike="noStrike">
                      <a:solidFill>
                        <a:srgbClr val="000000"/>
                      </a:solidFill>
                      <a:latin typeface="Times New Roman"/>
                      <a:ea typeface="Calibri"/>
                    </a:rPr>
                    <a:t>х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Calibri"/>
                    </a:rPr>
                    <a:t>t</a:t>
                  </a:r>
                  <a:r>
                    <a:rPr b="0" i="1" lang="uk-UA" sz="2000" spc="-1" strike="noStrike">
                      <a:solidFill>
                        <a:srgbClr val="000000"/>
                      </a:solidFill>
                      <a:latin typeface="Times New Roman"/>
                      <a:ea typeface="Calibri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92" name="Группа 46"/>
                <p:cNvGrpSpPr/>
                <p:nvPr/>
              </p:nvGrpSpPr>
              <p:grpSpPr>
                <a:xfrm>
                  <a:off x="524880" y="2706480"/>
                  <a:ext cx="695520" cy="756720"/>
                  <a:chOff x="524880" y="2706480"/>
                  <a:chExt cx="695520" cy="756720"/>
                </a:xfrm>
              </p:grpSpPr>
              <p:sp>
                <p:nvSpPr>
                  <p:cNvPr id="93" name="Блок-схема: узел суммирования 61"/>
                  <p:cNvSpPr/>
                  <p:nvPr/>
                </p:nvSpPr>
                <p:spPr>
                  <a:xfrm>
                    <a:off x="524880" y="2746800"/>
                    <a:ext cx="695520" cy="716400"/>
                  </a:xfrm>
                  <a:prstGeom prst="flowChartSummingJunction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4" name="Хорда 4"/>
                  <p:cNvSpPr/>
                  <p:nvPr/>
                </p:nvSpPr>
                <p:spPr>
                  <a:xfrm>
                    <a:off x="524880" y="2706480"/>
                    <a:ext cx="690840" cy="752040"/>
                  </a:xfrm>
                  <a:custGeom>
                    <a:avLst/>
                    <a:gdLst/>
                    <a:ahLst/>
                    <a:rect l="l" t="t" r="r" b="b"/>
                    <a:pathLst>
                      <a:path w="357505" h="377825">
                        <a:moveTo>
                          <a:pt x="308894" y="318416"/>
                        </a:moveTo>
                        <a:cubicBezTo>
                          <a:pt x="239575" y="396220"/>
                          <a:pt x="123041" y="397819"/>
                          <a:pt x="51835" y="321942"/>
                        </a:cubicBezTo>
                        <a:lnTo>
                          <a:pt x="308894" y="3184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5" name="Равнобедренный треугольник 63"/>
                  <p:cNvSpPr/>
                  <p:nvPr/>
                </p:nvSpPr>
                <p:spPr>
                  <a:xfrm>
                    <a:off x="681840" y="3125880"/>
                    <a:ext cx="379080" cy="2343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cxnSp>
              <p:nvCxnSpPr>
                <p:cNvPr id="96" name="Прямая со стрелкой 47"/>
                <p:cNvCxnSpPr/>
                <p:nvPr/>
              </p:nvCxnSpPr>
              <p:spPr>
                <a:xfrm flipH="1">
                  <a:off x="97560" y="3121560"/>
                  <a:ext cx="434520" cy="1080"/>
                </a:xfrm>
                <a:prstGeom prst="straightConnector1">
                  <a:avLst/>
                </a:prstGeom>
                <a:ln w="15840">
                  <a:solidFill>
                    <a:srgbClr val="000000"/>
                  </a:solidFill>
                  <a:miter/>
                  <a:headEnd len="med" type="triangle" w="med"/>
                </a:ln>
              </p:spPr>
            </p:cxnSp>
            <p:cxnSp>
              <p:nvCxnSpPr>
                <p:cNvPr id="97" name="Прямая со стрелкой 48"/>
                <p:cNvCxnSpPr/>
                <p:nvPr/>
              </p:nvCxnSpPr>
              <p:spPr>
                <a:xfrm flipH="1">
                  <a:off x="1222920" y="3121560"/>
                  <a:ext cx="525240" cy="1080"/>
                </a:xfrm>
                <a:prstGeom prst="straightConnector1">
                  <a:avLst/>
                </a:prstGeom>
                <a:ln w="15840">
                  <a:solidFill>
                    <a:srgbClr val="000000"/>
                  </a:solidFill>
                  <a:miter/>
                  <a:headEnd len="med" type="triangle" w="med"/>
                </a:ln>
              </p:spPr>
            </p:cxnSp>
            <p:cxnSp>
              <p:nvCxnSpPr>
                <p:cNvPr id="98" name="Прямая со стрелкой 49"/>
                <p:cNvCxnSpPr/>
                <p:nvPr/>
              </p:nvCxnSpPr>
              <p:spPr>
                <a:xfrm>
                  <a:off x="874080" y="3473280"/>
                  <a:ext cx="1080" cy="425880"/>
                </a:xfrm>
                <a:prstGeom prst="straightConnector1">
                  <a:avLst/>
                </a:prstGeom>
                <a:ln w="15840">
                  <a:solidFill>
                    <a:srgbClr val="000000"/>
                  </a:solidFill>
                  <a:miter/>
                  <a:headEnd len="med" type="triangle" w="med"/>
                </a:ln>
              </p:spPr>
            </p:cxnSp>
            <p:sp>
              <p:nvSpPr>
                <p:cNvPr id="99" name="Поле 13"/>
                <p:cNvSpPr/>
                <p:nvPr/>
              </p:nvSpPr>
              <p:spPr>
                <a:xfrm>
                  <a:off x="1751400" y="2762280"/>
                  <a:ext cx="1323360" cy="69732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cxnSp>
              <p:nvCxnSpPr>
                <p:cNvPr id="100" name="Прямая со стрелкой 51"/>
                <p:cNvCxnSpPr/>
                <p:nvPr/>
              </p:nvCxnSpPr>
              <p:spPr>
                <a:xfrm flipH="1" flipV="1">
                  <a:off x="3070080" y="3129120"/>
                  <a:ext cx="363240" cy="11880"/>
                </a:xfrm>
                <a:prstGeom prst="straightConnector1">
                  <a:avLst/>
                </a:prstGeom>
                <a:ln w="15840">
                  <a:solidFill>
                    <a:srgbClr val="000000"/>
                  </a:solidFill>
                  <a:miter/>
                  <a:headEnd len="med" type="triangle" w="med"/>
                </a:ln>
              </p:spPr>
            </p:cxnSp>
            <p:sp>
              <p:nvSpPr>
                <p:cNvPr id="101" name="Поле 15"/>
                <p:cNvSpPr/>
                <p:nvPr/>
              </p:nvSpPr>
              <p:spPr>
                <a:xfrm>
                  <a:off x="3443400" y="2778120"/>
                  <a:ext cx="1960200" cy="69228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cxnSp>
              <p:nvCxnSpPr>
                <p:cNvPr id="102" name="Прямая со стрелкой 53"/>
                <p:cNvCxnSpPr/>
                <p:nvPr/>
              </p:nvCxnSpPr>
              <p:spPr>
                <a:xfrm flipH="1">
                  <a:off x="5399280" y="3137760"/>
                  <a:ext cx="339840" cy="1080"/>
                </a:xfrm>
                <a:prstGeom prst="straightConnector1">
                  <a:avLst/>
                </a:prstGeom>
                <a:ln w="15840">
                  <a:solidFill>
                    <a:srgbClr val="000000"/>
                  </a:solidFill>
                  <a:miter/>
                  <a:headEnd len="med" type="triangle" w="med"/>
                </a:ln>
              </p:spPr>
            </p:cxnSp>
            <p:sp>
              <p:nvSpPr>
                <p:cNvPr id="103" name="Поле 19"/>
                <p:cNvSpPr/>
                <p:nvPr/>
              </p:nvSpPr>
              <p:spPr>
                <a:xfrm>
                  <a:off x="5740920" y="2786400"/>
                  <a:ext cx="922680" cy="65412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72000" bIns="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cxnSp>
              <p:nvCxnSpPr>
                <p:cNvPr id="104" name="Прямая со стрелкой 55"/>
                <p:cNvCxnSpPr/>
                <p:nvPr/>
              </p:nvCxnSpPr>
              <p:spPr>
                <a:xfrm flipH="1">
                  <a:off x="6656040" y="3121560"/>
                  <a:ext cx="346680" cy="1080"/>
                </a:xfrm>
                <a:prstGeom prst="straightConnector1">
                  <a:avLst/>
                </a:prstGeom>
                <a:ln w="15840">
                  <a:solidFill>
                    <a:srgbClr val="000000"/>
                  </a:solidFill>
                  <a:miter/>
                  <a:headEnd len="med" type="triangle" w="med"/>
                </a:ln>
              </p:spPr>
            </p:cxnSp>
            <p:sp>
              <p:nvSpPr>
                <p:cNvPr id="105" name="Поле 21"/>
                <p:cNvSpPr/>
                <p:nvPr/>
              </p:nvSpPr>
              <p:spPr>
                <a:xfrm>
                  <a:off x="6998760" y="2778120"/>
                  <a:ext cx="1357200" cy="82584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cxnSp>
              <p:nvCxnSpPr>
                <p:cNvPr id="106" name="Прямая со стрелкой 57"/>
                <p:cNvCxnSpPr/>
                <p:nvPr/>
              </p:nvCxnSpPr>
              <p:spPr>
                <a:xfrm flipH="1">
                  <a:off x="8364240" y="3113640"/>
                  <a:ext cx="635760" cy="1080"/>
                </a:xfrm>
                <a:prstGeom prst="straightConnector1">
                  <a:avLst/>
                </a:prstGeom>
                <a:ln w="15840">
                  <a:solidFill>
                    <a:srgbClr val="000000"/>
                  </a:solidFill>
                  <a:miter/>
                  <a:headEnd len="med" type="triangle" w="med"/>
                </a:ln>
              </p:spPr>
            </p:cxnSp>
            <p:cxnSp>
              <p:nvCxnSpPr>
                <p:cNvPr id="107" name="Прямая со стрелкой 58"/>
                <p:cNvCxnSpPr/>
                <p:nvPr/>
              </p:nvCxnSpPr>
              <p:spPr>
                <a:xfrm>
                  <a:off x="8612640" y="3089880"/>
                  <a:ext cx="1080" cy="805680"/>
                </a:xfrm>
                <a:prstGeom prst="straightConnector1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08" name="Блок-схема: узел 59"/>
                <p:cNvSpPr/>
                <p:nvPr/>
              </p:nvSpPr>
              <p:spPr>
                <a:xfrm>
                  <a:off x="8566200" y="3058200"/>
                  <a:ext cx="90720" cy="89640"/>
                </a:xfrm>
                <a:prstGeom prst="flowChartConnector">
                  <a:avLst/>
                </a:prstGeom>
                <a:solidFill>
                  <a:srgbClr val="0000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cxnSp>
              <p:nvCxnSpPr>
                <p:cNvPr id="109" name="Прямая со стрелкой 60"/>
                <p:cNvCxnSpPr/>
                <p:nvPr/>
              </p:nvCxnSpPr>
              <p:spPr>
                <a:xfrm flipH="1">
                  <a:off x="866160" y="3897000"/>
                  <a:ext cx="7747920" cy="1080"/>
                </a:xfrm>
                <a:prstGeom prst="straightConnector1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110" name="Поле 26"/>
              <p:cNvSpPr/>
              <p:nvPr/>
            </p:nvSpPr>
            <p:spPr>
              <a:xfrm>
                <a:off x="8442000" y="2690640"/>
                <a:ext cx="422640" cy="349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y</a:t>
                </a:r>
                <a:r>
                  <a:rPr b="0" i="1" lang="uk-UA" sz="20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t</a:t>
                </a:r>
                <a:r>
                  <a:rPr b="0" i="1" lang="uk-UA" sz="20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1" name="Объект 2"/>
                <p:cNvSpPr txBox="1"/>
                <p:nvPr/>
              </p:nvSpPr>
              <p:spPr>
                <a:xfrm>
                  <a:off x="1793520" y="2785680"/>
                  <a:ext cx="1251000" cy="65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" name="Объект 4"/>
                <p:cNvSpPr txBox="1"/>
                <p:nvPr/>
              </p:nvSpPr>
              <p:spPr>
                <a:xfrm>
                  <a:off x="3492360" y="2808000"/>
                  <a:ext cx="1814400" cy="63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Sup>
                            <m:e>
                              <m:r>
                                <m:t xml:space="preserve">Т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Объект 6"/>
                <p:cNvSpPr txBox="1"/>
                <p:nvPr/>
              </p:nvSpPr>
              <p:spPr>
                <a:xfrm>
                  <a:off x="5796000" y="2913120"/>
                  <a:ext cx="860760" cy="40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" name="Объект 8"/>
                <p:cNvSpPr txBox="1"/>
                <p:nvPr/>
              </p:nvSpPr>
              <p:spPr>
                <a:xfrm>
                  <a:off x="7008840" y="2785680"/>
                  <a:ext cx="1276200" cy="81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5" name="Объект 11"/>
              <p:cNvSpPr txBox="1"/>
              <p:nvPr/>
            </p:nvSpPr>
            <p:spPr>
              <a:xfrm>
                <a:off x="68400" y="5365800"/>
                <a:ext cx="89503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роз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Т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Прямокутник 18"/>
          <p:cNvSpPr/>
          <p:nvPr/>
        </p:nvSpPr>
        <p:spPr>
          <a:xfrm>
            <a:off x="38160" y="6242040"/>
            <a:ext cx="5700600" cy="305280"/>
          </a:xfrm>
          <a:prstGeom prst="rect">
            <a:avLst/>
          </a:prstGeom>
          <a:solidFill>
            <a:srgbClr val="00b05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ередавальна функція кола зворотного зв'язк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Объект 64"/>
              <p:cNvSpPr txBox="1"/>
              <p:nvPr/>
            </p:nvSpPr>
            <p:spPr>
              <a:xfrm>
                <a:off x="5886360" y="6273720"/>
                <a:ext cx="12067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кутник 6"/>
          <p:cNvSpPr/>
          <p:nvPr/>
        </p:nvSpPr>
        <p:spPr>
          <a:xfrm>
            <a:off x="104760" y="617400"/>
            <a:ext cx="5979960" cy="36612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ведемо позначення постійних величин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кутник 6"/>
          <p:cNvSpPr/>
          <p:nvPr/>
        </p:nvSpPr>
        <p:spPr>
          <a:xfrm>
            <a:off x="73080" y="4076640"/>
            <a:ext cx="8931240" cy="731880"/>
          </a:xfrm>
          <a:prstGeom prst="rect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дійснивши зворотний перехід, отримаємо диференціальне рівняння систе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92"/>
          <p:cNvSpPr/>
          <p:nvPr/>
        </p:nvSpPr>
        <p:spPr>
          <a:xfrm>
            <a:off x="324000" y="936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СИСТЕМИ СТАТИЧНОГО РЕГУЛЮВ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93"/>
          <p:cNvSpPr/>
          <p:nvPr/>
        </p:nvSpPr>
        <p:spPr>
          <a:xfrm>
            <a:off x="324000" y="539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Объект 1"/>
              <p:cNvSpPr txBox="1"/>
              <p:nvPr/>
            </p:nvSpPr>
            <p:spPr>
              <a:xfrm>
                <a:off x="6227640" y="601560"/>
                <a:ext cx="18734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Объект 2"/>
              <p:cNvSpPr txBox="1"/>
              <p:nvPr/>
            </p:nvSpPr>
            <p:spPr>
              <a:xfrm>
                <a:off x="104760" y="1125360"/>
                <a:ext cx="13716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Т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Объект 3"/>
              <p:cNvSpPr txBox="1"/>
              <p:nvPr/>
            </p:nvSpPr>
            <p:spPr>
              <a:xfrm>
                <a:off x="1619280" y="1125360"/>
                <a:ext cx="2463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Т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Т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Т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Объект 4"/>
              <p:cNvSpPr txBox="1"/>
              <p:nvPr/>
            </p:nvSpPr>
            <p:spPr>
              <a:xfrm>
                <a:off x="4222800" y="1125360"/>
                <a:ext cx="26398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Т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Т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Объект 5"/>
              <p:cNvSpPr txBox="1"/>
              <p:nvPr/>
            </p:nvSpPr>
            <p:spPr>
              <a:xfrm>
                <a:off x="7020000" y="1125360"/>
                <a:ext cx="18730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Прямокутник 6"/>
          <p:cNvSpPr/>
          <p:nvPr/>
        </p:nvSpPr>
        <p:spPr>
          <a:xfrm>
            <a:off x="104760" y="1628640"/>
            <a:ext cx="8283600" cy="366120"/>
          </a:xfrm>
          <a:prstGeom prst="rect">
            <a:avLst/>
          </a:prstGeom>
          <a:solidFill>
            <a:srgbClr val="fcd5b5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ередавальна функція замкнутої системи матиме вигля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Объект 14"/>
              <p:cNvSpPr txBox="1"/>
              <p:nvPr/>
            </p:nvSpPr>
            <p:spPr>
              <a:xfrm>
                <a:off x="76320" y="2073240"/>
                <a:ext cx="895968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ам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роз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роз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Прямокутник 6"/>
          <p:cNvSpPr/>
          <p:nvPr/>
        </p:nvSpPr>
        <p:spPr>
          <a:xfrm>
            <a:off x="104760" y="3068640"/>
            <a:ext cx="8931240" cy="731880"/>
          </a:xfrm>
          <a:prstGeom prst="rect">
            <a:avLst/>
          </a:prstGeom>
          <a:solidFill>
            <a:srgbClr val="fcd5b5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 цього виразу отримуємо зображення диференціального рівня-ння СА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Объект 27"/>
              <p:cNvSpPr txBox="1"/>
              <p:nvPr/>
            </p:nvSpPr>
            <p:spPr>
              <a:xfrm>
                <a:off x="1403280" y="3429000"/>
                <a:ext cx="66978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Объект 29"/>
              <p:cNvSpPr txBox="1"/>
              <p:nvPr/>
            </p:nvSpPr>
            <p:spPr>
              <a:xfrm>
                <a:off x="2600280" y="4470480"/>
                <a:ext cx="64087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Прямокутник 6"/>
          <p:cNvSpPr/>
          <p:nvPr/>
        </p:nvSpPr>
        <p:spPr>
          <a:xfrm>
            <a:off x="76320" y="5516640"/>
            <a:ext cx="8932680" cy="731880"/>
          </a:xfrm>
          <a:prstGeom prst="rect">
            <a:avLst/>
          </a:prstGeom>
          <a:solidFill>
            <a:srgbClr val="e6b9b8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 усталеному режимі похідні усіх порядків дорівнюють нулю, і рівняння набере вигляду:                             Звідк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Объект 31"/>
              <p:cNvSpPr txBox="1"/>
              <p:nvPr/>
            </p:nvSpPr>
            <p:spPr>
              <a:xfrm>
                <a:off x="3514680" y="5886360"/>
                <a:ext cx="146376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Объект 33"/>
              <p:cNvSpPr txBox="1"/>
              <p:nvPr/>
            </p:nvSpPr>
            <p:spPr>
              <a:xfrm>
                <a:off x="6516720" y="5886360"/>
                <a:ext cx="15112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6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0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Таблиця 6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окутник 11"/>
          <p:cNvSpPr/>
          <p:nvPr/>
        </p:nvSpPr>
        <p:spPr>
          <a:xfrm>
            <a:off x="98280" y="1628640"/>
            <a:ext cx="8964720" cy="621720"/>
          </a:xfrm>
          <a:prstGeom prst="rect">
            <a:avLst/>
          </a:prstGeom>
          <a:solidFill>
            <a:srgbClr val="f2dcdb"/>
          </a:solidFill>
          <a:ln w="284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Ці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еличини можуть знаходитися у рівновазі при різних, відмін-них від заданого, значеннях регульованої величи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кутник 6"/>
          <p:cNvSpPr/>
          <p:nvPr/>
        </p:nvSpPr>
        <p:spPr>
          <a:xfrm>
            <a:off x="115920" y="617400"/>
            <a:ext cx="8916840" cy="93240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 рівняння видно, що дана система в усталеному режимі харак-теризується цілком певною залежністю вихідної величини від вхід-ної і, відповідно, має статичну характеристи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кутник 11"/>
          <p:cNvSpPr/>
          <p:nvPr/>
        </p:nvSpPr>
        <p:spPr>
          <a:xfrm>
            <a:off x="100080" y="2314440"/>
            <a:ext cx="8962920" cy="1243080"/>
          </a:xfrm>
          <a:prstGeom prst="rect">
            <a:avLst/>
          </a:prstGeom>
          <a:solidFill>
            <a:srgbClr val="c6d9f1"/>
          </a:solidFill>
          <a:ln w="284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ричому кожному значенню вхідної величини відповідає певне значення вихідної величини. Задане значення вихідної величини буде тільки при розрахунковому значенні вхідної величини, наприк-лад, при двох відкритих вентилях у даному випад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кутник 11"/>
          <p:cNvSpPr/>
          <p:nvPr/>
        </p:nvSpPr>
        <p:spPr>
          <a:xfrm>
            <a:off x="115920" y="3635280"/>
            <a:ext cx="8964720" cy="1243080"/>
          </a:xfrm>
          <a:prstGeom prst="rect">
            <a:avLst/>
          </a:prstGeom>
          <a:solidFill>
            <a:srgbClr val="d7e4bd"/>
          </a:solidFill>
          <a:ln w="284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Якщо відкритий одн або усі три вентилі, то регульована величина відхилиться від заданого значення, отже, у системі в усталеному ре-жимі виникне неусувна похибка, що називається статичною похибко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кутник 11"/>
          <p:cNvSpPr/>
          <p:nvPr/>
        </p:nvSpPr>
        <p:spPr>
          <a:xfrm>
            <a:off x="115920" y="5013360"/>
            <a:ext cx="8964720" cy="975240"/>
          </a:xfrm>
          <a:prstGeom prst="rect">
            <a:avLst/>
          </a:prstGeom>
          <a:solidFill>
            <a:srgbClr val="8eb4e3"/>
          </a:solidFill>
          <a:ln w="284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Величина похибки при максимальному відхиленні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i="1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вх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визнача-ється значенням коефіцієнта       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і не повинна перевищувати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±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3...5 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92"/>
          <p:cNvSpPr/>
          <p:nvPr/>
        </p:nvSpPr>
        <p:spPr>
          <a:xfrm>
            <a:off x="324000" y="936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СИСТЕМИ СТАТИЧНОГО РЕГУЛЮВ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Line 93"/>
          <p:cNvSpPr/>
          <p:nvPr/>
        </p:nvSpPr>
        <p:spPr>
          <a:xfrm>
            <a:off x="324000" y="539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Объект 2"/>
              <p:cNvSpPr txBox="1"/>
              <p:nvPr/>
            </p:nvSpPr>
            <p:spPr>
              <a:xfrm>
                <a:off x="4284720" y="5327640"/>
                <a:ext cx="71892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92"/>
          <p:cNvSpPr/>
          <p:nvPr/>
        </p:nvSpPr>
        <p:spPr>
          <a:xfrm>
            <a:off x="169920" y="142920"/>
            <a:ext cx="8928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ИСТЕМИ АСТАТИЧНОГО РЕГУЛЮВ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Line 93"/>
          <p:cNvSpPr/>
          <p:nvPr/>
        </p:nvSpPr>
        <p:spPr>
          <a:xfrm>
            <a:off x="276120" y="593640"/>
            <a:ext cx="8748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Группа 1"/>
          <p:cNvGrpSpPr/>
          <p:nvPr/>
        </p:nvGrpSpPr>
        <p:grpSpPr>
          <a:xfrm>
            <a:off x="2459160" y="647640"/>
            <a:ext cx="6581520" cy="6068880"/>
            <a:chOff x="2459160" y="647640"/>
            <a:chExt cx="6581520" cy="6068880"/>
          </a:xfrm>
        </p:grpSpPr>
        <p:sp>
          <p:nvSpPr>
            <p:cNvPr id="148" name="Прямокутник 81"/>
            <p:cNvSpPr/>
            <p:nvPr/>
          </p:nvSpPr>
          <p:spPr>
            <a:xfrm>
              <a:off x="2459160" y="6021360"/>
              <a:ext cx="6549840" cy="69516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400" spc="-1" strike="noStrike">
                  <a:solidFill>
                    <a:srgbClr val="000000"/>
                  </a:solidFill>
                  <a:latin typeface="Calibri"/>
                </a:rPr>
                <a:t>1- циліндр; 2 - гвинт; 3 - підсилювач; 4 - важіль; 5 - манометрична пружина 6 - об'єкт; 7 - клапан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9" name="Picture 11" descr=""/>
            <p:cNvPicPr/>
            <p:nvPr/>
          </p:nvPicPr>
          <p:blipFill>
            <a:blip r:embed="rId1"/>
            <a:stretch/>
          </p:blipFill>
          <p:spPr>
            <a:xfrm>
              <a:off x="2459160" y="647640"/>
              <a:ext cx="6581520" cy="537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Прямокутник 6"/>
          <p:cNvSpPr/>
          <p:nvPr/>
        </p:nvSpPr>
        <p:spPr>
          <a:xfrm>
            <a:off x="108000" y="692280"/>
            <a:ext cx="3311640" cy="256320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амінимо у розглянутій вище САК тиску повітря в резервуарі гідравлічний виконавчий механізм з пружиною виконавчим механізмом двосторон-ньої дії та підсилювач типу "сопло - заслінка" – підси-лювачем із золотнико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кутник 6"/>
          <p:cNvSpPr/>
          <p:nvPr/>
        </p:nvSpPr>
        <p:spPr>
          <a:xfrm>
            <a:off x="108000" y="3348000"/>
            <a:ext cx="2232000" cy="315864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адаючу дію вводитимемо за допомогою мік-рометричного гвинта, що пере-міщає гільзу під-силювача. Лімб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ікрометричног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гвинта протаро-вано в одиницях тиск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кутник 6"/>
          <p:cNvSpPr/>
          <p:nvPr/>
        </p:nvSpPr>
        <p:spPr>
          <a:xfrm>
            <a:off x="108000" y="692280"/>
            <a:ext cx="8916840" cy="402228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ри такій заміні кількість елементів у принциповій схемі і дія системи не змінилися. З підвищенням тиску в об'єкті 6 манометрична пружина 5 переміщає важіль 4 і плунжер підсилювача 3 вниз, відкриваючи нижнє вікно гільзи підсилювача 3. Олива від джерела поступає у верхню порож-нину циліндра виконавчого механізму 1 і поршень зі штоком, переміща-ючись вниз, зменшує переріз клапана 7, тобто і надходження повітря в об'єкт 6. Переміщення плунжера в штоку відбуватиметься до встановлен-ня заданого значення тиску в регульованому об'єкті. При зміні регульова-ного тиску мікрометричним гвинтом 2 змінюють положення гільзи підси-лювача. В даному випадку відкривається одне з вікон гільзи і олива про-ходить в нижню або верхню порожнину циліндра, змінюючи переріз кла-пана 7 до встановлення заданого значення тиску в резервуар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кутник 81"/>
          <p:cNvSpPr/>
          <p:nvPr/>
        </p:nvSpPr>
        <p:spPr>
          <a:xfrm>
            <a:off x="119160" y="4824360"/>
            <a:ext cx="8959680" cy="670680"/>
          </a:xfrm>
          <a:prstGeom prst="rect">
            <a:avLst/>
          </a:prstGeom>
          <a:solidFill>
            <a:srgbClr val="92d050"/>
          </a:soli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структурній схемі системи стануться зміни - замість передавальної функції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кутник 81"/>
          <p:cNvSpPr/>
          <p:nvPr/>
        </p:nvSpPr>
        <p:spPr>
          <a:xfrm>
            <a:off x="3132000" y="5229360"/>
            <a:ext cx="3095640" cy="670680"/>
          </a:xfrm>
          <a:prstGeom prst="rect">
            <a:avLst/>
          </a:prstGeom>
          <a:solidFill>
            <a:srgbClr val="c6d9f1"/>
          </a:soli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еобхідно вписати передавальну функцію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92"/>
          <p:cNvSpPr/>
          <p:nvPr/>
        </p:nvSpPr>
        <p:spPr>
          <a:xfrm>
            <a:off x="169920" y="142920"/>
            <a:ext cx="8928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Arial"/>
              </a:rPr>
              <a:t>СИСТЕМИ АСТАТИЧНОГО РЕГУЛЮВ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Line 93"/>
          <p:cNvSpPr/>
          <p:nvPr/>
        </p:nvSpPr>
        <p:spPr>
          <a:xfrm>
            <a:off x="276120" y="593640"/>
            <a:ext cx="8748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Объект 2"/>
              <p:cNvSpPr txBox="1"/>
              <p:nvPr/>
            </p:nvSpPr>
            <p:spPr>
              <a:xfrm>
                <a:off x="1147680" y="5192640"/>
                <a:ext cx="18464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Объект 4"/>
              <p:cNvSpPr txBox="1"/>
              <p:nvPr/>
            </p:nvSpPr>
            <p:spPr>
              <a:xfrm>
                <a:off x="6213600" y="5359320"/>
                <a:ext cx="27255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/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sSub>
                      <m:e>
                        <m:r>
                          <m:t xml:space="preserve">Т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Прямокутник 81"/>
          <p:cNvSpPr/>
          <p:nvPr/>
        </p:nvSpPr>
        <p:spPr>
          <a:xfrm>
            <a:off x="119160" y="6093000"/>
            <a:ext cx="8947080" cy="670680"/>
          </a:xfrm>
          <a:prstGeom prst="rect">
            <a:avLst/>
          </a:prstGeom>
          <a:solidFill>
            <a:srgbClr val="c6d9f1"/>
          </a:soli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оскільки застосований виконавчий механізм є ідеальною інтегральною ланко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кутник 81"/>
          <p:cNvSpPr/>
          <p:nvPr/>
        </p:nvSpPr>
        <p:spPr>
          <a:xfrm>
            <a:off x="108000" y="3882960"/>
            <a:ext cx="468360" cy="366120"/>
          </a:xfrm>
          <a:prstGeom prst="rect">
            <a:avLst/>
          </a:prstGeom>
          <a:solidFill>
            <a:srgbClr val="c6d9f1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кутник 81"/>
          <p:cNvSpPr/>
          <p:nvPr/>
        </p:nvSpPr>
        <p:spPr>
          <a:xfrm>
            <a:off x="125280" y="4437000"/>
            <a:ext cx="8893440" cy="36612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 цього виразу отримаємо зображення рівняння СА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кутник 6"/>
          <p:cNvSpPr/>
          <p:nvPr/>
        </p:nvSpPr>
        <p:spPr>
          <a:xfrm>
            <a:off x="108000" y="692280"/>
            <a:ext cx="8916840" cy="73188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 урахуванням змін передавальна функція розімкненої системи буде рів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кутник 81"/>
          <p:cNvSpPr/>
          <p:nvPr/>
        </p:nvSpPr>
        <p:spPr>
          <a:xfrm>
            <a:off x="127080" y="2411280"/>
            <a:ext cx="8913600" cy="36612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ередавальна функція замкнутої систе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 Box 92"/>
          <p:cNvSpPr/>
          <p:nvPr/>
        </p:nvSpPr>
        <p:spPr>
          <a:xfrm>
            <a:off x="169920" y="142920"/>
            <a:ext cx="8928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Arial"/>
              </a:rPr>
              <a:t>СИСТЕМИ АСТАТИЧНОГО РЕГУЛЮВ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Line 93"/>
          <p:cNvSpPr/>
          <p:nvPr/>
        </p:nvSpPr>
        <p:spPr>
          <a:xfrm>
            <a:off x="276120" y="593640"/>
            <a:ext cx="8748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Объект 2"/>
              <p:cNvSpPr txBox="1"/>
              <p:nvPr/>
            </p:nvSpPr>
            <p:spPr>
              <a:xfrm>
                <a:off x="360360" y="1463760"/>
                <a:ext cx="84326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роз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Т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Объект 4"/>
              <p:cNvSpPr txBox="1"/>
              <p:nvPr/>
            </p:nvSpPr>
            <p:spPr>
              <a:xfrm>
                <a:off x="363600" y="2781360"/>
                <a:ext cx="84121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ам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роз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роз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Объект 6"/>
              <p:cNvSpPr txBox="1"/>
              <p:nvPr/>
            </p:nvSpPr>
            <p:spPr>
              <a:xfrm>
                <a:off x="684360" y="3882960"/>
                <a:ext cx="1726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Объект 8"/>
              <p:cNvSpPr txBox="1"/>
              <p:nvPr/>
            </p:nvSpPr>
            <p:spPr>
              <a:xfrm>
                <a:off x="2519280" y="3882960"/>
                <a:ext cx="12956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Т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Объект 14"/>
              <p:cNvSpPr txBox="1"/>
              <p:nvPr/>
            </p:nvSpPr>
            <p:spPr>
              <a:xfrm>
                <a:off x="3924360" y="3887640"/>
                <a:ext cx="20160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Т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Т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Объект 16"/>
              <p:cNvSpPr txBox="1"/>
              <p:nvPr/>
            </p:nvSpPr>
            <p:spPr>
              <a:xfrm>
                <a:off x="6084720" y="3887640"/>
                <a:ext cx="18720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Объект 18"/>
              <p:cNvSpPr txBox="1"/>
              <p:nvPr/>
            </p:nvSpPr>
            <p:spPr>
              <a:xfrm>
                <a:off x="8101080" y="3882960"/>
                <a:ext cx="9000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Объект 20"/>
              <p:cNvSpPr txBox="1"/>
              <p:nvPr/>
            </p:nvSpPr>
            <p:spPr>
              <a:xfrm>
                <a:off x="317520" y="4869000"/>
                <a:ext cx="5691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6" name="Прямокутник 81"/>
          <p:cNvSpPr/>
          <p:nvPr/>
        </p:nvSpPr>
        <p:spPr>
          <a:xfrm>
            <a:off x="103320" y="5516640"/>
            <a:ext cx="8893080" cy="73188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иференціальне рівняння системи отримаємо, здійснивши зворотний перехі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Объект 22"/>
              <p:cNvSpPr txBox="1"/>
              <p:nvPr/>
            </p:nvSpPr>
            <p:spPr>
              <a:xfrm>
                <a:off x="2700360" y="5886360"/>
                <a:ext cx="56656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1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4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1T08:44:46Z</dcterms:created>
  <dc:creator>Master</dc:creator>
  <dc:description/>
  <dc:language>en-US</dc:language>
  <cp:lastModifiedBy>Master</cp:lastModifiedBy>
  <dcterms:modified xsi:type="dcterms:W3CDTF">2020-04-14T05:31:13Z</dcterms:modified>
  <cp:revision>84</cp:revision>
  <dc:subject/>
  <dc:title>Презентация PowerPoint</dc:title>
</cp:coreProperties>
</file>