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3B9-46C7-4C0F-928D-4E4FBAA8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CB9-A3EA-4409-B9E3-A8103553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C1C-8F7D-4036-9974-E09633FB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62A-827E-4F2D-8FD0-AE433F9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FAF-B790-4A5F-B7AE-067BED2C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94A-FA59-44C9-9ADD-88F8F14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DD2-40DC-4F41-AD16-E5ED2E04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069-1831-48E8-8454-4775F0C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2B0-FC16-44E9-B861-0AD20188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B96-A678-4A13-9675-459C6A4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074-9530-4E76-97B2-844D489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D11-D238-424E-817B-B24F778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C5AA-D022-4DFB-9592-16C91802A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ТІЙКІСТЬ ЛІНІЙНИХ СИСТЕМ АВТОМАТИЧНОГО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900000" y="11253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стійкості систем автоматичного регул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Гурві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Михай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Найквіста-Михай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ення областей стійк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92"/>
          <p:cNvSpPr/>
          <p:nvPr/>
        </p:nvSpPr>
        <p:spPr>
          <a:xfrm>
            <a:off x="395280" y="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Виділення областей стій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3"/>
          <p:cNvSpPr/>
          <p:nvPr/>
        </p:nvSpPr>
        <p:spPr>
          <a:xfrm>
            <a:off x="57456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кутник 25"/>
          <p:cNvSpPr/>
          <p:nvPr/>
        </p:nvSpPr>
        <p:spPr>
          <a:xfrm>
            <a:off x="201600" y="1905120"/>
            <a:ext cx="8785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ї дозволяють визначити чи стійка система автоматичного регулю-вання при певних параметрах її елементів. Практично критерії не дають відпо-віді на питання про межі зміни того або іншого параметра системи за умови збереження або досягнення стійк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кутник 26"/>
          <p:cNvSpPr/>
          <p:nvPr/>
        </p:nvSpPr>
        <p:spPr>
          <a:xfrm>
            <a:off x="201600" y="3171960"/>
            <a:ext cx="8785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і або область зміни одного або декількох параметрів системи можуть бути знайдені за допомогою спеціального методу, який дістав назв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збит-тя.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система знаходиться на коливній межі стійкості це відповідає рів-ності нулю характеристичного вектор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ω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кутник 27"/>
          <p:cNvSpPr/>
          <p:nvPr/>
        </p:nvSpPr>
        <p:spPr>
          <a:xfrm>
            <a:off x="177840" y="399960"/>
            <a:ext cx="8785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безпечення заданих показників якості системи при змінних зовнішніх збуреннях ряд її параметрів роблять регульованими. Звичайно це передавальні коефіцієнти окремих елементів системи або їх постійні часу, що може призвес-ти до втрати стійкості. Тому важливо визначити межі можливих регулювань парамет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30"/>
          <p:cNvSpPr/>
          <p:nvPr/>
        </p:nvSpPr>
        <p:spPr>
          <a:xfrm>
            <a:off x="92160" y="4406760"/>
            <a:ext cx="903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параметр К, який необхідно змінювати під час роботи системи входить у характеристичне рівняння лінійно, тоді воно може бути представлене у вигляд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2241360" y="50227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К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207360" y="54738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396440" y="5473800"/>
            <a:ext cx="21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152280" y="5934240"/>
            <a:ext cx="88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уємо на комплексній площині графік функції підставивши заміс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2156760" y="6340320"/>
            <a:ext cx="44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=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Q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кутник 18"/>
          <p:cNvSpPr/>
          <p:nvPr/>
        </p:nvSpPr>
        <p:spPr>
          <a:xfrm>
            <a:off x="179280" y="399960"/>
            <a:ext cx="5329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а крива D-розбиття являє собою відображення уявної осі комплексної площини коренів характеристичного рівняння на площину параметра К. Тому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зв’язки із від’ємною дійс-ною частиною повинні лежати ліворуч від кри-вої при зміні ω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ід -∞ до +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розбиття поділяє усю площину на декілька областей. У лінійних САК змінюваний параметр К завжди є дійсним, тому практич-ний інтерес становлять частини областей, що лежать на дійсній о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астю стійкості буде множина дійсних значень К, що лежить в області обрамленій кривою у середину якої направлено штрих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2"/>
          <p:cNvSpPr/>
          <p:nvPr/>
        </p:nvSpPr>
        <p:spPr>
          <a:xfrm>
            <a:off x="304920" y="0"/>
            <a:ext cx="55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Виділення областей стій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3"/>
          <p:cNvSpPr/>
          <p:nvPr/>
        </p:nvSpPr>
        <p:spPr>
          <a:xfrm>
            <a:off x="395280" y="3999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1"/>
          <a:stretch/>
        </p:blipFill>
        <p:spPr>
          <a:xfrm>
            <a:off x="5508720" y="11592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"/>
          <p:cNvSpPr/>
          <p:nvPr/>
        </p:nvSpPr>
        <p:spPr>
          <a:xfrm>
            <a:off x="138240" y="4335480"/>
            <a:ext cx="88977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вшись будь-яким речовим значенням К усередині отриманої області, підс-тавляють значення К в рівняння і за допомогою будь-якого критерію стійк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віряють стійкість системи, якщо система виявиться стійкою, то знайдена область є областю стійкості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"/>
          <p:cNvSpPr/>
          <p:nvPr/>
        </p:nvSpPr>
        <p:spPr>
          <a:xfrm>
            <a:off x="115920" y="5565600"/>
            <a:ext cx="8920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область стійкості відсутня, і система, нестійка при будь-якому значен-ні К і називається структурно-нестійкою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того, щоб добитися стійкості цих систем, необхідно змінити структурну схему - ввести додаткові, замінити одно або декілька ланок або поміняти порядок з'єднання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22"/>
          <p:cNvSpPr/>
          <p:nvPr/>
        </p:nvSpPr>
        <p:spPr>
          <a:xfrm>
            <a:off x="179280" y="62064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на система повинна бути працездатною, а отже мати влас-тивості, які утримували б параметри у таких межах, щоб не було істотних порушень технологічного процесу або роботи агрега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23"/>
          <p:cNvSpPr/>
          <p:nvPr/>
        </p:nvSpPr>
        <p:spPr>
          <a:xfrm>
            <a:off x="179280" y="1628640"/>
            <a:ext cx="8785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здатність САК визначається її стійкістю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ійкість – це здат-ність системи повертатись у вихідний стан після зняття обмежених збурю-ючих або керуючих дій на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35"/>
          <p:cNvSpPr/>
          <p:nvPr/>
        </p:nvSpPr>
        <p:spPr>
          <a:xfrm>
            <a:off x="179280" y="2565360"/>
            <a:ext cx="36007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на величина у(t) виведеної із рівноваги САК в результаті вільних коливань мо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1"/>
          <p:cNvGraphicFramePr/>
          <p:nvPr/>
        </p:nvGraphicFramePr>
        <p:xfrm>
          <a:off x="3635280" y="2565360"/>
          <a:ext cx="535644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565360"/>
                    <a:ext cx="535644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Прямокутник 32"/>
          <p:cNvSpPr/>
          <p:nvPr/>
        </p:nvSpPr>
        <p:spPr>
          <a:xfrm>
            <a:off x="179280" y="3500280"/>
            <a:ext cx="597708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чно або із деякою похиб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утись до попереднь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межно віддалятись в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ого знач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дійснювати незатухаюч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кутник 33"/>
          <p:cNvSpPr/>
          <p:nvPr/>
        </p:nvSpPr>
        <p:spPr>
          <a:xfrm>
            <a:off x="179280" y="5732640"/>
            <a:ext cx="8713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шому випадку система буде стійкою і працездатною, у другому – не стійкою і непрацездатною, у третьому випадку система знаходиться на межі стійкості але не працезда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18"/>
          <p:cNvSpPr/>
          <p:nvPr/>
        </p:nvSpPr>
        <p:spPr>
          <a:xfrm>
            <a:off x="179280" y="620640"/>
            <a:ext cx="8856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безпечення заданих показників якості роботи системи при змінних зовнішніх збуреннях ряд її параметрів роблять регульованими, що може при-звести до втрати стійкості, тому важливо визначити межі (або області) можливих регулювань параметрів за умов збереження стійкості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кутник 5"/>
          <p:cNvSpPr/>
          <p:nvPr/>
        </p:nvSpPr>
        <p:spPr>
          <a:xfrm>
            <a:off x="179280" y="544500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здатними є лише стійкі системи і тому при розробці системи авто-матичного регулювання завжди повинні перевірятися на стійкі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 про стійкість можна зробити, визначивши після розв’язку рівня-ння відхилення Δу регульованої величини у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ід заданого значення в час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кутник 6"/>
          <p:cNvSpPr/>
          <p:nvPr/>
        </p:nvSpPr>
        <p:spPr>
          <a:xfrm>
            <a:off x="179280" y="184464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ас стійкості – це величина, яка показує на скільки віддалене дане значення параметру від межі стійк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8"/>
          <p:cNvSpPr/>
          <p:nvPr/>
        </p:nvSpPr>
        <p:spPr>
          <a:xfrm>
            <a:off x="179280" y="422100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стійкій системі відхилення вихідної величини від заданого значення з ча-сом від початку перехідного процесу повинно прямувати до нуля або до деякої постійної величини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на величина при цьому повертається до заданого значення або відрізняється від нього в межах статичної пох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кутник 9"/>
          <p:cNvSpPr/>
          <p:nvPr/>
        </p:nvSpPr>
        <p:spPr>
          <a:xfrm>
            <a:off x="179280" y="249228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поведінки системи в перехідному режимі визначається дифе-ренціальним рівнянн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2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2843280" y="2852640"/>
                <a:ext cx="6103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Прямокутник 15"/>
          <p:cNvSpPr/>
          <p:nvPr/>
        </p:nvSpPr>
        <p:spPr>
          <a:xfrm>
            <a:off x="324000" y="3573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отримують із характеристичного рівня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кутник 16"/>
          <p:cNvSpPr/>
          <p:nvPr/>
        </p:nvSpPr>
        <p:spPr>
          <a:xfrm>
            <a:off x="2597400" y="3860640"/>
            <a:ext cx="508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y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2"/>
          <p:cNvSpPr/>
          <p:nvPr/>
        </p:nvSpPr>
        <p:spPr>
          <a:xfrm>
            <a:off x="32400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6"/>
          <p:cNvSpPr/>
          <p:nvPr/>
        </p:nvSpPr>
        <p:spPr>
          <a:xfrm>
            <a:off x="108000" y="404640"/>
            <a:ext cx="89280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буде стійка, якщо відхилення Δу прямуватиме до нуля або деякої постійної при t → ∞. Як відомо, загальним розв’язком рівняння бу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кутник 18"/>
          <p:cNvSpPr/>
          <p:nvPr/>
        </p:nvSpPr>
        <p:spPr>
          <a:xfrm>
            <a:off x="179280" y="1989000"/>
            <a:ext cx="878544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стійкості системи необхідно, щоб кожен член правої частини рівняння, починаючи з другого, з бігом часу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ямував до нуля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ажко побачити, що це можливо тільки при негативних значеннях коренів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чного рівняння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кутник 16"/>
          <p:cNvSpPr/>
          <p:nvPr/>
        </p:nvSpPr>
        <p:spPr>
          <a:xfrm>
            <a:off x="179280" y="443700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азі комплексних коренів характеристичного рівнянн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жен з членів рівняння представлятиме коливну криву, що сходиться при негативній дійсній частині кореня і розходиться при позитивній дійсній частині кор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кутник 17"/>
          <p:cNvSpPr/>
          <p:nvPr/>
        </p:nvSpPr>
        <p:spPr>
          <a:xfrm>
            <a:off x="179280" y="3213000"/>
            <a:ext cx="8785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корені негативні, кожен член рівняння з часом прямуватиме по екс-поненті до нуля і відхилення регульованої величини від заданого значення буде рівне постійній А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бо нулю при А</a:t>
            </a:r>
            <a:r>
              <a:rPr b="0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хоч один корінь буде позитивним,  то з часом у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необмежено зростати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692360" y="981000"/>
                <a:ext cx="489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е</m:t>
                        </m:r>
                      </m:e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Прямокутник 19"/>
          <p:cNvSpPr/>
          <p:nvPr/>
        </p:nvSpPr>
        <p:spPr>
          <a:xfrm>
            <a:off x="179280" y="1557360"/>
            <a:ext cx="878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ійні;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ені характерис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кутник 20"/>
          <p:cNvSpPr/>
          <p:nvPr/>
        </p:nvSpPr>
        <p:spPr>
          <a:xfrm>
            <a:off x="179280" y="5373720"/>
            <a:ext cx="8785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 лінійна система автоматичного регулювання буде стійка, якщо усі дійсні корені і усі дійсні частини комплексних коренів характеристичного рів-няння будуть негатив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rcRect l="6238" t="5092" r="6259" b="3023"/>
          <a:stretch/>
        </p:blipFill>
        <p:spPr>
          <a:xfrm>
            <a:off x="6227640" y="503280"/>
            <a:ext cx="2772000" cy="2692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кутник 11"/>
          <p:cNvSpPr/>
          <p:nvPr/>
        </p:nvSpPr>
        <p:spPr>
          <a:xfrm>
            <a:off x="179280" y="399960"/>
            <a:ext cx="61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корені характеристичного рівняння нанести на комплексну площину, то система автоматичного регулювання буде стійка при розташуванні усіх коренів ліворуч від уявної ос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Умови стійкості систем автоматичного регул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324000" y="39996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кутник 12"/>
          <p:cNvSpPr/>
          <p:nvPr/>
        </p:nvSpPr>
        <p:spPr>
          <a:xfrm>
            <a:off x="120600" y="1646280"/>
            <a:ext cx="6251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дійсної частини коренів можна знайти шля-хом безпосереднього розв’язку характеристичного рів-няння. Проте легко розв’язуються рівняння не вище дру-гого порядку. Рівняння третього і четвертого порядку аналітично розв’язуються надзвичайно скла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кутник 13"/>
          <p:cNvSpPr/>
          <p:nvPr/>
        </p:nvSpPr>
        <p:spPr>
          <a:xfrm>
            <a:off x="144360" y="318600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легшення дослідження систем на стійкість запропоновані непрямі методи визначення знаку дійсної частини коренів характеристичного рівняння, які дістали назву критеріїв стійкості і не передбачають розв’язку характерис-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кутник 14"/>
          <p:cNvSpPr/>
          <p:nvPr/>
        </p:nvSpPr>
        <p:spPr>
          <a:xfrm>
            <a:off x="179280" y="4437000"/>
            <a:ext cx="87854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 з критеріями застосовують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хідну (але недостатню) умову стій-кості Стодоли, згідно з якою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стійкої системи необхідно, щоб усі коефіці-єнти характеристичного рівняння мали однакові зна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.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ажаючи на недос-татність умови при однакових знаках коефіцієнтів корені характеристичного рівняння можуть мати позитивний знак і потрібна перевірка стійк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кутник 15"/>
          <p:cNvSpPr/>
          <p:nvPr/>
        </p:nvSpPr>
        <p:spPr>
          <a:xfrm>
            <a:off x="144360" y="5877000"/>
            <a:ext cx="8855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знаки коефіцієнтів різні, то хоч би один корінь характеристичного рів-няння буде позитивним і система буде нестійкою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чином, умова Стодоли дозволяє за виглядом характеристичного рівняння визначити нестійку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кутник 81"/>
          <p:cNvSpPr/>
          <p:nvPr/>
        </p:nvSpPr>
        <p:spPr>
          <a:xfrm>
            <a:off x="179280" y="404640"/>
            <a:ext cx="8785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й стійкості Гурвіца дозволяє визначати стійкість систем автома-тичного регулювання досить високого порядку, проте користуватися критері-єм відносно легко при рівняннях до п'ятого порядку. Надалі значно зростає трудність здійснюваних розрахун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87"/>
          <p:cNvSpPr/>
          <p:nvPr/>
        </p:nvSpPr>
        <p:spPr>
          <a:xfrm>
            <a:off x="179280" y="155736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стійкості системи необхідно з коефіцієнтів характерис-тичног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2"/>
          <p:cNvSpPr/>
          <p:nvPr/>
        </p:nvSpPr>
        <p:spPr>
          <a:xfrm>
            <a:off x="250920" y="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Гурві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3"/>
          <p:cNvSpPr/>
          <p:nvPr/>
        </p:nvSpPr>
        <p:spPr>
          <a:xfrm>
            <a:off x="324000" y="404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кутник 26"/>
          <p:cNvSpPr/>
          <p:nvPr/>
        </p:nvSpPr>
        <p:spPr>
          <a:xfrm>
            <a:off x="179280" y="2421000"/>
            <a:ext cx="8785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ники складають при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тому, якщо необхідно, характеристичне рівняння перемножують на - 1. Система буде стійкою при усіх позитивних визначниках, які складають за схем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кутник 29"/>
          <p:cNvSpPr/>
          <p:nvPr/>
        </p:nvSpPr>
        <p:spPr>
          <a:xfrm>
            <a:off x="108000" y="4724280"/>
            <a:ext cx="896472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жному визначнику число рядків дорівнює числу стовпців і номеру визнач-ника. По головній діагоналі вписуються коефіцієнти від а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коефіцієнта з номе-ром, рівним номеру визначника. Стовпці від елементів головної діагоналі вгору до-повнюють коефіцієнтами з послідовно зростаючими індексами, вниз - зі зменшу-ваними індексами. На місце відсутніх коефіцієнтів, індекси яких більш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менше 0, проставляють нулі. Число визначників на одиницю менше порядку характерис-тичного рівня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кутник 20"/>
          <p:cNvSpPr/>
          <p:nvPr/>
        </p:nvSpPr>
        <p:spPr>
          <a:xfrm>
            <a:off x="2501640" y="1773360"/>
            <a:ext cx="43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+а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кутник 21"/>
          <p:cNvSpPr/>
          <p:nvPr/>
        </p:nvSpPr>
        <p:spPr>
          <a:xfrm>
            <a:off x="254520" y="2133720"/>
            <a:ext cx="42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визначники і розрахувати ї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кутник 22"/>
          <p:cNvSpPr/>
          <p:nvPr/>
        </p:nvSpPr>
        <p:spPr>
          <a:xfrm>
            <a:off x="274320" y="3789360"/>
            <a:ext cx="13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619280" y="3573360"/>
                <a:ext cx="19447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4"/>
              <p:cNvSpPr txBox="1"/>
              <p:nvPr/>
            </p:nvSpPr>
            <p:spPr>
              <a:xfrm>
                <a:off x="3635280" y="3384720"/>
                <a:ext cx="2521080" cy="15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7"/>
              <p:cNvSpPr txBox="1"/>
              <p:nvPr/>
            </p:nvSpPr>
            <p:spPr>
              <a:xfrm>
                <a:off x="6041880" y="2997360"/>
                <a:ext cx="30387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29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кутник 128"/>
          <p:cNvSpPr/>
          <p:nvPr/>
        </p:nvSpPr>
        <p:spPr>
          <a:xfrm>
            <a:off x="179280" y="404640"/>
            <a:ext cx="87854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користанні критерію стійкості Михайлова стійкість системи авто-матичного регулювання визначають за положенням годографа Михайлова на комплексній площи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2"/>
          <p:cNvSpPr/>
          <p:nvPr/>
        </p:nvSpPr>
        <p:spPr>
          <a:xfrm>
            <a:off x="395280" y="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3"/>
          <p:cNvSpPr/>
          <p:nvPr/>
        </p:nvSpPr>
        <p:spPr>
          <a:xfrm>
            <a:off x="39528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5"/>
          <p:cNvSpPr/>
          <p:nvPr/>
        </p:nvSpPr>
        <p:spPr>
          <a:xfrm>
            <a:off x="179280" y="126828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ограф Михайлова стійкої системи повинен огинати на комплексній площині початок координат, проходячи супроти годинникової стрілки послідовно кіль-кість квадрантів, рівну порядку характеристичного рівняння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годограф проходить через меншу кількість квадрантів, система несті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3348000" cy="4105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кутник 17"/>
          <p:cNvSpPr/>
          <p:nvPr/>
        </p:nvSpPr>
        <p:spPr>
          <a:xfrm>
            <a:off x="179280" y="2421000"/>
            <a:ext cx="6193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. показані годографи стійких систем 1, 2, 3, 4 і 5 поряд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8"/>
          <p:cNvSpPr/>
          <p:nvPr/>
        </p:nvSpPr>
        <p:spPr>
          <a:xfrm>
            <a:off x="179280" y="2997360"/>
            <a:ext cx="5184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граф Михайлова будують за комплексною функціє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9"/>
          <p:cNvSpPr/>
          <p:nvPr/>
        </p:nvSpPr>
        <p:spPr>
          <a:xfrm>
            <a:off x="179280" y="3573360"/>
            <a:ext cx="5545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jω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jω)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кутник 20"/>
          <p:cNvSpPr/>
          <p:nvPr/>
        </p:nvSpPr>
        <p:spPr>
          <a:xfrm>
            <a:off x="179280" y="3933720"/>
            <a:ext cx="5545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отримують з характеристичного рівняння системи шляхом підстанов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сть р. Для зручності побудови відділяють дійсну і уявну час-тини виразу і комплексну функці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предс-тавляють у вигляді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д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кутник 21"/>
          <p:cNvSpPr/>
          <p:nvPr/>
        </p:nvSpPr>
        <p:spPr>
          <a:xfrm>
            <a:off x="259920" y="5445000"/>
            <a:ext cx="40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к 22"/>
          <p:cNvSpPr/>
          <p:nvPr/>
        </p:nvSpPr>
        <p:spPr>
          <a:xfrm>
            <a:off x="270720" y="5805360"/>
            <a:ext cx="430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ω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 -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кутник 23"/>
          <p:cNvSpPr/>
          <p:nvPr/>
        </p:nvSpPr>
        <p:spPr>
          <a:xfrm>
            <a:off x="179280" y="614988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обудові годографа Михайлова змінюють від 0 до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кутник 150"/>
          <p:cNvSpPr/>
          <p:nvPr/>
        </p:nvSpPr>
        <p:spPr>
          <a:xfrm>
            <a:off x="179280" y="404640"/>
            <a:ext cx="8856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цим критерієм стійкість замкнутої системи автоматичного регулювання визначають за амплітудно-фазовою характеристикою стійкої розімкненої сис-те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зімкнена система автоматичного регулювання є стійкою у тому випадку, коли складається тільки зі стійких динамічних ланок і містить не більше за одну інтегруючу л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кутник 150"/>
          <p:cNvSpPr/>
          <p:nvPr/>
        </p:nvSpPr>
        <p:spPr>
          <a:xfrm>
            <a:off x="152280" y="1989000"/>
            <a:ext cx="88790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літудно-фазову характеристику розімкненої системи отримують таким ч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ивають лінію зовнішнього зворотного зв'язку системи на структурній схемі і аналізують динамічні ланки, що входять в головний кон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головний контур системи не містить нестійких ланок і містить не більше за одну інтегруючу ланку, можна застосовувати критерій стійкості Найквіста-Михай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395280" y="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Найквіста-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3"/>
          <p:cNvSpPr/>
          <p:nvPr/>
        </p:nvSpPr>
        <p:spPr>
          <a:xfrm>
            <a:off x="322200" y="40464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кутник 38"/>
          <p:cNvSpPr/>
          <p:nvPr/>
        </p:nvSpPr>
        <p:spPr>
          <a:xfrm>
            <a:off x="128520" y="3789360"/>
            <a:ext cx="8886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руктурною схемою розімкненої стійкої системи визначають передаваль-ну функці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тавивши замість оператора р добуто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римують рівняння амплі-тудно-фазової характеристики розімкненої системи, праву частину якого пред-ставляють у вигляді дійсної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уявної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кладових, залежних від часто-ти. Змінюючи частот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 0 до ∞, отримують пари значень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за якими на комплексній площині будують амплітудно-фазову характеристику стійкої розімкненої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кутник 41"/>
          <p:cNvSpPr/>
          <p:nvPr/>
        </p:nvSpPr>
        <p:spPr>
          <a:xfrm>
            <a:off x="152280" y="6093000"/>
            <a:ext cx="8883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ця характеристика не охоплює точку з координатами (-1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), то замкнута система автоматичного регулювання сті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92"/>
          <p:cNvSpPr/>
          <p:nvPr/>
        </p:nvSpPr>
        <p:spPr>
          <a:xfrm>
            <a:off x="403200" y="152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Критерій стійкості Найквіста-Михай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3"/>
          <p:cNvSpPr/>
          <p:nvPr/>
        </p:nvSpPr>
        <p:spPr>
          <a:xfrm>
            <a:off x="476280" y="62856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кутник 9"/>
          <p:cNvSpPr/>
          <p:nvPr/>
        </p:nvSpPr>
        <p:spPr>
          <a:xfrm>
            <a:off x="179280" y="692280"/>
            <a:ext cx="878544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л. показані амплітудно-фазові характеристики стійких (суцільна лінія) і нестійких (пунктирна лінія) замкнутих статичної (а) і астатичної (б)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кутник 25"/>
          <p:cNvSpPr/>
          <p:nvPr/>
        </p:nvSpPr>
        <p:spPr>
          <a:xfrm>
            <a:off x="176040" y="4869000"/>
            <a:ext cx="878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знаменник передавальної функції розімкненої системи є багаточленом високого порядку, будувати амплітудно-фазову характеристику на комплексній площині трудоміс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корочення об'єму розрахунків при визначенні стійкості систем корис-туються логарифмічними амплітудною і фазовою частотними характеристи-ками розімкненої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7" descr=""/>
          <p:cNvPicPr/>
          <p:nvPr/>
        </p:nvPicPr>
        <p:blipFill>
          <a:blip r:embed="rId1"/>
          <a:stretch/>
        </p:blipFill>
        <p:spPr>
          <a:xfrm>
            <a:off x="407880" y="1341360"/>
            <a:ext cx="85536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0:34:53Z</dcterms:created>
  <dc:creator>Сергей Левицкий</dc:creator>
  <dc:description/>
  <dc:language>en-US</dc:language>
  <cp:lastModifiedBy>Master</cp:lastModifiedBy>
  <dcterms:modified xsi:type="dcterms:W3CDTF">2015-10-18T18:22:53Z</dcterms:modified>
  <cp:revision>188</cp:revision>
  <dc:subject/>
  <dc:title>Слайд 1</dc:title>
</cp:coreProperties>
</file>