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42FE-4557-49CF-B261-10D3B35B9B4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BA12-CC48-4020-92B5-8EDCFDBA559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F66-8A98-45F1-A851-10A2A7A3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BF3-FCA6-46FC-A200-5335665C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293-CEFE-4FE3-9D5D-1E1E4B44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61A-C165-4A62-9A61-D68BA97C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6BE-6F81-4CA6-84D9-4301C666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3C7-0838-46E6-A6DD-836E3303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204-39D9-4191-B823-3D656B9F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E69-99CF-4110-969B-C13CD2E9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4F1-1714-4B22-A2B8-FF2985DB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686-F7B6-4DC5-9769-552BB297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5BE-6757-493D-95AB-17AB3E0B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B19-52EE-4F8F-AC8F-B78D5E0E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8C44-6FE8-44E5-ACEE-1B5B698C71D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2"/>
          <p:cNvSpPr/>
          <p:nvPr/>
        </p:nvSpPr>
        <p:spPr>
          <a:xfrm>
            <a:off x="108000" y="189000"/>
            <a:ext cx="892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1f497d"/>
                </a:solidFill>
                <a:latin typeface="Arial"/>
              </a:rPr>
              <a:t>КЕРОВАНІ ОБ'ЄКТИ АВТОМАТИЧНИХ СИСТЕ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кутник 132"/>
          <p:cNvSpPr/>
          <p:nvPr/>
        </p:nvSpPr>
        <p:spPr>
          <a:xfrm>
            <a:off x="3995640" y="765000"/>
            <a:ext cx="1297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кутник 142"/>
          <p:cNvSpPr/>
          <p:nvPr/>
        </p:nvSpPr>
        <p:spPr>
          <a:xfrm>
            <a:off x="179280" y="2781360"/>
            <a:ext cx="878544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ті: Підручник/ Ландюк А. П., Трегуб В. Г., Ельперін І. В., Цюцюра В. Д. – К.: Аграрна освіта, 2001. – 224 с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 Носов, В.А. Кондратец, Л.Г. Сакало, Л.И. Середа; Ред. Г.Р.Носов. – К.: Вища школа, 1984. – 248 c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кутник 26"/>
          <p:cNvSpPr/>
          <p:nvPr/>
        </p:nvSpPr>
        <p:spPr>
          <a:xfrm>
            <a:off x="179280" y="119700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і відомості про сільськогосподарські об’єк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і властивості керованих об’єкт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ні моделі об’єктів автомат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6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6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кутник 81"/>
          <p:cNvSpPr/>
          <p:nvPr/>
        </p:nvSpPr>
        <p:spPr>
          <a:xfrm>
            <a:off x="101520" y="620640"/>
            <a:ext cx="8964720" cy="12618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Звичайно час розгону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визначає тривалість перехідного процесу від момен-ту подачі постійної зовнішньої дії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t)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до моменту коли керована величина від-різнятиметься від усталеного значення не більше ніж на 1%  і становитиме 99% свого номінального значе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кутник 81"/>
          <p:cNvSpPr/>
          <p:nvPr/>
        </p:nvSpPr>
        <p:spPr>
          <a:xfrm>
            <a:off x="81000" y="1873080"/>
            <a:ext cx="4130640" cy="24814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Постійна часу об’єкту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</a:t>
            </a:r>
            <a:r>
              <a:rPr b="1" i="1" lang="uk-UA" sz="20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це час його розгону при відсутності само-вирівнювання (або час за який об’єкт досягнув би нового рівноважного стану, якби його вихідна величина змінювалась із найбільшою для дано-го перехідного процесу швидкістю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Объект 2"/>
          <p:cNvGraphicFramePr/>
          <p:nvPr/>
        </p:nvGraphicFramePr>
        <p:xfrm>
          <a:off x="4189320" y="1557360"/>
          <a:ext cx="485460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9320" y="1557360"/>
                    <a:ext cx="485460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Прямокутник 81"/>
          <p:cNvSpPr/>
          <p:nvPr/>
        </p:nvSpPr>
        <p:spPr>
          <a:xfrm>
            <a:off x="66600" y="4035600"/>
            <a:ext cx="4132440" cy="285588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Найбільша швидкість пр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r>
              <a:rPr b="0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 Значення постійної часу об’єкту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можна визначити, якщо провести дотичну до кривої розгону об’єкту у початковий момент часу. Відрізок, який відтинає ця дотична на прямій, паралельній осі абсцис, що відпові-дає новому усталеному значенню керованої величини у масштабі часу показує постійну часу об’єкту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i="1" lang="uk-UA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кутник 81"/>
          <p:cNvSpPr/>
          <p:nvPr/>
        </p:nvSpPr>
        <p:spPr>
          <a:xfrm>
            <a:off x="101520" y="620640"/>
            <a:ext cx="8964720" cy="198036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Зі збільшенням постійної часу об’єкт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тривалість перехід-ного процесу пропорційно зростає. При наявності самовирівню-вання, за проміжок час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Т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ихідна величина стійкого статич-ного об’єкта досягне 0,632 від величини нового усталеного значення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ст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, а за час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4Т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сягне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99 у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ст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кутник 81"/>
          <p:cNvSpPr/>
          <p:nvPr/>
        </p:nvSpPr>
        <p:spPr>
          <a:xfrm>
            <a:off x="115920" y="2565360"/>
            <a:ext cx="8964720" cy="1148040"/>
          </a:xfrm>
          <a:prstGeom prst="rect">
            <a:avLst/>
          </a:prstGeom>
          <a:solidFill>
            <a:srgbClr val="c3d69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Для без ємнісного об’єкт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для одно ємнісного постійна часу буде меншою ніж для багато ємнісного, отже чим більша ємність об’єкту тим більша постійна ча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кутник 81"/>
          <p:cNvSpPr/>
          <p:nvPr/>
        </p:nvSpPr>
        <p:spPr>
          <a:xfrm>
            <a:off x="88920" y="3789360"/>
            <a:ext cx="8964720" cy="1463400"/>
          </a:xfrm>
          <a:prstGeom prst="rect">
            <a:avLst/>
          </a:prstGeom>
          <a:solidFill>
            <a:srgbClr val="558ed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Перехідний процес і час розгону характеризують інерцію об'єкту по відношенню до дії. Інерція об'єкту зумовлена здатніс-тю об'єкту накопичувати енергію або речовину, наявністю пере-давальних каналів і опору в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кутник 81"/>
          <p:cNvSpPr/>
          <p:nvPr/>
        </p:nvSpPr>
        <p:spPr>
          <a:xfrm>
            <a:off x="101520" y="539640"/>
            <a:ext cx="8964720" cy="155376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сновні властивості об'єкта визначаються з диференціаль-ного рівняння руху або передавальної функції, які отримують ана-літичними методами на підставі фізичних законів, покладених в основу їх роботи і коефіцієнти яких визначаються за характерис-тиками технічних пристроїв що утворюють об’єк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92"/>
          <p:cNvSpPr/>
          <p:nvPr/>
        </p:nvSpPr>
        <p:spPr>
          <a:xfrm>
            <a:off x="324000" y="158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МАТЕМАТИЧНІ МОДЕЛІ ОБ’ЄКТІВ АВТОМАТИЗАЦ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93"/>
          <p:cNvSpPr/>
          <p:nvPr/>
        </p:nvSpPr>
        <p:spPr>
          <a:xfrm>
            <a:off x="324000" y="473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кутник 81"/>
          <p:cNvSpPr/>
          <p:nvPr/>
        </p:nvSpPr>
        <p:spPr>
          <a:xfrm>
            <a:off x="101520" y="2160720"/>
            <a:ext cx="8964720" cy="9324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Аналітичні методи отримання математичної моделі об'єк-ту у вигляді диференціального рівняння або передавальної функції засновані на методі малих відхил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кутник 81"/>
          <p:cNvSpPr/>
          <p:nvPr/>
        </p:nvSpPr>
        <p:spPr>
          <a:xfrm>
            <a:off x="101520" y="3168720"/>
            <a:ext cx="8964720" cy="62172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тримані таким чином рівняння дозволяють визначити нео-бхідні при дослідженні САК статичні та динамічні характ-с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окутник 81"/>
          <p:cNvSpPr/>
          <p:nvPr/>
        </p:nvSpPr>
        <p:spPr>
          <a:xfrm>
            <a:off x="88920" y="3851280"/>
            <a:ext cx="8964720" cy="93240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татична характеристика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об’єкта це залежність керованої величин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від задаючої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в усталеному режимі при постійному зовнішньому збуренні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кутник 81"/>
          <p:cNvSpPr/>
          <p:nvPr/>
        </p:nvSpPr>
        <p:spPr>
          <a:xfrm>
            <a:off x="88920" y="4859280"/>
            <a:ext cx="8964720" cy="274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татична характеристика описується рівнянням вид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окутник 81"/>
          <p:cNvSpPr/>
          <p:nvPr/>
        </p:nvSpPr>
        <p:spPr>
          <a:xfrm>
            <a:off x="88920" y="5184720"/>
            <a:ext cx="8964720" cy="1553760"/>
          </a:xfrm>
          <a:prstGeom prst="rect">
            <a:avLst/>
          </a:prstGeom>
          <a:solidFill>
            <a:srgbClr val="c3d69b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татичні характеристики об’єктів надзвичайно різні за формою, але якщо вони описуються рівнянням першого ступеня то вони є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інійними об’єктами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 Якщо рівняння має вищий степінь то вони  є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нелінійними об’єктами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Для спрощення їх досліджень проводять їх лінеаризаці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кутник 81"/>
          <p:cNvSpPr/>
          <p:nvPr/>
        </p:nvSpPr>
        <p:spPr>
          <a:xfrm>
            <a:off x="101520" y="539640"/>
            <a:ext cx="8964720" cy="9324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Динамічна характеристика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об’єкта це залежність керованої величин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довільного моменту часу від задаючої дії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t)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у перехідному режим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92"/>
          <p:cNvSpPr/>
          <p:nvPr/>
        </p:nvSpPr>
        <p:spPr>
          <a:xfrm>
            <a:off x="324000" y="158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МАТЕМАТИЧНІ МОДЕЛІ ОБ’ЄКТІВ АВТОМАТИЗАЦ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Line 93"/>
          <p:cNvSpPr/>
          <p:nvPr/>
        </p:nvSpPr>
        <p:spPr>
          <a:xfrm>
            <a:off x="324000" y="473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кутник 81"/>
          <p:cNvSpPr/>
          <p:nvPr/>
        </p:nvSpPr>
        <p:spPr>
          <a:xfrm>
            <a:off x="101520" y="1517760"/>
            <a:ext cx="8964720" cy="12430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Зв’язок між цими параметрами виражається диференціаль-ними рівняння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айповнішу уяву про динамічні властивості об’єкту дають передавальні функції та частотні характерис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кутник 81"/>
          <p:cNvSpPr/>
          <p:nvPr/>
        </p:nvSpPr>
        <p:spPr>
          <a:xfrm>
            <a:off x="88920" y="2830680"/>
            <a:ext cx="8964720" cy="93240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татичні та динамічні характеристики керованих об’єктів аналітичним шляхом можна отримати тільки для порівняно простих об’єкт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кутник 81"/>
          <p:cNvSpPr/>
          <p:nvPr/>
        </p:nvSpPr>
        <p:spPr>
          <a:xfrm>
            <a:off x="88920" y="3816360"/>
            <a:ext cx="8964720" cy="932400"/>
          </a:xfrm>
          <a:prstGeom prst="rect">
            <a:avLst/>
          </a:prstGeom>
          <a:solidFill>
            <a:srgbClr val="93cdd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Характеристики складних багато ємнісних об’єктів та об’єк-тів із розподіленими параметрами із огляду на складність або не-можливості аналітичного опису визначають експеримента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кутник 81"/>
          <p:cNvSpPr/>
          <p:nvPr/>
        </p:nvSpPr>
        <p:spPr>
          <a:xfrm>
            <a:off x="77760" y="4797360"/>
            <a:ext cx="8964720" cy="932400"/>
          </a:xfrm>
          <a:prstGeom prst="rect">
            <a:avLst/>
          </a:prstGeom>
          <a:solidFill>
            <a:srgbClr val="c4bd97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Експериментальні методи визначення властивостей об'єкту зводяться до побудови кривої розгону об'єкту і апроксимації її передавальною функцією, що зв'язує вихідну і вхідну велич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кутник 81"/>
          <p:cNvSpPr/>
          <p:nvPr/>
        </p:nvSpPr>
        <p:spPr>
          <a:xfrm>
            <a:off x="77760" y="5796000"/>
            <a:ext cx="8964720" cy="932400"/>
          </a:xfrm>
          <a:prstGeom prst="rect">
            <a:avLst/>
          </a:prstGeom>
          <a:solidFill>
            <a:srgbClr val="fdeada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Експериментально криву розгону об'єкту отримують шляхом дії на об'єкт ступінчастою вхідною дією і реєстрацією вихідної величини в час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кутник 81"/>
          <p:cNvSpPr/>
          <p:nvPr/>
        </p:nvSpPr>
        <p:spPr>
          <a:xfrm>
            <a:off x="101520" y="539640"/>
            <a:ext cx="8964720" cy="85464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кривою розгону об'єкту визначають статичні і динамічні пара-метри об'єкту: коефіцієнт передачі, постійну часу, час транспортного (чистого) запізню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92"/>
          <p:cNvSpPr/>
          <p:nvPr/>
        </p:nvSpPr>
        <p:spPr>
          <a:xfrm>
            <a:off x="324000" y="158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МАТЕМАТИЧНІ МОДЕЛІ ОБ’ЄКТІВ АВТОМАТИЗАЦ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93"/>
          <p:cNvSpPr/>
          <p:nvPr/>
        </p:nvSpPr>
        <p:spPr>
          <a:xfrm>
            <a:off x="324000" y="473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кутник 81"/>
          <p:cNvSpPr/>
          <p:nvPr/>
        </p:nvSpPr>
        <p:spPr>
          <a:xfrm>
            <a:off x="101520" y="1440000"/>
            <a:ext cx="4757760" cy="11394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Якщо часова хар-ка має вигляд експоненти то об’єкт можна опи-сати диференціальним рівнянням першого порядк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кутник 81"/>
          <p:cNvSpPr/>
          <p:nvPr/>
        </p:nvSpPr>
        <p:spPr>
          <a:xfrm>
            <a:off x="74520" y="3749760"/>
            <a:ext cx="4911840" cy="142416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Коефіцієнт підсилення об'єкт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ви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начають для лінійної ділянки розгінно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хар-ки, як відношення зміни вихідної в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личини до відповідної їй зміни вхідно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величини у усталеному режимі робо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Группа 40"/>
          <p:cNvGrpSpPr/>
          <p:nvPr/>
        </p:nvGrpSpPr>
        <p:grpSpPr>
          <a:xfrm>
            <a:off x="4861080" y="1116000"/>
            <a:ext cx="4182840" cy="4005360"/>
            <a:chOff x="4861080" y="1116000"/>
            <a:chExt cx="4182840" cy="4005360"/>
          </a:xfrm>
        </p:grpSpPr>
        <p:graphicFrame>
          <p:nvGraphicFramePr>
            <p:cNvPr id="344" name="Объект 38"/>
            <p:cNvGraphicFramePr/>
            <p:nvPr/>
          </p:nvGraphicFramePr>
          <p:xfrm>
            <a:off x="4861080" y="1150920"/>
            <a:ext cx="4182840" cy="397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5" name="Объект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61080" y="1150920"/>
                      <a:ext cx="4182840" cy="397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Прямоугольник 39"/>
            <p:cNvSpPr/>
            <p:nvPr/>
          </p:nvSpPr>
          <p:spPr>
            <a:xfrm>
              <a:off x="5962320" y="1116000"/>
              <a:ext cx="3055320" cy="36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400" spc="-1" strike="noStrike">
                  <a:solidFill>
                    <a:srgbClr val="000000"/>
                  </a:solidFill>
                  <a:latin typeface="Calibri"/>
                </a:rPr>
                <a:t>Крива розгону об'єкт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Объект 42"/>
              <p:cNvSpPr txBox="1"/>
              <p:nvPr/>
            </p:nvSpPr>
            <p:spPr>
              <a:xfrm>
                <a:off x="2684520" y="2276640"/>
                <a:ext cx="187308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Прямокутник 81"/>
          <p:cNvSpPr/>
          <p:nvPr/>
        </p:nvSpPr>
        <p:spPr>
          <a:xfrm>
            <a:off x="74520" y="3141720"/>
            <a:ext cx="4759560" cy="56988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і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– відповідно, постійна часу та коефіцієнт підсилення об’єк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кутник 81"/>
          <p:cNvSpPr/>
          <p:nvPr/>
        </p:nvSpPr>
        <p:spPr>
          <a:xfrm>
            <a:off x="74520" y="5227560"/>
            <a:ext cx="8964720" cy="840960"/>
          </a:xfrm>
          <a:prstGeom prst="rect">
            <a:avLst/>
          </a:prstGeom>
          <a:solidFill>
            <a:srgbClr val="b9cde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Постійну часу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находять як проекцію дотичної в точці найбільшої швидкості зміни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на вісь абсцис, що обмежена точками перетину до-тичної з лініями початкового і усталеного значень вихідної величи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кутник 81"/>
          <p:cNvSpPr/>
          <p:nvPr/>
        </p:nvSpPr>
        <p:spPr>
          <a:xfrm>
            <a:off x="74520" y="6103800"/>
            <a:ext cx="8964720" cy="64836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Час розгон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визначається інтервалом часу від початку вхідної дії до того моменту, коли вихідна величина досягає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5 у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ст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92"/>
          <p:cNvSpPr/>
          <p:nvPr/>
        </p:nvSpPr>
        <p:spPr>
          <a:xfrm>
            <a:off x="324000" y="158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МАТЕМАТИЧНІ МОДЕЛІ ОБ’ЄКТІВ АВТОМАТИЗАЦ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24000" y="473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Прямокутник 81"/>
          <p:cNvSpPr/>
          <p:nvPr/>
        </p:nvSpPr>
        <p:spPr>
          <a:xfrm>
            <a:off x="84240" y="582480"/>
            <a:ext cx="8975520" cy="8546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Підставивши знайдені значення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і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у рівняння та розв’язавши його, будують криву та порівнюють її з експериментальною, якщо розходже-ння не великі, то вважають рівняння часової характеристики надійни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кутник 81"/>
          <p:cNvSpPr/>
          <p:nvPr/>
        </p:nvSpPr>
        <p:spPr>
          <a:xfrm>
            <a:off x="108000" y="1484280"/>
            <a:ext cx="4336920" cy="199368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Якщо крива розгону починаєть-ся не одночасно з подачею вхідної дії, то об'єкт має також і транс-портне запізнювання, час якого ви-значається інтервалом від почат-ку появи вхідної дії до початку змі-ни вихідної величи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8" name="Объект 40"/>
          <p:cNvGraphicFramePr/>
          <p:nvPr/>
        </p:nvGraphicFramePr>
        <p:xfrm>
          <a:off x="4489560" y="1492200"/>
          <a:ext cx="45702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Объект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9560" y="1492200"/>
                    <a:ext cx="45702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Прямокутник 81"/>
          <p:cNvSpPr/>
          <p:nvPr/>
        </p:nvSpPr>
        <p:spPr>
          <a:xfrm>
            <a:off x="108000" y="3508200"/>
            <a:ext cx="4336920" cy="120456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Час транспортного запізнювання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визначається відрізк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(між моментом початку зміни зовніш-ньої дії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і початком змін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Прямокутник 81"/>
          <p:cNvSpPr/>
          <p:nvPr/>
        </p:nvSpPr>
        <p:spPr>
          <a:xfrm>
            <a:off x="84240" y="4716360"/>
            <a:ext cx="4360680" cy="146340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Час перехідного запізнювання (за перетином лінії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та дотич-ної до кривої розгону у точці макси-мальної швидкості – точці переги-ну О)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відповідає відрізк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Прямокутник 81"/>
          <p:cNvSpPr/>
          <p:nvPr/>
        </p:nvSpPr>
        <p:spPr>
          <a:xfrm>
            <a:off x="74520" y="6191280"/>
            <a:ext cx="8985240" cy="60912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В цьому випадку час повного запізнювання складається з часу перехід-ного і транспортного запізнювання згідно виразу: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 = τ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τ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92"/>
          <p:cNvSpPr/>
          <p:nvPr/>
        </p:nvSpPr>
        <p:spPr>
          <a:xfrm>
            <a:off x="324000" y="158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МАТЕМАТИЧНІ МОДЕЛІ ОБ’ЄКТІВ АВТОМАТИЗАЦ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Line 93"/>
          <p:cNvSpPr/>
          <p:nvPr/>
        </p:nvSpPr>
        <p:spPr>
          <a:xfrm>
            <a:off x="324000" y="4730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окутник 81"/>
          <p:cNvSpPr/>
          <p:nvPr/>
        </p:nvSpPr>
        <p:spPr>
          <a:xfrm>
            <a:off x="84240" y="582480"/>
            <a:ext cx="8975520" cy="9752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Коефіцієнт самовирівнювання це відношення величини зовніш-ньої дії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до викликаного нею максимального відхиленн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керо-ваної велич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Прямоугольник 38"/>
          <p:cNvSpPr/>
          <p:nvPr/>
        </p:nvSpPr>
        <p:spPr>
          <a:xfrm>
            <a:off x="2819160" y="1528920"/>
            <a:ext cx="167148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кутник 81"/>
          <p:cNvSpPr/>
          <p:nvPr/>
        </p:nvSpPr>
        <p:spPr>
          <a:xfrm>
            <a:off x="84240" y="2133720"/>
            <a:ext cx="8975520" cy="353880"/>
          </a:xfrm>
          <a:prstGeom prst="rect">
            <a:avLst/>
          </a:prstGeom>
          <a:solidFill>
            <a:srgbClr val="b9cde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Коефіцієнт підсилення об'єкт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ρ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Прямокутник 81"/>
          <p:cNvSpPr/>
          <p:nvPr/>
        </p:nvSpPr>
        <p:spPr>
          <a:xfrm>
            <a:off x="84240" y="2598840"/>
            <a:ext cx="8975520" cy="664560"/>
          </a:xfrm>
          <a:prstGeom prst="rect">
            <a:avLst/>
          </a:prstGeom>
          <a:solidFill>
            <a:srgbClr val="b9cde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Для об'єктів без самовирівнюванн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а час розго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, тоді рівняння і графік мають вигля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Объект 42"/>
              <p:cNvSpPr txBox="1"/>
              <p:nvPr/>
            </p:nvSpPr>
            <p:spPr>
              <a:xfrm>
                <a:off x="900000" y="3284640"/>
                <a:ext cx="11509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3" name="Picture 3" descr="лекцавт231"/>
          <p:cNvPicPr/>
          <p:nvPr/>
        </p:nvPicPr>
        <p:blipFill>
          <a:blip r:embed="rId1"/>
          <a:srcRect l="4483" t="5862" r="2242" b="0"/>
          <a:stretch/>
        </p:blipFill>
        <p:spPr>
          <a:xfrm>
            <a:off x="4427640" y="3225960"/>
            <a:ext cx="463212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2"/>
          <p:cNvSpPr/>
          <p:nvPr/>
        </p:nvSpPr>
        <p:spPr>
          <a:xfrm>
            <a:off x="98280" y="93600"/>
            <a:ext cx="89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ЗАГАЛЬНІ ВІДОМОСТІ ПРО ОБ’Є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кутник 132"/>
          <p:cNvSpPr/>
          <p:nvPr/>
        </p:nvSpPr>
        <p:spPr>
          <a:xfrm>
            <a:off x="98280" y="596880"/>
            <a:ext cx="8961480" cy="98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еровані об'єкти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є тими основними елементами системи автоматичного управління і регулювання, в яких за допомогою технічних засобів автоматиза-ції повинен здійснюватися заданий алгоритм функціонув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кутник 33"/>
          <p:cNvSpPr/>
          <p:nvPr/>
        </p:nvSpPr>
        <p:spPr>
          <a:xfrm>
            <a:off x="84240" y="5805360"/>
            <a:ext cx="8961480" cy="987120"/>
          </a:xfrm>
          <a:prstGeom prst="rect">
            <a:avLst/>
          </a:prstGeom>
          <a:solidFill>
            <a:srgbClr val="00b0f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Клас КО об'єднує різноманітні пристрої і технологічні системи сільськогос-подарського виробництва залежно від принципу дії, конструкції, габаритів, потужності і інших показник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кутник 132"/>
          <p:cNvSpPr/>
          <p:nvPr/>
        </p:nvSpPr>
        <p:spPr>
          <a:xfrm>
            <a:off x="98280" y="1628640"/>
            <a:ext cx="8961480" cy="1292040"/>
          </a:xfrm>
          <a:prstGeom prst="rect">
            <a:avLst/>
          </a:prstGeom>
          <a:solidFill>
            <a:srgbClr val="8eb4e3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Керованим об'єктом може бути машина або набір машин, призначених для виконання технологічного процесу, направленого на отримання певної продук-ції. До складу об'єкту може входити також і зовнішнє середовище, якщо воно робить істотний вплив на стан об'єк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кутник 132"/>
          <p:cNvSpPr/>
          <p:nvPr/>
        </p:nvSpPr>
        <p:spPr>
          <a:xfrm>
            <a:off x="84240" y="2987640"/>
            <a:ext cx="8961480" cy="267732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Технічні пристрої і процеси можуть бути керованими об'єктами, якщо їм властиві такі озна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у них відбувається перетворення, передача або накопичення енергії чи речови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вони мають регулюючий орган для зміни кількості енергії або речовини, що поступає в об'єк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надходження енергії або речовини змінює стан об'єкту, який характеризу-ється зміною одного або декількох параметрів, що визначають алгоритм функціонування об'єкту і складають мету керув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кутник 23"/>
          <p:cNvSpPr/>
          <p:nvPr/>
        </p:nvSpPr>
        <p:spPr>
          <a:xfrm>
            <a:off x="120600" y="4176720"/>
            <a:ext cx="8915400" cy="610200"/>
          </a:xfrm>
          <a:prstGeom prst="rect">
            <a:avLst/>
          </a:prstGeom>
          <a:solidFill>
            <a:srgbClr val="00b0f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ія на об'єкт може бути прикладеною, як на стороні надходження енергії або речовини, так і на виході. Дія на об'єкт може бути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еруючою або збурюючою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кутник 23"/>
          <p:cNvSpPr/>
          <p:nvPr/>
        </p:nvSpPr>
        <p:spPr>
          <a:xfrm>
            <a:off x="87480" y="4859280"/>
            <a:ext cx="8915400" cy="518040"/>
          </a:xfrm>
          <a:prstGeom prst="rect">
            <a:avLst/>
          </a:prstGeom>
          <a:solidFill>
            <a:srgbClr val="e6b9b8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Керуюча дія породжується операціями управління, які прагнуть наблизити процес до заданого режиму робо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кутник 33"/>
          <p:cNvSpPr/>
          <p:nvPr/>
        </p:nvSpPr>
        <p:spPr>
          <a:xfrm>
            <a:off x="109440" y="617400"/>
            <a:ext cx="8910720" cy="3426480"/>
          </a:xfrm>
          <a:prstGeom prst="rect">
            <a:avLst/>
          </a:prstGeom>
          <a:solidFill>
            <a:srgbClr val="ffc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о найрозповсюдженіших об’єктів сільськогосподарського виробництва віднося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Теплові пристрої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(теплогенератори, водонагрівачі, калорифери, електро-печі, котлові пристрої, обігрівачі та ін.) у яких звичайно необхідно керувати температурою, подачею повітря, палива або енергії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омплекси з виробництва, переробки та зберігання продукції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(тваринниць-кі приміщення, овочесховища, парники та теплиці, зерносушарки та ін.) де необхідно одночасно керувати температурою, вологістю, загазованіст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Мобільні сільськогосподарські машини і агрегати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(трактори, комбайни, сівалки, плуги та ін.) у яких звичайно необхідно керувати швидкістю, тра-єкторією руху, продуктивністю та і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92"/>
          <p:cNvSpPr/>
          <p:nvPr/>
        </p:nvSpPr>
        <p:spPr>
          <a:xfrm>
            <a:off x="98280" y="93600"/>
            <a:ext cx="89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ЗАГАЛЬНІ ВІДОМОСТІ ПРО ОБ’Є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кутник 23"/>
          <p:cNvSpPr/>
          <p:nvPr/>
        </p:nvSpPr>
        <p:spPr>
          <a:xfrm>
            <a:off x="87480" y="5472000"/>
            <a:ext cx="8915400" cy="1294560"/>
          </a:xfrm>
          <a:prstGeom prst="rect">
            <a:avLst/>
          </a:prstGeom>
          <a:solidFill>
            <a:srgbClr val="ebf1de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Збурюючі дії, навпаки, прагнуть віддалити процес від заданого значення показників режиму і вивести його із усталеного режиму. Збурення, як правило, є випадковими діями, породжуваними внутрішніми або зовнішніми чинниками, основним з яких є навантаження. Тому керуюча дія, направлена у бік компенса-ції дії збурень на керований об'є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кутник 18"/>
          <p:cNvSpPr/>
          <p:nvPr/>
        </p:nvSpPr>
        <p:spPr>
          <a:xfrm>
            <a:off x="79200" y="620640"/>
            <a:ext cx="8928360" cy="610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Керовані об'єкти володіють певними властивостями, які впливають на ефект керування, головними з них є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кутник 18"/>
          <p:cNvSpPr/>
          <p:nvPr/>
        </p:nvSpPr>
        <p:spPr>
          <a:xfrm>
            <a:off x="69840" y="2565360"/>
            <a:ext cx="8928000" cy="610200"/>
          </a:xfrm>
          <a:prstGeom prst="rect">
            <a:avLst/>
          </a:prstGeom>
          <a:solidFill>
            <a:srgbClr val="b9cde5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Акумулювальна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здатність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, це здатність об'єкту накопичувати енергію або речовину, яка істотно впливає на його регулювальні властив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кутник 18"/>
          <p:cNvSpPr/>
          <p:nvPr/>
        </p:nvSpPr>
        <p:spPr>
          <a:xfrm>
            <a:off x="69840" y="3933720"/>
            <a:ext cx="8937720" cy="915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Чим більша ємність об'єкту, тим повільніше змінюється керована вели-чина при збурюючих діях і навпаки, чим менша ємність об'єкту, тим він чутли-віший до збурюючих ді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кутник 18"/>
          <p:cNvSpPr/>
          <p:nvPr/>
        </p:nvSpPr>
        <p:spPr>
          <a:xfrm>
            <a:off x="42840" y="4941720"/>
            <a:ext cx="8964720" cy="915120"/>
          </a:xfrm>
          <a:prstGeom prst="rect">
            <a:avLst/>
          </a:prstGeom>
          <a:solidFill>
            <a:srgbClr val="00b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ля оцінки впливу ємності на зміну керованої величини служить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коефіцієнт ємності, - це та кількість енергії або речовини, яку необхідно підвести до об’єкту або видалити з нього, щоб змінити керовану величину на одиницю вимір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кутник 18"/>
          <p:cNvSpPr/>
          <p:nvPr/>
        </p:nvSpPr>
        <p:spPr>
          <a:xfrm>
            <a:off x="2124000" y="6219720"/>
            <a:ext cx="6624720" cy="30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С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- ємність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об'єкту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– значення керованої величи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Прямокутник 18" descr=""/>
          <p:cNvPicPr/>
          <p:nvPr/>
        </p:nvPicPr>
        <p:blipFill>
          <a:blip r:embed="rId1"/>
          <a:stretch/>
        </p:blipFill>
        <p:spPr>
          <a:xfrm>
            <a:off x="-36360" y="1158840"/>
            <a:ext cx="9047160" cy="14511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кутник 18"/>
          <p:cNvSpPr/>
          <p:nvPr/>
        </p:nvSpPr>
        <p:spPr>
          <a:xfrm>
            <a:off x="69840" y="3240000"/>
            <a:ext cx="8928000" cy="610200"/>
          </a:xfrm>
          <a:prstGeom prst="rect">
            <a:avLst/>
          </a:prstGeom>
          <a:solidFill>
            <a:srgbClr val="ebf1de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Акумулювальну здатність оцінюють за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ємністю 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об'єкту, під якою розумі-ють запас енергії або речовини, що накопичена в об’єкті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325800" y="6027840"/>
            <a:ext cx="163296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i="1" lang="uk-UA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/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1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кутник 6"/>
          <p:cNvSpPr/>
          <p:nvPr/>
        </p:nvSpPr>
        <p:spPr>
          <a:xfrm>
            <a:off x="104760" y="617400"/>
            <a:ext cx="4898880" cy="3661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Керовані об’єкти можуть бу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кутник 6"/>
          <p:cNvSpPr/>
          <p:nvPr/>
        </p:nvSpPr>
        <p:spPr>
          <a:xfrm>
            <a:off x="104760" y="2205000"/>
            <a:ext cx="5762520" cy="1463400"/>
          </a:xfrm>
          <a:prstGeom prst="rect">
            <a:avLst/>
          </a:prstGeom>
          <a:solidFill>
            <a:srgbClr val="fcd5b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б’єкти із дуже малою ємністю відносять до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ез ємнісних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(наприклад трубопроводи), у них керована величина змінюється практично миттє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кутник 6"/>
          <p:cNvSpPr/>
          <p:nvPr/>
        </p:nvSpPr>
        <p:spPr>
          <a:xfrm>
            <a:off x="3665520" y="4508640"/>
            <a:ext cx="5299200" cy="1829160"/>
          </a:xfrm>
          <a:prstGeom prst="rect">
            <a:avLst/>
          </a:prstGeom>
          <a:solidFill>
            <a:srgbClr val="8eb4e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дноємнісними є такі об’єкти у яких порушення рівноваги між подачею і ви-тратою речовини викликає одночасну та однакову зміну керованої величини в усіх його точках)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Объект 2"/>
          <p:cNvGraphicFramePr/>
          <p:nvPr/>
        </p:nvGraphicFramePr>
        <p:xfrm>
          <a:off x="5867280" y="615960"/>
          <a:ext cx="3111480" cy="33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615960"/>
                    <a:ext cx="311148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Объект 4"/>
          <p:cNvGraphicFramePr/>
          <p:nvPr/>
        </p:nvGraphicFramePr>
        <p:xfrm>
          <a:off x="123840" y="3733920"/>
          <a:ext cx="3152880" cy="306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3733920"/>
                    <a:ext cx="31528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кутник 6"/>
          <p:cNvSpPr/>
          <p:nvPr/>
        </p:nvSpPr>
        <p:spPr>
          <a:xfrm>
            <a:off x="104760" y="1009800"/>
            <a:ext cx="3083040" cy="10976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езємнісни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дноємнісни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багатоємнісним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кутник 11"/>
          <p:cNvSpPr/>
          <p:nvPr/>
        </p:nvSpPr>
        <p:spPr>
          <a:xfrm>
            <a:off x="115920" y="2924280"/>
            <a:ext cx="8920080" cy="2175120"/>
          </a:xfrm>
          <a:prstGeom prst="rect">
            <a:avLst/>
          </a:prstGeom>
          <a:solidFill>
            <a:srgbClr val="d7e4bd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амовирівнювання об'єк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ту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це його здатність самос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тійно (без участі регулят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ра) приймати нове устал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значення керованої величини при зміні керуючої чи збурюючої дії (відновлювати рівновагу між подачею та витратою енергії чи речовин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кутник 11"/>
          <p:cNvSpPr/>
          <p:nvPr/>
        </p:nvSpPr>
        <p:spPr>
          <a:xfrm>
            <a:off x="93600" y="5229360"/>
            <a:ext cx="6639120" cy="311040"/>
          </a:xfrm>
          <a:prstGeom prst="rect">
            <a:avLst/>
          </a:prstGeom>
          <a:solidFill>
            <a:srgbClr val="8eb4e3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Цією властивістю володіють не всі об'єк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кутник 6"/>
          <p:cNvSpPr/>
          <p:nvPr/>
        </p:nvSpPr>
        <p:spPr>
          <a:xfrm>
            <a:off x="115920" y="627120"/>
            <a:ext cx="3879720" cy="2194920"/>
          </a:xfrm>
          <a:prstGeom prst="rect">
            <a:avLst/>
          </a:prstGeom>
          <a:solidFill>
            <a:srgbClr val="e6b9b8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агатоємнісних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об’єк-тів ця зміна не одночасна і не однакова, завдяки наяв-ності опору для перетікан-ня речовини або енергії із однієї ємності в інш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Объект 18"/>
          <p:cNvGraphicFramePr/>
          <p:nvPr/>
        </p:nvGraphicFramePr>
        <p:xfrm>
          <a:off x="3995640" y="617400"/>
          <a:ext cx="5067360" cy="34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Объект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617400"/>
                    <a:ext cx="5067360" cy="34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Прямокутник 11"/>
          <p:cNvSpPr/>
          <p:nvPr/>
        </p:nvSpPr>
        <p:spPr>
          <a:xfrm>
            <a:off x="93600" y="5589720"/>
            <a:ext cx="8942400" cy="621720"/>
          </a:xfrm>
          <a:prstGeom prst="rect">
            <a:avLst/>
          </a:prstGeom>
          <a:solidFill>
            <a:srgbClr val="92d050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б’єкти без самовирів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характерні тим, що порушена внаслідок дії збурення рівновага самостійно не відновлює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кутник 11"/>
          <p:cNvSpPr/>
          <p:nvPr/>
        </p:nvSpPr>
        <p:spPr>
          <a:xfrm>
            <a:off x="90360" y="6265800"/>
            <a:ext cx="6426360" cy="311040"/>
          </a:xfrm>
          <a:prstGeom prst="rect">
            <a:avLst/>
          </a:prstGeom>
          <a:solidFill>
            <a:srgbClr val="00b0f0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Такі об’єкти важко піддаються керуванн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кутник 6"/>
          <p:cNvSpPr/>
          <p:nvPr/>
        </p:nvSpPr>
        <p:spPr>
          <a:xfrm>
            <a:off x="108000" y="642960"/>
            <a:ext cx="8928000" cy="6217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б’єкти без самовирів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називаються астатичними і описуються інтегруючою ланко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кутник 6"/>
          <p:cNvSpPr/>
          <p:nvPr/>
        </p:nvSpPr>
        <p:spPr>
          <a:xfrm>
            <a:off x="108000" y="1322280"/>
            <a:ext cx="8928000" cy="621720"/>
          </a:xfrm>
          <a:prstGeom prst="rect">
            <a:avLst/>
          </a:prstGeom>
          <a:solidFill>
            <a:srgbClr val="ccc1da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б'єкти із самовирівнюванням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азиваються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татичними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 описуються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аперіодичною ланк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кутник 6"/>
          <p:cNvSpPr/>
          <p:nvPr/>
        </p:nvSpPr>
        <p:spPr>
          <a:xfrm>
            <a:off x="108000" y="1989000"/>
            <a:ext cx="8928000" cy="62172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б'єкти з негативним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амовирів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 і без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амовирів-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не можуть працювати без автоматичних регулятор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кутник 6"/>
          <p:cNvSpPr/>
          <p:nvPr/>
        </p:nvSpPr>
        <p:spPr>
          <a:xfrm>
            <a:off x="93600" y="2708280"/>
            <a:ext cx="8928000" cy="621720"/>
          </a:xfrm>
          <a:prstGeom prst="rect">
            <a:avLst/>
          </a:prstGeom>
          <a:solidFill>
            <a:srgbClr val="fac09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Тому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амовирів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- одна з найважливіших властивостей об'єктів, що визначає ефективність кер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кутник 6"/>
          <p:cNvSpPr/>
          <p:nvPr/>
        </p:nvSpPr>
        <p:spPr>
          <a:xfrm>
            <a:off x="93600" y="3429000"/>
            <a:ext cx="8928000" cy="62172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еханізм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амовирів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пояснюється наявністю зворот-ного зв'язку усередині об'єкту, що може носити різний характ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кутник 6"/>
          <p:cNvSpPr/>
          <p:nvPr/>
        </p:nvSpPr>
        <p:spPr>
          <a:xfrm>
            <a:off x="85680" y="4149720"/>
            <a:ext cx="8929800" cy="1243080"/>
          </a:xfrm>
          <a:prstGeom prst="rect">
            <a:avLst/>
          </a:prstGeom>
          <a:solidFill>
            <a:srgbClr val="c3d69b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Якщо зміну вихідної величини об'єкту викликає дія внутрішніх сил, що зменшують зовнішню дію аналогічно негативному звор-тному зв'язку, то такий об'єкт характеризується позитивним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амовирів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 і є стійким статичним об'єктом (ДВЗ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кутник 6"/>
          <p:cNvSpPr/>
          <p:nvPr/>
        </p:nvSpPr>
        <p:spPr>
          <a:xfrm>
            <a:off x="71280" y="5516640"/>
            <a:ext cx="8929800" cy="1243080"/>
          </a:xfrm>
          <a:prstGeom prst="rect">
            <a:avLst/>
          </a:prstGeom>
          <a:solidFill>
            <a:srgbClr val="ddd9c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Якщо зміна вихідної величини об'єкту викликає дії, що підсилю-ють зовнішні дії аналогічно позитивному зворотному зв'язку, то такий об'єкт характеризується негативним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амовирівнюван-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 і є нестійким статичним об'єктом (Серієсний двигу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кутник 6"/>
          <p:cNvSpPr/>
          <p:nvPr/>
        </p:nvSpPr>
        <p:spPr>
          <a:xfrm>
            <a:off x="119160" y="617400"/>
            <a:ext cx="8916840" cy="10976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Запіз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- це властивість об'єкту при якій зміна його ви-хідної величини настає не одночасно з початком зміни керуючої або збурюючої д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кутник 81"/>
          <p:cNvSpPr/>
          <p:nvPr/>
        </p:nvSpPr>
        <p:spPr>
          <a:xfrm>
            <a:off x="119160" y="4152960"/>
            <a:ext cx="8905680" cy="731880"/>
          </a:xfrm>
          <a:prstGeom prst="rect">
            <a:avLst/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хідне запіз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визначається, як проміжок часу від моменту появи збурення до початку зміни керованої велич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кутник 81"/>
          <p:cNvSpPr/>
          <p:nvPr/>
        </p:nvSpPr>
        <p:spPr>
          <a:xfrm>
            <a:off x="109440" y="4967280"/>
            <a:ext cx="8947080" cy="1463400"/>
          </a:xfrm>
          <a:prstGeom prst="rect">
            <a:avLst/>
          </a:prstGeom>
          <a:solidFill>
            <a:srgbClr val="c6d9f1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Перехідне запізнювання негативно впливає на процес керування. Так для підігрівача перехідним запізнюванням буде час від момен-ту зміни подачі теплоносія до моменту зміни температури стін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кутник 6"/>
          <p:cNvSpPr/>
          <p:nvPr/>
        </p:nvSpPr>
        <p:spPr>
          <a:xfrm>
            <a:off x="108000" y="1800360"/>
            <a:ext cx="8916840" cy="731880"/>
          </a:xfrm>
          <a:prstGeom prst="rect">
            <a:avLst/>
          </a:prstGeom>
          <a:solidFill>
            <a:srgbClr val="b9cde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Залежно від чинників, що зумовлюють запізнювання, розрізня-ють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хідне та транспортне запізн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кутник 6"/>
          <p:cNvSpPr/>
          <p:nvPr/>
        </p:nvSpPr>
        <p:spPr>
          <a:xfrm>
            <a:off x="119160" y="2589120"/>
            <a:ext cx="8905680" cy="1463400"/>
          </a:xfrm>
          <a:prstGeom prst="rect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хідне запізнювання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– є наслідком наявності різних опорів переходу речовини із однієї ємності в іншу або перетворення ене-ргії із одного стану в інший і завжди спостерігаються у об’єктів з великою масою, індуктивністю або ємніст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кутник 81"/>
          <p:cNvSpPr/>
          <p:nvPr/>
        </p:nvSpPr>
        <p:spPr>
          <a:xfrm>
            <a:off x="125280" y="3716280"/>
            <a:ext cx="8893440" cy="109764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собливо шкідливе запізнювання для об’єктів без самовирів-нювання, наприклад двигун постійного струму з послідовним збудженням, коли йде у «рознос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кутник 6"/>
          <p:cNvSpPr/>
          <p:nvPr/>
        </p:nvSpPr>
        <p:spPr>
          <a:xfrm>
            <a:off x="108000" y="614520"/>
            <a:ext cx="8916840" cy="14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Транспортне запізнювання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ластиве тим об’єктам у яких між регулюючим органом та входом об’єкта є передавальні ка-нали (трубопроводи, теплопроводи, транспортери та ін.) для проходження яких необхідний певний ча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кутник 81"/>
          <p:cNvSpPr/>
          <p:nvPr/>
        </p:nvSpPr>
        <p:spPr>
          <a:xfrm>
            <a:off x="127080" y="2151000"/>
            <a:ext cx="8913600" cy="14634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Різним об’єктам властиві різні запізнювання, так одноємнісні об’єкти мають тільки транспортне запізнювання, багатоємніс-ні і транспортне і перехідне запізнювання, а в безємнісних об’єк-тів запізнювання не має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кутник 81"/>
          <p:cNvSpPr/>
          <p:nvPr/>
        </p:nvSpPr>
        <p:spPr>
          <a:xfrm>
            <a:off x="136440" y="4941720"/>
            <a:ext cx="8893440" cy="10976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Час розгону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астатичного об'єкту визначає час, за який вихідна величина досягне деякого заданого значення при постійній вели-чині д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92"/>
          <p:cNvSpPr/>
          <p:nvPr/>
        </p:nvSpPr>
        <p:spPr>
          <a:xfrm>
            <a:off x="324000" y="936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ГОЛОВНІ ВЛАСТИВОСТІ КЕРОВАНИХ ОБ’Є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8:44:46Z</dcterms:created>
  <dc:creator>Master</dc:creator>
  <dc:description/>
  <dc:language>en-US</dc:language>
  <cp:lastModifiedBy>Master</cp:lastModifiedBy>
  <dcterms:modified xsi:type="dcterms:W3CDTF">2021-04-02T04:55:29Z</dcterms:modified>
  <cp:revision>109</cp:revision>
  <dc:subject/>
  <dc:title>Презентация PowerPoint</dc:title>
</cp:coreProperties>
</file>