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ABE-57A2-4312-A75E-A9D47BA9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357-D9D5-4F0C-B1B3-16177483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F0F-E860-4BCA-8E2F-1639E258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EE8-6A07-4248-90DD-E1079E63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E94-3FC7-4FF5-811D-00ABEC37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4B2-4E0B-46AD-95B7-416DB0E5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400-D816-4657-ADAB-02D257E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39A-938E-4B2A-97C8-A9505D7C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099-1A8E-41AC-8531-FEFAD9EF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23D-CCF5-439C-A2F9-FE71EA60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2EC-C6A1-454B-A163-6A11AF6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B44-411F-46BF-990C-B869F34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8F33-3CF1-47BE-906F-3C5F9DD43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ПРИВОДНІ ХАРАКТЕРИСТИКИ СІЛЬСЬКОГОСПОДАРСЬК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одержимое 2"/>
          <p:cNvSpPr/>
          <p:nvPr/>
        </p:nvSpPr>
        <p:spPr>
          <a:xfrm>
            <a:off x="108000" y="1125360"/>
            <a:ext cx="8928000" cy="5616720"/>
          </a:xfrm>
          <a:prstGeom prst="rect">
            <a:avLst/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e46c0a"/>
                </a:solidFill>
                <a:latin typeface="Calibri"/>
              </a:rPr>
              <a:t>1. Роль вітчизняних вчених у розвитку електрифікації сільськогосподарського виробниц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2. Особливості роботи електрообладнання в умовах сільськогосподарського виробниц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3. Електропривод та його елемен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46c0a"/>
                </a:solidFill>
                <a:latin typeface="Calibri"/>
              </a:rPr>
              <a:t>4. </a:t>
            </a:r>
            <a:r>
              <a:rPr b="0" i="1" lang="uk-UA" sz="2000" spc="-1" strike="noStrike">
                <a:solidFill>
                  <a:srgbClr val="e46c0a"/>
                </a:solidFill>
                <a:latin typeface="Calibri"/>
              </a:rPr>
              <a:t>Класифікація електропривод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5. Приводні характеристики сільськогосподарських маш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6. Механічні характеристики робочих маш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7. Механічні характеристики електродвигун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1. Електропривод: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Навчальний посібник/ О.ІО. Синявський, П.І. Савченко, В.В. Савченко, Ю.М. Лавріненко, В.В. Козирський, Ю.М. Хандола, І.П. Ільїчов; За ред. О.Ю. Синявського. - К.: Аграр Медіа Груп, 2013.-586 с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SBN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 978-617-646-201-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2. Електропривод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: підруч. для вузів. Ч.1/О.С. Марченко, Ю.М. Лавріненко, П.І. Савченко, Є.Л. Жулай; за ред. О.С. Марченка. – К. : Урожай, 1995. – 207 c.. – ISBN 5-337-01695-4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3. Електропривод сільськогосподарських машин, агрегатів та потокових ліній: Підруч. / Є.Л. Жулай, Б.В.Зайцев, О.С.Марченко та ін.; Ред. Є.Л. Жулай. – К. : Вища освіта, 2001. – 288 c.. – ISBN 966-95995-2-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Класифікація електропри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кутник 6"/>
          <p:cNvSpPr/>
          <p:nvPr/>
        </p:nvSpPr>
        <p:spPr>
          <a:xfrm>
            <a:off x="81000" y="476280"/>
            <a:ext cx="8937720" cy="142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озрізняють два види взаємозв'язаних електро­двигунів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багатодвигунн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в яких електродвигуни і пристрої працюють разом на загальний ва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електричні вал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в яких забезпечується синхронне обертання двох ї більше електродвигунів, вали яких не мають механічного зв'яз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кутник 6"/>
          <p:cNvSpPr/>
          <p:nvPr/>
        </p:nvSpPr>
        <p:spPr>
          <a:xfrm>
            <a:off x="84240" y="1955880"/>
            <a:ext cx="8935920" cy="170892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рівнем автоматизації керув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автоматизовані, усі опера­ції керування якими виконуються з участю люд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матизовані, у яких людина бере участь у створен­ні лише початкової керуючої дії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матичні, у яких керування здійснюється без участі люд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кутник 6"/>
          <p:cNvSpPr/>
          <p:nvPr/>
        </p:nvSpPr>
        <p:spPr>
          <a:xfrm>
            <a:off x="87480" y="3710160"/>
            <a:ext cx="8937360" cy="1139400"/>
          </a:xfrm>
          <a:prstGeom prst="rect">
            <a:avLst/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видом перетворювального пристро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ентиль­н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трансформаторн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системою генератор - двигун та і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кутник 6"/>
          <p:cNvSpPr/>
          <p:nvPr/>
        </p:nvSpPr>
        <p:spPr>
          <a:xfrm>
            <a:off x="87480" y="4941720"/>
            <a:ext cx="8937360" cy="1708920"/>
          </a:xfrm>
          <a:prstGeom prst="rect">
            <a:avLst/>
          </a:prstGeom>
          <a:solidFill>
            <a:srgbClr val="ddd9c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родом механічного передавального пристрою роз­різняю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едукторний електроприво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без редуктор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вод з варіатор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пасовою передаче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фрикційною муфто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Класифікація електропри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кутник 6"/>
          <p:cNvSpPr/>
          <p:nvPr/>
        </p:nvSpPr>
        <p:spPr>
          <a:xfrm>
            <a:off x="81000" y="476280"/>
            <a:ext cx="8937720" cy="182916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а родом струм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приводи постійного струму, в яких рушійними пристроями є електродвигуни постійного струму (незалежного, послідовного та змішаного збудже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приводи змінного стр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кутник 6"/>
          <p:cNvSpPr/>
          <p:nvPr/>
        </p:nvSpPr>
        <p:spPr>
          <a:xfrm>
            <a:off x="84240" y="2421000"/>
            <a:ext cx="8935920" cy="146340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різняють два види електропри­водів змінного стру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синхронн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де рушійними пристроями є асинхронні електродвигу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инхронні,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 яких рушійними пристроями є синх­ронні двигу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кутник 3"/>
          <p:cNvSpPr/>
          <p:nvPr/>
        </p:nvSpPr>
        <p:spPr>
          <a:xfrm>
            <a:off x="108000" y="0"/>
            <a:ext cx="8928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Приводні характеристики сільськогосподарськ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кутник 6"/>
          <p:cNvSpPr/>
          <p:nvPr/>
        </p:nvSpPr>
        <p:spPr>
          <a:xfrm>
            <a:off x="81000" y="738360"/>
            <a:ext cx="8937720" cy="6706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Характеристики робочої машини, які впливають на вибір і роботу її приводу називаються –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риводни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До них відносятьс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кутник 6"/>
          <p:cNvSpPr/>
          <p:nvPr/>
        </p:nvSpPr>
        <p:spPr>
          <a:xfrm>
            <a:off x="125280" y="2536920"/>
            <a:ext cx="8937720" cy="201132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Технологічні характеристик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ідображають специфіку даного техно-логічного процесу, визначають вимоги до електроприводу з точки зору якості продукції та умови роботи електроприводу залежно від характеру навколишнього середовища, роду приміщ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они звичайно подаються у вигляді технологічної схеми, у якій вказується послідовність виконання головних операці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кутник 6"/>
          <p:cNvSpPr/>
          <p:nvPr/>
        </p:nvSpPr>
        <p:spPr>
          <a:xfrm>
            <a:off x="900000" y="1434960"/>
            <a:ext cx="2097360" cy="100584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ехнологічні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інематичні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енергетичні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кутник 6"/>
          <p:cNvSpPr/>
          <p:nvPr/>
        </p:nvSpPr>
        <p:spPr>
          <a:xfrm>
            <a:off x="4284720" y="1428840"/>
            <a:ext cx="4390920" cy="109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еханічн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нерційн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вантажувальні діа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кутник 6"/>
          <p:cNvSpPr/>
          <p:nvPr/>
        </p:nvSpPr>
        <p:spPr>
          <a:xfrm>
            <a:off x="125280" y="4653000"/>
            <a:ext cx="8937720" cy="2011320"/>
          </a:xfrm>
          <a:prstGeom prst="rect">
            <a:avLst/>
          </a:prstGeom>
          <a:solidFill>
            <a:srgbClr val="e6b9b8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Кінематичні характеристик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ідображають послідовність переда-вання руху від двигуна до виконавчого органу робочої машини, швидкісні режими та траєкторії руху окремих механізмі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Їх зображують у вигляді кінематичних схем, де вказують типи передач, передавальні числа та іншу інформацію необхідну для проектування маш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кутник 3"/>
          <p:cNvSpPr/>
          <p:nvPr/>
        </p:nvSpPr>
        <p:spPr>
          <a:xfrm>
            <a:off x="108000" y="0"/>
            <a:ext cx="8928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Приводні характеристики сільськогосподарськ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кутник 6"/>
          <p:cNvSpPr/>
          <p:nvPr/>
        </p:nvSpPr>
        <p:spPr>
          <a:xfrm>
            <a:off x="81000" y="738360"/>
            <a:ext cx="5067360" cy="167616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Енергетичні характеристик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ідображають загальну та питому енергоємність технологічного процесу, а також розподіл енергії між окремими вузлами машини, місця втрати енергії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кутник 6"/>
          <p:cNvSpPr/>
          <p:nvPr/>
        </p:nvSpPr>
        <p:spPr>
          <a:xfrm>
            <a:off x="98280" y="2484360"/>
            <a:ext cx="5050080" cy="2546280"/>
          </a:xfrm>
          <a:prstGeom prst="rect">
            <a:avLst/>
          </a:prstGeom>
          <a:solidFill>
            <a:srgbClr val="e6e0e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 енергетичними характеристиками машини можна визначити такі її визначальні параметри як коефіцієнт корисної дії та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птимальна кутова швидкість машин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кутова швидкість робочого валу машини при якій вона споживає найменше електроенергії на одиницю виробленої продукції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148360" y="784080"/>
            <a:ext cx="3887640" cy="42832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кутник 6"/>
          <p:cNvSpPr/>
          <p:nvPr/>
        </p:nvSpPr>
        <p:spPr>
          <a:xfrm>
            <a:off x="98280" y="5111640"/>
            <a:ext cx="8937720" cy="6706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Інерційні характеристик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изначають величину та характер зміни моменту інерції рухомих частин маш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кутник 6"/>
          <p:cNvSpPr/>
          <p:nvPr/>
        </p:nvSpPr>
        <p:spPr>
          <a:xfrm>
            <a:off x="98280" y="5832360"/>
            <a:ext cx="8937720" cy="904320"/>
          </a:xfrm>
          <a:prstGeom prst="rect">
            <a:avLst/>
          </a:prstGeom>
          <a:solidFill>
            <a:srgbClr val="b7dee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машинах з обертовим рухом робочих органів момент інерції величина постійна. В машинах зі складним рухом робочих органів момент інерції величина змінна (кривошипи, куліси, поршневі механізми та ін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кутник 3"/>
          <p:cNvSpPr/>
          <p:nvPr/>
        </p:nvSpPr>
        <p:spPr>
          <a:xfrm>
            <a:off x="108000" y="0"/>
            <a:ext cx="8928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Приводні характеристики сільськогосподарськ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кутник 6"/>
          <p:cNvSpPr/>
          <p:nvPr/>
        </p:nvSpPr>
        <p:spPr>
          <a:xfrm>
            <a:off x="81000" y="738360"/>
            <a:ext cx="4922640" cy="1541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авантажувальні діагра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машин – це залежність моменту опору -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по-тужності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ашини та кутової швидкості її робочого валу –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ід час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кутник 6"/>
          <p:cNvSpPr/>
          <p:nvPr/>
        </p:nvSpPr>
        <p:spPr>
          <a:xfrm>
            <a:off x="81000" y="1943280"/>
            <a:ext cx="4922640" cy="5698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они відображають характер та режим роботи електроприв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кутник 6"/>
          <p:cNvSpPr/>
          <p:nvPr/>
        </p:nvSpPr>
        <p:spPr>
          <a:xfrm>
            <a:off x="81000" y="2603520"/>
            <a:ext cx="4922640" cy="854640"/>
          </a:xfrm>
          <a:prstGeom prst="rect">
            <a:avLst/>
          </a:prstGeom>
          <a:solidFill>
            <a:srgbClr val="b9cde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авантаження робочої машини мо-же бути рівномірним та нерівномір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кутник 6"/>
          <p:cNvSpPr/>
          <p:nvPr/>
        </p:nvSpPr>
        <p:spPr>
          <a:xfrm>
            <a:off x="81000" y="3193920"/>
            <a:ext cx="4922640" cy="1339560"/>
          </a:xfrm>
          <a:prstGeom prst="rect">
            <a:avLst/>
          </a:prstGeom>
          <a:solidFill>
            <a:srgbClr val="ebf1de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рівномірни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навантаженням (1) п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цюють вентилятори, відцентрові насо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постійних продуктивності та напорі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ернові елеватори, коли у них незмін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дача та кутова швидкість, сепарато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032360" cy="3891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кутник 6"/>
          <p:cNvSpPr/>
          <p:nvPr/>
        </p:nvSpPr>
        <p:spPr>
          <a:xfrm>
            <a:off x="81000" y="4572000"/>
            <a:ext cx="8955000" cy="803880"/>
          </a:xfrm>
          <a:prstGeom prst="rect">
            <a:avLst/>
          </a:prstGeom>
          <a:solidFill>
            <a:srgbClr val="fcd5b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ерівномірни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навантаженням (2) працюють машини у які перероблю-вану сировину подають нерівномірно, а також машини, у яких швидкість робочих органів змін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кутник 6"/>
          <p:cNvSpPr/>
          <p:nvPr/>
        </p:nvSpPr>
        <p:spPr>
          <a:xfrm>
            <a:off x="92160" y="5400720"/>
            <a:ext cx="8955000" cy="1339560"/>
          </a:xfrm>
          <a:prstGeom prst="rect">
            <a:avLst/>
          </a:prstGeom>
          <a:solidFill>
            <a:srgbClr val="ddd9c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 навантажувальними діаграмами можна зробити висновок про необ-хідність застосування маховиків у приводах машин, які запасають кінетич-ну енергію при мінімальних навантаженнях машини і витрачають її при пікових навантаженнях, що дозволяє використовувати для приводу даних машин двигуни меншої встановленої потужност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робоч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кутник 6"/>
          <p:cNvSpPr/>
          <p:nvPr/>
        </p:nvSpPr>
        <p:spPr>
          <a:xfrm>
            <a:off x="81000" y="1125360"/>
            <a:ext cx="8955000" cy="893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Механічною характеристикою робочої машини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азивають залеж-ність моменту статичних опорів від кутової швидкос­ті її приводного вала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ω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кутник 6"/>
          <p:cNvSpPr/>
          <p:nvPr/>
        </p:nvSpPr>
        <p:spPr>
          <a:xfrm>
            <a:off x="95400" y="484200"/>
            <a:ext cx="8955000" cy="5698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йважливішими з приводних характеристик і робочих машин є їх механічні характерис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кутник 6"/>
          <p:cNvSpPr/>
          <p:nvPr/>
        </p:nvSpPr>
        <p:spPr>
          <a:xfrm>
            <a:off x="81000" y="2006640"/>
            <a:ext cx="5556240" cy="569880"/>
          </a:xfrm>
          <a:prstGeom prst="rect">
            <a:avLst/>
          </a:prstGeom>
          <a:solidFill>
            <a:srgbClr val="b9cde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ханічні характеристики робочих маш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писують такою емпіричною формуло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9"/>
              <p:cNvSpPr txBox="1"/>
              <p:nvPr/>
            </p:nvSpPr>
            <p:spPr>
              <a:xfrm>
                <a:off x="5659560" y="1636560"/>
                <a:ext cx="33685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Прямокутник 6"/>
          <p:cNvSpPr/>
          <p:nvPr/>
        </p:nvSpPr>
        <p:spPr>
          <a:xfrm>
            <a:off x="81000" y="2584440"/>
            <a:ext cx="8955000" cy="1257120"/>
          </a:xfrm>
          <a:prstGeom prst="rect">
            <a:avLst/>
          </a:prstGeom>
          <a:solidFill>
            <a:srgbClr val="b9cde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момент опору при швидкості ω, Н·м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мо­мент опору тертя в рухомих частинах, який не залежить від швидкості Н·м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номіналь-ний момент опору при номінальній швидкості –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Н·м;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показник степеня, що характе­ризує зміну статичного моменту при зміні швидкост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кутник 6"/>
          <p:cNvSpPr/>
          <p:nvPr/>
        </p:nvSpPr>
        <p:spPr>
          <a:xfrm>
            <a:off x="108000" y="3741840"/>
            <a:ext cx="4775040" cy="11394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важаючи на різноманітність ро-бочих машин, їх меха­нічні характерис-тики орієнтовно можна поділити на такі груп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925880" y="3762360"/>
            <a:ext cx="4154760" cy="30513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кутник 6"/>
          <p:cNvSpPr/>
          <p:nvPr/>
        </p:nvSpPr>
        <p:spPr>
          <a:xfrm>
            <a:off x="103320" y="4954680"/>
            <a:ext cx="4775040" cy="1748160"/>
          </a:xfrm>
          <a:prstGeom prst="rect">
            <a:avLst/>
          </a:prstGeom>
          <a:solidFill>
            <a:srgbClr val="b9cde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1) Незалежна від швидкості механічна хар-ка (пряма 1). При цьом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х = 0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 мо-мент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не залежить від  швид-кості. Такі механічні хар-ки мають під-йомні крани, стрічкові конвеєри, порш-неві насо­си, лебідки, вакуумні насос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1" nodeType="after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робоч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кутник 6"/>
          <p:cNvSpPr/>
          <p:nvPr/>
        </p:nvSpPr>
        <p:spPr>
          <a:xfrm>
            <a:off x="81000" y="2854440"/>
            <a:ext cx="8955000" cy="1748160"/>
          </a:xfrm>
          <a:prstGeom prst="rect">
            <a:avLst/>
          </a:prstGeom>
          <a:solidFill>
            <a:srgbClr val="8eb4e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лінійно-зростаюча (пара­болічна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ханічна хар-­ка (крива 3). У цьому ви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адк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х = 2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 момент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ропор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ційний квадрату швидкості. Параболічні механічні хар-ки мають робочі машини, що працюють за відцентровим принципом: вентилятори, відцентрові насоси, сепаратори молока тощо.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кутник 6"/>
          <p:cNvSpPr/>
          <p:nvPr/>
        </p:nvSpPr>
        <p:spPr>
          <a:xfrm>
            <a:off x="95400" y="484200"/>
            <a:ext cx="4800600" cy="23176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ямолінійно-зростаюча механічна хар-ка (пряма 2). У цьому випадку х = 1 і момент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лінійно залежить від швидкості. Таку механічну хар-ку має генератор постійного струму з не-залежним збудженням, який працює з незмінним зовніш­нім навантаженням, та деякі зерноочисні машини і норії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4911840" y="498600"/>
            <a:ext cx="4154400" cy="32194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кутник 6"/>
          <p:cNvSpPr/>
          <p:nvPr/>
        </p:nvSpPr>
        <p:spPr>
          <a:xfrm>
            <a:off x="88920" y="4557600"/>
            <a:ext cx="8955000" cy="1178640"/>
          </a:xfrm>
          <a:prstGeom prst="rect">
            <a:avLst/>
          </a:prstGeom>
          <a:solidFill>
            <a:srgbClr val="fac09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лінійно-спадаючі механічні хар-ки (крива 4). У цьому випадк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х = - 1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 момент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обернено пропорційний швидкості, а потужність, спо-жива­на робочою машиною, залишається сталою. Нелінійно-спа­даючі механічні хар-ки мають деякі токарні, розточувальні та фрезерні верст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кутник 6"/>
          <p:cNvSpPr/>
          <p:nvPr/>
        </p:nvSpPr>
        <p:spPr>
          <a:xfrm>
            <a:off x="71280" y="5715000"/>
            <a:ext cx="8955360" cy="1071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ханічні хар-ки використовуються при аналізі перехідних процесів, режимів роботи машини разом із електродвигуном для визначення можливості запуску та стійкості роботи електроприводу, побудови навантажувальних діаг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електродвиг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кутник 6"/>
          <p:cNvSpPr/>
          <p:nvPr/>
        </p:nvSpPr>
        <p:spPr>
          <a:xfrm>
            <a:off x="95400" y="484200"/>
            <a:ext cx="8940600" cy="854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Механічною хар-кою електродвигуна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бертового руху називають за-лежність кутової швидкості його вала –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ід електромагнітного оберто-вого момент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кутник 6"/>
          <p:cNvSpPr/>
          <p:nvPr/>
        </p:nvSpPr>
        <p:spPr>
          <a:xfrm>
            <a:off x="108000" y="1436760"/>
            <a:ext cx="8940600" cy="285120"/>
          </a:xfrm>
          <a:prstGeom prst="rect">
            <a:avLst/>
          </a:prstGeom>
          <a:solidFill>
            <a:srgbClr val="92d050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ханічні характеристики можуть бути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родними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і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штучни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кутник 6"/>
          <p:cNvSpPr/>
          <p:nvPr/>
        </p:nvSpPr>
        <p:spPr>
          <a:xfrm>
            <a:off x="108000" y="1776240"/>
            <a:ext cx="8940600" cy="170892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родно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механічною хар-кою елект­родвигуна називають залеж-ність швидкості обертання двигуна від створюваного ним моменту п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омінальних парамет­рах мережі живлення (номінальних значеннях напруги і частоти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омінальному магнітному потоці (звичайних схемах включення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відсутнос­ті додаткових опорів у колі якоря (ротора, статор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кутник 6"/>
          <p:cNvSpPr/>
          <p:nvPr/>
        </p:nvSpPr>
        <p:spPr>
          <a:xfrm>
            <a:off x="95400" y="3540240"/>
            <a:ext cx="8940600" cy="569880"/>
          </a:xfrm>
          <a:prstGeom prst="rect">
            <a:avLst/>
          </a:prstGeom>
          <a:solidFill>
            <a:srgbClr val="8eb4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Якщо механічна хар-ка не задоволь­няє тих або інших вимог виробни-чого механізму, викорис­товують штучні механічні хар-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кутник 6"/>
          <p:cNvSpPr/>
          <p:nvPr/>
        </p:nvSpPr>
        <p:spPr>
          <a:xfrm>
            <a:off x="95400" y="4176720"/>
            <a:ext cx="8940600" cy="5698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Штучні механічні хар-ки також яв­ляють собою залежність кутової швидкості двигуна від його моменту, але при неномінальних параметр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к 6"/>
          <p:cNvSpPr/>
          <p:nvPr/>
        </p:nvSpPr>
        <p:spPr>
          <a:xfrm>
            <a:off x="108000" y="4767120"/>
            <a:ext cx="8940600" cy="5698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рім механічної характеристики, в теорії електроприводу є поняття електромеханічної характерис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6"/>
          <p:cNvSpPr/>
          <p:nvPr/>
        </p:nvSpPr>
        <p:spPr>
          <a:xfrm>
            <a:off x="108000" y="5345280"/>
            <a:ext cx="8940600" cy="56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Електромеха­нічною характеристикою електродвигун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зивають залеж­ність його кутової швидкості –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ід струму якоря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6"/>
          <p:cNvSpPr/>
          <p:nvPr/>
        </p:nvSpPr>
        <p:spPr>
          <a:xfrm>
            <a:off x="108000" y="5935680"/>
            <a:ext cx="8940600" cy="8546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Електродвигуни можуть працювати у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рушійному режим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приводячи в рух робочі машини, та в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гальмівних режимах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– загальмовувати машини для швидкої їх зупи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електродвиг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6"/>
          <p:cNvSpPr/>
          <p:nvPr/>
        </p:nvSpPr>
        <p:spPr>
          <a:xfrm>
            <a:off x="95400" y="484200"/>
            <a:ext cx="8940600" cy="124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айже всі електродвигуни характеризуються тим, що у рушій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 режимі роботи при збільшенні обертового моменту кутова швидкість зменшується, а в гальмівних - при збільшенні швидкості гальмівний момент зроста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кутник 6"/>
          <p:cNvSpPr/>
          <p:nvPr/>
        </p:nvSpPr>
        <p:spPr>
          <a:xfrm>
            <a:off x="108000" y="1822320"/>
            <a:ext cx="8940600" cy="93240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еличина зміни швидкості при зміні моменту різних двигунів неоднакова і залежить від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а жорсткост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механічної хар-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кутник 6"/>
          <p:cNvSpPr/>
          <p:nvPr/>
        </p:nvSpPr>
        <p:spPr>
          <a:xfrm>
            <a:off x="114480" y="3286080"/>
            <a:ext cx="8940600" cy="621720"/>
          </a:xfrm>
          <a:prstGeom prst="rect">
            <a:avLst/>
          </a:prstGeom>
          <a:solidFill>
            <a:srgbClr val="8eb4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ефіцієнт жорсткост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є критерієм для оцінки форми механічної хар-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Объект 11"/>
              <p:cNvSpPr txBox="1"/>
              <p:nvPr/>
            </p:nvSpPr>
            <p:spPr>
              <a:xfrm>
                <a:off x="3998880" y="2521080"/>
                <a:ext cx="1089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t xml:space="preserve">d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Прямокутник 6"/>
          <p:cNvSpPr/>
          <p:nvPr/>
        </p:nvSpPr>
        <p:spPr>
          <a:xfrm>
            <a:off x="115920" y="4005360"/>
            <a:ext cx="8940600" cy="932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Жорсткістю механічної характеристик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двигуна н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ають його здатність зберігати свою кутову швидкість постійною при зміні величини мом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кутник 6"/>
          <p:cNvSpPr/>
          <p:nvPr/>
        </p:nvSpPr>
        <p:spPr>
          <a:xfrm>
            <a:off x="114480" y="5084640"/>
            <a:ext cx="8940600" cy="932400"/>
          </a:xfrm>
          <a:prstGeom prst="rect">
            <a:avLst/>
          </a:prstGeom>
          <a:solidFill>
            <a:srgbClr val="8eb4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прямолінійних механічних характеристик диферен­ціа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ожна відповідно замінити скінченими приростами </a:t>
            </a:r>
            <a:r>
              <a:rPr b="0" i="1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ω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тод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Объект 15"/>
              <p:cNvSpPr txBox="1"/>
              <p:nvPr/>
            </p:nvSpPr>
            <p:spPr>
              <a:xfrm>
                <a:off x="3419640" y="5877000"/>
                <a:ext cx="2457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М</m:t>
                        </m:r>
                      </m:num>
                      <m:den>
                        <m:r>
                          <m:t xml:space="preserve">Δ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електродвиг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кутник 6"/>
          <p:cNvSpPr/>
          <p:nvPr/>
        </p:nvSpPr>
        <p:spPr>
          <a:xfrm>
            <a:off x="95400" y="484200"/>
            <a:ext cx="4451040" cy="2796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Абсолютно жорсткою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пря-ма 1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→∞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)  називають меха­нічну х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у, при якій із зміною обер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ого моменту швидкість двигуна не зміню­ється. Таку х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у мають синхронні двигуни а також дви-гун постійного струму змішаного збудження при зустрічному включенні обм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кутник 6"/>
          <p:cNvSpPr/>
          <p:nvPr/>
        </p:nvSpPr>
        <p:spPr>
          <a:xfrm>
            <a:off x="95400" y="3309840"/>
            <a:ext cx="8940600" cy="12430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Жорстка механічна х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­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пряма 2)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ли зі зміною оберт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ого моменту в широких межах кутова швидкість двигуна зміню-ється дуже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572000" y="480960"/>
            <a:ext cx="4476600" cy="3456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кутник 6"/>
          <p:cNvSpPr/>
          <p:nvPr/>
        </p:nvSpPr>
        <p:spPr>
          <a:xfrm>
            <a:off x="98280" y="4565520"/>
            <a:ext cx="8960040" cy="12430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у х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у мають електродвигуни постійного струму незалежного (паралельного) збудження та асинхронні дви­гуни, що працюють при ковзаннях, менших від критичного (крива 5), для цих електро-двигуні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 ˂ 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кутник 6"/>
          <p:cNvSpPr/>
          <p:nvPr/>
        </p:nvSpPr>
        <p:spPr>
          <a:xfrm>
            <a:off x="108000" y="5821200"/>
            <a:ext cx="8940600" cy="93240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і двигуни жорстко впливають на роботу їх мережі живлення, оскільки для подолання пікових навантажень вони споживають ве-ликий струм із мереж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кутник 3"/>
          <p:cNvSpPr/>
          <p:nvPr/>
        </p:nvSpPr>
        <p:spPr>
          <a:xfrm>
            <a:off x="108000" y="0"/>
            <a:ext cx="892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Роль вітчизняних вчених у розвитку електри-фікації сільськогосподарського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кутник 4"/>
          <p:cNvSpPr/>
          <p:nvPr/>
        </p:nvSpPr>
        <p:spPr>
          <a:xfrm>
            <a:off x="104760" y="900000"/>
            <a:ext cx="8928000" cy="91512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Інтенсифікація сільськогосподарського виробництва і підвищення продук-тивності праці можливі лише за умови максимальної механізації технологіч-них процесів на базі електрифікації і автоматиз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кутник 6"/>
          <p:cNvSpPr/>
          <p:nvPr/>
        </p:nvSpPr>
        <p:spPr>
          <a:xfrm>
            <a:off x="96840" y="2448000"/>
            <a:ext cx="8935920" cy="77688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ший в історії електрифікований механізм з електроприводом був створений у 1834 – 1838 рр. академіком Якобі Б.С. у Петербурзі і призначався для приводу у рух катеру на річці Не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кутник 9"/>
          <p:cNvSpPr/>
          <p:nvPr/>
        </p:nvSpPr>
        <p:spPr>
          <a:xfrm>
            <a:off x="104760" y="1876320"/>
            <a:ext cx="8928000" cy="51804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Визначна роль у розвитку електрифікації виробництва і сільсько-господарського зокрема належить вітчизняним вченим та інжене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кутник 6"/>
          <p:cNvSpPr/>
          <p:nvPr/>
        </p:nvSpPr>
        <p:spPr>
          <a:xfrm>
            <a:off x="96840" y="3284640"/>
            <a:ext cx="8935920" cy="518040"/>
          </a:xfrm>
          <a:prstGeom prst="rect">
            <a:avLst/>
          </a:prstGeom>
          <a:solidFill>
            <a:srgbClr val="fac09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датний російський електротехнік В.Н. Чикалєв здійснив практичні розробки електроприводів для швейної машини у 1882 р. та вентилятора у 1886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кутник 6"/>
          <p:cNvSpPr/>
          <p:nvPr/>
        </p:nvSpPr>
        <p:spPr>
          <a:xfrm>
            <a:off x="96840" y="3844800"/>
            <a:ext cx="8935920" cy="1035720"/>
          </a:xfrm>
          <a:prstGeom prst="rect">
            <a:avLst/>
          </a:prstGeom>
          <a:solidFill>
            <a:srgbClr val="b9cde5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начний вклад у розвиток теорії електроприводу внесли роботи Д.А. Лачино-ва “Електромеханічна робота”, що були опубліковані у 1880 році у журналі “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ичество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”. Ця визначна праця дає можливість вважати датою заснування науки про електроприводи – 1880 рі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кутник 6"/>
          <p:cNvSpPr/>
          <p:nvPr/>
        </p:nvSpPr>
        <p:spPr>
          <a:xfrm>
            <a:off x="96840" y="4932360"/>
            <a:ext cx="8935920" cy="182988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обхідні принципові передумови розвитку електроприводів змінного стру-му створили розробки російського інженера М.О. Доліво-Добровольського, який у 1889 році створив систему трифазного струму, асинхронний двигун із коротко-замкнутим ротором та із контактними кільцями. Ці роботи визначили новий напрям розвитку електроприводу і відкрили широку дорогу для промислового використання електроенерг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електродвиг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кутник 6"/>
          <p:cNvSpPr/>
          <p:nvPr/>
        </p:nvSpPr>
        <p:spPr>
          <a:xfrm>
            <a:off x="76320" y="4005360"/>
            <a:ext cx="8940600" cy="93240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і двигуни, при перевантаженнях різко сповільнюються і долають пікові навантаження за рахунок попереднього запасу кінетичної енер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0" y="480960"/>
            <a:ext cx="4476600" cy="3456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кутник 6"/>
          <p:cNvSpPr/>
          <p:nvPr/>
        </p:nvSpPr>
        <p:spPr>
          <a:xfrm>
            <a:off x="95400" y="484200"/>
            <a:ext cx="4451040" cy="3417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'якою (крива 3) називають механічну хар-ку, де невелика зміна обертового моменту вик-ликає значну зміну швидкості двигуна (електродвигуни постій-ного струму послідовного збуд-ження та асинхронні двигуни із фазним ротором при великому додатковому опорі у колі рото-ра), для цих електродвигуні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˂ 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кутник 6"/>
          <p:cNvSpPr/>
          <p:nvPr/>
        </p:nvSpPr>
        <p:spPr>
          <a:xfrm>
            <a:off x="76320" y="4635360"/>
            <a:ext cx="8940600" cy="2046600"/>
          </a:xfrm>
          <a:prstGeom prst="rect">
            <a:avLst/>
          </a:prstGeom>
          <a:solidFill>
            <a:srgbClr val="8eb4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бсолютно м'якою (пряма 4) називають механіч­ну хар-ку, коли момент двигуна при зміні швид­кості залишається сталим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 Та-ку хар-ку мають електродвигуни постійного струму незалежного збу­дження при живленні їх від малопотужного джерела струму або при роботі в замкнених системах електроприводу в режимі стабіл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ції струму якоря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ри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еханіч­на хар-ка асинхронного двигу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кутник 3"/>
          <p:cNvSpPr/>
          <p:nvPr/>
        </p:nvSpPr>
        <p:spPr>
          <a:xfrm>
            <a:off x="108000" y="0"/>
            <a:ext cx="892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Роль вітчизняних вчених у розвитку електри-фікації сільськогосподарського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кутник 4"/>
          <p:cNvSpPr/>
          <p:nvPr/>
        </p:nvSpPr>
        <p:spPr>
          <a:xfrm>
            <a:off x="104760" y="900000"/>
            <a:ext cx="8928000" cy="182988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Реалізація плану електрифікації Радянського Союзу -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ОЭРЛО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у 20-х роках, створила умови для широкого використання електроприводу і на теренах України. Визначний вплив на розвиток вітчизняної електротехніки та елект-ропривода мав і створений у 1921 році Державний експериментальний електротехнічний інститут, який у 1929 році був реорганізований у Всесоюзний електротехнічний інстит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кутник 6"/>
          <p:cNvSpPr/>
          <p:nvPr/>
        </p:nvSpPr>
        <p:spPr>
          <a:xfrm>
            <a:off x="115920" y="5437080"/>
            <a:ext cx="8937720" cy="1294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 розвитком промислового електроприводу, на його базі розвивався і елект-ропривод сільськогосподарського призначення. Тут слід відмітити роботи академіків ВАСХНИЛ І.А. Бурдзка, Н.П. Листова, Л.Г. Прищепи, членів-кореспон-дентів ВАСХНИЛ Г.І. Назарова, І.І. Мартиненка, професорів С.П. Лебедева, І.Ф. Кудрявцева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кутник 9"/>
          <p:cNvSpPr/>
          <p:nvPr/>
        </p:nvSpPr>
        <p:spPr>
          <a:xfrm>
            <a:off x="82440" y="2852640"/>
            <a:ext cx="8928360" cy="243972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Особливо бурхливо став розвиватись електропривод у роки перших п’ятирічок у зв’язку із загальною індустріалізацією країни. Розвиток теорії та практики електропривода знайшов відображення у працях професорів С.А. Ринкевича, В.К. Потова, Р.А. Аронова, А.Т. Голована, Д.П. Морозова та ін.. Питання автоматичного керування електроприводами знайшли освітлення у працях академіків М.П. Котенка, В.С. Кульбакіна, А.Г. Йосифяна та ін.. У розвитку нових типів електроприводів відіграли значну роль заводи ПЕМЗ, “Електросила”, “Динамо”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кутник 3"/>
          <p:cNvSpPr/>
          <p:nvPr/>
        </p:nvSpPr>
        <p:spPr>
          <a:xfrm>
            <a:off x="108000" y="0"/>
            <a:ext cx="892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Особливості роботи електрообладнання в умовах сільськогосподарського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кутник 4"/>
          <p:cNvSpPr/>
          <p:nvPr/>
        </p:nvSpPr>
        <p:spPr>
          <a:xfrm>
            <a:off x="104760" y="900000"/>
            <a:ext cx="8928000" cy="109764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бота електрообладнання в умовах тваринницьких ферм має ряд особливостей які необхідно враховувати при його виборі та експлуатації. До цих особливостей можна відн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кутник 6"/>
          <p:cNvSpPr/>
          <p:nvPr/>
        </p:nvSpPr>
        <p:spPr>
          <a:xfrm>
            <a:off x="112680" y="4815000"/>
            <a:ext cx="8937720" cy="62172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міщення обробляються дезінфекційними розчинами, які хімічно актив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кутник 9"/>
          <p:cNvSpPr/>
          <p:nvPr/>
        </p:nvSpPr>
        <p:spPr>
          <a:xfrm>
            <a:off x="96840" y="2087640"/>
            <a:ext cx="8928000" cy="256068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обладнання може працювати в різних умовах (у сухих, вологих, вогких, особливо вологих приміщеннях, на відкритому по-вітрі, у захищених приміщеннях, із підвищеним вмістом аміаку, сір-ководню, вуглекислого газу при значних коливаннях температури, що призводить до поступового руйнування ізоляції, корозії контак-тів і конструктивних елементів електрообладнання) тому апаратуру керування розміщують поза тваринницькими приміщенн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кутник 6"/>
          <p:cNvSpPr/>
          <p:nvPr/>
        </p:nvSpPr>
        <p:spPr>
          <a:xfrm>
            <a:off x="111240" y="5589720"/>
            <a:ext cx="8937360" cy="1097640"/>
          </a:xfrm>
          <a:prstGeom prst="rect">
            <a:avLst/>
          </a:prstGeom>
          <a:solidFill>
            <a:srgbClr val="fac09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ізна тривалість роботи механізмів і їх привідних електродвигунів: кормороздавачі 500 год. на рік; вакуумні насоси 1500 год. на рік; вентилятори 3000 год. на р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кутник 3"/>
          <p:cNvSpPr/>
          <p:nvPr/>
        </p:nvSpPr>
        <p:spPr>
          <a:xfrm>
            <a:off x="108000" y="0"/>
            <a:ext cx="892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Особливості роботи електрообладнання в умовах сільськогосподарського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кутник 6"/>
          <p:cNvSpPr/>
          <p:nvPr/>
        </p:nvSpPr>
        <p:spPr>
          <a:xfrm>
            <a:off x="88920" y="3716280"/>
            <a:ext cx="8937720" cy="93240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евдалі конструкції механізмів, які приводяться у рух електро-двигунами (вібрація машин і двигунів, встановлення двигунів на агрегатах що нагріваються, можливість попадання води і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кутник 9"/>
          <p:cNvSpPr/>
          <p:nvPr/>
        </p:nvSpPr>
        <p:spPr>
          <a:xfrm>
            <a:off x="108000" y="2637000"/>
            <a:ext cx="8928000" cy="93240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изький професійний рівень обслуговуючого персоналу, що призводить до неправильної експлуатації і обслуговування електрообладн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9"/>
          <p:cNvGrpSpPr/>
          <p:nvPr/>
        </p:nvGrpSpPr>
        <p:grpSpPr>
          <a:xfrm>
            <a:off x="108000" y="1773360"/>
            <a:ext cx="8928000" cy="731880"/>
            <a:chOff x="108000" y="1773360"/>
            <a:chExt cx="8928000" cy="731880"/>
          </a:xfrm>
        </p:grpSpPr>
        <p:sp>
          <p:nvSpPr>
            <p:cNvPr id="64" name="Прямокутник 4"/>
            <p:cNvSpPr/>
            <p:nvPr/>
          </p:nvSpPr>
          <p:spPr>
            <a:xfrm>
              <a:off x="108000" y="1773360"/>
              <a:ext cx="8928000" cy="731880"/>
            </a:xfrm>
            <a:prstGeom prst="rect">
              <a:avLst/>
            </a:prstGeom>
            <a:solidFill>
              <a:srgbClr val="fdeada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uk-UA" sz="2400" spc="-1" strike="noStrike">
                  <a:solidFill>
                    <a:srgbClr val="000000"/>
                  </a:solidFill>
                  <a:latin typeface="Calibri"/>
                </a:rPr>
                <a:t>Широкий діапазон коливань напруги живлення (                   для комплексів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Объект 8"/>
                <p:cNvSpPr txBox="1"/>
                <p:nvPr/>
              </p:nvSpPr>
              <p:spPr>
                <a:xfrm>
                  <a:off x="6948360" y="1843920"/>
                  <a:ext cx="1161720" cy="28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U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Прямокутник 6"/>
          <p:cNvSpPr/>
          <p:nvPr/>
        </p:nvSpPr>
        <p:spPr>
          <a:xfrm>
            <a:off x="111240" y="885960"/>
            <a:ext cx="8935920" cy="731880"/>
          </a:xfrm>
          <a:prstGeom prst="rect">
            <a:avLst/>
          </a:prstGeom>
          <a:solidFill>
            <a:srgbClr val="8eb4e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тупінь завантаження двигунів коливається від 25 до 100% а деякі працюють при тимчасових перевантаженн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Електропривод та його еле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кутник 6"/>
          <p:cNvSpPr/>
          <p:nvPr/>
        </p:nvSpPr>
        <p:spPr>
          <a:xfrm>
            <a:off x="111240" y="534960"/>
            <a:ext cx="8935920" cy="731880"/>
          </a:xfrm>
          <a:prstGeom prst="rect">
            <a:avLst/>
          </a:prstGeom>
          <a:solidFill>
            <a:srgbClr val="8eb4e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ільськогосподарське - виробництво використовує різно­манітні машини, агрегати та потокові лі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кутник 6"/>
          <p:cNvSpPr/>
          <p:nvPr/>
        </p:nvSpPr>
        <p:spPr>
          <a:xfrm>
            <a:off x="122400" y="1341360"/>
            <a:ext cx="8935920" cy="1097640"/>
          </a:xfrm>
          <a:prstGeom prst="rect">
            <a:avLst/>
          </a:prstGeom>
          <a:solidFill>
            <a:srgbClr val="e6b9b8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у частину ро­бочої машини або агрегату, яка безпосередньо виконує заданий технологічний процес або операцію, назива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виконавчим органо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кутник 6"/>
          <p:cNvSpPr/>
          <p:nvPr/>
        </p:nvSpPr>
        <p:spPr>
          <a:xfrm>
            <a:off x="122400" y="2467080"/>
            <a:ext cx="8935920" cy="731880"/>
          </a:xfrm>
          <a:prstGeom prst="rect">
            <a:avLst/>
          </a:prstGeom>
          <a:solidFill>
            <a:srgbClr val="dbeef4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виконавчого органу повинна бути підведена механічна енергія, яку виробляє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рушійний пристрій - привод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кутник 6"/>
          <p:cNvSpPr/>
          <p:nvPr/>
        </p:nvSpPr>
        <p:spPr>
          <a:xfrm>
            <a:off x="111240" y="3235320"/>
            <a:ext cx="8935920" cy="1463400"/>
          </a:xfrm>
          <a:prstGeom prst="rect">
            <a:avLst/>
          </a:prstGeom>
          <a:solidFill>
            <a:srgbClr val="ffff0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ff0000"/>
                </a:solidFill>
                <a:uFillTx/>
                <a:latin typeface="Calibri"/>
              </a:rPr>
              <a:t>Привод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це система пристроїв, призначених для перетворення різних видів енергії у механічну, що використовується для приведе-ння в рух виконавчих органів робочих машин і керування цим р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кутник 6"/>
          <p:cNvSpPr/>
          <p:nvPr/>
        </p:nvSpPr>
        <p:spPr>
          <a:xfrm>
            <a:off x="122400" y="4711680"/>
            <a:ext cx="8937360" cy="36612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приводу звичайно входять двигун та механічна пере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кутник 6"/>
          <p:cNvSpPr/>
          <p:nvPr/>
        </p:nvSpPr>
        <p:spPr>
          <a:xfrm>
            <a:off x="98280" y="5157720"/>
            <a:ext cx="8937720" cy="731880"/>
          </a:xfrm>
          <a:prstGeom prst="rect">
            <a:avLst/>
          </a:prstGeom>
          <a:solidFill>
            <a:srgbClr val="8eb4e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лежно від виду первинної енергії двигуна розрізняють привод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кутник 6" descr=""/>
          <p:cNvPicPr/>
          <p:nvPr/>
        </p:nvPicPr>
        <p:blipFill>
          <a:blip r:embed="rId1"/>
          <a:stretch/>
        </p:blipFill>
        <p:spPr>
          <a:xfrm>
            <a:off x="-42840" y="5443560"/>
            <a:ext cx="9090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Електропривод та його еле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кутник 6"/>
          <p:cNvSpPr/>
          <p:nvPr/>
        </p:nvSpPr>
        <p:spPr>
          <a:xfrm>
            <a:off x="111240" y="534960"/>
            <a:ext cx="8935920" cy="1463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Електроприводо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називають електромеханічну систему, що складається з електродвигуна, перетворювального, передавально-го й керуючого пристроїв і призначена для приведення в рух виконавчих органів робочих машин та керування цим р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кутник 6"/>
          <p:cNvSpPr/>
          <p:nvPr/>
        </p:nvSpPr>
        <p:spPr>
          <a:xfrm>
            <a:off x="103320" y="2133720"/>
            <a:ext cx="8937360" cy="2194920"/>
          </a:xfrm>
          <a:prstGeom prst="rect">
            <a:avLst/>
          </a:prstGeom>
          <a:solidFill>
            <a:srgbClr val="e6b9b8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привод має такі перева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сокий коефіцієнт корисної д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сока надій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сокий рівень автоматизац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кологічна чист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мпакт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кутник 6"/>
          <p:cNvSpPr/>
          <p:nvPr/>
        </p:nvSpPr>
        <p:spPr>
          <a:xfrm>
            <a:off x="103320" y="4508640"/>
            <a:ext cx="8937360" cy="2194920"/>
          </a:xfrm>
          <a:prstGeom prst="rect">
            <a:avLst/>
          </a:prstGeom>
          <a:solidFill>
            <a:srgbClr val="dbeef4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новою будь-якого електроприводу є електродвигун, що приз-начений для перетворення електричної енергії в механічну. До складу електроприводу може входити один або кілька електро-двигунів постійного або змінного струму. У сільськогосподарському виробництві здебільшого застосовують електропривод з асинхрон-ними короткозамкненими двигу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6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Електропривод та його еле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50920" y="444600"/>
            <a:ext cx="86929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Класифікація електропри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кутник 6"/>
          <p:cNvSpPr/>
          <p:nvPr/>
        </p:nvSpPr>
        <p:spPr>
          <a:xfrm>
            <a:off x="111240" y="468360"/>
            <a:ext cx="8935920" cy="33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учасні електроприводи класифікують за такими основ­ними ознак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кутник 6"/>
          <p:cNvSpPr/>
          <p:nvPr/>
        </p:nvSpPr>
        <p:spPr>
          <a:xfrm>
            <a:off x="111240" y="863640"/>
            <a:ext cx="8935920" cy="67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видом руху електродвигу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- обертального руху;    - поступального рух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кутник 6"/>
          <p:cNvSpPr/>
          <p:nvPr/>
        </p:nvSpPr>
        <p:spPr>
          <a:xfrm>
            <a:off x="127080" y="1628640"/>
            <a:ext cx="8937720" cy="670680"/>
          </a:xfrm>
          <a:prstGeom prst="rect">
            <a:avLst/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можливістю зміни його напрямк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рух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- реверсивний;     - нереверсив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кутник 6"/>
          <p:cNvSpPr/>
          <p:nvPr/>
        </p:nvSpPr>
        <p:spPr>
          <a:xfrm>
            <a:off x="127080" y="2421000"/>
            <a:ext cx="8935920" cy="1676160"/>
          </a:xfrm>
          <a:prstGeom prst="rect">
            <a:avLst/>
          </a:prstGeom>
          <a:solidFill>
            <a:srgbClr val="ddd9c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причиною зміни параметрів рух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егульовані електро­приводи, параметри яких змінюються під впливом керую­чого пристро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регульовані електроприводи, параметри яких змінюються в результаті збурюючих впливів (зміна навантаженн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кутник 6"/>
          <p:cNvSpPr/>
          <p:nvPr/>
        </p:nvSpPr>
        <p:spPr>
          <a:xfrm>
            <a:off x="138240" y="4221000"/>
            <a:ext cx="8935920" cy="2346480"/>
          </a:xfrm>
          <a:prstGeom prst="rect">
            <a:avLst/>
          </a:prstGeom>
          <a:solidFill>
            <a:srgbClr val="93cdd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наявністю зв'язків з іншими електропривод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алежні електроприводи - режими роботи яких практично не залежать від режимів роботи інших електропривод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заємозв'язані електроприводи, в яких два або кілька електроприводів електрично і механіч­но пов'язані між собою. При роботі взаємозв'яза-них електроприводів підтримується задане співвідношення їх швидко-стей, навантажень або положення виконавчих органів робо­чих маш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вицький Сергій</dc:creator>
  <dc:description/>
  <dc:language>en-US</dc:language>
  <cp:lastModifiedBy>Master</cp:lastModifiedBy>
  <cp:lastPrinted>2020-03-03T12:44:43Z</cp:lastPrinted>
  <dcterms:modified xsi:type="dcterms:W3CDTF">2020-03-03T12:45:22Z</dcterms:modified>
  <cp:revision>393</cp:revision>
  <dc:subject/>
  <dc:title>Спеціальні види СМ</dc:title>
</cp:coreProperties>
</file>