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8020-D412-4206-983E-7F0BE9CAA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D3E62-F0FB-44EE-A2C8-C02D6640C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944FC-744E-4353-A97F-E72B91ECB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38E03-C72C-42E4-85B9-525E6BD77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A071-42C3-4DB3-9CED-FC5C278B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A394-1AEC-45FF-BF49-DB19FDBF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F88E6-4862-4161-8009-321050D3F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7C17-4713-4B32-A152-51956BC9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B83E4-2885-4326-B8FB-3EB8AB29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6905-CA86-4786-ADE6-E7BD8F26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DBDF-6224-4FDE-8B5A-39E908BE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1FB78-7099-4172-BD62-AD1DE2C23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019C-907E-4F17-AE20-9D31E55AE4DD}" type="slidenum">
              <a:rPr b="0" lang="uk-U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Блок-схема: процесс 3"/>
          <p:cNvSpPr/>
          <p:nvPr/>
        </p:nvSpPr>
        <p:spPr>
          <a:xfrm>
            <a:off x="-11160" y="0"/>
            <a:ext cx="9156600" cy="1197000"/>
          </a:xfrm>
          <a:custGeom>
            <a:avLst/>
            <a:gdLst/>
            <a:ahLst/>
            <a:rect l="l" t="t" r="r" b="b"/>
            <a:pathLst>
              <a:path w="10001" h="10000">
                <a:moveTo>
                  <a:pt x="2" y="0"/>
                </a:moveTo>
                <a:lnTo>
                  <a:pt x="10000" y="0"/>
                </a:lnTo>
                <a:cubicBezTo>
                  <a:pt x="10004" y="1942"/>
                  <a:pt x="9995" y="3404"/>
                  <a:pt x="9999" y="5346"/>
                </a:cubicBezTo>
                <a:cubicBezTo>
                  <a:pt x="8141" y="5376"/>
                  <a:pt x="4528" y="4940"/>
                  <a:pt x="3154" y="5711"/>
                </a:cubicBezTo>
                <a:cubicBezTo>
                  <a:pt x="1781" y="6483"/>
                  <a:pt x="2387" y="9887"/>
                  <a:pt x="1757" y="9974"/>
                </a:cubicBezTo>
                <a:cubicBezTo>
                  <a:pt x="1126" y="10062"/>
                  <a:pt x="954" y="9894"/>
                  <a:pt x="1" y="9956"/>
                </a:cubicBezTo>
                <a:cubicBezTo>
                  <a:pt x="8" y="7372"/>
                  <a:pt x="-5" y="2584"/>
                  <a:pt x="2" y="0"/>
                </a:cubicBezTo>
                <a:close/>
              </a:path>
            </a:pathLst>
          </a:custGeom>
          <a:gradFill rotWithShape="0">
            <a:gsLst>
              <a:gs pos="0">
                <a:srgbClr val="5d80a7"/>
              </a:gs>
              <a:gs pos="100000">
                <a:srgbClr val="96ab94"/>
              </a:gs>
            </a:gsLst>
            <a:lin ang="5400000"/>
          </a:gradFill>
          <a:ln w="12600">
            <a:solidFill>
              <a:srgbClr val="37609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 name="Нижний колонтитул 6"/>
          <p:cNvSpPr/>
          <p:nvPr/>
        </p:nvSpPr>
        <p:spPr>
          <a:xfrm>
            <a:off x="7319880" y="6413400"/>
            <a:ext cx="180036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ectangle 11"/>
          <p:cNvSpPr/>
          <p:nvPr/>
        </p:nvSpPr>
        <p:spPr>
          <a:xfrm>
            <a:off x="3203640" y="1844640"/>
            <a:ext cx="3173400" cy="86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ytuł 1"/>
          <p:cNvSpPr/>
          <p:nvPr/>
        </p:nvSpPr>
        <p:spPr>
          <a:xfrm>
            <a:off x="1187280" y="692280"/>
            <a:ext cx="6840720" cy="3024000"/>
          </a:xfrm>
          <a:prstGeom prst="rect">
            <a:avLst/>
          </a:prstGeom>
          <a:noFill/>
          <a:ln w="0">
            <a:noFill/>
          </a:ln>
          <a:effectLst>
            <a:outerShdw dist="40186" dir="1096358" blurRad="0" rotWithShape="0">
              <a:srgbClr val="000000">
                <a:alpha val="5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f67"/>
                </a:solidFill>
                <a:latin typeface="Times New Roman"/>
              </a:rPr>
              <a:t>Презентація на тему:Організація туристичного обслуговування,його контроль,облік та розрахунок»</a:t>
            </a:r>
            <a:r>
              <a:rPr b="1" lang="uk-UA" sz="4000" spc="-1" strike="noStrike">
                <a:solidFill>
                  <a:srgbClr val="1f497d"/>
                </a:solidFill>
                <a:latin typeface="Times New Roman"/>
              </a:rPr>
              <a:t> </a:t>
            </a: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115640" y="260280"/>
            <a:ext cx="6335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alibri"/>
              </a:rPr>
              <a:t>1.Організаційні засади обслуговування туриста при оформленні туру</a:t>
            </a:r>
            <a:endParaRPr b="0" lang="en-US" sz="2800" spc="-1" strike="noStrike">
              <a:solidFill>
                <a:srgbClr val="000000"/>
              </a:solidFill>
              <a:latin typeface="Calibri"/>
            </a:endParaRPr>
          </a:p>
        </p:txBody>
      </p:sp>
      <p:sp>
        <p:nvSpPr>
          <p:cNvPr id="46" name="PlaceHolder 2"/>
          <p:cNvSpPr>
            <a:spLocks noGrp="1"/>
          </p:cNvSpPr>
          <p:nvPr>
            <p:ph type="subTitle"/>
          </p:nvPr>
        </p:nvSpPr>
        <p:spPr>
          <a:xfrm>
            <a:off x="610920" y="1699920"/>
            <a:ext cx="7848360" cy="4753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Процедура створення туристичного підприємства як юридичної особи передбачає багато етапів, при цьому необхідно зауважити, що останнім часом створення і реєстрація має тенденцію до спрощення.</a:t>
            </a:r>
            <a:br>
              <a:rPr sz="1800"/>
            </a:br>
            <a:br>
              <a:rPr sz="1800"/>
            </a:br>
            <a:r>
              <a:rPr b="0" lang="ru-RU" sz="1800" spc="-1" strike="noStrike">
                <a:solidFill>
                  <a:srgbClr val="800000"/>
                </a:solidFill>
                <a:latin typeface="Arial"/>
              </a:rPr>
              <a:t>Найважливішими елементами створення туристичного підприємства є:</a:t>
            </a:r>
            <a:br>
              <a:rPr sz="1800"/>
            </a:br>
            <a:br>
              <a:rPr sz="1800"/>
            </a:br>
            <a:r>
              <a:rPr b="0" lang="ru-RU" sz="1800" spc="-1" strike="noStrike">
                <a:solidFill>
                  <a:srgbClr val="800000"/>
                </a:solidFill>
                <a:latin typeface="Arial"/>
              </a:rPr>
              <a:t>- вибір організаційно-правової форми;</a:t>
            </a:r>
            <a:br>
              <a:rPr sz="1800"/>
            </a:br>
            <a:r>
              <a:rPr b="0" lang="ru-RU" sz="1800" spc="-1" strike="noStrike">
                <a:solidFill>
                  <a:srgbClr val="800000"/>
                </a:solidFill>
                <a:latin typeface="Arial"/>
              </a:rPr>
              <a:t>- протокол намірів учасників (засновників);</a:t>
            </a:r>
            <a:br>
              <a:rPr sz="1800"/>
            </a:br>
            <a:r>
              <a:rPr b="0" lang="ru-RU" sz="1800" spc="-1" strike="noStrike">
                <a:solidFill>
                  <a:srgbClr val="800000"/>
                </a:solidFill>
                <a:latin typeface="Arial"/>
              </a:rPr>
              <a:t>- розробка проектів установчих документів;</a:t>
            </a:r>
            <a:br>
              <a:rPr sz="1800"/>
            </a:br>
            <a:r>
              <a:rPr b="0" lang="ru-RU" sz="1800" spc="-1" strike="noStrike">
                <a:solidFill>
                  <a:srgbClr val="800000"/>
                </a:solidFill>
                <a:latin typeface="Arial"/>
              </a:rPr>
              <a:t>- проведення установчих зборів;</a:t>
            </a:r>
            <a:br>
              <a:rPr sz="1800"/>
            </a:br>
            <a:r>
              <a:rPr b="0" lang="ru-RU" sz="1800" spc="-1" strike="noStrike">
                <a:solidFill>
                  <a:srgbClr val="800000"/>
                </a:solidFill>
                <a:latin typeface="Arial"/>
              </a:rPr>
              <a:t>- підготовка установчих документів для реєстрації;</a:t>
            </a:r>
            <a:br>
              <a:rPr sz="1800"/>
            </a:br>
            <a:r>
              <a:rPr b="0" lang="ru-RU" sz="1800" spc="-1" strike="noStrike">
                <a:solidFill>
                  <a:srgbClr val="800000"/>
                </a:solidFill>
                <a:latin typeface="Arial"/>
              </a:rPr>
              <a:t>- правова реєстрація підприємства;</a:t>
            </a:r>
            <a:br>
              <a:rPr sz="1800"/>
            </a:br>
            <a:r>
              <a:rPr b="0" lang="ru-RU" sz="1800" spc="-1" strike="noStrike">
                <a:solidFill>
                  <a:srgbClr val="800000"/>
                </a:solidFill>
                <a:latin typeface="Arial"/>
              </a:rPr>
              <a:t>- постановка на облік та реєстрація в податкових, статистичних</a:t>
            </a:r>
            <a:br>
              <a:rPr sz="1800"/>
            </a:br>
            <a:r>
              <a:rPr b="0" lang="ru-RU" sz="1800" spc="-1" strike="noStrike">
                <a:solidFill>
                  <a:srgbClr val="800000"/>
                </a:solidFill>
                <a:latin typeface="Arial"/>
              </a:rPr>
              <a:t>- органах, Пенсійному фонді, Фонді соціального страхування та інших установах.</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468360" y="259920"/>
            <a:ext cx="8167680" cy="626436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Наступні організаційні процедури, пов'язані з відкриттям рахунків у банківських установах, виготовлення печатки, штампу, фірмових бланків.</a:t>
            </a:r>
            <a:br>
              <a:rPr sz="2000"/>
            </a:br>
            <a:br>
              <a:rPr sz="2000"/>
            </a:br>
            <a:r>
              <a:rPr b="0" lang="ru-RU" sz="2000" spc="-1" strike="noStrike">
                <a:solidFill>
                  <a:srgbClr val="800000"/>
                </a:solidFill>
                <a:latin typeface="Arial"/>
              </a:rPr>
              <a:t>Розглянемо основні етапи створення туристичного підприємства Вибір організаційно-правової форми господарського товариства проводиться учасниками (засновниками) у відповідності із законодавством України.</a:t>
            </a:r>
            <a:br>
              <a:rPr sz="2000"/>
            </a:br>
            <a:br>
              <a:rPr sz="2000"/>
            </a:br>
            <a:r>
              <a:rPr b="0" lang="ru-RU" sz="2000" spc="-1" strike="noStrike">
                <a:solidFill>
                  <a:srgbClr val="800000"/>
                </a:solidFill>
                <a:latin typeface="Arial"/>
              </a:rPr>
              <a:t>Найбільш гнучкою формою для малого туристичного бізнесу є товариство з обмеженою відповідальністю (ТзОВ). Воно може бути засноване однією або декількома особами, а статутний фонд такого товариства поділений на частини, розмір яких визначається засновницькими документами. При цьому учасники товариства не відповідають по його зобов'язаннях, а несуть відповідальність, пов'язану з діяльністю товариства в межах їхніх внескі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98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2.Методичні основи проведення туристичних подорожей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50920" y="1484280"/>
            <a:ext cx="8642160" cy="511344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Організація роботи керівника та учасників подорожі</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Для того щоб подорож мала організований характер, необхідно між усіма її учасниками правильно розподілити обов'язки, обрати керівника подорожі, його замісника, завідувача господарства, санінструктора, скарбника, фотографа, фізорганізаторп тощо. Керівника походу обирає туристська група та затверджує організація, яка проводить похід. Він відповідає за підготовку групи та здійснення походу відповідно до чинних правил. До корінників подорожей висувають певні вимоги:</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1) він мас бути освіченою, фізично підготовленою людиною, яка володіє організаторськими здібностями та відповідним досвідом керівництво подорожами;</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2) керівник категорійного походу повинен мати досвід керівництва походом не менш ніж на одну категорію складності нижче (для І категорії складності - - досвід керівництва походами вихідного дня, некатегорійними подорожами) та досвід участі у поході на одну категорію складності вище у тому самому виді туризму (у водних походах - на тих самих видах суден);</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98989"/>
                </a:solidFill>
                <a:latin typeface="Calibri"/>
              </a:rPr>
              <a:t>3) керівник комбінованого походу має володіти відповідним досвідом керівництва у походах із різноманітних видів туризму, що входять до маршрутів визначеного походу;</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Блок-схема: процесс 3"/>
          <p:cNvSpPr/>
          <p:nvPr/>
        </p:nvSpPr>
        <p:spPr>
          <a:xfrm>
            <a:off x="-11160" y="0"/>
            <a:ext cx="9156600" cy="1197000"/>
          </a:xfrm>
          <a:custGeom>
            <a:avLst/>
            <a:gdLst/>
            <a:ahLst/>
            <a:rect l="l" t="t" r="r" b="b"/>
            <a:pathLst>
              <a:path w="10001" h="10000">
                <a:moveTo>
                  <a:pt x="2" y="0"/>
                </a:moveTo>
                <a:lnTo>
                  <a:pt x="10000" y="0"/>
                </a:lnTo>
                <a:cubicBezTo>
                  <a:pt x="10004" y="1942"/>
                  <a:pt x="9995" y="3404"/>
                  <a:pt x="9999" y="5346"/>
                </a:cubicBezTo>
                <a:cubicBezTo>
                  <a:pt x="8141" y="5376"/>
                  <a:pt x="4528" y="4940"/>
                  <a:pt x="3154" y="5711"/>
                </a:cubicBezTo>
                <a:cubicBezTo>
                  <a:pt x="1781" y="6483"/>
                  <a:pt x="2387" y="9887"/>
                  <a:pt x="1757" y="9974"/>
                </a:cubicBezTo>
                <a:cubicBezTo>
                  <a:pt x="1126" y="10062"/>
                  <a:pt x="954" y="9894"/>
                  <a:pt x="1" y="9956"/>
                </a:cubicBezTo>
                <a:cubicBezTo>
                  <a:pt x="8" y="7372"/>
                  <a:pt x="-5" y="2584"/>
                  <a:pt x="2" y="0"/>
                </a:cubicBezTo>
                <a:close/>
              </a:path>
            </a:pathLst>
          </a:custGeom>
          <a:gradFill rotWithShape="0">
            <a:gsLst>
              <a:gs pos="0">
                <a:srgbClr val="5d80a7"/>
              </a:gs>
              <a:gs pos="100000">
                <a:srgbClr val="96ab94"/>
              </a:gs>
            </a:gsLst>
            <a:lin ang="5400000"/>
          </a:gradFill>
          <a:ln w="12600">
            <a:solidFill>
              <a:srgbClr val="37609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Блок-схема: процесс 32"/>
          <p:cNvSpPr/>
          <p:nvPr/>
        </p:nvSpPr>
        <p:spPr>
          <a:xfrm>
            <a:off x="-3240" y="6597720"/>
            <a:ext cx="9147240" cy="26028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Блок-схема: процесс 11"/>
          <p:cNvSpPr/>
          <p:nvPr/>
        </p:nvSpPr>
        <p:spPr>
          <a:xfrm>
            <a:off x="-9360" y="6093000"/>
            <a:ext cx="9153360" cy="76500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Блок-схема: процесс 9"/>
          <p:cNvSpPr/>
          <p:nvPr/>
        </p:nvSpPr>
        <p:spPr>
          <a:xfrm>
            <a:off x="6480" y="6210360"/>
            <a:ext cx="9146880" cy="171360"/>
          </a:xfrm>
          <a:prstGeom prst="flowChartProcess">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Блок-схема: процесс 10"/>
          <p:cNvSpPr/>
          <p:nvPr/>
        </p:nvSpPr>
        <p:spPr>
          <a:xfrm>
            <a:off x="-3240" y="6381720"/>
            <a:ext cx="9147240" cy="85680"/>
          </a:xfrm>
          <a:prstGeom prst="flowChartProcess">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AutoShape 16"/>
          <p:cNvSpPr/>
          <p:nvPr/>
        </p:nvSpPr>
        <p:spPr>
          <a:xfrm flipH="1">
            <a:off x="5097600" y="282096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 name="Picture 42" descr="j0195384"/>
          <p:cNvPicPr/>
          <p:nvPr/>
        </p:nvPicPr>
        <p:blipFill>
          <a:blip r:embed="rId1"/>
          <a:stretch/>
        </p:blipFill>
        <p:spPr>
          <a:xfrm flipH="1">
            <a:off x="603000" y="4866480"/>
            <a:ext cx="936360" cy="1225800"/>
          </a:xfrm>
          <a:prstGeom prst="rect">
            <a:avLst/>
          </a:prstGeom>
          <a:ln w="0">
            <a:noFill/>
          </a:ln>
        </p:spPr>
      </p:pic>
      <p:grpSp>
        <p:nvGrpSpPr>
          <p:cNvPr id="57" name="Group 12"/>
          <p:cNvGrpSpPr/>
          <p:nvPr/>
        </p:nvGrpSpPr>
        <p:grpSpPr>
          <a:xfrm>
            <a:off x="1116000" y="3284640"/>
            <a:ext cx="246240" cy="301680"/>
            <a:chOff x="1116000" y="3284640"/>
            <a:chExt cx="246240" cy="301680"/>
          </a:xfrm>
        </p:grpSpPr>
        <p:sp>
          <p:nvSpPr>
            <p:cNvPr id="58" name="Rectangle 13"/>
            <p:cNvSpPr/>
            <p:nvPr/>
          </p:nvSpPr>
          <p:spPr>
            <a:xfrm>
              <a:off x="1117080" y="3326040"/>
              <a:ext cx="173880" cy="259200"/>
            </a:xfrm>
            <a:prstGeom prst="rect">
              <a:avLst/>
            </a:prstGeom>
            <a:solidFill>
              <a:srgbClr val="ffc080"/>
            </a:solid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Freeform 14"/>
            <p:cNvSpPr/>
            <p:nvPr/>
          </p:nvSpPr>
          <p:spPr>
            <a:xfrm>
              <a:off x="1116000" y="3284640"/>
              <a:ext cx="246240" cy="40320"/>
            </a:xfrm>
            <a:custGeom>
              <a:avLst/>
              <a:gdLst>
                <a:gd name="textAreaLeft" fmla="*/ 0 w 246240"/>
                <a:gd name="textAreaRight" fmla="*/ 246600 w 246240"/>
                <a:gd name="textAreaTop" fmla="*/ 0 h 40320"/>
                <a:gd name="textAreaBottom" fmla="*/ 40680 h 40320"/>
              </a:gdLst>
              <a:ahLst/>
              <a:rect l="textAreaLeft" t="textAreaTop" r="textAreaRight" b="textAreaBottom"/>
              <a:pathLst>
                <a:path w="995" h="167">
                  <a:moveTo>
                    <a:pt x="0" y="167"/>
                  </a:moveTo>
                  <a:lnTo>
                    <a:pt x="372" y="0"/>
                  </a:lnTo>
                  <a:lnTo>
                    <a:pt x="995" y="0"/>
                  </a:lnTo>
                  <a:lnTo>
                    <a:pt x="713" y="167"/>
                  </a:lnTo>
                  <a:lnTo>
                    <a:pt x="0" y="167"/>
                  </a:lnTo>
                  <a:close/>
                </a:path>
              </a:pathLst>
            </a:custGeom>
            <a:solidFill>
              <a:srgbClr val="ffe0c0"/>
            </a:solidFill>
            <a:ln w="32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Calibri"/>
              </a:endParaRPr>
            </a:p>
          </p:txBody>
        </p:sp>
        <p:sp>
          <p:nvSpPr>
            <p:cNvPr id="60" name="Freeform 15"/>
            <p:cNvSpPr/>
            <p:nvPr/>
          </p:nvSpPr>
          <p:spPr>
            <a:xfrm>
              <a:off x="1292040" y="3284640"/>
              <a:ext cx="68040" cy="301680"/>
            </a:xfrm>
            <a:custGeom>
              <a:avLst/>
              <a:gdLst>
                <a:gd name="textAreaLeft" fmla="*/ 0 w 68040"/>
                <a:gd name="textAreaRight" fmla="*/ 68400 w 68040"/>
                <a:gd name="textAreaTop" fmla="*/ 0 h 301680"/>
                <a:gd name="textAreaBottom" fmla="*/ 301680 h 301680"/>
              </a:gdLst>
              <a:ahLst/>
              <a:rect l="textAreaLeft" t="textAreaTop" r="textAreaRight" b="textAreaBottom"/>
              <a:pathLst>
                <a:path w="275" h="1231">
                  <a:moveTo>
                    <a:pt x="0" y="1231"/>
                  </a:moveTo>
                  <a:lnTo>
                    <a:pt x="275" y="935"/>
                  </a:lnTo>
                  <a:lnTo>
                    <a:pt x="275" y="0"/>
                  </a:lnTo>
                  <a:lnTo>
                    <a:pt x="0" y="167"/>
                  </a:lnTo>
                  <a:lnTo>
                    <a:pt x="0" y="1231"/>
                  </a:lnTo>
                  <a:close/>
                </a:path>
              </a:pathLst>
            </a:custGeom>
            <a:solidFill>
              <a:srgbClr val="ffa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1" name="Picture 57" descr="BS01120_"/>
          <p:cNvPicPr/>
          <p:nvPr/>
        </p:nvPicPr>
        <p:blipFill>
          <a:blip r:embed="rId2"/>
          <a:stretch/>
        </p:blipFill>
        <p:spPr>
          <a:xfrm>
            <a:off x="603360" y="2824200"/>
            <a:ext cx="625320" cy="774720"/>
          </a:xfrm>
          <a:prstGeom prst="rect">
            <a:avLst/>
          </a:prstGeom>
          <a:ln w="0">
            <a:noFill/>
          </a:ln>
        </p:spPr>
      </p:pic>
      <p:sp>
        <p:nvSpPr>
          <p:cNvPr id="62" name="Нижний колонтитул 6"/>
          <p:cNvSpPr/>
          <p:nvPr/>
        </p:nvSpPr>
        <p:spPr>
          <a:xfrm>
            <a:off x="7213680" y="6073920"/>
            <a:ext cx="180000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Прямоугольник 1"/>
          <p:cNvSpPr/>
          <p:nvPr/>
        </p:nvSpPr>
        <p:spPr>
          <a:xfrm>
            <a:off x="2124000" y="237960"/>
            <a:ext cx="51609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4) керівник походу зобов'язаний забезпечити добір учасників за їх туристською кваліфікацією, фізичною та технічною готовністю, організувати їх всебічну підготовку, розробити маршрут та графік руху, виявити складні ділянки, позначити способи їх подолання, розробити запасні варіанти маршруту, оформити заявкові та маршрутні документи, суворо дотримуватися затвердженого маршруту, стежити за дисципліною учасників групи;</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5) у разі тимчасового поділу туристської групи (радіальні виходи для розвідки, акліматизації тощо) керівник має призначити у кожній підгрупі (у водних походах - на кожному судні) своїх замісників, які забезпечуватимуть погодженість дій підгруп;</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6) керівник повинен вдаватися до таких дій, які гарантуватимуть безпечне проходження маршруту, змінювати маршрути та припиняти подорож у зв'язку з виникненням небезпечних для життя і здоров'я туристів природних явищ та іншими обставинами, а також за потреби надання-допомоги потерпілому. Якщо у групі стався нещасний випадок, керівник має терміново вжити заходів щодо доставляння травмованих та хворих туристів до найближчого медичного закладу, а про нещасний випадок повідомити місцеву маршрутно-кваліфікаційну комісію (МКК) та організацію, яка проводить похід. Якщо інша туристська група, що перебуває у цьому районі, потрапила в аварійну ситуацію, обов'язок керівника - організувати оперативну допомогу та забезпечити за вимогою контрольно-рятувальної служби участь своєї групи у пошуково-рятувальних роботах;</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7) керівник має право за потреби передавати керівництво туристською групою іншому учаснику, який володіє відповідною підготовкою, а також виключати після обговорення на групових зборах із групи туриста, що виявився за своїми моральними якостями або спортивно-технічною підготовкою нездатним до проходження маршруту. Якщо така ситуація виникла під час походу, туриста за першої можливості доставляють до населеного пункту, звідки він прямує до місця проживання.</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Блок-схема: процесс 3"/>
          <p:cNvSpPr/>
          <p:nvPr/>
        </p:nvSpPr>
        <p:spPr>
          <a:xfrm>
            <a:off x="0" y="0"/>
            <a:ext cx="9156600" cy="1197000"/>
          </a:xfrm>
          <a:custGeom>
            <a:avLst/>
            <a:gdLst/>
            <a:ahLst/>
            <a:rect l="l" t="t" r="r" b="b"/>
            <a:pathLst>
              <a:path w="10001" h="10000">
                <a:moveTo>
                  <a:pt x="2" y="0"/>
                </a:moveTo>
                <a:lnTo>
                  <a:pt x="10000" y="0"/>
                </a:lnTo>
                <a:cubicBezTo>
                  <a:pt x="10004" y="1942"/>
                  <a:pt x="9995" y="3404"/>
                  <a:pt x="9999" y="5346"/>
                </a:cubicBezTo>
                <a:cubicBezTo>
                  <a:pt x="8141" y="5376"/>
                  <a:pt x="4528" y="4940"/>
                  <a:pt x="3154" y="5711"/>
                </a:cubicBezTo>
                <a:cubicBezTo>
                  <a:pt x="1781" y="6483"/>
                  <a:pt x="2387" y="9887"/>
                  <a:pt x="1757" y="9974"/>
                </a:cubicBezTo>
                <a:cubicBezTo>
                  <a:pt x="1126" y="10062"/>
                  <a:pt x="954" y="9894"/>
                  <a:pt x="1" y="9956"/>
                </a:cubicBezTo>
                <a:cubicBezTo>
                  <a:pt x="8" y="7372"/>
                  <a:pt x="-5" y="2584"/>
                  <a:pt x="2" y="0"/>
                </a:cubicBezTo>
                <a:close/>
              </a:path>
            </a:pathLst>
          </a:custGeom>
          <a:gradFill rotWithShape="0">
            <a:gsLst>
              <a:gs pos="0">
                <a:srgbClr val="5d80a7"/>
              </a:gs>
              <a:gs pos="100000">
                <a:srgbClr val="96ab94"/>
              </a:gs>
            </a:gsLst>
            <a:lin ang="5400000"/>
          </a:gradFill>
          <a:ln w="12600">
            <a:solidFill>
              <a:srgbClr val="376092"/>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Блок-схема: процесс 32"/>
          <p:cNvSpPr/>
          <p:nvPr/>
        </p:nvSpPr>
        <p:spPr>
          <a:xfrm>
            <a:off x="-3240" y="6597720"/>
            <a:ext cx="9147240" cy="26028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Блок-схема: процесс 11"/>
          <p:cNvSpPr/>
          <p:nvPr/>
        </p:nvSpPr>
        <p:spPr>
          <a:xfrm>
            <a:off x="-9360" y="6093000"/>
            <a:ext cx="9153360" cy="76500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Блок-схема: процесс 9"/>
          <p:cNvSpPr/>
          <p:nvPr/>
        </p:nvSpPr>
        <p:spPr>
          <a:xfrm>
            <a:off x="6480" y="6210360"/>
            <a:ext cx="9146880" cy="171360"/>
          </a:xfrm>
          <a:prstGeom prst="flowChartProcess">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Блок-схема: процесс 10"/>
          <p:cNvSpPr/>
          <p:nvPr/>
        </p:nvSpPr>
        <p:spPr>
          <a:xfrm>
            <a:off x="-3240" y="6381720"/>
            <a:ext cx="9147240" cy="85680"/>
          </a:xfrm>
          <a:prstGeom prst="flowChartProcess">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 name="Object 70"/>
          <p:cNvGraphicFramePr/>
          <p:nvPr/>
        </p:nvGraphicFramePr>
        <p:xfrm>
          <a:off x="250920" y="5603760"/>
          <a:ext cx="469800" cy="470160"/>
        </p:xfrm>
        <a:graphic>
          <a:graphicData uri="http://schemas.openxmlformats.org/presentationml/2006/ole">
            <p:oleObj r:id="rId1" spid="">
              <p:embed/>
              <p:pic>
                <p:nvPicPr>
                  <p:cNvPr id="70" name="Object 70" descr=""/>
                  <p:cNvPicPr/>
                  <p:nvPr/>
                </p:nvPicPr>
                <p:blipFill>
                  <a:blip r:embed="rId2"/>
                  <a:stretch/>
                </p:blipFill>
                <p:spPr>
                  <a:xfrm>
                    <a:off x="250920" y="5603760"/>
                    <a:ext cx="469800" cy="470160"/>
                  </a:xfrm>
                  <a:prstGeom prst="rect">
                    <a:avLst/>
                  </a:prstGeom>
                  <a:ln w="0">
                    <a:noFill/>
                  </a:ln>
                </p:spPr>
              </p:pic>
            </p:oleObj>
          </a:graphicData>
        </a:graphic>
      </p:graphicFrame>
      <p:sp>
        <p:nvSpPr>
          <p:cNvPr id="71" name="Нижний колонтитул 6"/>
          <p:cNvSpPr/>
          <p:nvPr/>
        </p:nvSpPr>
        <p:spPr>
          <a:xfrm>
            <a:off x="7213680" y="6073920"/>
            <a:ext cx="180000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Прямоугольник 1"/>
          <p:cNvSpPr/>
          <p:nvPr/>
        </p:nvSpPr>
        <p:spPr>
          <a:xfrm>
            <a:off x="912960" y="387360"/>
            <a:ext cx="7308720" cy="60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58ed5"/>
                </a:solidFill>
                <a:latin typeface="Open Sans"/>
              </a:rPr>
              <a:t>Залежно від специфіки окремих видів подорожей, а також сезону до учасників та керівників груп, які готові піти маршрутами, що включають переходи через категорійні перевали, висувають додаткові вимоги:</a:t>
            </a:r>
            <a:endParaRPr b="0" lang="en-US" sz="18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часники походу повинні мати досвід проходження перевалів на одну підкатегорію складності нижче максимальної для цього маршруту (керівник - досвід керівництва під час проходження);</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часники походів, що передбачають ділянки, які ніхто не проходив, категорійні перевали, повинні мати досвід проходження перевалів тієї самої категорії складності (керівник - досвід керівництва при проходженні);</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 гірських походах не більше 1/3 учасників групи можуть становити туристи з досвідом участі в піших та лижних походах не нижче тієї самої категорії складності, що і розроблений похід, та ті, що задовольняють вимоги до проходження категорійних перевалів;</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під час організації водного походу його учасники на маршруті І-ПІ категорій складності можуть мати відповідний досвід походів на будь-якому виді суден. За наявності у групі деяких видів суден на кожному з них повинен бути учасник із досвідом участі в поході не більш ніж на одну категорію складності нижче у тому виді судна;</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 піших походах не більше 1/3 учасників групи можуть становити туристи з досвідом участі в гірських та лижних походах на одну категорію складності нижче розробленого походу;</a:t>
            </a:r>
            <a:endParaRPr b="0" lang="en-US" sz="1400" spc="-1" strike="noStrike">
              <a:solidFill>
                <a:srgbClr val="000000"/>
              </a:solidFill>
              <a:latin typeface="Calibri"/>
            </a:endParaRPr>
          </a:p>
          <a:p>
            <a:pPr>
              <a:lnSpc>
                <a:spcPct val="100000"/>
              </a:lnSpc>
              <a:buClr>
                <a:srgbClr val="2424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42424"/>
                </a:solidFill>
                <a:latin typeface="Open Sans"/>
              </a:rPr>
              <a:t>- учасники категорійних подорожей, які проводяться зимою та в період міжсезоння, повинні мати досвід організації ночівлі в зимових умовах. Крім того, туристам, що здійснюють подорожі в міжсезоння, необхідно володіти відповідним досвідом участі (керівник - досвід керівництва) у походах тієї самої категорії складності в звичайних умовах.</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Блок-схема: процесс 3"/>
          <p:cNvSpPr/>
          <p:nvPr/>
        </p:nvSpPr>
        <p:spPr>
          <a:xfrm>
            <a:off x="-12600" y="88920"/>
            <a:ext cx="9156600" cy="1197000"/>
          </a:xfrm>
          <a:prstGeom prst="pie">
            <a:avLst/>
          </a:prstGeom>
          <a:gradFill rotWithShape="0">
            <a:gsLst>
              <a:gs pos="0">
                <a:srgbClr val="5d80a7"/>
              </a:gs>
              <a:gs pos="100000">
                <a:srgbClr val="96ab94"/>
              </a:gs>
            </a:gsLst>
            <a:lin ang="54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17375e"/>
                </a:solidFill>
                <a:latin typeface="Calibri"/>
              </a:rPr>
              <a:t>3.Організаційні засади обліку та розрахунків між туристом і туристичним агентом</a:t>
            </a:r>
            <a:endParaRPr b="0" lang="en-US" sz="2800" spc="-1" strike="noStrike">
              <a:solidFill>
                <a:srgbClr val="000000"/>
              </a:solidFill>
              <a:latin typeface="Calibri"/>
            </a:endParaRPr>
          </a:p>
        </p:txBody>
      </p:sp>
      <p:sp>
        <p:nvSpPr>
          <p:cNvPr id="74" name="Блок-схема: процесс 32"/>
          <p:cNvSpPr/>
          <p:nvPr/>
        </p:nvSpPr>
        <p:spPr>
          <a:xfrm>
            <a:off x="-3240" y="6597720"/>
            <a:ext cx="9147240" cy="26028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Блок-схема: процесс 11"/>
          <p:cNvSpPr/>
          <p:nvPr/>
        </p:nvSpPr>
        <p:spPr>
          <a:xfrm>
            <a:off x="-9360" y="6093000"/>
            <a:ext cx="9153360" cy="765000"/>
          </a:xfrm>
          <a:prstGeom prst="flowChartProcess">
            <a:avLst/>
          </a:prstGeom>
          <a:gradFill rotWithShape="0">
            <a:gsLst>
              <a:gs pos="0">
                <a:srgbClr val="b8c7c9"/>
              </a:gs>
              <a:gs pos="100000">
                <a:srgbClr val="faedbe">
                  <a:alpha val="18039"/>
                </a:srgbClr>
              </a:gs>
            </a:gsLst>
            <a:lin ang="16200000"/>
          </a:gradFill>
          <a:ln w="12600">
            <a:solidFill>
              <a:srgbClr val="376092"/>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Блок-схема: процесс 9"/>
          <p:cNvSpPr/>
          <p:nvPr/>
        </p:nvSpPr>
        <p:spPr>
          <a:xfrm>
            <a:off x="6480" y="6210360"/>
            <a:ext cx="9146880" cy="171360"/>
          </a:xfrm>
          <a:prstGeom prst="flowChartProcess">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Блок-схема: процесс 10"/>
          <p:cNvSpPr/>
          <p:nvPr/>
        </p:nvSpPr>
        <p:spPr>
          <a:xfrm>
            <a:off x="-3240" y="6381720"/>
            <a:ext cx="9147240" cy="85680"/>
          </a:xfrm>
          <a:prstGeom prst="flowChartProcess">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Object 113"/>
          <p:cNvGraphicFramePr/>
          <p:nvPr/>
        </p:nvGraphicFramePr>
        <p:xfrm>
          <a:off x="179280" y="5300640"/>
          <a:ext cx="641520" cy="649440"/>
        </p:xfrm>
        <a:graphic>
          <a:graphicData uri="http://schemas.openxmlformats.org/presentationml/2006/ole">
            <p:oleObj r:id="rId1" spid="">
              <p:embed/>
              <p:pic>
                <p:nvPicPr>
                  <p:cNvPr id="79" name="Object 113" descr=""/>
                  <p:cNvPicPr/>
                  <p:nvPr/>
                </p:nvPicPr>
                <p:blipFill>
                  <a:blip r:embed="rId2"/>
                  <a:stretch/>
                </p:blipFill>
                <p:spPr>
                  <a:xfrm>
                    <a:off x="179280" y="5300640"/>
                    <a:ext cx="641520" cy="649440"/>
                  </a:xfrm>
                  <a:prstGeom prst="rect">
                    <a:avLst/>
                  </a:prstGeom>
                  <a:ln w="0">
                    <a:noFill/>
                  </a:ln>
                </p:spPr>
              </p:pic>
            </p:oleObj>
          </a:graphicData>
        </a:graphic>
      </p:graphicFrame>
      <p:sp>
        <p:nvSpPr>
          <p:cNvPr id="80" name="Нижний колонтитул 6"/>
          <p:cNvSpPr/>
          <p:nvPr/>
        </p:nvSpPr>
        <p:spPr>
          <a:xfrm>
            <a:off x="7213680" y="6073920"/>
            <a:ext cx="180000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54" descr=""/>
          <p:cNvPicPr/>
          <p:nvPr/>
        </p:nvPicPr>
        <p:blipFill>
          <a:blip r:embed="rId3"/>
          <a:stretch/>
        </p:blipFill>
        <p:spPr>
          <a:xfrm>
            <a:off x="1289160" y="1557360"/>
            <a:ext cx="6791040" cy="3305160"/>
          </a:xfrm>
          <a:prstGeom prst="rect">
            <a:avLst/>
          </a:prstGeom>
          <a:ln w="0">
            <a:noFill/>
          </a:ln>
          <a:effectLst>
            <a:outerShdw dist="0" dir="0" blurRad="0" rotWithShape="0">
              <a:srgbClr val="eeece1">
                <a:alpha val="50000"/>
              </a:srgbClr>
            </a:outerShdw>
          </a:effectLst>
        </p:spPr>
      </p:pic>
      <p:sp>
        <p:nvSpPr>
          <p:cNvPr id="82" name="Прямоугольник 1"/>
          <p:cNvSpPr/>
          <p:nvPr/>
        </p:nvSpPr>
        <p:spPr>
          <a:xfrm>
            <a:off x="971640" y="4781520"/>
            <a:ext cx="804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хгалтерський облік на підприємствах, які займаються туристичним бізнесом, має низку особливостей. З одного боку, він ведеться, як і на інших підприємствах, у загальноприйнятому порядку відповідно до Закону про бухоблік, ПБО 16, Інструкції № 291, інших нормативних документів. З іншого боку, при формуванні туристичного продукту виникають специфічні (характерні для туризму) правові взаємовідносин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3"/>
          <p:cNvSpPr/>
          <p:nvPr/>
        </p:nvSpPr>
        <p:spPr>
          <a:xfrm>
            <a:off x="395280" y="189000"/>
            <a:ext cx="732636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ідображення в бухгалтерському обліку доходу від надання туристичних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Праналізуємо ситуацію, коли між безпосередніми надавачами послуг і туроператором, між туроператором і турагентом укладено агентські договори. Водночас туроператором сформовано й укладено через турагента з туристами від імені надавачів послуг договір з надання туристичних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Безпосередні надавачі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Такі суб’єкти надають окремі види туристичних послуг. Отже, слід з’ясувати, в який саме момент вони повинні відображати в бухгалтерському обліку дохід від надання послуг.</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ідповідно до пунктів 10 — 14 ПБО 15 дохід, пов’язаний із наданням послуг, визнається виходячи зі ступеня завершеності операції з надання послуг на дату балансу, якщо може бути достовірно оцінено результат цієї операції.</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Оцінка ступеня завершеності операції з надання послуг провадиться:</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ивченням виконаної роботи;</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изначенням питомої ваги обсягу послуг, наданих на певну дату, у загальному обсязі послуг, які мають бути надані;</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визначенням питомої ваги витрат, яких зазнає підприємство у зв’язку із наданням послуг, у загальній очікуваній сумі таких витрат. Сума витрат, здійснених на певну дату, включає лише ті витрати, які відображають обсяг наданих послуг на цю саму дат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17375e"/>
                </a:solidFill>
                <a:latin typeface="Calibri"/>
              </a:rPr>
              <a:t>Спосіб визначення ступеня завершеності послуг встановлюється обліковою політикою підприємства (п. 25.1 ПБО 15). Собівартість наданих послуг визначається в порядку, встановленому ПБО 16. Причому витрати визнаються витратами певного періоду одночасно з визнанням доходу, для отримання якого вони здійснені (п. 7 ПБО 16). Тобто в момент визнання доходу від реалізації послуг визнається також собівартість цих послуг у складі витра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755640" y="260280"/>
            <a:ext cx="7488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Продаж подорожей туристам здійснюється турагентством на договірних засадах. Такий характер взаємовідносин з покупцем обумовлений тим, що об'єктами купівлі-продажу на туристичному ринку є не самі послуги, а права (гарантії) їх одержанн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Між туристом і агентством повинен бути укладений договір купівлі-продажу туристичних послуг, що включає такі основні розділ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предмет договору (купівля клієнтом пакету туристичних послуг та продаж його турфірмо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ціна подорожі, порядок і форма оплати (готівкою чи перерахунок грошей на рахунок у банк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обов'язки агентства (щодо надання туристичних послуг у повному обсязі та зазначеної класності, медичного страхування клієнтів, оформлення для них ві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обов'язки туриста (щодо оплати вартості подорожі, надання необхідних документів для оформлення віз та і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10253f"/>
                </a:solidFill>
                <a:latin typeface="Calibri"/>
              </a:rPr>
              <a:t>відповідальність і звільнення від відповідальності сторін (на випадок форс-мажор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0:37:39Z</dcterms:created>
  <dc:creator>User</dc:creator>
  <dc:description/>
  <dc:language>en-US</dc:language>
  <cp:lastModifiedBy>Asus</cp:lastModifiedBy>
  <cp:lastPrinted>2011-03-08T13:13:44Z</cp:lastPrinted>
  <dcterms:modified xsi:type="dcterms:W3CDTF">2019-02-24T23:04:14Z</dcterms:modified>
  <cp:revision>392</cp:revision>
  <dc:subject/>
  <dc:title>Презентация PowerPoint</dc:title>
</cp:coreProperties>
</file>