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310-E55A-4FA7-B020-4B06C709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7E3-75D1-4902-AC4F-C38A52C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3F2-2635-4496-A496-2D9352AF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9BA-4096-4174-B4F7-0989CAD0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762D-E754-48CF-B9B0-C5861F45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57EB-7C9E-4C47-B2BE-11A043D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5F1-E769-4B17-B8D7-A9D1A95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E25A-3827-4EB9-BEE3-0E1C161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351-611A-4DFF-BD2C-66C817D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1C5-637A-4EB1-9FCD-FFAA721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6D7-8DBE-4698-9294-C657BE2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AFE-2F51-42E9-BA75-CAFD2CD6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3ED8-8332-4B85-B265-55B9885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FA9-84EC-443D-94FF-016CCE97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FC6-CF1F-454E-AA31-6DFD636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EB04-F36A-44BD-8859-5A12696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1696-A115-442B-825C-CC9EF121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699C-125B-4149-89C2-A5A2029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B280-E2AD-42C7-AA66-7E3147A4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FDAC-2A6F-4D1C-A937-CBB7C9C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A33C-C78D-485B-A14C-FA6DDA5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399B-578C-4CAA-91DE-778A13D4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F3E-5C68-4759-B4F7-E7A3231A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82C7-61E4-40ED-804F-44A0CA60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212E-C1E2-47B4-AD9E-EFA8C4A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C7E1-49C0-41EF-AF5A-7F8EF39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06CB-2F6C-4133-B22C-0E118E0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2115-0219-42D5-9B4E-E6A722C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C6BA-4594-4889-B2D0-E31FDCA6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67DF-A143-47F4-983D-7FCD0F15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8DD-CF0C-4346-A6C6-8E03B4F8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EA4-D93D-4399-AC97-7636308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1F9-7E25-4CB9-BF73-38E34852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8B1-60BE-4AD2-A4F6-C371304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1F5-C6AB-40C7-AB82-B5B867A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993-C203-4768-AD80-E586D11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DF9A94-EC1B-4ED0-A22D-11A5AA232079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7096EE-87A6-4519-9BEE-108488B82A65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E44CD7-E2FF-43C6-A4F6-9A0AE399CCF5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040" cy="46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1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Загальна характеристика управління проектами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ХОДИ ДО УПРАВЛІННЯ ПРОЕКТАМИ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лок-схема: несколько документов 2"/>
          <p:cNvSpPr/>
          <p:nvPr/>
        </p:nvSpPr>
        <p:spPr>
          <a:xfrm>
            <a:off x="179640" y="1989000"/>
            <a:ext cx="2664000" cy="1872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ласич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Блок-схема: несколько документов 3"/>
          <p:cNvSpPr/>
          <p:nvPr/>
        </p:nvSpPr>
        <p:spPr>
          <a:xfrm>
            <a:off x="3132000" y="1953000"/>
            <a:ext cx="2952000" cy="1944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правління проектом 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циклом розв’яз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несколько документов 4"/>
          <p:cNvSpPr/>
          <p:nvPr/>
        </p:nvSpPr>
        <p:spPr>
          <a:xfrm>
            <a:off x="6516360" y="1953000"/>
            <a:ext cx="2520000" cy="1944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життєв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циклом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Блок-схема: процесс 1"/>
          <p:cNvSpPr/>
          <p:nvPr/>
        </p:nvSpPr>
        <p:spPr>
          <a:xfrm>
            <a:off x="611640" y="188640"/>
            <a:ext cx="8136720" cy="1079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Класичний  підхід,  запропонований  Генрі  Файол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представляє п’ять основних функцій менеджменту – чоти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безпосередніх і одну інтеграцій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процесс 2"/>
          <p:cNvSpPr/>
          <p:nvPr/>
        </p:nvSpPr>
        <p:spPr>
          <a:xfrm>
            <a:off x="3179880" y="1917000"/>
            <a:ext cx="2687760" cy="1367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лан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ся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біт, необхідних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сягнення ці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3"/>
          <p:cNvSpPr/>
          <p:nvPr/>
        </p:nvSpPr>
        <p:spPr>
          <a:xfrm>
            <a:off x="395640" y="3285000"/>
            <a:ext cx="2160000" cy="169200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нан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у, й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ригу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процесс 4"/>
          <p:cNvSpPr/>
          <p:nvPr/>
        </p:nvSpPr>
        <p:spPr>
          <a:xfrm>
            <a:off x="3263400" y="3861000"/>
            <a:ext cx="2520000" cy="863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Керівниц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роектною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лок-схема: процесс 5"/>
          <p:cNvSpPr/>
          <p:nvPr/>
        </p:nvSpPr>
        <p:spPr>
          <a:xfrm>
            <a:off x="6588360" y="3297240"/>
            <a:ext cx="2376000" cy="167976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рган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рист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сурсів в меж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юджету і ст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Блок-схема: процесс 6"/>
          <p:cNvSpPr/>
          <p:nvPr/>
        </p:nvSpPr>
        <p:spPr>
          <a:xfrm>
            <a:off x="2123640" y="5373360"/>
            <a:ext cx="4968360" cy="935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Впровадж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озробленої прог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10"/>
          <p:cNvCxnSpPr>
            <a:stCxn id="166" idx="0"/>
            <a:endCxn id="164" idx="2"/>
          </p:cNvCxnSpPr>
          <p:nvPr/>
        </p:nvCxnSpPr>
        <p:spPr>
          <a:xfrm flipV="1">
            <a:off x="4523400" y="3284640"/>
            <a:ext cx="720" cy="576720"/>
          </a:xfrm>
          <a:prstGeom prst="straightConnector1">
            <a:avLst/>
          </a:prstGeom>
          <a:ln w="5715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0" name="Прямая со стрелкой 15"/>
          <p:cNvCxnSpPr>
            <a:stCxn id="166" idx="1"/>
          </p:cNvCxnSpPr>
          <p:nvPr/>
        </p:nvCxnSpPr>
        <p:spPr>
          <a:xfrm flipH="1">
            <a:off x="2555640" y="4293000"/>
            <a:ext cx="708120" cy="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1" name="Прямая со стрелкой 17"/>
          <p:cNvCxnSpPr>
            <a:stCxn id="166" idx="3"/>
          </p:cNvCxnSpPr>
          <p:nvPr/>
        </p:nvCxnSpPr>
        <p:spPr>
          <a:xfrm>
            <a:off x="5783760" y="4293000"/>
            <a:ext cx="804600" cy="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2" name="Прямая со стрелкой 19"/>
          <p:cNvCxnSpPr>
            <a:stCxn id="166" idx="2"/>
          </p:cNvCxnSpPr>
          <p:nvPr/>
        </p:nvCxnSpPr>
        <p:spPr>
          <a:xfrm>
            <a:off x="4523400" y="4725000"/>
            <a:ext cx="360" cy="648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3" name="Прямая соединительная линия 23"/>
          <p:cNvCxnSpPr>
            <a:stCxn id="164" idx="3"/>
          </p:cNvCxnSpPr>
          <p:nvPr/>
        </p:nvCxnSpPr>
        <p:spPr>
          <a:xfrm>
            <a:off x="5868000" y="2600640"/>
            <a:ext cx="1656360" cy="360"/>
          </a:xfrm>
          <a:prstGeom prst="straightConnector1">
            <a:avLst/>
          </a:prstGeom>
          <a:ln w="28575">
            <a:solidFill>
              <a:srgbClr val="002060"/>
            </a:solidFill>
            <a:round/>
          </a:ln>
        </p:spPr>
      </p:cxnSp>
      <p:cxnSp>
        <p:nvCxnSpPr>
          <p:cNvPr id="174" name="Прямая со стрелкой 25"/>
          <p:cNvCxnSpPr/>
          <p:nvPr/>
        </p:nvCxnSpPr>
        <p:spPr>
          <a:xfrm>
            <a:off x="7524000" y="2600640"/>
            <a:ext cx="360" cy="684360"/>
          </a:xfrm>
          <a:prstGeom prst="straightConnector1">
            <a:avLst/>
          </a:prstGeom>
          <a:ln w="28575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5" name="Прямая соединительная линия 27"/>
          <p:cNvCxnSpPr>
            <a:stCxn id="165" idx="0"/>
          </p:cNvCxnSpPr>
          <p:nvPr/>
        </p:nvCxnSpPr>
        <p:spPr>
          <a:xfrm flipV="1">
            <a:off x="1475640" y="2600640"/>
            <a:ext cx="360" cy="684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6" name="Прямая соединительная линия 29"/>
          <p:cNvCxnSpPr>
            <a:stCxn id="168" idx="1"/>
          </p:cNvCxnSpPr>
          <p:nvPr/>
        </p:nvCxnSpPr>
        <p:spPr>
          <a:xfrm flipH="1">
            <a:off x="1475640" y="5841000"/>
            <a:ext cx="648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7" name="Прямая соединительная линия 1023"/>
          <p:cNvCxnSpPr>
            <a:stCxn id="167" idx="2"/>
          </p:cNvCxnSpPr>
          <p:nvPr/>
        </p:nvCxnSpPr>
        <p:spPr>
          <a:xfrm>
            <a:off x="7776000" y="4977000"/>
            <a:ext cx="360" cy="684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8" name="Прямая со стрелкой 1026"/>
          <p:cNvCxnSpPr>
            <a:endCxn id="164" idx="1"/>
          </p:cNvCxnSpPr>
          <p:nvPr/>
        </p:nvCxnSpPr>
        <p:spPr>
          <a:xfrm>
            <a:off x="1475640" y="2600640"/>
            <a:ext cx="170460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" name="Прямая со стрелкой 1028"/>
          <p:cNvCxnSpPr>
            <a:endCxn id="165" idx="2"/>
          </p:cNvCxnSpPr>
          <p:nvPr/>
        </p:nvCxnSpPr>
        <p:spPr>
          <a:xfrm flipV="1">
            <a:off x="1475640" y="4977000"/>
            <a:ext cx="360" cy="864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0" name="Прямая со стрелкой 1030"/>
          <p:cNvCxnSpPr/>
          <p:nvPr/>
        </p:nvCxnSpPr>
        <p:spPr>
          <a:xfrm flipH="1">
            <a:off x="7092000" y="5661000"/>
            <a:ext cx="684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79640" y="116640"/>
            <a:ext cx="8784720" cy="532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ід до управління проектами як до циклу розв’язання 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отребує здійснення відповідних кроків реалізації проекту. На перш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етапі  необхідно  провести  аналіз  проблеми,  зібрати  відповідні  да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озробити можливі пропозиції вирішення проблеми, провести їх оці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 наступному етапі важливо здійснити альтернативний вибір (прийн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йкраще  рішення).  Наступним  кроком  є  організація  коман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конавців,  розробка  плану,  його  впровадження  та  провед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оніторин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ідхід до управління проектами з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ттєвим циклом проектного менеджменту 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ручной ввод 2"/>
          <p:cNvSpPr/>
          <p:nvPr/>
        </p:nvSpPr>
        <p:spPr>
          <a:xfrm>
            <a:off x="683640" y="1412640"/>
            <a:ext cx="7416360" cy="1007640"/>
          </a:xfrm>
          <a:prstGeom prst="flowChartManualInpu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Життєвий цикл проекту – це час від моменту його задуму до момен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іквід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3"/>
          <p:cNvSpPr/>
          <p:nvPr/>
        </p:nvSpPr>
        <p:spPr>
          <a:xfrm>
            <a:off x="683640" y="2997000"/>
            <a:ext cx="7992360" cy="280800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ідповідно  до  одного  з  найпоширеніших  підходів  життєвий  цик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збивають на чотири великі фаз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ормулювання проек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у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дійсне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вер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с одним вырезанным углом 1"/>
          <p:cNvSpPr/>
          <p:nvPr/>
        </p:nvSpPr>
        <p:spPr>
          <a:xfrm>
            <a:off x="395640" y="332640"/>
            <a:ext cx="8280720" cy="4392000"/>
          </a:xfrm>
          <a:prstGeom prst="snip1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Ще один з можливих підходів розбиває життєвий цикл проекту на фази та стад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Виділяють такі фази життєвого циклу проект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ародже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роста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рілі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аверш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Стадія  проекту  –  одна  з  послідовно  виконуваних  частин  створ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проекту, встановлена нормативними документами, що закінчується зада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результа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Таблица 1"/>
          <p:cNvGraphicFramePr/>
          <p:nvPr/>
        </p:nvGraphicFramePr>
        <p:xfrm>
          <a:off x="107640" y="116640"/>
          <a:ext cx="9036000" cy="6696360"/>
        </p:xfrm>
        <a:graphic>
          <a:graphicData uri="http://schemas.openxmlformats.org/drawingml/2006/table">
            <a:tbl>
              <a:tblPr/>
              <a:tblGrid>
                <a:gridCol w="746640"/>
                <a:gridCol w="1642680"/>
                <a:gridCol w="3510000"/>
                <a:gridCol w="31363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ОДЖ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ія,  уряд,  інша  організація  визначає потребу  у  ново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а ідея. Приблизні  витрати  за фазою проекту 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ивче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лив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пція  перевіряєть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 деталях  з  метою визначення  ї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істичності, життєздат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зний  обсяг робіт,  масштаб  витрат, терміни  виконання. Приблизні  витрати  –2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РОСТ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ланув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ляється  план вико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ідні  документи  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ягів  та  якості. Затверджений  бюджет і  календарний  план, ресурсний  план. Приблизні  витрати  –2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нструкторсь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ляються  і погоджують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ова  схема, детальне  креслення кожного компон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ІЛ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Забезпе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юються  необхідні  матеріали і обладн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:  обсягів;  якості;  витрат; використання есурсів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єчасності. Приблизні  витрати  –6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иробниц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нтаж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ія  виробляється за допомогою матеріалів, устаткування  з використанням крес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Прийм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цевий  продукт  перевіряється  для встановлення  його відповідності  вимогам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ршення  робіт,  використ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у,  оцінка отриманих  вигод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ородження   і розпуск  команд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удит  і  підсумкова звітність.  Приблизні витрати – 12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864072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ект – це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7640" y="1412640"/>
            <a:ext cx="3312000" cy="100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1. В первіс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наченн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284000" y="980640"/>
            <a:ext cx="4608000" cy="2448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іде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едставлення або опис об’єк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дум  (завдання,  проблема)  та  необхідні  засоби  його  реалізації  із  метою  досягнення  бажаного  економіч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ехнічного, технологічного чи організаційного результ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олна 4"/>
          <p:cNvSpPr/>
          <p:nvPr/>
        </p:nvSpPr>
        <p:spPr>
          <a:xfrm>
            <a:off x="611640" y="3429000"/>
            <a:ext cx="8280720" cy="32400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ля  системи  “проект”  вхідним  сигналом  є  певна  потреба 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ета,  вихідним  –  задоволення  потреби  або  досягнення  м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еруючі дії за проектом – це обмеження (фінансові,нормативно-правові,  етичні,  логістичні,  оточення,  методи  активізації,  рі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якості  тощо)  і  забезпечення  (проектна  команда,  знання  та  досві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інструменти та техніка, технологі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И ПРОЕКТУ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2339640" y="1052640"/>
            <a:ext cx="4608000" cy="935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іде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формулювання проблеми, завда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необхідних початкових дани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411640" y="2781000"/>
            <a:ext cx="4608000" cy="1583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бір засобів реаліз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(аналіз шляхів вирішення пробле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обґрунтування використання пев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оді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339640" y="5085360"/>
            <a:ext cx="4752000" cy="1583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ормулювання мети реаліз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визначеннякінцевих результаті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6"/>
          <p:cNvSpPr/>
          <p:nvPr/>
        </p:nvSpPr>
        <p:spPr>
          <a:xfrm>
            <a:off x="4140000" y="1989000"/>
            <a:ext cx="719640" cy="79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3" name="Стрелка вниз 7"/>
          <p:cNvSpPr/>
          <p:nvPr/>
        </p:nvSpPr>
        <p:spPr>
          <a:xfrm>
            <a:off x="4140000" y="4365000"/>
            <a:ext cx="1007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Горизонтальный свиток 2"/>
          <p:cNvSpPr/>
          <p:nvPr/>
        </p:nvSpPr>
        <p:spPr>
          <a:xfrm>
            <a:off x="755640" y="404640"/>
            <a:ext cx="7704360" cy="547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Проект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–  це  діяльність,  у  процесі  здійснення  як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атеріальні,  фінансові  та  людські  ресурси  організов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оваторським  шляхом  для  виконання  унікальної  роботи 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умовах  обмеження  часу  та  бюджету,  з  метою  досягн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озитивних  змін,  визначених  кількісними  та  якіс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арамет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Блок-схема: знак завершения 1"/>
          <p:cNvSpPr/>
          <p:nvPr/>
        </p:nvSpPr>
        <p:spPr>
          <a:xfrm>
            <a:off x="7812360" y="332640"/>
            <a:ext cx="935640" cy="6192360"/>
          </a:xfrm>
          <a:prstGeom prst="flowChartTerminator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ятиугольник 2"/>
          <p:cNvSpPr/>
          <p:nvPr/>
        </p:nvSpPr>
        <p:spPr>
          <a:xfrm>
            <a:off x="107640" y="116640"/>
            <a:ext cx="4104000" cy="1944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Точне  визначення  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формулювання мети та цілей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всіх  рівнях. 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спрямовується  на  досягне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певних  результатів, 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виконання  яких  зорієнтов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численні ієрархічні ціл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иугольник 3"/>
          <p:cNvSpPr/>
          <p:nvPr/>
        </p:nvSpPr>
        <p:spPr>
          <a:xfrm>
            <a:off x="121680" y="2277000"/>
            <a:ext cx="4089960" cy="2016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ристання  у  проце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ації  проекту  прийом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стемного  аналіз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нхронізація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вдань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4"/>
          <p:cNvSpPr/>
          <p:nvPr/>
        </p:nvSpPr>
        <p:spPr>
          <a:xfrm>
            <a:off x="121680" y="4797000"/>
            <a:ext cx="4089960" cy="1944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 часових  м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у,  певних  дат  початку 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кінчення  проекту  у  цілому 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кремих  його  етапів;  розроб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ових  графіків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них роб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>
            <a:off x="4284000" y="116640"/>
            <a:ext cx="3528000" cy="194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Спрямованіс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осягнення м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6"/>
          <p:cNvSpPr/>
          <p:nvPr/>
        </p:nvSpPr>
        <p:spPr>
          <a:xfrm>
            <a:off x="4284000" y="2277000"/>
            <a:ext cx="3528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оординац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конання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/>
          <p:cNvSpPr/>
          <p:nvPr/>
        </p:nvSpPr>
        <p:spPr>
          <a:xfrm>
            <a:off x="4212000" y="4797000"/>
            <a:ext cx="3600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Обмеженість у ча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Блок-схема: знак завершения 2"/>
          <p:cNvSpPr/>
          <p:nvPr/>
        </p:nvSpPr>
        <p:spPr>
          <a:xfrm>
            <a:off x="7740360" y="476640"/>
            <a:ext cx="935640" cy="6048360"/>
          </a:xfrm>
          <a:prstGeom prst="flowChartTerminator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ятиугольник 3"/>
          <p:cNvSpPr/>
          <p:nvPr/>
        </p:nvSpPr>
        <p:spPr>
          <a:xfrm>
            <a:off x="323640" y="1052640"/>
            <a:ext cx="4104000" cy="1583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  відповідності  до  масштаб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місту  та  термінам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 обсягів   фінансу-вання  задля   забезпе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сурсних потреб 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иугольник 4"/>
          <p:cNvSpPr/>
          <p:nvPr/>
        </p:nvSpPr>
        <p:spPr>
          <a:xfrm>
            <a:off x="107640" y="3501000"/>
            <a:ext cx="4398840" cy="2088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Неповторність  певного  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  цілому  або  окремих  й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кладових,  характерис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етапів  тощо.  Визначення  рі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нікальності  та  можлив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стосування  досвіду   рані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ованих проек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5"/>
          <p:cNvSpPr/>
          <p:nvPr/>
        </p:nvSpPr>
        <p:spPr>
          <a:xfrm>
            <a:off x="4428000" y="908640"/>
            <a:ext cx="3168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явність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6"/>
          <p:cNvSpPr/>
          <p:nvPr/>
        </p:nvSpPr>
        <p:spPr>
          <a:xfrm>
            <a:off x="4506480" y="3717000"/>
            <a:ext cx="3233520" cy="158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Уніка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ЛАСИФІКАЦІЯ ПРОЕКТІВ 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2450880" y="2133000"/>
            <a:ext cx="6408360" cy="13449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перативні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-  Проекти,  пов’язані  з  поточною діяльністю підприєм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тратегічні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-Проекти,  які  впливають  на концептуальні позиції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411640" y="692640"/>
            <a:ext cx="6408360" cy="1151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Комерційн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Основна мета – отримання прибу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Некомерційн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Мета – досягнення соціального еф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иугольник 4"/>
          <p:cNvSpPr/>
          <p:nvPr/>
        </p:nvSpPr>
        <p:spPr>
          <a:xfrm>
            <a:off x="251640" y="69264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мет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еал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ятиугольник 5"/>
          <p:cNvSpPr/>
          <p:nvPr/>
        </p:nvSpPr>
        <p:spPr>
          <a:xfrm>
            <a:off x="219960" y="239832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характером зм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иугольник 6"/>
          <p:cNvSpPr/>
          <p:nvPr/>
        </p:nvSpPr>
        <p:spPr>
          <a:xfrm>
            <a:off x="290880" y="481212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масштаб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(розмі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2450880" y="4149000"/>
            <a:ext cx="6403320" cy="22024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Мал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,  вартістю  до  10  млн  дол.  та трудомісткістю до 40-50 тис. чол.-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Середні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вартістю 10–50 млн д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Великі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вартістю 50–100 млн д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Надвелик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 вартістю  понад  100  млн  д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а трудомісткістю до 20 млн чол.-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Горизонтальный свиток 1"/>
          <p:cNvSpPr/>
          <p:nvPr/>
        </p:nvSpPr>
        <p:spPr>
          <a:xfrm>
            <a:off x="683640" y="692640"/>
            <a:ext cx="7488360" cy="2592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правління  проектами –  це  процес 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мандою та   ресурсами  проекту  за  допомогою  спеціаль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етодів  та  прийомів  з  метою  успішного  досягн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ставлених завд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нутый угол 2"/>
          <p:cNvSpPr/>
          <p:nvPr/>
        </p:nvSpPr>
        <p:spPr>
          <a:xfrm>
            <a:off x="611640" y="3717000"/>
            <a:ext cx="7992360" cy="2880000"/>
          </a:xfrm>
          <a:prstGeom prst="foldedCorner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Ціль проекту – це бажаний результат діяльності, який намагаю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сягти учасники проекту за певний проміжок часу призаданих умов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ації проекту. Цілі проекту повинні бути чітковизначені, очікува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зультати  –  вимірюваними,  а  обмеження  і  вимоги  повинні  бу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ьно  виконуваними.  Як  правило,  найважливішими  параметрами 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цесі  управління  проектом  є  виконання  роботи:  у  заданих  обсяг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відповідно до технічного завдання), вчасно і в межах виділених кош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291760" y="476640"/>
            <a:ext cx="42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сновні принципи управлінн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"/>
          <p:cNvSpPr/>
          <p:nvPr/>
        </p:nvSpPr>
        <p:spPr>
          <a:xfrm>
            <a:off x="1259640" y="980640"/>
            <a:ext cx="6912360" cy="42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ЦІЛЕСПРЯМОВА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СИСТЕ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ОМПЛЕКС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БЕЗПЕЧЕ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РІОРІТЕ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ЕКОНОМІЧ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ЕЗПЕКА ЗАХОД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ЩО ПЛАНУ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  <Words>938</Words>
  <Paragraphs>2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4:22:52Z</dcterms:created>
  <dc:creator>Viktoriia</dc:creator>
  <dc:description/>
  <dc:language>en-US</dc:language>
  <cp:lastModifiedBy>Admin</cp:lastModifiedBy>
  <dcterms:modified xsi:type="dcterms:W3CDTF">2021-09-01T07:30:53Z</dcterms:modified>
  <cp:revision>15</cp:revision>
  <dc:subject/>
  <dc:title>Тема 1 Загальна характеристика управління проект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