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6A9-370A-4027-A0CC-4E63A5AA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926-AADD-4847-9550-DDD6CD09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97F-1DA4-44A7-AE10-81EB3539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CE1-136C-489B-A0CA-95918BC1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9D75-361E-4087-B7A7-8FBDA4DD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F768-2329-4953-B49A-9ACE0B27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A088-2EDD-49F5-8BB1-BF3B03FC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72D1-497D-481F-85CE-0B6D3E13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8561-5383-480B-8F30-787F468F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BCDE-555D-4184-B0B6-E16680D9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39CA-19F1-4C1E-B2FC-2FF761C0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2F4-3677-4A37-9550-DA99E84B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1A51-6833-43F1-981D-2600199A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0AB9-B39C-4470-A1E1-9569DC20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A8E4-C09B-4672-92BD-D6C2BB56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0D43-345D-493C-87BB-6FED77BB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2302-C703-4E74-902C-8FFCFF1A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03BE6-E2AB-4BFD-93FE-5EA8A872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C558-77B0-499D-B2D3-CBDBCD23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4B8D-9BDB-4522-9FF4-72332436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966B-18BC-4897-AFFA-BA428300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ACB6-CD40-4DA9-9B16-C35E9E21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259-B544-4D51-ACBB-4A754D10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AF3D-89AD-47E2-BAE8-304D264D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8D67-285C-4D27-A247-D37D789F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D50F5-768D-4627-ADE2-85EB79D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D661-C35A-4B68-910D-6BDD626F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7BAE3-9022-4C2E-9263-1BCB1437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F948-670E-4530-A907-C736A6F3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138A-0D45-4DB9-B417-95753459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4B3-3BEB-4E66-8A62-38C7652C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4FE-E50B-4564-BF1B-76683E97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FE8-7166-48C7-9AB6-446091C6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4B7-F31E-435D-9645-C650C507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ADC-888B-4D6A-8A79-40193328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4B7-C553-4147-9E51-83C757EB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3ECE69-C888-4B47-AD1D-C55EF7A50D4E}" type="slidenum">
              <a:rPr b="0" lang="uk-U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1358D9-5D31-453C-8B15-BC2C7995F6EC}" type="slidenum">
              <a:rPr b="0" lang="uk-U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23BA82-2180-44C4-8CC4-E52548025002}" type="slidenum">
              <a:rPr b="0" lang="uk-U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uk-U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040" cy="46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1</a:t>
            </a:r>
            <a:br>
              <a:rPr sz="4400"/>
            </a:b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Загальна характеристика управління проектами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ІДХОДИ ДО УПРАВЛІННЯ ПРОЕКТАМИ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Блок-схема: несколько документов 2"/>
          <p:cNvSpPr/>
          <p:nvPr/>
        </p:nvSpPr>
        <p:spPr>
          <a:xfrm>
            <a:off x="179640" y="1989000"/>
            <a:ext cx="2664000" cy="1872000"/>
          </a:xfrm>
          <a:prstGeom prst="flowChartMultidocumen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Класич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ідх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Блок-схема: несколько документов 3"/>
          <p:cNvSpPr/>
          <p:nvPr/>
        </p:nvSpPr>
        <p:spPr>
          <a:xfrm>
            <a:off x="3132000" y="1953000"/>
            <a:ext cx="2952000" cy="1944000"/>
          </a:xfrm>
          <a:prstGeom prst="flowChartMultidocumen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правління проектом я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циклом розв’яз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Блок-схема: несколько документов 4"/>
          <p:cNvSpPr/>
          <p:nvPr/>
        </p:nvSpPr>
        <p:spPr>
          <a:xfrm>
            <a:off x="6516360" y="1953000"/>
            <a:ext cx="2520000" cy="1944000"/>
          </a:xfrm>
          <a:prstGeom prst="flowChartMultidocumen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а життєв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циклом про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Блок-схема: процесс 1"/>
          <p:cNvSpPr/>
          <p:nvPr/>
        </p:nvSpPr>
        <p:spPr>
          <a:xfrm>
            <a:off x="611640" y="188640"/>
            <a:ext cx="8136720" cy="107964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dk1"/>
                </a:solidFill>
                <a:latin typeface="Calibri"/>
              </a:rPr>
              <a:t>Класичний  підхід,  запропонований  Генрі  Файол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dk1"/>
                </a:solidFill>
                <a:latin typeface="Calibri"/>
              </a:rPr>
              <a:t>представляє п’ять основних функцій менеджменту – чоти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dk1"/>
                </a:solidFill>
                <a:latin typeface="Calibri"/>
              </a:rPr>
              <a:t>безпосередніх і одну інтеграцій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Блок-схема: процесс 2"/>
          <p:cNvSpPr/>
          <p:nvPr/>
        </p:nvSpPr>
        <p:spPr>
          <a:xfrm>
            <a:off x="3179880" y="1917000"/>
            <a:ext cx="2687760" cy="136764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лан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бся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обіт, необхідних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осягнення ці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лок-схема: процесс 3"/>
          <p:cNvSpPr/>
          <p:nvPr/>
        </p:nvSpPr>
        <p:spPr>
          <a:xfrm>
            <a:off x="395640" y="3285000"/>
            <a:ext cx="2160000" cy="169200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конанн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лану, й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коригуванн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процесс 4"/>
          <p:cNvSpPr/>
          <p:nvPr/>
        </p:nvSpPr>
        <p:spPr>
          <a:xfrm>
            <a:off x="3263400" y="3861000"/>
            <a:ext cx="2520000" cy="86364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Керівниц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роектною команд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Блок-схема: процесс 5"/>
          <p:cNvSpPr/>
          <p:nvPr/>
        </p:nvSpPr>
        <p:spPr>
          <a:xfrm>
            <a:off x="6588360" y="3297240"/>
            <a:ext cx="2376000" cy="167976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рганіз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корист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сурсів в меж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бюджету і стро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Блок-схема: процесс 6"/>
          <p:cNvSpPr/>
          <p:nvPr/>
        </p:nvSpPr>
        <p:spPr>
          <a:xfrm>
            <a:off x="2123640" y="5373360"/>
            <a:ext cx="4968360" cy="93564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Впровадж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розробленої прог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ді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 стрелкой 10"/>
          <p:cNvCxnSpPr>
            <a:stCxn id="166" idx="0"/>
            <a:endCxn id="164" idx="2"/>
          </p:cNvCxnSpPr>
          <p:nvPr/>
        </p:nvCxnSpPr>
        <p:spPr>
          <a:xfrm flipV="1">
            <a:off x="4523400" y="3284640"/>
            <a:ext cx="720" cy="576720"/>
          </a:xfrm>
          <a:prstGeom prst="straightConnector1">
            <a:avLst/>
          </a:prstGeom>
          <a:ln w="5715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70" name="Прямая со стрелкой 15"/>
          <p:cNvCxnSpPr>
            <a:stCxn id="166" idx="1"/>
          </p:cNvCxnSpPr>
          <p:nvPr/>
        </p:nvCxnSpPr>
        <p:spPr>
          <a:xfrm flipH="1">
            <a:off x="2555640" y="4293000"/>
            <a:ext cx="708120" cy="360"/>
          </a:xfrm>
          <a:prstGeom prst="straightConnector1">
            <a:avLst/>
          </a:prstGeom>
          <a:ln w="381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71" name="Прямая со стрелкой 17"/>
          <p:cNvCxnSpPr>
            <a:stCxn id="166" idx="3"/>
          </p:cNvCxnSpPr>
          <p:nvPr/>
        </p:nvCxnSpPr>
        <p:spPr>
          <a:xfrm>
            <a:off x="5783760" y="4293000"/>
            <a:ext cx="804600" cy="360"/>
          </a:xfrm>
          <a:prstGeom prst="straightConnector1">
            <a:avLst/>
          </a:prstGeom>
          <a:ln w="381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72" name="Прямая со стрелкой 19"/>
          <p:cNvCxnSpPr>
            <a:stCxn id="166" idx="2"/>
          </p:cNvCxnSpPr>
          <p:nvPr/>
        </p:nvCxnSpPr>
        <p:spPr>
          <a:xfrm>
            <a:off x="4523400" y="4725000"/>
            <a:ext cx="360" cy="648360"/>
          </a:xfrm>
          <a:prstGeom prst="straightConnector1">
            <a:avLst/>
          </a:prstGeom>
          <a:ln w="381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73" name="Прямая соединительная линия 23"/>
          <p:cNvCxnSpPr>
            <a:stCxn id="164" idx="3"/>
          </p:cNvCxnSpPr>
          <p:nvPr/>
        </p:nvCxnSpPr>
        <p:spPr>
          <a:xfrm>
            <a:off x="5868000" y="2600640"/>
            <a:ext cx="1656360" cy="360"/>
          </a:xfrm>
          <a:prstGeom prst="straightConnector1">
            <a:avLst/>
          </a:prstGeom>
          <a:ln w="28575">
            <a:solidFill>
              <a:srgbClr val="002060"/>
            </a:solidFill>
            <a:round/>
          </a:ln>
        </p:spPr>
      </p:cxnSp>
      <p:cxnSp>
        <p:nvCxnSpPr>
          <p:cNvPr id="174" name="Прямая со стрелкой 25"/>
          <p:cNvCxnSpPr/>
          <p:nvPr/>
        </p:nvCxnSpPr>
        <p:spPr>
          <a:xfrm>
            <a:off x="7524000" y="2600640"/>
            <a:ext cx="360" cy="684360"/>
          </a:xfrm>
          <a:prstGeom prst="straightConnector1">
            <a:avLst/>
          </a:prstGeom>
          <a:ln w="28575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175" name="Прямая соединительная линия 27"/>
          <p:cNvCxnSpPr>
            <a:stCxn id="165" idx="0"/>
          </p:cNvCxnSpPr>
          <p:nvPr/>
        </p:nvCxnSpPr>
        <p:spPr>
          <a:xfrm flipV="1">
            <a:off x="1475640" y="2600640"/>
            <a:ext cx="360" cy="684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176" name="Прямая соединительная линия 29"/>
          <p:cNvCxnSpPr>
            <a:stCxn id="168" idx="1"/>
          </p:cNvCxnSpPr>
          <p:nvPr/>
        </p:nvCxnSpPr>
        <p:spPr>
          <a:xfrm flipH="1">
            <a:off x="1475640" y="5841000"/>
            <a:ext cx="648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177" name="Прямая соединительная линия 1023"/>
          <p:cNvCxnSpPr>
            <a:stCxn id="167" idx="2"/>
          </p:cNvCxnSpPr>
          <p:nvPr/>
        </p:nvCxnSpPr>
        <p:spPr>
          <a:xfrm>
            <a:off x="7776000" y="4977000"/>
            <a:ext cx="360" cy="684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178" name="Прямая со стрелкой 1026"/>
          <p:cNvCxnSpPr>
            <a:endCxn id="164" idx="1"/>
          </p:cNvCxnSpPr>
          <p:nvPr/>
        </p:nvCxnSpPr>
        <p:spPr>
          <a:xfrm>
            <a:off x="1475640" y="2600640"/>
            <a:ext cx="170460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9" name="Прямая со стрелкой 1028"/>
          <p:cNvCxnSpPr>
            <a:endCxn id="165" idx="2"/>
          </p:cNvCxnSpPr>
          <p:nvPr/>
        </p:nvCxnSpPr>
        <p:spPr>
          <a:xfrm flipV="1">
            <a:off x="1475640" y="4977000"/>
            <a:ext cx="360" cy="864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0" name="Прямая со стрелкой 1030"/>
          <p:cNvCxnSpPr/>
          <p:nvPr/>
        </p:nvCxnSpPr>
        <p:spPr>
          <a:xfrm flipH="1">
            <a:off x="7092000" y="5661000"/>
            <a:ext cx="684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179640" y="116640"/>
            <a:ext cx="8784720" cy="53283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ідхід до управління проектами як до циклу розв’язання 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отребує здійснення відповідних кроків реалізації проекту. На перш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етапі  необхідно  провести  аналіз  проблеми,  зібрати  відповідні  дан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розробити можливі пропозиції вирішення проблеми, провести їх оці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На наступному етапі важливо здійснити альтернативний вибір (прийня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найкраще  рішення).  Наступним  кроком  є  організація  коман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виконавців,  розробка  плану,  його  впровадження  та  провед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моніторин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ідхід до управління проектами з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ттєвим циклом проектного менеджменту 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Блок-схема: ручной ввод 2"/>
          <p:cNvSpPr/>
          <p:nvPr/>
        </p:nvSpPr>
        <p:spPr>
          <a:xfrm>
            <a:off x="683640" y="1412640"/>
            <a:ext cx="7416360" cy="1007640"/>
          </a:xfrm>
          <a:prstGeom prst="flowChartManualInpu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Життєвий цикл проекту – це час від моменту його задуму до момен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іквідац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Блок-схема: процесс 3"/>
          <p:cNvSpPr/>
          <p:nvPr/>
        </p:nvSpPr>
        <p:spPr>
          <a:xfrm>
            <a:off x="683640" y="2997000"/>
            <a:ext cx="7992360" cy="2808000"/>
          </a:xfrm>
          <a:prstGeom prst="flowChartProcess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ідповідно  до  одного  з  найпоширеніших  підходів  життєвий  цик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озбивають на чотири великі фаз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формулювання проект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ланува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дійсне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верш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с одним вырезанным углом 1"/>
          <p:cNvSpPr/>
          <p:nvPr/>
        </p:nvSpPr>
        <p:spPr>
          <a:xfrm>
            <a:off x="395640" y="332640"/>
            <a:ext cx="8280720" cy="4392000"/>
          </a:xfrm>
          <a:prstGeom prst="snip1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Ще один з можливих підходів розбиває життєвий цикл проекту на фази та стад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Виділяють такі фази життєвого циклу проект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зародженн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зростанн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зрілі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завершен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Стадія  проекту  –  одна  з  послідовно  виконуваних  частин  створ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проекту, встановлена нормативними документами, що закінчується зада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результа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Таблица 1"/>
          <p:cNvGraphicFramePr/>
          <p:nvPr/>
        </p:nvGraphicFramePr>
        <p:xfrm>
          <a:off x="107640" y="116640"/>
          <a:ext cx="9036000" cy="6696360"/>
        </p:xfrm>
        <a:graphic>
          <a:graphicData uri="http://schemas.openxmlformats.org/drawingml/2006/table">
            <a:tbl>
              <a:tblPr/>
              <a:tblGrid>
                <a:gridCol w="746640"/>
                <a:gridCol w="1642680"/>
                <a:gridCol w="3510000"/>
                <a:gridCol w="3136320"/>
              </a:tblGrid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РОДЖ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нія,  уряд,  інша  організація  визначає потребу  у  новом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льна ідея. Приблизні  витрати  за фазою проекту 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ивчен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лив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пція  перевіряєть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 деталях  з  метою визначення  ї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лістичності, життєздат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изний  обсяг робіт,  масштаб  витрат, терміни  виконання. Приблизні  витрати  –2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РОСТ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лануван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робляється  план викон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ідні  документи  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ягів  та  якості. Затверджений  бюджет і  календарний  план, ресурсний  план. Приблизні  витрати  –25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онструкторсь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роб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робляються  і погоджують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ова  схема, детальне  креслення кожного компон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4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ІЛ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Забезпе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юються  необхідні  матеріали і обладнан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:  обсягів;  якості;  витрат; використання есурсів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єчасності. Приблизні  витрати  –6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Виробниц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нтаж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ія  виробляється за допомогою матеріалів, устаткування  з використанням крес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Прийм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нцевий  продукт  перевіряється  для встановлення  його відповідності  вимогам прое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ршення  робіт,  використан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кту,  оцінка отриманих  вигод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городження   і розпуск  команд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удит  і  підсумкова звітність.  Приблизні витрати – 12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640" y="274680"/>
            <a:ext cx="864072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роект – це 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7640" y="1412640"/>
            <a:ext cx="3312000" cy="100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1. В первіс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наченн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284000" y="980640"/>
            <a:ext cx="4608000" cy="2448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іде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едставлення або опис об’єкт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дум  (завдання,  проблема)  та  необхідні  засоби  його  реалізації  із  метою  досягнення  бажаного  економічн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ехнічного, технологічного чи організаційного результ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олна 4"/>
          <p:cNvSpPr/>
          <p:nvPr/>
        </p:nvSpPr>
        <p:spPr>
          <a:xfrm>
            <a:off x="611640" y="3429000"/>
            <a:ext cx="8280720" cy="32400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Для  системи  “проект”  вхідним  сигналом  є  певна  потреба  аб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мета,  вихідним  –  задоволення  потреби  або  досягнення  ме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Керуючі дії за проектом – це обмеження (фінансові,нормативно-правові,  етичні,  логістичні,  оточення,  методи  активізації,  рі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якості  тощо)  і  забезпечення  (проектна  команда,  знання  та  досві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інструменти та техніка, технологі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ЕЛЕМЕНТИ ПРОЕКТУ </a:t>
            </a: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2339640" y="1052640"/>
            <a:ext cx="4608000" cy="935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значення іде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(формулювання проблеми, завда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необхідних початкових даних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2411640" y="2781000"/>
            <a:ext cx="4608000" cy="1583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Вибір засобів реалізац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(аналіз шляхів вирішення пробле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обґрунтування використання пев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ідході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339640" y="5085360"/>
            <a:ext cx="4752000" cy="1583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Формулювання мети реалізац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(визначеннякінцевих результаті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6"/>
          <p:cNvSpPr/>
          <p:nvPr/>
        </p:nvSpPr>
        <p:spPr>
          <a:xfrm>
            <a:off x="4140000" y="1989000"/>
            <a:ext cx="719640" cy="79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33" name="Стрелка вниз 7"/>
          <p:cNvSpPr/>
          <p:nvPr/>
        </p:nvSpPr>
        <p:spPr>
          <a:xfrm>
            <a:off x="4140000" y="4365000"/>
            <a:ext cx="1007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6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Горизонтальный свиток 2"/>
          <p:cNvSpPr/>
          <p:nvPr/>
        </p:nvSpPr>
        <p:spPr>
          <a:xfrm>
            <a:off x="755640" y="404640"/>
            <a:ext cx="7704360" cy="547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Проект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 –  це  діяльність,  у  процесі  здійснення  як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матеріальні,  фінансові  та  людські  ресурси  організова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новаторським  шляхом  для  виконання  унікальної  роботи 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умовах  обмеження  часу  та  бюджету,  з  метою  досягн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озитивних  змін,  визначених  кількісними  та  якіс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арамет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Блок-схема: знак завершения 1"/>
          <p:cNvSpPr/>
          <p:nvPr/>
        </p:nvSpPr>
        <p:spPr>
          <a:xfrm>
            <a:off x="7812360" y="332640"/>
            <a:ext cx="935640" cy="6192360"/>
          </a:xfrm>
          <a:prstGeom prst="flowChartTerminator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ятиугольник 2"/>
          <p:cNvSpPr/>
          <p:nvPr/>
        </p:nvSpPr>
        <p:spPr>
          <a:xfrm>
            <a:off x="107640" y="116640"/>
            <a:ext cx="4104000" cy="194400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Точне  визначення  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формулювання мети та цілей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всіх  рівнях.  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спрямовується  на  досягне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певних  результатів, 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виконання  яких  зорієнтован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численні ієрархічні ціл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ятиугольник 3"/>
          <p:cNvSpPr/>
          <p:nvPr/>
        </p:nvSpPr>
        <p:spPr>
          <a:xfrm>
            <a:off x="121680" y="2277000"/>
            <a:ext cx="4089960" cy="201600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користання  у  процес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алізації  проекту  прийом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истемного  аналіз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инхронізація  викон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вдань про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иугольник 4"/>
          <p:cNvSpPr/>
          <p:nvPr/>
        </p:nvSpPr>
        <p:spPr>
          <a:xfrm>
            <a:off x="121680" y="4797000"/>
            <a:ext cx="4089960" cy="194400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значення  часових  ме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у,  певних  дат  початку 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кінчення  проекту  у  цілому 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кремих  його  етапів;  розроб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ланових  графіків  викон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них робі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5"/>
          <p:cNvSpPr/>
          <p:nvPr/>
        </p:nvSpPr>
        <p:spPr>
          <a:xfrm>
            <a:off x="4284000" y="116640"/>
            <a:ext cx="3528000" cy="194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Спрямованість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досягнення м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право 6"/>
          <p:cNvSpPr/>
          <p:nvPr/>
        </p:nvSpPr>
        <p:spPr>
          <a:xfrm>
            <a:off x="4284000" y="2277000"/>
            <a:ext cx="3528000" cy="172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Координаці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виконання завд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/>
          <p:cNvSpPr/>
          <p:nvPr/>
        </p:nvSpPr>
        <p:spPr>
          <a:xfrm>
            <a:off x="4212000" y="4797000"/>
            <a:ext cx="3600000" cy="172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Обмеженість у час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Блок-схема: знак завершения 2"/>
          <p:cNvSpPr/>
          <p:nvPr/>
        </p:nvSpPr>
        <p:spPr>
          <a:xfrm>
            <a:off x="7740360" y="476640"/>
            <a:ext cx="935640" cy="6048360"/>
          </a:xfrm>
          <a:prstGeom prst="flowChartTerminator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ятиугольник 3"/>
          <p:cNvSpPr/>
          <p:nvPr/>
        </p:nvSpPr>
        <p:spPr>
          <a:xfrm>
            <a:off x="323640" y="1052640"/>
            <a:ext cx="4104000" cy="158364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  відповідності  до  масштаб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місту  та  термінам  викон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значення  обсягів   фінансу-вання  задля   забезпеч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сурсних потреб проек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ятиугольник 4"/>
          <p:cNvSpPr/>
          <p:nvPr/>
        </p:nvSpPr>
        <p:spPr>
          <a:xfrm>
            <a:off x="107640" y="3501000"/>
            <a:ext cx="4398840" cy="208800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Неповторність  певного  проек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  цілому  або  окремих  й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кладових,  характерист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етапів  тощо.  Визначення  рів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нікальності  та  можлив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застосування  досвіду   рані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алізованих проект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5"/>
          <p:cNvSpPr/>
          <p:nvPr/>
        </p:nvSpPr>
        <p:spPr>
          <a:xfrm>
            <a:off x="4428000" y="908640"/>
            <a:ext cx="3168000" cy="172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Наявність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право 6"/>
          <p:cNvSpPr/>
          <p:nvPr/>
        </p:nvSpPr>
        <p:spPr>
          <a:xfrm>
            <a:off x="4506480" y="3717000"/>
            <a:ext cx="3233520" cy="158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Унікаль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5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ЛАСИФІКАЦІЯ ПРОЕКТІВ </a:t>
            </a:r>
            <a:endParaRPr b="0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2450880" y="2133000"/>
            <a:ext cx="6408360" cy="13449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Оперативні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-  Проекти,  пов’язані  з  поточною діяльністю підприєм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тратегічні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-Проекти,  які  впливають  на концептуальні позиції підприє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2411640" y="692640"/>
            <a:ext cx="6408360" cy="1151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Комерційні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- Основна мета – отримання прибут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Некомерційні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- Мета – досягнення соціального еф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ятиугольник 4"/>
          <p:cNvSpPr/>
          <p:nvPr/>
        </p:nvSpPr>
        <p:spPr>
          <a:xfrm>
            <a:off x="251640" y="692640"/>
            <a:ext cx="2160000" cy="93564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а мет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реаліз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ятиугольник 5"/>
          <p:cNvSpPr/>
          <p:nvPr/>
        </p:nvSpPr>
        <p:spPr>
          <a:xfrm>
            <a:off x="219960" y="2398320"/>
            <a:ext cx="2160000" cy="93564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а характером змі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иугольник 6"/>
          <p:cNvSpPr/>
          <p:nvPr/>
        </p:nvSpPr>
        <p:spPr>
          <a:xfrm>
            <a:off x="290880" y="4812120"/>
            <a:ext cx="2160000" cy="935640"/>
          </a:xfrm>
          <a:prstGeom prst="homePlate">
            <a:avLst>
              <a:gd name="adj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а масштаб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(розмір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9"/>
          <p:cNvSpPr/>
          <p:nvPr/>
        </p:nvSpPr>
        <p:spPr>
          <a:xfrm>
            <a:off x="2450880" y="4149000"/>
            <a:ext cx="6403320" cy="22024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Малі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и,  вартістю  до  10  млн  дол.  та трудомісткістю до 40-50 тис. чол.-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Середні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 -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и вартістю 10–50 млн д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Великі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 -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и вартістю 50–100 млн д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1800" spc="-1" strike="noStrike">
                <a:solidFill>
                  <a:schemeClr val="dk1"/>
                </a:solidFill>
                <a:latin typeface="Calibri"/>
              </a:rPr>
              <a:t>Надвеликі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екти  вартістю  понад  100  млн  д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а трудомісткістю до 20 млн чол.-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Горизонтальный свиток 1"/>
          <p:cNvSpPr/>
          <p:nvPr/>
        </p:nvSpPr>
        <p:spPr>
          <a:xfrm>
            <a:off x="683640" y="692640"/>
            <a:ext cx="7488360" cy="2592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правління  проектами –  це  процес  управлі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командою та   ресурсами  проекту  за  допомогою  спеціаль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методів  та  прийомів  з  метою  успішного  досягн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ставлених завд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Загнутый угол 2"/>
          <p:cNvSpPr/>
          <p:nvPr/>
        </p:nvSpPr>
        <p:spPr>
          <a:xfrm>
            <a:off x="611640" y="3717000"/>
            <a:ext cx="7992360" cy="2880000"/>
          </a:xfrm>
          <a:prstGeom prst="foldedCorner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Ціль проекту – це бажаний результат діяльності, який намагаю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осягти учасники проекту за певний проміжок часу призаданих умов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алізації проекту. Цілі проекту повинні бути чітковизначені, очікува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зультати  –  вимірюваними,  а  обмеження  і  вимоги  повинні  бу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еально  виконуваними.  Як  правило,  найважливішими  параметрами 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роцесі  управління  проектом  є  виконання  роботи:  у  заданих  обсяг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(відповідно до технічного завдання), вчасно і в межах виділених кош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291760" y="476640"/>
            <a:ext cx="422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сновні принципи управління про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"/>
          <p:cNvSpPr/>
          <p:nvPr/>
        </p:nvSpPr>
        <p:spPr>
          <a:xfrm>
            <a:off x="1259640" y="980640"/>
            <a:ext cx="6912360" cy="42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ЦІЛЕСПРЯМОВА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СИСТЕ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КОМПЛЕКС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ЗАБЕЗПЕЧЕ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1800" spc="-1" strike="noStrike">
                <a:solidFill>
                  <a:schemeClr val="dk1"/>
                </a:solidFill>
                <a:latin typeface="Calibri"/>
              </a:rPr>
              <a:t>ПРІОРІТЕ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ЕКОНОМІЧ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БЕЗПЕКА ЗАХОДІ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ЩО ПЛАНУЮ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  <Words>938</Words>
  <Paragraphs>2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14:22:52Z</dcterms:created>
  <dc:creator>Viktoriia</dc:creator>
  <dc:description/>
  <dc:language>en-US</dc:language>
  <cp:lastModifiedBy>Admin</cp:lastModifiedBy>
  <dcterms:modified xsi:type="dcterms:W3CDTF">2021-09-01T07:30:53Z</dcterms:modified>
  <cp:revision>15</cp:revision>
  <dc:subject/>
  <dc:title>Тема 1 Загальна характеристика управління проект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