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2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7031-73E0-44C5-9F9B-4C91D587EEE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B1C8-7F1E-467F-9EE1-025054075071}" type="slidenum">
              <a:rPr b="0" lang="uk-UA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A58-8CEF-419B-A600-072E200C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94F-96E1-4C24-8305-CD195771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937-5FBB-4876-8376-37A61C1C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E4E-79B9-416A-B757-29D9D494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A61E-63A4-4B35-8709-34FC52D3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A9FC-4457-4847-A1E9-19DABDD1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0400-15E6-4253-B355-8DEAF27B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3FEC-DFAF-451A-BE08-D2FB3068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04F0-4937-4CF8-8668-60484F43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0636-D01F-4678-8D53-D1B072D5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EDFF-4499-4023-B610-6128203A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F27-A97A-43BE-89A1-71507F96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F24B-051A-469D-A985-D239310C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54F8-9D6A-433D-87C4-4237B606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7220-6581-4AB8-9C7E-BE61D1C9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832A-AC16-4801-AE88-60EF9347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EE99-1B09-4861-9FDA-B63F8EF5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35E-3EF0-48B9-91B4-6454325E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D06-F825-4AE4-8173-BAC32D0C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ADC-C14D-4232-B7B9-2DAA70FC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455-F6AC-4161-A46D-CD6DDF5B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F42-0856-4806-ACB2-F19E53F5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60E-7BCE-4628-A0A0-CA9EC1C5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3AA-BF73-49F1-8B2D-61138A8D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7BC6-2C92-4F31-A37E-E1998F83B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FC78-1317-4C1F-A64D-685CFC449DA4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04176"/>
                </a:solidFill>
                <a:latin typeface="Times New Roman"/>
              </a:rPr>
              <a:t>Лекція 2.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4000" y="3499920"/>
            <a:ext cx="7993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Класифікація, загальна будова та принцип роботи двигунів внутрішнього згоряння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Класифікація</a:t>
            </a:r>
            <a:br>
              <a:rPr sz="3600"/>
            </a:b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 двигунів внутрішнього згорання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81" name="Organization Chart 17"/>
          <p:cNvGrpSpPr/>
          <p:nvPr/>
        </p:nvGrpSpPr>
        <p:grpSpPr>
          <a:xfrm>
            <a:off x="684360" y="1941480"/>
            <a:ext cx="7703280" cy="4102200"/>
            <a:chOff x="684360" y="1941480"/>
            <a:chExt cx="7703280" cy="4102200"/>
          </a:xfrm>
        </p:grpSpPr>
        <p:cxnSp>
          <p:nvCxnSpPr>
            <p:cNvPr id="382" name="_s1028"/>
            <p:cNvCxnSpPr>
              <a:stCxn id="383" idx="0"/>
              <a:endCxn id="384" idx="3"/>
            </p:cNvCxnSpPr>
            <p:nvPr/>
          </p:nvCxnSpPr>
          <p:spPr>
            <a:xfrm flipV="1" rot="16200000">
              <a:off x="5163480" y="2865960"/>
              <a:ext cx="821160" cy="22521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385" name="_s1029"/>
            <p:cNvCxnSpPr>
              <a:stCxn id="386" idx="0"/>
              <a:endCxn id="384" idx="3"/>
            </p:cNvCxnSpPr>
            <p:nvPr/>
          </p:nvCxnSpPr>
          <p:spPr>
            <a:xfrm flipH="1" flipV="1" rot="5400000">
              <a:off x="3089880" y="3043800"/>
              <a:ext cx="821160" cy="18968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384" name="_s1030"/>
            <p:cNvSpPr/>
            <p:nvPr/>
          </p:nvSpPr>
          <p:spPr>
            <a:xfrm>
              <a:off x="2757600" y="1941480"/>
              <a:ext cx="3555360" cy="1640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abe90">
                    <a:alpha val="40000"/>
                  </a:srgbClr>
                </a:gs>
                <a:gs pos="100000">
                  <a:srgbClr val="fefed6"/>
                </a:gs>
              </a:gsLst>
              <a:lin ang="5400000"/>
            </a:gradFill>
            <a:ln w="9360">
              <a:solidFill>
                <a:srgbClr val="babe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cc6600"/>
                  </a:solidFill>
                  <a:latin typeface="Arial"/>
                </a:rPr>
                <a:t>За способом здійснення робочого процесу</a:t>
              </a:r>
              <a:endParaRPr b="0" lang="en-US" sz="2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6" name="_s1031"/>
            <p:cNvSpPr/>
            <p:nvPr/>
          </p:nvSpPr>
          <p:spPr>
            <a:xfrm>
              <a:off x="684360" y="4402800"/>
              <a:ext cx="3555360" cy="1640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66699">
                    <a:alpha val="40000"/>
                  </a:srgbClr>
                </a:gs>
                <a:gs pos="100000">
                  <a:srgbClr val="fefed6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100" spc="-1" strike="noStrike">
                  <a:solidFill>
                    <a:srgbClr val="6600cc"/>
                  </a:solidFill>
                  <a:latin typeface="Arial"/>
                </a:rPr>
                <a:t>чотиритактні</a:t>
              </a:r>
              <a:endParaRPr b="0" lang="en-US" sz="31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3" name="_s1032"/>
            <p:cNvSpPr/>
            <p:nvPr/>
          </p:nvSpPr>
          <p:spPr>
            <a:xfrm>
              <a:off x="4832280" y="4402800"/>
              <a:ext cx="3555360" cy="1640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66699">
                    <a:alpha val="40000"/>
                  </a:srgbClr>
                </a:gs>
                <a:gs pos="100000">
                  <a:srgbClr val="fefed6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100" spc="-1" strike="noStrike">
                  <a:solidFill>
                    <a:srgbClr val="6600cc"/>
                  </a:solidFill>
                  <a:latin typeface="Arial"/>
                </a:rPr>
                <a:t>двотактні</a:t>
              </a:r>
              <a:endParaRPr b="0" lang="en-US" sz="31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Класифікація</a:t>
            </a:r>
            <a:br>
              <a:rPr sz="3600"/>
            </a:b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 двигунів внутрішнього згорання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8" name="AutoShape 16"/>
          <p:cNvSpPr/>
          <p:nvPr/>
        </p:nvSpPr>
        <p:spPr>
          <a:xfrm>
            <a:off x="2556000" y="2708280"/>
            <a:ext cx="4032000" cy="2305080"/>
          </a:xfrm>
          <a:custGeom>
            <a:avLst/>
            <a:gdLst>
              <a:gd name="textAreaLeft" fmla="*/ 678240 w 4032000"/>
              <a:gd name="textAreaRight" fmla="*/ 3353760 w 403200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w="21600" h="21600">
                <a:moveTo>
                  <a:pt x="3635" y="0"/>
                </a:moveTo>
                <a:lnTo>
                  <a:pt x="17965" y="0"/>
                </a:lnTo>
                <a:lnTo>
                  <a:pt x="17965" y="8098"/>
                </a:lnTo>
                <a:lnTo>
                  <a:pt x="18902" y="8098"/>
                </a:lnTo>
                <a:lnTo>
                  <a:pt x="18902" y="0"/>
                </a:lnTo>
                <a:lnTo>
                  <a:pt x="21600" y="10800"/>
                </a:lnTo>
                <a:lnTo>
                  <a:pt x="18902" y="21600"/>
                </a:lnTo>
                <a:lnTo>
                  <a:pt x="18902" y="13502"/>
                </a:lnTo>
                <a:lnTo>
                  <a:pt x="17965" y="13502"/>
                </a:lnTo>
                <a:lnTo>
                  <a:pt x="17965" y="21600"/>
                </a:lnTo>
                <a:lnTo>
                  <a:pt x="3635" y="21600"/>
                </a:lnTo>
                <a:lnTo>
                  <a:pt x="3635" y="13502"/>
                </a:lnTo>
                <a:lnTo>
                  <a:pt x="2698" y="13502"/>
                </a:lnTo>
                <a:lnTo>
                  <a:pt x="2698" y="21600"/>
                </a:lnTo>
                <a:lnTo>
                  <a:pt x="0" y="10800"/>
                </a:lnTo>
                <a:lnTo>
                  <a:pt x="2698" y="0"/>
                </a:lnTo>
                <a:lnTo>
                  <a:pt x="2698" y="8098"/>
                </a:lnTo>
                <a:lnTo>
                  <a:pt x="3635" y="809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 СПОСОБОМ ОХОЛОДЖЕННЯ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Rectangle 17"/>
          <p:cNvSpPr/>
          <p:nvPr/>
        </p:nvSpPr>
        <p:spPr>
          <a:xfrm>
            <a:off x="179280" y="3068640"/>
            <a:ext cx="2303640" cy="151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з рідинним охолодженням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6661080" y="3068640"/>
            <a:ext cx="2303640" cy="151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 повітряним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охолодженням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Класифікація</a:t>
            </a:r>
            <a:br>
              <a:rPr sz="3600"/>
            </a:b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 двигунів внутрішнього згорання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92" name="Organization Chart 6"/>
          <p:cNvGrpSpPr/>
          <p:nvPr/>
        </p:nvGrpSpPr>
        <p:grpSpPr>
          <a:xfrm>
            <a:off x="900000" y="2060640"/>
            <a:ext cx="7504200" cy="4392360"/>
            <a:chOff x="900000" y="2060640"/>
            <a:chExt cx="7504200" cy="4392360"/>
          </a:xfrm>
        </p:grpSpPr>
        <p:cxnSp>
          <p:nvCxnSpPr>
            <p:cNvPr id="393" name="_s2052"/>
            <p:cNvCxnSpPr>
              <a:stCxn id="394" idx="1"/>
              <a:endCxn id="395" idx="2"/>
            </p:cNvCxnSpPr>
            <p:nvPr/>
          </p:nvCxnSpPr>
          <p:spPr>
            <a:xfrm rot="10800000">
              <a:off x="2952000" y="2858760"/>
              <a:ext cx="813600" cy="3042000"/>
            </a:xfrm>
            <a:prstGeom prst="bentConnector2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396" name="_s2053"/>
            <p:cNvCxnSpPr>
              <a:stCxn id="397" idx="1"/>
              <a:endCxn id="395" idx="2"/>
            </p:cNvCxnSpPr>
            <p:nvPr/>
          </p:nvCxnSpPr>
          <p:spPr>
            <a:xfrm rot="10800000">
              <a:off x="2952000" y="2858760"/>
              <a:ext cx="829440" cy="1859400"/>
            </a:xfrm>
            <a:prstGeom prst="bentConnector2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398" name="_s2054"/>
            <p:cNvCxnSpPr>
              <a:stCxn id="399" idx="1"/>
              <a:endCxn id="395" idx="2"/>
            </p:cNvCxnSpPr>
            <p:nvPr/>
          </p:nvCxnSpPr>
          <p:spPr>
            <a:xfrm rot="10800000">
              <a:off x="2952000" y="2858760"/>
              <a:ext cx="813600" cy="798840"/>
            </a:xfrm>
            <a:prstGeom prst="bentConnector2">
              <a:avLst/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395" name="_s2055"/>
            <p:cNvSpPr/>
            <p:nvPr/>
          </p:nvSpPr>
          <p:spPr>
            <a:xfrm>
              <a:off x="900000" y="2060640"/>
              <a:ext cx="4103640" cy="79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09e4a"/>
              </a:solidFill>
              <a:miter/>
            </a:ln>
            <a:effectLst>
              <a:outerShdw dist="63504" dir="19383909" blurRad="0" rotWithShape="0">
                <a:srgbClr val="c09e4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800000"/>
                  </a:solidFill>
                  <a:latin typeface="Arial"/>
                </a:rPr>
                <a:t>За кількістю циліндрів</a:t>
              </a:r>
              <a:endParaRPr b="0" lang="en-US" sz="25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9" name="_s2056"/>
            <p:cNvSpPr/>
            <p:nvPr/>
          </p:nvSpPr>
          <p:spPr>
            <a:xfrm>
              <a:off x="3765600" y="3258360"/>
              <a:ext cx="4622760" cy="79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6666"/>
              </a:solidFill>
              <a:miter/>
            </a:ln>
            <a:effectLst>
              <a:outerShdw dist="63504" dir="19383909" blurRad="0" rotWithShape="0">
                <a:srgbClr val="00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300" spc="-1" strike="noStrike">
                  <a:solidFill>
                    <a:srgbClr val="003399"/>
                  </a:solidFill>
                  <a:latin typeface="Arial"/>
                </a:rPr>
                <a:t>одноциліндрові</a:t>
              </a:r>
              <a:endParaRPr b="0" lang="en-US" sz="23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7" name="_s2057"/>
            <p:cNvSpPr/>
            <p:nvPr/>
          </p:nvSpPr>
          <p:spPr>
            <a:xfrm>
              <a:off x="3781440" y="4318920"/>
              <a:ext cx="4622760" cy="798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6666"/>
              </a:solidFill>
              <a:miter/>
            </a:ln>
            <a:effectLst>
              <a:outerShdw dist="63504" dir="19383909" blurRad="0" rotWithShape="0">
                <a:srgbClr val="00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300" spc="-1" strike="noStrike">
                  <a:solidFill>
                    <a:srgbClr val="003399"/>
                  </a:solidFill>
                  <a:latin typeface="Arial"/>
                </a:rPr>
                <a:t>двоциліндрові</a:t>
              </a:r>
              <a:endParaRPr b="0" lang="en-US" sz="23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4" name="_s2058"/>
            <p:cNvSpPr/>
            <p:nvPr/>
          </p:nvSpPr>
          <p:spPr>
            <a:xfrm>
              <a:off x="3765600" y="5348880"/>
              <a:ext cx="4622760" cy="11041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6666"/>
              </a:solidFill>
              <a:miter/>
            </a:ln>
            <a:effectLst>
              <a:outerShdw dist="63504" dir="19383909" blurRad="0" rotWithShape="0">
                <a:srgbClr val="00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300" spc="-1" strike="noStrike">
                  <a:solidFill>
                    <a:srgbClr val="003399"/>
                  </a:solidFill>
                  <a:latin typeface="Arial"/>
                </a:rPr>
                <a:t>багатоциліндрові </a:t>
              </a:r>
              <a:endParaRPr b="0" lang="en-US" sz="23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300" spc="-1" strike="noStrike">
                  <a:solidFill>
                    <a:srgbClr val="003399"/>
                  </a:solidFill>
                  <a:latin typeface="Arial"/>
                </a:rPr>
                <a:t>(чотири -, шести -, восьми -, дванадцятициліндрові)</a:t>
              </a:r>
              <a:endParaRPr b="0" lang="en-US" sz="23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99ff"/>
                </a:solidFill>
                <a:latin typeface="Times New Roman"/>
              </a:rPr>
              <a:t>Класифікація</a:t>
            </a:r>
            <a:br>
              <a:rPr sz="3600"/>
            </a:br>
            <a:r>
              <a:rPr b="1" lang="uk-UA" sz="3600" spc="-1" strike="noStrike">
                <a:solidFill>
                  <a:srgbClr val="3399ff"/>
                </a:solidFill>
                <a:latin typeface="Times New Roman"/>
              </a:rPr>
              <a:t> двигунів внутрішнього згорання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401" name="Organization Chart 17"/>
          <p:cNvGrpSpPr/>
          <p:nvPr/>
        </p:nvGrpSpPr>
        <p:grpSpPr>
          <a:xfrm>
            <a:off x="395280" y="1700280"/>
            <a:ext cx="8424000" cy="4896720"/>
            <a:chOff x="395280" y="1700280"/>
            <a:chExt cx="8424000" cy="4896720"/>
          </a:xfrm>
        </p:grpSpPr>
        <p:cxnSp>
          <p:nvCxnSpPr>
            <p:cNvPr id="402" name="_s3076"/>
            <p:cNvCxnSpPr>
              <a:stCxn id="403" idx="0"/>
              <a:endCxn id="404" idx="2"/>
            </p:cNvCxnSpPr>
            <p:nvPr/>
          </p:nvCxnSpPr>
          <p:spPr>
            <a:xfrm flipV="1" rot="16200000">
              <a:off x="6499440" y="4047840"/>
              <a:ext cx="585360" cy="2183040"/>
            </a:xfrm>
            <a:prstGeom prst="bentConnector3">
              <a:avLst>
                <a:gd name="adj1" fmla="val 19507"/>
              </a:avLst>
            </a:prstGeom>
            <a:ln w="9360">
              <a:solidFill>
                <a:srgbClr val="8383ad"/>
              </a:solidFill>
              <a:miter/>
            </a:ln>
          </p:spPr>
        </p:cxnSp>
        <p:cxnSp>
          <p:nvCxnSpPr>
            <p:cNvPr id="405" name="_s3077"/>
            <p:cNvCxnSpPr>
              <a:stCxn id="406" idx="0"/>
              <a:endCxn id="404" idx="2"/>
            </p:cNvCxnSpPr>
            <p:nvPr/>
          </p:nvCxnSpPr>
          <p:spPr>
            <a:xfrm flipV="1">
              <a:off x="5700600" y="4847040"/>
              <a:ext cx="2520" cy="585360"/>
            </a:xfrm>
            <a:prstGeom prst="bentConnector2">
              <a:avLst/>
            </a:prstGeom>
            <a:ln w="9360">
              <a:solidFill>
                <a:srgbClr val="8383ad"/>
              </a:solidFill>
              <a:miter/>
            </a:ln>
          </p:spPr>
        </p:cxnSp>
        <p:cxnSp>
          <p:nvCxnSpPr>
            <p:cNvPr id="407" name="_s3078"/>
            <p:cNvCxnSpPr>
              <a:stCxn id="408" idx="0"/>
              <a:endCxn id="404" idx="2"/>
            </p:cNvCxnSpPr>
            <p:nvPr/>
          </p:nvCxnSpPr>
          <p:spPr>
            <a:xfrm flipH="1" flipV="1" rot="5400000">
              <a:off x="4316760" y="4047840"/>
              <a:ext cx="585360" cy="2183400"/>
            </a:xfrm>
            <a:prstGeom prst="bentConnector3">
              <a:avLst>
                <a:gd name="adj1" fmla="val 19507"/>
              </a:avLst>
            </a:prstGeom>
            <a:ln w="9360">
              <a:solidFill>
                <a:srgbClr val="8383ad"/>
              </a:solidFill>
              <a:miter/>
            </a:ln>
          </p:spPr>
        </p:cxnSp>
        <p:cxnSp>
          <p:nvCxnSpPr>
            <p:cNvPr id="409" name="_s3079"/>
            <p:cNvCxnSpPr>
              <a:stCxn id="404" idx="0"/>
              <a:endCxn id="410" idx="2"/>
            </p:cNvCxnSpPr>
            <p:nvPr/>
          </p:nvCxnSpPr>
          <p:spPr>
            <a:xfrm flipV="1" rot="16200000">
              <a:off x="4333320" y="2066400"/>
              <a:ext cx="549720" cy="2185200"/>
            </a:xfrm>
            <a:prstGeom prst="bentConnector3">
              <a:avLst>
                <a:gd name="adj1" fmla="val 20838"/>
              </a:avLst>
            </a:prstGeom>
            <a:ln w="9360">
              <a:solidFill>
                <a:srgbClr val="8383ad"/>
              </a:solidFill>
              <a:miter/>
            </a:ln>
          </p:spPr>
        </p:cxnSp>
        <p:cxnSp>
          <p:nvCxnSpPr>
            <p:cNvPr id="411" name="_s3080"/>
            <p:cNvCxnSpPr>
              <a:stCxn id="412" idx="0"/>
              <a:endCxn id="410" idx="2"/>
            </p:cNvCxnSpPr>
            <p:nvPr/>
          </p:nvCxnSpPr>
          <p:spPr>
            <a:xfrm flipV="1">
              <a:off x="3515760" y="2884320"/>
              <a:ext cx="2520" cy="549720"/>
            </a:xfrm>
            <a:prstGeom prst="bentConnector2">
              <a:avLst/>
            </a:prstGeom>
            <a:ln w="9360">
              <a:solidFill>
                <a:srgbClr val="8383ad"/>
              </a:solidFill>
              <a:miter/>
            </a:ln>
          </p:spPr>
        </p:cxnSp>
        <p:cxnSp>
          <p:nvCxnSpPr>
            <p:cNvPr id="413" name="_s3081"/>
            <p:cNvCxnSpPr>
              <a:stCxn id="414" idx="0"/>
              <a:endCxn id="410" idx="2"/>
            </p:cNvCxnSpPr>
            <p:nvPr/>
          </p:nvCxnSpPr>
          <p:spPr>
            <a:xfrm flipH="1" flipV="1" rot="5400000">
              <a:off x="2148840" y="2066760"/>
              <a:ext cx="549720" cy="2185200"/>
            </a:xfrm>
            <a:prstGeom prst="bentConnector3">
              <a:avLst>
                <a:gd name="adj1" fmla="val 20838"/>
              </a:avLst>
            </a:prstGeom>
            <a:ln w="9360">
              <a:solidFill>
                <a:srgbClr val="8383ad"/>
              </a:solidFill>
              <a:miter/>
            </a:ln>
          </p:spPr>
        </p:cxnSp>
        <p:sp>
          <p:nvSpPr>
            <p:cNvPr id="410" name="_s3082"/>
            <p:cNvSpPr/>
            <p:nvPr/>
          </p:nvSpPr>
          <p:spPr>
            <a:xfrm>
              <a:off x="1931400" y="1700280"/>
              <a:ext cx="3168720" cy="1169280"/>
            </a:xfrm>
            <a:prstGeom prst="bracketPair">
              <a:avLst>
                <a:gd name="adj" fmla="val 0"/>
              </a:avLst>
            </a:prstGeom>
            <a:solidFill>
              <a:srgbClr val="006666">
                <a:alpha val="50000"/>
              </a:srgbClr>
            </a:solidFill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За розміщенням циліндрів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4" name="_s3083"/>
            <p:cNvSpPr/>
            <p:nvPr/>
          </p:nvSpPr>
          <p:spPr>
            <a:xfrm>
              <a:off x="395280" y="3446280"/>
              <a:ext cx="1872360" cy="1384560"/>
            </a:xfrm>
            <a:prstGeom prst="bracketPair">
              <a:avLst>
                <a:gd name="adj" fmla="val 0"/>
              </a:avLst>
            </a:prstGeom>
            <a:solidFill>
              <a:srgbClr val="666699">
                <a:alpha val="50000"/>
              </a:srgbClr>
            </a:solidFill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V-</a:t>
              </a:r>
              <a:r>
                <a:rPr b="1" lang="uk-UA" sz="2000" spc="-1" strike="noStrike">
                  <a:solidFill>
                    <a:srgbClr val="006666"/>
                  </a:solidFill>
                  <a:latin typeface="Times New Roman"/>
                </a:rPr>
                <a:t>подібні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2" name="_s3084"/>
            <p:cNvSpPr/>
            <p:nvPr/>
          </p:nvSpPr>
          <p:spPr>
            <a:xfrm>
              <a:off x="2579760" y="3446280"/>
              <a:ext cx="1872360" cy="1709640"/>
            </a:xfrm>
            <a:prstGeom prst="bracketPair">
              <a:avLst>
                <a:gd name="adj" fmla="val 0"/>
              </a:avLst>
            </a:prstGeom>
            <a:solidFill>
              <a:srgbClr val="666699">
                <a:alpha val="50000"/>
              </a:srgbClr>
            </a:solidFill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6666"/>
                  </a:solidFill>
                  <a:latin typeface="Times New Roman"/>
                </a:rPr>
                <a:t>опозитні 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6666"/>
                  </a:solidFill>
                  <a:latin typeface="Times New Roman"/>
                </a:rPr>
                <a:t>(осі циліндрів розміщені під кутом 180 градусів)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4" name="_s3085"/>
            <p:cNvSpPr/>
            <p:nvPr/>
          </p:nvSpPr>
          <p:spPr>
            <a:xfrm>
              <a:off x="4764600" y="3446280"/>
              <a:ext cx="1872360" cy="1384560"/>
            </a:xfrm>
            <a:prstGeom prst="bracketPair">
              <a:avLst>
                <a:gd name="adj" fmla="val 0"/>
              </a:avLst>
            </a:prstGeom>
            <a:solidFill>
              <a:srgbClr val="666699">
                <a:alpha val="50000"/>
              </a:srgbClr>
            </a:solidFill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6666"/>
                  </a:solidFill>
                  <a:latin typeface="Times New Roman"/>
                </a:rPr>
                <a:t>рядні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8" name="_s3086"/>
            <p:cNvSpPr/>
            <p:nvPr/>
          </p:nvSpPr>
          <p:spPr>
            <a:xfrm>
              <a:off x="2581920" y="5443920"/>
              <a:ext cx="1870560" cy="1153080"/>
            </a:xfrm>
            <a:prstGeom prst="bracketPair">
              <a:avLst>
                <a:gd name="adj" fmla="val 0"/>
              </a:avLst>
            </a:prstGeom>
            <a:solidFill>
              <a:srgbClr val="c09e4a">
                <a:alpha val="50000"/>
              </a:srgbClr>
            </a:solidFill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800000"/>
                  </a:solidFill>
                  <a:latin typeface="Times New Roman"/>
                </a:rPr>
                <a:t>вертикальні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6" name="_s3087"/>
            <p:cNvSpPr/>
            <p:nvPr/>
          </p:nvSpPr>
          <p:spPr>
            <a:xfrm>
              <a:off x="4764600" y="5443920"/>
              <a:ext cx="1870200" cy="1153080"/>
            </a:xfrm>
            <a:prstGeom prst="bracketPair">
              <a:avLst>
                <a:gd name="adj" fmla="val 0"/>
              </a:avLst>
            </a:prstGeom>
            <a:solidFill>
              <a:srgbClr val="c09e4a">
                <a:alpha val="50000"/>
              </a:srgbClr>
            </a:solidFill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800000"/>
                  </a:solidFill>
                  <a:latin typeface="Times New Roman"/>
                </a:rPr>
                <a:t>нахилені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3" name="_s3088"/>
            <p:cNvSpPr/>
            <p:nvPr/>
          </p:nvSpPr>
          <p:spPr>
            <a:xfrm>
              <a:off x="6946920" y="5443920"/>
              <a:ext cx="1872360" cy="1153080"/>
            </a:xfrm>
            <a:prstGeom prst="bracketPair">
              <a:avLst>
                <a:gd name="adj" fmla="val 0"/>
              </a:avLst>
            </a:prstGeom>
            <a:solidFill>
              <a:srgbClr val="c09e4a">
                <a:alpha val="50000"/>
              </a:srgbClr>
            </a:solidFill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800000"/>
                  </a:solidFill>
                  <a:latin typeface="Times New Roman"/>
                </a:rPr>
                <a:t>горизонтальні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6" descr="5"/>
          <p:cNvPicPr/>
          <p:nvPr/>
        </p:nvPicPr>
        <p:blipFill>
          <a:blip r:embed="rId1"/>
          <a:stretch/>
        </p:blipFill>
        <p:spPr>
          <a:xfrm>
            <a:off x="204840" y="981000"/>
            <a:ext cx="4703760" cy="568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61440" y="40428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3399ff"/>
                </a:solidFill>
                <a:latin typeface="Times New Roman"/>
              </a:rPr>
              <a:t>Класифікація двигунів внутрішнього згорання</a:t>
            </a:r>
            <a:endParaRPr b="0" lang="en-US" sz="3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6720" y="1915920"/>
            <a:ext cx="3888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 – рядні: 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lang="uk-UA" sz="3000" spc="-1" strike="noStrike">
                <a:solidFill>
                  <a:srgbClr val="006666"/>
                </a:solidFill>
                <a:latin typeface="Times New Roman"/>
              </a:rPr>
              <a:t>а</a:t>
            </a: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 – вертикальні;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lang="uk-UA" sz="3000" spc="-1" strike="noStrike">
                <a:solidFill>
                  <a:srgbClr val="006666"/>
                </a:solidFill>
                <a:latin typeface="Times New Roman"/>
              </a:rPr>
              <a:t>б</a:t>
            </a: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 – горизонтальні;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006666"/>
                </a:solidFill>
                <a:latin typeface="Times New Roman"/>
              </a:rPr>
              <a:t>V-</a:t>
            </a: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подібні;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6666"/>
                </a:solidFill>
                <a:latin typeface="Times New Roman"/>
              </a:rPr>
              <a:t>3</a:t>
            </a: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 – опозитні.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Organization Chart 8"/>
          <p:cNvGrpSpPr/>
          <p:nvPr/>
        </p:nvGrpSpPr>
        <p:grpSpPr>
          <a:xfrm>
            <a:off x="684360" y="836640"/>
            <a:ext cx="7703280" cy="1871280"/>
            <a:chOff x="684360" y="836640"/>
            <a:chExt cx="7703280" cy="1871280"/>
          </a:xfrm>
        </p:grpSpPr>
        <p:cxnSp>
          <p:nvCxnSpPr>
            <p:cNvPr id="419" name="_s4100"/>
            <p:cNvCxnSpPr>
              <a:stCxn id="420" idx="0"/>
              <a:endCxn id="421" idx="2"/>
            </p:cNvCxnSpPr>
            <p:nvPr/>
          </p:nvCxnSpPr>
          <p:spPr>
            <a:xfrm flipV="1" rot="16200000">
              <a:off x="5358600" y="602280"/>
              <a:ext cx="427680" cy="2075040"/>
            </a:xfrm>
            <a:prstGeom prst="bentConnector3">
              <a:avLst>
                <a:gd name="adj1" fmla="val 23925"/>
              </a:avLst>
            </a:prstGeom>
            <a:ln w="28440">
              <a:solidFill>
                <a:srgbClr val="8383ad"/>
              </a:solidFill>
              <a:miter/>
            </a:ln>
          </p:spPr>
        </p:cxnSp>
        <p:cxnSp>
          <p:nvCxnSpPr>
            <p:cNvPr id="422" name="_s4101"/>
            <p:cNvCxnSpPr>
              <a:stCxn id="423" idx="0"/>
              <a:endCxn id="421" idx="2"/>
            </p:cNvCxnSpPr>
            <p:nvPr/>
          </p:nvCxnSpPr>
          <p:spPr>
            <a:xfrm flipH="1" flipV="1" rot="5400000">
              <a:off x="3284640" y="603000"/>
              <a:ext cx="427680" cy="2073960"/>
            </a:xfrm>
            <a:prstGeom prst="bentConnector3">
              <a:avLst>
                <a:gd name="adj1" fmla="val 23925"/>
              </a:avLst>
            </a:prstGeom>
            <a:ln w="28440">
              <a:solidFill>
                <a:srgbClr val="8383ad"/>
              </a:solidFill>
              <a:miter/>
            </a:ln>
          </p:spPr>
        </p:cxnSp>
        <p:sp>
          <p:nvSpPr>
            <p:cNvPr id="421" name="_s4102"/>
            <p:cNvSpPr/>
            <p:nvPr/>
          </p:nvSpPr>
          <p:spPr>
            <a:xfrm>
              <a:off x="2231280" y="836640"/>
              <a:ext cx="4608720" cy="590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66"/>
                </a:gs>
                <a:gs pos="50000">
                  <a:srgbClr val="c0c0c0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3399"/>
                  </a:solidFill>
                  <a:latin typeface="Arial"/>
                </a:rPr>
                <a:t>Загальна будова ДВЗ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3" name="_s4103"/>
            <p:cNvSpPr/>
            <p:nvPr/>
          </p:nvSpPr>
          <p:spPr>
            <a:xfrm>
              <a:off x="684360" y="1854000"/>
              <a:ext cx="3555360" cy="85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ccffcc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700" spc="-1" strike="noStrike">
                  <a:solidFill>
                    <a:srgbClr val="6600ff"/>
                  </a:solidFill>
                  <a:latin typeface="Arial"/>
                </a:rPr>
                <a:t>механізми ДВЗ</a:t>
              </a:r>
              <a:endParaRPr b="0" lang="en-US" sz="27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0" name="_s4104"/>
            <p:cNvSpPr/>
            <p:nvPr/>
          </p:nvSpPr>
          <p:spPr>
            <a:xfrm>
              <a:off x="4832280" y="1854000"/>
              <a:ext cx="3555360" cy="85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ccffcc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700" spc="-1" strike="noStrike">
                  <a:solidFill>
                    <a:srgbClr val="6600ff"/>
                  </a:solidFill>
                  <a:latin typeface="Arial"/>
                </a:rPr>
                <a:t>системи ДВЗ</a:t>
              </a:r>
              <a:endParaRPr b="0" lang="en-US" sz="27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24" name="AutoShape 22"/>
          <p:cNvSpPr/>
          <p:nvPr/>
        </p:nvSpPr>
        <p:spPr>
          <a:xfrm>
            <a:off x="1187280" y="3213000"/>
            <a:ext cx="29530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fefed6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Arial"/>
              </a:rPr>
              <a:t>кривошипно-шатунний механіз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Line 23"/>
          <p:cNvSpPr/>
          <p:nvPr/>
        </p:nvSpPr>
        <p:spPr>
          <a:xfrm>
            <a:off x="826920" y="2708280"/>
            <a:ext cx="0" cy="237636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Line 24"/>
          <p:cNvSpPr/>
          <p:nvPr/>
        </p:nvSpPr>
        <p:spPr>
          <a:xfrm>
            <a:off x="826920" y="5084640"/>
            <a:ext cx="36036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Line 25"/>
          <p:cNvSpPr/>
          <p:nvPr/>
        </p:nvSpPr>
        <p:spPr>
          <a:xfrm>
            <a:off x="826920" y="3716280"/>
            <a:ext cx="36036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AutoShape 26"/>
          <p:cNvSpPr/>
          <p:nvPr/>
        </p:nvSpPr>
        <p:spPr>
          <a:xfrm>
            <a:off x="1187280" y="4581360"/>
            <a:ext cx="29530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fefed6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Arial"/>
              </a:rPr>
              <a:t>газорозподільний механіз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Line 27"/>
          <p:cNvSpPr/>
          <p:nvPr/>
        </p:nvSpPr>
        <p:spPr>
          <a:xfrm>
            <a:off x="8172360" y="2708280"/>
            <a:ext cx="0" cy="360036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Line 28"/>
          <p:cNvSpPr/>
          <p:nvPr/>
        </p:nvSpPr>
        <p:spPr>
          <a:xfrm>
            <a:off x="7812000" y="3141720"/>
            <a:ext cx="36036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AutoShape 29"/>
          <p:cNvSpPr/>
          <p:nvPr/>
        </p:nvSpPr>
        <p:spPr>
          <a:xfrm>
            <a:off x="4859280" y="2852640"/>
            <a:ext cx="2952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efed6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Arial"/>
              </a:rPr>
              <a:t>система живленн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AutoShape 30"/>
          <p:cNvSpPr/>
          <p:nvPr/>
        </p:nvSpPr>
        <p:spPr>
          <a:xfrm>
            <a:off x="4859280" y="3645000"/>
            <a:ext cx="2952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efed6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Arial"/>
              </a:rPr>
              <a:t>система мащенн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AutoShape 31"/>
          <p:cNvSpPr/>
          <p:nvPr/>
        </p:nvSpPr>
        <p:spPr>
          <a:xfrm>
            <a:off x="4859280" y="4437000"/>
            <a:ext cx="2952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efed6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Arial"/>
              </a:rPr>
              <a:t>система охолодженн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AutoShape 32"/>
          <p:cNvSpPr/>
          <p:nvPr/>
        </p:nvSpPr>
        <p:spPr>
          <a:xfrm>
            <a:off x="4859280" y="5229360"/>
            <a:ext cx="2952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efed6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Arial"/>
              </a:rPr>
              <a:t>система пуску двигун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5" name="AutoShape 33"/>
          <p:cNvSpPr/>
          <p:nvPr/>
        </p:nvSpPr>
        <p:spPr>
          <a:xfrm>
            <a:off x="4859280" y="6021360"/>
            <a:ext cx="2952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efed6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Arial"/>
              </a:rPr>
              <a:t>система запалюванн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Line 34"/>
          <p:cNvSpPr/>
          <p:nvPr/>
        </p:nvSpPr>
        <p:spPr>
          <a:xfrm>
            <a:off x="7812000" y="3933720"/>
            <a:ext cx="36036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Line 35"/>
          <p:cNvSpPr/>
          <p:nvPr/>
        </p:nvSpPr>
        <p:spPr>
          <a:xfrm>
            <a:off x="7812000" y="4724280"/>
            <a:ext cx="36036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Line 36"/>
          <p:cNvSpPr/>
          <p:nvPr/>
        </p:nvSpPr>
        <p:spPr>
          <a:xfrm>
            <a:off x="7812000" y="5516640"/>
            <a:ext cx="36036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>
            <a:off x="7812000" y="6308640"/>
            <a:ext cx="36036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0" y="508464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Times New Roman"/>
              </a:rPr>
              <a:t>Робочий цикл двигуна – </a:t>
            </a:r>
            <a:r>
              <a:rPr b="0" lang="uk-UA" sz="3200" spc="-1" strike="noStrike">
                <a:solidFill>
                  <a:srgbClr val="0033cc"/>
                </a:solidFill>
                <a:latin typeface="Times New Roman"/>
              </a:rPr>
              <a:t>сукупність послідовних процесів: впуск, стиск,згорання, розширення, випуск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42" name="Picture 5" descr="cycle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04176"/>
                </a:solidFill>
                <a:latin typeface="Times New Roman"/>
              </a:rPr>
              <a:t>Основні поняття і визначення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44" name="Picture 8" descr="z_7ab"/>
          <p:cNvPicPr/>
          <p:nvPr/>
        </p:nvPicPr>
        <p:blipFill>
          <a:blip r:embed="rId1"/>
          <a:stretch/>
        </p:blipFill>
        <p:spPr>
          <a:xfrm>
            <a:off x="1403280" y="1268280"/>
            <a:ext cx="640260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627280" y="980640"/>
            <a:ext cx="43927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68000" y="1981080"/>
            <a:ext cx="44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47" name="Picture 4" descr="z_7ab"/>
          <p:cNvPicPr/>
          <p:nvPr/>
        </p:nvPicPr>
        <p:blipFill>
          <a:blip r:embed="rId1"/>
          <a:stretch/>
        </p:blipFill>
        <p:spPr>
          <a:xfrm>
            <a:off x="762120" y="428760"/>
            <a:ext cx="712296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0" y="475920"/>
            <a:ext cx="4427640" cy="626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Хід поршня</a:t>
            </a:r>
            <a:r>
              <a:rPr b="0" lang="uk-UA" sz="2800" spc="-1" strike="noStrike">
                <a:solidFill>
                  <a:srgbClr val="404176"/>
                </a:solidFill>
                <a:latin typeface="Times New Roman"/>
              </a:rPr>
              <a:t> –</a:t>
            </a:r>
            <a:r>
              <a:rPr b="0" lang="uk-UA" sz="32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990033"/>
                </a:solidFill>
                <a:latin typeface="Times New Roman"/>
              </a:rPr>
              <a:t>шлях який проходить поршень між мертвими точками.</a:t>
            </a:r>
            <a:br>
              <a:rPr sz="2800"/>
            </a:b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Робочий об'єм циліндра</a:t>
            </a:r>
            <a:r>
              <a:rPr b="0" lang="uk-UA" sz="2800" spc="-1" strike="noStrike">
                <a:solidFill>
                  <a:srgbClr val="404176"/>
                </a:solidFill>
                <a:latin typeface="Times New Roman"/>
              </a:rPr>
              <a:t> – </a:t>
            </a:r>
            <a:r>
              <a:rPr b="0" lang="uk-UA" sz="2800" spc="-1" strike="noStrike">
                <a:solidFill>
                  <a:srgbClr val="990033"/>
                </a:solidFill>
                <a:latin typeface="Times New Roman"/>
              </a:rPr>
              <a:t>об'єм, що звільняється поршнем внаслідок його переміщення від однієї мертвої точки до іншої.</a:t>
            </a:r>
            <a:br>
              <a:rPr sz="2800"/>
            </a:b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Камера згорання</a:t>
            </a:r>
            <a:r>
              <a:rPr b="0" lang="uk-UA" sz="28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990033"/>
                </a:solidFill>
                <a:latin typeface="Times New Roman"/>
              </a:rPr>
              <a:t>(камера стиску) – об'єм над поршнем, який перебуває у ВМТ.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4797000"/>
            <a:ext cx="2733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50" name="Picture 6" descr="z_7ab"/>
          <p:cNvPicPr/>
          <p:nvPr/>
        </p:nvPicPr>
        <p:blipFill>
          <a:blip r:embed="rId1"/>
          <a:stretch/>
        </p:blipFill>
        <p:spPr>
          <a:xfrm>
            <a:off x="0" y="457200"/>
            <a:ext cx="48070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cc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43c3c"/>
                </a:solidFill>
                <a:latin typeface="Times New Roman"/>
              </a:rPr>
              <a:t>1. Класифікація і загальна будова двигуна внутрішнього згорянн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43c3c"/>
                </a:solidFill>
                <a:latin typeface="Times New Roman"/>
              </a:rPr>
              <a:t>2. Основні поняття і визначенн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43c3c"/>
                </a:solidFill>
                <a:latin typeface="Times New Roman"/>
              </a:rPr>
              <a:t>3. Робочі цикли чотиритактного дизельного та двотактного карбюраторного двигуні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43c3c"/>
                </a:solidFill>
                <a:latin typeface="Times New Roman"/>
              </a:rPr>
              <a:t>4. Порівняльна оцінка чотиритактного дизельного та двотактного карбюраторного двигуні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2997000"/>
            <a:ext cx="777240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V 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– 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робочий об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єм циліндра, л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 – 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діаметр циліндра, см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 – 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хід поршня, с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4"/>
              <p:cNvSpPr txBox="1"/>
              <p:nvPr/>
            </p:nvSpPr>
            <p:spPr>
              <a:xfrm>
                <a:off x="2268360" y="1052640"/>
                <a:ext cx="489600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50560" y="2492280"/>
            <a:ext cx="8569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 – 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робочий об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єм (літраж) усіх циліндрів, л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 – 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діаметр циліндра, см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 – 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хід поршня, с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43c3c"/>
                </a:solidFill>
                <a:latin typeface="Times New Roman"/>
              </a:rPr>
              <a:t>І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 – кількість циліндрів. шт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4"/>
              <p:cNvSpPr txBox="1"/>
              <p:nvPr/>
            </p:nvSpPr>
            <p:spPr>
              <a:xfrm>
                <a:off x="1835280" y="907920"/>
                <a:ext cx="554508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л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π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68360" y="2636640"/>
            <a:ext cx="79912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V</a:t>
            </a:r>
            <a:r>
              <a:rPr b="1" lang="uk-UA" sz="2800" spc="-1" strike="noStrike">
                <a:solidFill>
                  <a:srgbClr val="f43c3c"/>
                </a:solidFill>
                <a:latin typeface="Times New Roman"/>
              </a:rPr>
              <a:t>а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 – повний об 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єм циліндра;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V</a:t>
            </a:r>
            <a:r>
              <a:rPr b="1" lang="uk-UA" sz="2800" spc="-1" strike="noStrike">
                <a:solidFill>
                  <a:srgbClr val="f43c3c"/>
                </a:solidFill>
                <a:latin typeface="Times New Roman"/>
              </a:rPr>
              <a:t>с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 - об 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єм над днищем, коли поршень перебуває у ВМТ;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V</a:t>
            </a:r>
            <a:r>
              <a:rPr b="1" lang="uk-UA" sz="2800" spc="-1" strike="noStrike">
                <a:solidFill>
                  <a:srgbClr val="f43c3c"/>
                </a:solidFill>
                <a:latin typeface="Times New Roman"/>
              </a:rPr>
              <a:t>р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 - об 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єм, що звільняє поршень при переміщенні від ВМТ до НМТ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4"/>
              <p:cNvSpPr txBox="1"/>
              <p:nvPr/>
            </p:nvSpPr>
            <p:spPr>
              <a:xfrm>
                <a:off x="2340000" y="836640"/>
                <a:ext cx="52563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2852640"/>
            <a:ext cx="8713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43c3c"/>
                </a:solidFill>
                <a:latin typeface="Times New Roman"/>
              </a:rPr>
              <a:t>Е 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– 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ступінь стиску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V</a:t>
            </a:r>
            <a:r>
              <a:rPr b="1" lang="uk-UA" sz="2800" spc="-1" strike="noStrike">
                <a:solidFill>
                  <a:srgbClr val="f43c3c"/>
                </a:solidFill>
                <a:latin typeface="Times New Roman"/>
              </a:rPr>
              <a:t>а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 – повний об 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єм циліндра;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V</a:t>
            </a:r>
            <a:r>
              <a:rPr b="1" lang="uk-UA" sz="2800" spc="-1" strike="noStrike">
                <a:solidFill>
                  <a:srgbClr val="f43c3c"/>
                </a:solidFill>
                <a:latin typeface="Times New Roman"/>
              </a:rPr>
              <a:t>с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 - об 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єм над днищем, коли поршень перебуває у ВМТ;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V</a:t>
            </a:r>
            <a:r>
              <a:rPr b="1" lang="uk-UA" sz="2800" spc="-1" strike="noStrike">
                <a:solidFill>
                  <a:srgbClr val="f43c3c"/>
                </a:solidFill>
                <a:latin typeface="Times New Roman"/>
              </a:rPr>
              <a:t>р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 - об 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єм, що звільняє поршень при переміщенні від ВМТ до НМТ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4"/>
              <p:cNvSpPr txBox="1"/>
              <p:nvPr/>
            </p:nvSpPr>
            <p:spPr>
              <a:xfrm>
                <a:off x="1116000" y="692280"/>
                <a:ext cx="691200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5" descr="work_4"/>
          <p:cNvPicPr/>
          <p:nvPr/>
        </p:nvPicPr>
        <p:blipFill>
          <a:blip r:embed="rId1"/>
          <a:stretch/>
        </p:blipFill>
        <p:spPr>
          <a:xfrm>
            <a:off x="-9360" y="976320"/>
            <a:ext cx="91627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5" descr="dv_kl3"/>
          <p:cNvPicPr/>
          <p:nvPr/>
        </p:nvPicPr>
        <p:blipFill>
          <a:blip r:embed="rId1"/>
          <a:stretch/>
        </p:blipFill>
        <p:spPr>
          <a:xfrm>
            <a:off x="324000" y="1082520"/>
            <a:ext cx="8424720" cy="57754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Схема робочого процесу двотактного карбюраторного двигуна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04176"/>
                </a:solidFill>
                <a:latin typeface="Times New Roman"/>
              </a:rPr>
              <a:t>Переваги та недоліки ДВЗ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43c3c"/>
                </a:solidFill>
                <a:latin typeface="Times New Roman"/>
              </a:rPr>
              <a:t>У порівнянні з карбюраторним (бензиновим) двигуном дизель має наступні переваги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a0a10"/>
                </a:solidFill>
                <a:latin typeface="Times New Roman"/>
              </a:rPr>
              <a:t>- дизель економніше: на одиницю виконаної роботи внаслідок високого ступеня стиснення він витрачає на 25% менше палива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a0a10"/>
                </a:solidFill>
                <a:latin typeface="Times New Roman"/>
              </a:rPr>
              <a:t>- паливо, на якому працює дизель, менш небезпечно в пожежному відношенні і чинить менший корозійне дію на деталі, ніж бензин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04176"/>
                </a:solidFill>
                <a:latin typeface="Times New Roman"/>
              </a:rPr>
              <a:t>Переваги та </a:t>
            </a:r>
            <a:r>
              <a:rPr b="0" lang="uk-UA" sz="4000" spc="-1" strike="noStrike">
                <a:solidFill>
                  <a:srgbClr val="404176"/>
                </a:solidFill>
                <a:latin typeface="Times New Roman"/>
              </a:rPr>
              <a:t>недоліки</a:t>
            </a:r>
            <a:r>
              <a:rPr b="0" lang="uk-UA" sz="4400" spc="-1" strike="noStrike">
                <a:solidFill>
                  <a:srgbClr val="404176"/>
                </a:solidFill>
                <a:latin typeface="Times New Roman"/>
              </a:rPr>
              <a:t> ДВЗ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43c3c"/>
                </a:solidFill>
                <a:latin typeface="Times New Roman"/>
              </a:rPr>
              <a:t>Недоліки дизеля: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a0a10"/>
                </a:solidFill>
                <a:latin typeface="Times New Roman"/>
              </a:rPr>
              <a:t>- через високого тиску газів в циліндрах, корпус та інші деталі, що працюють зі значними навантаженнями, важче і мають великі розміри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a0a10"/>
                </a:solidFill>
                <a:latin typeface="Times New Roman"/>
              </a:rPr>
              <a:t>- для пуску дизеля потрібно більш потужний стартер або спеціальний карбюраторний пусковий двигун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a0a10"/>
                </a:solidFill>
                <a:latin typeface="Times New Roman"/>
              </a:rPr>
              <a:t>- дизель працює зі значним надлишком повітря, тому розміри циліндрів і інших деталей і складальних одиниць збільшено.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Times New Roman"/>
              </a:rPr>
              <a:t>Дякую за увагу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04176"/>
                </a:solidFill>
                <a:latin typeface="Times New Roman"/>
              </a:rPr>
              <a:t>Рекомендована література: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9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Родичев В.А. Трактор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ы : учеб. пособие / В.А. Родичев. – М. : Издательский центр «Академия», 2007. – 288 с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илаев Г.В., Баздырев Н.Д. Тракторы для лесного хозяйства : Учеб. пос. – М. : МГУЛ, 2002. – 282 с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Трактори / Я.Ю. Білоконь, А.І. Окоча,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С.П. Коханівський, А.Ф. Антоненко; За ред. Я.Ю. Білоконя. – К. : Урожай, 1991. – 368 с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777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4. Трактори / А.Ф. Головчук, В.Ф. Орлов, О.П. Строков; за ред. А.Ф. Головчука. – К. : Грамота, 2009. – 336 с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5. Гуревич Т.С. Тракторы и автомобили. М., Колос, 1983. –336 с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6. Силаев Г.В., Баздырев Н.Д. Тракторы для лесного хазяйства:  Учебное пособие для студентов специальности 260400.  – 2-е изд. стер.  – М.:  МГУЛ, 2002.  – 282 с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43c3c"/>
                </a:solidFill>
                <a:latin typeface="Times New Roman"/>
              </a:rPr>
              <a:t>Основні вимоги до ДВЗ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a0a10"/>
                </a:solidFill>
                <a:latin typeface="Times New Roman"/>
              </a:rPr>
              <a:t>- простота конструкції і надійність роботи на різних експлуатаційних режимах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a0a10"/>
                </a:solidFill>
                <a:latin typeface="Times New Roman"/>
              </a:rPr>
              <a:t>- мінімальні габаритні розміри та маса при необхідній потужності, надійності і довговічності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a0a10"/>
                </a:solidFill>
                <a:latin typeface="Times New Roman"/>
              </a:rPr>
              <a:t>- висока економічність щодо витрат палива і мастил при роботі на різних експлуатаційних режимах і кліматичних умовах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a0a10"/>
                </a:solidFill>
                <a:latin typeface="Times New Roman"/>
              </a:rPr>
              <a:t>- високий моторесурс, протягом якого двигун повинен працювати надійно й економічно до капітального ремонту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a0a10"/>
                </a:solidFill>
                <a:latin typeface="Times New Roman"/>
              </a:rPr>
              <a:t>- безвідмовний пуск за різних температурних умов і добра прийомистість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a0a10"/>
                </a:solidFill>
                <a:latin typeface="Times New Roman"/>
              </a:rPr>
              <a:t>- найповніше зрівноваження сил та моментів рухомих мас та забезпечення заданого ступеня нерівномірності обертання колінчастого вала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a0a10"/>
                </a:solidFill>
                <a:latin typeface="Times New Roman"/>
              </a:rPr>
              <a:t>- низький рівень викидів токсичних компонентів та шуму і повна безпечність незалежно від умов експлуатації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592280" y="549360"/>
            <a:ext cx="5997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Класифікація</a:t>
            </a:r>
            <a:br>
              <a:rPr sz="3600"/>
            </a:b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 двигунів внутрішнього згорання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2700360" y="1916280"/>
            <a:ext cx="3887640" cy="10587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ff"/>
                </a:solidFill>
                <a:latin typeface="Arial"/>
              </a:rPr>
              <a:t>За видом палив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>
            <a:off x="468360" y="3716280"/>
            <a:ext cx="32400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бензинові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Oval 6"/>
          <p:cNvSpPr/>
          <p:nvPr/>
        </p:nvSpPr>
        <p:spPr>
          <a:xfrm>
            <a:off x="5580000" y="3738600"/>
            <a:ext cx="32400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дизельні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 rot="9091200">
            <a:off x="3204360" y="3357360"/>
            <a:ext cx="1295640" cy="2156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AutoShape 9"/>
          <p:cNvSpPr/>
          <p:nvPr/>
        </p:nvSpPr>
        <p:spPr>
          <a:xfrm rot="2089800">
            <a:off x="4645080" y="3428640"/>
            <a:ext cx="1295280" cy="2160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AutoShape 10"/>
          <p:cNvSpPr/>
          <p:nvPr/>
        </p:nvSpPr>
        <p:spPr>
          <a:xfrm rot="5400000">
            <a:off x="3887280" y="4041720"/>
            <a:ext cx="1441440" cy="2156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7" name="Oval 11"/>
          <p:cNvSpPr/>
          <p:nvPr/>
        </p:nvSpPr>
        <p:spPr>
          <a:xfrm>
            <a:off x="2987640" y="5229360"/>
            <a:ext cx="32400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газові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Класифікація</a:t>
            </a:r>
            <a:br>
              <a:rPr sz="3600"/>
            </a:b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 двигунів внутрішнього згорання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2411280" y="2060640"/>
            <a:ext cx="4321440" cy="79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d6"/>
              </a:gs>
              <a:gs pos="100000">
                <a:srgbClr val="99ccff"/>
              </a:gs>
            </a:gsLst>
            <a:lin ang="18900000"/>
          </a:gradFill>
          <a:ln w="28440">
            <a:solidFill>
              <a:srgbClr val="0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За способом сумішоутворенн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971640" y="5516640"/>
            <a:ext cx="3024000" cy="576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d6"/>
              </a:gs>
              <a:gs pos="100000">
                <a:srgbClr val="99ccff"/>
              </a:gs>
            </a:gsLst>
            <a:lin ang="18900000"/>
          </a:gradFill>
          <a:ln w="28440">
            <a:solidFill>
              <a:srgbClr val="0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дизельні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AutoShape 9"/>
          <p:cNvSpPr/>
          <p:nvPr/>
        </p:nvSpPr>
        <p:spPr>
          <a:xfrm rot="5400000">
            <a:off x="1332000" y="2204640"/>
            <a:ext cx="2232000" cy="4105440"/>
          </a:xfrm>
          <a:prstGeom prst="pie">
            <a:avLst/>
          </a:prstGeom>
          <a:gradFill rotWithShape="0">
            <a:gsLst>
              <a:gs pos="0">
                <a:srgbClr val="ffccff"/>
              </a:gs>
              <a:gs pos="50000">
                <a:srgbClr val="fefed6"/>
              </a:gs>
              <a:gs pos="100000">
                <a:srgbClr val="ffccff"/>
              </a:gs>
            </a:gsLst>
            <a:lin ang="18900000"/>
          </a:gradFill>
          <a:ln w="255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66"/>
                </a:solidFill>
                <a:latin typeface="Times New Roman"/>
              </a:rPr>
              <a:t>з внутрішнім приготуванням горючої суміші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AutoShape 11"/>
          <p:cNvSpPr/>
          <p:nvPr/>
        </p:nvSpPr>
        <p:spPr>
          <a:xfrm rot="5400000">
            <a:off x="5653080" y="2204640"/>
            <a:ext cx="2232000" cy="4105440"/>
          </a:xfrm>
          <a:prstGeom prst="pie">
            <a:avLst/>
          </a:prstGeom>
          <a:gradFill rotWithShape="0">
            <a:gsLst>
              <a:gs pos="0">
                <a:srgbClr val="ffccff"/>
              </a:gs>
              <a:gs pos="50000">
                <a:srgbClr val="fefed6"/>
              </a:gs>
              <a:gs pos="100000">
                <a:srgbClr val="ffccff"/>
              </a:gs>
            </a:gsLst>
            <a:lin ang="18900000"/>
          </a:gradFill>
          <a:ln w="255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66"/>
                </a:solidFill>
                <a:latin typeface="Times New Roman"/>
              </a:rPr>
              <a:t>із зовнішнім приготуванням горючої суміші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5364000" y="5516640"/>
            <a:ext cx="3024360" cy="576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d6"/>
              </a:gs>
              <a:gs pos="100000">
                <a:srgbClr val="99ccff"/>
              </a:gs>
            </a:gsLst>
            <a:lin ang="18900000"/>
          </a:gradFill>
          <a:ln w="28440">
            <a:solidFill>
              <a:srgbClr val="0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карбюраторні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Класифікація</a:t>
            </a:r>
            <a:br>
              <a:rPr sz="3600"/>
            </a:b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 двигунів внутрішнього згорання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979640" y="2060640"/>
            <a:ext cx="5113440" cy="792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efed6"/>
              </a:gs>
              <a:gs pos="100000">
                <a:srgbClr val="99ff99"/>
              </a:gs>
            </a:gsLst>
            <a:lin ang="18900000"/>
          </a:gradFill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00"/>
                </a:solidFill>
                <a:latin typeface="Arial"/>
              </a:rPr>
              <a:t>За способом запалювання суміші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971640" y="5516640"/>
            <a:ext cx="3024000" cy="576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efed6"/>
              </a:gs>
              <a:gs pos="100000">
                <a:srgbClr val="99ff99"/>
              </a:gs>
            </a:gsLst>
            <a:lin ang="18900000"/>
          </a:gradFill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00"/>
                </a:solidFill>
                <a:latin typeface="Arial"/>
              </a:rPr>
              <a:t>дизельні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AutoShape 5"/>
          <p:cNvSpPr/>
          <p:nvPr/>
        </p:nvSpPr>
        <p:spPr>
          <a:xfrm rot="5400000">
            <a:off x="1332000" y="2204640"/>
            <a:ext cx="2232000" cy="4105440"/>
          </a:xfrm>
          <a:prstGeom prst="pie">
            <a:avLst/>
          </a:prstGeom>
          <a:gradFill rotWithShape="0">
            <a:gsLst>
              <a:gs pos="0">
                <a:srgbClr val="9999ff"/>
              </a:gs>
              <a:gs pos="50000">
                <a:srgbClr val="fefed6"/>
              </a:gs>
              <a:gs pos="100000">
                <a:srgbClr val="9999ff"/>
              </a:gs>
            </a:gsLst>
            <a:lin ang="18900000"/>
          </a:gradFill>
          <a:ln w="255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66"/>
                </a:solidFill>
                <a:latin typeface="Times New Roman"/>
              </a:rPr>
              <a:t>із спалахуванням від високої температури стисненого повітр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 rot="5400000">
            <a:off x="5653080" y="2204640"/>
            <a:ext cx="2232000" cy="4105440"/>
          </a:xfrm>
          <a:prstGeom prst="pie">
            <a:avLst/>
          </a:prstGeom>
          <a:gradFill rotWithShape="0">
            <a:gsLst>
              <a:gs pos="0">
                <a:srgbClr val="9999ff"/>
              </a:gs>
              <a:gs pos="50000">
                <a:srgbClr val="fefed6"/>
              </a:gs>
              <a:gs pos="100000">
                <a:srgbClr val="9999ff"/>
              </a:gs>
            </a:gsLst>
            <a:lin ang="18900000"/>
          </a:gradFill>
          <a:ln w="255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66"/>
                </a:solidFill>
                <a:latin typeface="Times New Roman"/>
              </a:rPr>
              <a:t>із примусовим запалюванням від електричної іскри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5364000" y="5516640"/>
            <a:ext cx="3024360" cy="576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efed6"/>
              </a:gs>
              <a:gs pos="100000">
                <a:srgbClr val="99ff99"/>
              </a:gs>
            </a:gsLst>
            <a:lin ang="18900000"/>
          </a:gradFill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00"/>
                </a:solidFill>
                <a:latin typeface="Arial"/>
              </a:rPr>
              <a:t>бензинові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40:55Z</dcterms:created>
  <dc:creator>Customer</dc:creator>
  <dc:description/>
  <dc:language>en-US</dc:language>
  <cp:lastModifiedBy>Vygovsjkyj</cp:lastModifiedBy>
  <dcterms:modified xsi:type="dcterms:W3CDTF">2018-10-12T11:05:03Z</dcterms:modified>
  <cp:revision>67</cp:revision>
  <dc:subject/>
  <dc:title>Лекція 1.</dc:title>
</cp:coreProperties>
</file>