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4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012-64FE-44F5-B2E8-8C66B258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9D1-B842-40EA-8095-FCEEB4C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F98-6AF7-4544-9041-88278CAB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B71-D67B-4676-82D8-65304195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873-A2B3-492D-B480-D915F721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B11-5823-4E47-9CDB-07BA2D0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9F3-F7CF-4DD2-8EF7-2CA64B0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583-1E9A-4F6B-8E7C-2D1A48EE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54A-02BF-4DD9-A928-36B9032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802-617A-4801-B6E8-79A0F87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613-23DE-41A8-9DF6-BCDADE8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67B-0DA2-43D4-AC0B-01276F3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A96E-F28B-4509-96C3-B46D95D8B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99"/>
                </a:solidFill>
                <a:latin typeface="Arial"/>
              </a:rPr>
              <a:t>Лекці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640"/>
            <a:ext cx="8713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Способи створення лісов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Категорії площ, на яких відбувається садіння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шкільне відділення розсадник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для вирощування великомірного посадкового матеріа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відкриті площ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для створення полезахисних см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зруби</a:t>
            </a: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для створення культур на лісокультурних площах різних категорі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яружно-балкові та гірські схи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площі з піщаними ґрунтам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для створення лісових культур в цілях закріплення піс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 flipV="1" rot="10800000">
            <a:off x="8748720" y="63111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Лісотехнічні вимоги до посі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) Посівні роботи мають проводитись в найбільш сприятливій для насіння агротехнічний термі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) Має забезпечуватись рівномірність висіву насіння на площі і в рядах із встановленою нормою висіву. Відхиленні від норми висіву не може перевищувати 15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3) Має бути забезпечена рівномірність внесення насіння на задану глибину. Відхилення від глибини внесення не може перевищувати 15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Лісотехнічні вимоги до посі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4) Потрібно вносити насіння у вологий ґрунт, на дно бороз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5) Потрібно забезпечити прямолінійність висіву рядків та дотримання ширини міжрядь. Відхилення від ширини міжрядь 1 с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6) Насіння при посіві не повинно пошкоджуватись. Пошкоджене насіння не може перевищувати 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7) Не має бути огріхів та пересів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8) Засіяні ділянки не повинні мати нерівност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9) Посівні машини мають бути універсальними, особливо їх висіваючи апара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Лісотехнічні вимоги до посі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0) Для забезпечення посівів в оптимальні агротехнічні терміни, посівні машини повинні мати високу продуктивні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1) Робочий захват сівалки повинен узгоджуватись з шириною захвату культиваторів, що застосовують для обробітку ґрун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2) Сошники не повинні забиватися бур’янами та вологим ґрунтом, мають бути пристосованими до висівання насіння в ґрунт, у якому трапляються кореневі рештки трав’яних та чагарникових порід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Основні</a:t>
            </a:r>
            <a:r>
              <a:rPr b="1" lang="uk-UA" sz="36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агротехнічні вимоги до 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сівні  апарати  не  повинні дробити або  пошкоджувати  насіння;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рядковій  сівбі  насіння в рядках  має розміщуватися      рівномірно за глибиною і по  довжині рядк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шники  не повинні  забиватися  бур'янами і вологим ґрунтом, мають  бути  пристосування  до висівання  насіння у ґрунт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Основні</a:t>
            </a:r>
            <a:r>
              <a:rPr b="1" lang="uk-UA" sz="36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агротехнічні вимоги до 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гортати  насіння на  однакову  глибину  відповідно  до  лісокультурних  нор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сів  має  бути  прямолінійним, ширина міжрядь відповідати  задані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бочий  захват сівалки повинен  узгоджуватися з шириною захвату культиваторів, що застосовуються для  обробітку ґрунту в культу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Основні лісокультурні вимоги до 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вністю використовувати посівні  площ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ожливість  механізації  посі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ханізований  догляд за  посівами і викопування посадкового матері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имоги, яких потрібно дотримуватись при механізованому створенні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садіння лісових культур необхідно дотримуватись потрібних міжря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рібно дотримуватись заданого кроку садіння. Відхилення – не більше 10-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садінні запобігати пошкодженню надземної частини посадкового матері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имоги, яких потрібно дотримуватись при механізованому створенні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сипання кореневої системи має бути щільне по всій глибині її розташування без значної деформації та пошкодж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оренева система має висаджуватись на певну глибину відносно поверхні ґрун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земна частина культур після садіння повинна розташовуватись вертикально як в попередній, так і в поздовжній площині. Відхилення - не більше 20-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ласифікація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Призначенню –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льськогосподарські, для розсадників, спеціальні (лісові, газонні, жолудеві, для захисного лісорозведенн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Властивостям висіваючого насіння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ля сипучого и несипучого насі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Способу утворення посівних борозен –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сошником лемішного типу, дисковим сошником, борозноутворюючими ко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Числу висіваючих рядів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днорядні, багаторяд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Способу посів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ядкові, гніздові, лункові, групові, розкида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Способу переміщення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учні, тракторні, ті, які встановлюють на гелікоптерах та літаках . Тракторні поділяються на причіпні і навис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1. Способи створення лісови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2. Лісотехнічні вимоги до посіву і посадки, класифікація сівалок і лісосадильних ма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3. Загальна будова сівалок, лісосадильних машин та їх робочі орг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4. Машини для посіву та посадки в посівному і шкільному відділеннях розсадни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5. Посівні та лісосадильні машини і пристро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Залежно від ґрунтових умов та за створенням посадкових місц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розсадник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на зрубах в боро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з мікропідвищенням на перезволожених ґрун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на гірських схи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на каменистих та піщаних ґрун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великомірного посадкового матері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За виконанням робочого проце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безперебійне саді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коли посадкове місце готують у вигляді безперебійної щілини, а посадковий матеріал висаджують з визначеним кроком посад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точкове саді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коли посадкове місце готується окремо для кожної культ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Times New Roman"/>
              </a:rPr>
              <a:t>За розміщенням посадкового матеріалу: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для вертикального  саді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коли культура в посадковій щілині розміщується вертика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садіння під нахил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коли рослини у посадковій щілині розташовані під нахилом до горизон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 flipV="1" rot="10800000">
            <a:off x="8604000" y="6398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За способом з’єднання з трактором: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чіпні і навіс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За кількістю одночасно посаджених рядів: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дно - і багаторяд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За способом роботи посадкових апарат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з пасивним приводом (від прикотувальних коткі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з активним приводом (від ВВП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Робочі органи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сівалок:</a:t>
            </a:r>
            <a:r>
              <a:rPr b="1" lang="uk-UA" sz="3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uk-UA" sz="3200" spc="-1" strike="noStrike">
                <a:solidFill>
                  <a:srgbClr val="080808"/>
                </a:solidFill>
                <a:latin typeface="Times New Roman"/>
              </a:rPr>
              <a:t>висівний  апарат; насіннєпроводи; сошники;  загорта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Допоміжні  органи</a:t>
            </a:r>
            <a:r>
              <a:rPr b="1" lang="uk-UA" sz="3200" spc="-1" strike="noStrike">
                <a:solidFill>
                  <a:srgbClr val="080808"/>
                </a:solidFill>
                <a:latin typeface="Times New Roman"/>
              </a:rPr>
              <a:t>: </a:t>
            </a:r>
            <a:r>
              <a:rPr b="0" lang="uk-UA" sz="3200" spc="-1" strike="noStrike">
                <a:solidFill>
                  <a:srgbClr val="080808"/>
                </a:solidFill>
                <a:latin typeface="Times New Roman"/>
              </a:rPr>
              <a:t>висівний  бункер; рама; ходові  колеса; підйомний механізм; механізм для  регулювання ходу сошників; передавальний механі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Висіваючі апарати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ені для дозованого переміщення насіння з бункера в насіннєпроводи. Основна вимога до висіваючих апаратів - не пошкодження насіння і забезпечення заданої норми висіву нас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Сошник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івалок призначені для утворення в ґрунті посівної борозни заданої глиб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Насіннєпроводи</a:t>
            </a:r>
            <a:r>
              <a:rPr b="0" i="1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правляють насіння від висівного апарату до сошника. У верхній частині насіннєпроводи мають воронку для приєднання до висівних апара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Загортаючі пристрої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ортають насіння в посівній борозні ґрунтом. За конструкцією вони можуть бути у вигляді волокуш, загортачами, гребін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Насіннєвий ящик, або бунк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ля насіння в більшості сівалок виготовляється з листового металу і має звуження до нижньої основи. На дні ящика передбачені отвори для проходження насіння до висіваючого при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Рам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 несучим елементом конструкції і служить для монтажу всіх деталей сівалки і з'єднання сівалки з трактором за допомогою кронштейнів навісного при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Передавальний механізм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ється з одного або декількох типів передач (ланцюгової,шестеренної, пасової), встановлених на рамі і призначений для приводу висівних апаратів і ворушилок сіва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ласифікація робочих органів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за типом висівних апаратів: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котушковий, дисковий, комірковий, транспортерний, лабіринт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За типом  насіннєпроводів: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воронкоподібний, спірально - стрічковий, спірально-дротяний, телескопічний, гумо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- За  типом  сошників: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коробчастий, борозноутворюючий коток, анкерний; однодисковий, дводиск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исіваючі апарати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а - котушк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котушка; 2 - вал;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б - диск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вал з нижнім диском; 2 - диск-дозатор; 3 - верхній дис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в - комірк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диск; 2 - осередок;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г - транспортер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стрічка-транспортер; 2 - бункер; 3 - щітка-чист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д - лабіринт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насіннєвий барабан; 2 - лабіри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і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куров В.Н. Машины и механизмы лесного и садово-паркового хозяйства: учебник для студ. высш. учебн. заведений / Винокуров В. Н., Г. В. Силаев, А. А. Золотаревский. – М. : Издательский центр „Академия”, 2004. – 40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І. М. Механізація лісогосподарських робіт : підручник для вищ. навч.закл. / І. М. Зима, Т. Т. Малюгін. − 4-е вид., перероб. і доп. − К. : ІНКОС, 2006. − 48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ин В.Ф. Технология и механизация лесохозяйственных работ: учебник для нач. проф. образования / В. Ф. Зинин, В. И. Казаков, О. Г. Климов. – М. : Издательский центр „Академия”, 2004. – 32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Типи сошників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 - коробчастий; б - борозноутворюючий коток; в - анкерний; г - однодисков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 - дводиско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сновні типи насіннєпровод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1a"/>
          <p:cNvPicPr/>
          <p:nvPr/>
        </p:nvPicPr>
        <p:blipFill>
          <a:blip r:embed="rId1"/>
          <a:stretch/>
        </p:blipFill>
        <p:spPr>
          <a:xfrm>
            <a:off x="468360" y="1052640"/>
            <a:ext cx="7993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ласифікація робочих органів лісосадильних маш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За типом сош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коробчастий сошник з туп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 коробчастий сошник з гостр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) дискові сошники (однодисковий, дводисков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) ножеподібний сошник, що коливається (хиткий ножеподібної фор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за типом садильних апарат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дисковий садильний апа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 променевий садильний апа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) садильний апарат з хитким захва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) ремінний або стрічковий садильний а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за типом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прикотувальних </a:t>
            </a: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механізм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ні диски, конусні котки, комбіновані котки, циліндричні котки, гладкі к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Технологічний процес посадки лісових культур лісосадильною маши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349992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ворення лісосадильною машиною посадкової щіли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міщення кореневої системи посадкового матері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 – садіння посадкового матеріалу, який подається у щілину за допомогою людини або автоматичним пристроє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 – засипання кореневої системи та ущільнення ґрунту вздовж ряду висаджени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Типи сошників, які використовуються на лісосадильних маши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коробчастий сошник з туп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 коробчастий сошник з гостр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) дискові сошники (однодисковий, дводисков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) ножеподібний сошник, що коливається (хиткий ножеподібної фор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6472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Схеми садильних апаратів лісосадильних 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дисковий садильний апара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променевий садильний апар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садильний апарат з хитким захва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ремінний або стрічковий садильний а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Типи прикотувальних </a:t>
            </a: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механізмів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лісосадильних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маш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19280" y="1916280"/>
            <a:ext cx="3924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із сферичними дис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онусні к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омбіновані к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циліндричні к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гладкі к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1" descr=""/>
          <p:cNvPicPr/>
          <p:nvPr/>
        </p:nvPicPr>
        <p:blipFill>
          <a:blip r:embed="rId1"/>
          <a:stretch/>
        </p:blipFill>
        <p:spPr>
          <a:xfrm>
            <a:off x="0" y="1844640"/>
            <a:ext cx="5008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Сівалка для лісових розсадників Литва -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4221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бункер для насіння; 2 - ланцюгова передач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- борозноутворюючий коток; 4 - ніж-плануваль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опорно-очисний гребінець (чистик); 6 - п'ятивідсіковий насіннєпровід; 7 - гвинт регулювання глибини боро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- ущільнюючий п'яти дисковий коток; 9 - гребінка для загортання насіння; 10 - волокуша-разрівнювач; 11 - важіль переведення в транспортне поло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Arial"/>
              </a:rPr>
              <a:t>Сівалка лісогосподарська універсальна СЛН-5/9</a:t>
            </a:r>
            <a:r>
              <a:rPr b="0" i="1" lang="uk-UA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4005000"/>
            <a:ext cx="8928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ланка автозчеплення; 2 - обмежувач; 3 - шарнір; 4 - ра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борозноутворюючі котки ; 6 - бункер для насіння; 7 - ланцюгова передача; 8 - насіннєпровід; 9 - загортач; 10 - важкий к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Сівалка лісогосподарська універсальна СЛН-5/9</a:t>
            </a:r>
            <a:r>
              <a:rPr b="0" i="1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призначена для висіву дрібного сипучого нас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5" descr=""/>
          <p:cNvPicPr/>
          <p:nvPr/>
        </p:nvPicPr>
        <p:blipFill>
          <a:blip r:embed="rId1"/>
          <a:srcRect l="0" t="0" r="22098" b="0"/>
          <a:stretch/>
        </p:blipFill>
        <p:spPr>
          <a:xfrm>
            <a:off x="324000" y="1268280"/>
            <a:ext cx="8424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Сівалка для розсадників «Егедаль» тип 8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4292640"/>
            <a:ext cx="90360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cc"/>
                </a:solidFill>
                <a:latin typeface="Arial"/>
              </a:rPr>
              <a:t>а - загальний вигляд сівалки; б - схема приводу; в, г, д - схема посіву стрічки, відповідно, шести, п'яти і чотирьох рядко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привідне колесо; 2,4 - ланцюгова передача; 3 - редукто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лонжерон; 6 - бункер для насіння; 7 - вал висівного апарату з ланцюговим приводом ворушил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- висіваючий а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Способи посіву лісового н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лісовому  господарстві застосовують такі способи посів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розкид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рядков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стрічков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рядково-лунков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груп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Комбінована сівалка фірми Егед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4652640"/>
            <a:ext cx="8856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а - приставка для висіву дрібного насіння;                       б - приставка для висіву жолуд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висіву дрібного і великого насіння, таких як ясен, дуб, каштан використовується комбінована сівалка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ип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ombi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0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ЕМІ-5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551628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cc"/>
                </a:solidFill>
                <a:latin typeface="Arial"/>
              </a:rPr>
              <a:t>Лісосадильна машина ЕМІ-5М</a:t>
            </a:r>
            <a:r>
              <a:rPr b="0" lang="uk-UA" sz="2400" spc="-1" strike="noStrike">
                <a:solidFill>
                  <a:srgbClr val="6600cc"/>
                </a:solidFill>
                <a:latin typeface="Arial"/>
              </a:rPr>
              <a:t> призначена для посадки сіянців хвойних і листяних порід в шкільних відділеннях розса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9435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5003640" y="1158120"/>
            <a:ext cx="414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- навісний пристрі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 - черв'ячний редукто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 - ланцюгова передач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 - опорне колес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 - сош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- каток, що накочує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 - сидін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 - посадковий апа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 - ящик для посадковог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 - каркас під т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для шкілок Л-2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400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1 - рама посадкової секції; 2 - посадковий апарат; 3 - обід з 36 захоплювачами; 4 - маточина посадкового апарат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5 - сидіння садильника; 6 - загортач-вирівнювач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7 - привідне колесо; 8 - комбінований дисково-коробчастий сош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Лісосадильна машина для шкілок Л-218</a:t>
            </a: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 призначена</a:t>
            </a:r>
            <a:r>
              <a:rPr b="0" i="1" lang="uk-UA" sz="2400" spc="-1" strike="noStrike">
                <a:solidFill>
                  <a:srgbClr val="c00000"/>
                </a:solidFill>
                <a:latin typeface="Arial"/>
              </a:rPr>
              <a:t> д</a:t>
            </a: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ля посадки сіянців в ущільненій шкілці постійних лісових розсадник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6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исівний пристрій до плуга ПКЛ-7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140000" y="907560"/>
            <a:ext cx="4546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- навісна систе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 - ра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 - корпус пл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 - кронштейни кріплення посівного пристос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- опорно-приводний к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 - грунтозачіп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 - права траве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 - направляючий лот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9 - насіннєвий бараба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0 - люк; ланцюг привод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 - зіроч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2 - ліва травер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3 - ланцюг привод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4 - черев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5 – волок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71640" cy="4680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0" y="563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Висівний пристрій до плуга ПКЛ-70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призначений для рядково-ямкового посіву насіння хвойних деревних порід в дно борозни одночасно з обробітком ґрунту двовідвальним корпу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сівна тростина ТП-1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4720" y="1341000"/>
            <a:ext cx="4402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– Ру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 - зовнішня труб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- поворотна пруж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 - дозатор насін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штовхач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 - наконеч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 - внутрішня труб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– у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79280" y="524700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Посівна тростина ТП-1</a:t>
            </a:r>
            <a:r>
              <a:rPr b="0" lang="uk-UA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 призначається для точкового висіву насіння сосни або ялини на вирубках для сприяння природного лісовідн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ЛМД-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4149360"/>
            <a:ext cx="90360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- рама; 2 - електропривід; 3 - вентилятор з фільтром; 4 - кабі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- лекало розкривача захватів; 6 - зубчасте колесо вала посадкового апарата; 7 - бункер для посадкового матеріалу; 8 - бортова електромережа; 9 - електродвигун постійного струму; 10 - хрестовина; 11 – прикотуючі котки; 12 - храпово-пружинний механізм регулювання тиску котків на ґрунт; 13 -  клини; 14 - променевий посадковий апарат; 15 - сошник; 16 - опорна пластина; 17 - сидіння садильн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8 - приймальний столик для сіянців; 19 - панель керування електроприв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9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13744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Машина універсальна лісосадильна МУЛ-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32000" y="1268280"/>
            <a:ext cx="403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куз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 - сиді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- р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 - дисковий посадковий апа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дернозні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 - глибокорозпушувач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 - сош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- опорні кол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 – прикотуючо - приводний кот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 - ящик для посадкового матері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680000" cy="4032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537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Машина універсальна лісосадильна МУЛ-1</a:t>
            </a: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 призначена для однорядної посадки сіянців хвойних порід з одночасною підготовкою ґрунту у вигляді мінералізованої смуги і розпушуванням ґрунту по середи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ва саджалка СЛП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9280" y="4149360"/>
            <a:ext cx="88567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- сошник; 2 - брус навішування; 3 - рама; 4 - кабі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- сидіння садильника; 6 - посадковий апарат; 7 - ящик для сіянців; 8 - стійка-підставка; 9 - підніжка; 10 - ящик для інструменту; 11 - опорний баш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Лісова саджалка СЛП-2</a:t>
            </a: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 здійснює посадку дво- і трирічних сіянців з довжиною надземної частини 8 ... 25 см і коренів до 22 см на пластах, тільки у вертикальному положенні на ґрунтах різної вологості, крім надмірно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Схема лісосадильної автоматичної машини МЛА-1А "Ила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1 - сошник; 2 - контейнер із зарядженою касетою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3 – касетний сіянцеутримувач; 4 - касетопротяжний механіз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5 - захоплювач; 6 - зубчаста передача; 7 – ко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Автоматична лісосадильна машина МЛА-1А</a:t>
            </a: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 "Илана" призначена для посадки сіянців хвойних порід як на зрубах з кількістю пнів до 600 шт./га, так на вільних від деревної рослинності площах і при при створенні шкільних відділень розса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1" descr=""/>
          <p:cNvPicPr/>
          <p:nvPr/>
        </p:nvPicPr>
        <p:blipFill>
          <a:blip r:embed="rId1"/>
          <a:stretch/>
        </p:blipFill>
        <p:spPr>
          <a:xfrm>
            <a:off x="0" y="1125360"/>
            <a:ext cx="9023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RZS-1 (RZS-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Фреза-розпушувач FU4082 - 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посадковий агрегат RZS-1 - б, Словач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ісосадильна машина RZS-1 (RZS-2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користовується для механізованої посадки саджанців лісових порід з відкритою і закритою кореневою системою з діаметром брикету до 8 см на вирубках, очищених від порубкових залишків, з висотою пнів, які забезпечують геометричну прохідність тр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327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Способи посіву лісового н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Розкидний спосіб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розкидання насіння  вручну або  висівання розкидними сівалками, встановленими на  літаках, тракторах або автомобі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Рядковий спосіб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-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висівання  насіння безперервним струменем  рядками з однаковими міжряддями і загортають на одну й ту ж глиб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Комплексні агрегати Bracke P11.a і EcoPlanter (Швеці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4723920"/>
            <a:ext cx="9036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адковий агрегат Р11.а виконує обробіток ґрунту дискретними мікропідвищеннями з одночасною посадкою контейнерних саджанц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EcoPlanter має дві фрези для розпушування ґрунту і дозволяє проводити посадку двох рослин за один прий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985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ДЯКУЮ ЗА УВАГУ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Способи посіву лісового н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05228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річковий спосіб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   відрізняється  від  рядкового  тим, що  не  всі  рядки розміщуються на  однакових  відстанях один  від  одного, а  об'єднуються в  групи  (стрічки). Відстань між рядками  в стрічці  менша за  відстань  між крайніми  рядками двох сусідніх  стріч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ff"/>
                </a:solidFill>
                <a:uFillTx/>
                <a:latin typeface="Times New Roman"/>
              </a:rPr>
              <a:t>Рядково-лунковий спосіб</a:t>
            </a: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  -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  висівання  насіння по декілька штук  в  одну лунку, при  цьому  лунки розміщуються в ряду  на  однаковій  відстані  одна  від  одно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ff"/>
                </a:solidFill>
                <a:uFillTx/>
                <a:latin typeface="Times New Roman"/>
              </a:rPr>
              <a:t>Груповий спосіб</a:t>
            </a: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  -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  висівання  насіння  групами у декілька лунок, згрупованих  на  одній площадц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Способи створення лісов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1 - похила посадка на надлишково-зволожених ґрунтах; 2 - вертикальна посадка по пластах уздовж борозен; 3 - посадка на вирубках в борозни; 4 - посадка автоматичними машинами або пристосуваннями; 5 - посадка без попередньої підготовки ґрунту; 6 - посадка на мікропідвищеннях; 7 - посадка при нольовому обробітку ґрунту; 8 - похила посадка лісосмуг; 9 - посадка на терасах; 10 - посадка великомірних саджнівців; 11 - посадка сіянців на пісках зарослих травою і чагарником; 12 - закріплення пісків; 13,14- посадка сіянців в шкільних відділеннях лісових розсадників; 15,16- посадка після ямокопачів і з грудкою землі; 17 - ручна посадка мечем Колесова; 18 - посадка сіянців із закритою кореневою; 19 - створення лісових культур посі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76520" y="692280"/>
            <a:ext cx="57038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осадка – основний спосіб створення лісових культур при л</a:t>
            </a:r>
            <a:r>
              <a:rPr b="0" lang="uk-UA" sz="2400" spc="-1" strike="noStrike">
                <a:solidFill>
                  <a:srgbClr val="8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ов</a:t>
            </a:r>
            <a:r>
              <a:rPr b="0" lang="uk-UA" sz="2400" spc="-1" strike="noStrike">
                <a:solidFill>
                  <a:srgbClr val="800000"/>
                </a:solidFill>
                <a:latin typeface="Arial"/>
              </a:rPr>
              <a:t>ід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овле</a:t>
            </a:r>
            <a:r>
              <a:rPr b="0" lang="uk-UA" sz="24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і й лісорозведе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6600cc"/>
                </a:solidFill>
                <a:latin typeface="Arial"/>
              </a:rPr>
              <a:t>Способи створення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На зрубах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культури висаджують на дно борозни, яку створюють двовідвальним пл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На перезволожених ґрунтах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посадку лісових культур проводять на мікропідвищення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У розсадниках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посадку проводять рядковим способом на добре обробленому ґрун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У садово-парковому господарстві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використовують посадку великомірних дерев з комом землі в попередньо підготовлене місце для пос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748720" y="630864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d0d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6720" y="476280"/>
            <a:ext cx="40672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Знаряддя для посадки культур ручним способом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- інструмент «Поттіпуткі» (Фінляндія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, в, г - мечі-лоп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64000" y="3860280"/>
            <a:ext cx="36720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Схеми посадки сіянців ЗК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 - по дну боро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I - на міс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3716280"/>
            <a:ext cx="5040360" cy="297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99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7:40:14Z</dcterms:created>
  <dc:creator>Customer</dc:creator>
  <dc:description/>
  <dc:language>en-US</dc:language>
  <cp:lastModifiedBy>adm</cp:lastModifiedBy>
  <dcterms:modified xsi:type="dcterms:W3CDTF">2021-09-23T17:10:20Z</dcterms:modified>
  <cp:revision>101</cp:revision>
  <dc:subject/>
  <dc:title>Інструкція, щодо оформлення випускних робіт до інституційного репозиторію</dc:title>
</cp:coreProperties>
</file>