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5.jpeg" ContentType="image/jpeg"/>
  <Override PartName="/ppt/media/image24.wmf" ContentType="image/x-wmf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76C8-5867-427A-97C2-85CCC4BA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EC20-4222-4BBC-9914-53194F3A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2739-C6F3-4B44-B9D6-AAD5F694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FE19-4E44-4635-BF57-D8258AAB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DEAA-A6DE-478A-9234-92961CA8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2795-D7BD-4A90-808F-BC76CE5B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0159-75E2-44F7-9AC1-0B052B4D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51DA-1C0F-4423-AFBC-C82C6943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EBE6-B930-4019-935C-E93A655D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B631-E1E7-4F8F-9B18-97161563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D1F4-8D32-439D-922A-97BD5694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C78B-0A0D-47EF-A3F9-2BC0C196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D8E2-FB48-45B6-A349-A1C6B375C8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99"/>
                </a:solidFill>
                <a:latin typeface="Arial"/>
              </a:rPr>
              <a:t>Лекці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920" y="2852640"/>
            <a:ext cx="87138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Способи створення лісових культ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Категорії площ, на яких відбувається садіння лісових культ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Times New Roman"/>
              </a:rPr>
              <a:t>шкільне відділення розсадників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– для вирощування великомірного посадкового матеріал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Times New Roman"/>
              </a:rPr>
              <a:t>відкриті площі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– для створення полезахисних сму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Times New Roman"/>
              </a:rPr>
              <a:t>зруби</a:t>
            </a:r>
            <a:r>
              <a:rPr b="0" lang="uk-UA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– для створення культур на лісокультурних площах різних категорі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Times New Roman"/>
              </a:rPr>
              <a:t>яружно-балкові та гірські схи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uk-UA" sz="2800" spc="-1" strike="noStrike">
                <a:solidFill>
                  <a:srgbClr val="000099"/>
                </a:solidFill>
                <a:latin typeface="Times New Roman"/>
              </a:rPr>
              <a:t>площі з піщаними ґрунтам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– для створення лісових культур в цілях закріплення піск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 flipV="1" rot="10800000">
            <a:off x="8748720" y="63111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Лісотехнічні вимоги до посі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1) Посівні роботи мають проводитись в найбільш сприятливій для насіння агротехнічний термі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2) Має забезпечуватись рівномірність висіву насіння на площі і в рядах із встановленою нормою висіву. Відхиленні від норми висіву не може перевищувати 15%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3) Має бути забезпечена рівномірність внесення насіння на задану глибину. Відхилення від глибини внесення не може перевищувати 15%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Лісотехнічні вимоги до посі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4) Потрібно вносити насіння у вологий ґрунт, на дно борозн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5) Потрібно забезпечити прямолінійність висіву рядків та дотримання ширини міжрядь. Відхилення від ширини міжрядь 1 с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6) Насіння при посіві не повинно пошкоджуватись. Пошкоджене насіння не може перевищувати 1%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7) Не має бути огріхів та пересіві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8) Засіяні ділянки не повинні мати нерівності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9) Посівні машини мають бути універсальними, особливо їх висіваючи апара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Лісотехнічні вимоги до посі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9280" y="119700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10) Для забезпечення посівів в оптимальні агротехнічні терміни, посівні машини повинні мати високу продуктивні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11) Робочий захват сівалки повинен узгоджуватись з шириною захвату культиваторів, що застосовують для обробітку ґрунт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12) Сошники не повинні забиватися бур’янами та вологим ґрунтом, мають бути пристосованими до висівання насіння в ґрунт, у якому трапляються кореневі рештки трав’яних та чагарникових порід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Основні</a:t>
            </a:r>
            <a:r>
              <a:rPr b="1" lang="uk-UA" sz="3600" spc="-1" strike="noStrike">
                <a:solidFill>
                  <a:srgbClr val="ff0066"/>
                </a:solidFill>
                <a:latin typeface="Arial Black"/>
              </a:rPr>
              <a:t>  </a:t>
            </a: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агротехнічні вимоги до  сіва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исівні  апарати  не  повинні дробити або  пошкоджувати  насіння;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ри рядковій  сівбі  насіння в рядках  має розміщуватися      рівномірно за глибиною і по  довжині рядка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ошники  не повинні  забиватися  бур'янами і вологим ґрунтом, мають  бути  пристосування  до висівання  насіння у ґрунт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Основні</a:t>
            </a:r>
            <a:r>
              <a:rPr b="1" lang="uk-UA" sz="3600" spc="-1" strike="noStrike">
                <a:solidFill>
                  <a:srgbClr val="ff0066"/>
                </a:solidFill>
                <a:latin typeface="Arial Black"/>
              </a:rPr>
              <a:t>  </a:t>
            </a: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агротехнічні вимоги до  сіва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гортати  насіння на  однакову  глибину  відповідно  до  лісокультурних  нор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осів  має  бути  прямолінійним, ширина міжрядь відповідати  задані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обочий  захват сівалки повинен  узгоджуватися з шириною захвату культиваторів, що застосовуються для  обробітку ґрунту в культур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Основні лісокультурні вимоги до  сіва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овністю використовувати посівні  площ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можливість  механізації  посів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механізований  догляд за  посівами і викопування посадкового матері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Вимоги, яких потрібно дотримуватись при механізованому створенні лісових культ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ри садіння лісових культур необхідно дотримуватись потрібних міжря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отрібно дотримуватись заданого кроку садіння. Відхилення – не більше 10-2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ри садінні запобігати пошкодженню надземної частини посадкового матері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Вимоги, яких потрібно дотримуватись при механізованому створенні лісових культ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сипання кореневої системи має бути щільне по всій глибині її розташування без значної деформації та пошкодж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Коренева система має висаджуватись на певну глибину відносно поверхні ґрун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аземна частина культур після садіння повинна розташовуватись вертикально як в попередній, так і в поздовжній площині. Відхилення - не більше 20-3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Класифікація сіва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Призначенню –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ільськогосподарські, для розсадників, спеціальні (лісові, газонні, жолудеві, для захисного лісорозведенн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Властивостям висіваючого насіння –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для сипучого и несипучого насі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Способу утворення посівних борозен –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 сошником лемішного типу, дисковим сошником, борозноутворюючими кот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Числу висіваючих рядів</a:t>
            </a: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однорядні, багаторядн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Способу посіву</a:t>
            </a: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рядкові, гніздові, лункові, групові, розкидан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Arial"/>
              </a:rPr>
              <a:t>Способу переміщення</a:t>
            </a: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ручні, тракторні, ті, які встановлюють на гелікоптерах та літаках . Тракторні поділяються на причіпні і навис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л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1. Способи створення лісови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2. Лісотехнічні вимоги до посіву і посадки, класифікація сівалок і лісосадильних маш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3. Загальна будова сівалок, лісосадильних машин та їх робочі орг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4. Машини для посіву та посадки в посівному і шкільному відділеннях розсадник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5. Посівні та лісосадильні машини і пристро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00cc"/>
                </a:solidFill>
                <a:latin typeface="Times New Roman"/>
              </a:rPr>
              <a:t>Лісосадильні машини класифікують за такими ознакам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Залежно від ґрунтових умов та за створенням посадкових місц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ля розсадникі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ля садіння на зрубах в бороз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ля садіння з мікропідвищенням на перезволожених ґрунт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ля садіння на гірських схил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ля садіння на каменистих та піщаних ґрунт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ля садіння великомірного посадкового матері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За виконанням робочого процес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99"/>
                </a:solidFill>
                <a:latin typeface="Times New Roman"/>
              </a:rPr>
              <a:t>безперебійне садінн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, коли посадкове місце готують у вигляді безперебійної щілини, а посадковий матеріал висаджують з визначеним кроком посад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99"/>
                </a:solidFill>
                <a:latin typeface="Times New Roman"/>
              </a:rPr>
              <a:t>точкове садінн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– коли посадкове місце готується окремо для кожної культ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00cc"/>
                </a:solidFill>
                <a:latin typeface="Times New Roman"/>
              </a:rPr>
              <a:t>Лісосадильні машини класифікують за такими ознакам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Лісосадильні машини класифікують за такими ознаками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cc"/>
                </a:solidFill>
                <a:latin typeface="Times New Roman"/>
              </a:rPr>
              <a:t>За розміщенням посадкового матеріалу:</a:t>
            </a: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99"/>
                </a:solidFill>
                <a:latin typeface="Times New Roman"/>
              </a:rPr>
              <a:t>для вертикального  садінн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, коли культура в посадковій щілині розміщується вертикаль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99"/>
                </a:solidFill>
                <a:latin typeface="Times New Roman"/>
              </a:rPr>
              <a:t>садіння під нахилом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, коли рослини у посадковій щілині розташовані під нахилом до горизон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 flipV="1" rot="10800000">
            <a:off x="8604000" y="639828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d0d0d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Лісосадильні машини класифікують за такими ознаками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00cc"/>
                </a:solidFill>
                <a:latin typeface="Times New Roman"/>
              </a:rPr>
              <a:t>За способом з’єднання з трактором: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ричіпні і навіс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00cc"/>
                </a:solidFill>
                <a:latin typeface="Times New Roman"/>
              </a:rPr>
              <a:t>За кількістю одночасно посаджених рядів: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дно - і багаторяд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00cc"/>
                </a:solidFill>
                <a:latin typeface="Times New Roman"/>
              </a:rPr>
              <a:t>За способом роботи посадкових апараті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- з пасивним приводом (від прикотувальних коткі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- з активним приводом (від ВВП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Загальна будова сівалки та її робочі орга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</a:rPr>
              <a:t>Робочі органи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uk-UA" sz="3200" spc="-1" strike="noStrike">
                <a:solidFill>
                  <a:srgbClr val="c00000"/>
                </a:solidFill>
                <a:latin typeface="Times New Roman"/>
              </a:rPr>
              <a:t>сівалок:</a:t>
            </a:r>
            <a:r>
              <a:rPr b="1" lang="uk-UA" sz="3200" spc="-1" strike="noStrike">
                <a:solidFill>
                  <a:srgbClr val="080808"/>
                </a:solidFill>
                <a:latin typeface="Times New Roman"/>
              </a:rPr>
              <a:t>  </a:t>
            </a:r>
            <a:r>
              <a:rPr b="0" lang="uk-UA" sz="3200" spc="-1" strike="noStrike">
                <a:solidFill>
                  <a:srgbClr val="080808"/>
                </a:solidFill>
                <a:latin typeface="Times New Roman"/>
              </a:rPr>
              <a:t>висівний  апарат; насіннєпроводи; сошники;  загортач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</a:rPr>
              <a:t>Допоміжні  органи</a:t>
            </a:r>
            <a:r>
              <a:rPr b="1" lang="uk-UA" sz="3200" spc="-1" strike="noStrike">
                <a:solidFill>
                  <a:srgbClr val="080808"/>
                </a:solidFill>
                <a:latin typeface="Times New Roman"/>
              </a:rPr>
              <a:t>: </a:t>
            </a:r>
            <a:r>
              <a:rPr b="0" lang="uk-UA" sz="3200" spc="-1" strike="noStrike">
                <a:solidFill>
                  <a:srgbClr val="080808"/>
                </a:solidFill>
                <a:latin typeface="Times New Roman"/>
              </a:rPr>
              <a:t>висівний  бункер; рама; ходові  колеса; підйомний механізм; механізм для  регулювання ходу сошників; передавальний механі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Загальна будова сівалки та її робочі орга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cc"/>
                </a:solidFill>
                <a:latin typeface="Arial"/>
              </a:rPr>
              <a:t>Висіваючі апарати</a:t>
            </a:r>
            <a:r>
              <a:rPr b="0" lang="uk-UA" sz="2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значені для дозованого переміщення насіння з бункера в насіннєпроводи. Основна вимога до висіваючих апаратів - не пошкодження насіння і забезпечення заданої норми висіву насі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cc"/>
                </a:solidFill>
                <a:latin typeface="Arial"/>
              </a:rPr>
              <a:t>Сошники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івалок призначені для утворення в ґрунті посівної борозни заданої глиби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cc"/>
                </a:solidFill>
                <a:latin typeface="Arial"/>
              </a:rPr>
              <a:t>Насіннєпроводи</a:t>
            </a:r>
            <a:r>
              <a:rPr b="0" i="1" lang="uk-UA" sz="2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правляють насіння від висівного апарату до сошника. У верхній частині насіннєпроводи мають воронку для приєднання до висівних апарат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Загальна будова сівалки та її робочі орга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9280" y="1412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cc"/>
                </a:solidFill>
                <a:latin typeface="Arial"/>
              </a:rPr>
              <a:t>Загортаючі пристрої</a:t>
            </a:r>
            <a:r>
              <a:rPr b="0" lang="uk-UA" sz="2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гортають насіння в посівній борозні ґрунтом. За конструкцією вони можуть бути у вигляді волокуш, загортачами, гребін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cc"/>
                </a:solidFill>
                <a:latin typeface="Arial"/>
              </a:rPr>
              <a:t>Насіннєвий ящик, або бунке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для насіння в більшості сівалок виготовляється з листового металу і має звуження до нижньої основи. На дні ящика передбачені отвори для проходження насіння до висіваючого пристр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Загальна будова сівалки та її робочі орга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cc"/>
                </a:solidFill>
                <a:latin typeface="Arial"/>
              </a:rPr>
              <a:t>Рама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є несучим елементом конструкції і служить для монтажу всіх деталей сівалки і з'єднання сівалки з трактором за допомогою кронштейнів навісного пристр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cc"/>
                </a:solidFill>
                <a:latin typeface="Arial"/>
              </a:rPr>
              <a:t>Передавальний механізм</a:t>
            </a:r>
            <a:r>
              <a:rPr b="0" lang="uk-UA" sz="2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кладається з одного або декількох типів передач (ланцюгової,шестеренної, пасової), встановлених на рамі і призначений для приводу висівних апаратів і ворушилок сіва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Класифікація робочих органів сіва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892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Times New Roman"/>
              </a:rPr>
              <a:t>за типом висівних апаратів: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котушковий, дисковий, комірковий, транспортерний, лабіринто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Times New Roman"/>
              </a:rPr>
              <a:t>За типом  насіннєпроводів: 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воронкоподібний, спірально - стрічковий, спірально-дротяний, телескопічний, гумов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Times New Roman"/>
              </a:rPr>
              <a:t>- За  типом  сошників: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коробчастий, борозноутворюючий коток, анкерний; однодисковий, дводиско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Висіваючі апарати сіва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465264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а - котушковий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 - котушка; 2 - вал;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б - дисковий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 - вал з нижнім диском; 2 - диск-дозатор; 3 - верхній дис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в - комірковий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 - диск; 2 - осередок;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г - транспортер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 - стрічка-транспортер; 2 - бункер; 3 - щітка-чисти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д - лабіринтовий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 - насіннєвий барабан; 2 - лабіри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417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і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куров В.Н. Машины и механизмы лесного и садово-паркового хозяйства: учебник для студ. высш. учебн. заведений / Винокуров В. Н., Г. В. Силаев, А. А. Золотаревский. – М. : Издательский центр „Академия”, 2004. – 400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а І. М. Механізація лісогосподарських робіт : підручник для вищ. навч.закл. / І. М. Зима, Т. Т. Малюгін. − 4-е вид., перероб. і доп. − К. : ІНКОС, 2006. − 488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нин В.Ф. Технология и механизация лесохозяйственных работ: учебник для нач. проф. образования / В. Ф. Зинин, В. И. Казаков, О. Г. Климов. – М. : Издательский центр „Академия”, 2004. – 320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Типи сошників сіва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4653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 - коробчастий; б - борозноутворюючий коток; в - анкерний; г - однодискови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 - дводиско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Основні типи насіннєпроводі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1a"/>
          <p:cNvPicPr/>
          <p:nvPr/>
        </p:nvPicPr>
        <p:blipFill>
          <a:blip r:embed="rId1"/>
          <a:stretch/>
        </p:blipFill>
        <p:spPr>
          <a:xfrm>
            <a:off x="468360" y="1052640"/>
            <a:ext cx="799308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Класифікація робочих органів лісосадильних маш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8920" y="1196640"/>
            <a:ext cx="8713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cc"/>
                </a:solidFill>
                <a:latin typeface="Times New Roman"/>
              </a:rPr>
              <a:t>За типом сошникі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) коробчастий сошник з тупим кутом входження в ґру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) коробчастий сошник з гострим кутом входження в ґру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) дискові сошники (однодисковий, дводискови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г) ножеподібний сошник, що коливається (хиткий ножеподібної фор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cc"/>
                </a:solidFill>
                <a:latin typeface="Times New Roman"/>
              </a:rPr>
              <a:t>за типом садильних апараті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) дисковий садильний апар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) променевий садильний апара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) садильний апарат з хитким захват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г) ремінний або стрічковий садильний апар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6600cc"/>
                </a:solidFill>
                <a:latin typeface="Times New Roman"/>
              </a:rPr>
              <a:t>за типом </a:t>
            </a: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прикотувальних </a:t>
            </a:r>
            <a:r>
              <a:rPr b="0" lang="uk-UA" sz="2800" spc="-1" strike="noStrike">
                <a:solidFill>
                  <a:srgbClr val="6600cc"/>
                </a:solidFill>
                <a:latin typeface="Times New Roman"/>
              </a:rPr>
              <a:t>механізмів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ичні диски, конусні котки, комбіновані котки, циліндричні котки, гладкі ко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00cc"/>
                </a:solidFill>
                <a:latin typeface="Times New Roman"/>
              </a:rPr>
              <a:t>Технологічний процес посадки лісових культур лісосадильною маши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3499920"/>
            <a:ext cx="87138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 –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творення лісосадильною машиною посадкової щілин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міщення кореневої системи посадкового матеріа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 – садіння посадкового матеріалу, який подається у щілину за допомогою людини або автоматичним пристроє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3 – засипання кореневої системи та ущільнення ґрунту вздовж ряду висаджених куль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4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78544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00cc"/>
                </a:solidFill>
                <a:latin typeface="Times New Roman"/>
              </a:rPr>
              <a:t>Типи сошників, які використовуються на лісосадильних маши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) коробчастий сошник з тупим кутом входження в ґру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) коробчастий сошник з гострим кутом входження в ґру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) дискові сошники (однодисковий, дводискови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г) ножеподібний сошник, що коливається (хиткий ножеподібної фор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43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064720" cy="31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00cc"/>
                </a:solidFill>
                <a:latin typeface="Times New Roman"/>
              </a:rPr>
              <a:t>Схеми садильних апаратів лісосадильних маш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3716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) дисковий садильний апара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) променевий садильний апара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) садильний апарат з хитким захват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г) ремінний або стрічковий садильний апа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4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Типи прикотувальних </a:t>
            </a:r>
            <a:r>
              <a:rPr b="0" lang="uk-UA" sz="3200" spc="-1" strike="noStrike">
                <a:solidFill>
                  <a:srgbClr val="6600cc"/>
                </a:solidFill>
                <a:latin typeface="Times New Roman"/>
              </a:rPr>
              <a:t>механізмів</a:t>
            </a: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6600cc"/>
                </a:solidFill>
                <a:latin typeface="Times New Roman"/>
              </a:rPr>
              <a:t>лісосадильних</a:t>
            </a:r>
            <a:r>
              <a:rPr b="0" lang="ru-RU" sz="3200" spc="-1" strike="noStrike">
                <a:solidFill>
                  <a:srgbClr val="6600cc"/>
                </a:solidFill>
                <a:latin typeface="Times New Roman"/>
              </a:rPr>
              <a:t> маш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219280" y="1916280"/>
            <a:ext cx="392436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із сферичними дис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конусні ко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комбіновані ко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циліндричні ко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гладкі ко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41" descr=""/>
          <p:cNvPicPr/>
          <p:nvPr/>
        </p:nvPicPr>
        <p:blipFill>
          <a:blip r:embed="rId1"/>
          <a:stretch/>
        </p:blipFill>
        <p:spPr>
          <a:xfrm>
            <a:off x="0" y="1844640"/>
            <a:ext cx="5008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Сівалка для лісових розсадників Литва -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4221000"/>
            <a:ext cx="9144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 - бункер для насіння; 2 - ланцюгова передач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 - борозноутворюючий коток; 4 - ніж-планувальн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 - опорно-очисний гребінець (чистик); 6 - п'ятивідсіковий насіннєпровід; 7 - гвинт регулювання глибини бороз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8 - ущільнюючий п'яти дисковий коток; 9 - гребінка для загортання насіння; 10 - волокуша-разрівнювач; 11 - важіль переведення в транспортне полож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4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775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Arial"/>
              </a:rPr>
              <a:t>Сівалка лісогосподарська універсальна СЛН-5/9</a:t>
            </a:r>
            <a:r>
              <a:rPr b="0" i="1" lang="uk-UA" sz="3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8000" y="4005000"/>
            <a:ext cx="8928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 - ланка автозчеплення; 2 - обмежувач; 3 - шарнір; 4 - рам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 - борозноутворюючі котки ; 6 - бункер для насіння; 7 - ланцюгова передача; 8 - насіннєпровід; 9 - загортач; 10 - важкий ко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cc"/>
                </a:solidFill>
                <a:latin typeface="Arial"/>
              </a:rPr>
              <a:t>Сівалка лісогосподарська універсальна СЛН-5/9</a:t>
            </a:r>
            <a:r>
              <a:rPr b="0" i="1" lang="uk-UA" sz="2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6600cc"/>
                </a:solidFill>
                <a:latin typeface="Arial"/>
              </a:rPr>
              <a:t>призначена для висіву дрібного сипучого насі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5" descr=""/>
          <p:cNvPicPr/>
          <p:nvPr/>
        </p:nvPicPr>
        <p:blipFill>
          <a:blip r:embed="rId1"/>
          <a:srcRect l="0" t="0" r="22098" b="0"/>
          <a:stretch/>
        </p:blipFill>
        <p:spPr>
          <a:xfrm>
            <a:off x="324000" y="1268280"/>
            <a:ext cx="8424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280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Сівалка для розсадників «Егедаль» тип 8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8000" y="4292640"/>
            <a:ext cx="903600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cc"/>
                </a:solidFill>
                <a:latin typeface="Arial"/>
              </a:rPr>
              <a:t>а - загальний вигляд сівалки; б - схема приводу; в, г, д - схема посіву стрічки, відповідно, шести, п'яти і чотирьох рядко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 - привідне колесо; 2,4 - ланцюгова передача; 3 - редукто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 - лонжерон; 6 - бункер для насіння; 7 - вал висівного апарату з ланцюговим приводом ворушил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8 - висіваючий апар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6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569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Способи посіву лісового насі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 лісовому  господарстві застосовують такі способи посів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cc"/>
                </a:solidFill>
                <a:latin typeface="Arial"/>
              </a:rPr>
              <a:t>- розкид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cc"/>
                </a:solidFill>
                <a:latin typeface="Arial"/>
              </a:rPr>
              <a:t>- рядков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cc"/>
                </a:solidFill>
                <a:latin typeface="Arial"/>
              </a:rPr>
              <a:t>- стрічков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cc"/>
                </a:solidFill>
                <a:latin typeface="Arial"/>
              </a:rPr>
              <a:t>- рядково-лунков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6600cc"/>
                </a:solidFill>
                <a:latin typeface="Arial"/>
              </a:rPr>
              <a:t>- групо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Комбінована сівалка фірми Егеда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8000" y="4652640"/>
            <a:ext cx="8856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cc"/>
                </a:solidFill>
                <a:latin typeface="Arial"/>
              </a:rPr>
              <a:t>а - приставка для висіву дрібного насіння;                       б - приставка для висіву жолуд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ля висіву дрібного і великого насіння, таких як ясен, дуб, каштан використовується комбінована сівалка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тип 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Combi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0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6408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Лісосадильна машина ЕМІ-5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0560" y="5516280"/>
            <a:ext cx="8893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cc"/>
                </a:solidFill>
                <a:latin typeface="Arial"/>
              </a:rPr>
              <a:t>Лісосадильна машина ЕМІ-5М</a:t>
            </a:r>
            <a:r>
              <a:rPr b="0" lang="uk-UA" sz="2400" spc="-1" strike="noStrike">
                <a:solidFill>
                  <a:srgbClr val="6600cc"/>
                </a:solidFill>
                <a:latin typeface="Arial"/>
              </a:rPr>
              <a:t> призначена для посадки сіянців хвойних і листяних порід в шкільних відділеннях розсад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4943520" cy="45468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5003640" y="1158120"/>
            <a:ext cx="414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 - навісний пристрі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 - черв'ячний редукто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 - ланцюгова передач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 - опорне колес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 - сошни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6 - каток, що накочує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7 - сидінн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8 - посадковий апар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9 - ящик для посадкового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теріал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0 - каркас під т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77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Лісосадильна машина для шкілок Л-21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4005000"/>
            <a:ext cx="9144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1 - рама посадкової секції; 2 - посадковий апарат; 3 - обід з 36 захоплювачами; 4 - маточина посадкового апарату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5 - сидіння садильника; 6 - загортач-вирівнювач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7 - привідне колесо; 8 - комбінований дисково-коробчастий сошни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Arial"/>
              </a:rPr>
              <a:t>Лісосадильна машина для шкілок Л-218</a:t>
            </a:r>
            <a:r>
              <a:rPr b="0" lang="uk-UA" sz="2400" spc="-1" strike="noStrike">
                <a:solidFill>
                  <a:srgbClr val="c00000"/>
                </a:solidFill>
                <a:latin typeface="Arial"/>
              </a:rPr>
              <a:t> призначена</a:t>
            </a:r>
            <a:r>
              <a:rPr b="0" i="1" lang="uk-UA" sz="2400" spc="-1" strike="noStrike">
                <a:solidFill>
                  <a:srgbClr val="c00000"/>
                </a:solidFill>
                <a:latin typeface="Arial"/>
              </a:rPr>
              <a:t> д</a:t>
            </a:r>
            <a:r>
              <a:rPr b="0" lang="uk-UA" sz="2400" spc="-1" strike="noStrike">
                <a:solidFill>
                  <a:srgbClr val="c00000"/>
                </a:solidFill>
                <a:latin typeface="Arial"/>
              </a:rPr>
              <a:t>ля посадки сіянців в ущільненій шкілці постійних лісових розсадник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6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7854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Висівний пристрій до плуга ПКЛ-7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140000" y="907560"/>
            <a:ext cx="4546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 - навісна систем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 - рам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 - корпус плу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 - кронштейни кріплення посівного пристосува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5 - опорно-приводний кот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6 - грунтозачіп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7 - права травер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8 - направляючий лото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9 - насіннєвий барабан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0 - люк; ланцюг привод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1 - зіроч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2 - ліва траверс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3 - ланцюг привод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4 - череви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5 – волоку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3671640" cy="4680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0" y="5636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Висівний пристрій до плуга ПКЛ-70</a:t>
            </a:r>
            <a:r>
              <a:rPr b="0" lang="uk-UA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 призначений для рядково-ямкового посіву насіння хвойних деревних порід в дно борозни одночасно з обробітком ґрунту двовідвальним корпу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Посівна тростина ТП-1</a:t>
            </a: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284720" y="1341000"/>
            <a:ext cx="4402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 – Руч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 - зовнішня труб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 - поворотна пруж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 - дозатор насінн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 - штовхач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6 - наконечни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7 - внутрішня труб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8 – уп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3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3600360" cy="43927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"/>
          <p:cNvSpPr/>
          <p:nvPr/>
        </p:nvSpPr>
        <p:spPr>
          <a:xfrm>
            <a:off x="179280" y="524700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c000"/>
                </a:solidFill>
                <a:latin typeface="Times New Roman"/>
                <a:ea typeface="Calibri"/>
              </a:rPr>
              <a:t>Посівна тростина ТП-1</a:t>
            </a:r>
            <a:r>
              <a:rPr b="0" lang="uk-UA" sz="2800" spc="-1" strike="noStrike">
                <a:solidFill>
                  <a:srgbClr val="ffc000"/>
                </a:solidFill>
                <a:latin typeface="Times New Roman"/>
                <a:ea typeface="Calibri"/>
              </a:rPr>
              <a:t> призначається для точкового висіву насіння сосни або ялини на вирубках для сприяння природного лісовідновле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Лісосадильна машина ЛМД-2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8000" y="4149360"/>
            <a:ext cx="903600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 - рама; 2 - електропривід; 3 - вентилятор з фільтром; 4 - кабін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5 - лекало розкривача захватів; 6 - зубчасте колесо вала посадкового апарата; 7 - бункер для посадкового матеріалу; 8 - бортова електромережа; 9 - електродвигун постійного струму; 10 - хрестовина; 11 – прикотуючі котки; 12 - храпово-пружинний механізм регулювання тиску котків на ґрунт; 13 -  клини; 14 - променевий посадковий апарат; 15 - сошник; 16 - опорна пластина; 17 - сидіння садильни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8 - приймальний столик для сіянців; 19 - панель керування електроприво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9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13744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Машина універсальна лісосадильна МУЛ-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32000" y="1268280"/>
            <a:ext cx="4032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 - куз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 - сиді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 - рам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 - дисковий посадковий апар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 - дернозні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6 - глибокорозпушувач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7 - сошни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8 - опорні коле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9 – прикотуючо - приводний кото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0 - ящик для посадкового матері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680000" cy="403236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4"/>
          <p:cNvSpPr/>
          <p:nvPr/>
        </p:nvSpPr>
        <p:spPr>
          <a:xfrm>
            <a:off x="0" y="5373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000"/>
                </a:solidFill>
                <a:latin typeface="Arial"/>
              </a:rPr>
              <a:t>Машина універсальна лісосадильна МУЛ-1</a:t>
            </a:r>
            <a:r>
              <a:rPr b="0" lang="uk-UA" sz="2400" spc="-1" strike="noStrike">
                <a:solidFill>
                  <a:srgbClr val="ffc000"/>
                </a:solidFill>
                <a:latin typeface="Arial"/>
              </a:rPr>
              <a:t> призначена для однорядної посадки сіянців хвойних порід з одночасною підготовкою ґрунту у вигляді мінералізованої смуги і розпушуванням ґрунту по середин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Лісова саджалка СЛП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79280" y="4149360"/>
            <a:ext cx="885672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 - сошник; 2 - брус навішування; 3 - рама; 4 - кабін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5 - сидіння садильника; 6 - посадковий апарат; 7 - ящик для сіянців; 8 - стійка-підставка; 9 - підніжка; 10 - ящик для інструменту; 11 - опорний башм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000"/>
                </a:solidFill>
                <a:latin typeface="Arial"/>
              </a:rPr>
              <a:t>Лісова саджалка СЛП-2</a:t>
            </a:r>
            <a:r>
              <a:rPr b="0" lang="uk-UA" sz="2400" spc="-1" strike="noStrike">
                <a:solidFill>
                  <a:srgbClr val="ffc000"/>
                </a:solidFill>
                <a:latin typeface="Arial"/>
              </a:rPr>
              <a:t> здійснює посадку дво- і трирічних сіянців з довжиною надземної частини 8 ... 25 см і коренів до 22 см на пластах, тільки у вертикальному положенні на ґрунтах різної вологості, крім надмірно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3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137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7138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Схема лісосадильної автоматичної машини МЛА-1А "Илан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422064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1 - сошник; 2 - контейнер із зарядженою касетою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3 – касетний сіянцеутримувач; 4 - касетопротяжний механізм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5 - захоплювач; 6 - зубчаста передача; 7 – кот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000"/>
                </a:solidFill>
                <a:latin typeface="Arial"/>
              </a:rPr>
              <a:t>Автоматична лісосадильна машина МЛА-1А</a:t>
            </a:r>
            <a:r>
              <a:rPr b="0" lang="uk-UA" sz="2400" spc="-1" strike="noStrike">
                <a:solidFill>
                  <a:srgbClr val="ffc000"/>
                </a:solidFill>
                <a:latin typeface="Arial"/>
              </a:rPr>
              <a:t> "Илана" призначена для посадки сіянців хвойних порід як на зрубах з кількістю пнів до 600 шт./га, так на вільних від деревної рослинності площах і при при створенні шкільних відділень розсад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31" descr=""/>
          <p:cNvPicPr/>
          <p:nvPr/>
        </p:nvPicPr>
        <p:blipFill>
          <a:blip r:embed="rId1"/>
          <a:stretch/>
        </p:blipFill>
        <p:spPr>
          <a:xfrm>
            <a:off x="0" y="1125360"/>
            <a:ext cx="90234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Лісосадильна машина RZS-1 (RZS-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378936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c000"/>
                </a:solidFill>
                <a:latin typeface="Arial"/>
              </a:rPr>
              <a:t>Фреза-розпушувач FU4082 - 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c000"/>
                </a:solidFill>
                <a:latin typeface="Arial"/>
              </a:rPr>
              <a:t>посадковий агрегат RZS-1 - б, Словачч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Лісосадильна машина RZS-1 (RZS-2)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використовується для механізованої посадки саджанців лісових порід з відкритою і закритою кореневою системою з діаметром брикету до 8 см на вирубках, очищених від порубкових залишків, з висотою пнів, які забезпечують геометричну прохідність трак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3" descr=""/>
          <p:cNvPicPr/>
          <p:nvPr/>
        </p:nvPicPr>
        <p:blipFill>
          <a:blip r:embed="rId1"/>
          <a:stretch/>
        </p:blipFill>
        <p:spPr>
          <a:xfrm>
            <a:off x="1692360" y="1052640"/>
            <a:ext cx="53276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Способи посіву лісового насі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ff"/>
                </a:solidFill>
                <a:uFillTx/>
                <a:latin typeface="Arial"/>
              </a:rPr>
              <a:t>Розкидний спосіб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розкидання насіння  вручну або  висівання розкидними сівалками, встановленими на  літаках, тракторах або автомобіл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ff"/>
                </a:solidFill>
                <a:uFillTx/>
                <a:latin typeface="Arial"/>
              </a:rPr>
              <a:t>Рядковий спосіб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-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висівання  насіння безперервним струменем  рядками з однаковими міжряддями і загортають на одну й ту ж глиби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Комплексні агрегати Bracke P11.a і EcoPlanter (Швеці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8000" y="4723920"/>
            <a:ext cx="9036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садковий агрегат Р11.а виконує обробіток ґрунту дискретними мікропідвищеннями з одночасною посадкою контейнерних саджанц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EcoPlanter має дві фрези для розпушування ґрунту і дозволяє проводити посадку двох рослин за один прий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3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69850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Arial"/>
              </a:rPr>
              <a:t>ДЯКУЮ ЗА УВАГУ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Arial"/>
              </a:rPr>
              <a:t>Способи посіву лісового насі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8000" y="1052280"/>
            <a:ext cx="8856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 u="sng">
                <a:solidFill>
                  <a:srgbClr val="0000ff"/>
                </a:solidFill>
                <a:uFillTx/>
                <a:latin typeface="Times New Roman"/>
              </a:rPr>
              <a:t>Стрічковий спосіб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   відрізняється  від  рядкового  тим, що  не  всі  рядки розміщуються на  однакових  відстанях один  від  одного, а  об'єднуються в  групи  (стрічки). Відстань між рядками  в стрічці  менша за  відстань  між крайніми  рядками двох сусідніх  стрічо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 u="sng">
                <a:solidFill>
                  <a:srgbClr val="0000ff"/>
                </a:solidFill>
                <a:uFillTx/>
                <a:latin typeface="Times New Roman"/>
              </a:rPr>
              <a:t>Рядково-лунковий спосіб</a:t>
            </a:r>
            <a:r>
              <a:rPr b="1" lang="uk-UA" sz="3000" spc="-1" strike="noStrike">
                <a:solidFill>
                  <a:srgbClr val="0000ff"/>
                </a:solidFill>
                <a:latin typeface="Times New Roman"/>
              </a:rPr>
              <a:t>  -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  висівання  насіння по декілька штук  в  одну лунку, при  цьому  лунки розміщуються в ряду  на  однаковій  відстані  одна  від  одної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 u="sng">
                <a:solidFill>
                  <a:srgbClr val="0000ff"/>
                </a:solidFill>
                <a:uFillTx/>
                <a:latin typeface="Times New Roman"/>
              </a:rPr>
              <a:t>Груповий спосіб</a:t>
            </a:r>
            <a:r>
              <a:rPr b="1" lang="uk-UA" sz="3000" spc="-1" strike="noStrike">
                <a:solidFill>
                  <a:srgbClr val="0000ff"/>
                </a:solidFill>
                <a:latin typeface="Times New Roman"/>
              </a:rPr>
              <a:t>  -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  висівання  насіння  групами у декілька лунок, згрупованих  на  одній площадці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Способи створення лісових культ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422064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"/>
              </a:rPr>
              <a:t>1 - похила посадка на надлишково-зволожених ґрунтах; 2 - вертикальна посадка по пластах уздовж борозен; 3 - посадка на вирубках в борозни; 4 - посадка автоматичними машинами або пристосуваннями; 5 - посадка без попередньої підготовки ґрунту; 6 - посадка на мікропідвищеннях; 7 - посадка при нольовому обробітку ґрунту; 8 - похила посадка лісосмуг; 9 - посадка на терасах; 10 - посадка великомірних саджнівців; 11 - посадка сіянців на пісках зарослих травою і чагарником; 12 - закріплення пісків; 13,14- посадка сіянців в шкільних відділеннях лісових розсадників; 15,16- посадка після ямокопачів і з грудкою землі; 17 - ручна посадка мечем Колесова; 18 - посадка сіянців із закритою кореневою; 19 - створення лісових культур посі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676520" y="692280"/>
            <a:ext cx="570384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Посадка – основний спосіб створення лісових культур при л</a:t>
            </a:r>
            <a:r>
              <a:rPr b="0" lang="uk-UA" sz="2400" spc="-1" strike="noStrike">
                <a:solidFill>
                  <a:srgbClr val="800000"/>
                </a:solidFill>
                <a:latin typeface="Arial"/>
              </a:rPr>
              <a:t>і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сов</a:t>
            </a:r>
            <a:r>
              <a:rPr b="0" lang="uk-UA" sz="2400" spc="-1" strike="noStrike">
                <a:solidFill>
                  <a:srgbClr val="800000"/>
                </a:solidFill>
                <a:latin typeface="Arial"/>
              </a:rPr>
              <a:t>ід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овле</a:t>
            </a:r>
            <a:r>
              <a:rPr b="0" lang="uk-UA" sz="2400" spc="-1" strike="noStrike">
                <a:solidFill>
                  <a:srgbClr val="80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і й лісорозведен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6600cc"/>
                </a:solidFill>
                <a:latin typeface="Arial"/>
              </a:rPr>
              <a:t>Способи створення лісових культ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800000"/>
                </a:solidFill>
                <a:latin typeface="Arial"/>
              </a:rPr>
              <a:t>На зрубах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культури висаджують на дно борозни, яку створюють двовідвальним плу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800000"/>
                </a:solidFill>
                <a:latin typeface="Arial"/>
              </a:rPr>
              <a:t>На перезволожених ґрунтах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посадку лісових культур проводять на мікропідвищеннях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i="1" lang="uk-UA" sz="2400" spc="-1" strike="noStrike">
                <a:solidFill>
                  <a:srgbClr val="800000"/>
                </a:solidFill>
                <a:latin typeface="Arial"/>
              </a:rPr>
              <a:t>У розсадниках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посадку проводять рядковим способом на добре обробленому ґрун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800000"/>
                </a:solidFill>
                <a:latin typeface="Arial"/>
              </a:rPr>
              <a:t>У садово-парковому господарстві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використовують посадку великомірних дерев з комом землі в попередньо підготовлене місце для поса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8748720" y="6308640"/>
            <a:ext cx="3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d0d0d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6720" y="476280"/>
            <a:ext cx="4067280" cy="28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Arial"/>
              </a:rPr>
              <a:t>Знаряддя для посадки культур ручним способом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 - інструмент «Поттіпуткі» (Фінляндія);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, в, г - мечі-лопа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64000" y="3860280"/>
            <a:ext cx="367200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Arial"/>
              </a:rPr>
              <a:t>Схеми посадки сіянців ЗКС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I - по дну бороз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II - на міст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8000" y="3716280"/>
            <a:ext cx="5040360" cy="2973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9993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07:40:14Z</dcterms:created>
  <dc:creator>Customer</dc:creator>
  <dc:description/>
  <dc:language>en-US</dc:language>
  <cp:lastModifiedBy>adm</cp:lastModifiedBy>
  <dcterms:modified xsi:type="dcterms:W3CDTF">2021-09-23T17:10:20Z</dcterms:modified>
  <cp:revision>101</cp:revision>
  <dc:subject/>
  <dc:title>Інструкція, щодо оформлення випускних робіт до інституційного репозиторію</dc:title>
</cp:coreProperties>
</file>