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1FC19-0359-4135-88A8-CF856EDEA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B90E5-02D7-4B5E-9262-5E5CAA280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7BAC4-A7EC-4BD6-856E-DC1240F58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27C1F-D84A-4B68-9F0C-D2E4F252F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4190F-3216-4C35-960F-A93211E5F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028A1-F655-4736-983B-DFA3FF1C9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89496-764E-4029-80C8-9D92B51B5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1F41B-1038-4AB0-B9D0-7FF0AA7FF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8B65B-67BE-40C8-8B27-5AD8C53C6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961A5-76E5-4578-B289-D153B6966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874BC-F1A7-4D3E-8474-2E49BB206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01ABE-BB5B-41FF-8D6D-7ACA43BCE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98775-AFAA-477A-AF99-8BA3CD4DB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31698-C9F4-4CB5-9044-FB74E53F6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DE037-DCB3-402C-BEC9-033B3D6E4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B6D2B-CB45-48DE-BE41-A805A6CE0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B7042-8877-42D3-A9E8-19390F935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A5CE23-FE6D-4C0A-98FC-301DF37983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BC8E6B-1BCA-44FC-830A-B361291624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83533-57F0-47C1-BBBB-029290F2B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6DD59-FAFD-4660-ABD0-8427F5E4DD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1726DD-DA1F-4251-9F1C-15DF6C8489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CFD18-29FE-4D8C-A9EE-05CCFCCC7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1AF3DC-96C1-407E-BE3A-1D395B215C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3460D-449C-40BA-98E2-BDE247422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4B567-7832-44F5-82A1-0FBE25D7BA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AC705-DC34-448E-A437-7D862D54B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12084-A3D1-4EA7-BAD0-8E570D07E2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C989A5-690C-4279-B309-78430B6475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FD8543-04AA-4362-AEF8-25111D443B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B3D7D8-D6EE-4705-AB07-190E734826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E5D07-9D24-4388-813C-410D689CE8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62CB54-FFB9-4503-9A96-200ABFC9B0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732A4-C75F-4785-A752-FCE5F92FD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61FE6-AFA7-4A49-885A-91C569E83F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77F1B3-F7ED-4196-BACB-5DCAC2602B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3C1F4-B062-4B33-89A6-54A702C088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C91D90-001F-4B54-98A7-416830195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4BCDD5-09EA-407E-A164-C09D8A3A3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5F038-C515-4A35-B4E9-62CE9C2A7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32DAFE-8307-4FCD-A12B-6D48DCE6E9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C26B8F-2060-458D-A398-72E32770C6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85E714-0D6D-440B-82DE-65F8953207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13215F-E57D-41E7-BE9D-D46AB4C0DB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D0F33-EDF0-4AA5-8F96-FCB9A8A7A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CE28FE-F492-4005-9E31-2B1A73E7F9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3A699A-80DE-4447-A5DF-D1F4A7710D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EB87E3-BD9E-4C14-9966-B5AE9EE00C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D98092-E26B-42A8-BDE9-32EFE2F4E3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E67E77-A5FD-41C2-8829-948DB13F2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46703-5FD1-4941-AAB5-F82DD5A6D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CEA9C-30F3-46C6-AFD6-4AFA1033C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BD59F-D0CC-43F9-8613-BC6E3CE73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0CFF0A-6841-485B-870F-82BE07DD1E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0158E3-156B-48E0-8460-331E27D90F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131C6-02A7-462A-BBD8-949CC6996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892988-7165-4AC2-B09A-3733AE4074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18DBC-2D1C-4B3B-AA98-C228B6D00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DC76D-F943-4733-B7AE-C636FD052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86D18-E360-458C-896C-C65B754E5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163F-2137-46CA-A07F-0E5C05A95C1B}"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3828-98EE-4BEC-9F6F-9EC50C8B5A9F}"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0942-512F-418C-ACB6-2F0ADD64D3C8}"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516C-DB4B-42B4-818C-91DCF0403D8C}"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BCBB-1808-4937-940A-F0BA4F49A370}"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4"/>
          <p:cNvSpPr/>
          <p:nvPr/>
        </p:nvSpPr>
        <p:spPr>
          <a:xfrm>
            <a:off x="108000" y="112536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Century"/>
              </a:rPr>
              <a:t>Електротехнічні матеріали</a:t>
            </a:r>
            <a:r>
              <a:rPr b="1" lang="uk-UA" sz="6600" spc="-1" strike="noStrike">
                <a:solidFill>
                  <a:srgbClr val="9f2936"/>
                </a:solidFill>
                <a:latin typeface="Verdana"/>
              </a:rPr>
              <a:t> </a:t>
            </a:r>
            <a:endParaRPr b="0" lang="en-US" sz="6600" spc="-1" strike="noStrike">
              <a:solidFill>
                <a:srgbClr val="000000"/>
              </a:solidFill>
              <a:latin typeface="Century"/>
            </a:endParaRPr>
          </a:p>
        </p:txBody>
      </p:sp>
      <p:sp>
        <p:nvSpPr>
          <p:cNvPr id="221" name="Text Box 4"/>
          <p:cNvSpPr/>
          <p:nvPr/>
        </p:nvSpPr>
        <p:spPr>
          <a:xfrm>
            <a:off x="1332000" y="4149720"/>
            <a:ext cx="626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u="sng">
                <a:solidFill>
                  <a:srgbClr val="7030a0"/>
                </a:solidFill>
                <a:uFillTx/>
                <a:latin typeface="Bookman Old Style"/>
              </a:rPr>
              <a:t>Вступна лекція</a:t>
            </a:r>
            <a:endParaRPr b="0" lang="en-US" sz="4800" spc="-1" strike="noStrike">
              <a:solidFill>
                <a:srgbClr val="000000"/>
              </a:solidFill>
              <a:latin typeface="Century"/>
            </a:endParaRPr>
          </a:p>
        </p:txBody>
      </p:sp>
      <p:sp>
        <p:nvSpPr>
          <p:cNvPr id="222" name="TextBox 4"/>
          <p:cNvSpPr/>
          <p:nvPr/>
        </p:nvSpPr>
        <p:spPr>
          <a:xfrm>
            <a:off x="1476360" y="5084640"/>
            <a:ext cx="702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доцент Возняк О.М.</a:t>
            </a:r>
            <a:endParaRPr b="0" lang="en-US" sz="2400" spc="-1" strike="noStrike">
              <a:solidFill>
                <a:srgbClr val="000000"/>
              </a:solidFill>
              <a:latin typeface="Century"/>
            </a:endParaRPr>
          </a:p>
        </p:txBody>
      </p:sp>
      <p:sp>
        <p:nvSpPr>
          <p:cNvPr id="223" name="AutoShape 6"/>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
        <p:nvSpPr>
          <p:cNvPr id="252" name="Text Box 5"/>
          <p:cNvSpPr/>
          <p:nvPr/>
        </p:nvSpPr>
        <p:spPr>
          <a:xfrm>
            <a:off x="903600" y="836640"/>
            <a:ext cx="69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Усі вказані вище фактори, впливають на термін служби ЕТМ</a:t>
            </a:r>
            <a:endParaRPr b="0" lang="en-US" sz="1800" spc="-1" strike="noStrike">
              <a:solidFill>
                <a:srgbClr val="000000"/>
              </a:solidFill>
              <a:latin typeface="Century"/>
            </a:endParaRPr>
          </a:p>
        </p:txBody>
      </p:sp>
      <p:pic>
        <p:nvPicPr>
          <p:cNvPr id="253" name="Picture 6" descr=""/>
          <p:cNvPicPr/>
          <p:nvPr/>
        </p:nvPicPr>
        <p:blipFill>
          <a:blip r:embed="rId1"/>
          <a:stretch/>
        </p:blipFill>
        <p:spPr>
          <a:xfrm>
            <a:off x="2340000" y="1557360"/>
            <a:ext cx="4457520" cy="3352680"/>
          </a:xfrm>
          <a:prstGeom prst="rect">
            <a:avLst/>
          </a:prstGeom>
          <a:ln w="0">
            <a:noFill/>
          </a:ln>
        </p:spPr>
      </p:pic>
      <p:sp>
        <p:nvSpPr>
          <p:cNvPr id="254" name="Text Box 7"/>
          <p:cNvSpPr/>
          <p:nvPr/>
        </p:nvSpPr>
        <p:spPr>
          <a:xfrm>
            <a:off x="1837080" y="5013360"/>
            <a:ext cx="541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Вплив електрично поля на термін служби ЕТМ</a:t>
            </a:r>
            <a:endParaRPr b="0" lang="en-US" sz="1800" spc="-1" strike="noStrike">
              <a:solidFill>
                <a:srgbClr val="000000"/>
              </a:solidFill>
              <a:latin typeface="Century"/>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7030a0"/>
                </a:solidFill>
                <a:latin typeface="Goudy Stout"/>
                <a:ea typeface="Times New Roman"/>
              </a:rPr>
              <a:t>План лекції:</a:t>
            </a:r>
            <a:endParaRPr b="1" lang="en-US" sz="4800" spc="-1" strike="noStrike">
              <a:solidFill>
                <a:srgbClr val="ff8d3e"/>
              </a:solidFill>
              <a:latin typeface="Verdana"/>
            </a:endParaRPr>
          </a:p>
        </p:txBody>
      </p:sp>
      <p:sp>
        <p:nvSpPr>
          <p:cNvPr id="22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
        <p:nvSpPr>
          <p:cNvPr id="226" name="Rectangle 7"/>
          <p:cNvSpPr/>
          <p:nvPr/>
        </p:nvSpPr>
        <p:spPr>
          <a:xfrm>
            <a:off x="684360" y="1700280"/>
            <a:ext cx="7918200" cy="1657440"/>
          </a:xfrm>
          <a:prstGeom prst="rect">
            <a:avLst/>
          </a:prstGeom>
          <a:noFill/>
          <a:ln w="0">
            <a:noFill/>
          </a:ln>
        </p:spPr>
        <p:style>
          <a:lnRef idx="0"/>
          <a:fillRef idx="0"/>
          <a:effectRef idx="0"/>
          <a:fontRef idx="minor"/>
        </p:style>
        <p:txBody>
          <a:bodyPr lIns="182880" rIns="90000" tIns="91440" bIns="46800" anchor="t">
            <a:normAutofit/>
          </a:bodyPr>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1. Історичний розвиток ЕТМ</a:t>
            </a:r>
            <a:endParaRPr b="0" lang="en-US" sz="20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2. Класифікація ЕТМ</a:t>
            </a:r>
            <a:endParaRPr b="0" lang="en-US" sz="20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3. Фактори впливу на ЕТМ</a:t>
            </a:r>
            <a:endParaRPr b="0"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062720" y="483480"/>
            <a:ext cx="6854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000099"/>
              </a:buClr>
              <a:buSzPct val="80000"/>
              <a:buFont typeface="Times New Roman"/>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Times New Roman"/>
              </a:rPr>
              <a:t> </a:t>
            </a:r>
            <a:r>
              <a:rPr b="1" lang="uk-UA" sz="3600" spc="-1" strike="noStrike">
                <a:solidFill>
                  <a:srgbClr val="000099"/>
                </a:solidFill>
                <a:latin typeface="Century"/>
              </a:rPr>
              <a:t>Історичний розвиток ЕТМ</a:t>
            </a:r>
            <a:endParaRPr b="0" lang="en-US" sz="3600" spc="-1" strike="noStrike">
              <a:solidFill>
                <a:srgbClr val="000000"/>
              </a:solidFill>
              <a:latin typeface="Century"/>
            </a:endParaRPr>
          </a:p>
        </p:txBody>
      </p:sp>
      <p:sp>
        <p:nvSpPr>
          <p:cNvPr id="228" name="Rectangle 5"/>
          <p:cNvSpPr/>
          <p:nvPr/>
        </p:nvSpPr>
        <p:spPr>
          <a:xfrm>
            <a:off x="539640" y="1196640"/>
            <a:ext cx="8136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ЕТМ </a:t>
            </a:r>
            <a:r>
              <a:rPr b="0" lang="ru-RU" sz="1800" spc="-1" strike="noStrike">
                <a:solidFill>
                  <a:srgbClr val="000000"/>
                </a:solidFill>
                <a:latin typeface="Century"/>
              </a:rPr>
              <a:t>—</a:t>
            </a:r>
            <a:r>
              <a:rPr b="0" lang="uk-UA" sz="1800" spc="-1" strike="noStrike">
                <a:solidFill>
                  <a:srgbClr val="000000"/>
                </a:solidFill>
                <a:latin typeface="Century"/>
              </a:rPr>
              <a:t> це спеціальні матеріали, які характеризуються певними властивостями відносно електромагнітного поля і використовуються в техніці з урахуванням цих властивостей.</a:t>
            </a:r>
            <a:r>
              <a:rPr b="1" lang="ru-RU" sz="1800" spc="-1" strike="noStrike">
                <a:solidFill>
                  <a:srgbClr val="000000"/>
                </a:solidFill>
                <a:latin typeface="Century"/>
              </a:rPr>
              <a:t> </a:t>
            </a:r>
            <a:r>
              <a:rPr b="0" lang="uk-UA" sz="1800" spc="-1" strike="noStrike">
                <a:solidFill>
                  <a:srgbClr val="000000"/>
                </a:solidFill>
                <a:latin typeface="Arial"/>
              </a:rPr>
              <a:t>. </a:t>
            </a:r>
            <a:endParaRPr b="0" lang="en-US" sz="1800" spc="-1" strike="noStrike">
              <a:solidFill>
                <a:srgbClr val="000000"/>
              </a:solidFill>
              <a:latin typeface="Century"/>
            </a:endParaRPr>
          </a:p>
        </p:txBody>
      </p:sp>
      <p:sp>
        <p:nvSpPr>
          <p:cNvPr id="229" name="Text Box 6"/>
          <p:cNvSpPr/>
          <p:nvPr/>
        </p:nvSpPr>
        <p:spPr>
          <a:xfrm>
            <a:off x="611280" y="2133720"/>
            <a:ext cx="7885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Розробка нових матеріалів і безперервне вдосконалення вже відомих відбуваються одночасно із загальним розвитком електротехніки та розширенням вимог промисловості до якості матеріалів. </a:t>
            </a:r>
            <a:endParaRPr b="0"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Першим практичним застосуванням матеріалу для створення порівняно потужного джерела електричної енергії можна вважати виготовлення великої батареї, електрорушійна сила якої створювалася за рахунок контактної різниці потенціалів між дисками з різних металів. Ця батарея була створена в 1802 р. академіком В. В. Петровим. У ній використовувалося 8400 мідних і цинкових дисків з прокладками з паперу, просоченої електролітом. За допомогою цієї батареї вперше в світі була отримана електрична дуга.</a:t>
            </a:r>
            <a:endParaRPr b="0" lang="en-US" sz="1800" spc="-1" strike="noStrike">
              <a:solidFill>
                <a:srgbClr val="000000"/>
              </a:solidFill>
              <a:latin typeface="Century"/>
            </a:endParaRPr>
          </a:p>
        </p:txBody>
      </p:sp>
      <p:sp>
        <p:nvSpPr>
          <p:cNvPr id="23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
        <p:nvSpPr>
          <p:cNvPr id="232" name="Text Box 5"/>
          <p:cNvSpPr/>
          <p:nvPr/>
        </p:nvSpPr>
        <p:spPr>
          <a:xfrm>
            <a:off x="539640" y="1341360"/>
            <a:ext cx="7993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Швидкий ріст промисловості в усіх її численних галузях супроводжується безперервним збільшенням номенклатури застосовуваних матеріалів, вдосконаленням технології їх виготовлення і все більш широким використанням нових, раніше не застосовувалися в техніці видів сировини. </a:t>
            </a:r>
            <a:endParaRPr b="0"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Розвиток вітчизняної електротехніки висунуло на одне з перших місць проблему якнайшвидшого вдосконалення електротехнічних матеріалів високої якості, що повністю відповідають новітнім технічним вимогам і виготовлених з вітчизняної сировини з самої досконалої технології. </a:t>
            </a:r>
            <a:endParaRPr b="0"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a:rPr>
              <a:t>в даний час нові електротехнічні матеріали з'являються в результаті попереднього глибокого вивчення фізичних, механічних та хімічних характеристик таких речовин, які могли б бути використані в якості технічних матеріалів.</a:t>
            </a:r>
            <a:endParaRPr b="0" lang="en-US" sz="1800" spc="-1" strike="noStrike">
              <a:solidFill>
                <a:srgbClr val="000000"/>
              </a:solidFill>
              <a:latin typeface="Century"/>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539640" y="2059200"/>
            <a:ext cx="77774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За поведінкою в електричному полі матеріали поділяються на провідникові, напівпровідникові та діелектричні.</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За поведінкою в магнітному полі матеріали поділяються на сильно магнітні та слабомагнітні. Переважна більшість ЕТМ є немагнітними.</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660066"/>
                </a:solidFill>
                <a:uFillTx/>
                <a:latin typeface="Century"/>
              </a:rPr>
              <a:t>Провідниковими</a:t>
            </a:r>
            <a:r>
              <a:rPr b="0" lang="uk-UA" sz="2000" spc="-1" strike="noStrike">
                <a:solidFill>
                  <a:srgbClr val="000000"/>
                </a:solidFill>
                <a:latin typeface="Century"/>
              </a:rPr>
              <a:t> називають матеріали, основною електричною властивістю яких є сильно виражена порівняно з другими ЕТМ електро­провідність.</a:t>
            </a:r>
            <a:endParaRPr b="0" lang="en-US" sz="2000" spc="-1" strike="noStrike">
              <a:solidFill>
                <a:srgbClr val="000000"/>
              </a:solidFill>
              <a:latin typeface="Century"/>
            </a:endParaRPr>
          </a:p>
        </p:txBody>
      </p:sp>
      <p:sp>
        <p:nvSpPr>
          <p:cNvPr id="23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
        <p:nvSpPr>
          <p:cNvPr id="235" name="Rectangle 9"/>
          <p:cNvSpPr/>
          <p:nvPr/>
        </p:nvSpPr>
        <p:spPr>
          <a:xfrm>
            <a:off x="2270880" y="835920"/>
            <a:ext cx="4534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Times New Roman"/>
              </a:rPr>
              <a:t>2.Класифікація ЕТМ</a:t>
            </a:r>
            <a:endParaRPr b="0" lang="en-US" sz="3600" spc="-1" strike="noStrike">
              <a:solidFill>
                <a:srgbClr val="000000"/>
              </a:solidFill>
              <a:latin typeface="Century"/>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611280" y="907560"/>
            <a:ext cx="799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660066"/>
                </a:solidFill>
                <a:uFillTx/>
                <a:latin typeface="Century"/>
              </a:rPr>
              <a:t>Напівпровідниковими</a:t>
            </a:r>
            <a:r>
              <a:rPr b="0" lang="uk-UA" sz="1800" spc="-1" strike="noStrike">
                <a:solidFill>
                  <a:srgbClr val="000000"/>
                </a:solidFill>
                <a:latin typeface="Century"/>
              </a:rPr>
              <a:t> називають матеріали, які є за своєю пито­мою провідністю проміжними між провідниками та діелектриками.</a:t>
            </a:r>
            <a:endParaRPr b="0" lang="en-US" sz="1800" spc="-1" strike="noStrike">
              <a:solidFill>
                <a:srgbClr val="000000"/>
              </a:solidFill>
              <a:latin typeface="Century"/>
            </a:endParaRPr>
          </a:p>
        </p:txBody>
      </p:sp>
      <p:sp>
        <p:nvSpPr>
          <p:cNvPr id="237" name="Rectangle 3"/>
          <p:cNvSpPr/>
          <p:nvPr/>
        </p:nvSpPr>
        <p:spPr>
          <a:xfrm>
            <a:off x="539640" y="3284640"/>
            <a:ext cx="77932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660066"/>
                </a:solidFill>
                <a:uFillTx/>
                <a:latin typeface="Century"/>
              </a:rPr>
              <a:t>Діелектричними</a:t>
            </a:r>
            <a:r>
              <a:rPr b="0" lang="uk-UA" sz="1800" spc="-1" strike="noStrike">
                <a:solidFill>
                  <a:srgbClr val="000000"/>
                </a:solidFill>
                <a:latin typeface="Century"/>
              </a:rPr>
              <a:t> називають матеріали, основною властивістю яких є здатність до поляризації і в яких можливе існування електростатично­го поля. Реальний (технічний) діелектрик тим більше наближається до ідеального, чим менша його питома провідність і чим слабше в ньому виражені повільні механізми поляризації, які зв'язані з витратами електричної енергії та виділенням тепла.</a:t>
            </a:r>
            <a:endParaRPr b="0" lang="en-US" sz="1800" spc="-1" strike="noStrike">
              <a:solidFill>
                <a:srgbClr val="000000"/>
              </a:solidFill>
              <a:latin typeface="Century"/>
            </a:endParaRPr>
          </a:p>
        </p:txBody>
      </p:sp>
      <p:sp>
        <p:nvSpPr>
          <p:cNvPr id="23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
        <p:nvSpPr>
          <p:cNvPr id="239" name="Text Box 7"/>
          <p:cNvSpPr/>
          <p:nvPr/>
        </p:nvSpPr>
        <p:spPr>
          <a:xfrm>
            <a:off x="1835280" y="1628640"/>
            <a:ext cx="676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Особливою властивістю напівпровідників є дуже сильна залеж­ність питомої провідності від концентрації та виду домішок або інших дефектів, а також в більшості випадків від зовнішніх енергетичних дій (температури, освітлення і т.д.).</a:t>
            </a:r>
            <a:endParaRPr b="0"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539640" y="692280"/>
            <a:ext cx="73090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В практичному використанні діелектриків досить чітко визначені потреби електротехніки в використанні пасивних або активних властивостей цих матеріалів</a:t>
            </a:r>
            <a:r>
              <a:rPr b="1" lang="ru-RU" sz="1800" spc="-1" strike="noStrike">
                <a:solidFill>
                  <a:srgbClr val="000000"/>
                </a:solidFill>
                <a:latin typeface="Century"/>
              </a:rPr>
              <a:t> .</a:t>
            </a:r>
            <a:endParaRPr b="0"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На використанні пасивних властивостей діелектричних матеріа­лів базується найбільш суттєве їх використання в електротехніці як електроізоляційних матеріалів та діелектриків конденсаторів звичайного типу.</a:t>
            </a:r>
            <a:r>
              <a:rPr b="0" lang="ru-RU" sz="1800" spc="-1" strike="noStrike">
                <a:solidFill>
                  <a:srgbClr val="000000"/>
                </a:solidFill>
                <a:latin typeface="Century"/>
              </a:rPr>
              <a:t> </a:t>
            </a:r>
            <a:endParaRPr b="0" lang="en-US" sz="18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241"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24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
        <p:nvSpPr>
          <p:cNvPr id="243" name="Text Box 17"/>
          <p:cNvSpPr/>
          <p:nvPr/>
        </p:nvSpPr>
        <p:spPr>
          <a:xfrm>
            <a:off x="468360" y="2924280"/>
            <a:ext cx="7694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660066"/>
                </a:solidFill>
                <a:uFillTx/>
                <a:latin typeface="Century"/>
              </a:rPr>
              <a:t>Електроізоляційними матеріалами</a:t>
            </a:r>
            <a:r>
              <a:rPr b="0" lang="uk-UA" sz="1800" spc="-1" strike="noStrike">
                <a:solidFill>
                  <a:srgbClr val="000000"/>
                </a:solidFill>
                <a:latin typeface="Century"/>
              </a:rPr>
              <a:t> звуться діелектрики, які використовують в технічних пристроях для запобігання витоку електричних зарядів, тобто вони повинні поділяти електричні ланцюги (кола) одне від одного або струмоведучі частини пристроїв, приладів та апаратів від провідникових, але не струмоведучих частин (від корпуса, від землі). В цих випадках величина діелектричної проникності матеріалу не має особливого значення або вона повинна бути якомога меншою, щоб не вносити в схеми паразитні ємності.</a:t>
            </a:r>
            <a:endParaRPr b="0" lang="en-US" sz="1800" spc="-1" strike="noStrike">
              <a:solidFill>
                <a:srgbClr val="000000"/>
              </a:solidFill>
              <a:latin typeface="Century"/>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468360" y="347400"/>
            <a:ext cx="813600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У випадку застосування електроізоляційного матеріалу як діелектрика конденсатора певної ємності та найменшого розміру при інших рівних умовах бажано мати більшу величину діелектричної проникності матеріалу.</a:t>
            </a:r>
            <a:endParaRPr b="0" lang="en-US" sz="1800" spc="-1" strike="noStrike">
              <a:solidFill>
                <a:srgbClr val="000000"/>
              </a:solidFill>
              <a:latin typeface="Century"/>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660066"/>
                </a:solidFill>
                <a:latin typeface="Century"/>
              </a:rPr>
              <a:t>Активними (керованими)</a:t>
            </a:r>
            <a:r>
              <a:rPr b="0" lang="uk-UA" sz="1800" spc="-1" strike="noStrike">
                <a:solidFill>
                  <a:srgbClr val="000000"/>
                </a:solidFill>
                <a:latin typeface="Century"/>
              </a:rPr>
              <a:t> діелектриками є сегнетоелектрики, п'єзоелектрики, піроелектрики, електролюмінофори, матеріали для випромінювачів та затворів у лазерній техніці, електрети та інше.</a:t>
            </a:r>
            <a:endParaRPr b="0" lang="en-US" sz="1800" spc="-1" strike="noStrike">
              <a:solidFill>
                <a:srgbClr val="000000"/>
              </a:solidFill>
              <a:latin typeface="Century"/>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a:rPr>
              <a:t>Для того, щоб свідомо формулювати вимоги до ЕТМ, необхідно дослідити ті фізичні явища, які мають місце в матеріалах під дією електромагнітного поля в умовах підвищеної температури, вологості, забруд­нень, дії хімічно активних реагентів, механічних навантажень і т.п., та встановити параметри, які визначають властивості матеріалу</a:t>
            </a:r>
            <a:r>
              <a:rPr b="0" lang="ru-RU" sz="1800" spc="-1" strike="noStrike">
                <a:solidFill>
                  <a:srgbClr val="000000"/>
                </a:solidFill>
                <a:latin typeface="Century"/>
              </a:rPr>
              <a:t>.</a:t>
            </a:r>
            <a:endParaRPr b="0" lang="en-US" sz="1800" spc="-1" strike="noStrike">
              <a:solidFill>
                <a:srgbClr val="000000"/>
              </a:solidFill>
              <a:latin typeface="Century"/>
            </a:endParaRPr>
          </a:p>
        </p:txBody>
      </p:sp>
      <mc:AlternateContent>
        <mc:Choice xmlns:a14="http://schemas.microsoft.com/office/drawing/2010/main" Requires="a14">
          <p:sp>
            <p:nvSpPr>
              <p:cNvPr id="245" name="Object 6"/>
              <p:cNvSpPr txBox="1"/>
              <p:nvPr/>
            </p:nvSpPr>
            <p:spPr>
              <a:xfrm>
                <a:off x="-870120" y="3040200"/>
                <a:ext cx="114480" cy="218880"/>
              </a:xfrm>
              <a:prstGeom prst="rect">
                <a:avLst/>
              </a:prstGeom>
            </p:spPr>
            <p:txBody>
              <a:bodyPr/>
              <a:p>
                <a14:m>
                  <m:oMath xmlns:m="http://schemas.openxmlformats.org/officeDocument/2006/math"/>
                </a14:m>
              </a:p>
            </p:txBody>
          </p:sp>
        </mc:Choice>
        <mc:Fallback/>
      </mc:AlternateContent>
      <p:sp>
        <p:nvSpPr>
          <p:cNvPr id="246" name="Rectangle 11"/>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a:endParaRPr>
          </a:p>
        </p:txBody>
      </p:sp>
      <p:sp>
        <p:nvSpPr>
          <p:cNvPr id="24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
          <p:cNvPicPr/>
          <p:nvPr/>
        </p:nvPicPr>
        <p:blipFill>
          <a:blip r:embed="rId1"/>
          <a:stretch/>
        </p:blipFill>
        <p:spPr>
          <a:xfrm>
            <a:off x="755640" y="981000"/>
            <a:ext cx="7581960" cy="4838760"/>
          </a:xfrm>
          <a:prstGeom prst="rect">
            <a:avLst/>
          </a:prstGeom>
          <a:ln w="0">
            <a:noFill/>
          </a:ln>
        </p:spPr>
      </p:pic>
      <p:sp>
        <p:nvSpPr>
          <p:cNvPr id="249" name="Rectangle 6"/>
          <p:cNvSpPr/>
          <p:nvPr/>
        </p:nvSpPr>
        <p:spPr>
          <a:xfrm>
            <a:off x="1584720" y="404280"/>
            <a:ext cx="57614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Times New Roman"/>
              </a:rPr>
              <a:t>3.Фактори впливу на ЕТМ</a:t>
            </a:r>
            <a:endParaRPr b="0" lang="en-US" sz="3600" spc="-1" strike="noStrike">
              <a:solidFill>
                <a:srgbClr val="000000"/>
              </a:solidFill>
              <a:latin typeface="Century"/>
            </a:endParaRPr>
          </a:p>
        </p:txBody>
      </p:sp>
      <p:sp>
        <p:nvSpPr>
          <p:cNvPr id="25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Вступна лекція</a:t>
            </a:r>
            <a:endParaRPr b="0" lang="en-US" sz="2000" spc="-1" strike="noStrike">
              <a:solidFill>
                <a:srgbClr val="000000"/>
              </a:solidFill>
              <a:latin typeface="Century"/>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09-09T05:03:57Z</dcterms:modified>
  <cp:revision>220</cp:revision>
  <dc:subject/>
  <dc:title>Тема:   Пробій діелектриків </dc:title>
</cp:coreProperties>
</file>