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B7F-452C-48AB-B797-390E80E0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FC9-B93A-4431-894D-4C4AA370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91B-D5AC-47BC-BE9D-1815623D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5BF-5358-4140-8CA2-37B22754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A6DD-72DF-458E-9624-4F06B036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DA70-D149-4FDA-98A9-45F4A746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5227-0EA9-4899-9C3B-62E51941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E217-B176-4A4B-8C2E-995753D7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26F0-B62E-4F58-98A6-8EDA9B40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EB64-11AA-410D-95BF-D7F26D36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5C6A-81D7-4379-8063-A7BB85B9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1E2-1817-4C94-8347-F8FF48A9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B6F4-C89C-493D-A938-B276D8A1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52D6-147D-42D1-849A-DDF4FCFB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3521-D165-45A3-A7F0-155CAA39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95FD-BDCB-4D1A-A315-EC808686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5250-6140-4963-B22A-D47C7C5E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B4770-A5B1-48F5-A5FD-FDA17779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D25CB-2A5B-4D95-8EAA-FEE99790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BDC15-A909-4978-B7B6-9A1FCDF3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60D04-0123-41BC-99CE-193D4426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2A144-3FE8-44E8-A570-8897ACD9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CF7-FE7C-4493-9DD4-7C2664DB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F2604-4416-4E54-8AB1-22AC4407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EBFB-1B87-453F-8664-BCDE8824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A434-6E03-4EBA-803A-64EC5FF8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2B5C9-B670-4099-8549-EBDAF680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C3254-2688-439A-BF30-BBEDFA0C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A09F2-9CD7-4FE5-9008-5346ED50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B7E4-2D80-45BC-B481-B4101410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450CA-B6EC-4D21-A3E7-1FA8DC57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F15C3-F907-4CCF-9B4C-67DACBC1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68C95-C399-4CB4-B2FC-A8553467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B18-2C3E-4148-AA9F-F9E28282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9268-76D1-4CE6-888B-0DB14F5C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12F79-5E44-4769-8B25-6E6A18E1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A409-7E77-4B17-BDCB-DDB6034C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AA1B1-C75E-40D3-8E17-FBD21C53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7D590-5A4F-485A-B065-84DBD6FC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EF18A-18DA-4C56-890B-3A1D0A74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A511-123A-4A3D-9B43-C1B2D45D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DBE61-E1D9-4450-B2DD-B488561E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FB1B3-BB13-4DCA-94E4-F9C3B683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F37C7-C6ED-46FE-8BDA-4CF49D34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F80-97BA-4995-9C88-290F56E5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F3271-E840-4077-BB0F-75479D41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56698-33DE-4E30-8FDC-E9426ADF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7C86A-46F4-4E94-8AC3-6127CF4D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B6DD8-F991-4C21-9BD1-41B81D0F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71C1E-5F20-4E5C-94DF-731F1ED9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7A198-7022-4E9F-ABC4-D6F6DCBE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35502-1172-42E7-B555-EEA215B1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D96F2-CF6F-470E-B714-646A81E2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77525-3510-4066-9614-0025BB5D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3A88B-C76B-4F21-82F6-68948412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7DB-CB96-4E3A-A5CE-95066146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20C5A-F450-4A33-B9DF-6A2BB62B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818-6A82-4938-BCD8-228FB019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FD1-2624-4AEE-B1A0-A97BEE83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156-C0BA-425B-B111-69542380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397C-8B67-4B4B-8D59-294FE932363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88A3-76EA-4380-8E62-1281DB47B1C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2CAD-49EB-4814-8646-9A9D9179D1E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11AF-7B51-4068-93F0-249D520F926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8996-B445-47F5-8AA6-AF54DE77746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47610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7030a0"/>
                </a:solidFill>
                <a:latin typeface="Bookman Old Style"/>
              </a:rPr>
              <a:t>Провідникові матеріали</a:t>
            </a: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50920" y="873000"/>
            <a:ext cx="83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9f2936"/>
                </a:solidFill>
                <a:latin typeface="Verdana"/>
              </a:rPr>
              <a:t>Електротехнічні матеріали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076720" y="3753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Лекція</a:t>
            </a:r>
            <a:r>
              <a:rPr b="0" lang="ru-RU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 № </a:t>
            </a:r>
            <a:r>
              <a:rPr b="0" lang="en-US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692360" y="591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9f2936"/>
                </a:solidFill>
                <a:uFillTx/>
                <a:latin typeface="Verdana"/>
              </a:rPr>
              <a:t>Викладач: к.т.н., доцент Возняк О.М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503280" y="584280"/>
            <a:ext cx="8064360" cy="2808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7030a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5168880" y="549360"/>
            <a:ext cx="3365640" cy="3527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468360" y="692280"/>
            <a:ext cx="460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2 Залежність термоелектрорушійної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ли від різниці температур 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гарячого і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олодного спаїв для термопар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476b2"/>
                </a:solidFill>
                <a:latin typeface="Arial"/>
              </a:rPr>
              <a:t>(Платинородій – платина (1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476b2"/>
                </a:solidFill>
                <a:latin typeface="Arial"/>
              </a:rPr>
              <a:t>хромель – алюмель(2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476b2"/>
                </a:solidFill>
                <a:latin typeface="Arial"/>
              </a:rPr>
              <a:t>залізо – копель (3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476b2"/>
                </a:solidFill>
                <a:latin typeface="Arial"/>
              </a:rPr>
              <a:t>залізо – константан (4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476b2"/>
                </a:solidFill>
                <a:latin typeface="Arial"/>
              </a:rPr>
              <a:t>хромель – копель (5)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8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"/>
          <p:cNvSpPr/>
          <p:nvPr/>
        </p:nvSpPr>
        <p:spPr>
          <a:xfrm>
            <a:off x="550800" y="3284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=C(T1-T2),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 С – постійний для даної пари провідників коефіцієнт термоелектрорушійної сили, тобто термоелектрорушійна сила має бути пропорційною різниці температур спаї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02944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660066"/>
                </a:solidFill>
                <a:uFillTx/>
                <a:latin typeface="Verdana"/>
              </a:rPr>
              <a:t>3.5 Температурний коефіцієнт лінійного розширення провідників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обчислюється за тим же виразом, що і для діелектрикі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(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Цей коефіцієнт  використовується як для аналізу роботи різних з’єднаних у тій чи іншій конструкції матеріалів, так і для розрахунків температурного коефіцієнту провод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ля чистих металів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lt;&lt;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         , тому  при розрахунку ТК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можна знехтувати у порівнянні з       . Тоді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роте для сплавів що мають малий      формула (7) має суттєве практичне значенн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5"/>
              <p:cNvSpPr txBox="1"/>
              <p:nvPr/>
            </p:nvSpPr>
            <p:spPr>
              <a:xfrm>
                <a:off x="3348000" y="1052640"/>
                <a:ext cx="19447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лрп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8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7470720" y="456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0"/>
              <p:cNvSpPr txBox="1"/>
              <p:nvPr/>
            </p:nvSpPr>
            <p:spPr>
              <a:xfrm>
                <a:off x="5003640" y="2216160"/>
                <a:ext cx="2521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KR</m:t>
                        </m:r>
                      </m:e>
                      <m:sub/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13"/>
              <p:cNvSpPr txBox="1"/>
              <p:nvPr/>
            </p:nvSpPr>
            <p:spPr>
              <a:xfrm>
                <a:off x="2987640" y="2565360"/>
                <a:ext cx="3808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14"/>
              <p:cNvSpPr txBox="1"/>
              <p:nvPr/>
            </p:nvSpPr>
            <p:spPr>
              <a:xfrm>
                <a:off x="3851280" y="2565360"/>
                <a:ext cx="3826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15"/>
              <p:cNvSpPr txBox="1"/>
              <p:nvPr/>
            </p:nvSpPr>
            <p:spPr>
              <a:xfrm>
                <a:off x="3780000" y="2852640"/>
                <a:ext cx="3808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6"/>
              <p:cNvSpPr txBox="1"/>
              <p:nvPr/>
            </p:nvSpPr>
            <p:spPr>
              <a:xfrm>
                <a:off x="5076720" y="2997360"/>
                <a:ext cx="18115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KR</m:t>
                        </m:r>
                      </m:e>
                      <m:sub/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7"/>
              <p:cNvSpPr txBox="1"/>
              <p:nvPr/>
            </p:nvSpPr>
            <p:spPr>
              <a:xfrm>
                <a:off x="4427640" y="3429000"/>
                <a:ext cx="3823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660066"/>
                </a:solidFill>
                <a:uFillTx/>
                <a:latin typeface="Verdana"/>
              </a:rPr>
              <a:t>3.6 Механічні властивості провідників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 характеризують </a:t>
            </a:r>
            <a:r>
              <a:rPr b="0" lang="uk-UA" sz="1600" spc="-1" strike="noStrike" u="sng">
                <a:solidFill>
                  <a:srgbClr val="660066"/>
                </a:solidFill>
                <a:uFillTx/>
                <a:latin typeface="Verdana"/>
              </a:rPr>
              <a:t>границею міцності при розтягуванні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δ</a:t>
            </a:r>
            <a:r>
              <a:rPr b="1" i="1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ρ</a:t>
            </a:r>
            <a:r>
              <a:rPr b="1" i="1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і відносним </a:t>
            </a:r>
            <a:r>
              <a:rPr b="0" lang="uk-UA" sz="1600" spc="-1" strike="noStrike" u="sng">
                <a:solidFill>
                  <a:srgbClr val="660066"/>
                </a:solidFill>
                <a:uFillTx/>
                <a:latin typeface="Verdana"/>
              </a:rPr>
              <a:t>подовженням при розриві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,а також </a:t>
            </a:r>
            <a:r>
              <a:rPr b="0" lang="uk-UA" sz="1600" spc="-1" strike="noStrike" u="sng">
                <a:solidFill>
                  <a:srgbClr val="660066"/>
                </a:solidFill>
                <a:uFillTx/>
                <a:latin typeface="Verdana"/>
              </a:rPr>
              <a:t>хрупкістю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, твердістю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і тому подібними властивостями. Механічні властивості металевих провідників великою мірою залежить від </a:t>
            </a:r>
            <a:r>
              <a:rPr b="0" lang="uk-UA" sz="1600" spc="-1" strike="noStrike" u="sng">
                <a:solidFill>
                  <a:srgbClr val="660066"/>
                </a:solidFill>
                <a:uFillTx/>
                <a:latin typeface="Verdana"/>
              </a:rPr>
              <a:t>механічної і термічної обробки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і т.п. наприклад вплив – віджига призводить до суттєвого зменшення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uk-UA" sz="16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і збільшення 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Такі фізичні параметри провідникових матеріалів як температури плавлення і кипіння, питома теплоємкість та інші є довідниковими і не потребують особливих пояснень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8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н лекції 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142848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spcBef>
                <a:spcPts val="249"/>
              </a:spcBef>
              <a:buClr>
                <a:srgbClr val="27bf5a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Класифікація провідник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buClr>
                <a:srgbClr val="27bf5a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Електропровідність мет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buClr>
                <a:srgbClr val="27bf5a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ластивості провідник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7bf5a"/>
                </a:solidFill>
                <a:latin typeface="Verdana"/>
              </a:rPr>
              <a:t>3.1.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Питома провідність і питомий опір провідникі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7bf5a"/>
                </a:solidFill>
                <a:latin typeface="Verdana"/>
              </a:rPr>
              <a:t>3.</a:t>
            </a:r>
            <a:r>
              <a:rPr b="1" lang="en-US" sz="1600" spc="-1" strike="noStrike">
                <a:solidFill>
                  <a:srgbClr val="27bf5a"/>
                </a:solidFill>
                <a:latin typeface="Verdana"/>
              </a:rPr>
              <a:t>2</a:t>
            </a:r>
            <a:r>
              <a:rPr b="1" lang="uk-UA" sz="1600" spc="-1" strike="noStrike">
                <a:solidFill>
                  <a:srgbClr val="27bf5a"/>
                </a:solidFill>
                <a:latin typeface="Verdana"/>
              </a:rPr>
              <a:t>.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Температурний коефіцієнт питомого опору металі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7bf5a"/>
                </a:solidFill>
                <a:latin typeface="Verdana"/>
              </a:rPr>
              <a:t>3.3.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Теплопровідність металі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7bf5a"/>
                </a:solidFill>
                <a:latin typeface="Verdana"/>
              </a:rPr>
              <a:t>3.4.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Термоелектрорушійна си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7bf5a"/>
                </a:solidFill>
                <a:latin typeface="Verdana"/>
              </a:rPr>
              <a:t>3.5.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Температурний коефіцієнт лінійного розширення провідникі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7bf5a"/>
                </a:solidFill>
                <a:latin typeface="Verdana"/>
              </a:rPr>
              <a:t>3.6.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Механічні властивості провідникі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8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2629080" cy="165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Провідники бувають: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1) тверді речовин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(метали і  їх сплави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2) рідин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3) газ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428760" y="500040"/>
            <a:ext cx="81835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Класифікація провідникі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780000" y="1125360"/>
            <a:ext cx="4608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Тверді провідники поділяють на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1) метали високої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ровідності </a:t>
            </a:r>
            <a:r>
              <a:rPr b="0" i="1" lang="uk-UA" sz="1600" spc="-1" strike="noStrike">
                <a:solidFill>
                  <a:srgbClr val="3476b2"/>
                </a:solidFill>
                <a:latin typeface="Verdana"/>
              </a:rPr>
              <a:t>(для проводів і електричних обмоток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2) сплави високого  опору </a:t>
            </a:r>
            <a:r>
              <a:rPr b="0" i="1" lang="uk-UA" sz="1600" spc="-1" strike="noStrike">
                <a:solidFill>
                  <a:srgbClr val="3476b2"/>
                </a:solidFill>
                <a:latin typeface="Verdana"/>
              </a:rPr>
              <a:t>(для виготовлення резисторів, електронагрівачів, ламп накалювання)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539640" y="2708280"/>
            <a:ext cx="7993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Рідкі провідники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– це розплавлені метали та різні електроліти. Їх температура плавлення - дуже висока. Тільки ртуть (температура плавлення ≈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39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) використовується в якості рідкого провідника при нормальній температурі. Інші метали використовують як рідкі провідники при високих температурах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Гази і пари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(у цьому числі і пари металів)  при низьких напруженостях електричного поля не є провідниками. Сильно іонізований газ при рівній кількості електронів і позитивних іонів в одиниці об’єму являє собою особливе провідне середовище, яке називають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плазмою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. Плазма може виникнути: в результаті нагрівання до дуже високої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ізотермічна плазм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, або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при електричному розряді в газі (газопровідна плазма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лазма хороший провідник і має діамагнітні властивості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1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18352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Матеріали з надзвичайно малим питомим опором при низьких (кріогенних) температурах називаються зверхпровідниками, гіперпровідник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алежно від природи носія заряду розрізняють наступні види електропровідності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1) електронна електропровідність(мають від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ємний заряд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2) іонна або електролітична електропровідність (носії – іони(додатні і від’ємно зарядженні частинки молекул – атомів або групи атомів)) проходження струму через речовину супроводжується в цьому випадку явищем електролізу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3) моліонна або електрофоретична електропровідність (носії – зарядженні групи молекул - моліони) проходження струму через речовину супроводжується явищем електрофорез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лектронний газ в металах знаходиться в стані виродження; у цьому стані енергія електронного газу майже не залежить від температури, тобто тепловий рух майже не змінює енергію електронів. Тому теплота не витрачається на нагрівання електронного газу, що й впливає при вимірюванні теплоємкості металів. В стан, аналогічний звичайним газам, електронний газ приходить при температурах порядку тисячі Кельвіні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Заголовок 1"/>
          <p:cNvSpPr/>
          <p:nvPr/>
        </p:nvSpPr>
        <p:spPr>
          <a:xfrm>
            <a:off x="468360" y="355680"/>
            <a:ext cx="81835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Електропровідність провідникі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1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95636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660066"/>
                </a:solidFill>
                <a:uFillTx/>
                <a:latin typeface="Verdana"/>
              </a:rPr>
              <a:t>3.Властивості провідникі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Найважливіші параметри, що характеризують властивості провідникі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.Питома провідність (   ) і обернена їй величина – питомий опір (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2.Температурний коефіцієнт питомого опору металів (   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.Теплопровідність металів (   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.Термоелектрорушійна сила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5.Температурний коефіцієнт лінійного розширення провідників (  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6.Механічні властивості провідникі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(    )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- гранична міцність при розтягуванні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(       )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Відносне подовження при розриві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хрупкість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твердість і т. 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4284720" y="1916280"/>
                <a:ext cx="3412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1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8"/>
              <p:cNvSpPr txBox="1"/>
              <p:nvPr/>
            </p:nvSpPr>
            <p:spPr>
              <a:xfrm>
                <a:off x="7308720" y="1700280"/>
                <a:ext cx="4320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3492360" y="1125360"/>
                <a:ext cx="4208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13"/>
              <p:cNvSpPr txBox="1"/>
              <p:nvPr/>
            </p:nvSpPr>
            <p:spPr>
              <a:xfrm>
                <a:off x="2771640" y="321300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4"/>
              <p:cNvSpPr txBox="1"/>
              <p:nvPr/>
            </p:nvSpPr>
            <p:spPr>
              <a:xfrm>
                <a:off x="1476360" y="2708280"/>
                <a:ext cx="3538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5"/>
              <p:cNvSpPr txBox="1"/>
              <p:nvPr/>
            </p:nvSpPr>
            <p:spPr>
              <a:xfrm>
                <a:off x="2771640" y="3500280"/>
                <a:ext cx="80352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/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Заголовок 1"/>
          <p:cNvSpPr/>
          <p:nvPr/>
        </p:nvSpPr>
        <p:spPr>
          <a:xfrm>
            <a:off x="468360" y="333360"/>
            <a:ext cx="81835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3.1. Питома провідність і питомий опі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2920" y="1052280"/>
            <a:ext cx="8172360" cy="244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иференц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йна форма закону О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ля визначення питомої провідності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468360" y="1557360"/>
            <a:ext cx="8207280" cy="4392720"/>
            <a:chOff x="468360" y="1557360"/>
            <a:chExt cx="8207280" cy="4392720"/>
          </a:xfrm>
        </p:grpSpPr>
        <mc:AlternateContent>
          <mc:Choice xmlns:a14="http://schemas.microsoft.com/office/drawing/2010/main" Requires="a14">
            <p:sp>
              <p:nvSpPr>
                <p:cNvPr id="247" name="Object 6"/>
                <p:cNvSpPr txBox="1"/>
                <p:nvPr/>
              </p:nvSpPr>
              <p:spPr>
                <a:xfrm>
                  <a:off x="1403280" y="1557360"/>
                  <a:ext cx="194472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γ</m:t>
                      </m:r>
                      <m:r>
                        <m:t xml:space="preserve">⋅</m:t>
                      </m:r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AutoShape 7"/>
            <p:cNvSpPr/>
            <p:nvPr/>
          </p:nvSpPr>
          <p:spPr>
            <a:xfrm>
              <a:off x="3780000" y="1700280"/>
              <a:ext cx="2808000" cy="504720"/>
            </a:xfrm>
            <a:prstGeom prst="wedgeRectCallout">
              <a:avLst>
                <a:gd name="adj1" fmla="val -64074"/>
                <a:gd name="adj2" fmla="val -5032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Напруженість пол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468360" y="2421000"/>
              <a:ext cx="1942920" cy="504720"/>
            </a:xfrm>
            <a:prstGeom prst="wedgeRectCallout">
              <a:avLst>
                <a:gd name="adj1" fmla="val 15115"/>
                <a:gd name="adj2" fmla="val -89935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Густина струму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2916360" y="2421000"/>
              <a:ext cx="2592360" cy="504720"/>
            </a:xfrm>
            <a:prstGeom prst="wedgeRectCallout">
              <a:avLst>
                <a:gd name="adj1" fmla="val -66472"/>
                <a:gd name="adj2" fmla="val -117296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Питома провідніст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Object 10"/>
                <p:cNvSpPr txBox="1"/>
                <p:nvPr/>
              </p:nvSpPr>
              <p:spPr>
                <a:xfrm>
                  <a:off x="2771640" y="3933720"/>
                  <a:ext cx="3025800" cy="16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m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Т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2" name="AutoShape 11"/>
            <p:cNvSpPr/>
            <p:nvPr/>
          </p:nvSpPr>
          <p:spPr>
            <a:xfrm>
              <a:off x="1476360" y="3500280"/>
              <a:ext cx="2448000" cy="505080"/>
            </a:xfrm>
            <a:prstGeom prst="wedgeRectCallout">
              <a:avLst>
                <a:gd name="adj1" fmla="val 37351"/>
                <a:gd name="adj2" fmla="val 103143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Заряд електрон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2"/>
            <p:cNvSpPr/>
            <p:nvPr/>
          </p:nvSpPr>
          <p:spPr>
            <a:xfrm>
              <a:off x="4284720" y="3500280"/>
              <a:ext cx="3382920" cy="649440"/>
            </a:xfrm>
            <a:prstGeom prst="wedgeRectCallout">
              <a:avLst>
                <a:gd name="adj1" fmla="val -35546"/>
                <a:gd name="adj2" fmla="val 668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Кількість вільних електронів в одиниці об’єму метала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3"/>
            <p:cNvSpPr/>
            <p:nvPr/>
          </p:nvSpPr>
          <p:spPr>
            <a:xfrm>
              <a:off x="1979640" y="5445000"/>
              <a:ext cx="2016000" cy="505080"/>
            </a:xfrm>
            <a:prstGeom prst="wedgeRectCallout">
              <a:avLst>
                <a:gd name="adj1" fmla="val 68740"/>
                <a:gd name="adj2" fmla="val -59435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аса електрон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4"/>
            <p:cNvSpPr/>
            <p:nvPr/>
          </p:nvSpPr>
          <p:spPr>
            <a:xfrm>
              <a:off x="6156360" y="5084640"/>
              <a:ext cx="2448000" cy="720720"/>
            </a:xfrm>
            <a:prstGeom prst="wedgeRectCallout">
              <a:avLst>
                <a:gd name="adj1" fmla="val -74967"/>
                <a:gd name="adj2" fmla="val 7046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ередня швидкість теплового руху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5"/>
            <p:cNvSpPr/>
            <p:nvPr/>
          </p:nvSpPr>
          <p:spPr>
            <a:xfrm>
              <a:off x="539640" y="4221000"/>
              <a:ext cx="1656000" cy="720720"/>
            </a:xfrm>
            <a:prstGeom prst="wedgeRectCallout">
              <a:avLst>
                <a:gd name="adj1" fmla="val 84324"/>
                <a:gd name="adj2" fmla="val 29736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Питома провідніст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6"/>
            <p:cNvSpPr/>
            <p:nvPr/>
          </p:nvSpPr>
          <p:spPr>
            <a:xfrm>
              <a:off x="6012000" y="4294080"/>
              <a:ext cx="2663640" cy="647640"/>
            </a:xfrm>
            <a:prstGeom prst="wedgeRectCallout">
              <a:avLst>
                <a:gd name="adj1" fmla="val -64837"/>
                <a:gd name="adj2" fmla="val 13481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ередня довжина вільного пробігу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1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5112000" cy="64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На електрон в електричному полі діє додаткове механічне зусилл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Заголовок 1"/>
          <p:cNvSpPr/>
          <p:nvPr/>
        </p:nvSpPr>
        <p:spPr>
          <a:xfrm>
            <a:off x="468360" y="571680"/>
            <a:ext cx="81835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3.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2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. Температурний коефіцієнт питомого опору металі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5940360" y="1557360"/>
                <a:ext cx="15685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Rectangle 7"/>
          <p:cNvSpPr/>
          <p:nvPr/>
        </p:nvSpPr>
        <p:spPr>
          <a:xfrm>
            <a:off x="688680" y="2348640"/>
            <a:ext cx="48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скорення електрона до зустрічі переп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8"/>
              <p:cNvSpPr txBox="1"/>
              <p:nvPr/>
            </p:nvSpPr>
            <p:spPr>
              <a:xfrm>
                <a:off x="5580000" y="2276640"/>
                <a:ext cx="304632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/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/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1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1"/>
          <p:cNvSpPr/>
          <p:nvPr/>
        </p:nvSpPr>
        <p:spPr>
          <a:xfrm>
            <a:off x="468360" y="1125360"/>
            <a:ext cx="424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а передачу тепла в металі відповідають все ті ж вільні електрони, яких у металах (у порівнянні з діелектриками) набагато більше. Тому теплопровідність  металів набагато більша ніж теплопровідність діелектриків. За однакових умов чим більша питома електропровідність метала тим більшою має бути і його теплопровідність. При підвищенні температури, як відомо, електропровідність зменшується, а відношення теплопровідності до електропровідності повинно зростати за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законом Відема-Франца-Лоренца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468360" y="333360"/>
            <a:ext cx="81835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3.3. Теплопровідність металі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2050920" y="5229360"/>
                <a:ext cx="1764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8"/>
          <p:cNvSpPr/>
          <p:nvPr/>
        </p:nvSpPr>
        <p:spPr>
          <a:xfrm>
            <a:off x="4427640" y="1052640"/>
            <a:ext cx="401472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акон Відема-Франца-Лоренца виконується при нормальних і дещо підвищених температурах. Проте при низьких температурах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0 в рівнянні (4) уже не є незмінним. Чистота і характер металічної обробки металу можуть самітно сказуватися на його теплопровідності, особливо при низьких температурах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9"/>
              <p:cNvSpPr txBox="1"/>
              <p:nvPr/>
            </p:nvSpPr>
            <p:spPr>
              <a:xfrm>
                <a:off x="5751360" y="3979800"/>
                <a:ext cx="1943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Text Box 13"/>
          <p:cNvSpPr/>
          <p:nvPr/>
        </p:nvSpPr>
        <p:spPr>
          <a:xfrm>
            <a:off x="4788000" y="4508640"/>
            <a:ext cx="4105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сло Лоренца: е=1,6*10</a:t>
            </a:r>
            <a:r>
              <a:rPr b="0" lang="uk-UA" sz="18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Кл – заряд електрона. Тод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=2.45*             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2/К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.38*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2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/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постійна Больцма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8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503280" y="1125000"/>
            <a:ext cx="8183520" cy="4751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ри дотику двох різних металевих провідників (чи напівпровідникових матеріалів) між ними виникає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Verdana"/>
              </a:rPr>
              <a:t>контактна різниця потенціалів.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Її поява пояснюється різницею значень роботи виходу електронів, а відповідно і тиск електронного газу у різних металах і сплавах можуть бути не однакови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З електронної теорії металів відомо, що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Verdana"/>
              </a:rPr>
              <a:t>контактна різниця потенціалів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між металами А і В дорівнює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Де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потенціали металів, що доторкну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і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uk-UA" sz="10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концентрація електронів в металах А і 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і е – відповідно постійна Больцмана і заряд електрон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Якщо температур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спаї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однакові, то сума різниць потенціалів у замкнутому ланцюзі рівна нулю. Якщо один із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спаї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”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має температуру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, а інший Т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, то між спаями виникає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Verdana"/>
              </a:rPr>
              <a:t>термоелектрорушійна сила,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що дорівнює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Заголовок 1"/>
          <p:cNvSpPr/>
          <p:nvPr/>
        </p:nvSpPr>
        <p:spPr>
          <a:xfrm>
            <a:off x="468360" y="333360"/>
            <a:ext cx="81835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3.4. Термоелектрорушійна си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8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8:58:28Z</dcterms:created>
  <dc:creator>www.PHILka.RU</dc:creator>
  <dc:description/>
  <dc:language>en-US</dc:language>
  <cp:lastModifiedBy>Пользователь</cp:lastModifiedBy>
  <dcterms:modified xsi:type="dcterms:W3CDTF">2021-11-29T19:08:39Z</dcterms:modified>
  <cp:revision>207</cp:revision>
  <dc:subject/>
  <dc:title>Тема:   Пробій діелектриків </dc:title>
</cp:coreProperties>
</file>