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D17-CC79-45D5-8DC3-BC1E0C6D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031-F499-4462-996D-97027583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891-D5A9-465A-807B-45188298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925-73C7-4C40-9E49-7704C6BA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CDE3-D721-4AFD-B816-ED3DF0DB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1F20-39CC-45EC-BDBB-9A013D1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100A-698D-419C-8DA7-6C810487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2174-F5EB-4248-B03F-D8C4509B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FB7E-3F8C-4EF7-A9F5-BD5F0A67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DA0D-2BD7-474C-9EDC-3F776057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A92E-0B02-4527-89A7-2830AA8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651-B6DC-4CA6-A659-897CB686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09C6-0E5A-4504-9DBE-732542D7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0027-D9A9-460E-A6F2-2E4AEBF5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6B56-EECA-41B4-90D5-4DBC6A9A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8374-8D88-4560-8E98-8FD98F3F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531D-910E-47EE-BAA1-FA81B432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91E4-3082-4A60-9BD7-90DDC884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7C84-41A5-4A92-BE25-9ECBC52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650F-8770-4CA1-857C-51A6832F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D01B1-DEB1-40EA-9C97-ABC24E33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7FEB-A830-4A93-A890-815E961E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157-E2D6-455C-BF7C-00304E3C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3C43-B406-4B99-8591-2EB4FC4B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DFB0-E33C-42B3-950F-C94F8218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73D9-39FB-44B7-A0B4-A4EDBB6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3141-3F46-4A0D-900E-5440303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A31F-51E2-4972-8DCC-CFE8B0E3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510E-0DBC-4828-8972-50634A35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6C2F-7F7C-48C2-81C6-C38DDFB0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5CEB-39C6-45D0-9781-474F2819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C3D7-1E71-4AEE-BA29-5AB6F955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D6B3-AD7A-4E03-9D5B-4DD35E3B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A27-0C03-4909-9523-2504D03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EC4F8-F755-4DEF-B122-76EC4D58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0B6E-35AA-4E1D-89FF-78C413C0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94C0E-6CB2-4F3D-84FC-6B545982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188EF-4632-4F81-A29D-F9946AE7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FA36-0E4E-4347-9402-35542B54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9FC02-523D-455F-B75F-5F91E7CE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9EBF-5CEC-4CC3-982D-BC2F5450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96FB-7138-4843-8862-6CF7BB10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65B2-8927-43D3-ABEF-6FF73A4B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D3F67-E092-49C6-A7D1-F16E76D0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315-FE0F-4645-A0FF-86BB3505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910BA-B20A-4090-B1A3-F98989F6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9EAC7-6F4A-445D-80FC-28C42D30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9220C-D011-436E-9F45-806CCA86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F2B25-E699-4A36-B14A-E30DBA36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3F47-087E-42B7-A787-9F65A93C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6C84-4400-4063-8E22-FC5BA39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BB326-7829-4A2D-8726-56602175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AA51-94FA-4B45-83B9-7AF5FABE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0C90E-1E1B-4279-B90C-B76C3260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77E0-6D49-4F23-9C4D-1584EEDF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94F-2CCA-4280-985C-8DBCAFFE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BAD09-426D-40DF-9011-FF18CE72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D88-EE0B-4C38-BE64-ACC98F2B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E59-15EC-4FDD-A049-E2D5CF82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05F-F3E1-42A3-92D7-47898DB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EF5-E0D5-49AC-A5AE-75C120538B7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1C87-B203-49A3-B601-AE11B03A231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86A1-A99A-41F8-ABE5-F1FD05F61BB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9BD6-4A55-45B5-A000-44EA1C6E9A4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1972-E6DC-468A-8484-8220E7E3140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4761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Провідникові матеріали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Возняк О.М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168880" y="549360"/>
            <a:ext cx="3365640" cy="3527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468360" y="692280"/>
            <a:ext cx="460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2 Залежність термоелектрорушійної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ли від різниці температур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гарячого і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олодного спаїв для термопар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(Платинородій – платина (1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хромель – алюмель(2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залізо – копель (3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залізо – константан (4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476b2"/>
                </a:solidFill>
                <a:latin typeface="Arial"/>
              </a:rPr>
              <a:t>хромель – копель (5)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"/>
          <p:cNvSpPr/>
          <p:nvPr/>
        </p:nvSpPr>
        <p:spPr>
          <a:xfrm>
            <a:off x="550800" y="3284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=C(T1-T2),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 С – постійний для даної пари провідників коефіцієнт термоелектрорушійної сили, тобто термоелектрорушійна сила має бути пропорційною різниці температур спаї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02944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3.5 Температурний коефіцієнт лінійного розширення провідників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обчислюється за тим же виразом, що і для діелектрикі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Цей коефіцієнт  використовується як для аналізу роботи різних з’єднаних у тій чи іншій конструкції матеріалів, так і для розрахунків температурного коефіцієнту провод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ля чистих металів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&lt;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         , тому  при розрахунку ТК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можна знехтувати у порівнянні з       . Тоді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оте для сплавів що мають малий      формула (7) має суттєве практичне значенн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5"/>
              <p:cNvSpPr txBox="1"/>
              <p:nvPr/>
            </p:nvSpPr>
            <p:spPr>
              <a:xfrm>
                <a:off x="3348000" y="1052640"/>
                <a:ext cx="19447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лр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7470720" y="45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"/>
              <p:cNvSpPr txBox="1"/>
              <p:nvPr/>
            </p:nvSpPr>
            <p:spPr>
              <a:xfrm>
                <a:off x="5003640" y="2216160"/>
                <a:ext cx="2521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KR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3"/>
              <p:cNvSpPr txBox="1"/>
              <p:nvPr/>
            </p:nvSpPr>
            <p:spPr>
              <a:xfrm>
                <a:off x="2987640" y="2565360"/>
                <a:ext cx="3808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4"/>
              <p:cNvSpPr txBox="1"/>
              <p:nvPr/>
            </p:nvSpPr>
            <p:spPr>
              <a:xfrm>
                <a:off x="3851280" y="2565360"/>
                <a:ext cx="382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5"/>
              <p:cNvSpPr txBox="1"/>
              <p:nvPr/>
            </p:nvSpPr>
            <p:spPr>
              <a:xfrm>
                <a:off x="3780000" y="2852640"/>
                <a:ext cx="3808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6"/>
              <p:cNvSpPr txBox="1"/>
              <p:nvPr/>
            </p:nvSpPr>
            <p:spPr>
              <a:xfrm>
                <a:off x="5076720" y="2997360"/>
                <a:ext cx="18115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KR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7"/>
              <p:cNvSpPr txBox="1"/>
              <p:nvPr/>
            </p:nvSpPr>
            <p:spPr>
              <a:xfrm>
                <a:off x="4427640" y="3429000"/>
                <a:ext cx="382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3.6 Механічні властивості провідників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 характеризують </a:t>
            </a: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границею міцності при розтягуванні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δ</a:t>
            </a:r>
            <a:r>
              <a:rPr b="1" i="1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ρ</a:t>
            </a: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і відносним </a:t>
            </a: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подовженням при розриві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,а також </a:t>
            </a: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хрупкістю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, твердістю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і тому подібними властивостями. Механічні властивості металевих провідників великою мірою залежить від </a:t>
            </a:r>
            <a:r>
              <a:rPr b="0" lang="uk-UA" sz="1600" spc="-1" strike="noStrike" u="sng">
                <a:solidFill>
                  <a:srgbClr val="660066"/>
                </a:solidFill>
                <a:uFillTx/>
                <a:latin typeface="Verdana"/>
              </a:rPr>
              <a:t>механічної і термічної обробк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і т.п. наприклад вплив – віджига призводить до суттєвого зменшення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і збільшення 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Такі фізичні параметри провідникових матеріалів як температури плавлення і кипіння, питома теплоємкість та інші є довідниковими і не потребують особливих пояснень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 лекції 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42848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Класифікація провідн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Електропровідність мет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ластивості провідн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1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Питома провідність і питомий опір провідник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</a:t>
            </a:r>
            <a:r>
              <a:rPr b="1" lang="en-US" sz="1600" spc="-1" strike="noStrike">
                <a:solidFill>
                  <a:srgbClr val="27bf5a"/>
                </a:solidFill>
                <a:latin typeface="Verdana"/>
              </a:rPr>
              <a:t>2</a:t>
            </a: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Температурний коефіцієнт питомого опору метал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3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Теплопровідність метал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4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Термоелектрорушійна си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5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Температурний коефіцієнт лінійного розширення провідник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7bf5a"/>
                </a:solidFill>
                <a:latin typeface="Verdana"/>
              </a:rPr>
              <a:t>3.6.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Механічні властивості провідник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2629080" cy="165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Провідники бувають: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тверді речовин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(метали і  їх сплави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 рідин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3) газ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428760" y="50004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Класифікація провідникі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780000" y="1125360"/>
            <a:ext cx="460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Тверді провідники поділяють на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метали високої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овідності 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(для проводів і електричних обмоток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 сплави високого  опору 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(для виготовлення резисторів, електронагрівачів, ламп накалювання)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39640" y="2708280"/>
            <a:ext cx="799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Рідкі провідник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– це розплавлені метали та різні електроліти. Їх температура плавлення - дуже висока. Тільки ртуть (температура плавлення ≈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39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) використовується в якості рідкого провідника при нормальній температурі. Інші метали використовують як рідкі провідники при високих температурах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Гази і пари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(у цьому числі і пари металів)  при низьких напруженостях електричного поля не є провідниками. Сильно іонізований газ при рівній кількості електронів і позитивних іонів в одиниці об’єму являє собою особливе провідне середовище, яке називають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плазмою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 Плазма може виникнути: в результаті нагрівання до дуже високої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ізотермічна плазм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, або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при електричному розряді в газі (газопровідна плазма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лазма хороший провідник і має діамагнітні властивості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18352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Матеріали з надзвичайно малим питомим опором при низьких (кріогенних) температурах називаються зверхпровідниками, гіперпровідник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лежно від природи носія заряду розрізняють наступні види електропровідності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електронна електропровідність(мають від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ємний заряд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 іонна або електролітична електропровідність (носії – іони(додатні і від’ємно зарядженні частинки молекул – атомів або групи атомів)) проходження струму через речовину супроводжується в цьому випадку явищем електролізу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3) моліонна або електрофоретична електропровідність (носії – зарядженні групи молекул - моліони) проходження струму через речовину супроводжується явищем електрофорез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лектронний газ в металах знаходиться в стані виродження; у цьому стані енергія електронного газу майже не залежить від температури, тобто тепловий рух майже не змінює енергію електронів. Тому теплота не витрачається на нагрівання електронного газу, що й впливає при вимірюванні теплоємкості металів. В стан, аналогічний звичайним газам, електронний газ приходить при температурах порядку тисячі Кельвіні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468360" y="35568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Електропровідність провідникі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95636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660066"/>
                </a:solidFill>
                <a:uFillTx/>
                <a:latin typeface="Verdana"/>
              </a:rPr>
              <a:t>3.Властивості провідник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йважливіші параметри, що характеризують властивості провідникі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.Питома провідність (   ) і обернена їй величина – питомий опір (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2.Температурний коефіцієнт питомого опору металів (   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.Теплопровідність металів (   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.Термоелектрорушійна сила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5.Температурний коефіцієнт лінійного розширення провідників (  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6.Механічні властивості провідникі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(    )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- гранична міцність при розтягуванні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(       )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ідносне подовження при розриві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хрупкість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твердість і т. 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4284720" y="1916280"/>
                <a:ext cx="341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"/>
              <p:cNvSpPr txBox="1"/>
              <p:nvPr/>
            </p:nvSpPr>
            <p:spPr>
              <a:xfrm>
                <a:off x="7308720" y="1700280"/>
                <a:ext cx="4320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3492360" y="1125360"/>
                <a:ext cx="4208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3"/>
              <p:cNvSpPr txBox="1"/>
              <p:nvPr/>
            </p:nvSpPr>
            <p:spPr>
              <a:xfrm>
                <a:off x="2771640" y="321300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4"/>
              <p:cNvSpPr txBox="1"/>
              <p:nvPr/>
            </p:nvSpPr>
            <p:spPr>
              <a:xfrm>
                <a:off x="1476360" y="2708280"/>
                <a:ext cx="353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2771640" y="3500280"/>
                <a:ext cx="80352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/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Заголовок 1"/>
          <p:cNvSpPr/>
          <p:nvPr/>
        </p:nvSpPr>
        <p:spPr>
          <a:xfrm>
            <a:off x="468360" y="33336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3.1. Питома провідність і питомий опі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2920" y="1052280"/>
            <a:ext cx="8172360" cy="244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ференц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йна форма закону О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ля визначення питомої провідності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468360" y="1557360"/>
            <a:ext cx="8207280" cy="4392720"/>
            <a:chOff x="468360" y="1557360"/>
            <a:chExt cx="8207280" cy="4392720"/>
          </a:xfrm>
        </p:grpSpPr>
        <mc:AlternateContent>
          <mc:Choice xmlns:a14="http://schemas.microsoft.com/office/drawing/2010/main" Requires="a14">
            <p:sp>
              <p:nvSpPr>
                <p:cNvPr id="247" name="Object 6"/>
                <p:cNvSpPr txBox="1"/>
                <p:nvPr/>
              </p:nvSpPr>
              <p:spPr>
                <a:xfrm>
                  <a:off x="1403280" y="1557360"/>
                  <a:ext cx="194472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γ</m:t>
                      </m:r>
                      <m:r>
                        <m:t xml:space="preserve">⋅</m:t>
                      </m:r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AutoShape 7"/>
            <p:cNvSpPr/>
            <p:nvPr/>
          </p:nvSpPr>
          <p:spPr>
            <a:xfrm>
              <a:off x="3780000" y="1700280"/>
              <a:ext cx="2808000" cy="504720"/>
            </a:xfrm>
            <a:prstGeom prst="wedgeRectCallout">
              <a:avLst>
                <a:gd name="adj1" fmla="val -64074"/>
                <a:gd name="adj2" fmla="val -5032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Напруженість пол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468360" y="2421000"/>
              <a:ext cx="1942920" cy="504720"/>
            </a:xfrm>
            <a:prstGeom prst="wedgeRectCallout">
              <a:avLst>
                <a:gd name="adj1" fmla="val 15115"/>
                <a:gd name="adj2" fmla="val -89935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Густина струм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2916360" y="2421000"/>
              <a:ext cx="2592360" cy="504720"/>
            </a:xfrm>
            <a:prstGeom prst="wedgeRectCallout">
              <a:avLst>
                <a:gd name="adj1" fmla="val -66472"/>
                <a:gd name="adj2" fmla="val -117296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итома провідніст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10"/>
                <p:cNvSpPr txBox="1"/>
                <p:nvPr/>
              </p:nvSpPr>
              <p:spPr>
                <a:xfrm>
                  <a:off x="2771640" y="3933720"/>
                  <a:ext cx="3025800" cy="16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Т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2" name="AutoShape 11"/>
            <p:cNvSpPr/>
            <p:nvPr/>
          </p:nvSpPr>
          <p:spPr>
            <a:xfrm>
              <a:off x="1476360" y="3500280"/>
              <a:ext cx="2448000" cy="505080"/>
            </a:xfrm>
            <a:prstGeom prst="wedgeRectCallout">
              <a:avLst>
                <a:gd name="adj1" fmla="val 37351"/>
                <a:gd name="adj2" fmla="val 103143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Заряд електрон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2"/>
            <p:cNvSpPr/>
            <p:nvPr/>
          </p:nvSpPr>
          <p:spPr>
            <a:xfrm>
              <a:off x="4284720" y="3500280"/>
              <a:ext cx="3382920" cy="649440"/>
            </a:xfrm>
            <a:prstGeom prst="wedgeRectCallout">
              <a:avLst>
                <a:gd name="adj1" fmla="val -35546"/>
                <a:gd name="adj2" fmla="val 668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Кількість вільних електронів в одиниці об’єму метала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3"/>
            <p:cNvSpPr/>
            <p:nvPr/>
          </p:nvSpPr>
          <p:spPr>
            <a:xfrm>
              <a:off x="1979640" y="5445000"/>
              <a:ext cx="2016000" cy="505080"/>
            </a:xfrm>
            <a:prstGeom prst="wedgeRectCallout">
              <a:avLst>
                <a:gd name="adj1" fmla="val 68740"/>
                <a:gd name="adj2" fmla="val -59435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аса електрон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4"/>
            <p:cNvSpPr/>
            <p:nvPr/>
          </p:nvSpPr>
          <p:spPr>
            <a:xfrm>
              <a:off x="6156360" y="5084640"/>
              <a:ext cx="2448000" cy="720720"/>
            </a:xfrm>
            <a:prstGeom prst="wedgeRectCallout">
              <a:avLst>
                <a:gd name="adj1" fmla="val -74967"/>
                <a:gd name="adj2" fmla="val 7046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ередня швидкість теплового рух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5"/>
            <p:cNvSpPr/>
            <p:nvPr/>
          </p:nvSpPr>
          <p:spPr>
            <a:xfrm>
              <a:off x="539640" y="4221000"/>
              <a:ext cx="1656000" cy="720720"/>
            </a:xfrm>
            <a:prstGeom prst="wedgeRectCallout">
              <a:avLst>
                <a:gd name="adj1" fmla="val 84324"/>
                <a:gd name="adj2" fmla="val 29736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итома провідніст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6"/>
            <p:cNvSpPr/>
            <p:nvPr/>
          </p:nvSpPr>
          <p:spPr>
            <a:xfrm>
              <a:off x="6012000" y="4294080"/>
              <a:ext cx="2663640" cy="647640"/>
            </a:xfrm>
            <a:prstGeom prst="wedgeRectCallout">
              <a:avLst>
                <a:gd name="adj1" fmla="val -64837"/>
                <a:gd name="adj2" fmla="val 13481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ередня довжина вільного пробіг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5112000" cy="64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 електрон в електричному полі діє додаткове механічне зусилл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Заголовок 1"/>
          <p:cNvSpPr/>
          <p:nvPr/>
        </p:nvSpPr>
        <p:spPr>
          <a:xfrm>
            <a:off x="468360" y="57168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2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. Температурний коефіцієнт питомого опору метал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5940360" y="1557360"/>
                <a:ext cx="1568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7"/>
          <p:cNvSpPr/>
          <p:nvPr/>
        </p:nvSpPr>
        <p:spPr>
          <a:xfrm>
            <a:off x="688680" y="234864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скорення електрона до зустрічі переп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8"/>
              <p:cNvSpPr txBox="1"/>
              <p:nvPr/>
            </p:nvSpPr>
            <p:spPr>
              <a:xfrm>
                <a:off x="5580000" y="2276640"/>
                <a:ext cx="304632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/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1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1"/>
          <p:cNvSpPr/>
          <p:nvPr/>
        </p:nvSpPr>
        <p:spPr>
          <a:xfrm>
            <a:off x="468360" y="1125360"/>
            <a:ext cx="424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 передачу тепла в металі відповідають все ті ж вільні електрони, яких у металах (у порівнянні з діелектриками) набагато більше. Тому теплопровідність  металів набагато більша ніж теплопровідність діелектриків. За однакових умов чим більша питома електропровідність метала тим більшою має бути і його теплопровідність. При підвищенні температури, як відомо, електропровідність зменшується, а відношення теплопровідності до електропровідності повинно зростати за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законом Відема-Франца-Лоренца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468360" y="33336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3.3. Теплопровідність метал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2050920" y="5229360"/>
                <a:ext cx="1764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8"/>
          <p:cNvSpPr/>
          <p:nvPr/>
        </p:nvSpPr>
        <p:spPr>
          <a:xfrm>
            <a:off x="4427640" y="1052640"/>
            <a:ext cx="401472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кон Відема-Франца-Лоренца виконується при нормальних і дещо підвищених температурах. Проте при низьких температурах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0 в рівнянні (4) уже не є незмінним. Чистота і характер металічної обробки металу можуть самітно сказуватися на його теплопровідності, особливо при низьких температурах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9"/>
              <p:cNvSpPr txBox="1"/>
              <p:nvPr/>
            </p:nvSpPr>
            <p:spPr>
              <a:xfrm>
                <a:off x="5751360" y="3979800"/>
                <a:ext cx="1943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Text Box 13"/>
          <p:cNvSpPr/>
          <p:nvPr/>
        </p:nvSpPr>
        <p:spPr>
          <a:xfrm>
            <a:off x="4788000" y="4508640"/>
            <a:ext cx="4105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сло Лоренца: е=1,6*10</a:t>
            </a:r>
            <a:r>
              <a:rPr b="0" lang="uk-UA" sz="18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Кл – заряд електрона. Тод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=2.45*             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2/К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.38*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2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/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постійна Больцма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03280" y="1125000"/>
            <a:ext cx="8183520" cy="475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ри дотику двох різних металевих провідників (чи напівпровідникових матеріалів) між ними виникає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контактна різниця потенціалів.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Її поява пояснюється різницею значень роботи виходу електронів, а відповідно і тиск електронного газу у різних металах і сплавах можуть бути не однаков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 електронної теорії металів відомо, що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контактна різниця потенціал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між металами А і В дорівнює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потенціали металів, що доторкну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uk-UA" sz="1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концентрація електронів в металах А і 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і е – відповідно постійна Больцмана і заряд електро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Якщо темпера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спаї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однакові, то сума різниць потенціалів у замкнутому ланцюзі рівна нулю. Якщо один із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спаї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”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має температуру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а інший Т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то між спаями виникає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термоелектрорушійна сила,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що дорівнює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Заголовок 1"/>
          <p:cNvSpPr/>
          <p:nvPr/>
        </p:nvSpPr>
        <p:spPr>
          <a:xfrm>
            <a:off x="468360" y="333360"/>
            <a:ext cx="81835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3.4. Термоелектрорушійна си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8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ровідникові матеріа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1-11-29T19:08:39Z</dcterms:modified>
  <cp:revision>207</cp:revision>
  <dc:subject/>
  <dc:title>Тема:   Пробій діелектриків </dc:title>
</cp:coreProperties>
</file>