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D87-D765-4FEB-8892-37E7CD6E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761-D48E-4C08-A5F6-188AD9D8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098-07EB-4C32-B136-FCEF4C7D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53D-C713-4466-A753-50B97DB5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2014-EAC8-40A7-A1CF-7C2D2AAB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9E97-3E07-4B12-8A91-5D2D523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7323-1A2D-43DB-9BFC-6A81F62D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4C46-ED30-4448-A8CE-34EC4B43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50E5-808B-4C53-B65C-A296A5D8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BCF6-825D-4070-AEBF-59CAEBBE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33F1-1C51-4432-A31A-4E79B19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71B-BBA4-4D1E-8639-057B6416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3529-BD7E-4C70-B640-F6DDBC0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ECE8-BF19-47D9-B8A0-8500FAF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5FF4-10FC-4A7F-8943-B1FB785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7AD6-7D3D-4D71-8B3E-6115BA0B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2BE8-01C4-4154-BD45-C37AD541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D02FE-41AF-41B7-B824-34EFC458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111C-2626-49E3-930F-AE385CD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AE35-72A7-40C8-8BDF-3024A0CC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485C-EEFE-42CE-A83F-968ED2A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F1A2-4DE9-4607-BF51-42054650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8CC-E84E-45CB-95E2-BDF8165B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4325-14DC-4469-A480-92A9CB2F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D7CA-753D-4323-A63E-AE3A1AFC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FAD7-7946-4329-A7BB-8322BA6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91C9-D156-44FB-A94F-0720DD9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F91C-AB9A-4E9D-809B-4A21D87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2CBD-B860-4639-96C8-82898984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3650-EAAF-43D7-A480-F04FFD79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C710-8247-4CA4-8E90-4B2429C2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7CC7-A2E0-4B3F-A2DD-C2867B7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980A-535B-415F-8AE0-7EC31D76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FF3-0871-49E0-85DE-7E3E0D07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7622-362C-4923-AB2D-F2A6DBAB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1296-EC13-4F15-AD78-1E32611D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2899-7BA7-4175-8D67-B569FE42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66CB-A26D-41F9-B05D-FDC517A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08B5-F0BE-4F82-8926-2EBD0F3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D5FD-AE17-423B-A10B-AC53531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7140-2A58-48DD-8B82-10719779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317A-EC09-42A2-976C-C6C3073B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F26F-FB01-4BB0-8401-085A2D15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CA1B7-E323-4545-BC9C-918F3097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3EB-A650-4196-9F48-DCC1909B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F5DF-AC27-4705-8B1C-25CDD18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16F4-B8DD-4EE3-A616-A423E414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B6599-45B4-481E-A8D5-A4708D2D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2A207-CB23-4B62-90D6-B37AE92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F0D8-1032-4DBE-BB37-941A4D7F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48FE-2F75-4055-B3B4-BBDB7F3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8F166-FF06-4015-92E0-3840AD71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CFD57-737D-4DD2-A1E3-EECBB42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99C3-7AD8-46A0-8C99-1609A83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C113-C620-4D77-B922-A4682D90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B21-0B9C-4A62-ACA1-6D991BC1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D961-1D30-40C6-8A42-22113E16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367-836D-41EE-A6CD-3A6351C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F80-668C-4C49-924B-A0FED60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6B5-CDD2-4B46-BF99-221E7F39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E97B-DA91-4744-8B76-42A73DC807C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D15-58FA-4B7C-8DDB-B564DB65B3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128-2725-4385-BA9A-8D0824BA4AB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B268-02AF-497B-A7FA-B4E14F68F6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2DB-8B30-4220-8357-0995351F6C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5048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Напівпровідникові матеріал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1835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 u="sng">
                <a:solidFill>
                  <a:srgbClr val="ff8d3e"/>
                </a:solidFill>
                <a:uFillTx/>
                <a:latin typeface="Verdana"/>
              </a:rPr>
              <a:t>Вплив зовнішніх факторів на електропровідність НП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9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216000" y="1341360"/>
            <a:ext cx="5003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Вплив теплової енергії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області низьких температур [а,б]  (концентрація носіїв обумовлена доміш-ками). Нахил прямої визначається енергією активізації. З ростом температу-ри кількість носіїв, що поставляються домішками, зростає. На [б, в] домішки вже виснажені, а переходу електронів через заборонену зону (ЗЗ) ще немає. Із ростом температури електрони переходять через ЗЗ [в;и]. Із збільшенням концентрації домішок перехід від [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б] (концентрація носіїв обумовлена домішками) до [б;в] зміщується в бік високих температур. [ж;з] - постійна концентрація заряду (носії не переходять через ЗЗ); [з;и]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 є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вироджени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5326200" y="1413000"/>
            <a:ext cx="324792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Содержимое 2"/>
          <p:cNvSpPr/>
          <p:nvPr/>
        </p:nvSpPr>
        <p:spPr>
          <a:xfrm>
            <a:off x="250920" y="404640"/>
            <a:ext cx="8396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Вплив деформації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 Електропровідність твердих кристалічних тіл змінюється від деформації внаслідок збільшення чи зменшення (розтягування і стиснення) міжатомних відстаней, що призводить до зміни концентрації і рухливості носіїв. Концентрація носіїв може стати меншою або більшою внаслідок зміни ширини енергетичних зон кристалу і зміщення домішкових рівнів, що у свою чергу веде до зміни енергії активації носіїв. Рухливість носіїв заряду змінюється через збільшення (зменшення) амплітуди коливань атомів при їх віддаленні (наближенні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Тензочутливість   -   величина,   що  чисельн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характеризує зміни питомої провідності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чи питомог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опору напівпровідників при деформації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Вплив світла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вітлова енергія, що поглинається напівпровідником, призводить до появи в ньому надлишкової кількості носіїв зарядів, що у свою чергу призводить до росту електропровідності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Фотопровідність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- збільшення електропровідності матеріалу під дією електромагнітного випромінюва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Фотопровідність напівпровідників залежить від наступних факторі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частоти (із збільшення частоти електропровідність зростає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ід інтенсивності опроміне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плив теплової енергії (температур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6"/>
              <p:cNvSpPr txBox="1"/>
              <p:nvPr/>
            </p:nvSpPr>
            <p:spPr>
              <a:xfrm>
                <a:off x="6372360" y="2349360"/>
                <a:ext cx="1544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8d3e"/>
                </a:solidFill>
                <a:uFillTx/>
                <a:latin typeface="Verdana"/>
              </a:rPr>
              <a:t>З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Содержимое 2"/>
          <p:cNvSpPr/>
          <p:nvPr/>
        </p:nvSpPr>
        <p:spPr>
          <a:xfrm>
            <a:off x="216000" y="148428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Речовини, питомий опір яких при нормальній температурі лежить в межах між питомими опорами провідників і діелектриків, називаються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Електропровідність напівпровідників великою мірою залежить від зовнішніх енергетичних впливів та від різних доміш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явність у напівпровідників двох типів електропровідності: електронна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та електронно-д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іркова  (р), що утворює напівпровідникові вироби з р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переход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 практиці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ові матеріали класифікують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прості напівпровідники (елемент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хімічні з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єдн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комплекси (керамічні напівпровідник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лекції :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268280"/>
            <a:ext cx="818352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і понятт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Електропровідність напівпровід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плив зовнішніх факторів на електропровідність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8d3e"/>
                </a:solidFill>
                <a:uFillTx/>
                <a:latin typeface="Verdana"/>
              </a:rPr>
              <a:t>Загальні понятт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ечовини, питомий опір яких при нормальній температурі лежить в межах між питомими опорами провідників і діелектриків, називаються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провідність напівпровідників великою мірою залежить від зовнішніх енергетичних впливів та від різних доміш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явність у напівпровідників двох типів електропровідності: електронна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та електронно-д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ркова  (р), що утворює напівпровідникові вироби з р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переход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 практиці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ові матеріали класифікують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сті напівпровідники (елемент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хімічні з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єдн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комплекси (керамічні напівпровідник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787320"/>
            <a:ext cx="81835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 u="sng">
                <a:solidFill>
                  <a:srgbClr val="ff8d3e"/>
                </a:solidFill>
                <a:uFillTx/>
                <a:latin typeface="Verdana"/>
              </a:rPr>
              <a:t>Електропровідність напівпровідників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-79200" y="148428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Власний напівпровідник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- це напівпровідник, у якого електрони в зону вільних енергетичних рівнів (зону провідностей) поставляються тільки з заповненої електронами зони (валентної зони)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и деякій температурі Т в зону провідності перейшло декілька електронів, утворивши у валентній зоні відповідну кількість дірок. Оскільки при кожному збудженні у власному напівпровіднику одночасно утворюються два заряди протилежних знаків, то загальна кількість носіїв заряду буде в 2 рази більше від кількості електронів зоні провідності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итома провідність при цьому визначає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2700360" y="3716280"/>
                <a:ext cx="3487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2700360" y="4653000"/>
                <a:ext cx="3081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7" name="Picture 10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300720" y="3573360"/>
            <a:ext cx="2286000" cy="23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Содержимое 2"/>
          <p:cNvSpPr/>
          <p:nvPr/>
        </p:nvSpPr>
        <p:spPr>
          <a:xfrm>
            <a:off x="0" y="476280"/>
            <a:ext cx="8612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У результаті процесів збудження і рекомбінації при будь — якій температурі тіла встановлюється рівно вагова концентрація носіїв: електронів: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рок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ширина забороненої зони напівпровідни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ількість   енергетичних   рівнів   в   одиниці   об'єму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а у вільній зоні (зоні провідності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ількість   енергетичних   рівнів   в   одиниці   об'єму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а у валентній зоні;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1332000" y="1197000"/>
                <a:ext cx="2997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5076720" y="1125360"/>
                <a:ext cx="3368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611280" y="2065320"/>
            <a:ext cx="517320" cy="1219320"/>
            <a:chOff x="611280" y="2065320"/>
            <a:chExt cx="517320" cy="1219320"/>
          </a:xfrm>
        </p:grpSpPr>
        <mc:AlternateContent>
          <mc:Choice xmlns:a14="http://schemas.microsoft.com/office/drawing/2010/main" Requires="a14">
            <p:sp>
              <p:nvSpPr>
                <p:cNvPr id="248" name="Object 9"/>
                <p:cNvSpPr txBox="1"/>
                <p:nvPr/>
              </p:nvSpPr>
              <p:spPr>
                <a:xfrm>
                  <a:off x="611280" y="2065320"/>
                  <a:ext cx="5079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Object 11"/>
                <p:cNvSpPr txBox="1"/>
                <p:nvPr/>
              </p:nvSpPr>
              <p:spPr>
                <a:xfrm>
                  <a:off x="650880" y="2316240"/>
                  <a:ext cx="46368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Object 13"/>
                <p:cNvSpPr txBox="1"/>
                <p:nvPr/>
              </p:nvSpPr>
              <p:spPr>
                <a:xfrm>
                  <a:off x="682560" y="2857680"/>
                  <a:ext cx="446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9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216000" y="148428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Содержимое 2"/>
          <p:cNvSpPr/>
          <p:nvPr/>
        </p:nvSpPr>
        <p:spPr>
          <a:xfrm>
            <a:off x="179280" y="549360"/>
            <a:ext cx="8612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Домішкові напівпровідни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характеризуються досить широкою забороненою зоною, і перехід електронів із валентної зони у зону провідності здійснюється при більш високій температурі. Якщо атоми домішок знаходяться у вузлах кристалічної решітки, то вони називаються домішками заміщення, якщо між вузлами — домішками впровадже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и можуть або оставляти електрони в зону провідності напівпровідника, або приймати їх з рівнів його валентної зо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Домішкові напівпровідни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характеризуютьс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сить широкою забороненою зоною, і перехі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ів із валентної зони у зону провідності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дійснюється при більш високій температурі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Якщо атоми домішок знаходяться у вузла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ристалічної решітки, то вони називаютьс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ами заміщення, якщо між вузлами 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ами впровадже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и можуть або оставля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и в зону провідності напівпровід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ика, або приймати їх з рівнів його валентної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о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6208560" y="2133720"/>
            <a:ext cx="2444760" cy="37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324000" y="476280"/>
            <a:ext cx="8611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Акцептор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— домішки, що вносять незаповнені рівні у заборонену зону основного напівпровідника близько біля "стелі" валентної зо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Теплове (зовнішнє) збудження у першу чергу переміщує електрони з валентної зони основного матеріалу на вільні домішкові рівні. Ці електрони не беруть участь в електричному струмі; у такого напівпровідника (концентрація дірок більша, від концентрації електронів, які перейшли із валентної зони в зону провідності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Це напівпровідники р-типу. А домішки, які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хвачують електрони із валентної зон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а, називають акцептор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Напівпровідник п-типу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и — основні носії заряду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рки — неосновні носії заря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Напівпровідник о-ти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рки — основні носії заряду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и — неосновні носії заряд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354400" cy="37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Содержимое 2"/>
          <p:cNvSpPr/>
          <p:nvPr/>
        </p:nvSpPr>
        <p:spPr>
          <a:xfrm>
            <a:off x="250920" y="40464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Домішки заміще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Ковалентні структури типу алмаза (наприклад, германій, кремній — елементи IV груп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алентні електрони (елементи IV групи), закріплені за своїми атомами і не блукають п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ристал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ок миш'яку (V група) на зовнішній орбіті — 5 електронів. Зв'язавши 4 електрони, 1 електрон дрейфує по кристалу, а під дією електростатичного поля рухається І направлено (з'являється електропровідність типу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). а | атом домішка (миш'яку), що втратив електрон, є додатно-зарядженим, нерухливим, закріплена в решітці частинка. Такий домішок буде доно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2735280" cy="228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277164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0" y="333360"/>
            <a:ext cx="8612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ок елемента III групи — Індія, що має З валентних електрони. Індій бере електрон у сусіднього атому германія і буде від'ємн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рядженою, нерухливою, закріпленою в решітці частинкою. А дірка  дрейфує по кристалу. Під дією електростатичного поля дірка рухається направлено (електропровідність р-типу), домішок є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акцепто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287280" y="1557360"/>
            <a:ext cx="5221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Ковалентні напівпровідникові з'єднання. У напівпровідникових з'єднаннях А</a:t>
            </a:r>
            <a:r>
              <a:rPr b="0" lang="uk-UA" sz="1600" spc="-1" strike="noStrike" baseline="30000">
                <a:solidFill>
                  <a:srgbClr val="000000"/>
                </a:solidFill>
                <a:latin typeface="Verdana"/>
              </a:rPr>
              <a:t>ІІІ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16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(In, Sb, Gа, Аs і т.д.) домішкові атоми заміщення II групи (Мg, Zn та ін.) мають меншу валентність і акцепторами, а домішкові атоми IV групи у напівпровідникових з'єднаннях А111 ВV можуть бути донорами, якщо заміщають 3-валентні атоми у решітці, і можуть бути акцепторами, якщо заміщають 5-тивалентні ато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Напівпровідники з іонними решітками (CdS, РbS оксид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157560" cy="3008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395280" y="486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напівпровідник має електропровідні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і р-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наприклад РbS), то надлишок сірки чи кисню викликає діркову електропровідність, а надлишок металу — електронн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0-11-23T08:35:09Z</dcterms:modified>
  <cp:revision>209</cp:revision>
  <dc:subject/>
  <dc:title>Тема:   Пробій діелектриків </dc:title>
</cp:coreProperties>
</file>