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34A-343D-4B2A-964F-DA16B627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97F-1A40-4F5B-BF2C-30FBF6D1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2E0-7367-48B3-9469-9E74F9BB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80D-CD03-4655-925B-3495E849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A0F0-3E40-4F57-8A49-B15DFA6E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5D94-19E9-483A-8483-5A43C1B4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D679-DAD8-4ABB-A2FE-30B13CFA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C441-0A0B-4293-AA76-ACA41647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94AB-7887-401D-9A57-284E4722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7D66-96C7-4331-8D58-B6EABF69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5C4C-5862-4400-A307-5DCD3105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D64-D70F-45D4-BAA2-1D15C13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9EE7-A0EC-43B5-8AEE-C619AEA7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3477-CB04-4B8D-892F-0A06550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A81E-FDC9-4766-9115-606BDF0F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03BB-9801-4A9B-A22D-5A57EA9A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3640-0AEC-48BB-922E-7F590960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167A-DF0D-4E05-9AFF-94156E49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A42A-8754-43A5-9F89-8A216F78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5EEC0-3250-4487-B1B7-1EFDD1B8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35E6-87CD-46BC-9626-C9014006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EFDB-662E-4B2A-B595-5D31327F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4F8-A14D-48B7-8846-DC36624A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A29D-3A26-4F0E-8399-D5BC1677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07AC-5034-4CF0-9D7F-D4FC1BD2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3BAE-EDCF-4CEC-9075-0AE86A5A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2346-FB45-43F4-85DE-946B04CF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3DED-46DC-4E07-991A-C234A3E1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2758E-80AF-4FE6-BD93-1EDFD9C4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BBFB-C1C4-4244-8EEA-6190677F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A94A-DAF8-4326-8619-D560F1F4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7BA7-36A4-4E8A-A86A-4827FD90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5D23-C853-48EE-BED8-B8505929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88C-FCC3-405E-9381-102596DB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D9A88-1E6C-4E7D-8690-2F7B17AC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E5DF-AA62-4E81-A575-970647C9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957A-56C7-4F68-83F8-51DEEA1E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874E4-E37A-4C10-BBE8-BE6BDC1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530BA-A999-44D6-9EFC-A892CB36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EFEE-AE12-4423-8A18-9B0F5126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4041-5060-42A0-B1DE-0A62FF8F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490D-F690-48A9-9727-5E7A3156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F4F2-2325-4B36-A0CF-15F9FD16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D0CF-5C5F-42B6-ADDA-13569444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1A0-3BE2-450D-B57F-C0F52999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033D7-B156-46F3-86F0-88BE79C6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B3DA-C42D-4816-B6F4-31495E35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C7520-3163-4A9B-99A2-647B93B1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4A671-F62F-4FAC-A28B-CCF71505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08AE5-FA77-4AA2-960C-22DB430F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6573-3588-487E-A517-BA132C82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E6E4-AA00-40B9-9C12-0D65809A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E37E2-08F6-4200-A651-B59F3543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BD889-821A-44B8-B3B8-DB9FC188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4BF39-D25A-4FD8-A9F3-A5571719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42A-8958-4CC0-9823-3FCC92FA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063D5-C03B-4FBB-A1F0-F9CB190E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E3A-B61A-405B-9895-BC174E6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A2E-992C-4969-9DBF-C4EAEB2E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C88-73AB-4EFF-9F09-8C042390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E94B-68C8-4947-AF1C-1ABD56D875C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545E-3421-4A3A-B9C6-2BB75CA73F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6E34-D2F8-4951-BE13-AC8B5D7EF7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9AFE-F513-4CF0-ABE9-F6B3CFFF38F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1219-1D37-4C69-A0C6-629F94A4130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5048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7030a0"/>
                </a:solidFill>
                <a:latin typeface="Bookman Old Style"/>
              </a:rPr>
              <a:t>Напівпровідникові матеріали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0920" y="873000"/>
            <a:ext cx="83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f2936"/>
                </a:solidFill>
                <a:latin typeface="Verdana"/>
              </a:rPr>
              <a:t>Електротехнічні матеріали 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076720" y="375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Лекція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 №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692360" y="591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f2936"/>
                </a:solidFill>
                <a:uFillTx/>
                <a:latin typeface="Verdana"/>
              </a:rPr>
              <a:t>Викладач: к.т.н., доцент Возняк О.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03280" y="584280"/>
            <a:ext cx="8064360" cy="280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030a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1835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 u="sng">
                <a:solidFill>
                  <a:srgbClr val="ff8d3e"/>
                </a:solidFill>
                <a:uFillTx/>
                <a:latin typeface="Verdana"/>
              </a:rPr>
              <a:t>Вплив зовнішніх факторів на електропровідність НП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9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одержимое 2"/>
          <p:cNvSpPr/>
          <p:nvPr/>
        </p:nvSpPr>
        <p:spPr>
          <a:xfrm>
            <a:off x="216000" y="1341360"/>
            <a:ext cx="5003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Вплив теплової енергії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 області низьких температур [а,б]  (концентрація носіїв обумовлена доміш-ками). Нахил прямої визначається енергією активізації. З ростом температу-ри кількість носіїв, що поставляються домішками, зростає. На [б, в] домішки вже виснажені, а переходу електронів через заборонену зону (ЗЗ) ще немає. Із ростом температури електрони переходять через ЗЗ [в;и]. Із збільшенням концентрації домішок перехід від [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б] (концентрація носіїв обумовлена домішками) до [б;в] зміщується в бік високих температур. [ж;з] - постійна концентрація заряду (носії не переходять через ЗЗ); [з;и] 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 є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виродженим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5326200" y="1413000"/>
            <a:ext cx="3247920" cy="43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Содержимое 2"/>
          <p:cNvSpPr/>
          <p:nvPr/>
        </p:nvSpPr>
        <p:spPr>
          <a:xfrm>
            <a:off x="250920" y="404640"/>
            <a:ext cx="8396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Вплив деформації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 Електропровідність твердих кристалічних тіл змінюється від деформації внаслідок збільшення чи зменшення (розтягування і стиснення) міжатомних відстаней, що призводить до зміни концентрації і рухливості носіїв. Концентрація носіїв може стати меншою або більшою внаслідок зміни ширини енергетичних зон кристалу і зміщення домішкових рівнів, що у свою чергу веде до зміни енергії активації носіїв. Рухливість носіїв заряду змінюється через збільшення (зменшення) амплітуди коливань атомів при їх віддаленні (наближенні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Тензочутливість   -   величина,   що  чисельн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характеризує зміни питомої провідності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чи питомог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опору напівпровідників при деформації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Вплив світла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Світлова енергія, що поглинається напівпровідником, призводить до появи в ньому надлишкової кількості носіїв зарядів, що у свою чергу призводить до росту електропровідності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Фотопровідність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- збільшення електропровідності матеріалу під дією електромагнітного випромінюва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Фотопровідність напівпровідників залежить від наступних факторів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 algn="just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частоти (із збільшення частоти електропровідність зростає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 algn="just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ід інтенсивності опроміненн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 algn="just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плив теплової енергії (температур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6"/>
              <p:cNvSpPr txBox="1"/>
              <p:nvPr/>
            </p:nvSpPr>
            <p:spPr>
              <a:xfrm>
                <a:off x="6372360" y="2349360"/>
                <a:ext cx="1544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Δ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8d3e"/>
                </a:solidFill>
                <a:uFillTx/>
                <a:latin typeface="Verdana"/>
              </a:rPr>
              <a:t>З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Содержимое 2"/>
          <p:cNvSpPr/>
          <p:nvPr/>
        </p:nvSpPr>
        <p:spPr>
          <a:xfrm>
            <a:off x="216000" y="1484280"/>
            <a:ext cx="8611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Речовини, питомий опір яких при нормальній температурі лежить в межах між питомими опорами провідників і діелектриків, називаються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напівпровідник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Електропровідність напівпровідників великою мірою залежить від зовнішніх енергетичних впливів та від різних домішо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Наявність у напівпровідників двох типів електропровідності: електронна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та електронно-д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іркова  (р), що утворює напівпровідникові вироби з р-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переход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На практиці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напівпровідникові матеріали класифікують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прості напівпровідники (елементи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напівпровідникові хімічні з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єднанн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напівпровідникові комплекси (керамічні напівпровідник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н лекції :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268280"/>
            <a:ext cx="818352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і понятт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Електропровідність напівпровідник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27bf5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плив зовнішніх факторів на електропровідність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8d3e"/>
                </a:solidFill>
                <a:uFillTx/>
                <a:latin typeface="Verdana"/>
              </a:rPr>
              <a:t>Загальні понятт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Речовини, питомий опір яких при нормальній температурі лежить в межах між питомими опорами провідників і діелектриків, називаються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напівпровідник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провідність напівпровідників великою мірою залежить від зовнішніх енергетичних впливів та від різних домішо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явність у напівпровідників двох типів електропровідності: електронна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та електронно-д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іркова  (р), що утворює напівпровідникові вироби з р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переход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 практиці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напівпровідникові матеріали класифікують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buClr>
                <a:srgbClr val="f07f0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рості напівпровідники (елементи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buClr>
                <a:srgbClr val="f07f0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ові хімічні з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єднанн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249"/>
              </a:spcBef>
              <a:buClr>
                <a:srgbClr val="f07f0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ові комплекси (керамічні напівпровідник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787320"/>
            <a:ext cx="81835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 u="sng">
                <a:solidFill>
                  <a:srgbClr val="ff8d3e"/>
                </a:solidFill>
                <a:uFillTx/>
                <a:latin typeface="Verdana"/>
              </a:rPr>
              <a:t>Електропровідність напівпровідників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-79200" y="1484280"/>
            <a:ext cx="8611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Власний напівпровідник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- це напівпровідник, у якого електрони в зону вільних енергетичних рівнів (зону провідностей) поставляються тільки з заповненої електронами зони (валентної зони) 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ри деякій температурі Т в зону провідності перейшло декілька електронів, утворивши у валентній зоні відповідну кількість дірок. Оскільки при кожному збудженні у власному напівпровіднику одночасно утворюються два заряди протилежних знаків, то загальна кількість носіїв заряду буде в 2 рази більше від кількості електронів зоні провідності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итома провідність при цьому визначає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2700360" y="3716280"/>
                <a:ext cx="3487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8"/>
              <p:cNvSpPr txBox="1"/>
              <p:nvPr/>
            </p:nvSpPr>
            <p:spPr>
              <a:xfrm>
                <a:off x="2700360" y="4653000"/>
                <a:ext cx="3081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7" name="Picture 10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300720" y="3573360"/>
            <a:ext cx="2286000" cy="237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Содержимое 2"/>
          <p:cNvSpPr/>
          <p:nvPr/>
        </p:nvSpPr>
        <p:spPr>
          <a:xfrm>
            <a:off x="0" y="476280"/>
            <a:ext cx="8612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У результаті процесів збудження і рекомбінації при будь — якій температурі тіла встановлюється рівно вагова концентрація носіїв: електронів: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ірок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ширина забороненої зони напівпровідник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кількість   енергетичних   рівнів   в   одиниці   об'єму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а у вільній зоні (зоні провідності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кількість   енергетичних   рівнів   в   одиниці   об'єму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а у валентній зоні;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1332000" y="1197000"/>
                <a:ext cx="2997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k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5076720" y="1125360"/>
                <a:ext cx="3368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k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611280" y="2065320"/>
            <a:ext cx="517320" cy="1219320"/>
            <a:chOff x="611280" y="2065320"/>
            <a:chExt cx="517320" cy="1219320"/>
          </a:xfrm>
        </p:grpSpPr>
        <mc:AlternateContent>
          <mc:Choice xmlns:a14="http://schemas.microsoft.com/office/drawing/2010/main" Requires="a14">
            <p:sp>
              <p:nvSpPr>
                <p:cNvPr id="248" name="Object 9"/>
                <p:cNvSpPr txBox="1"/>
                <p:nvPr/>
              </p:nvSpPr>
              <p:spPr>
                <a:xfrm>
                  <a:off x="611280" y="2065320"/>
                  <a:ext cx="5079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Object 11"/>
                <p:cNvSpPr txBox="1"/>
                <p:nvPr/>
              </p:nvSpPr>
              <p:spPr>
                <a:xfrm>
                  <a:off x="650880" y="2316240"/>
                  <a:ext cx="46368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Object 13"/>
                <p:cNvSpPr txBox="1"/>
                <p:nvPr/>
              </p:nvSpPr>
              <p:spPr>
                <a:xfrm>
                  <a:off x="682560" y="2857680"/>
                  <a:ext cx="446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9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Содержимое 2"/>
          <p:cNvSpPr/>
          <p:nvPr/>
        </p:nvSpPr>
        <p:spPr>
          <a:xfrm>
            <a:off x="216000" y="1484280"/>
            <a:ext cx="8611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Содержимое 2"/>
          <p:cNvSpPr/>
          <p:nvPr/>
        </p:nvSpPr>
        <p:spPr>
          <a:xfrm>
            <a:off x="179280" y="549360"/>
            <a:ext cx="8612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Домішкові напівпровідник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характеризуються досить широкою забороненою зоною, і перехід електронів із валентної зони у зону провідності здійснюється при більш високій температурі. Якщо атоми домішок знаходяться у вузлах кристалічної решітки, то вони називаються домішками заміщення, якщо між вузлами — домішками впровадже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ки можуть або оставляти електрони в зону провідності напівпровідника, або приймати їх з рівнів його валентної зон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Домішкові напівпровідник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характеризуютьс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сить широкою забороненою зоною, і перехі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ів із валентної зони у зону провідності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дійснюється при більш високій температурі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Якщо атоми домішок знаходяться у вузла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кристалічної решітки, то вони називаютьс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ками заміщення, якщо між вузлами —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ками впровадже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ки можуть або оставля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и в зону провідності напівпровід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ика, або приймати їх з рівнів його валентної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он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>
            <a:off x="6208560" y="2133720"/>
            <a:ext cx="2444760" cy="374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Содержимое 2"/>
          <p:cNvSpPr/>
          <p:nvPr/>
        </p:nvSpPr>
        <p:spPr>
          <a:xfrm>
            <a:off x="324000" y="476280"/>
            <a:ext cx="8611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Акцептор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— домішки, що вносять незаповнені рівні у заборонену зону основного напівпровідника близько біля "стелі" валентної зон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Теплове (зовнішнє) збудження у першу чергу переміщує електрони з валентної зони основного матеріалу на вільні домішкові рівні. Ці електрони не беруть участь в електричному струмі; у такого напівпровідника (концентрація дірок більша, від концентрації електронів, які перейшли із валентної зони в зону провідності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Це напівпровідники р-типу. А домішки, які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хвачують електрони із валентної зон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напівпровідника, називають акцептор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Напівпровідник п-типу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и — основні носії заряду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ірки — неосновні носії заряд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Напівпровідник о-ти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ірки — основні носії заряду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и — неосновні носії заряд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6156360" y="2133720"/>
            <a:ext cx="2354400" cy="37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Содержимое 2"/>
          <p:cNvSpPr/>
          <p:nvPr/>
        </p:nvSpPr>
        <p:spPr>
          <a:xfrm>
            <a:off x="250920" y="404640"/>
            <a:ext cx="8611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 u="sng">
                <a:solidFill>
                  <a:srgbClr val="7030a0"/>
                </a:solidFill>
                <a:uFillTx/>
                <a:latin typeface="Verdana"/>
              </a:rPr>
              <a:t>Домішки заміще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1) Ковалентні структури типу алмаза (наприклад, германій, кремній — елементи IV груп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алентні електрони (елементи IV групи), закріплені за своїми атомами і не блукають по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кристал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ок миш'яку (V група) на зовнішній орбіті — 5 електронів. Зв'язавши 4 електрони, 1 електрон дрейфує по кристалу, а під дією електростатичного поля рухається І направлено (з'являється електропровідність типу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). а | атом домішка (миш'яку), що втратив електрон, є додатно-зарядженим, нерухливим, закріплена в решітці частинка. Такий домішок буде донор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2735280" cy="2288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277164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-360" y="1268280"/>
            <a:ext cx="861228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f2936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9f2936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Напівпровідникові матеріа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Содержимое 2"/>
          <p:cNvSpPr/>
          <p:nvPr/>
        </p:nvSpPr>
        <p:spPr>
          <a:xfrm>
            <a:off x="0" y="333360"/>
            <a:ext cx="8612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омішок елемента III групи — Індія, що має З валентних електрони. Індій бере електрон у сусіднього атому германія і буде від'ємно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рядженою, нерухливою, закріпленою в решітці частинкою. А дірка  дрейфує по кристалу. Під дією електростатичного поля дірка рухається направлено (електропровідність р-типу), домішок є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Verdana"/>
              </a:rPr>
              <a:t>акцептор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одержимое 2"/>
          <p:cNvSpPr/>
          <p:nvPr/>
        </p:nvSpPr>
        <p:spPr>
          <a:xfrm>
            <a:off x="287280" y="1557360"/>
            <a:ext cx="5221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2) Ковалентні напівпровідникові з'єднання. У напівпровідникових з'єднаннях А</a:t>
            </a:r>
            <a:r>
              <a:rPr b="0" lang="uk-UA" sz="1600" spc="-1" strike="noStrike" baseline="30000">
                <a:solidFill>
                  <a:srgbClr val="000000"/>
                </a:solidFill>
                <a:latin typeface="Verdana"/>
              </a:rPr>
              <a:t>ІІІ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1600" spc="-1" strike="noStrike" baseline="30000">
                <a:solidFill>
                  <a:srgbClr val="000000"/>
                </a:solidFill>
                <a:latin typeface="Verdana"/>
              </a:rPr>
              <a:t>V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(In, Sb, Gа, Аs і т.д.) домішкові атоми заміщення II групи (Мg, Zn та ін.) мають меншу валентність і акцепторами, а домішкові атоми IV групи у напівпровідникових з'єднаннях А111 ВV можуть бути донорами, якщо заміщають 3-валентні атоми у решітці, і можуть бути акцепторами, якщо заміщають 5-тивалентні ато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3) Напівпровідники з іонними решітками (CdS, РbS оксид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157560" cy="30081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9"/>
          <p:cNvSpPr/>
          <p:nvPr/>
        </p:nvSpPr>
        <p:spPr>
          <a:xfrm>
            <a:off x="395280" y="486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напівпровідник має електропровідні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і р-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наприклад РbS), то надлишок сірки чи кисню викликає діркову електропровідність, а надлишок металу — електронн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58:28Z</dcterms:created>
  <dc:creator>www.PHILka.RU</dc:creator>
  <dc:description/>
  <dc:language>en-US</dc:language>
  <cp:lastModifiedBy>Пользователь</cp:lastModifiedBy>
  <dcterms:modified xsi:type="dcterms:W3CDTF">2020-11-23T08:35:09Z</dcterms:modified>
  <cp:revision>209</cp:revision>
  <dc:subject/>
  <dc:title>Тема:   Пробій діелектриків </dc:title>
</cp:coreProperties>
</file>