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D13-5537-4FAE-BE9A-35A1129A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19F-62E1-4243-B19E-3D4E7BA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385-217A-4CA0-8690-F410E62D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A6A-6923-4F1A-BB28-EB011D5E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056B-935D-4FFC-A013-10733EC8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005-A771-4877-9401-369B114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5708-D1FF-46A0-98E3-5AAF11FE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E2F-B5D8-4215-A2F5-0DCB234F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FC6-73F0-4D04-B218-B371AC33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B5A8-4DD6-4207-B40D-5F1D7525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D0E-6C70-46EF-B71B-AC30594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2F6-94D3-43E0-9CEC-F208E03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276-8E4E-45D5-8E15-CFB46ED0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E02-8332-4A3E-B408-A22D946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6901-80DB-4FDF-8070-BC1CCCC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E8D-FE18-4971-AE10-35A1E27F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86DA-A045-4619-BA7E-DFDDC1CC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1922-5604-4124-9A24-2E16EC4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36EE-E84A-4BBC-9A1F-8F10FFC1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9CD9-0906-4D19-ABA0-B0218687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9BDD-8B6E-46E1-A75E-A0ACCF5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9D69-A100-48AF-BE3A-40A6ED61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5D7-915F-4F6F-A429-46DB7B4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9EF8-16AB-4C6D-809E-B5296CE8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1B79-B8F5-49A3-82FB-3245570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CB30-D3DF-47EE-94BA-1DB1847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6F87-2CF0-46F2-9F63-9CF19BB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D4EA-2C70-4DA0-8F4A-8ECDD5B1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22C7-41C4-42F6-A0EB-5515287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1B01-BEE5-4839-939C-0E210780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0B64-6DB2-4A46-9B98-D7C2AF51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3B16-BEA5-4C6E-8E25-364BB97E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471D-967E-4639-B313-D8D947AD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9C5-67D0-463E-858C-CD4E81E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281E-707C-44BE-B786-4BDE0348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41B3-774F-45B1-AFE3-63F796A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AA38-D057-4A9F-B8C0-556310F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AA05-DE67-4D49-9B25-323A6FA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0BC4-2E9F-452A-9DBC-BCCCC49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F11A-81A0-406A-BCF1-12D532A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AA26-9CF2-4674-82EB-389DA29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2D2F-BD35-44D2-BDBC-B50CCFCF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43B3-AE39-481C-8FA8-0E8AAC10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08E3-364C-4596-9B06-68779B06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687-AF12-4A41-8876-C21E142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BACD-031B-49BE-A0BF-5EAF60A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5F22-5A7D-44F6-B42A-5A8751C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EC00-0733-46DB-8436-4602921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E944-FFA5-47A4-9296-03095D5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2E88-4DA0-41B4-B84C-A63FB89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E396-FE5F-451E-807D-96D9579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BAA9-AF6C-4E64-82D9-EB08C2F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C4B88-0265-44DE-9D88-0209466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BDBE0-43D5-4CBF-9EA1-4C1DB6F8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3779-F707-4206-91C1-8B75CDD2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793-2A01-44DA-9500-F74F316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1469-41D5-4EA6-8F39-017AB64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D9E-E74C-40AD-A3B5-C8AE4B4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C49-9ADD-4C75-AB28-41C4D12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059-16FA-48B4-8FDE-3E0CAA0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156-B591-4352-A2FD-62A73E8725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A56-12A2-4CA8-9EAB-2F277A7FCCC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BEC7-B420-4740-A2D1-D7FD995D661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458-D9E9-4EF3-BB88-5B5D169DFD9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39A-CC49-453A-B43A-830A42A34F3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Будова речовин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доцент Возняк О.М.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00000" y="5119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entury"/>
              </a:rPr>
              <a:t>4. </a:t>
            </a:r>
            <a:r>
              <a:rPr b="1" lang="uk-UA" sz="2800" spc="-1" strike="noStrike">
                <a:solidFill>
                  <a:srgbClr val="000099"/>
                </a:solidFill>
                <a:latin typeface="Century"/>
              </a:rPr>
              <a:t>Види зв</a:t>
            </a:r>
            <a:r>
              <a:rPr b="1" lang="en-US" sz="2800" spc="-1" strike="noStrike">
                <a:solidFill>
                  <a:srgbClr val="000099"/>
                </a:solidFill>
                <a:latin typeface="Century"/>
              </a:rPr>
              <a:t>'</a:t>
            </a:r>
            <a:r>
              <a:rPr b="1" lang="uk-UA" sz="2800" spc="-1" strike="noStrike">
                <a:solidFill>
                  <a:srgbClr val="000099"/>
                </a:solidFill>
                <a:latin typeface="Century"/>
              </a:rPr>
              <a:t>язку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4.1 Ковалентний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55640" y="14126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Ковалентний з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язо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це зв’язок між атомами, який досягається 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ахунок пар електронів, що стають загальними для кількох електрон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29080" y="234900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орбіта руху електронів 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молекулярною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точки зору квантової механіки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молекулярні орбі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це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660066"/>
                </a:solidFill>
                <a:latin typeface="Arial"/>
              </a:rPr>
              <a:t>перекритт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” атомних орбіт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619280" y="3212280"/>
            <a:ext cx="43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’єднання  молекул складних речовин -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99"/>
                </a:solidFill>
                <a:latin typeface="Century"/>
              </a:rPr>
              <a:t>ковалентний полярний зв</a:t>
            </a:r>
            <a:r>
              <a:rPr b="0" lang="en-US" sz="2000" spc="-1" strike="noStrike">
                <a:solidFill>
                  <a:srgbClr val="000099"/>
                </a:solidFill>
                <a:latin typeface="Century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Century"/>
              </a:rPr>
              <a:t>яз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485928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O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536400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C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594036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O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07" name="Rectangle 9"/>
          <p:cNvSpPr/>
          <p:nvPr/>
        </p:nvSpPr>
        <p:spPr>
          <a:xfrm>
            <a:off x="4644360" y="3933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004000" y="3933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580360" y="3933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6084000" y="3933000"/>
            <a:ext cx="2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7308720" y="3788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949800" y="3788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164360" y="3789360"/>
                <a:ext cx="228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N</m:t>
                            </m:r>
                          </m:e>
                          <m:lim/>
                        </m:limUpp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4" name="Rectangle 17"/>
          <p:cNvSpPr/>
          <p:nvPr/>
        </p:nvSpPr>
        <p:spPr>
          <a:xfrm>
            <a:off x="7093080" y="342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7093080" y="422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661440" y="378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755640" y="4508280"/>
            <a:ext cx="79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ковалентний зв’язок  встановлений між однаковими елементами, 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льні електрони знаходяться на однакових відстанях від ядер обох атом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неполярним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20" name="Group 31"/>
          <p:cNvGrpSpPr/>
          <p:nvPr/>
        </p:nvGrpSpPr>
        <p:grpSpPr>
          <a:xfrm>
            <a:off x="7021080" y="5299920"/>
            <a:ext cx="1186560" cy="448200"/>
            <a:chOff x="7021080" y="5299920"/>
            <a:chExt cx="1186560" cy="448200"/>
          </a:xfrm>
        </p:grpSpPr>
        <mc:AlternateContent>
          <mc:Choice xmlns:a14="http://schemas.microsoft.com/office/drawing/2010/main" Requires="a14">
            <p:sp>
              <p:nvSpPr>
                <p:cNvPr id="321" name="Object 22"/>
                <p:cNvSpPr txBox="1"/>
                <p:nvPr/>
              </p:nvSpPr>
              <p:spPr>
                <a:xfrm>
                  <a:off x="7200720" y="5300640"/>
                  <a:ext cx="2667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l</m:t>
                              </m:r>
                            </m:e>
                            <m:lim>
                              <m:m>
                                <m:mr>
                                  <m:e/>
                                  <m:e/>
                                </m:mr>
                              </m:m>
                            </m:lim>
                          </m:limUpp>
                        </m:e>
                        <m:lim>
                          <m:m>
                            <m:mr>
                              <m:e/>
                              <m:e/>
                            </m:mr>
                          </m:m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24"/>
                <p:cNvSpPr txBox="1"/>
                <p:nvPr/>
              </p:nvSpPr>
              <p:spPr>
                <a:xfrm>
                  <a:off x="7704000" y="5300640"/>
                  <a:ext cx="2667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l</m:t>
                              </m:r>
                            </m:e>
                            <m:lim>
                              <m:m>
                                <m:mr>
                                  <m:e/>
                                  <m:e/>
                                </m:mr>
                              </m:m>
                            </m:lim>
                          </m:limUpp>
                        </m:e>
                        <m:lim>
                          <m:m>
                            <m:mr>
                              <m:e/>
                              <m:e/>
                            </m:mr>
                          </m:m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Rectangle 25"/>
            <p:cNvSpPr/>
            <p:nvPr/>
          </p:nvSpPr>
          <p:spPr>
            <a:xfrm>
              <a:off x="7386120" y="53650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886520" y="53650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021080" y="529992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68360" y="7696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будь-якій молекулі є додатньо заряджені частини – ядра атомів і від’єм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жені - електрони. Для кожного роду частинок можна знайти точку, яка бу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влятись їх “електричним центром тяжіння”. Ці точки називають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полюсами молеку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333080" y="1989000"/>
            <a:ext cx="72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в  молекулі  електричні центри додатніх і від’ємних зарядів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ігаються, то молекула називаються неполярна або нейтральн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 молекули, утворені однаковими атомами O2, N2 т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метрично побудовані молекули CH4, CCl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3204720"/>
            <a:ext cx="815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стань між електричними центрами тяжіння зарядів (між полюсами)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довжиною диполя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l – характеризує міру поляризації. Чим l більш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м різкіше виявлені властивості молекул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-655560" y="3419640"/>
                <a:ext cx="759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6"/>
          <p:cNvSpPr/>
          <p:nvPr/>
        </p:nvSpPr>
        <p:spPr>
          <a:xfrm>
            <a:off x="611280" y="4253400"/>
            <a:ext cx="76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ці міра полярності тих чи інших молекул встановлюється шляхом вимірювання так званого </a:t>
            </a:r>
            <a:r>
              <a:rPr b="0" lang="uk-UA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ипольного моменту молекули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-65556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-649080" y="3589920"/>
            <a:ext cx="3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6227640" y="5157720"/>
                <a:ext cx="1754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11"/>
          <p:cNvSpPr/>
          <p:nvPr/>
        </p:nvSpPr>
        <p:spPr>
          <a:xfrm>
            <a:off x="720720" y="5157360"/>
            <a:ext cx="30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e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– заряд полюса молекул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2"/>
              <p:cNvSpPr txBox="1"/>
              <p:nvPr/>
            </p:nvSpPr>
            <p:spPr>
              <a:xfrm>
                <a:off x="826920" y="5589720"/>
                <a:ext cx="258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3"/>
          <p:cNvSpPr/>
          <p:nvPr/>
        </p:nvSpPr>
        <p:spPr>
          <a:xfrm>
            <a:off x="1054080" y="5485680"/>
            <a:ext cx="48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оже визначитись експериментальним шляхом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11280" y="620640"/>
            <a:ext cx="55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лив електричних сил може суттєво змінити внутріш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ктуру  молекул, а значить, і її властивості. Зокре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 дією зовнішнього електричного поля молекули, які сам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 собі були неполярними, стають полярним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84360" y="22762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неполярну молекулу помістити між пластинами конденсатора,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 заряди  пластин будуть впливати на розподілення заряду всереди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екули. Додатньо заряджені ядра будуть притягуватись до від’ємног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у пластин, а від’ємно заряджені електрони - до додатних пластин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6516720" y="1052640"/>
            <a:ext cx="1584360" cy="796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00000" y="38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результаті відбудеться зміщення електронів відносно ядер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раніше центри тяжіння додатних і від’ємних зарядів збігали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 тепер вони розійдуться і молекула стане дипольною. Це явищ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поляризаціє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835640" y="5444280"/>
            <a:ext cx="66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творені диполі називаю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наведени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індукован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3418200" y="69120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4.2 Іонний зв’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755640" y="141264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здійснюється між протилежно зарядженими іо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утворюється в результаті електростатичного притяжіння іонів один до одн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46520" y="2852280"/>
            <a:ext cx="77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датні іони утворюються шляхом відщеплення від атомів електронів,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’ємні – шляхом приєднання електронів до атомів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745360" y="5228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хема утворення хлористого Na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1" name="Picture 9" descr="1"/>
          <p:cNvPicPr/>
          <p:nvPr/>
        </p:nvPicPr>
        <p:blipFill>
          <a:blip r:embed="rId1"/>
          <a:stretch/>
        </p:blipFill>
        <p:spPr>
          <a:xfrm>
            <a:off x="2195640" y="3860640"/>
            <a:ext cx="4397400" cy="133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839680" y="61992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4.3 Металевий </a:t>
            </a:r>
            <a:r>
              <a:rPr b="1" lang="uk-UA" sz="2000" spc="-1" strike="noStrike" u="sng">
                <a:solidFill>
                  <a:srgbClr val="0066ff"/>
                </a:solidFill>
                <a:uFillTx/>
                <a:latin typeface="Arial"/>
              </a:rPr>
              <a:t>зв’яз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о</a:t>
            </a:r>
            <a:r>
              <a:rPr b="1" lang="uk-UA" sz="2000" spc="-1" strike="noStrike" u="sng">
                <a:solidFill>
                  <a:srgbClr val="0066ff"/>
                </a:solidFill>
                <a:uFillTx/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3" name="Picture 3" descr="first"/>
          <p:cNvPicPr/>
          <p:nvPr/>
        </p:nvPicPr>
        <p:blipFill>
          <a:blip r:embed="rId1"/>
          <a:stretch/>
        </p:blipFill>
        <p:spPr>
          <a:xfrm>
            <a:off x="900000" y="981000"/>
            <a:ext cx="1667160" cy="9622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2771640" y="1196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етім видом зв’язку є металевий зв’язок, який привод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утворення твердих кристалічних ті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27640" y="23490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ли можна розглядати, як системи, побудовані із розташован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узлах решітки додатньо заряджених частинок атомів, як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ходяться у середовищі вільних електрон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974520" y="458100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 вільних електронів – високою електропровідністю 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плопровідністю металів, причина його блис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2987640" y="35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тягання між додатними і від’ємними зарядами є причиною  монолітності металу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396800" y="61992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4.4  М</a:t>
            </a:r>
            <a:r>
              <a:rPr b="1" lang="uk-UA" sz="2000" spc="-1" strike="noStrike" u="sng">
                <a:solidFill>
                  <a:srgbClr val="000099"/>
                </a:solidFill>
                <a:uFillTx/>
                <a:latin typeface="Arial"/>
              </a:rPr>
              <a:t>олекулярний (зв’язок Ван – дер – Ваальса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6948360" y="1628640"/>
          <a:ext cx="146700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628640"/>
                    <a:ext cx="1467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537840" y="1341000"/>
            <a:ext cx="57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існує між молекулами з ковалентн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утрішньо молекулярними зв’язкам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413080"/>
            <a:ext cx="55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молекулярне притягнення зумовлене в цьому випадку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узгодженим рухом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алентних електронів у сусідніх молекулах. В будь-який момент час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и максимально віддалені один від одного і максимально наближе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додатних заряд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690920" y="54828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99"/>
                </a:solidFill>
                <a:uFillTx/>
                <a:latin typeface="Arial"/>
              </a:rPr>
              <a:t>5. Будова твердої речовин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627640" y="1268280"/>
            <a:ext cx="594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верді тіла, на відміну від рідких і газоподібних мають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яку визначену самостійну форму і зберігають її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лежно від положення у яком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ходя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85080" y="2420280"/>
            <a:ext cx="60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льшість твердих речовин мають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кристалічну будов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611280" y="294444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 твердих речовин зустрічаються такі, в структурі яких немає кристал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смола, клей та інші речовини). Вони називаються 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аморфним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143960" y="3644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Класифікація кристалічних форм: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356360" y="4076640"/>
            <a:ext cx="41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равильна (вид призми і піраміди)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Тетрагональ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Ромб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Гексагональ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Моноглін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Трикл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972360" y="105228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 як би нерівномірно не відбувалось утворення кристал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не спотворювалась його форма кути,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під якими сходя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грані кристала, завжди залишаються стали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Це один із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их законів кристалографії –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закон постійності границь куті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38560" y="2707920"/>
            <a:ext cx="71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які речовини, близькі по своїй хімічній природі, хоч і різні з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ом утворюють кристал однакової форми, характеризую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овими константами їх просторових граток. Такі речовин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ізоморфними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тобто мають однакову форму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71640" y="4644720"/>
            <a:ext cx="75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тилежне явище –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поліморфіз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тобто відбувається кристалізаці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різних формах. Приклад поліморфних речовин – сірка. Кожна її кристалі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 стійка лише у деяких межах температури і тиску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Goudy Stout"/>
                <a:ea typeface="Times New Roman"/>
              </a:rPr>
              <a:t>План лекції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4360" y="1700280"/>
            <a:ext cx="7918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Ядерна модель атома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2. Теорія Бора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Поняття про квантову механіку. Чотири квантових числа. Принцип     Паулі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 Види зв'язку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1 Ковалентний зв'язок. Полярні та неполярні молекули.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Явище поляризації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2 Іонн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3 Металев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4 Молекулярн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Будова твердої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989000" y="4834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SzPct val="80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99"/>
                </a:solidFill>
                <a:latin typeface="Times New Roman"/>
              </a:rPr>
              <a:t>Ядерна модель атома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3744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шу спробу побудувати теорію будови атома в межах класичної фізики зробив у 1903 р. англійський фізик Д. Томсон. За гіпотезою Томсона атом уявлявся у вигляді сфери, яка рівномірно заповнена позитивним зарядом, в середній частині якої містяться електрони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048040" y="2707920"/>
            <a:ext cx="64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те ця модель була неспроможна пояснити спектраль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омірності атомів. Крім того, гіпотеза Томсона не спиралась на будь які дослідні дан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40720" y="3952440"/>
            <a:ext cx="739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ішальне значення для теорії будови атома мали дослід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ерфорда, який у 1913 році вивчав розсіяння пучка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частинок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 проходженні їх через тонку металеву фольг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84360" y="907920"/>
            <a:ext cx="7993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Його досліди дали можливість Резерфорду описати ядерну модель атома так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 центрі атома міститься позитивно заряджене ядро атома, розміри якого мають величину порядку         м, навколо ядра по замкнутих орбітах в об’ємі сфери радіусом порядку         м обертаються електрони, причому їх кількість дорівнює порядковому номера елемен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4720" y="3644640"/>
            <a:ext cx="53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акому вигляді ядерна модель атома зберегл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оє значення і до нашого часу, хоч  і зазнал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ьох уточн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623240" y="485532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У чому ж неспроможність моделі Резерфорда?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5219640" y="2349360"/>
                <a:ext cx="588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4211640" y="2060640"/>
                <a:ext cx="571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846160" y="69156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2. Теорія Бора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4360" y="155700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1913 датський фізик Нільс Бор запропонував свою теорію будови ато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гідно якої променева енергія випромінюється і поглинається електроном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ерервно, а невеликими порціями – кван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ע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6500880" y="3648240"/>
                <a:ext cx="1160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7"/>
          <p:cNvSpPr/>
          <p:nvPr/>
        </p:nvSpPr>
        <p:spPr>
          <a:xfrm>
            <a:off x="6227640" y="314892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 енергії 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820800" y="3287160"/>
            <a:ext cx="47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*с    -  постійна Планка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971640" y="3790800"/>
                <a:ext cx="118728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10"/>
          <p:cNvSpPr/>
          <p:nvPr/>
        </p:nvSpPr>
        <p:spPr>
          <a:xfrm>
            <a:off x="2165400" y="39348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частота випромінюва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898920" y="45824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 - швидкість світла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5291280" y="42238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 променевої енергії називається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Arial"/>
              </a:rPr>
              <a:t>фотоном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712800" y="3213000"/>
                <a:ext cx="1941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p/>
                    </m:sSup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843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Постулати Бора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68360" y="10508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и, які рухаються в атомі на окремих стаціонарних рівнях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випромінюють і не поглинають електромагнітних хвиль. У стаціона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тома електрони рухаються уздовж колових орбіт, які мають  дискретні значен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менту імпульс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003640" y="2313360"/>
            <a:ext cx="14526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n-US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2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6300720" y="2421000"/>
                <a:ext cx="281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-870120" y="3040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Rectangle 8"/>
          <p:cNvSpPr/>
          <p:nvPr/>
        </p:nvSpPr>
        <p:spPr>
          <a:xfrm>
            <a:off x="964800" y="2283480"/>
            <a:ext cx="190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са електрона;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042920" y="2325600"/>
            <a:ext cx="352908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лінійна швидкість орбітального руху;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адіу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ї колової орбіти;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рядковий номер стаціонарного рівня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078920" y="3141360"/>
            <a:ext cx="28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ала Планка поділена на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2"/>
              <p:cNvSpPr txBox="1"/>
              <p:nvPr/>
            </p:nvSpPr>
            <p:spPr>
              <a:xfrm>
                <a:off x="1111320" y="3141720"/>
                <a:ext cx="220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3"/>
          <p:cNvSpPr/>
          <p:nvPr/>
        </p:nvSpPr>
        <p:spPr>
          <a:xfrm>
            <a:off x="539640" y="3499920"/>
            <a:ext cx="78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При переході  електрона з однієї стаціонарної орбіти на іншу випромінює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о поглинається квант енергії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03280" y="487656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а) енергетичний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спектр</a:t>
            </a: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 атома дискретний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б) частоти атомного випромінювання пов’язані з атомними рівням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900000" y="45561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даної формули випливає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2921040" y="4086360"/>
                <a:ext cx="2835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ν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45480" y="472680"/>
            <a:ext cx="78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uk-UA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оняття про квантову механіку. 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Чотири квантових числа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ринцип     Паулі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13800" y="1557000"/>
            <a:ext cx="74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а механіка показує, що закони руху електрона мають багат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льного із з-нами поширення хвиль, тому вона ще називає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вильовою механікою.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055600" y="242028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е рівняння квантової теор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6588000" y="2063880"/>
                <a:ext cx="1800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υ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8"/>
          <p:cNvSpPr/>
          <p:nvPr/>
        </p:nvSpPr>
        <p:spPr>
          <a:xfrm>
            <a:off x="1038600" y="278064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г    – маса електрона у стані спокою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541440" y="3141000"/>
            <a:ext cx="80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а механіка пояснює стійкість лише визначених електронних орбіт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532080" y="3499560"/>
            <a:ext cx="72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ійкими є тільки ті орбіти, на яких вкладається ціле число хви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525600" y="386028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ходячи з квантової механіки  запишемо математичний вираз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660066"/>
                </a:solidFill>
                <a:uFillTx/>
                <a:latin typeface="Arial"/>
              </a:rPr>
              <a:t>першого постулату Бора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781200" y="4287960"/>
                <a:ext cx="26384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f>
                      <m:num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υ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14"/>
          <p:cNvSpPr/>
          <p:nvPr/>
        </p:nvSpPr>
        <p:spPr>
          <a:xfrm>
            <a:off x="539640" y="537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ціле число - головне квантове числ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3564000" y="450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квантовій фізиці стан частинки зад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хвильовою функцією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яка 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лексною величиною і визначається у всіх точках простору і в будь-який мо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9"/>
              <p:cNvSpPr txBox="1"/>
              <p:nvPr/>
            </p:nvSpPr>
            <p:spPr>
              <a:xfrm>
                <a:off x="468360" y="2708280"/>
                <a:ext cx="2170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т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91</m:t>
                        </m:r>
                      </m:e>
                      <m:sup/>
                    </m:sSup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12720" y="69156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огічно класичним хвилям рух елементарн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тинок характеризується хвилями де Бройл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908000" y="141264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Головне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визначає рівень енергії, якому відповідає дана орбіта 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ї віддаленість від ядра. Знач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1 відповідає найнижчому  енергетичному рівн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242064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– побічне (орбітальне)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характеризує момент кількості  рух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ів  відносно центру орбі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приймає значення цілих чисел від 0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87280" y="3355560"/>
            <a:ext cx="74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m – магнітне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изначає положення площини орбіти електрон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простор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число має всі значення цілих чисел додатних і від’ємних, ал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жах числа l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39640" y="436896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 електрон в атомі рухається не лише навкруг ядра, але і навкруг власної осі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чому можливий його рух в двох протилежних напрямках. Цей рух електрон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рактеризу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четвертим спіновим квантовим числом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число має лише 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датне і від’ємне – відповідно двом можливим напрямкам руху електро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969480" y="620280"/>
            <a:ext cx="70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однакових частинок із нульовими, або цілочислов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нами описуються лише симетричними хвильовими функція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називаю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бозон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84360" y="1915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однакових частинок із напівцілими спіна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исуються лише антисиметричними хвильов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ункціями і називаються 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ферміон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6804000" y="2133720"/>
                <a:ext cx="968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5651640" y="1413000"/>
                <a:ext cx="8618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6877080" y="1413000"/>
                <a:ext cx="8128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0"/>
          <p:cNvSpPr/>
          <p:nvPr/>
        </p:nvSpPr>
        <p:spPr>
          <a:xfrm>
            <a:off x="1547640" y="371592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В будь-якому стаціонарному стані, що характеризується сукупніст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чотирьох квантових чисел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, не може перебувати більше одного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електрона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611280" y="4868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 згідно принципу Паулі ні в жодному стані немає двох однаков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ів. Тобто 2 електрона в атомі не можуть мати чотири однаков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их числ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3419640" y="321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 ПАУЛ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0-09-09T05:04:24Z</dcterms:modified>
  <cp:revision>221</cp:revision>
  <dc:subject/>
  <dc:title>Тема:   Пробій діелектриків </dc:title>
</cp:coreProperties>
</file>