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B42-DF2B-41A7-B490-3CFB4C22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E41-5236-49E9-B822-E9A4F91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BC3-10B9-4F1E-9867-C3ADA2A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173-EDE9-43D3-91A6-1D7BA714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6A95-120E-40D8-AE2A-398E1E6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B082-A90C-453B-84E0-6BCBA6E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E75-483B-4C58-B8AF-E90B609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9070-E9E9-4F18-9FC8-A183185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B1E7-335D-4EDE-95BB-7C762704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0AFD-2D8A-4DC9-B9D3-6A527F0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0E6D-62E3-4DCF-AFCC-CDDAD0C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CB7-3155-4F2B-BEA1-38A5055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67D-3745-43F8-B396-324A6AC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F87A-7363-4176-B753-991C0B3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F03-C044-413D-82D2-55F97D93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2FB-DA2B-4077-90E9-5382E3E8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732-0D97-4C63-AB3F-F20ADB0E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B176-34A1-4A0E-BD7D-6284F19D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3A2C-BEB1-44F4-9031-5FC15CF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C399-C4B3-4E69-988E-32B53D0F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0B33-9133-462C-82F3-72D9D9A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E022-2838-461A-B21B-342F045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32A-0424-4712-B5C9-2238218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8248-C751-4C5D-9892-88E3BF6D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693A-65BB-4E32-A1EC-D48F290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3C08-9D76-4E73-BEEA-7C08FE1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0176-07CD-46BB-A1FE-C8EF3E4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1425-B006-487F-B937-7A57DA4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8B99-6704-4AE6-B0B9-11C8952D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2DEA-C74F-4305-A567-3399AD29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A77F-A29C-4418-A21A-7A2FFD88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03FD-7366-416B-92F5-2CD936F3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121D-5838-48BD-BD2C-54131DE2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79B-8C63-4189-AAC4-BAA0E2BC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237D-369E-4F93-B2EF-10B11C3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EA5B-FD03-48E7-A4E7-CEC50E3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3691-0B9A-4B70-B8DD-7FFC2D2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4B58-7C91-41E1-AAF3-B6A8DFF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726A-E573-4821-AB22-3831210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0FE0-CC5B-42B0-AB2E-964FDB8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A167-C74E-4CC1-8BB0-41E403A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4B4C-F682-4C35-97A3-E15D5171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BF82-405F-4BE9-A0C2-D8663DC0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B21E-AEF5-4D98-AA32-951E7F32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880-AD29-4127-B5C7-EF1522C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953D-64A4-4BAF-877A-CDD00896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14C9-4B5E-4C07-B1E5-80DA350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C943-93CA-42DD-A54E-85A591B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5C9D-C24A-47B4-957B-A3D54B8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7B67-229B-48AB-B55D-ED1CB178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DCFD4-EC87-499A-934F-ED5018F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09A2-26F8-4C00-8696-0F63EDD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E1FB4-9CE7-4545-909C-F30A9DF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A94B-6BCF-4710-9F96-50EA4E5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0F79-D6A8-4CD8-9B4C-0EF93575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24F-B60B-4881-9B85-DC7835E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D3C0-C194-492A-8A47-BEAD0177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59B-EA3D-4B5F-BB70-C9C5A39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3C9-8AC2-4413-AD1B-66BEDB2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1A2-3449-45B1-898F-94E3C83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134-35FF-463D-BAAC-F515B95AC1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A02A-883D-4B81-9D31-C536DE96C1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0D72-4E56-410E-911F-579B5CBCB77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AEE-8C2E-497B-8EFF-61D5276B7E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C2A-364B-401C-9D66-AC7181B0AF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Будова речовин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доцент Возняк О.М.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00000" y="5119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entury"/>
              </a:rPr>
              <a:t>4. </a:t>
            </a:r>
            <a:r>
              <a:rPr b="1" lang="uk-UA" sz="2800" spc="-1" strike="noStrike">
                <a:solidFill>
                  <a:srgbClr val="000099"/>
                </a:solidFill>
                <a:latin typeface="Century"/>
              </a:rPr>
              <a:t>Види зв</a:t>
            </a:r>
            <a:r>
              <a:rPr b="1" lang="en-US" sz="2800" spc="-1" strike="noStrike">
                <a:solidFill>
                  <a:srgbClr val="000099"/>
                </a:solidFill>
                <a:latin typeface="Century"/>
              </a:rPr>
              <a:t>'</a:t>
            </a:r>
            <a:r>
              <a:rPr b="1" lang="uk-UA" sz="2800" spc="-1" strike="noStrike">
                <a:solidFill>
                  <a:srgbClr val="000099"/>
                </a:solidFill>
                <a:latin typeface="Century"/>
              </a:rPr>
              <a:t>язку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4.1 Ковалентний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55640" y="14126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Ковалентний з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язо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це зв’язок між атомами, який досягається 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ахунок пар електронів, що стають загальними для кількох електрон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29080" y="234900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а орбіта руху електронів 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молекулярною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точки зору квантової механіки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молекулярні орбі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це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660066"/>
                </a:solidFill>
                <a:latin typeface="Arial"/>
              </a:rPr>
              <a:t>перекритт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” атомних орбіт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619280" y="3212280"/>
            <a:ext cx="43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’єднання  молекул складних речовин -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99"/>
                </a:solidFill>
                <a:latin typeface="Century"/>
              </a:rPr>
              <a:t>ковалентний полярний зв</a:t>
            </a:r>
            <a:r>
              <a:rPr b="0" lang="en-US" sz="2000" spc="-1" strike="noStrike">
                <a:solidFill>
                  <a:srgbClr val="000099"/>
                </a:solidFill>
                <a:latin typeface="Century"/>
              </a:rPr>
              <a:t>’</a:t>
            </a:r>
            <a:r>
              <a:rPr b="0" lang="uk-UA" sz="2000" spc="-1" strike="noStrike">
                <a:solidFill>
                  <a:srgbClr val="000099"/>
                </a:solidFill>
                <a:latin typeface="Century"/>
              </a:rPr>
              <a:t>яз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485928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O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536400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C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5940360" y="393372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O</m:t>
                            </m:r>
                          </m:e>
                          <m:lim>
                            <m:m>
                              <m:mr>
                                <m:e/>
                                <m:e/>
                              </m:mr>
                            </m:m>
                          </m:lim>
                        </m:limUpp>
                      </m:e>
                      <m:lim>
                        <m:m>
                          <m:mr>
                            <m:e/>
                            <m:e/>
                          </m:mr>
                        </m:m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07" name="Rectangle 9"/>
          <p:cNvSpPr/>
          <p:nvPr/>
        </p:nvSpPr>
        <p:spPr>
          <a:xfrm>
            <a:off x="4644360" y="3933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004000" y="3933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5580360" y="3933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: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6084000" y="3933000"/>
            <a:ext cx="2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7308720" y="3788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949800" y="3788640"/>
            <a:ext cx="3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164360" y="3789360"/>
                <a:ext cx="228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N</m:t>
                            </m:r>
                          </m:e>
                          <m:lim/>
                        </m:limUpp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4" name="Rectangle 17"/>
          <p:cNvSpPr/>
          <p:nvPr/>
        </p:nvSpPr>
        <p:spPr>
          <a:xfrm>
            <a:off x="7093080" y="342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7093080" y="422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661440" y="378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755640" y="4508280"/>
            <a:ext cx="79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ковалентний зв’язок  встановлений між однаковими елементами, 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льні електрони знаходяться на однакових відстанях від ядер обох атом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неполярним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20" name="Group 31"/>
          <p:cNvGrpSpPr/>
          <p:nvPr/>
        </p:nvGrpSpPr>
        <p:grpSpPr>
          <a:xfrm>
            <a:off x="7021080" y="5299920"/>
            <a:ext cx="1186560" cy="448200"/>
            <a:chOff x="7021080" y="5299920"/>
            <a:chExt cx="1186560" cy="448200"/>
          </a:xfrm>
        </p:grpSpPr>
        <mc:AlternateContent>
          <mc:Choice xmlns:a14="http://schemas.microsoft.com/office/drawing/2010/main" Requires="a14">
            <p:sp>
              <p:nvSpPr>
                <p:cNvPr id="321" name="Object 22"/>
                <p:cNvSpPr txBox="1"/>
                <p:nvPr/>
              </p:nvSpPr>
              <p:spPr>
                <a:xfrm>
                  <a:off x="7200720" y="5300640"/>
                  <a:ext cx="2667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l</m:t>
                              </m:r>
                            </m:e>
                            <m:lim>
                              <m:m>
                                <m:mr>
                                  <m:e/>
                                  <m:e/>
                                </m:mr>
                              </m:m>
                            </m:lim>
                          </m:limUpp>
                        </m:e>
                        <m:lim>
                          <m:m>
                            <m:mr>
                              <m:e/>
                              <m:e/>
                            </m:mr>
                          </m:m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24"/>
                <p:cNvSpPr txBox="1"/>
                <p:nvPr/>
              </p:nvSpPr>
              <p:spPr>
                <a:xfrm>
                  <a:off x="7704000" y="5300640"/>
                  <a:ext cx="2667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l</m:t>
                              </m:r>
                            </m:e>
                            <m:lim>
                              <m:m>
                                <m:mr>
                                  <m:e/>
                                  <m:e/>
                                </m:mr>
                              </m:m>
                            </m:lim>
                          </m:limUpp>
                        </m:e>
                        <m:lim>
                          <m:m>
                            <m:mr>
                              <m:e/>
                              <m:e/>
                            </m:mr>
                          </m:m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Rectangle 25"/>
            <p:cNvSpPr/>
            <p:nvPr/>
          </p:nvSpPr>
          <p:spPr>
            <a:xfrm>
              <a:off x="7386120" y="536508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24" name="Rectangle 26"/>
            <p:cNvSpPr/>
            <p:nvPr/>
          </p:nvSpPr>
          <p:spPr>
            <a:xfrm>
              <a:off x="7886520" y="53650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25" name="Rectangle 27"/>
            <p:cNvSpPr/>
            <p:nvPr/>
          </p:nvSpPr>
          <p:spPr>
            <a:xfrm>
              <a:off x="7021080" y="529992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68360" y="7696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будь-якій молекулі є додатньо заряджені частини – ядра атомів і від’єм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жені - електрони. Для кожного роду частинок можна знайти точку, яка бу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влятись їх “електричним центром тяжіння”. Ці точки називають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полюсами молеку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333080" y="1989000"/>
            <a:ext cx="72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в  молекулі  електричні центри додатніх і від’ємних зарядів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ігаються, то молекула називаються неполярна або нейтральн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 молекули, утворені однаковими атомами O2, N2 т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метрично побудовані молекули CH4, CCl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39640" y="3204720"/>
            <a:ext cx="815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стань між електричними центрами тяжіння зарядів (між полюсами)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довжиною диполя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l – характеризує міру поляризації. Чим l більш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м різкіше виявлені властивості молекул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-655560" y="3419640"/>
                <a:ext cx="759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6"/>
          <p:cNvSpPr/>
          <p:nvPr/>
        </p:nvSpPr>
        <p:spPr>
          <a:xfrm>
            <a:off x="611280" y="4253400"/>
            <a:ext cx="76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ці міра полярності тих чи інших молекул встановлюється шляхом вимірювання так званого </a:t>
            </a:r>
            <a:r>
              <a:rPr b="0" lang="uk-UA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ипольного моменту молекули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-65556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-649080" y="3589920"/>
            <a:ext cx="3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6227640" y="5157720"/>
                <a:ext cx="1754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11"/>
          <p:cNvSpPr/>
          <p:nvPr/>
        </p:nvSpPr>
        <p:spPr>
          <a:xfrm>
            <a:off x="720720" y="5157360"/>
            <a:ext cx="30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е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e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– заряд полюса молекул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2"/>
              <p:cNvSpPr txBox="1"/>
              <p:nvPr/>
            </p:nvSpPr>
            <p:spPr>
              <a:xfrm>
                <a:off x="826920" y="5589720"/>
                <a:ext cx="258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3"/>
          <p:cNvSpPr/>
          <p:nvPr/>
        </p:nvSpPr>
        <p:spPr>
          <a:xfrm>
            <a:off x="1054080" y="5485680"/>
            <a:ext cx="48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оже визначитись експериментальним шляхом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11280" y="620640"/>
            <a:ext cx="55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лив електричних сил може суттєво змінити внутріш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ктуру  молекул, а значить, і її властивості. Зокре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 дією зовнішнього електричного поля молекули, які сам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 собі були неполярними, стають полярним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84360" y="22762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неполярну молекулу помістити між пластинами конденсатора,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 заряди  пластин будуть впливати на розподілення заряду всереди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екули. Додатньо заряджені ядра будуть притягуватись до від’ємног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у пластин, а від’ємно заряджені електрони - до додатних пластин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6516720" y="1052640"/>
            <a:ext cx="1584360" cy="796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00000" y="38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результаті відбудеться зміщення електронів відносно ядер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раніше центри тяжіння додатних і від’ємних зарядів збігали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 тепер вони розійдуться і молекула стане дипольною. Це явищ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поляризаціє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835640" y="5444280"/>
            <a:ext cx="66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творені диполі називаю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наведени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індукован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3418200" y="69120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4.2 Іонний зв’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755640" y="141264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здійснюється між протилежно зарядженими іо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утворюється в результаті електростатичного притяжіння іонів один до одн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46520" y="2852280"/>
            <a:ext cx="77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датні іони утворюються шляхом відщеплення від атомів електронів,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’ємні – шляхом приєднання електронів до атомів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745360" y="5228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cхема утворення хлористого Na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1" name="Picture 9" descr="1"/>
          <p:cNvPicPr/>
          <p:nvPr/>
        </p:nvPicPr>
        <p:blipFill>
          <a:blip r:embed="rId1"/>
          <a:stretch/>
        </p:blipFill>
        <p:spPr>
          <a:xfrm>
            <a:off x="2195640" y="3860640"/>
            <a:ext cx="4397400" cy="133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839680" y="61992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4.3 Металевий </a:t>
            </a:r>
            <a:r>
              <a:rPr b="1" lang="uk-UA" sz="2000" spc="-1" strike="noStrike" u="sng">
                <a:solidFill>
                  <a:srgbClr val="0066ff"/>
                </a:solidFill>
                <a:uFillTx/>
                <a:latin typeface="Arial"/>
              </a:rPr>
              <a:t>зв’яз</a:t>
            </a:r>
            <a:r>
              <a:rPr b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о</a:t>
            </a:r>
            <a:r>
              <a:rPr b="1" lang="uk-UA" sz="2000" spc="-1" strike="noStrike" u="sng">
                <a:solidFill>
                  <a:srgbClr val="0066ff"/>
                </a:solidFill>
                <a:uFillTx/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353" name="Picture 3" descr="first"/>
          <p:cNvPicPr/>
          <p:nvPr/>
        </p:nvPicPr>
        <p:blipFill>
          <a:blip r:embed="rId1"/>
          <a:stretch/>
        </p:blipFill>
        <p:spPr>
          <a:xfrm>
            <a:off x="900000" y="981000"/>
            <a:ext cx="1667160" cy="9622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2771640" y="1196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етім видом зв’язку є металевий зв’язок, який привод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утворення твердих кристалічних ті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27640" y="23490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али можна розглядати, як системи, побудовані із розташован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узлах решітки додатньо заряджених частинок атомів, як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ходяться у середовищі вільних електрон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974520" y="458100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явність вільних електронів – високою електропровідністю 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плопровідністю металів, причина його блиск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2987640" y="35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тягання між додатними і від’ємними зарядами є причиною  монолітності металу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396800" y="61992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4.4  М</a:t>
            </a:r>
            <a:r>
              <a:rPr b="1" lang="uk-UA" sz="2000" spc="-1" strike="noStrike" u="sng">
                <a:solidFill>
                  <a:srgbClr val="000099"/>
                </a:solidFill>
                <a:uFillTx/>
                <a:latin typeface="Arial"/>
              </a:rPr>
              <a:t>олекулярний (зв’язок Ван – дер – Ваальса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61" name="Object 4"/>
          <p:cNvGraphicFramePr/>
          <p:nvPr/>
        </p:nvGraphicFramePr>
        <p:xfrm>
          <a:off x="6948360" y="1628640"/>
          <a:ext cx="146700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628640"/>
                    <a:ext cx="1467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537840" y="1341000"/>
            <a:ext cx="57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ий зв’язок існує між молекулами з ковалентн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утрішньо молекулярними зв’язкам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413080"/>
            <a:ext cx="55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молекулярне притягнення зумовлене в цьому випадку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узгодженим рухом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алентних електронів у сусідніх молекулах. В будь-який момент час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и максимально віддалені один від одного і максимально наближе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додатних заряді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690920" y="54828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99"/>
                </a:solidFill>
                <a:uFillTx/>
                <a:latin typeface="Arial"/>
              </a:rPr>
              <a:t>5. Будова твердої речовин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627640" y="1268280"/>
            <a:ext cx="594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верді тіла, на відміну від рідких і газоподібних мають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яку визначену самостійну форму і зберігають її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лежно від положення у яком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ходя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85080" y="2420280"/>
            <a:ext cx="60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льшість твердих речовин мають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кристалічну будов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611280" y="294444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 твердих речовин зустрічаються такі, в структурі яких немає кристал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смола, клей та інші речовини). Вони називаються 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аморфним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143960" y="364428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Класифікація кристалічних форм: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356360" y="4076640"/>
            <a:ext cx="41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равильна (вид призми і піраміди)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Тетрагональ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Ромб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Гексагональ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Моноглін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Триклічн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972360" y="105228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 як би нерівномірно не відбувалось утворення кристал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не спотворювалась його форма кути,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під якими сходя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грані кристала, завжди залишаються стали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Це один із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их законів кристалографії –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закон постійності границь куті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538560" y="2707920"/>
            <a:ext cx="71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які речовини, близькі по своїй хімічній природі, хоч і різні з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ладом утворюють кристал однакової форми, характеризую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овими константами їх просторових граток. Такі речовин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ізоморфними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тобто мають однакову форму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971640" y="4644720"/>
            <a:ext cx="75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тилежне явище –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поліморфіз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тобто відбувається кристалізаці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різних формах. Приклад поліморфних речовин – сірка. Кожна її кристалі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 стійка лише у деяких межах температури і тиску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Goudy Stout"/>
                <a:ea typeface="Times New Roman"/>
              </a:rPr>
              <a:t>План лекції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4360" y="1700280"/>
            <a:ext cx="7918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Ядерна модель атома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2. Теорія Бора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Поняття про квантову механіку. Чотири квантових числа. Принцип     Паулі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 Види зв'язку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1 Ковалентний зв'язок. Полярні та неполярні молекули.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Явище поляризації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2 Іонн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3 Металев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4.4 Молекулярний зв'язок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Будова твердої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989000" y="4834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SzPct val="80000"/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99"/>
                </a:solidFill>
                <a:latin typeface="Times New Roman"/>
              </a:rPr>
              <a:t>Ядерна модель атома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3744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шу спробу побудувати теорію будови атома в межах класичної фізики зробив у 1903 р. англійський фізик Д. Томсон. За гіпотезою Томсона атом уявлявся у вигляді сфери, яка рівномірно заповнена позитивним зарядом, в середній частині якої містяться електрони.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048040" y="2707920"/>
            <a:ext cx="64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те ця модель була неспроможна пояснити спектральн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омірності атомів. Крім того, гіпотеза Томсона не спиралась на будь які дослідні дан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40720" y="3952440"/>
            <a:ext cx="739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ішальне значення для теорії будови атома мали дослід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ерфорда, який у 1913 році вивчав розсіяння пучка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частинок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 проходженні їх через тонку металеву фольг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84360" y="907920"/>
            <a:ext cx="7993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66"/>
                </a:solidFill>
                <a:latin typeface="Arial"/>
              </a:rPr>
              <a:t>Його досліди дали можливість Резерфорду описати ядерну модель атома так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 центрі атома міститься позитивно заряджене ядро атома, розміри якого мають величину порядку         м, навколо ядра по замкнутих орбітах в об’ємі сфери радіусом порядку         м обертаються електрони, причому їх кількість дорівнює порядковому номера елемен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4720" y="3644640"/>
            <a:ext cx="53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акому вигляді ядерна модель атома зберегл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оє значення і до нашого часу, хоч  і зазнала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ьох уточн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623240" y="485532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У чому ж неспроможність моделі Резерфорда?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5219640" y="2349360"/>
                <a:ext cx="588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4211640" y="2060640"/>
                <a:ext cx="571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2846160" y="69156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2. Теорія Бора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4360" y="155700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1913 датський фізик Нільс Бор запропонував свою теорію будови атом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гідно якої променева енергія випромінюється і поглинається електроном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ерервно, а невеликими порціями – кван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ע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6500880" y="3648240"/>
                <a:ext cx="1160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7"/>
          <p:cNvSpPr/>
          <p:nvPr/>
        </p:nvSpPr>
        <p:spPr>
          <a:xfrm>
            <a:off x="6227640" y="3148920"/>
            <a:ext cx="17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 енергії 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820800" y="3287160"/>
            <a:ext cx="47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*с    -  постійна Планка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971640" y="3790800"/>
                <a:ext cx="118728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Rectangle 10"/>
          <p:cNvSpPr/>
          <p:nvPr/>
        </p:nvSpPr>
        <p:spPr>
          <a:xfrm>
            <a:off x="2165400" y="39348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частота випромінюва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898920" y="45824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 - швидкість світла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5291280" y="42238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 променевої енергії називається </a:t>
            </a:r>
            <a:r>
              <a:rPr b="0" lang="uk-UA" sz="1800" spc="-1" strike="noStrike" u="sng">
                <a:solidFill>
                  <a:srgbClr val="000099"/>
                </a:solidFill>
                <a:uFillTx/>
                <a:latin typeface="Arial"/>
              </a:rPr>
              <a:t>фотоном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712800" y="3213000"/>
                <a:ext cx="1941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p/>
                    </m:sSup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843280" y="549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Arial"/>
              </a:rPr>
              <a:t>Постулати Бора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68360" y="10508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и, які рухаються в атомі на окремих стаціонарних рівнях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випромінюють і не поглинають електромагнітних хвиль. У стаціона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тома електрони рухаються уздовж колових орбіт, які мають  дискретні значен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менту імпульсу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003640" y="2313360"/>
            <a:ext cx="14526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n-US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2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6300720" y="2421000"/>
                <a:ext cx="281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-870120" y="3040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Rectangle 8"/>
          <p:cNvSpPr/>
          <p:nvPr/>
        </p:nvSpPr>
        <p:spPr>
          <a:xfrm>
            <a:off x="964800" y="2283480"/>
            <a:ext cx="190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са електрона;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042920" y="2325600"/>
            <a:ext cx="352908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лінійна швидкість орбітального руху;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адіу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ї колової орбіти;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рядковий номер стаціонарного рівня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078920" y="3141360"/>
            <a:ext cx="28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ала Планка поділена на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2"/>
              <p:cNvSpPr txBox="1"/>
              <p:nvPr/>
            </p:nvSpPr>
            <p:spPr>
              <a:xfrm>
                <a:off x="1111320" y="3141720"/>
                <a:ext cx="220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3"/>
          <p:cNvSpPr/>
          <p:nvPr/>
        </p:nvSpPr>
        <p:spPr>
          <a:xfrm>
            <a:off x="539640" y="3499920"/>
            <a:ext cx="78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При переході  електрона з однієї стаціонарної орбіти на іншу випромінює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о поглинається квант енергії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03280" y="487656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а) енергетичний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спектр</a:t>
            </a: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 атома дискретний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Arial"/>
              </a:rPr>
              <a:t>б) частоти атомного випромінювання пов’язані з атомними рівням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900000" y="45561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даної формули випливає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2921040" y="4086360"/>
                <a:ext cx="2835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ν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45480" y="472680"/>
            <a:ext cx="78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uk-UA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оняття про квантову механіку. 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Чотири квантових числа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99"/>
                </a:solidFill>
                <a:latin typeface="Arial"/>
              </a:rPr>
              <a:t>Принцип     Паулі</a:t>
            </a: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13800" y="1557000"/>
            <a:ext cx="74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а механіка показує, що закони руху електрона мають багат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льного із з-нами поширення хвиль, тому вона ще називається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вильовою механікою.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055600" y="242028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не рівняння квантової теор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6588000" y="2063880"/>
                <a:ext cx="1800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υ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8"/>
          <p:cNvSpPr/>
          <p:nvPr/>
        </p:nvSpPr>
        <p:spPr>
          <a:xfrm>
            <a:off x="1038600" y="278064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г    – маса електрона у стані спокою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541440" y="3141000"/>
            <a:ext cx="80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а механіка пояснює стійкість лише визначених електронних орбіт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532080" y="3499560"/>
            <a:ext cx="72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ійкими є тільки ті орбіти, на яких вкладається ціле число хви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525600" y="386028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ходячи з квантової механіки  запишемо математичний вираз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660066"/>
                </a:solidFill>
                <a:uFillTx/>
                <a:latin typeface="Arial"/>
              </a:rPr>
              <a:t>першого постулату Бора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781200" y="4287960"/>
                <a:ext cx="26384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f>
                      <m:num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υ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14"/>
          <p:cNvSpPr/>
          <p:nvPr/>
        </p:nvSpPr>
        <p:spPr>
          <a:xfrm>
            <a:off x="539640" y="537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ціле число - головне квантове число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3564000" y="450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квантовій фізиці стан частинки зада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хвильовою функцією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яка 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лексною величиною і визначається у всіх точках простору і в будь-який мо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9"/>
              <p:cNvSpPr txBox="1"/>
              <p:nvPr/>
            </p:nvSpPr>
            <p:spPr>
              <a:xfrm>
                <a:off x="468360" y="2708280"/>
                <a:ext cx="2170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т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91</m:t>
                        </m:r>
                      </m:e>
                      <m:sup/>
                    </m:sSup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12720" y="69156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огічно класичним хвилям рух елементарн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тинок характеризується хвилями де Бройл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908000" y="141264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Головне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визначає рівень енергії, якому відповідає дана орбіта 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ї віддаленість від ядра. Знач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1 відповідає найнижчому  енергетичному рівн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242064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– побічне (орбітальне)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характеризує момент кількості  рух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ів  відносно центру орбі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приймає значення цілих чисел від 0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87280" y="3355560"/>
            <a:ext cx="74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m – магнітне квантове числ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изначає положення площини орбіти електрон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простор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число має всі значення цілих чисел додатних і від’ємних, ал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жах числа l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39640" y="436896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ак електрон в атомі рухається не лише навкруг ядра, але і навкруг власної осі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чому можливий його рух в двох протилежних напрямках. Цей рух електроні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рактеризує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четвертим спіновим квантовим числом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число має лише 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датне і від’ємне – відповідно двом можливим напрямкам руху електро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969480" y="620280"/>
            <a:ext cx="70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однакових частинок із нульовими, або цілочислов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нами описуються лише симетричними хвильовими функція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називаються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бозон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84360" y="1915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однакових частинок із напівцілими спіна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исуються лише антисиметричними хвильовими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ункціями і називаються  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ферміон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6804000" y="2133720"/>
                <a:ext cx="9684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5651640" y="1413000"/>
                <a:ext cx="8618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6877080" y="1413000"/>
                <a:ext cx="8128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0"/>
          <p:cNvSpPr/>
          <p:nvPr/>
        </p:nvSpPr>
        <p:spPr>
          <a:xfrm>
            <a:off x="1547640" y="371592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В будь-якому стаціонарному стані, що характеризується сукупніст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чотирьох квантових чисел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, не може перебувати більше одного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електрона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611280" y="4868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к згідно принципу Паулі ні в жодному стані немає двох однаков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онів. Тобто 2 електрона в атомі не можуть мати чотири однакових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антових числ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3419640" y="321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НЦИП ПАУЛІ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2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Будова речовин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0-09-09T05:04:24Z</dcterms:modified>
  <cp:revision>221</cp:revision>
  <dc:subject/>
  <dc:title>Тема:   Пробій діелектриків </dc:title>
</cp:coreProperties>
</file>