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10.jpeg" ContentType="image/jpeg"/>
  <Override PartName="/ppt/media/image13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1108-C365-421A-8694-76E969B1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DD1-425B-420A-A678-37BD11C2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8D0-9079-408E-BFFD-33623C92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A45-B0B3-4681-BB15-A846FE12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C509-B547-4241-B199-BC8404A0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3EB4-018D-458D-9535-EA415AAC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A448-4E89-445A-AED9-4A5EBBF1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13C2-98BA-4FF8-9F8F-850981E3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9170-5D4E-4F67-8FC4-20D7E12F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5E49-38DE-4080-943D-A0349D6E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6852-E78D-4121-8EEA-FF30F8A8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4FD7-AFFA-456A-9106-C3C83869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6A08-0AB0-4BB3-8D8A-88B13B92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64B1-3FAD-496C-9649-460516FC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46AC-A836-48DD-B8E0-58BEE39E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CE65-7D63-4411-A5B6-CD7EABC1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2D28-0D59-4E93-AF73-6455F076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10BA8-2772-49A1-9B36-F7FA0E3A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F3154-93A7-457A-8DDA-F77650D9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5993D-1CCD-4E27-8598-6D2108B8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3EFEF-CB10-4EC5-9216-D6F26358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C920C-91AA-470A-BF80-DE8BDF4F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F1F5-CD12-4967-BDA8-00679D1E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4B20B-6F4B-4709-8F7B-8F5AC003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DD8FE-B073-4150-BACA-AD4CA495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80959-BC59-4EAD-BBB2-A6A46716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EC353-D614-4780-9384-2A10825B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A8A4D-6A04-46F2-B564-DB68B507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3BA7A-AF85-44DF-8D89-7028565F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517D-8A08-4394-B7DE-27FFED4E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6FAC5-B283-48BD-A02E-E24EA866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28CF0-2FB8-404D-BD18-89C41E5D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C5FD4-8FC7-4C58-850F-AE61499F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8EF-B69F-4361-AA4D-BE70DE66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1B182-E3A3-49F0-9223-D3398AD0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5DA8D-AD46-4E91-AC54-37FA60E3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7BB0F-2C26-4F15-B868-D37A8AF7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4059B-D0FD-44FE-836E-44E6CCD8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2DA60-9E42-4ACC-A512-374C5908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6111-0F4C-4D01-90EE-8839CE53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01426-8026-4F40-87B2-E8DA49E8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EF413-A25F-4730-952C-F81A4B1C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1FD6F-1EC5-4BE9-9321-598A2658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3B0DF-1A5C-4EE6-873D-2D3A363D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34D-547A-4108-A920-70F5954F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4340C-AC27-42BC-81D8-816F936B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2383E-F50C-4A3C-8E6A-E0599F51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0F604-15E5-4C0C-97CD-EEFB54D2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E3AB9-A706-4EB6-89DD-C098DBD4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52942-EE37-4C13-BAED-D16D7865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947A2-4D62-45DD-AA07-8A5488FE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321CA-C0C7-491A-B3B8-07F41A62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0527C-7463-456A-A6C2-12668832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843FA-F751-4122-A4E1-4A79D66A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E76B2-78C3-46C4-878D-2E11EC44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55B-71F1-49DD-A83E-685B2214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ACEB7-E7F9-4B93-A8EF-53A4D958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40DB-FF16-495C-8F65-46283D7A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44EF-A313-409E-8B63-1FF0365F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C3C5-AB77-409C-B225-9A60A31E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1A1F-8180-4B86-82EE-80896E141A6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2267-4A89-4CAD-AB34-4262D1D2629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D296-A960-4B76-9976-E27920DB90B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2C1A-CB27-41F9-BFBA-7D5EADDAE65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B8D1-904C-451B-B29E-CA34A9C3B9D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476100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7030a0"/>
                </a:solidFill>
                <a:latin typeface="Bookman Old Style"/>
              </a:rPr>
              <a:t>Поляризація діелектриків</a:t>
            </a:r>
            <a:endParaRPr b="1" lang="en-US" sz="3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250920" y="873000"/>
            <a:ext cx="838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9f2936"/>
                </a:solidFill>
                <a:latin typeface="Verdana"/>
              </a:rPr>
              <a:t>Електротехнічні матеріали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076720" y="3753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Лекція</a:t>
            </a:r>
            <a:r>
              <a:rPr b="0" lang="ru-RU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 № </a:t>
            </a:r>
            <a:r>
              <a:rPr b="0" lang="en-US" sz="3600" spc="-1" strike="noStrike" u="sng">
                <a:solidFill>
                  <a:srgbClr val="7030a0"/>
                </a:solidFill>
                <a:uFillTx/>
                <a:latin typeface="Bookman Old Style"/>
              </a:rPr>
              <a:t>3-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692360" y="591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9f2936"/>
                </a:solidFill>
                <a:uFillTx/>
                <a:latin typeface="Verdana"/>
              </a:rPr>
              <a:t>Викладач: к.т.н., доцент Возняк О.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503280" y="584280"/>
            <a:ext cx="8064360" cy="2808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7030a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9f2936"/>
                </a:solidFill>
                <a:latin typeface="Comic Sans MS"/>
              </a:rPr>
              <a:t>Електронна поляризація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-  це пружне зміщення електронних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оболонок і деформація атомів 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=10-15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9f2936"/>
                </a:solidFill>
                <a:latin typeface="Comic Sans MS"/>
              </a:rPr>
              <a:t>Іонна поляризація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деформація пружно зв’язаних іонів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кристалічних структур (наприклад, скло) – 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=10-1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9f2936"/>
                </a:solidFill>
                <a:latin typeface="Comic Sans MS"/>
              </a:rPr>
              <a:t>Дипольно-релаксаційна поляризація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хар-на для діелектр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               що мають в своїй структурі полярні молеку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9f2936"/>
                </a:solidFill>
                <a:latin typeface="Comic Sans MS"/>
              </a:rPr>
              <a:t>Іонно-релаксаційна поляризація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хар-на для діелект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з кристалічною структурою з нещільною упаковкою іон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9f2936"/>
                </a:solidFill>
                <a:latin typeface="Comic Sans MS"/>
              </a:rPr>
              <a:t>Електронно-релаксаційні поляризація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обумовлена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наявністю електронів і діро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9f2936"/>
                </a:solidFill>
                <a:latin typeface="Comic Sans MS"/>
              </a:rPr>
              <a:t>Міграційна поляризація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обумовлена наявністю домішок в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діелектрику (неоднорідний діелектрик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9f2936"/>
                </a:solidFill>
                <a:latin typeface="Comic Sans MS"/>
              </a:rPr>
              <a:t>Спонтанна поляризація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– характерна для сегнетоелектриків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(матеріали, з доменною структурою, що має електричний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момент при відсутності електричного поля.  Характерна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етля гістерезису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476b2"/>
                </a:solidFill>
                <a:latin typeface="Verdana"/>
              </a:rPr>
              <a:t>Особливості поляризації дають можливість розділити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476b2"/>
                </a:solidFill>
                <a:latin typeface="Verdana"/>
              </a:rPr>
              <a:t>1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uk-UA" sz="1800" spc="-1" strike="noStrike">
                <a:solidFill>
                  <a:srgbClr val="008080"/>
                </a:solidFill>
                <a:latin typeface="Verdana"/>
              </a:rPr>
              <a:t>група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діел., що мають в основному лише електронну поляризацію (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наприклад неполярні і слабополярні тверді речовини в кристалічному і аморфному станах (парафін, сіра,), а також неполярні і слабополярні рідини і гази (бензол, водень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476b2"/>
                </a:solidFill>
                <a:latin typeface="Verdana"/>
              </a:rPr>
              <a:t>2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uk-UA" sz="1800" spc="-1" strike="noStrike">
                <a:solidFill>
                  <a:srgbClr val="008080"/>
                </a:solidFill>
                <a:latin typeface="Verdana"/>
              </a:rPr>
              <a:t>група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діел., що мають одночасно електронно і дипольно-релаксаційну поляризацію (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полярні (дипольні) органічні, напіврідкі і тверді речовини), також масляно-каніфольні компаунди, епоксидні смоли, целюлоз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476b2"/>
                </a:solidFill>
                <a:latin typeface="Verdana"/>
              </a:rPr>
              <a:t>3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uk-UA" sz="1800" spc="-1" strike="noStrike">
                <a:solidFill>
                  <a:srgbClr val="008080"/>
                </a:solidFill>
                <a:latin typeface="Verdana"/>
              </a:rPr>
              <a:t>група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– тверді неорганічні діелектрики з електронною, іонною, електронно-іонно-релаксаційною поляризаціє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uk-UA" sz="1600" spc="-1" strike="noStrike">
                <a:solidFill>
                  <a:srgbClr val="3476b2"/>
                </a:solidFill>
                <a:latin typeface="Verdana"/>
              </a:rPr>
              <a:t>3.1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 група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– діелектрики з електронною і іонною               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оляризаціями (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кристалічні речовини з щільною упаковкою 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іонів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uk-UA" sz="1600" spc="-1" strike="noStrike">
                <a:solidFill>
                  <a:srgbClr val="3476b2"/>
                </a:solidFill>
                <a:latin typeface="Verdana"/>
              </a:rPr>
              <a:t>3</a:t>
            </a:r>
            <a:r>
              <a:rPr b="0" lang="uk-UA" sz="1600" spc="-1" strike="noStrike">
                <a:solidFill>
                  <a:srgbClr val="3476b2"/>
                </a:solidFill>
                <a:latin typeface="Verdana"/>
              </a:rPr>
              <a:t>.</a:t>
            </a:r>
            <a:r>
              <a:rPr b="0" i="1" lang="uk-UA" sz="1600" spc="-1" strike="noStrike">
                <a:solidFill>
                  <a:srgbClr val="3476b2"/>
                </a:solidFill>
                <a:latin typeface="Verdana"/>
              </a:rPr>
              <a:t>2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 група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-  діелектрики з електронною, іонною,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релаксаційними поляризаціями, що мають скловидну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фазу (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фарфор, микалекс;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476b2"/>
                </a:solidFill>
                <a:latin typeface="Verdana"/>
              </a:rPr>
              <a:t>4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uk-UA" sz="1800" spc="-1" strike="noStrike">
                <a:solidFill>
                  <a:srgbClr val="008080"/>
                </a:solidFill>
                <a:latin typeface="Verdana"/>
              </a:rPr>
              <a:t>група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Verdana"/>
              </a:rPr>
              <a:t>сегнетоелектрики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– характеризуються спонтанною, електронною, іонною, електронно-іонна релаксаційною поляризацією (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сегнетова соль, метатитанат барія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476b2"/>
                </a:solidFill>
                <a:latin typeface="Verdana"/>
              </a:rPr>
              <a:t>5</a:t>
            </a: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uk-UA" sz="1800" spc="-1" strike="noStrike">
                <a:solidFill>
                  <a:srgbClr val="008080"/>
                </a:solidFill>
                <a:latin typeface="Verdana"/>
              </a:rPr>
              <a:t>група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неоднорідні діелектрики (</a:t>
            </a:r>
            <a:r>
              <a:rPr b="0" i="1" lang="uk-UA" sz="1600" spc="-1" strike="noStrike">
                <a:solidFill>
                  <a:srgbClr val="000000"/>
                </a:solidFill>
                <a:latin typeface="Verdana"/>
              </a:rPr>
              <a:t>міграційна поляризація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684360" y="385920"/>
            <a:ext cx="81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Arial Black"/>
              </a:rPr>
              <a:t>4.</a:t>
            </a:r>
            <a:r>
              <a:rPr b="1" lang="uk-UA" sz="3200" spc="-1" strike="noStrike">
                <a:solidFill>
                  <a:srgbClr val="7030a0"/>
                </a:solidFill>
                <a:latin typeface="Goudy Stout"/>
              </a:rPr>
              <a:t> Класифікація діелектрикі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800" spc="-1" strike="noStrike">
                <a:solidFill>
                  <a:srgbClr val="7030a0"/>
                </a:solidFill>
                <a:latin typeface="Arial Black"/>
              </a:rPr>
              <a:t>5. </a:t>
            </a:r>
            <a:r>
              <a:rPr b="0" lang="uk-UA" sz="2800" spc="-1" strike="noStrike">
                <a:solidFill>
                  <a:srgbClr val="7030a0"/>
                </a:solidFill>
                <a:latin typeface="Arial Black"/>
              </a:rPr>
              <a:t>Діелектрична проникність газів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ε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buClr>
                <a:srgbClr val="0066ff"/>
              </a:buClr>
              <a:buSzPct val="160000"/>
              <a:buFont typeface="Wingdings 2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Газоподібні речовини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характеризуються малою щільністю за рахунок великі відстані між молекулами. Тому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ε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усіх газів незначна і близька до 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buClr>
                <a:srgbClr val="0066ff"/>
              </a:buClr>
              <a:buSzPct val="160000"/>
              <a:buFont typeface="Wingdings 2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ε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показує у скільки разів заряд конденсатора з діелектриком більший від заряду конденсатора, між обкладинками якого знаходиться  вакуу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buClr>
                <a:srgbClr val="0066ff"/>
              </a:buClr>
              <a:buSzPct val="160000"/>
              <a:buFont typeface="Wingdings 2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Verdana"/>
              </a:rPr>
              <a:t>Діелектрична проникливі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539640" y="2781360"/>
                <a:ext cx="8008920" cy="28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Гелій</m:t>
                            </m:r>
                            <m:r>
                              <m:t xml:space="preserve">:</m:t>
                            </m:r>
                            <m:r>
                              <m:t xml:space="preserve">ε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72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одень</m:t>
                            </m:r>
                            <m:r>
                              <m:t xml:space="preserve">:</m:t>
                            </m:r>
                            <m:r>
                              <m:t xml:space="preserve">ε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27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Гелій</m:t>
                            </m:r>
                            <m:r>
                              <m:t xml:space="preserve">:</m:t>
                            </m:r>
                            <m:r>
                              <m:t xml:space="preserve">ε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55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ргон</m:t>
                            </m:r>
                            <m:r>
                              <m:t xml:space="preserve">:</m:t>
                            </m:r>
                            <m:r>
                              <m:t xml:space="preserve">ε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56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зот</m:t>
                            </m:r>
                            <m:r>
                              <m:t xml:space="preserve">:</m:t>
                            </m:r>
                            <m:r>
                              <m:t xml:space="preserve">ε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6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углекислий</m:t>
                            </m:r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газ</m:t>
                            </m:r>
                            <m:r>
                              <m:t xml:space="preserve">:</m:t>
                            </m:r>
                            <m:r>
                              <m:t xml:space="preserve">ε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96</m:t>
                            </m:r>
                          </m:e>
                          <m:e/>
                        </m:d>
                      </m:e>
                    </m:eqArr>
                    <m:sSub>
                      <m:e/>
                      <m:sub/>
                    </m:sSub>
                    <m:r>
                      <m:rPr>
                        <m:lit/>
                        <m:nor/>
                      </m:rPr>
                      <m:t xml:space="preserve">при</m:t>
                    </m:r>
                    <m:limUpp>
                      <m:e/>
                      <m:lim/>
                    </m:limUpp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,</m:t>
                    </m:r>
                    <m:sSup>
                      <m:e/>
                      <m:sup/>
                    </m:sSup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60</m:t>
                    </m:r>
                    <m:r>
                      <m:rPr>
                        <m:lit/>
                        <m:nor/>
                      </m:rPr>
                      <m:t xml:space="preserve">м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р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с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rPr>
                        <m:lit/>
                        <m:nor/>
                      </m:rPr>
                      <m:t xml:space="preserve">МП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10"/>
          <p:cNvGraphicFramePr/>
          <p:nvPr/>
        </p:nvGraphicFramePr>
        <p:xfrm>
          <a:off x="4788000" y="2176560"/>
          <a:ext cx="396072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176560"/>
                    <a:ext cx="396072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Goudy Stout"/>
              </a:rPr>
              <a:t>Залежність </a:t>
            </a:r>
            <a:r>
              <a:rPr b="0" lang="uk-UA" sz="3600" spc="-1" strike="noStrike">
                <a:solidFill>
                  <a:srgbClr val="7030a0"/>
                </a:solidFill>
                <a:latin typeface="Verdana"/>
              </a:rPr>
              <a:t>ε</a:t>
            </a:r>
            <a:r>
              <a:rPr b="1" lang="uk-UA" sz="3200" spc="-1" strike="noStrike">
                <a:solidFill>
                  <a:srgbClr val="7030a0"/>
                </a:solidFill>
                <a:latin typeface="Goudy Stout"/>
              </a:rPr>
              <a:t> повітря від температур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0" y="266688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11280" y="3645000"/>
          <a:ext cx="3673440" cy="1873080"/>
        </p:xfrm>
        <a:graphic>
          <a:graphicData uri="http://schemas.openxmlformats.org/drawingml/2006/table">
            <a:tbl>
              <a:tblPr/>
              <a:tblGrid>
                <a:gridCol w="1027080"/>
                <a:gridCol w="1326960"/>
                <a:gridCol w="1319400"/>
              </a:tblGrid>
              <a:tr h="372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7bf5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7bf5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0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0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>
                        <a:alphaModFix amt="62000"/>
                      </a:blip>
                      <a:tile tx="0" ty="0" sx="100000" sy="100000" algn="ctr"/>
                    </a:blipFill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08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00" name="Rectangle 91"/>
          <p:cNvSpPr/>
          <p:nvPr/>
        </p:nvSpPr>
        <p:spPr>
          <a:xfrm>
            <a:off x="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Group 325" descr=""/>
          <p:cNvPicPr/>
          <p:nvPr/>
        </p:nvPicPr>
        <p:blipFill>
          <a:blip r:embed="rId10"/>
          <a:stretch/>
        </p:blipFill>
        <p:spPr>
          <a:xfrm>
            <a:off x="603360" y="1054080"/>
            <a:ext cx="7076880" cy="23176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26"/>
          <p:cNvSpPr/>
          <p:nvPr/>
        </p:nvSpPr>
        <p:spPr>
          <a:xfrm>
            <a:off x="4427640" y="3860640"/>
            <a:ext cx="43196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 дає можливість знайти відносні зміни діелектричної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никливості при підвищенні температури на 1ºС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еличину  середнього значення </a:t>
            </a:r>
            <a:r>
              <a:rPr b="0" lang="uk-UA" sz="1800" spc="-1" strike="noStrike">
                <a:solidFill>
                  <a:srgbClr val="7030a0"/>
                </a:solidFill>
                <a:latin typeface="Arial"/>
              </a:rPr>
              <a:t>ε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ожна знайти за виразом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2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329"/>
              <p:cNvSpPr txBox="1"/>
              <p:nvPr/>
            </p:nvSpPr>
            <p:spPr>
              <a:xfrm>
                <a:off x="6516720" y="5157720"/>
                <a:ext cx="15843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ε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ε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34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333"/>
          <p:cNvGraphicFramePr/>
          <p:nvPr/>
        </p:nvGraphicFramePr>
        <p:xfrm>
          <a:off x="4427640" y="3316320"/>
          <a:ext cx="1584360" cy="83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0" name="Object 3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27640" y="3316320"/>
                    <a:ext cx="158436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183520" cy="1027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іелектрики рідкі можуть бути побудовані з неполярних і полярних (дипольних) молеку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ля неполярної рідини графік залежності Е від температури:  має вигляд: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684360" y="2491920"/>
            <a:ext cx="2447640" cy="1443600"/>
            <a:chOff x="684360" y="2491920"/>
            <a:chExt cx="2447640" cy="1443600"/>
          </a:xfrm>
        </p:grpSpPr>
        <p:sp>
          <p:nvSpPr>
            <p:cNvPr id="313" name="Line 5"/>
            <p:cNvSpPr/>
            <p:nvPr/>
          </p:nvSpPr>
          <p:spPr>
            <a:xfrm flipV="1">
              <a:off x="1033920" y="2491920"/>
              <a:ext cx="0" cy="10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6"/>
            <p:cNvSpPr/>
            <p:nvPr/>
          </p:nvSpPr>
          <p:spPr>
            <a:xfrm>
              <a:off x="1033920" y="3574800"/>
              <a:ext cx="18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"/>
            <p:cNvSpPr/>
            <p:nvPr/>
          </p:nvSpPr>
          <p:spPr>
            <a:xfrm>
              <a:off x="975600" y="2732760"/>
              <a:ext cx="1689840" cy="741600"/>
            </a:xfrm>
            <a:custGeom>
              <a:avLst/>
              <a:gdLst>
                <a:gd name="textAreaLeft" fmla="*/ 0 w 1689840"/>
                <a:gd name="textAreaRight" fmla="*/ 1690200 w 1689840"/>
                <a:gd name="textAreaTop" fmla="*/ 0 h 741600"/>
                <a:gd name="textAreaBottom" fmla="*/ 741960 h 741600"/>
              </a:gdLst>
              <a:ahLst/>
              <a:rect l="textAreaLeft" t="textAreaTop" r="textAreaRight" b="textAreaBottom"/>
              <a:pathLst>
                <a:path w="2610" h="1110">
                  <a:moveTo>
                    <a:pt x="90" y="0"/>
                  </a:moveTo>
                  <a:cubicBezTo>
                    <a:pt x="45" y="45"/>
                    <a:pt x="0" y="90"/>
                    <a:pt x="270" y="180"/>
                  </a:cubicBezTo>
                  <a:cubicBezTo>
                    <a:pt x="540" y="270"/>
                    <a:pt x="1410" y="420"/>
                    <a:pt x="1710" y="540"/>
                  </a:cubicBezTo>
                  <a:cubicBezTo>
                    <a:pt x="2010" y="660"/>
                    <a:pt x="1980" y="810"/>
                    <a:pt x="2070" y="900"/>
                  </a:cubicBezTo>
                  <a:cubicBezTo>
                    <a:pt x="2160" y="990"/>
                    <a:pt x="2160" y="1050"/>
                    <a:pt x="2250" y="1080"/>
                  </a:cubicBezTo>
                  <a:cubicBezTo>
                    <a:pt x="2340" y="1110"/>
                    <a:pt x="2475" y="1095"/>
                    <a:pt x="2610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8"/>
            <p:cNvSpPr/>
            <p:nvPr/>
          </p:nvSpPr>
          <p:spPr>
            <a:xfrm flipV="1">
              <a:off x="2082960" y="309348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9"/>
            <p:cNvSpPr/>
            <p:nvPr/>
          </p:nvSpPr>
          <p:spPr>
            <a:xfrm>
              <a:off x="1033920" y="3454560"/>
              <a:ext cx="1398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0"/>
            <p:cNvSpPr/>
            <p:nvPr/>
          </p:nvSpPr>
          <p:spPr>
            <a:xfrm>
              <a:off x="684360" y="2612520"/>
              <a:ext cx="34956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ε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1"/>
            <p:cNvSpPr/>
            <p:nvPr/>
          </p:nvSpPr>
          <p:spPr>
            <a:xfrm>
              <a:off x="1850040" y="3574800"/>
              <a:ext cx="93240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кипіння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2"/>
            <p:cNvSpPr/>
            <p:nvPr/>
          </p:nvSpPr>
          <p:spPr>
            <a:xfrm>
              <a:off x="2782440" y="3213720"/>
              <a:ext cx="34956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13"/>
          <p:cNvGrpSpPr/>
          <p:nvPr/>
        </p:nvGrpSpPr>
        <p:grpSpPr>
          <a:xfrm>
            <a:off x="611280" y="3789360"/>
            <a:ext cx="2808360" cy="2016000"/>
            <a:chOff x="611280" y="3789360"/>
            <a:chExt cx="2808360" cy="2016000"/>
          </a:xfrm>
        </p:grpSpPr>
        <p:grpSp>
          <p:nvGrpSpPr>
            <p:cNvPr id="322" name="Group 14"/>
            <p:cNvGrpSpPr/>
            <p:nvPr/>
          </p:nvGrpSpPr>
          <p:grpSpPr>
            <a:xfrm>
              <a:off x="611280" y="3789360"/>
              <a:ext cx="2808360" cy="2016000"/>
              <a:chOff x="611280" y="3789360"/>
              <a:chExt cx="2808360" cy="2016000"/>
            </a:xfrm>
          </p:grpSpPr>
          <p:grpSp>
            <p:nvGrpSpPr>
              <p:cNvPr id="323" name="Group 15"/>
              <p:cNvGrpSpPr/>
              <p:nvPr/>
            </p:nvGrpSpPr>
            <p:grpSpPr>
              <a:xfrm>
                <a:off x="611280" y="3915360"/>
                <a:ext cx="2808360" cy="1890000"/>
                <a:chOff x="611280" y="3915360"/>
                <a:chExt cx="2808360" cy="1890000"/>
              </a:xfrm>
            </p:grpSpPr>
            <p:sp>
              <p:nvSpPr>
                <p:cNvPr id="324" name="Line 16"/>
                <p:cNvSpPr/>
                <p:nvPr/>
              </p:nvSpPr>
              <p:spPr>
                <a:xfrm flipV="1">
                  <a:off x="962280" y="3915360"/>
                  <a:ext cx="0" cy="163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7"/>
                <p:cNvSpPr/>
                <p:nvPr/>
              </p:nvSpPr>
              <p:spPr>
                <a:xfrm>
                  <a:off x="962280" y="5553360"/>
                  <a:ext cx="2106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8"/>
                <p:cNvSpPr/>
                <p:nvPr/>
              </p:nvSpPr>
              <p:spPr>
                <a:xfrm flipV="1">
                  <a:off x="1430280" y="4041000"/>
                  <a:ext cx="0" cy="1512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9"/>
                <p:cNvSpPr/>
                <p:nvPr/>
              </p:nvSpPr>
              <p:spPr>
                <a:xfrm flipV="1">
                  <a:off x="1898280" y="4041000"/>
                  <a:ext cx="0" cy="1512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20"/>
                <p:cNvSpPr/>
                <p:nvPr/>
              </p:nvSpPr>
              <p:spPr>
                <a:xfrm flipV="1">
                  <a:off x="2366280" y="4041000"/>
                  <a:ext cx="0" cy="1512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21"/>
                <p:cNvSpPr/>
                <p:nvPr/>
              </p:nvSpPr>
              <p:spPr>
                <a:xfrm flipV="1">
                  <a:off x="2834640" y="4041000"/>
                  <a:ext cx="0" cy="1512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22"/>
                <p:cNvSpPr/>
                <p:nvPr/>
              </p:nvSpPr>
              <p:spPr>
                <a:xfrm flipV="1">
                  <a:off x="2015280" y="4041000"/>
                  <a:ext cx="0" cy="1512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23"/>
                <p:cNvSpPr/>
                <p:nvPr/>
              </p:nvSpPr>
              <p:spPr>
                <a:xfrm>
                  <a:off x="962280" y="5049360"/>
                  <a:ext cx="1872360" cy="0"/>
                </a:xfrm>
                <a:prstGeom prst="line">
                  <a:avLst/>
                </a:prstGeom>
                <a:ln w="3240">
                  <a:solidFill>
                    <a:srgbClr val="333399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4"/>
                <p:cNvSpPr/>
                <p:nvPr/>
              </p:nvSpPr>
              <p:spPr>
                <a:xfrm>
                  <a:off x="962280" y="4545000"/>
                  <a:ext cx="18723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5"/>
                <p:cNvSpPr/>
                <p:nvPr/>
              </p:nvSpPr>
              <p:spPr>
                <a:xfrm>
                  <a:off x="962280" y="4041000"/>
                  <a:ext cx="18723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Text Box 26"/>
                <p:cNvSpPr/>
                <p:nvPr/>
              </p:nvSpPr>
              <p:spPr>
                <a:xfrm>
                  <a:off x="1196280" y="5553360"/>
                  <a:ext cx="468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000" spc="-1" strike="noStrike">
                      <a:solidFill>
                        <a:srgbClr val="000000"/>
                      </a:solidFill>
                      <a:latin typeface="Arial"/>
                    </a:rPr>
                    <a:t>-20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27"/>
                <p:cNvSpPr/>
                <p:nvPr/>
              </p:nvSpPr>
              <p:spPr>
                <a:xfrm>
                  <a:off x="1664280" y="5553360"/>
                  <a:ext cx="468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0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uk-UA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Text Box 28"/>
                <p:cNvSpPr/>
                <p:nvPr/>
              </p:nvSpPr>
              <p:spPr>
                <a:xfrm>
                  <a:off x="2132280" y="5553360"/>
                  <a:ext cx="468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uk-UA" sz="10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29"/>
                <p:cNvSpPr/>
                <p:nvPr/>
              </p:nvSpPr>
              <p:spPr>
                <a:xfrm>
                  <a:off x="1898280" y="5553360"/>
                  <a:ext cx="468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Text Box 30"/>
                <p:cNvSpPr/>
                <p:nvPr/>
              </p:nvSpPr>
              <p:spPr>
                <a:xfrm>
                  <a:off x="2600280" y="5553360"/>
                  <a:ext cx="468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uk-UA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Text Box 31"/>
                <p:cNvSpPr/>
                <p:nvPr/>
              </p:nvSpPr>
              <p:spPr>
                <a:xfrm>
                  <a:off x="2951640" y="5553360"/>
                  <a:ext cx="468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tºC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Text Box 32"/>
                <p:cNvSpPr/>
                <p:nvPr/>
              </p:nvSpPr>
              <p:spPr>
                <a:xfrm>
                  <a:off x="611280" y="4923360"/>
                  <a:ext cx="468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Text Box 33"/>
                <p:cNvSpPr/>
                <p:nvPr/>
              </p:nvSpPr>
              <p:spPr>
                <a:xfrm>
                  <a:off x="611280" y="4419360"/>
                  <a:ext cx="468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Text Box 34"/>
              <p:cNvSpPr/>
              <p:nvPr/>
            </p:nvSpPr>
            <p:spPr>
              <a:xfrm>
                <a:off x="611280" y="3915360"/>
                <a:ext cx="4680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35"/>
              <p:cNvSpPr/>
              <p:nvPr/>
            </p:nvSpPr>
            <p:spPr>
              <a:xfrm>
                <a:off x="962280" y="3789360"/>
                <a:ext cx="4680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57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ε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36"/>
              <p:cNvSpPr/>
              <p:nvPr/>
            </p:nvSpPr>
            <p:spPr>
              <a:xfrm>
                <a:off x="611280" y="5427360"/>
                <a:ext cx="4680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uk-UA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37"/>
              <p:cNvSpPr/>
              <p:nvPr/>
            </p:nvSpPr>
            <p:spPr>
              <a:xfrm>
                <a:off x="962280" y="4797360"/>
                <a:ext cx="187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8"/>
              <p:cNvSpPr/>
              <p:nvPr/>
            </p:nvSpPr>
            <p:spPr>
              <a:xfrm>
                <a:off x="1196280" y="4251240"/>
                <a:ext cx="1287360" cy="587880"/>
              </a:xfrm>
              <a:custGeom>
                <a:avLst/>
                <a:gdLst>
                  <a:gd name="textAreaLeft" fmla="*/ 0 w 1287360"/>
                  <a:gd name="textAreaRight" fmla="*/ 1287720 w 1287360"/>
                  <a:gd name="textAreaTop" fmla="*/ 0 h 587880"/>
                  <a:gd name="textAreaBottom" fmla="*/ 588240 h 587880"/>
                </a:gdLst>
                <a:ahLst/>
                <a:rect l="textAreaLeft" t="textAreaTop" r="textAreaRight" b="textAreaBottom"/>
                <a:pathLst>
                  <a:path w="1800" h="840">
                    <a:moveTo>
                      <a:pt x="0" y="780"/>
                    </a:moveTo>
                    <a:cubicBezTo>
                      <a:pt x="270" y="810"/>
                      <a:pt x="540" y="840"/>
                      <a:pt x="720" y="780"/>
                    </a:cubicBezTo>
                    <a:cubicBezTo>
                      <a:pt x="900" y="720"/>
                      <a:pt x="960" y="540"/>
                      <a:pt x="1080" y="420"/>
                    </a:cubicBezTo>
                    <a:cubicBezTo>
                      <a:pt x="1200" y="300"/>
                      <a:pt x="1320" y="120"/>
                      <a:pt x="1440" y="60"/>
                    </a:cubicBezTo>
                    <a:cubicBezTo>
                      <a:pt x="1560" y="0"/>
                      <a:pt x="1740" y="60"/>
                      <a:pt x="1800" y="6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9"/>
              <p:cNvSpPr/>
              <p:nvPr/>
            </p:nvSpPr>
            <p:spPr>
              <a:xfrm>
                <a:off x="1196280" y="4356360"/>
                <a:ext cx="1521000" cy="504000"/>
              </a:xfrm>
              <a:custGeom>
                <a:avLst/>
                <a:gdLst>
                  <a:gd name="textAreaLeft" fmla="*/ 0 w 1521000"/>
                  <a:gd name="textAreaRight" fmla="*/ 1521360 w 1521000"/>
                  <a:gd name="textAreaTop" fmla="*/ 0 h 504000"/>
                  <a:gd name="textAreaBottom" fmla="*/ 504360 h 504000"/>
                </a:gdLst>
                <a:ahLst/>
                <a:rect l="textAreaLeft" t="textAreaTop" r="textAreaRight" b="textAreaBottom"/>
                <a:pathLst>
                  <a:path w="2340" h="720">
                    <a:moveTo>
                      <a:pt x="0" y="630"/>
                    </a:moveTo>
                    <a:cubicBezTo>
                      <a:pt x="480" y="675"/>
                      <a:pt x="960" y="720"/>
                      <a:pt x="1260" y="630"/>
                    </a:cubicBezTo>
                    <a:cubicBezTo>
                      <a:pt x="1560" y="540"/>
                      <a:pt x="1620" y="180"/>
                      <a:pt x="1800" y="90"/>
                    </a:cubicBezTo>
                    <a:cubicBezTo>
                      <a:pt x="1980" y="0"/>
                      <a:pt x="2250" y="90"/>
                      <a:pt x="2340" y="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40"/>
              <p:cNvSpPr/>
              <p:nvPr/>
            </p:nvSpPr>
            <p:spPr>
              <a:xfrm>
                <a:off x="1196280" y="4167000"/>
                <a:ext cx="1521000" cy="693000"/>
              </a:xfrm>
              <a:custGeom>
                <a:avLst/>
                <a:gdLst>
                  <a:gd name="textAreaLeft" fmla="*/ 0 w 1521000"/>
                  <a:gd name="textAreaRight" fmla="*/ 1521360 w 1521000"/>
                  <a:gd name="textAreaTop" fmla="*/ 0 h 693000"/>
                  <a:gd name="textAreaBottom" fmla="*/ 693360 h 693000"/>
                </a:gdLst>
                <a:ahLst/>
                <a:rect l="textAreaLeft" t="textAreaTop" r="textAreaRight" b="textAreaBottom"/>
                <a:pathLst>
                  <a:path w="2340" h="990">
                    <a:moveTo>
                      <a:pt x="0" y="900"/>
                    </a:moveTo>
                    <a:cubicBezTo>
                      <a:pt x="195" y="945"/>
                      <a:pt x="390" y="990"/>
                      <a:pt x="540" y="900"/>
                    </a:cubicBezTo>
                    <a:cubicBezTo>
                      <a:pt x="690" y="810"/>
                      <a:pt x="780" y="510"/>
                      <a:pt x="900" y="360"/>
                    </a:cubicBezTo>
                    <a:cubicBezTo>
                      <a:pt x="1020" y="210"/>
                      <a:pt x="1020" y="0"/>
                      <a:pt x="1260" y="0"/>
                    </a:cubicBezTo>
                    <a:cubicBezTo>
                      <a:pt x="1500" y="0"/>
                      <a:pt x="1920" y="180"/>
                      <a:pt x="2340" y="36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41"/>
            <p:cNvGrpSpPr/>
            <p:nvPr/>
          </p:nvGrpSpPr>
          <p:grpSpPr>
            <a:xfrm>
              <a:off x="1430280" y="4041000"/>
              <a:ext cx="1287000" cy="756000"/>
              <a:chOff x="1430280" y="4041000"/>
              <a:chExt cx="1287000" cy="756000"/>
            </a:xfrm>
          </p:grpSpPr>
          <p:sp>
            <p:nvSpPr>
              <p:cNvPr id="350" name="Text Box 42"/>
              <p:cNvSpPr/>
              <p:nvPr/>
            </p:nvSpPr>
            <p:spPr>
              <a:xfrm>
                <a:off x="2366280" y="4545000"/>
                <a:ext cx="351000" cy="2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43"/>
              <p:cNvSpPr/>
              <p:nvPr/>
            </p:nvSpPr>
            <p:spPr>
              <a:xfrm>
                <a:off x="2015280" y="4167000"/>
                <a:ext cx="351000" cy="2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44"/>
              <p:cNvSpPr/>
              <p:nvPr/>
            </p:nvSpPr>
            <p:spPr>
              <a:xfrm>
                <a:off x="1430280" y="4293000"/>
                <a:ext cx="3510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US" sz="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45"/>
              <p:cNvSpPr/>
              <p:nvPr/>
            </p:nvSpPr>
            <p:spPr>
              <a:xfrm>
                <a:off x="1547280" y="4293000"/>
                <a:ext cx="2336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46"/>
              <p:cNvSpPr/>
              <p:nvPr/>
            </p:nvSpPr>
            <p:spPr>
              <a:xfrm>
                <a:off x="2483280" y="4419000"/>
                <a:ext cx="116640" cy="2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47"/>
              <p:cNvSpPr/>
              <p:nvPr/>
            </p:nvSpPr>
            <p:spPr>
              <a:xfrm>
                <a:off x="1781280" y="4041000"/>
                <a:ext cx="351000" cy="2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48"/>
              <p:cNvSpPr/>
              <p:nvPr/>
            </p:nvSpPr>
            <p:spPr>
              <a:xfrm>
                <a:off x="1898280" y="4041000"/>
                <a:ext cx="233640" cy="2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" name="Text Box 50"/>
          <p:cNvSpPr/>
          <p:nvPr/>
        </p:nvSpPr>
        <p:spPr>
          <a:xfrm>
            <a:off x="3059280" y="2637000"/>
            <a:ext cx="5284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476b2"/>
                </a:solidFill>
                <a:latin typeface="Arial"/>
              </a:rPr>
              <a:t>Діелектрична проникливість для неполярних і слабополярних рідин знаходиться в межах: 2,1 - 2,3, а для полярних рідин: </a:t>
            </a:r>
            <a:r>
              <a:rPr b="0" lang="uk-UA" sz="1800" spc="-1" strike="noStrike">
                <a:solidFill>
                  <a:srgbClr val="3476b2"/>
                </a:solidFill>
                <a:latin typeface="Arial"/>
              </a:rPr>
              <a:t>ε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3476b2"/>
                </a:solidFill>
                <a:latin typeface="Arial"/>
              </a:rPr>
              <a:t>=3,5 - 5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1"/>
          <p:cNvSpPr/>
          <p:nvPr/>
        </p:nvSpPr>
        <p:spPr>
          <a:xfrm>
            <a:off x="3276720" y="422100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476b2"/>
                </a:solidFill>
                <a:latin typeface="Arial"/>
              </a:rPr>
              <a:t>Залежність діелектричної проникливості від температури для полярної рідини - совол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476b2"/>
                </a:solidFill>
                <a:latin typeface="Arial"/>
              </a:rPr>
              <a:t>f1=50</a:t>
            </a:r>
            <a:r>
              <a:rPr b="0" lang="uk-UA" sz="1600" spc="-1" strike="noStrike">
                <a:solidFill>
                  <a:srgbClr val="3476b2"/>
                </a:solidFill>
                <a:latin typeface="Arial"/>
              </a:rPr>
              <a:t> Гц;    </a:t>
            </a:r>
            <a:r>
              <a:rPr b="0" lang="en-US" sz="1600" spc="-1" strike="noStrike">
                <a:solidFill>
                  <a:srgbClr val="3476b2"/>
                </a:solidFill>
                <a:latin typeface="Arial"/>
              </a:rPr>
              <a:t>f</a:t>
            </a:r>
            <a:r>
              <a:rPr b="0" lang="uk-UA" sz="1600" spc="-1" strike="noStrike">
                <a:solidFill>
                  <a:srgbClr val="3476b2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476b2"/>
                </a:solidFill>
                <a:latin typeface="Arial"/>
              </a:rPr>
              <a:t>=</a:t>
            </a:r>
            <a:r>
              <a:rPr b="0" lang="uk-UA" sz="1600" spc="-1" strike="noStrike">
                <a:solidFill>
                  <a:srgbClr val="3476b2"/>
                </a:solidFill>
                <a:latin typeface="Arial"/>
              </a:rPr>
              <a:t>40</a:t>
            </a:r>
            <a:r>
              <a:rPr b="0" lang="en-US" sz="1600" spc="-1" strike="noStrike">
                <a:solidFill>
                  <a:srgbClr val="3476b2"/>
                </a:solidFill>
                <a:latin typeface="Arial"/>
              </a:rPr>
              <a:t>0</a:t>
            </a:r>
            <a:r>
              <a:rPr b="0" lang="uk-UA" sz="1600" spc="-1" strike="noStrike">
                <a:solidFill>
                  <a:srgbClr val="3476b2"/>
                </a:solidFill>
                <a:latin typeface="Arial"/>
              </a:rPr>
              <a:t> Гц;    </a:t>
            </a:r>
            <a:r>
              <a:rPr b="0" lang="en-US" sz="1600" spc="-1" strike="noStrike">
                <a:solidFill>
                  <a:srgbClr val="3476b2"/>
                </a:solidFill>
                <a:latin typeface="Arial"/>
              </a:rPr>
              <a:t>f</a:t>
            </a:r>
            <a:r>
              <a:rPr b="0" lang="uk-UA" sz="1600" spc="-1" strike="noStrike">
                <a:solidFill>
                  <a:srgbClr val="3476b2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476b2"/>
                </a:solidFill>
                <a:latin typeface="Arial"/>
              </a:rPr>
              <a:t>=</a:t>
            </a:r>
            <a:r>
              <a:rPr b="0" lang="uk-UA" sz="1600" spc="-1" strike="noStrike">
                <a:solidFill>
                  <a:srgbClr val="3476b2"/>
                </a:solidFill>
                <a:latin typeface="Arial"/>
              </a:rPr>
              <a:t>100</a:t>
            </a:r>
            <a:r>
              <a:rPr b="0" lang="en-US" sz="1600" spc="-1" strike="noStrike">
                <a:solidFill>
                  <a:srgbClr val="3476b2"/>
                </a:solidFill>
                <a:latin typeface="Arial"/>
              </a:rPr>
              <a:t>0</a:t>
            </a:r>
            <a:r>
              <a:rPr b="0" lang="uk-UA" sz="1600" spc="-1" strike="noStrike">
                <a:solidFill>
                  <a:srgbClr val="3476b2"/>
                </a:solidFill>
                <a:latin typeface="Arial"/>
              </a:rPr>
              <a:t> Гц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2"/>
          <p:cNvSpPr/>
          <p:nvPr/>
        </p:nvSpPr>
        <p:spPr>
          <a:xfrm>
            <a:off x="684360" y="549360"/>
            <a:ext cx="76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Arial Black"/>
              </a:rPr>
              <a:t>6. </a:t>
            </a:r>
            <a:r>
              <a:rPr b="1" lang="uk-UA" sz="3200" spc="-1" strike="noStrike">
                <a:solidFill>
                  <a:srgbClr val="7030a0"/>
                </a:solidFill>
                <a:latin typeface="Goudy Stout"/>
              </a:rPr>
              <a:t>Діелектрична проникність рідких діелектрикі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183520" cy="261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Goudy Stout"/>
              </a:rPr>
              <a:t>Полярні і неполярні молеку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9f2936"/>
                </a:solidFill>
                <a:latin typeface="Comic Sans MS"/>
              </a:rPr>
              <a:t>Полярні молекул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– центри додатніх і від’ємних зарядів не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півпадають (характеризується дипольним моментом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9f2936"/>
                </a:solidFill>
                <a:latin typeface="Comic Sans MS"/>
              </a:rPr>
              <a:t>Неполярні молекул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– центри додатніх і від’ємних зарядів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півпадаю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Verdana"/>
              </a:rPr>
              <a:t>Для нейтральних неполярних молекул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2" name="Group 14"/>
          <p:cNvGrpSpPr/>
          <p:nvPr/>
        </p:nvGrpSpPr>
        <p:grpSpPr>
          <a:xfrm>
            <a:off x="0" y="2923920"/>
            <a:ext cx="9144000" cy="1079640"/>
            <a:chOff x="0" y="2923920"/>
            <a:chExt cx="9144000" cy="1079640"/>
          </a:xfrm>
        </p:grpSpPr>
        <p:grpSp>
          <p:nvGrpSpPr>
            <p:cNvPr id="363" name="Group 4"/>
            <p:cNvGrpSpPr/>
            <p:nvPr/>
          </p:nvGrpSpPr>
          <p:grpSpPr>
            <a:xfrm>
              <a:off x="900000" y="2923920"/>
              <a:ext cx="2233800" cy="1079640"/>
              <a:chOff x="900000" y="2923920"/>
              <a:chExt cx="2233800" cy="1079640"/>
            </a:xfrm>
          </p:grpSpPr>
          <p:grpSp>
            <p:nvGrpSpPr>
              <p:cNvPr id="364" name="Group 5"/>
              <p:cNvGrpSpPr/>
              <p:nvPr/>
            </p:nvGrpSpPr>
            <p:grpSpPr>
              <a:xfrm>
                <a:off x="1148040" y="2923920"/>
                <a:ext cx="1737360" cy="720000"/>
                <a:chOff x="1148040" y="2923920"/>
                <a:chExt cx="1737360" cy="720000"/>
              </a:xfrm>
            </p:grpSpPr>
            <p:sp>
              <p:nvSpPr>
                <p:cNvPr id="365" name="Line 6"/>
                <p:cNvSpPr/>
                <p:nvPr/>
              </p:nvSpPr>
              <p:spPr>
                <a:xfrm flipV="1">
                  <a:off x="1148040" y="2923920"/>
                  <a:ext cx="0" cy="71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7"/>
                <p:cNvSpPr/>
                <p:nvPr/>
              </p:nvSpPr>
              <p:spPr>
                <a:xfrm>
                  <a:off x="1148040" y="3643920"/>
                  <a:ext cx="1737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8"/>
                <p:cNvSpPr/>
                <p:nvPr/>
              </p:nvSpPr>
              <p:spPr>
                <a:xfrm>
                  <a:off x="1148040" y="3283920"/>
                  <a:ext cx="1488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Text Box 9"/>
              <p:cNvSpPr/>
              <p:nvPr/>
            </p:nvSpPr>
            <p:spPr>
              <a:xfrm>
                <a:off x="2761560" y="3643920"/>
                <a:ext cx="372240" cy="3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10"/>
              <p:cNvSpPr/>
              <p:nvPr/>
            </p:nvSpPr>
            <p:spPr>
              <a:xfrm>
                <a:off x="900000" y="2924280"/>
                <a:ext cx="372240" cy="35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7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ε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3"/>
            <p:cNvGrpSpPr/>
            <p:nvPr/>
          </p:nvGrpSpPr>
          <p:grpSpPr>
            <a:xfrm>
              <a:off x="0" y="3022560"/>
              <a:ext cx="9144000" cy="579960"/>
              <a:chOff x="0" y="3022560"/>
              <a:chExt cx="9144000" cy="579960"/>
            </a:xfrm>
          </p:grpSpPr>
          <p:sp>
            <p:nvSpPr>
              <p:cNvPr id="371" name="Rectangle 12"/>
              <p:cNvSpPr/>
              <p:nvPr/>
            </p:nvSpPr>
            <p:spPr>
              <a:xfrm>
                <a:off x="0" y="36021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2" name="Object 11"/>
                  <p:cNvSpPr txBox="1"/>
                  <p:nvPr/>
                </p:nvSpPr>
                <p:spPr>
                  <a:xfrm>
                    <a:off x="3392640" y="3022560"/>
                    <a:ext cx="630000" cy="27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73" name="Rectangle 15"/>
          <p:cNvSpPr/>
          <p:nvPr/>
        </p:nvSpPr>
        <p:spPr>
          <a:xfrm>
            <a:off x="838440" y="3715560"/>
            <a:ext cx="27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Для полярних молекул: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6"/>
          <p:cNvSpPr/>
          <p:nvPr/>
        </p:nvSpPr>
        <p:spPr>
          <a:xfrm>
            <a:off x="-32400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49"/>
          <p:cNvGrpSpPr/>
          <p:nvPr/>
        </p:nvGrpSpPr>
        <p:grpSpPr>
          <a:xfrm>
            <a:off x="755640" y="4076280"/>
            <a:ext cx="3311640" cy="1107000"/>
            <a:chOff x="755640" y="4076280"/>
            <a:chExt cx="3311640" cy="1107000"/>
          </a:xfrm>
        </p:grpSpPr>
        <p:grpSp>
          <p:nvGrpSpPr>
            <p:cNvPr id="376" name="Group 27"/>
            <p:cNvGrpSpPr/>
            <p:nvPr/>
          </p:nvGrpSpPr>
          <p:grpSpPr>
            <a:xfrm>
              <a:off x="755640" y="4076280"/>
              <a:ext cx="3311640" cy="1028880"/>
              <a:chOff x="755640" y="4076280"/>
              <a:chExt cx="3311640" cy="1028880"/>
            </a:xfrm>
          </p:grpSpPr>
          <p:grpSp>
            <p:nvGrpSpPr>
              <p:cNvPr id="377" name="Group 16"/>
              <p:cNvGrpSpPr/>
              <p:nvPr/>
            </p:nvGrpSpPr>
            <p:grpSpPr>
              <a:xfrm>
                <a:off x="755640" y="4076280"/>
                <a:ext cx="2057400" cy="1028880"/>
                <a:chOff x="755640" y="4076280"/>
                <a:chExt cx="2057400" cy="1028880"/>
              </a:xfrm>
            </p:grpSpPr>
            <p:sp>
              <p:nvSpPr>
                <p:cNvPr id="378" name="Line 17"/>
                <p:cNvSpPr/>
                <p:nvPr/>
              </p:nvSpPr>
              <p:spPr>
                <a:xfrm flipV="1">
                  <a:off x="984240" y="407628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18"/>
                <p:cNvSpPr/>
                <p:nvPr/>
              </p:nvSpPr>
              <p:spPr>
                <a:xfrm>
                  <a:off x="984240" y="4762440"/>
                  <a:ext cx="1600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19"/>
                <p:cNvSpPr/>
                <p:nvPr/>
              </p:nvSpPr>
              <p:spPr>
                <a:xfrm>
                  <a:off x="984240" y="430524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Text Box 20"/>
                <p:cNvSpPr/>
                <p:nvPr/>
              </p:nvSpPr>
              <p:spPr>
                <a:xfrm>
                  <a:off x="2470320" y="4762440"/>
                  <a:ext cx="34272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21"/>
                <p:cNvSpPr/>
                <p:nvPr/>
              </p:nvSpPr>
              <p:spPr>
                <a:xfrm>
                  <a:off x="755640" y="4076640"/>
                  <a:ext cx="34272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</a:rPr>
                    <a:t>ε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2"/>
                <p:cNvSpPr/>
                <p:nvPr/>
              </p:nvSpPr>
              <p:spPr>
                <a:xfrm flipV="1">
                  <a:off x="2127240" y="430524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23"/>
                <p:cNvSpPr/>
                <p:nvPr/>
              </p:nvSpPr>
              <p:spPr>
                <a:xfrm>
                  <a:off x="2127240" y="4305240"/>
                  <a:ext cx="457200" cy="247320"/>
                </a:xfrm>
                <a:custGeom>
                  <a:avLst/>
                  <a:gdLst>
                    <a:gd name="textAreaLeft" fmla="*/ 0 w 457200"/>
                    <a:gd name="textAreaRight" fmla="*/ 457560 w 457200"/>
                    <a:gd name="textAreaTop" fmla="*/ 0 h 247320"/>
                    <a:gd name="textAreaBottom" fmla="*/ 247680 h 247320"/>
                  </a:gdLst>
                  <a:ahLst/>
                  <a:rect l="textAreaLeft" t="textAreaTop" r="textAreaRight" b="textAreaBottom"/>
                  <a:pathLst>
                    <a:path w="720" h="390">
                      <a:moveTo>
                        <a:pt x="0" y="0"/>
                      </a:moveTo>
                      <a:cubicBezTo>
                        <a:pt x="60" y="60"/>
                        <a:pt x="120" y="120"/>
                        <a:pt x="180" y="180"/>
                      </a:cubicBezTo>
                      <a:cubicBezTo>
                        <a:pt x="240" y="240"/>
                        <a:pt x="270" y="330"/>
                        <a:pt x="360" y="360"/>
                      </a:cubicBezTo>
                      <a:cubicBezTo>
                        <a:pt x="450" y="390"/>
                        <a:pt x="660" y="360"/>
                        <a:pt x="720" y="3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24"/>
                <p:cNvSpPr/>
                <p:nvPr/>
              </p:nvSpPr>
              <p:spPr>
                <a:xfrm>
                  <a:off x="2013120" y="4762440"/>
                  <a:ext cx="34272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r>
                    <a:rPr b="0" lang="uk-UA" sz="1200" spc="-1" strike="noStrike">
                      <a:solidFill>
                        <a:srgbClr val="000000"/>
                      </a:solidFill>
                      <a:latin typeface="Arial"/>
                    </a:rPr>
                    <a:t>к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86" name="Object 25"/>
                  <p:cNvSpPr txBox="1"/>
                  <p:nvPr/>
                </p:nvSpPr>
                <p:spPr>
                  <a:xfrm>
                    <a:off x="2843280" y="4149720"/>
                    <a:ext cx="1224000" cy="684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num>
                          <m:den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η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87" name="Text Box 29"/>
            <p:cNvSpPr/>
            <p:nvPr/>
          </p:nvSpPr>
          <p:spPr>
            <a:xfrm>
              <a:off x="1258920" y="4797360"/>
              <a:ext cx="10094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критична часто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AutoShape 32"/>
          <p:cNvSpPr/>
          <p:nvPr/>
        </p:nvSpPr>
        <p:spPr>
          <a:xfrm>
            <a:off x="4284720" y="3284640"/>
            <a:ext cx="3960720" cy="504720"/>
          </a:xfrm>
          <a:prstGeom prst="wedgeRectCallout">
            <a:avLst>
              <a:gd name="adj1" fmla="val -66273"/>
              <a:gd name="adj2" fmla="val -48425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для полярної рідини: 3,55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0"/>
          <p:cNvSpPr/>
          <p:nvPr/>
        </p:nvSpPr>
        <p:spPr>
          <a:xfrm>
            <a:off x="1979640" y="37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45"/>
          <p:cNvGrpSpPr/>
          <p:nvPr/>
        </p:nvGrpSpPr>
        <p:grpSpPr>
          <a:xfrm>
            <a:off x="4140360" y="4508640"/>
            <a:ext cx="4535280" cy="1465200"/>
            <a:chOff x="4140360" y="4508640"/>
            <a:chExt cx="4535280" cy="1465200"/>
          </a:xfrm>
        </p:grpSpPr>
        <p:sp>
          <p:nvSpPr>
            <p:cNvPr id="395" name="AutoShape 31"/>
            <p:cNvSpPr/>
            <p:nvPr/>
          </p:nvSpPr>
          <p:spPr>
            <a:xfrm>
              <a:off x="4140360" y="4528800"/>
              <a:ext cx="4535280" cy="1445040"/>
            </a:xfrm>
            <a:prstGeom prst="wedgeRoundRectCallout">
              <a:avLst>
                <a:gd name="adj1" fmla="val -55634"/>
                <a:gd name="adj2" fmla="val -62171"/>
                <a:gd name="adj3" fmla="val 16667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К – стала Больцмана, К=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Т – температура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 радіус молекул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 динамічна в’язкість речовини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37"/>
                <p:cNvSpPr txBox="1"/>
                <p:nvPr/>
              </p:nvSpPr>
              <p:spPr>
                <a:xfrm>
                  <a:off x="7164360" y="4508640"/>
                  <a:ext cx="136836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38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sup>
                      </m:sSup>
                      <m:limUpp>
                        <m:e/>
                        <m:lim/>
                      </m:limUpp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Дж</m:t>
                          </m:r>
                        </m:num>
                        <m:den>
                          <m:r>
                            <m:t xml:space="preserve">К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7" name="Object 43"/>
              <p:cNvSpPr txBox="1"/>
              <p:nvPr/>
            </p:nvSpPr>
            <p:spPr>
              <a:xfrm>
                <a:off x="4284720" y="5502240"/>
                <a:ext cx="2286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Rectangle 53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52"/>
              <p:cNvSpPr txBox="1"/>
              <p:nvPr/>
            </p:nvSpPr>
            <p:spPr>
              <a:xfrm>
                <a:off x="2843280" y="5084640"/>
                <a:ext cx="10080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AutoShape 54"/>
          <p:cNvSpPr/>
          <p:nvPr/>
        </p:nvSpPr>
        <p:spPr>
          <a:xfrm rot="5400000">
            <a:off x="3168360" y="4545000"/>
            <a:ext cx="358920" cy="863640"/>
          </a:xfrm>
          <a:custGeom>
            <a:avLst/>
            <a:gdLst>
              <a:gd name="textAreaLeft" fmla="*/ 55800 w 358920"/>
              <a:gd name="textAreaRight" fmla="*/ 294840 w 358920"/>
              <a:gd name="textAreaTop" fmla="*/ 261720 h 863640"/>
              <a:gd name="textAreaBottom" fmla="*/ 601920 h 863640"/>
            </a:gdLst>
            <a:ahLst/>
            <a:rect l="textAreaLeft" t="textAreaTop" r="textAreaRight" b="textAreaBottom"/>
            <a:pathLst>
              <a:path w="21600" h="21600">
                <a:moveTo>
                  <a:pt x="11755" y="0"/>
                </a:moveTo>
                <a:lnTo>
                  <a:pt x="11755" y="6551"/>
                </a:lnTo>
                <a:lnTo>
                  <a:pt x="3375" y="6551"/>
                </a:lnTo>
                <a:lnTo>
                  <a:pt x="3375" y="15049"/>
                </a:lnTo>
                <a:lnTo>
                  <a:pt x="11755" y="15049"/>
                </a:lnTo>
                <a:lnTo>
                  <a:pt x="11755" y="21600"/>
                </a:lnTo>
                <a:lnTo>
                  <a:pt x="21600" y="10800"/>
                </a:lnTo>
                <a:lnTo>
                  <a:pt x="11755" y="0"/>
                </a:lnTo>
                <a:close/>
              </a:path>
              <a:path w="21600" h="21600">
                <a:moveTo>
                  <a:pt x="1350" y="6551"/>
                </a:moveTo>
                <a:lnTo>
                  <a:pt x="1350" y="15049"/>
                </a:lnTo>
                <a:lnTo>
                  <a:pt x="2700" y="15049"/>
                </a:lnTo>
                <a:lnTo>
                  <a:pt x="2700" y="6551"/>
                </a:lnTo>
                <a:lnTo>
                  <a:pt x="1350" y="6551"/>
                </a:lnTo>
                <a:close/>
              </a:path>
              <a:path w="21600" h="21600">
                <a:moveTo>
                  <a:pt x="0" y="6551"/>
                </a:moveTo>
                <a:lnTo>
                  <a:pt x="0" y="15049"/>
                </a:lnTo>
                <a:lnTo>
                  <a:pt x="675" y="15049"/>
                </a:lnTo>
                <a:lnTo>
                  <a:pt x="675" y="6551"/>
                </a:lnTo>
                <a:lnTo>
                  <a:pt x="0" y="6551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183520" cy="4195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27bf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Діелектрична проникливість твердих діелектриків може мати різні чисельні значення відповідно до різних структурних особливостей твердого діелектри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27bf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У твердих тілах можливими є усі види поляризац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27bf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Для твердих неполярних діелектриків характерні ті ж закономірності, що і для неполярних рідин і газ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27bf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вердих діел., що являють собою іонні кристали з щільною упаковкою частинок, мають електронну і іонну поляризацію, значення діелектричної проникливості їх лежить у широких меж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-153720" y="495360"/>
            <a:ext cx="8496000" cy="9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Arial Black"/>
              </a:rPr>
              <a:t>7. </a:t>
            </a:r>
            <a:r>
              <a:rPr b="1" lang="uk-UA" sz="2800" spc="-1" strike="noStrike">
                <a:solidFill>
                  <a:srgbClr val="7030a0"/>
                </a:solidFill>
                <a:latin typeface="Goudy Stout"/>
              </a:rPr>
              <a:t>Діелектрична проникливість твердих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Goudy Stout"/>
              </a:rPr>
              <a:t>діелектриків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24000" y="333360"/>
            <a:ext cx="4319280" cy="2519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a_AlgeriusBlw"/>
              </a:rPr>
              <a:t>	</a:t>
            </a:r>
            <a:r>
              <a:rPr b="0" lang="uk-UA" sz="2000" spc="-1" strike="noStrike">
                <a:solidFill>
                  <a:srgbClr val="7030a0"/>
                </a:solidFill>
                <a:latin typeface="Arial Black"/>
              </a:rPr>
              <a:t>Значення Е неполярних твердих діелектриків при </a:t>
            </a:r>
            <a:r>
              <a:rPr b="0" lang="en-US" sz="2000" spc="-1" strike="noStrike">
                <a:solidFill>
                  <a:srgbClr val="7030a0"/>
                </a:solidFill>
                <a:latin typeface="Arial Black"/>
              </a:rPr>
              <a:t>t</a:t>
            </a:r>
            <a:r>
              <a:rPr b="0" lang="uk-UA" sz="2000" spc="-1" strike="noStrike">
                <a:solidFill>
                  <a:srgbClr val="7030a0"/>
                </a:solidFill>
                <a:latin typeface="Arial Black"/>
              </a:rPr>
              <a:t>º=20ºС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716000" y="475920"/>
            <a:ext cx="3800520" cy="280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Arial Black"/>
              </a:rPr>
              <a:t>Значення Е дл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Arial Black"/>
              </a:rPr>
              <a:t>неорганічного ск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7"/>
              <p:cNvSpPr txBox="1"/>
              <p:nvPr/>
            </p:nvSpPr>
            <p:spPr>
              <a:xfrm>
                <a:off x="611280" y="1557360"/>
                <a:ext cx="24494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Парафін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t xml:space="preserve">1,9</m:t>
                            </m:r>
                            <m:r>
                              <m:t xml:space="preserve">÷</m:t>
                            </m:r>
                            <m:r>
                              <m:t xml:space="preserve">2,2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Полістирол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t xml:space="preserve">2,4</m:t>
                            </m:r>
                            <m:r>
                              <m:t xml:space="preserve">÷</m:t>
                            </m:r>
                            <m:r>
                              <m:t xml:space="preserve">2,6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іра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t xml:space="preserve">2,6</m:t>
                            </m:r>
                            <m:r>
                              <m:t xml:space="preserve">÷</m:t>
                            </m:r>
                            <m:r>
                              <m:t xml:space="preserve">4,0</m:t>
                            </m:r>
                          </m:e>
                          <m:e/>
                        </m:d>
                      </m:e>
                    </m:eqArr>
                    <m:sSub>
                      <m:e/>
                      <m:sub/>
                    </m:sSub>
                    <m:r>
                      <m:rPr>
                        <m:lit/>
                        <m:nor/>
                      </m:rPr>
                      <m:t xml:space="preserve">електронна</m:t>
                    </m:r>
                    <m:limUpp>
                      <m:e/>
                      <m:lim/>
                    </m:limUpp>
                    <m:r>
                      <m:rPr>
                        <m:lit/>
                        <m:nor/>
                      </m:rPr>
                      <m:t xml:space="preserve">поляризаці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Text Box 9"/>
          <p:cNvSpPr/>
          <p:nvPr/>
        </p:nvSpPr>
        <p:spPr>
          <a:xfrm>
            <a:off x="2991240" y="1989000"/>
            <a:ext cx="134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Електрон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ляризаці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10"/>
              <p:cNvSpPr txBox="1"/>
              <p:nvPr/>
            </p:nvSpPr>
            <p:spPr>
              <a:xfrm>
                <a:off x="4788000" y="1413000"/>
                <a:ext cx="259236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Плавлений</m:t>
                            </m:r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кварц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t xml:space="preserve">4,5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Лужне</m:t>
                            </m:r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скло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t xml:space="preserve">6,5</m:t>
                            </m:r>
                          </m:e>
                          <m:e/>
                        </m:d>
                      </m:e>
                    </m:eqArr>
                    <m:sSub>
                      <m:e/>
                      <m:sub/>
                    </m:sSub>
                    <m:r>
                      <m:rPr>
                        <m:lit/>
                        <m:nor/>
                      </m:rPr>
                      <m:t xml:space="preserve">електронно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іонна</m:t>
                    </m:r>
                    <m:limUpp>
                      <m:e/>
                      <m:lim/>
                    </m:limUpp>
                    <m:r>
                      <m:rPr>
                        <m:lit/>
                        <m:nor/>
                      </m:rPr>
                      <m:t xml:space="preserve">релаксаці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Rectangle 14"/>
          <p:cNvSpPr/>
          <p:nvPr/>
        </p:nvSpPr>
        <p:spPr>
          <a:xfrm>
            <a:off x="539640" y="25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0"/>
          <p:cNvSpPr/>
          <p:nvPr/>
        </p:nvSpPr>
        <p:spPr>
          <a:xfrm>
            <a:off x="-54144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1"/>
          <p:cNvSpPr/>
          <p:nvPr/>
        </p:nvSpPr>
        <p:spPr>
          <a:xfrm>
            <a:off x="7310520" y="1700280"/>
            <a:ext cx="13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Електронн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онна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ляризаці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4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23"/>
              <p:cNvSpPr txBox="1"/>
              <p:nvPr/>
            </p:nvSpPr>
            <p:spPr>
              <a:xfrm>
                <a:off x="684360" y="3700440"/>
                <a:ext cx="69120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Кам</m:t>
                            </m:r>
                            <m:r>
                              <m:t xml:space="preserve">'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яна</m:t>
                            </m:r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сіль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Корцид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Рутил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Титанат</m:t>
                            </m:r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кальція</m:t>
                            </m:r>
                            <m:limUpp>
                              <m:e/>
                              <m:lim/>
                            </m:limUpp>
                          </m:e>
                          <m:e/>
                        </m:d>
                      </m:e>
                    </m:eqArr>
                    <m:sSub>
                      <m:e/>
                      <m:sub/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щільна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упаковка</m:t>
                        </m:r>
                        <m:sSup>
                          <m:e/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іонів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електронна</m:t>
                        </m:r>
                      </m:num>
                      <m:den>
                        <m:r>
                          <m:t xml:space="preserve">і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іонна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поляризація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7" name="Text Box 25"/>
          <p:cNvSpPr/>
          <p:nvPr/>
        </p:nvSpPr>
        <p:spPr>
          <a:xfrm>
            <a:off x="684360" y="292428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Arial Black"/>
              </a:rPr>
              <a:t>Значення Е іонних кристалів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4"/>
          <p:cNvSpPr/>
          <p:nvPr/>
        </p:nvSpPr>
        <p:spPr>
          <a:xfrm>
            <a:off x="611280" y="43956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Arial Black"/>
              </a:rPr>
              <a:t>Значення Е для органічних твердих діелектриків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5"/>
              <p:cNvSpPr txBox="1"/>
              <p:nvPr/>
            </p:nvSpPr>
            <p:spPr>
              <a:xfrm>
                <a:off x="684360" y="2708280"/>
                <a:ext cx="446544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егнетова</m:t>
                            </m:r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сіль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aKCuH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  <m:r>
                              <m:t xml:space="preserve">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Титанат</m:t>
                            </m:r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барія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aTiO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0</m:t>
                            </m:r>
                            <m:r>
                              <m:t xml:space="preserve">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Титанат</m:t>
                            </m:r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барія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з</m:t>
                            </m:r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добавками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00</m:t>
                            </m:r>
                            <m:r>
                              <m:t xml:space="preserve">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0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6"/>
              <p:cNvSpPr txBox="1"/>
              <p:nvPr/>
            </p:nvSpPr>
            <p:spPr>
              <a:xfrm>
                <a:off x="5292720" y="2924280"/>
                <a:ext cx="18730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спонтанна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електронна-іонна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іонно-релаксаційн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оляризаці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7"/>
              <p:cNvSpPr txBox="1"/>
              <p:nvPr/>
            </p:nvSpPr>
            <p:spPr>
              <a:xfrm>
                <a:off x="755640" y="836640"/>
                <a:ext cx="619272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Целлюлоза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t xml:space="preserve">6,5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Фенолоформальдегідна</m:t>
                            </m:r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смоло</m:t>
                            </m:r>
                            <m:r>
                              <m:t xml:space="preserve">:</m:t>
                            </m:r>
                            <m:r>
                              <m:t xml:space="preserve">Е</m:t>
                            </m:r>
                            <m:r>
                              <m:t xml:space="preserve">=</m:t>
                            </m:r>
                            <m:r>
                              <m:t xml:space="preserve">4,5</m:t>
                            </m:r>
                          </m:e>
                          <m:e/>
                        </m:d>
                      </m:e>
                    </m:eqArr>
                    <m:sSub>
                      <m:e/>
                      <m:sub/>
                    </m:sSub>
                    <m:r>
                      <m:rPr>
                        <m:lit/>
                        <m:nor/>
                      </m:rPr>
                      <m:t xml:space="preserve">електронно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іонна</m:t>
                    </m:r>
                    <m:limUpp>
                      <m:e/>
                      <m:lim/>
                    </m:limUpp>
                    <m:r>
                      <m:rPr>
                        <m:lit/>
                        <m:nor/>
                      </m:rPr>
                      <m:t xml:space="preserve">релаксаці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Rectangle 8"/>
          <p:cNvSpPr/>
          <p:nvPr/>
        </p:nvSpPr>
        <p:spPr>
          <a:xfrm>
            <a:off x="468360" y="44064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8080"/>
                </a:solidFill>
                <a:latin typeface="Arial"/>
              </a:rPr>
              <a:t>Діелектрична проникливість твердих складних діелектриків явля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8080"/>
                </a:solidFill>
                <a:latin typeface="Arial"/>
              </a:rPr>
              <a:t>собою суміш компонентів з різними діелектричними проникливостями.</a:t>
            </a:r>
            <a:r>
              <a:rPr b="0" i="1" lang="ru-RU" sz="1600" spc="-1" strike="noStrike">
                <a:solidFill>
                  <a:srgbClr val="00808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468360" y="19155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8080"/>
                </a:solidFill>
                <a:latin typeface="Arial"/>
              </a:rPr>
              <a:t>Діелектрична проникливість сегнетоелектриків велика має різко виражену залежність від напруженості поля і температур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539640" y="2333520"/>
            <a:ext cx="4562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Arial Black"/>
              </a:rPr>
              <a:t>Сегнетоелектрики:</a:t>
            </a:r>
            <a:r>
              <a:rPr b="1" lang="uk-UA" sz="3200" spc="-1" strike="noStrike">
                <a:solidFill>
                  <a:srgbClr val="000000"/>
                </a:solidFill>
                <a:latin typeface="a_AlgeriusBlw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Object 13"/>
          <p:cNvGraphicFramePr/>
          <p:nvPr/>
        </p:nvGraphicFramePr>
        <p:xfrm>
          <a:off x="611280" y="5013360"/>
          <a:ext cx="266364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013360"/>
                    <a:ext cx="26636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Rectangle 34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33"/>
              <p:cNvSpPr txBox="1"/>
              <p:nvPr/>
            </p:nvSpPr>
            <p:spPr>
              <a:xfrm>
                <a:off x="3348000" y="5157720"/>
                <a:ext cx="1224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2" name="Rectangle 35"/>
          <p:cNvSpPr/>
          <p:nvPr/>
        </p:nvSpPr>
        <p:spPr>
          <a:xfrm>
            <a:off x="4418280" y="5156640"/>
            <a:ext cx="319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об’ємні концентрації компонентів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7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36"/>
              <p:cNvSpPr txBox="1"/>
              <p:nvPr/>
            </p:nvSpPr>
            <p:spPr>
              <a:xfrm>
                <a:off x="3276720" y="5516640"/>
                <a:ext cx="1439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1</m:t>
                    </m:r>
                    <m:limLow>
                      <m:e>
                        <m:r>
                          <m:t xml:space="preserve">,</m:t>
                        </m:r>
                      </m:e>
                      <m:lim/>
                    </m:limLow>
                    <m:limLow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lim/>
                    </m:limLow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Rectangle 38"/>
          <p:cNvSpPr/>
          <p:nvPr/>
        </p:nvSpPr>
        <p:spPr>
          <a:xfrm>
            <a:off x="4377600" y="5499720"/>
            <a:ext cx="460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константа, що характеризує розподіл компонентів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н лекції :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142848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Verdana"/>
              </a:rPr>
              <a:t>1.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Діелектрик в електричному пол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Verdana"/>
              </a:rPr>
              <a:t>2.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Електрична провідність і опі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Verdana"/>
              </a:rPr>
              <a:t>3.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ляризація діелектриків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Verdana"/>
              </a:rPr>
              <a:t>4.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Класифікація діелектриків за видом поляризації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Verdana"/>
              </a:rPr>
              <a:t>5.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Діелектрична проникність газ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Verdana"/>
              </a:rPr>
              <a:t>6.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Діелектрична проникність рідких діелектрик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Verdana"/>
              </a:rPr>
              <a:t>7.</a:t>
            </a:r>
            <a:r>
              <a:rPr b="1" lang="uk-UA" sz="18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Діелектрична проникливість твердих діелектриків.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68360" y="1125000"/>
            <a:ext cx="8329680" cy="4753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60066"/>
                </a:solidFill>
                <a:latin typeface="Verdana"/>
              </a:rPr>
              <a:t>Поляризація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основний для діелектрика процес, що виникає при дії на нього електричної напруги, пов’язаний із обмеженим зміщенням зв’язаних зарядів чи орієнтацією дипольних молекул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ро явища, обумовлені поляризацією діелектрика, можна судити за значенням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ід дією електричної напруги можуть обумовити виникнення малого </a:t>
            </a: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Verdana"/>
              </a:rPr>
              <a:t>наскрізного струму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, що проходить через товщу діелектрика і на його поверхні, що говорить про явище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Verdana"/>
              </a:rPr>
              <a:t>електропровідності діелектрика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, яка чисельно характеризується значеннями питомої об’ємної електропровідності і питомої поверхневої електропровідності, що є оберненими відповідним значенням питомих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Verdana"/>
              </a:rPr>
              <a:t>об’ємного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Verdana"/>
              </a:rPr>
              <a:t>поверхневого електричних опорів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5"/>
          <p:cNvSpPr/>
          <p:nvPr/>
        </p:nvSpPr>
        <p:spPr>
          <a:xfrm flipH="1">
            <a:off x="2700000" y="2708280"/>
            <a:ext cx="43164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3132000" y="2708280"/>
            <a:ext cx="2303640" cy="289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971640" y="2997360"/>
            <a:ext cx="2952720" cy="431640"/>
          </a:xfrm>
          <a:prstGeom prst="rect">
            <a:avLst/>
          </a:prstGeom>
          <a:solidFill>
            <a:srgbClr val="00ffff">
              <a:alpha val="45000"/>
            </a:srgbClr>
          </a:solidFill>
          <a:ln cap="rnd" w="936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діелектричної проникності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4427640" y="2997360"/>
            <a:ext cx="2808360" cy="431640"/>
          </a:xfrm>
          <a:prstGeom prst="rect">
            <a:avLst/>
          </a:prstGeom>
          <a:solidFill>
            <a:srgbClr val="00ffff">
              <a:alpha val="45000"/>
            </a:srgbClr>
          </a:solidFill>
          <a:ln cap="rnd" w="936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кута діелектричних втра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Заголовок 1"/>
          <p:cNvSpPr/>
          <p:nvPr/>
        </p:nvSpPr>
        <p:spPr>
          <a:xfrm>
            <a:off x="468360" y="1052640"/>
            <a:ext cx="8183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Arial Black"/>
              </a:rPr>
              <a:t>1.</a:t>
            </a:r>
            <a:r>
              <a:rPr b="1" lang="uk-UA" sz="3200" spc="-1" strike="noStrike">
                <a:solidFill>
                  <a:srgbClr val="7030a0"/>
                </a:solidFill>
                <a:latin typeface="a_AlgeriusBlw"/>
              </a:rPr>
              <a:t>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Діелектрик в електричному полі.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spcBef>
                <a:spcPts val="249"/>
              </a:spcBef>
              <a:buClr>
                <a:srgbClr val="3476b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Будь-який діелектрик можна використовувати тільки при напрузі ≤ граничного значення в певних умов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3476b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ри перевищенні цього значення напруги проходить 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робій діелектрика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повна втрата ним електроізоляційних властивосте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Цю граничну напругу називають </a:t>
            </a:r>
            <a:r>
              <a:rPr b="0" lang="uk-UA" sz="1800" spc="-1" strike="noStrike">
                <a:solidFill>
                  <a:srgbClr val="660066"/>
                </a:solidFill>
                <a:latin typeface="Verdana"/>
              </a:rPr>
              <a:t>„</a:t>
            </a:r>
            <a:r>
              <a:rPr b="0" lang="uk-UA" sz="1800" spc="-1" strike="noStrike">
                <a:solidFill>
                  <a:srgbClr val="7030a0"/>
                </a:solidFill>
                <a:latin typeface="Verdana"/>
              </a:rPr>
              <a:t>пробивною напругою</a:t>
            </a:r>
            <a:r>
              <a:rPr b="0" lang="uk-UA" sz="1800" spc="-1" strike="noStrike">
                <a:solidFill>
                  <a:srgbClr val="660066"/>
                </a:solidFill>
                <a:latin typeface="Verdana"/>
              </a:rPr>
              <a:t>”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, а відповідно значення напруженості  однорідного електричного поля – </a:t>
            </a:r>
            <a:r>
              <a:rPr b="0" lang="uk-UA" sz="1800" spc="-1" strike="noStrike">
                <a:solidFill>
                  <a:srgbClr val="7030a0"/>
                </a:solidFill>
                <a:latin typeface="Verdana"/>
              </a:rPr>
              <a:t>електричною міцністю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діелектрика.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3476b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Більшість діелектриків характеризуються лінійною залежністю електричного заміщення від напруженості електричного поля створеного в діелектрик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3476b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Якщо із змінною напруженості поля зміщення змінюється нелінійно, виявляючи насичення при деякому значенні напруженості поля, то такі діелектрики називаються 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лінійними,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наприклад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сегнетоелектрики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1835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7030a0"/>
                </a:solidFill>
                <a:latin typeface="Arial Black"/>
              </a:rPr>
              <a:t>2. </a:t>
            </a:r>
            <a:r>
              <a:rPr b="0" lang="uk-UA" sz="2400" spc="-1" strike="noStrike">
                <a:solidFill>
                  <a:srgbClr val="7030a0"/>
                </a:solidFill>
                <a:latin typeface="Arial Black"/>
              </a:rPr>
              <a:t>Електрична провідність і опір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763640" y="1052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8"/>
          <p:cNvSpPr/>
          <p:nvPr/>
        </p:nvSpPr>
        <p:spPr>
          <a:xfrm>
            <a:off x="611280" y="1046160"/>
            <a:ext cx="47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нергетичні рівні зонної теорії твердих ті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9"/>
          <p:cNvSpPr/>
          <p:nvPr/>
        </p:nvSpPr>
        <p:spPr>
          <a:xfrm>
            <a:off x="468360" y="4149720"/>
            <a:ext cx="82072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9f2936"/>
                </a:solidFill>
                <a:latin typeface="Arial"/>
              </a:rPr>
              <a:t>Перехід на більш високі енергетичні рівні можуть здійснюватись за рахунок впливу факторів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476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ипромінювання світла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476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тік електронів і ядерних частинок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476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еханічні впливи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476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електричні магнітні пол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476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ідвищення температури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7" descr="1"/>
          <p:cNvPicPr/>
          <p:nvPr/>
        </p:nvPicPr>
        <p:blipFill>
          <a:blip r:embed="rId1">
            <a:lum bright="-8000"/>
          </a:blip>
          <a:stretch/>
        </p:blipFill>
        <p:spPr>
          <a:xfrm>
            <a:off x="611280" y="1413000"/>
            <a:ext cx="5688000" cy="26636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1"/>
          <p:cNvSpPr/>
          <p:nvPr/>
        </p:nvSpPr>
        <p:spPr>
          <a:xfrm>
            <a:off x="6516720" y="1268280"/>
            <a:ext cx="208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нормальному не збудженому стані електрони у сукупності атомів, що утворюють дане тіло, можуть мати тільки визначене значення енергії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"/>
          <p:cNvSpPr/>
          <p:nvPr/>
        </p:nvSpPr>
        <p:spPr>
          <a:xfrm>
            <a:off x="900000" y="2997360"/>
            <a:ext cx="75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метром, що визначає здатність електричного матеріалу проводити електричних струм є </a:t>
            </a:r>
            <a:r>
              <a:rPr b="0" lang="uk-UA" sz="1800" spc="-1" strike="noStrike" u="sng">
                <a:solidFill>
                  <a:srgbClr val="6b9f25"/>
                </a:solidFill>
                <a:uFillTx/>
                <a:latin typeface="Arial"/>
                <a:ea typeface="Times New Roman"/>
              </a:rPr>
              <a:t>питома електропровідність</a:t>
            </a:r>
            <a:r>
              <a:rPr b="0" lang="uk-UA" sz="1800" spc="-1" strike="noStrike">
                <a:solidFill>
                  <a:srgbClr val="6b9f25"/>
                </a:solidFill>
                <a:latin typeface="Arial"/>
                <a:ea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рактиці широко використовується </a:t>
            </a:r>
            <a:r>
              <a:rPr b="0" lang="uk-UA" sz="1800" spc="-1" strike="noStrike" u="sng">
                <a:solidFill>
                  <a:srgbClr val="6b9f25"/>
                </a:solidFill>
                <a:uFillTx/>
                <a:latin typeface="Arial"/>
                <a:ea typeface="Times New Roman"/>
              </a:rPr>
              <a:t>питомий електричний опір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величина, обернена питомій електропровідності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итомий електричний опір (ρ)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7"/>
              <p:cNvSpPr txBox="1"/>
              <p:nvPr/>
            </p:nvSpPr>
            <p:spPr>
              <a:xfrm>
                <a:off x="3995640" y="5157720"/>
                <a:ext cx="728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539640" y="54936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що значення енергії заповненої зони і зони провідності перекриваються, то при незначному збудженні електрони можуть вільно переходити від заповненої зони в зону провідності – матеріал має велику електричну провідність. Цей матеріал – провідник (схематичне зображення на рис. 1-а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інших випадках між рівнями енергії заповненої зони і зони провідності є проміжна зона „недозволених” рівнів (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заборонена зон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). Це зона таких значень енергії, які не можуть мати електрони даного тіл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4"/>
          <p:cNvSpPr/>
          <p:nvPr/>
        </p:nvSpPr>
        <p:spPr>
          <a:xfrm>
            <a:off x="5867280" y="5300640"/>
            <a:ext cx="259236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25046"/>
              <a:gd name="adj5" fmla="val 55208"/>
              <a:gd name="adj6" fmla="val -47949"/>
            </a:avLst>
          </a:prstGeom>
          <a:solidFill>
            <a:srgbClr val="33cccc">
              <a:alpha val="47000"/>
            </a:srgbClr>
          </a:solidFill>
          <a:ln cap="rnd" w="2556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вжина матеріал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5"/>
          <p:cNvSpPr/>
          <p:nvPr/>
        </p:nvSpPr>
        <p:spPr>
          <a:xfrm>
            <a:off x="755640" y="4581360"/>
            <a:ext cx="25210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3550"/>
              <a:gd name="adj5" fmla="val 85157"/>
              <a:gd name="adj6" fmla="val 144837"/>
            </a:avLst>
          </a:prstGeom>
          <a:solidFill>
            <a:srgbClr val="00ccff">
              <a:alpha val="49000"/>
            </a:srgbClr>
          </a:solidFill>
          <a:ln cap="rnd" w="2556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ичний опір тіл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7"/>
          <p:cNvSpPr/>
          <p:nvPr/>
        </p:nvSpPr>
        <p:spPr>
          <a:xfrm>
            <a:off x="5867280" y="4475160"/>
            <a:ext cx="259236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25106"/>
              <a:gd name="adj5" fmla="val 109375"/>
              <a:gd name="adj6" fmla="val -47824"/>
            </a:avLst>
          </a:prstGeom>
          <a:solidFill>
            <a:srgbClr val="33cccc">
              <a:alpha val="47000"/>
            </a:srgbClr>
          </a:solidFill>
          <a:ln cap="rnd" w="2556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лоща поперечного перерізу матеріал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Для розрахунку питомого об’ємного опору (Ом∙м) користуються формул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3276720" y="1743120"/>
                <a:ext cx="1873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f>
                      <m:num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AutoShape 6"/>
          <p:cNvSpPr/>
          <p:nvPr/>
        </p:nvSpPr>
        <p:spPr>
          <a:xfrm>
            <a:off x="4140360" y="2030400"/>
            <a:ext cx="215640" cy="21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530600" y="3094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9"/>
          <p:cNvSpPr/>
          <p:nvPr/>
        </p:nvSpPr>
        <p:spPr>
          <a:xfrm>
            <a:off x="844560" y="1484280"/>
            <a:ext cx="22147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7990"/>
              <a:gd name="adj5" fmla="val 48699"/>
              <a:gd name="adj6" fmla="val 133120"/>
            </a:avLst>
          </a:prstGeom>
          <a:solidFill>
            <a:srgbClr val="00ccff">
              <a:alpha val="55000"/>
            </a:srgbClr>
          </a:solidFill>
          <a:ln cap="rnd" w="25560">
            <a:solidFill>
              <a:srgbClr val="800080"/>
            </a:solidFill>
            <a:custDash>
              <a:ds d="100000" sp="1000"/>
            </a:custDash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б’ємний опір (Ом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0"/>
          <p:cNvSpPr/>
          <p:nvPr/>
        </p:nvSpPr>
        <p:spPr>
          <a:xfrm>
            <a:off x="1116000" y="2967120"/>
            <a:ext cx="2016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0078"/>
              <a:gd name="adj5" fmla="val -70833"/>
              <a:gd name="adj6" fmla="val 136379"/>
            </a:avLst>
          </a:prstGeom>
          <a:solidFill>
            <a:srgbClr val="00ccff">
              <a:alpha val="55000"/>
            </a:srgbClr>
          </a:solidFill>
          <a:ln cap="rnd" w="25560">
            <a:solidFill>
              <a:srgbClr val="800080"/>
            </a:solidFill>
            <a:custDash>
              <a:ds d="100000" sp="1000"/>
            </a:custDash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овщина діелектрика (м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5796000" y="1484280"/>
            <a:ext cx="2521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8449"/>
              <a:gd name="adj5" fmla="val 55990"/>
              <a:gd name="adj6" fmla="val -34509"/>
            </a:avLst>
          </a:prstGeom>
          <a:solidFill>
            <a:srgbClr val="00ccff">
              <a:alpha val="55000"/>
            </a:srgbClr>
          </a:solidFill>
          <a:ln cap="rnd" w="25560">
            <a:solidFill>
              <a:srgbClr val="800080"/>
            </a:solidFill>
            <a:custDash>
              <a:ds d="100000" sp="1000"/>
            </a:custDash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іаметр електроду вимірювання (м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2"/>
              <p:cNvSpPr txBox="1"/>
              <p:nvPr/>
            </p:nvSpPr>
            <p:spPr>
              <a:xfrm>
                <a:off x="755640" y="4292640"/>
                <a:ext cx="21607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limUpp>
                          <m:e/>
                          <m:lim/>
                        </m:limUp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Ом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м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м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limUpp>
                          <m:e/>
                          <m:lim/>
                        </m:limUp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Ом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м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limUpp>
                          <m:e/>
                          <m:lim/>
                        </m:limUpp>
                        <m:r>
                          <m:rPr>
                            <m:lit/>
                            <m:nor/>
                          </m:rPr>
                          <m:t xml:space="preserve">мкОм</m:t>
                        </m:r>
                        <m:r>
                          <m:t xml:space="preserve">⋅</m:t>
                        </m:r>
                        <m:r>
                          <m:t xml:space="preserve">м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Rectangle 14"/>
          <p:cNvSpPr/>
          <p:nvPr/>
        </p:nvSpPr>
        <p:spPr>
          <a:xfrm>
            <a:off x="826920" y="38599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3476b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диницею питомої електропровідності є 1 См/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835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30a0"/>
                </a:solidFill>
                <a:latin typeface="Arial Black"/>
              </a:rPr>
              <a:t>3. </a:t>
            </a:r>
            <a:r>
              <a:rPr b="1" lang="uk-UA" sz="3200" spc="-1" strike="noStrike">
                <a:solidFill>
                  <a:srgbClr val="7030a0"/>
                </a:solidFill>
                <a:latin typeface="Goudy Stout"/>
              </a:rPr>
              <a:t>Поляризація діелектриків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Rectangle 19"/>
          <p:cNvSpPr/>
          <p:nvPr/>
        </p:nvSpPr>
        <p:spPr>
          <a:xfrm>
            <a:off x="4481640" y="43308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4481640" y="8924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4481640" y="618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6"/>
          <p:cNvSpPr/>
          <p:nvPr/>
        </p:nvSpPr>
        <p:spPr>
          <a:xfrm>
            <a:off x="571680" y="22860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3203640" y="1484280"/>
            <a:ext cx="5348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удь-який діелектрик з нанесеними на нього електродами, включений в електромережу, може розглядатися як конденсатор певної ємності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ряд будь-якого конденсатора визначають: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3" descr="3"/>
          <p:cNvPicPr/>
          <p:nvPr/>
        </p:nvPicPr>
        <p:blipFill>
          <a:blip r:embed="rId1"/>
          <a:stretch/>
        </p:blipFill>
        <p:spPr>
          <a:xfrm>
            <a:off x="539640" y="1341360"/>
            <a:ext cx="2524320" cy="245736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34"/>
          <p:cNvSpPr/>
          <p:nvPr/>
        </p:nvSpPr>
        <p:spPr>
          <a:xfrm>
            <a:off x="5508720" y="3573360"/>
            <a:ext cx="3095640" cy="1079640"/>
          </a:xfrm>
          <a:prstGeom prst="wedgeRoundRectCallout">
            <a:avLst>
              <a:gd name="adj1" fmla="val -65129"/>
              <a:gd name="adj2" fmla="val 9703"/>
              <a:gd name="adj3" fmla="val 16667"/>
            </a:avLst>
          </a:prstGeom>
          <a:solidFill>
            <a:srgbClr val="cc99ff">
              <a:alpha val="68000"/>
            </a:srgbClr>
          </a:solidFill>
          <a:ln w="255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 – ємність конденсатора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прикладена напруг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5"/>
          <p:cNvSpPr/>
          <p:nvPr/>
        </p:nvSpPr>
        <p:spPr>
          <a:xfrm flipH="1">
            <a:off x="611280" y="4724280"/>
            <a:ext cx="4032000" cy="1225800"/>
          </a:xfrm>
          <a:prstGeom prst="wedgeRoundRectCallout">
            <a:avLst>
              <a:gd name="adj1" fmla="val -79370"/>
              <a:gd name="adj2" fmla="val -3370"/>
              <a:gd name="adj3" fmla="val 16667"/>
            </a:avLst>
          </a:prstGeom>
          <a:solidFill>
            <a:srgbClr val="cc99ff">
              <a:alpha val="68000"/>
            </a:srgbClr>
          </a:solidFill>
          <a:ln w="255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ел. заряд на електродах, якби   їх розділяв вакуум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 – ел. заряд обумовлений поляризацією діелектрик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4"/>
          <p:cNvSpPr/>
          <p:nvPr/>
        </p:nvSpPr>
        <p:spPr>
          <a:xfrm>
            <a:off x="539640" y="413712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відповідно заряди і ємності від електронної, іонної, дипольно-релаксаційної, іонно-релаксаційної, електронно-релаксаційної, міграційної і спонтанної поляризації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відповідним індексом – активний опір, еквівалентний втратам енергії при вказаних механізмах поляризації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з – активний опір ізоляції наскрізному струму через діелектрик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4"/>
          <p:cNvPicPr/>
          <p:nvPr/>
        </p:nvPicPr>
        <p:blipFill>
          <a:blip r:embed="rId1"/>
          <a:srcRect l="537" t="1629" r="537" b="16292"/>
          <a:stretch/>
        </p:blipFill>
        <p:spPr>
          <a:xfrm>
            <a:off x="395280" y="1422360"/>
            <a:ext cx="8424720" cy="23018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7"/>
          <p:cNvSpPr/>
          <p:nvPr/>
        </p:nvSpPr>
        <p:spPr>
          <a:xfrm>
            <a:off x="611280" y="4064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Goudy Stout"/>
              </a:rPr>
              <a:t>Еквівалентна схема діелектрика в електричному пол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9"/>
          <p:cNvSpPr/>
          <p:nvPr/>
        </p:nvSpPr>
        <p:spPr>
          <a:xfrm>
            <a:off x="2558880" y="1268280"/>
            <a:ext cx="1579680" cy="64800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4824"/>
              <a:gd name="adj5" fmla="val 286763"/>
              <a:gd name="adj6" fmla="val -65930"/>
            </a:avLst>
          </a:prstGeom>
          <a:solidFill>
            <a:srgbClr val="ffff00">
              <a:alpha val="56000"/>
            </a:srgbClr>
          </a:solidFill>
          <a:ln w="28440">
            <a:solidFill>
              <a:srgbClr val="00ccff"/>
            </a:solidFill>
            <a:prstDash val="sysDot"/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ряд у вакуумі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0"/>
          <p:cNvSpPr/>
          <p:nvPr/>
        </p:nvSpPr>
        <p:spPr>
          <a:xfrm>
            <a:off x="3995640" y="3789360"/>
            <a:ext cx="2160720" cy="393840"/>
          </a:xfrm>
          <a:prstGeom prst="borderCallout2">
            <a:avLst>
              <a:gd name="adj1" fmla="val 18750"/>
              <a:gd name="adj2" fmla="val -8333"/>
              <a:gd name="adj3" fmla="val 29032"/>
              <a:gd name="adj4" fmla="val -56060"/>
              <a:gd name="adj5" fmla="val -142337"/>
              <a:gd name="adj6" fmla="val -111166"/>
            </a:avLst>
          </a:prstGeom>
          <a:solidFill>
            <a:srgbClr val="ffff00">
              <a:alpha val="74000"/>
            </a:srgbClr>
          </a:solidFill>
          <a:ln w="28440">
            <a:solidFill>
              <a:srgbClr val="00ccff"/>
            </a:solidFill>
            <a:prstDash val="sysDot"/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 у вакуумі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8"/>
          <p:cNvSpPr/>
          <p:nvPr/>
        </p:nvSpPr>
        <p:spPr>
          <a:xfrm>
            <a:off x="826920" y="3789360"/>
            <a:ext cx="2676600" cy="358920"/>
          </a:xfrm>
          <a:prstGeom prst="borderCallout2">
            <a:avLst>
              <a:gd name="adj1" fmla="val 18750"/>
              <a:gd name="adj2" fmla="val -8333"/>
              <a:gd name="adj3" fmla="val 31856"/>
              <a:gd name="adj4" fmla="val -5513"/>
              <a:gd name="adj5" fmla="val -215930"/>
              <a:gd name="adj6" fmla="val -8185"/>
            </a:avLst>
          </a:prstGeom>
          <a:solidFill>
            <a:srgbClr val="ffff00">
              <a:alpha val="56000"/>
            </a:srgbClr>
          </a:solidFill>
          <a:ln w="28440">
            <a:solidFill>
              <a:srgbClr val="00ccff"/>
            </a:solidFill>
            <a:prstDash val="sysDot"/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напруги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539640" y="3068640"/>
            <a:ext cx="144720" cy="69840"/>
          </a:xfrm>
          <a:prstGeom prst="line">
            <a:avLst/>
          </a:prstGeom>
          <a:ln w="28440">
            <a:solidFill>
              <a:srgbClr val="00ccff"/>
            </a:solidFill>
            <a:prstDash val="sysDot"/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Заголовок 1"/>
          <p:cNvSpPr/>
          <p:nvPr/>
        </p:nvSpPr>
        <p:spPr>
          <a:xfrm>
            <a:off x="468360" y="5948280"/>
            <a:ext cx="813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Лекція № </a:t>
            </a:r>
            <a:r>
              <a:rPr b="0" lang="en-US" sz="2000" spc="-1" strike="noStrike">
                <a:solidFill>
                  <a:srgbClr val="9f2936"/>
                </a:solidFill>
                <a:latin typeface="Arial Black"/>
              </a:rPr>
              <a:t>3-4</a:t>
            </a:r>
            <a:r>
              <a:rPr b="0" lang="uk-UA" sz="2000" spc="-1" strike="noStrike">
                <a:solidFill>
                  <a:srgbClr val="9f2936"/>
                </a:solidFill>
                <a:latin typeface="Arial Black"/>
              </a:rPr>
              <a:t>. Поляризація діелектрикі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8:58:28Z</dcterms:created>
  <dc:creator>www.PHILka.RU</dc:creator>
  <dc:description/>
  <dc:language>en-US</dc:language>
  <cp:lastModifiedBy>Пользователь</cp:lastModifiedBy>
  <dcterms:modified xsi:type="dcterms:W3CDTF">2021-10-05T03:40:07Z</dcterms:modified>
  <cp:revision>198</cp:revision>
  <dc:subject/>
  <dc:title>Тема:   Пробій діелектриків </dc:title>
</cp:coreProperties>
</file>