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47BA-7F6C-4C1B-A8A3-C58A5C37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EB8D-6AC8-4D12-9292-BE4AC9DC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5AD2-8057-4E6E-B852-65A845D3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6726-1619-4CEF-B01F-6CFE6A84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C6E9-72C0-4AC5-ACFF-6193A3FE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5EE8-9811-47B9-AF2A-C8CC506B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57DB-C322-44EF-879A-0E5A4F7B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A148-72C6-45DF-A298-1AB8FF6A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E367-9811-49EE-A33D-10F72785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B6A0-3266-4B1A-870B-92644FC8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DBDD-594D-4797-AF56-2A0EB50D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659E-4D53-45F1-9CEE-D1C16E4D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F295-38B3-46FE-A026-1C133EAF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6898-8504-4E76-8199-DD41598C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0F15-7615-49B1-AE1A-1DD5F1EF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9799-D65D-4AD7-A5C7-615F4880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E6D8-BCD3-442B-B20F-787F93E8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C694C-0CC7-40E3-B9E2-0F8D6018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F35C6-458F-46F4-948A-C67AF7BB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61130-7561-47D0-8309-23837A37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C77E4-92A9-499E-A7C6-184B577B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200AC-E294-4A06-BFDF-058FBCF7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3703-60BF-4788-BE6B-6698C370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4B837-58B2-4221-B29E-42BA3DFB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C5048-F87F-4BC4-A792-896EF162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AC623-CA07-4E6D-A110-133B40D4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F12D4-813B-410A-ADBE-F7F11970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B5D2F-8B02-4625-8821-DCAFFB6B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BC5DA-0BB0-42D7-8DF1-AE15B52CF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695CF-5BF8-4474-A86F-0C11021B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4FBCD-E231-4153-AA52-3DF5D8AB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08511-A5B9-41EE-9DFA-4A74FEBD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5E7D5-45E4-4D1A-BD9E-0568C90C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DA5-D0CE-472F-BBF7-0F714D32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23A63-B1EB-4F5A-AB0A-94839761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A72C1-0792-4F18-B732-63765E55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484A7-DCFB-4BDC-9F59-10D2246E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97904-AA7D-4EE1-BEB2-BAEF8F1A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EDD95-E884-464A-AF02-CEC5F0F3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41EBF-4D41-4DA8-A422-F4190154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9EA92-C45D-4285-9F33-D194F9DA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CE07B-6E74-4695-BC82-F0FEFF51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67FE8-95E1-4A33-8CD6-AB5C4BD0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62606-5578-47A0-B1CF-B7926C76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6E86-65BC-4923-BF91-2B2CAE83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0E6C4-86F2-487B-BDCB-A1F9C8B9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96E7C-D132-4663-A4BA-2E7A424F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F04DC-66AA-4ADA-B09B-44CFC667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4E1EB-3F7F-47F3-A507-458BE5DD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85ACA-63DD-46C9-9A48-F93E1643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E0816-7DC9-4AC8-8ADB-A350E7C8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A042E-7477-4CE4-BEC2-C47AC9E0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53EF3-E61C-4D7E-BA2A-A410C4B3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041E7-A1E9-4778-B785-C517D270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4C528-DD40-42EC-82B6-D077A142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9E45-115F-48CE-9A4D-297F67FD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0F87C-213E-43A8-A30A-143781B0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CEBB-FC6C-4E7C-B6C8-792EBEFD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76D6-4D52-43B7-8DDF-096247DE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480A-0029-4313-996A-3254C091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5527-0492-4B94-91B8-396AA72FB79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D079-CBA9-4B8E-B369-62CA92DD9A8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3046-F5A9-4B79-8BAF-CDAC54E229D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AE97-0948-4902-B106-284A104CE1C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2635-B855-415F-802C-F8F73DA5AED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640" y="476100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7030a0"/>
                </a:solidFill>
                <a:latin typeface="Bookman Old Style"/>
              </a:rPr>
              <a:t>Діелектричні втрати</a:t>
            </a:r>
            <a:endParaRPr b="1" lang="en-US" sz="3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250920" y="873000"/>
            <a:ext cx="838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9f2936"/>
                </a:solidFill>
                <a:latin typeface="Verdana"/>
              </a:rPr>
              <a:t>Електротехнічні матеріали  </a:t>
            </a:r>
            <a:endParaRPr b="1" lang="en-US" sz="6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5076720" y="37530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7030a0"/>
                </a:solidFill>
                <a:uFillTx/>
                <a:latin typeface="Bookman Old Style"/>
              </a:rPr>
              <a:t>Лекція</a:t>
            </a:r>
            <a:r>
              <a:rPr b="0" lang="ru-RU" sz="3600" spc="-1" strike="noStrike" u="sng">
                <a:solidFill>
                  <a:srgbClr val="7030a0"/>
                </a:solidFill>
                <a:uFillTx/>
                <a:latin typeface="Bookman Old Style"/>
              </a:rPr>
              <a:t> № </a:t>
            </a:r>
            <a:r>
              <a:rPr b="0" lang="en-US" sz="3600" spc="-1" strike="noStrike" u="sng">
                <a:solidFill>
                  <a:srgbClr val="7030a0"/>
                </a:solidFill>
                <a:uFillTx/>
                <a:latin typeface="Bookman Old Style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1692360" y="591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9f2936"/>
                </a:solidFill>
                <a:uFillTx/>
                <a:latin typeface="Verdana"/>
              </a:rPr>
              <a:t>Викладач: к.т.н., доцент Возняк О.М.</a:t>
            </a:r>
            <a:endParaRPr b="1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503280" y="584280"/>
            <a:ext cx="8064360" cy="2808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7030a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539640" y="806400"/>
            <a:ext cx="8136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В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Century"/>
              </a:rPr>
              <a:t>неполярних рідинах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електричні втрати обумовлені тільки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Century"/>
              </a:rPr>
              <a:t>електропровідністю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, якщо рідина не має домішок з дипольними молекулами (наприклад, очищене, нафтове конденсаторне масло)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Полярні рідини (наприклад совол) від умов(температура, частота) можуть мати помітні діелектричні втрати, пов’язані з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Century"/>
              </a:rPr>
              <a:t>дипольно-релаксаційною поляризацією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, крім втрат, обумовлених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Century"/>
              </a:rPr>
              <a:t>електропровідністю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У техніці використовуються рідкі діелектрики, що являють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собою суміші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неполярних 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і полярних речовин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(наприклад,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масляно-каніфольні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компаунди).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359" name="Group 3"/>
          <p:cNvGrpSpPr/>
          <p:nvPr/>
        </p:nvGrpSpPr>
        <p:grpSpPr>
          <a:xfrm>
            <a:off x="3003480" y="2342880"/>
            <a:ext cx="6248160" cy="4038480"/>
            <a:chOff x="3003480" y="2342880"/>
            <a:chExt cx="6248160" cy="4038480"/>
          </a:xfrm>
        </p:grpSpPr>
        <p:sp>
          <p:nvSpPr>
            <p:cNvPr id="360" name="Line 4"/>
            <p:cNvSpPr/>
            <p:nvPr/>
          </p:nvSpPr>
          <p:spPr>
            <a:xfrm flipV="1">
              <a:off x="3929040" y="2342880"/>
              <a:ext cx="0" cy="332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61" name="Line 5"/>
            <p:cNvSpPr/>
            <p:nvPr/>
          </p:nvSpPr>
          <p:spPr>
            <a:xfrm>
              <a:off x="3929040" y="5668560"/>
              <a:ext cx="462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62" name="Line 6"/>
            <p:cNvSpPr/>
            <p:nvPr/>
          </p:nvSpPr>
          <p:spPr>
            <a:xfrm flipV="1">
              <a:off x="4854600" y="2818080"/>
              <a:ext cx="0" cy="285048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63" name="Line 7"/>
            <p:cNvSpPr/>
            <p:nvPr/>
          </p:nvSpPr>
          <p:spPr>
            <a:xfrm flipV="1">
              <a:off x="5780520" y="2818080"/>
              <a:ext cx="0" cy="285048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64" name="Line 8"/>
            <p:cNvSpPr/>
            <p:nvPr/>
          </p:nvSpPr>
          <p:spPr>
            <a:xfrm flipV="1">
              <a:off x="7632000" y="2818080"/>
              <a:ext cx="0" cy="285048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65" name="Line 9"/>
            <p:cNvSpPr/>
            <p:nvPr/>
          </p:nvSpPr>
          <p:spPr>
            <a:xfrm flipV="1">
              <a:off x="6706080" y="2818080"/>
              <a:ext cx="0" cy="285048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66" name="Line 10"/>
            <p:cNvSpPr/>
            <p:nvPr/>
          </p:nvSpPr>
          <p:spPr>
            <a:xfrm>
              <a:off x="3929040" y="4718520"/>
              <a:ext cx="370260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67" name="Line 11"/>
            <p:cNvSpPr/>
            <p:nvPr/>
          </p:nvSpPr>
          <p:spPr>
            <a:xfrm>
              <a:off x="3929040" y="3768120"/>
              <a:ext cx="370260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68" name="Line 12"/>
            <p:cNvSpPr/>
            <p:nvPr/>
          </p:nvSpPr>
          <p:spPr>
            <a:xfrm>
              <a:off x="3929040" y="2818080"/>
              <a:ext cx="370260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grpSp>
          <p:nvGrpSpPr>
            <p:cNvPr id="369" name="Group 13"/>
            <p:cNvGrpSpPr/>
            <p:nvPr/>
          </p:nvGrpSpPr>
          <p:grpSpPr>
            <a:xfrm>
              <a:off x="4160160" y="3293280"/>
              <a:ext cx="3471120" cy="2414880"/>
              <a:chOff x="4160160" y="3293280"/>
              <a:chExt cx="3471120" cy="2414880"/>
            </a:xfrm>
          </p:grpSpPr>
          <p:sp>
            <p:nvSpPr>
              <p:cNvPr id="370" name="Freeform 14"/>
              <p:cNvSpPr/>
              <p:nvPr/>
            </p:nvSpPr>
            <p:spPr>
              <a:xfrm>
                <a:off x="4623120" y="4243320"/>
                <a:ext cx="1388160" cy="95004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950040"/>
                  <a:gd name="textAreaBottom" fmla="*/ 950400 h 950040"/>
                </a:gdLst>
                <a:ahLst/>
                <a:rect l="textAreaLeft" t="textAreaTop" r="textAreaRight" b="textAreaBottom"/>
                <a:pathLst>
                  <a:path w="1080" h="720">
                    <a:moveTo>
                      <a:pt x="0" y="720"/>
                    </a:moveTo>
                    <a:cubicBezTo>
                      <a:pt x="60" y="675"/>
                      <a:pt x="120" y="630"/>
                      <a:pt x="180" y="540"/>
                    </a:cubicBezTo>
                    <a:cubicBezTo>
                      <a:pt x="240" y="450"/>
                      <a:pt x="300" y="270"/>
                      <a:pt x="360" y="180"/>
                    </a:cubicBezTo>
                    <a:cubicBezTo>
                      <a:pt x="420" y="90"/>
                      <a:pt x="480" y="0"/>
                      <a:pt x="540" y="0"/>
                    </a:cubicBezTo>
                    <a:cubicBezTo>
                      <a:pt x="600" y="0"/>
                      <a:pt x="660" y="90"/>
                      <a:pt x="720" y="180"/>
                    </a:cubicBezTo>
                    <a:cubicBezTo>
                      <a:pt x="780" y="270"/>
                      <a:pt x="840" y="450"/>
                      <a:pt x="900" y="540"/>
                    </a:cubicBezTo>
                    <a:cubicBezTo>
                      <a:pt x="960" y="630"/>
                      <a:pt x="1050" y="690"/>
                      <a:pt x="1080" y="720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Century"/>
                </a:endParaRPr>
              </a:p>
            </p:txBody>
          </p:sp>
          <p:sp>
            <p:nvSpPr>
              <p:cNvPr id="371" name="Freeform 15"/>
              <p:cNvSpPr/>
              <p:nvPr/>
            </p:nvSpPr>
            <p:spPr>
              <a:xfrm>
                <a:off x="6011280" y="3293280"/>
                <a:ext cx="1620000" cy="2414880"/>
              </a:xfrm>
              <a:custGeom>
                <a:avLst/>
                <a:gdLst>
                  <a:gd name="textAreaLeft" fmla="*/ 0 w 1620000"/>
                  <a:gd name="textAreaRight" fmla="*/ 1620360 w 1620000"/>
                  <a:gd name="textAreaTop" fmla="*/ 0 h 2414880"/>
                  <a:gd name="textAreaBottom" fmla="*/ 2415240 h 2414880"/>
                </a:gdLst>
                <a:ahLst/>
                <a:rect l="textAreaLeft" t="textAreaTop" r="textAreaRight" b="textAreaBottom"/>
                <a:pathLst>
                  <a:path w="1620" h="1830">
                    <a:moveTo>
                      <a:pt x="0" y="1440"/>
                    </a:moveTo>
                    <a:cubicBezTo>
                      <a:pt x="45" y="1500"/>
                      <a:pt x="90" y="1560"/>
                      <a:pt x="180" y="1620"/>
                    </a:cubicBezTo>
                    <a:cubicBezTo>
                      <a:pt x="270" y="1680"/>
                      <a:pt x="420" y="1830"/>
                      <a:pt x="540" y="1800"/>
                    </a:cubicBezTo>
                    <a:cubicBezTo>
                      <a:pt x="660" y="1770"/>
                      <a:pt x="720" y="1740"/>
                      <a:pt x="900" y="1440"/>
                    </a:cubicBezTo>
                    <a:cubicBezTo>
                      <a:pt x="1080" y="1140"/>
                      <a:pt x="1500" y="240"/>
                      <a:pt x="1620" y="0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Century"/>
                </a:endParaRPr>
              </a:p>
            </p:txBody>
          </p:sp>
          <p:sp>
            <p:nvSpPr>
              <p:cNvPr id="372" name="Freeform 16"/>
              <p:cNvSpPr/>
              <p:nvPr/>
            </p:nvSpPr>
            <p:spPr>
              <a:xfrm>
                <a:off x="4160160" y="5193360"/>
                <a:ext cx="462960" cy="237600"/>
              </a:xfrm>
              <a:custGeom>
                <a:avLst/>
                <a:gdLst>
                  <a:gd name="textAreaLeft" fmla="*/ 0 w 462960"/>
                  <a:gd name="textAreaRight" fmla="*/ 463320 w 462960"/>
                  <a:gd name="textAreaTop" fmla="*/ 0 h 237600"/>
                  <a:gd name="textAreaBottom" fmla="*/ 237960 h 237600"/>
                </a:gdLst>
                <a:ahLst/>
                <a:rect l="textAreaLeft" t="textAreaTop" r="textAreaRight" b="textAreaBottom"/>
                <a:pathLst>
                  <a:path w="360" h="180">
                    <a:moveTo>
                      <a:pt x="360" y="0"/>
                    </a:moveTo>
                    <a:cubicBezTo>
                      <a:pt x="210" y="75"/>
                      <a:pt x="60" y="150"/>
                      <a:pt x="0" y="180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Century"/>
                </a:endParaRPr>
              </a:p>
            </p:txBody>
          </p:sp>
        </p:grpSp>
        <p:sp>
          <p:nvSpPr>
            <p:cNvPr id="373" name="Freeform 17"/>
            <p:cNvSpPr/>
            <p:nvPr/>
          </p:nvSpPr>
          <p:spPr>
            <a:xfrm>
              <a:off x="4854600" y="4164120"/>
              <a:ext cx="2545560" cy="1504440"/>
            </a:xfrm>
            <a:custGeom>
              <a:avLst/>
              <a:gdLst>
                <a:gd name="textAreaLeft" fmla="*/ 0 w 2545560"/>
                <a:gd name="textAreaRight" fmla="*/ 2545920 w 2545560"/>
                <a:gd name="textAreaTop" fmla="*/ 0 h 1504440"/>
                <a:gd name="textAreaBottom" fmla="*/ 1504800 h 1504440"/>
              </a:gdLst>
              <a:ahLst/>
              <a:rect l="textAreaLeft" t="textAreaTop" r="textAreaRight" b="textAreaBottom"/>
              <a:pathLst>
                <a:path w="1980" h="1140">
                  <a:moveTo>
                    <a:pt x="0" y="960"/>
                  </a:moveTo>
                  <a:cubicBezTo>
                    <a:pt x="45" y="930"/>
                    <a:pt x="90" y="900"/>
                    <a:pt x="180" y="780"/>
                  </a:cubicBezTo>
                  <a:cubicBezTo>
                    <a:pt x="270" y="660"/>
                    <a:pt x="450" y="360"/>
                    <a:pt x="540" y="240"/>
                  </a:cubicBezTo>
                  <a:cubicBezTo>
                    <a:pt x="630" y="120"/>
                    <a:pt x="630" y="0"/>
                    <a:pt x="720" y="60"/>
                  </a:cubicBezTo>
                  <a:cubicBezTo>
                    <a:pt x="810" y="120"/>
                    <a:pt x="960" y="450"/>
                    <a:pt x="1080" y="600"/>
                  </a:cubicBezTo>
                  <a:cubicBezTo>
                    <a:pt x="1200" y="750"/>
                    <a:pt x="1320" y="870"/>
                    <a:pt x="1440" y="960"/>
                  </a:cubicBezTo>
                  <a:cubicBezTo>
                    <a:pt x="1560" y="1050"/>
                    <a:pt x="1710" y="1140"/>
                    <a:pt x="1800" y="1140"/>
                  </a:cubicBezTo>
                  <a:cubicBezTo>
                    <a:pt x="1890" y="1140"/>
                    <a:pt x="1950" y="990"/>
                    <a:pt x="1980" y="9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74" name="Text Box 18"/>
            <p:cNvSpPr/>
            <p:nvPr/>
          </p:nvSpPr>
          <p:spPr>
            <a:xfrm>
              <a:off x="4623120" y="5668560"/>
              <a:ext cx="6940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75" name="Text Box 19"/>
            <p:cNvSpPr/>
            <p:nvPr/>
          </p:nvSpPr>
          <p:spPr>
            <a:xfrm>
              <a:off x="5549040" y="5668560"/>
              <a:ext cx="6940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76" name="Text Box 20"/>
            <p:cNvSpPr/>
            <p:nvPr/>
          </p:nvSpPr>
          <p:spPr>
            <a:xfrm>
              <a:off x="3929040" y="2343240"/>
              <a:ext cx="1156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tg δ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77" name="Text Box 21"/>
            <p:cNvSpPr/>
            <p:nvPr/>
          </p:nvSpPr>
          <p:spPr>
            <a:xfrm>
              <a:off x="3003480" y="4481280"/>
              <a:ext cx="925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78" name="Text Box 22"/>
            <p:cNvSpPr/>
            <p:nvPr/>
          </p:nvSpPr>
          <p:spPr>
            <a:xfrm>
              <a:off x="3003480" y="3530880"/>
              <a:ext cx="925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0,04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79" name="Text Box 23"/>
            <p:cNvSpPr/>
            <p:nvPr/>
          </p:nvSpPr>
          <p:spPr>
            <a:xfrm>
              <a:off x="3466080" y="5431320"/>
              <a:ext cx="6940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80" name="Text Box 24"/>
            <p:cNvSpPr/>
            <p:nvPr/>
          </p:nvSpPr>
          <p:spPr>
            <a:xfrm>
              <a:off x="3003480" y="2580840"/>
              <a:ext cx="925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0,06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81" name="Text Box 25"/>
            <p:cNvSpPr/>
            <p:nvPr/>
          </p:nvSpPr>
          <p:spPr>
            <a:xfrm>
              <a:off x="8326080" y="5668560"/>
              <a:ext cx="92556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ru-RU" sz="1000" spc="-1" strike="noStrike" baseline="30000">
                  <a:solidFill>
                    <a:srgbClr val="000000"/>
                  </a:solidFill>
                  <a:latin typeface="Arial"/>
                </a:rPr>
                <a:t>○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C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82" name="Text Box 26"/>
            <p:cNvSpPr/>
            <p:nvPr/>
          </p:nvSpPr>
          <p:spPr>
            <a:xfrm>
              <a:off x="7400520" y="5668560"/>
              <a:ext cx="92556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83" name="Text Box 27"/>
            <p:cNvSpPr/>
            <p:nvPr/>
          </p:nvSpPr>
          <p:spPr>
            <a:xfrm>
              <a:off x="6474600" y="5668560"/>
              <a:ext cx="6940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84" name="Text Box 28"/>
            <p:cNvSpPr/>
            <p:nvPr/>
          </p:nvSpPr>
          <p:spPr>
            <a:xfrm>
              <a:off x="5317560" y="3293280"/>
              <a:ext cx="46296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" spc="-1" strike="noStrike">
                <a:solidFill>
                  <a:srgbClr val="000000"/>
                </a:solidFill>
                <a:latin typeface="Century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85" name="Text Box 29"/>
            <p:cNvSpPr/>
            <p:nvPr/>
          </p:nvSpPr>
          <p:spPr>
            <a:xfrm>
              <a:off x="7632000" y="4005720"/>
              <a:ext cx="6940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86" name="Text Box 30"/>
            <p:cNvSpPr/>
            <p:nvPr/>
          </p:nvSpPr>
          <p:spPr>
            <a:xfrm>
              <a:off x="6011640" y="5668560"/>
              <a:ext cx="694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300" spc="-1" strike="noStrike">
                <a:solidFill>
                  <a:srgbClr val="000000"/>
                </a:solidFill>
                <a:latin typeface="Century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87" name="Text Box 31"/>
            <p:cNvSpPr/>
            <p:nvPr/>
          </p:nvSpPr>
          <p:spPr>
            <a:xfrm>
              <a:off x="6011640" y="3055680"/>
              <a:ext cx="1388520" cy="712440"/>
            </a:xfrm>
            <a:prstGeom prst="rect">
              <a:avLst/>
            </a:prstGeom>
            <a:solidFill>
              <a:srgbClr val="96d444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" spc="-1" strike="noStrike">
                <a:solidFill>
                  <a:srgbClr val="000000"/>
                </a:solidFill>
                <a:latin typeface="Century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Century"/>
                </a:rPr>
                <a:t>ω=1000</a:t>
              </a:r>
              <a:endParaRPr b="1" lang="en-US" sz="14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88" name="Text Box 32"/>
            <p:cNvSpPr/>
            <p:nvPr/>
          </p:nvSpPr>
          <p:spPr>
            <a:xfrm>
              <a:off x="4160160" y="4718520"/>
              <a:ext cx="2314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89" name="Line 33"/>
            <p:cNvSpPr/>
            <p:nvPr/>
          </p:nvSpPr>
          <p:spPr>
            <a:xfrm>
              <a:off x="4388040" y="4956120"/>
              <a:ext cx="462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90" name="Line 34"/>
            <p:cNvSpPr/>
            <p:nvPr/>
          </p:nvSpPr>
          <p:spPr>
            <a:xfrm>
              <a:off x="4388040" y="4956120"/>
              <a:ext cx="462600" cy="47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91" name="Line 35"/>
            <p:cNvSpPr/>
            <p:nvPr/>
          </p:nvSpPr>
          <p:spPr>
            <a:xfrm flipH="1">
              <a:off x="5313240" y="3768120"/>
              <a:ext cx="235080" cy="47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92" name="Line 36"/>
            <p:cNvSpPr/>
            <p:nvPr/>
          </p:nvSpPr>
          <p:spPr>
            <a:xfrm>
              <a:off x="5549040" y="3768120"/>
              <a:ext cx="231480" cy="47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93" name="Line 37"/>
            <p:cNvSpPr/>
            <p:nvPr/>
          </p:nvSpPr>
          <p:spPr>
            <a:xfrm flipH="1" flipV="1">
              <a:off x="7400160" y="4005720"/>
              <a:ext cx="462600" cy="237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94" name="Line 38"/>
            <p:cNvSpPr/>
            <p:nvPr/>
          </p:nvSpPr>
          <p:spPr>
            <a:xfrm flipH="1">
              <a:off x="7400160" y="4243680"/>
              <a:ext cx="462600" cy="118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95" name="Line 39"/>
            <p:cNvSpPr/>
            <p:nvPr/>
          </p:nvSpPr>
          <p:spPr>
            <a:xfrm flipV="1">
              <a:off x="6474600" y="5668560"/>
              <a:ext cx="0" cy="237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96" name="Line 40"/>
            <p:cNvSpPr/>
            <p:nvPr/>
          </p:nvSpPr>
          <p:spPr>
            <a:xfrm flipV="1">
              <a:off x="6474600" y="5668560"/>
              <a:ext cx="694080" cy="237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97" name="Text Box 41"/>
            <p:cNvSpPr/>
            <p:nvPr/>
          </p:nvSpPr>
          <p:spPr>
            <a:xfrm>
              <a:off x="3929040" y="3768120"/>
              <a:ext cx="115668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" spc="-1" strike="noStrike">
                <a:solidFill>
                  <a:srgbClr val="000000"/>
                </a:solidFill>
                <a:latin typeface="Century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ω</a:t>
              </a: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=314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98" name="Line 42"/>
            <p:cNvSpPr/>
            <p:nvPr/>
          </p:nvSpPr>
          <p:spPr>
            <a:xfrm>
              <a:off x="6474600" y="3530880"/>
              <a:ext cx="694080" cy="9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99" name="Line 43"/>
            <p:cNvSpPr/>
            <p:nvPr/>
          </p:nvSpPr>
          <p:spPr>
            <a:xfrm>
              <a:off x="4391640" y="4243680"/>
              <a:ext cx="694080" cy="23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400" name="Text Box 44"/>
          <p:cNvSpPr/>
          <p:nvPr/>
        </p:nvSpPr>
        <p:spPr>
          <a:xfrm>
            <a:off x="468360" y="4365720"/>
            <a:ext cx="273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Залежність tg δ від 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○ С при 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різних частотах для масляно-каніфольного компаунда.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01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6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Діелектричні втрат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02" name="Rectangle 46"/>
          <p:cNvSpPr/>
          <p:nvPr/>
        </p:nvSpPr>
        <p:spPr>
          <a:xfrm>
            <a:off x="689760" y="47628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entury"/>
              </a:rPr>
              <a:t>4. Діелектричні втрати в</a:t>
            </a:r>
            <a:r>
              <a:rPr b="1" lang="uk-UA" sz="1600" spc="-1" strike="noStrike">
                <a:solidFill>
                  <a:srgbClr val="7030a0"/>
                </a:solidFill>
                <a:latin typeface="Century"/>
              </a:rPr>
              <a:t> </a:t>
            </a:r>
            <a:r>
              <a:rPr b="1" lang="uk-UA" sz="2400" spc="-1" strike="noStrike">
                <a:solidFill>
                  <a:srgbClr val="7030a0"/>
                </a:solidFill>
                <a:latin typeface="Century"/>
              </a:rPr>
              <a:t> рідинах</a:t>
            </a:r>
            <a:endParaRPr b="1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539640" y="549360"/>
            <a:ext cx="80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При підвищенні частоти ω максимум tg δ зміщується в область більш високої температури: більша частота потребує меншого часу релаксації, необхідного для отримання максимуму кута втрат δ, а для зменшення часу релаксації необхідне зниження в’язкості, тобто підвищення температури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539640" y="2133720"/>
            <a:ext cx="806472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7030a0"/>
                </a:solidFill>
                <a:uFillTx/>
                <a:latin typeface="Century"/>
              </a:rPr>
              <a:t>Час релаксації</a:t>
            </a:r>
            <a:r>
              <a:rPr b="0" lang="uk-UA" sz="2000" spc="-1" strike="noStrike">
                <a:solidFill>
                  <a:srgbClr val="000000"/>
                </a:solidFill>
                <a:latin typeface="Century"/>
              </a:rPr>
              <a:t> –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 час за який впорядкованість зорієнтованих полем диполів після зняття поля зменшується за рахунок наявності теплового руху в е2,7 рази від початкового значення 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1 – якщо в’язкість речовини велика, (при малих t○), то молекули не встигають зорієнтуватися при змінні поля і дипольно-релаксаційна поляризація зникає - tg δ мале (початок кривих);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2 – при середніх в’язкостях дипольні втрати можуть бути суттєві і при деякому значенні в’язкості мають максимум;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3 – дипольні втрати будуть такими малими, коли орієнтація молекул відбувається без тертя  (мінімум кривої);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4 – подальший ріст tg δ з підвищенням 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t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○ пояснюється ростом електропровідності (за рахунок діелектричних втрат наскрізної електропровідності)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05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6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Діелектричні втрат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457200" y="912960"/>
            <a:ext cx="81471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Діелектричні втрати в твердих діелектриках необхідно розглядати у зв’язку з їх структурою. </a:t>
            </a:r>
            <a:r>
              <a:rPr b="1" lang="uk-UA" sz="1600" spc="-1" strike="noStrike">
                <a:solidFill>
                  <a:srgbClr val="7030a0"/>
                </a:solidFill>
                <a:latin typeface="Century"/>
              </a:rPr>
              <a:t>За структурою тверді діелектрики поділяються на 4 групи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1) діелектрики молекулярної структури; 2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) 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діелектрики іонної структури;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3) 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сегнетоелектрики;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 4)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діелектрики неоднорідної структури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468360" y="1873080"/>
            <a:ext cx="8136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7030a0"/>
                </a:solidFill>
                <a:latin typeface="Century"/>
              </a:rPr>
              <a:t>1 група:</a:t>
            </a:r>
            <a:r>
              <a:rPr b="1" lang="uk-UA" sz="1600" spc="-1" strike="noStrike">
                <a:solidFill>
                  <a:srgbClr val="7030a0"/>
                </a:solidFill>
                <a:latin typeface="Century"/>
              </a:rPr>
              <a:t> </a:t>
            </a:r>
            <a:r>
              <a:rPr b="1" lang="uk-UA" sz="1600" spc="-1" strike="noStrike" u="sng">
                <a:solidFill>
                  <a:srgbClr val="7030a0"/>
                </a:solidFill>
                <a:uFillTx/>
                <a:latin typeface="Century"/>
              </a:rPr>
              <a:t>Діелектричні втрати в діелектриках молекулярної структури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залежать від виду молекул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1.1. Якщо молекули – не полярні, а речовини не мають домішок, то діелектричні втрати, дуже-дуже малі (сіра, парафін,  неполярні полімери – поліетилен, політетрафторетилен, полістирол і інші). Тому ці речовини використовуються як якісні високо частотні діелектрики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1.2. Діелектрики молекулярної структури з полярними молекулами головним чином є органічними речовинами (речовини на базі целюлози (папір, картон та інші)); полярні полімери (полі метилметакрилат (органічне скло)); поліаміди (капрон та інші)); поліуретани, каучукові матеріали (ебоніт); фенол-формальдегідні смоли (бека літ та інші); ефіри целюлози (ацетил - целюлоза та інші) і низка інших матеріалів). Усі вони завдяки дипольно-релаксаційній поляризації мають великі діелектричні втрати які суттєво залежать від температури (при деяких температурах визначаються максимум і мінімум втрат, ріст втрат після мінімуму пояснюється збільшенням втрат наскрізної провідності)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08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6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Діелектричні втрат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341280" y="476280"/>
            <a:ext cx="77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entury"/>
              </a:rPr>
              <a:t>5. Діелектричні втрати в</a:t>
            </a:r>
            <a:r>
              <a:rPr b="1" lang="uk-UA" sz="1600" spc="-1" strike="noStrike">
                <a:solidFill>
                  <a:srgbClr val="7030a0"/>
                </a:solidFill>
                <a:latin typeface="Century"/>
              </a:rPr>
              <a:t> </a:t>
            </a:r>
            <a:r>
              <a:rPr b="1" lang="uk-UA" sz="2400" spc="-1" strike="noStrike">
                <a:solidFill>
                  <a:srgbClr val="7030a0"/>
                </a:solidFill>
                <a:latin typeface="Century"/>
              </a:rPr>
              <a:t>твердих діелектриках</a:t>
            </a:r>
            <a:endParaRPr b="1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2"/>
          <p:cNvGrpSpPr/>
          <p:nvPr/>
        </p:nvGrpSpPr>
        <p:grpSpPr>
          <a:xfrm>
            <a:off x="304920" y="228600"/>
            <a:ext cx="4689360" cy="2812680"/>
            <a:chOff x="304920" y="228600"/>
            <a:chExt cx="4689360" cy="2812680"/>
          </a:xfrm>
        </p:grpSpPr>
        <p:sp>
          <p:nvSpPr>
            <p:cNvPr id="411" name="Line 3"/>
            <p:cNvSpPr/>
            <p:nvPr/>
          </p:nvSpPr>
          <p:spPr>
            <a:xfrm>
              <a:off x="785880" y="228600"/>
              <a:ext cx="0" cy="243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12" name="Line 4"/>
            <p:cNvSpPr/>
            <p:nvPr/>
          </p:nvSpPr>
          <p:spPr>
            <a:xfrm>
              <a:off x="785880" y="1728720"/>
              <a:ext cx="348696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13" name="Line 5"/>
            <p:cNvSpPr/>
            <p:nvPr/>
          </p:nvSpPr>
          <p:spPr>
            <a:xfrm>
              <a:off x="785880" y="978480"/>
              <a:ext cx="348696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14" name="Line 6"/>
            <p:cNvSpPr/>
            <p:nvPr/>
          </p:nvSpPr>
          <p:spPr>
            <a:xfrm flipV="1">
              <a:off x="1747800" y="978480"/>
              <a:ext cx="0" cy="168768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15" name="Line 7"/>
            <p:cNvSpPr/>
            <p:nvPr/>
          </p:nvSpPr>
          <p:spPr>
            <a:xfrm flipV="1">
              <a:off x="1266840" y="978480"/>
              <a:ext cx="0" cy="168768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16" name="Line 8"/>
            <p:cNvSpPr/>
            <p:nvPr/>
          </p:nvSpPr>
          <p:spPr>
            <a:xfrm flipV="1">
              <a:off x="2228760" y="978480"/>
              <a:ext cx="0" cy="168768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17" name="Line 9"/>
            <p:cNvSpPr/>
            <p:nvPr/>
          </p:nvSpPr>
          <p:spPr>
            <a:xfrm flipV="1">
              <a:off x="2709720" y="978480"/>
              <a:ext cx="0" cy="168768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18" name="Line 10"/>
            <p:cNvSpPr/>
            <p:nvPr/>
          </p:nvSpPr>
          <p:spPr>
            <a:xfrm flipV="1">
              <a:off x="3190680" y="978480"/>
              <a:ext cx="0" cy="168768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19" name="Line 11"/>
            <p:cNvSpPr/>
            <p:nvPr/>
          </p:nvSpPr>
          <p:spPr>
            <a:xfrm flipV="1">
              <a:off x="3671640" y="978480"/>
              <a:ext cx="0" cy="168768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20" name="Line 12"/>
            <p:cNvSpPr/>
            <p:nvPr/>
          </p:nvSpPr>
          <p:spPr>
            <a:xfrm flipV="1">
              <a:off x="4152600" y="978480"/>
              <a:ext cx="0" cy="168768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21" name="Text Box 13"/>
            <p:cNvSpPr/>
            <p:nvPr/>
          </p:nvSpPr>
          <p:spPr>
            <a:xfrm>
              <a:off x="545040" y="2666520"/>
              <a:ext cx="48096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-20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22" name="Text Box 14"/>
            <p:cNvSpPr/>
            <p:nvPr/>
          </p:nvSpPr>
          <p:spPr>
            <a:xfrm>
              <a:off x="4032360" y="2666520"/>
              <a:ext cx="48096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23" name="Text Box 15"/>
            <p:cNvSpPr/>
            <p:nvPr/>
          </p:nvSpPr>
          <p:spPr>
            <a:xfrm>
              <a:off x="3551400" y="2666520"/>
              <a:ext cx="48096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24" name="Text Box 16"/>
            <p:cNvSpPr/>
            <p:nvPr/>
          </p:nvSpPr>
          <p:spPr>
            <a:xfrm>
              <a:off x="3070440" y="2666520"/>
              <a:ext cx="48096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25" name="Text Box 17"/>
            <p:cNvSpPr/>
            <p:nvPr/>
          </p:nvSpPr>
          <p:spPr>
            <a:xfrm>
              <a:off x="2469240" y="2666520"/>
              <a:ext cx="48096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26" name="Text Box 18"/>
            <p:cNvSpPr/>
            <p:nvPr/>
          </p:nvSpPr>
          <p:spPr>
            <a:xfrm>
              <a:off x="1988280" y="2666520"/>
              <a:ext cx="48096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27" name="Text Box 19"/>
            <p:cNvSpPr/>
            <p:nvPr/>
          </p:nvSpPr>
          <p:spPr>
            <a:xfrm>
              <a:off x="1506960" y="2666520"/>
              <a:ext cx="48096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-12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28" name="Text Box 20"/>
            <p:cNvSpPr/>
            <p:nvPr/>
          </p:nvSpPr>
          <p:spPr>
            <a:xfrm>
              <a:off x="1026000" y="2666520"/>
              <a:ext cx="48096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-16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29" name="Text Box 21"/>
            <p:cNvSpPr/>
            <p:nvPr/>
          </p:nvSpPr>
          <p:spPr>
            <a:xfrm>
              <a:off x="304920" y="1541160"/>
              <a:ext cx="480960" cy="3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0,01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30" name="Text Box 22"/>
            <p:cNvSpPr/>
            <p:nvPr/>
          </p:nvSpPr>
          <p:spPr>
            <a:xfrm>
              <a:off x="304920" y="790920"/>
              <a:ext cx="480960" cy="3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0,02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31" name="Text Box 23"/>
            <p:cNvSpPr/>
            <p:nvPr/>
          </p:nvSpPr>
          <p:spPr>
            <a:xfrm>
              <a:off x="785880" y="228600"/>
              <a:ext cx="480960" cy="3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tg δ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32" name="Text Box 24"/>
            <p:cNvSpPr/>
            <p:nvPr/>
          </p:nvSpPr>
          <p:spPr>
            <a:xfrm>
              <a:off x="4513320" y="2666520"/>
              <a:ext cx="48096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ru-RU" sz="1000" spc="-1" strike="noStrike" baseline="30000">
                  <a:solidFill>
                    <a:srgbClr val="000000"/>
                  </a:solidFill>
                  <a:latin typeface="Arial"/>
                </a:rPr>
                <a:t>○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С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33" name="Text Box 25"/>
            <p:cNvSpPr/>
            <p:nvPr/>
          </p:nvSpPr>
          <p:spPr>
            <a:xfrm>
              <a:off x="2829960" y="1166400"/>
              <a:ext cx="72144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1 кГц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34" name="Freeform 26"/>
            <p:cNvSpPr/>
            <p:nvPr/>
          </p:nvSpPr>
          <p:spPr>
            <a:xfrm>
              <a:off x="905760" y="978480"/>
              <a:ext cx="3486960" cy="1531440"/>
            </a:xfrm>
            <a:custGeom>
              <a:avLst/>
              <a:gdLst>
                <a:gd name="textAreaLeft" fmla="*/ 0 w 3486960"/>
                <a:gd name="textAreaRight" fmla="*/ 3487320 w 3486960"/>
                <a:gd name="textAreaTop" fmla="*/ 0 h 1531440"/>
                <a:gd name="textAreaBottom" fmla="*/ 1531800 h 1531440"/>
              </a:gdLst>
              <a:ahLst/>
              <a:rect l="textAreaLeft" t="textAreaTop" r="textAreaRight" b="textAreaBottom"/>
              <a:pathLst>
                <a:path w="5220" h="1470">
                  <a:moveTo>
                    <a:pt x="0" y="1440"/>
                  </a:moveTo>
                  <a:cubicBezTo>
                    <a:pt x="60" y="1455"/>
                    <a:pt x="120" y="1470"/>
                    <a:pt x="180" y="1440"/>
                  </a:cubicBezTo>
                  <a:cubicBezTo>
                    <a:pt x="240" y="1410"/>
                    <a:pt x="210" y="1380"/>
                    <a:pt x="360" y="1260"/>
                  </a:cubicBezTo>
                  <a:cubicBezTo>
                    <a:pt x="510" y="1140"/>
                    <a:pt x="870" y="900"/>
                    <a:pt x="1080" y="720"/>
                  </a:cubicBezTo>
                  <a:cubicBezTo>
                    <a:pt x="1290" y="540"/>
                    <a:pt x="1470" y="300"/>
                    <a:pt x="1620" y="180"/>
                  </a:cubicBezTo>
                  <a:cubicBezTo>
                    <a:pt x="1770" y="60"/>
                    <a:pt x="1860" y="0"/>
                    <a:pt x="1980" y="0"/>
                  </a:cubicBezTo>
                  <a:cubicBezTo>
                    <a:pt x="2100" y="0"/>
                    <a:pt x="2160" y="30"/>
                    <a:pt x="2340" y="180"/>
                  </a:cubicBezTo>
                  <a:cubicBezTo>
                    <a:pt x="2520" y="330"/>
                    <a:pt x="2850" y="720"/>
                    <a:pt x="3060" y="900"/>
                  </a:cubicBezTo>
                  <a:cubicBezTo>
                    <a:pt x="3270" y="1080"/>
                    <a:pt x="3420" y="1170"/>
                    <a:pt x="3600" y="1260"/>
                  </a:cubicBezTo>
                  <a:cubicBezTo>
                    <a:pt x="3780" y="1350"/>
                    <a:pt x="3960" y="1440"/>
                    <a:pt x="4140" y="1440"/>
                  </a:cubicBezTo>
                  <a:cubicBezTo>
                    <a:pt x="4320" y="1440"/>
                    <a:pt x="4500" y="1350"/>
                    <a:pt x="4680" y="1260"/>
                  </a:cubicBezTo>
                  <a:cubicBezTo>
                    <a:pt x="4860" y="1170"/>
                    <a:pt x="5130" y="960"/>
                    <a:pt x="5220" y="9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35" name="Text Box 27"/>
            <p:cNvSpPr/>
            <p:nvPr/>
          </p:nvSpPr>
          <p:spPr>
            <a:xfrm>
              <a:off x="785880" y="2104200"/>
              <a:ext cx="360360" cy="5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36" name="Line 28"/>
            <p:cNvSpPr/>
            <p:nvPr/>
          </p:nvSpPr>
          <p:spPr>
            <a:xfrm>
              <a:off x="785880" y="2666520"/>
              <a:ext cx="38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37" name="Line 29"/>
            <p:cNvSpPr/>
            <p:nvPr/>
          </p:nvSpPr>
          <p:spPr>
            <a:xfrm flipV="1">
              <a:off x="2829960" y="1540800"/>
              <a:ext cx="12024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38" name="Text Box 30"/>
            <p:cNvSpPr/>
            <p:nvPr/>
          </p:nvSpPr>
          <p:spPr>
            <a:xfrm>
              <a:off x="304920" y="2291400"/>
              <a:ext cx="480960" cy="3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39" name="Line 31"/>
            <p:cNvSpPr/>
            <p:nvPr/>
          </p:nvSpPr>
          <p:spPr>
            <a:xfrm flipH="1">
              <a:off x="905760" y="2291400"/>
              <a:ext cx="240480" cy="18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440" name="Text Box 32"/>
          <p:cNvSpPr/>
          <p:nvPr/>
        </p:nvSpPr>
        <p:spPr>
          <a:xfrm>
            <a:off x="4800600" y="533520"/>
            <a:ext cx="380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Залежність tg δ від температури для висушеного паперу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41" name="Text Box 33"/>
          <p:cNvSpPr/>
          <p:nvPr/>
        </p:nvSpPr>
        <p:spPr>
          <a:xfrm>
            <a:off x="539640" y="3213000"/>
            <a:ext cx="8015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7030a0"/>
                </a:solidFill>
                <a:uFillTx/>
                <a:latin typeface="Century"/>
              </a:rPr>
              <a:t>Діелектричні втрати твердих речовин іонної структури</a:t>
            </a:r>
            <a:r>
              <a:rPr b="1" lang="uk-UA" sz="1600" spc="-1" strike="noStrike">
                <a:solidFill>
                  <a:srgbClr val="7030a0"/>
                </a:solidFill>
                <a:latin typeface="Century"/>
              </a:rPr>
              <a:t> пов’язані з особливостями упаковки іонів в решітці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2.1) У речовинах кристалічної структури з щільною упаковкою іонів при відсутності домішок діелектричні втрати досить малі. При підвищених температурах в таких речовинах з’являються втрати від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Century"/>
              </a:rPr>
              <a:t>наскрізної електропровідності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. Приклади таких речовин: кам’яна сіль та інші. 2.2) Речовини з кристалічною структурою з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Century"/>
              </a:rPr>
              <a:t>нещільною упаковкою іонів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характеризуються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Century"/>
              </a:rPr>
              <a:t>релаксаційною поляризацією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, що викликає підвищенні діелектричні втрати (приклади речовин: муліт (входить в склад ізоляторного фосфору); кордієрит (компонент кераміки) та інші)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42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6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Діелектричні втрат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503280" y="404640"/>
            <a:ext cx="81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Для більшості видів електрокераміки кількість іонів  релаксаційної поляризації безперервно зростає з ростом температури і максимум tg δ відсутній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228600" y="1371240"/>
            <a:ext cx="3736800" cy="2979720"/>
            <a:chOff x="228600" y="1371240"/>
            <a:chExt cx="3736800" cy="2979720"/>
          </a:xfrm>
        </p:grpSpPr>
        <p:sp>
          <p:nvSpPr>
            <p:cNvPr id="445" name="Line 4"/>
            <p:cNvSpPr/>
            <p:nvPr/>
          </p:nvSpPr>
          <p:spPr>
            <a:xfrm flipV="1">
              <a:off x="695520" y="1371240"/>
              <a:ext cx="0" cy="258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46" name="Line 5"/>
            <p:cNvSpPr/>
            <p:nvPr/>
          </p:nvSpPr>
          <p:spPr>
            <a:xfrm>
              <a:off x="695520" y="3953880"/>
              <a:ext cx="311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47" name="Line 6"/>
            <p:cNvSpPr/>
            <p:nvPr/>
          </p:nvSpPr>
          <p:spPr>
            <a:xfrm>
              <a:off x="695520" y="3556440"/>
              <a:ext cx="233532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48" name="Line 7"/>
            <p:cNvSpPr/>
            <p:nvPr/>
          </p:nvSpPr>
          <p:spPr>
            <a:xfrm>
              <a:off x="695520" y="3159360"/>
              <a:ext cx="233532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49" name="Line 8"/>
            <p:cNvSpPr/>
            <p:nvPr/>
          </p:nvSpPr>
          <p:spPr>
            <a:xfrm>
              <a:off x="695520" y="2761920"/>
              <a:ext cx="233532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50" name="Line 9"/>
            <p:cNvSpPr/>
            <p:nvPr/>
          </p:nvSpPr>
          <p:spPr>
            <a:xfrm>
              <a:off x="695520" y="2364840"/>
              <a:ext cx="233532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51" name="Line 10"/>
            <p:cNvSpPr/>
            <p:nvPr/>
          </p:nvSpPr>
          <p:spPr>
            <a:xfrm>
              <a:off x="695520" y="1967400"/>
              <a:ext cx="233532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52" name="Line 11"/>
            <p:cNvSpPr/>
            <p:nvPr/>
          </p:nvSpPr>
          <p:spPr>
            <a:xfrm flipV="1">
              <a:off x="1162800" y="1967400"/>
              <a:ext cx="0" cy="198648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53" name="Line 12"/>
            <p:cNvSpPr/>
            <p:nvPr/>
          </p:nvSpPr>
          <p:spPr>
            <a:xfrm flipV="1">
              <a:off x="1629720" y="1967400"/>
              <a:ext cx="0" cy="198648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54" name="Line 13"/>
            <p:cNvSpPr/>
            <p:nvPr/>
          </p:nvSpPr>
          <p:spPr>
            <a:xfrm flipV="1">
              <a:off x="2097000" y="1967400"/>
              <a:ext cx="0" cy="198648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55" name="Line 14"/>
            <p:cNvSpPr/>
            <p:nvPr/>
          </p:nvSpPr>
          <p:spPr>
            <a:xfrm flipV="1">
              <a:off x="2564280" y="1967400"/>
              <a:ext cx="0" cy="198648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56" name="Line 15"/>
            <p:cNvSpPr/>
            <p:nvPr/>
          </p:nvSpPr>
          <p:spPr>
            <a:xfrm flipV="1">
              <a:off x="695520" y="1569960"/>
              <a:ext cx="2802600" cy="2383560"/>
            </a:xfrm>
            <a:prstGeom prst="line">
              <a:avLst/>
            </a:prstGeom>
            <a:ln w="34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57" name="Line 16"/>
            <p:cNvSpPr/>
            <p:nvPr/>
          </p:nvSpPr>
          <p:spPr>
            <a:xfrm flipV="1">
              <a:off x="3031200" y="1967400"/>
              <a:ext cx="0" cy="198648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58" name="Text Box 17"/>
            <p:cNvSpPr/>
            <p:nvPr/>
          </p:nvSpPr>
          <p:spPr>
            <a:xfrm>
              <a:off x="1785600" y="3953880"/>
              <a:ext cx="622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59" name="Text Box 18"/>
            <p:cNvSpPr/>
            <p:nvPr/>
          </p:nvSpPr>
          <p:spPr>
            <a:xfrm>
              <a:off x="2252520" y="3953880"/>
              <a:ext cx="622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60" name="Text Box 19"/>
            <p:cNvSpPr/>
            <p:nvPr/>
          </p:nvSpPr>
          <p:spPr>
            <a:xfrm>
              <a:off x="1318680" y="3953880"/>
              <a:ext cx="622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61" name="Text Box 20"/>
            <p:cNvSpPr/>
            <p:nvPr/>
          </p:nvSpPr>
          <p:spPr>
            <a:xfrm>
              <a:off x="851400" y="3953880"/>
              <a:ext cx="622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62" name="Text Box 21"/>
            <p:cNvSpPr/>
            <p:nvPr/>
          </p:nvSpPr>
          <p:spPr>
            <a:xfrm>
              <a:off x="540000" y="3953880"/>
              <a:ext cx="622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63" name="Text Box 22"/>
            <p:cNvSpPr/>
            <p:nvPr/>
          </p:nvSpPr>
          <p:spPr>
            <a:xfrm>
              <a:off x="228600" y="3358080"/>
              <a:ext cx="622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uk-UA" sz="10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64" name="Text Box 23"/>
            <p:cNvSpPr/>
            <p:nvPr/>
          </p:nvSpPr>
          <p:spPr>
            <a:xfrm>
              <a:off x="3342600" y="3953880"/>
              <a:ext cx="622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ru-RU" sz="1000" spc="-1" strike="noStrike" baseline="30000">
                  <a:solidFill>
                    <a:srgbClr val="000000"/>
                  </a:solidFill>
                  <a:latin typeface="Arial"/>
                </a:rPr>
                <a:t>○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С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65" name="Text Box 24"/>
            <p:cNvSpPr/>
            <p:nvPr/>
          </p:nvSpPr>
          <p:spPr>
            <a:xfrm>
              <a:off x="2719800" y="3953880"/>
              <a:ext cx="622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66" name="Text Box 25"/>
            <p:cNvSpPr/>
            <p:nvPr/>
          </p:nvSpPr>
          <p:spPr>
            <a:xfrm>
              <a:off x="695520" y="1371600"/>
              <a:ext cx="622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tg δ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67" name="Text Box 26"/>
            <p:cNvSpPr/>
            <p:nvPr/>
          </p:nvSpPr>
          <p:spPr>
            <a:xfrm>
              <a:off x="228600" y="1769040"/>
              <a:ext cx="622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68" name="Text Box 27"/>
            <p:cNvSpPr/>
            <p:nvPr/>
          </p:nvSpPr>
          <p:spPr>
            <a:xfrm>
              <a:off x="228600" y="2166120"/>
              <a:ext cx="622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69" name="Text Box 28"/>
            <p:cNvSpPr/>
            <p:nvPr/>
          </p:nvSpPr>
          <p:spPr>
            <a:xfrm>
              <a:off x="228600" y="2563560"/>
              <a:ext cx="622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uk-UA" sz="10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70" name="Text Box 29"/>
            <p:cNvSpPr/>
            <p:nvPr/>
          </p:nvSpPr>
          <p:spPr>
            <a:xfrm>
              <a:off x="228600" y="2960640"/>
              <a:ext cx="622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uk-UA" sz="1000" spc="-1" strike="noStrike" baseline="30000">
                  <a:solidFill>
                    <a:srgbClr val="000000"/>
                  </a:solidFill>
                  <a:latin typeface="Arial"/>
                </a:rPr>
                <a:t>-2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471" name="Text Box 30"/>
          <p:cNvSpPr/>
          <p:nvPr/>
        </p:nvSpPr>
        <p:spPr>
          <a:xfrm>
            <a:off x="369720" y="2924280"/>
            <a:ext cx="83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2.3. Діелектричні втрати в аморфних 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речовинах іонної структури 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(неорганічне скло) пов’язані з 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поляризацією і наявність 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електропровідності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2.3.1. Втрати мало залежать від 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○ 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і зростають прямо пропорційно частоті   (tg δ не залежать від частоти). Такі втрати обумовлюються релаксаційною поляризацією і сильно виражені в усіх технічних склах. Термічна обробка (обжигання, закалка) самітно впливають на кут діелектричних скла у зв’язку із зміною його структури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2" name="AutoShape 31"/>
          <p:cNvSpPr/>
          <p:nvPr/>
        </p:nvSpPr>
        <p:spPr>
          <a:xfrm>
            <a:off x="4067280" y="1197000"/>
            <a:ext cx="3886200" cy="1447920"/>
          </a:xfrm>
          <a:prstGeom prst="flowChartPunchedCard">
            <a:avLst/>
          </a:prstGeom>
          <a:solidFill>
            <a:srgbClr val="96d4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3" name="Text Box 32"/>
          <p:cNvSpPr/>
          <p:nvPr/>
        </p:nvSpPr>
        <p:spPr>
          <a:xfrm>
            <a:off x="4876920" y="16002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4" name="Text Box 33"/>
          <p:cNvSpPr/>
          <p:nvPr/>
        </p:nvSpPr>
        <p:spPr>
          <a:xfrm>
            <a:off x="4524480" y="1273320"/>
            <a:ext cx="3124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Температурна залежність tg δ титаноутримуючої  кераміки при 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f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=50Гц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5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6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Діелектричні втрат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468360" y="549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2.3.2. Втрати, що значно зростають з температурою за законом експоненціальної функції і мало залежать від частоти (tg δ зменшується з ростом частоти). Це втрати, обумовлені електропровідністю (звичайно проявляються при 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○&gt;50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100</a:t>
            </a: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○ С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7030a0"/>
                </a:solidFill>
                <a:latin typeface="Century"/>
              </a:rPr>
              <a:t>3 група:</a:t>
            </a:r>
            <a:r>
              <a:rPr b="1" lang="uk-UA" sz="1800" spc="-1" strike="noStrike">
                <a:solidFill>
                  <a:srgbClr val="7030a0"/>
                </a:solidFill>
                <a:latin typeface="Century"/>
              </a:rPr>
              <a:t> </a:t>
            </a:r>
            <a:r>
              <a:rPr b="1" lang="uk-UA" sz="1800" spc="-1" strike="noStrike" u="sng">
                <a:solidFill>
                  <a:srgbClr val="7030a0"/>
                </a:solidFill>
                <a:uFillTx/>
                <a:latin typeface="Century"/>
              </a:rPr>
              <a:t>Діелектричні втрати в сегнетоелектриках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 вищі, ніж у звичайних діелектриках.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Їх особливість – наявність самовільної поляризації, що з’являється в певному температурному інтервалі до точки Кюрі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Діелектричні втрати в сегнетоелектриках мало змінюються з температурою в області спонтанної поляризації і різко падають при 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t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○&gt; точки Кюрі,  коли сегнетоелектричні властивості втрачаються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7030a0"/>
                </a:solidFill>
                <a:latin typeface="Century"/>
              </a:rPr>
              <a:t>4 група:</a:t>
            </a:r>
            <a:r>
              <a:rPr b="1" lang="uk-UA" sz="1800" spc="-1" strike="noStrike">
                <a:solidFill>
                  <a:srgbClr val="7030a0"/>
                </a:solidFill>
                <a:latin typeface="Century"/>
              </a:rPr>
              <a:t> </a:t>
            </a:r>
            <a:r>
              <a:rPr b="1" lang="uk-UA" sz="1800" spc="-1" strike="noStrike" u="sng">
                <a:solidFill>
                  <a:srgbClr val="7030a0"/>
                </a:solidFill>
                <a:uFillTx/>
                <a:latin typeface="Century"/>
              </a:rPr>
              <a:t>Діелектричні втрати твердих речовин неоднорідної структури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Це матеріали, у склад яких входять не менше двох компонентів, механічно пов’язаних між собою (наприклад, кераміка). У складі кераміки розрізняють кристалічну, скловидну і газову (гази в закритих порах) фазу. Діелектричні втрати в кераміці залежать від характеру кристалічної і скловидної фаз і кількісного співвідношення між ними. Газова визиває підвищення діелектричних втрат при високих напруженнях поля в наслідок розвитку іонізації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7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6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Діелектричні втрат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2"/>
          <p:cNvSpPr/>
          <p:nvPr/>
        </p:nvSpPr>
        <p:spPr>
          <a:xfrm>
            <a:off x="468360" y="379440"/>
            <a:ext cx="815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Просочений папір також слід віднести до діелектриків з неоднорідною структурою. Його діелектричні втрати визначаються електричними властивостями обох компонентів (волокон целюлози і речовини того чи іншого складу, якою просочують папір), їх кількісним співвідношенням і остаточним повітряним включенням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9" name="Line 6"/>
          <p:cNvSpPr/>
          <p:nvPr/>
        </p:nvSpPr>
        <p:spPr>
          <a:xfrm>
            <a:off x="898560" y="1995480"/>
            <a:ext cx="0" cy="351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903240" y="1989000"/>
            <a:ext cx="5097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tg δ</a:t>
            </a:r>
            <a:endParaRPr b="1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81" name="Line 7"/>
          <p:cNvSpPr/>
          <p:nvPr/>
        </p:nvSpPr>
        <p:spPr>
          <a:xfrm>
            <a:off x="903240" y="5499000"/>
            <a:ext cx="355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82" name="Line 8"/>
          <p:cNvSpPr/>
          <p:nvPr/>
        </p:nvSpPr>
        <p:spPr>
          <a:xfrm>
            <a:off x="903240" y="4857840"/>
            <a:ext cx="304812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83" name="Line 9"/>
          <p:cNvSpPr/>
          <p:nvPr/>
        </p:nvSpPr>
        <p:spPr>
          <a:xfrm>
            <a:off x="903240" y="4243320"/>
            <a:ext cx="304812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84" name="Line 10"/>
          <p:cNvSpPr/>
          <p:nvPr/>
        </p:nvSpPr>
        <p:spPr>
          <a:xfrm>
            <a:off x="903240" y="3629160"/>
            <a:ext cx="304812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85" name="Line 11"/>
          <p:cNvSpPr/>
          <p:nvPr/>
        </p:nvSpPr>
        <p:spPr>
          <a:xfrm>
            <a:off x="903240" y="3014640"/>
            <a:ext cx="304812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86" name="Line 12"/>
          <p:cNvSpPr/>
          <p:nvPr/>
        </p:nvSpPr>
        <p:spPr>
          <a:xfrm>
            <a:off x="903240" y="2398680"/>
            <a:ext cx="304812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87" name="Line 13"/>
          <p:cNvSpPr/>
          <p:nvPr/>
        </p:nvSpPr>
        <p:spPr>
          <a:xfrm flipV="1">
            <a:off x="1284120" y="2398680"/>
            <a:ext cx="0" cy="307512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88" name="Line 14"/>
          <p:cNvSpPr/>
          <p:nvPr/>
        </p:nvSpPr>
        <p:spPr>
          <a:xfrm flipV="1">
            <a:off x="1665360" y="2398680"/>
            <a:ext cx="0" cy="307512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89" name="Line 15"/>
          <p:cNvSpPr/>
          <p:nvPr/>
        </p:nvSpPr>
        <p:spPr>
          <a:xfrm flipV="1">
            <a:off x="2046240" y="2398680"/>
            <a:ext cx="0" cy="307512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2427120" y="2398680"/>
            <a:ext cx="0" cy="307512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91" name="Line 17"/>
          <p:cNvSpPr/>
          <p:nvPr/>
        </p:nvSpPr>
        <p:spPr>
          <a:xfrm flipV="1">
            <a:off x="2808360" y="2398680"/>
            <a:ext cx="0" cy="307512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92" name="Line 18"/>
          <p:cNvSpPr/>
          <p:nvPr/>
        </p:nvSpPr>
        <p:spPr>
          <a:xfrm flipV="1">
            <a:off x="3189240" y="2398680"/>
            <a:ext cx="0" cy="307512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93" name="Line 19"/>
          <p:cNvSpPr/>
          <p:nvPr/>
        </p:nvSpPr>
        <p:spPr>
          <a:xfrm flipV="1">
            <a:off x="3570120" y="2398680"/>
            <a:ext cx="0" cy="307512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94" name="Line 20"/>
          <p:cNvSpPr/>
          <p:nvPr/>
        </p:nvSpPr>
        <p:spPr>
          <a:xfrm flipV="1">
            <a:off x="3951360" y="2398680"/>
            <a:ext cx="0" cy="307512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95" name="Text Box 21"/>
          <p:cNvSpPr/>
          <p:nvPr/>
        </p:nvSpPr>
        <p:spPr>
          <a:xfrm>
            <a:off x="649440" y="5473800"/>
            <a:ext cx="5094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1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96" name="Text Box 22"/>
          <p:cNvSpPr/>
          <p:nvPr/>
        </p:nvSpPr>
        <p:spPr>
          <a:xfrm>
            <a:off x="1030320" y="5473800"/>
            <a:ext cx="5094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1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97" name="Text Box 23"/>
          <p:cNvSpPr/>
          <p:nvPr/>
        </p:nvSpPr>
        <p:spPr>
          <a:xfrm>
            <a:off x="395280" y="4653000"/>
            <a:ext cx="6364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0,002</a:t>
            </a:r>
            <a:endParaRPr b="1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98" name="Text Box 24"/>
          <p:cNvSpPr/>
          <p:nvPr/>
        </p:nvSpPr>
        <p:spPr>
          <a:xfrm>
            <a:off x="4332240" y="5473800"/>
            <a:ext cx="5097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000" spc="-1" strike="noStrike" baseline="30000">
                <a:solidFill>
                  <a:srgbClr val="000000"/>
                </a:solidFill>
                <a:latin typeface="Arial"/>
              </a:rPr>
              <a:t>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99" name="Text Box 25"/>
          <p:cNvSpPr/>
          <p:nvPr/>
        </p:nvSpPr>
        <p:spPr>
          <a:xfrm>
            <a:off x="3697200" y="5473800"/>
            <a:ext cx="5097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00" name="Text Box 26"/>
          <p:cNvSpPr/>
          <p:nvPr/>
        </p:nvSpPr>
        <p:spPr>
          <a:xfrm>
            <a:off x="3316320" y="5473800"/>
            <a:ext cx="5094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01" name="Text Box 27"/>
          <p:cNvSpPr/>
          <p:nvPr/>
        </p:nvSpPr>
        <p:spPr>
          <a:xfrm>
            <a:off x="2935440" y="5473800"/>
            <a:ext cx="5094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02" name="Text Box 28"/>
          <p:cNvSpPr/>
          <p:nvPr/>
        </p:nvSpPr>
        <p:spPr>
          <a:xfrm>
            <a:off x="2554200" y="5473800"/>
            <a:ext cx="5097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03" name="Text Box 29"/>
          <p:cNvSpPr/>
          <p:nvPr/>
        </p:nvSpPr>
        <p:spPr>
          <a:xfrm>
            <a:off x="2173320" y="5473800"/>
            <a:ext cx="5094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1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04" name="Text Box 30"/>
          <p:cNvSpPr/>
          <p:nvPr/>
        </p:nvSpPr>
        <p:spPr>
          <a:xfrm>
            <a:off x="1792440" y="5473800"/>
            <a:ext cx="5094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1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05" name="Text Box 31"/>
          <p:cNvSpPr/>
          <p:nvPr/>
        </p:nvSpPr>
        <p:spPr>
          <a:xfrm>
            <a:off x="1411200" y="5473800"/>
            <a:ext cx="5097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1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06" name="Text Box 32"/>
          <p:cNvSpPr/>
          <p:nvPr/>
        </p:nvSpPr>
        <p:spPr>
          <a:xfrm>
            <a:off x="522360" y="2193840"/>
            <a:ext cx="6364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1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07" name="Text Box 33"/>
          <p:cNvSpPr/>
          <p:nvPr/>
        </p:nvSpPr>
        <p:spPr>
          <a:xfrm>
            <a:off x="395280" y="2808360"/>
            <a:ext cx="6350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0,008</a:t>
            </a:r>
            <a:endParaRPr b="1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08" name="Text Box 34"/>
          <p:cNvSpPr/>
          <p:nvPr/>
        </p:nvSpPr>
        <p:spPr>
          <a:xfrm>
            <a:off x="395280" y="3424320"/>
            <a:ext cx="6364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0,006</a:t>
            </a:r>
            <a:endParaRPr b="1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09" name="Text Box 35"/>
          <p:cNvSpPr/>
          <p:nvPr/>
        </p:nvSpPr>
        <p:spPr>
          <a:xfrm>
            <a:off x="395280" y="4038480"/>
            <a:ext cx="6364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0,004</a:t>
            </a:r>
            <a:endParaRPr b="1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10" name="Freeform 36"/>
          <p:cNvSpPr/>
          <p:nvPr/>
        </p:nvSpPr>
        <p:spPr>
          <a:xfrm>
            <a:off x="903240" y="2603520"/>
            <a:ext cx="1905120" cy="21178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2117880"/>
              <a:gd name="textAreaBottom" fmla="*/ 2118240 h 2117880"/>
            </a:gdLst>
            <a:ahLst/>
            <a:rect l="textAreaLeft" t="textAreaTop" r="textAreaRight" b="textAreaBottom"/>
            <a:pathLst>
              <a:path w="2700" h="1860">
                <a:moveTo>
                  <a:pt x="0" y="1800"/>
                </a:moveTo>
                <a:cubicBezTo>
                  <a:pt x="270" y="1830"/>
                  <a:pt x="540" y="1860"/>
                  <a:pt x="720" y="1620"/>
                </a:cubicBezTo>
                <a:cubicBezTo>
                  <a:pt x="900" y="1380"/>
                  <a:pt x="990" y="630"/>
                  <a:pt x="1080" y="360"/>
                </a:cubicBezTo>
                <a:cubicBezTo>
                  <a:pt x="1170" y="90"/>
                  <a:pt x="1200" y="0"/>
                  <a:pt x="1260" y="0"/>
                </a:cubicBezTo>
                <a:cubicBezTo>
                  <a:pt x="1320" y="0"/>
                  <a:pt x="1380" y="210"/>
                  <a:pt x="1440" y="360"/>
                </a:cubicBezTo>
                <a:cubicBezTo>
                  <a:pt x="1500" y="510"/>
                  <a:pt x="1560" y="720"/>
                  <a:pt x="1620" y="900"/>
                </a:cubicBezTo>
                <a:cubicBezTo>
                  <a:pt x="1680" y="1080"/>
                  <a:pt x="1710" y="1290"/>
                  <a:pt x="1800" y="1440"/>
                </a:cubicBezTo>
                <a:cubicBezTo>
                  <a:pt x="1890" y="1590"/>
                  <a:pt x="2010" y="1740"/>
                  <a:pt x="2160" y="1800"/>
                </a:cubicBezTo>
                <a:cubicBezTo>
                  <a:pt x="2310" y="1860"/>
                  <a:pt x="2610" y="1800"/>
                  <a:pt x="2700" y="180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11" name="Freeform 37"/>
          <p:cNvSpPr/>
          <p:nvPr/>
        </p:nvSpPr>
        <p:spPr>
          <a:xfrm>
            <a:off x="2808360" y="2603520"/>
            <a:ext cx="1904760" cy="211788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2117880"/>
              <a:gd name="textAreaBottom" fmla="*/ 2118240 h 2117880"/>
            </a:gdLst>
            <a:ahLst/>
            <a:rect l="textAreaLeft" t="textAreaTop" r="textAreaRight" b="textAreaBottom"/>
            <a:pathLst>
              <a:path w="2700" h="1860">
                <a:moveTo>
                  <a:pt x="0" y="1800"/>
                </a:moveTo>
                <a:cubicBezTo>
                  <a:pt x="270" y="1830"/>
                  <a:pt x="540" y="1860"/>
                  <a:pt x="720" y="1620"/>
                </a:cubicBezTo>
                <a:cubicBezTo>
                  <a:pt x="900" y="1380"/>
                  <a:pt x="990" y="630"/>
                  <a:pt x="1080" y="360"/>
                </a:cubicBezTo>
                <a:cubicBezTo>
                  <a:pt x="1170" y="90"/>
                  <a:pt x="1200" y="0"/>
                  <a:pt x="1260" y="0"/>
                </a:cubicBezTo>
                <a:cubicBezTo>
                  <a:pt x="1320" y="0"/>
                  <a:pt x="1380" y="210"/>
                  <a:pt x="1440" y="360"/>
                </a:cubicBezTo>
                <a:cubicBezTo>
                  <a:pt x="1500" y="510"/>
                  <a:pt x="1560" y="720"/>
                  <a:pt x="1620" y="900"/>
                </a:cubicBezTo>
                <a:cubicBezTo>
                  <a:pt x="1680" y="1080"/>
                  <a:pt x="1710" y="1290"/>
                  <a:pt x="1800" y="1440"/>
                </a:cubicBezTo>
                <a:cubicBezTo>
                  <a:pt x="1890" y="1590"/>
                  <a:pt x="2010" y="1740"/>
                  <a:pt x="2160" y="1800"/>
                </a:cubicBezTo>
                <a:cubicBezTo>
                  <a:pt x="2310" y="1860"/>
                  <a:pt x="2610" y="1800"/>
                  <a:pt x="2700" y="180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12" name="Text Box 39"/>
          <p:cNvSpPr/>
          <p:nvPr/>
        </p:nvSpPr>
        <p:spPr>
          <a:xfrm>
            <a:off x="4284720" y="1913040"/>
            <a:ext cx="4248000" cy="3660120"/>
          </a:xfrm>
          <a:prstGeom prst="rect">
            <a:avLst/>
          </a:prstGeom>
          <a:solidFill>
            <a:srgbClr val="99ff33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Залежність tg δ від 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t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○ С для конденсаторного паперу, просоченого компаундом (80% каніфолі, 20% трансформаторного масла) Крива має 2 максимуму: перший (при низьких температурах) характеризує дипольно-радикальні втрати самого паперу (целюлози), другий (при більш високій температурі) обумовлений дипольно-релаксаційними втратами просоченого компаунда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13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6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Діелектричні втрат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4" name=""/>
          <p:cNvGraphicFramePr/>
          <p:nvPr/>
        </p:nvGraphicFramePr>
        <p:xfrm>
          <a:off x="539640" y="533520"/>
          <a:ext cx="8070840" cy="5375160"/>
        </p:xfrm>
        <a:graphic>
          <a:graphicData uri="http://schemas.openxmlformats.org/drawingml/2006/table">
            <a:tbl>
              <a:tblPr/>
              <a:tblGrid>
                <a:gridCol w="2378160"/>
                <a:gridCol w="3154320"/>
                <a:gridCol w="2538360"/>
              </a:tblGrid>
              <a:tr h="35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Діелектричні втра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Особливості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Види діелектрик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Релаксаційні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Рис. 3-4 (ст.. 59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Максимум tg δ в залежності від частоти та температур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Дипольні рідкі та тверді діелектрики з нещільною упаковкою іонів у кристалічній гратці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Резонансні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Наявність різко вираженого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max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 при частоті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f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&gt;10</a:t>
                      </a:r>
                      <a:r>
                        <a:rPr b="0" lang="uk-UA" sz="1400" spc="-1" strike="noStrike" baseline="30000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3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 Гц, положення якого не залежить від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t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Всі види діелектриків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Спонтанні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Рис.3-10 (ст.. 64) Великі вище точки Кюрі спостерігає різке зменшенн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Сегнетоелектрик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Обумовлені електропровідністю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Не залежать від частоти і збільшується від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t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Рідкі та тверді діелектрики з великою електропровідністю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Іонізаційні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Спостерігаються при напругах які вищі ніж іонізаційні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Газоподібні діелектрики і тверді з газовими включенням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Обумовлені неоднорідні структур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Складна залежність від компонентів які входять до діелектрика рис. 3-12 (ст..66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Неоднорідні діелетрик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5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6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Діелектричні втрат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7030a0"/>
                </a:solidFill>
                <a:latin typeface="Goudy Stout"/>
                <a:ea typeface="Times New Roman"/>
              </a:rPr>
              <a:t>План лекції: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4. Діелектричні втрат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684360" y="1700280"/>
            <a:ext cx="79182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 fontScale="92000"/>
          </a:bodyPr>
          <a:p>
            <a:pPr lvl="1" marL="911160" indent="-490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Century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"/>
              </a:rPr>
              <a:t>Основні визначення та основні поняття діелектричних втрат. Визначення активної потужності діелектричних втрат</a:t>
            </a:r>
            <a:endParaRPr b="1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1" marL="911160" indent="-490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Century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"/>
              </a:rPr>
              <a:t>Види діелектричних втрат</a:t>
            </a:r>
            <a:endParaRPr b="1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1" marL="911160" indent="-490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Century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"/>
              </a:rPr>
              <a:t>Діелектричні втрати в газах</a:t>
            </a:r>
            <a:endParaRPr b="1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1" marL="911160" indent="-490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Century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"/>
              </a:rPr>
              <a:t>Діелектричні втрати в рідких діелектриках</a:t>
            </a:r>
            <a:endParaRPr b="1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1" marL="911160" indent="-490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Century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"/>
              </a:rPr>
              <a:t>Діелектричні трати в твердих діелектриках</a:t>
            </a:r>
            <a:endParaRPr b="1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468360" y="763560"/>
            <a:ext cx="80834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600" spc="-1" strike="noStrike" u="sng">
                <a:solidFill>
                  <a:srgbClr val="7030a0"/>
                </a:solidFill>
                <a:uFillTx/>
                <a:latin typeface="Century"/>
              </a:rPr>
              <a:t>Діелектричними втратами</a:t>
            </a:r>
            <a:r>
              <a:rPr b="0" lang="uz-Cyrl-UZ" sz="1600" spc="-1" strike="noStrike" u="sng">
                <a:solidFill>
                  <a:srgbClr val="660066"/>
                </a:solidFill>
                <a:uFillTx/>
                <a:latin typeface="Century"/>
              </a:rPr>
              <a:t> </a:t>
            </a:r>
            <a:r>
              <a:rPr b="0" lang="uz-Cyrl-UZ" sz="1600" spc="-1" strike="noStrike">
                <a:solidFill>
                  <a:srgbClr val="000000"/>
                </a:solidFill>
                <a:latin typeface="Century"/>
              </a:rPr>
              <a:t>– називають енергію, що розсіюється за одиницю часу в діелектрику при дії на нього електричного поля і викликає нагрівання діелектрика.Втрати енергії в діелектрику спостерігаються, як при змінній напрузі, так при постійній, оскільки в матеріалі утворюється наскрізний струм, обумовлений провідністю.Діелектричні втрати в електроізоляційному матеріалі можна характеризувати розсіюванню потужністю, віднесеною до одиниці об’єму, чи </a:t>
            </a:r>
            <a:r>
              <a:rPr b="0" lang="uz-Cyrl-UZ" sz="1600" spc="-1" strike="noStrike" u="sng">
                <a:solidFill>
                  <a:srgbClr val="000000"/>
                </a:solidFill>
                <a:uFillTx/>
                <a:latin typeface="Century"/>
              </a:rPr>
              <a:t>питомими втратами</a:t>
            </a:r>
            <a:r>
              <a:rPr b="0" lang="uz-Cyrl-UZ" sz="1600" spc="-1" strike="noStrike">
                <a:solidFill>
                  <a:srgbClr val="000000"/>
                </a:solidFill>
                <a:latin typeface="Century"/>
              </a:rPr>
              <a:t>.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uz-Cyrl-UZ" sz="16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1" lang="uz-Cyrl-UZ" sz="1600" spc="-1" strike="noStrike" u="sng">
                <a:solidFill>
                  <a:srgbClr val="7030a0"/>
                </a:solidFill>
                <a:uFillTx/>
                <a:latin typeface="Century"/>
              </a:rPr>
              <a:t>Кутом діелектричних втрат</a:t>
            </a:r>
            <a:r>
              <a:rPr b="1" lang="uz-Cyrl-UZ" sz="1600" spc="-1" strike="noStrike">
                <a:solidFill>
                  <a:srgbClr val="7030a0"/>
                </a:solidFill>
                <a:latin typeface="Century"/>
              </a:rPr>
              <a:t> (δ)</a:t>
            </a:r>
            <a:r>
              <a:rPr b="0" lang="uz-Cyrl-UZ" sz="1600" spc="-1" strike="noStrike">
                <a:solidFill>
                  <a:srgbClr val="000000"/>
                </a:solidFill>
                <a:latin typeface="Century"/>
              </a:rPr>
              <a:t> -  називається кут, який доповнює до 90○ кут зсуву фаз φ між струмом і напругою в ємкісному ланцюзі. В ідеальному діелектрику вектор струму в такому ланцюзі буде випереджувати вектор напруги на 90○, при цьому </a:t>
            </a:r>
            <a:r>
              <a:rPr b="0" lang="uz-Cyrl-UZ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z-Cyrl-UZ" sz="1600" spc="-1" strike="noStrike">
                <a:solidFill>
                  <a:srgbClr val="000000"/>
                </a:solidFill>
                <a:latin typeface="Century"/>
              </a:rPr>
              <a:t>δ=0. Чим більшою є розсіювана в діелектрику потужність, що переходить у тепло, тим менший кут зсуву фаз φ, і тим більший є кут діелектричних втрат δ, і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його функція </a:t>
            </a:r>
            <a:r>
              <a:rPr b="0" lang="uz-Cyrl-UZ" sz="1600" spc="-1" strike="noStrike">
                <a:solidFill>
                  <a:srgbClr val="000000"/>
                </a:solidFill>
                <a:latin typeface="Century"/>
              </a:rPr>
              <a:t>tg δ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U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229" name="Group 3"/>
          <p:cNvGrpSpPr/>
          <p:nvPr/>
        </p:nvGrpSpPr>
        <p:grpSpPr>
          <a:xfrm>
            <a:off x="1042920" y="3753000"/>
            <a:ext cx="7089480" cy="2436480"/>
            <a:chOff x="1042920" y="3753000"/>
            <a:chExt cx="7089480" cy="2436480"/>
          </a:xfrm>
        </p:grpSpPr>
        <p:grpSp>
          <p:nvGrpSpPr>
            <p:cNvPr id="230" name="Group 4"/>
            <p:cNvGrpSpPr/>
            <p:nvPr/>
          </p:nvGrpSpPr>
          <p:grpSpPr>
            <a:xfrm>
              <a:off x="1167480" y="3753000"/>
              <a:ext cx="6964920" cy="1865880"/>
              <a:chOff x="1167480" y="3753000"/>
              <a:chExt cx="6964920" cy="1865880"/>
            </a:xfrm>
          </p:grpSpPr>
          <p:grpSp>
            <p:nvGrpSpPr>
              <p:cNvPr id="231" name="Group 5"/>
              <p:cNvGrpSpPr/>
              <p:nvPr/>
            </p:nvGrpSpPr>
            <p:grpSpPr>
              <a:xfrm>
                <a:off x="1167480" y="3753000"/>
                <a:ext cx="2842920" cy="1751400"/>
                <a:chOff x="1167480" y="3753000"/>
                <a:chExt cx="2842920" cy="1751400"/>
              </a:xfrm>
            </p:grpSpPr>
            <p:grpSp>
              <p:nvGrpSpPr>
                <p:cNvPr id="232" name="Group 6"/>
                <p:cNvGrpSpPr/>
                <p:nvPr/>
              </p:nvGrpSpPr>
              <p:grpSpPr>
                <a:xfrm>
                  <a:off x="1200960" y="3903120"/>
                  <a:ext cx="2408400" cy="1372680"/>
                  <a:chOff x="1200960" y="3903120"/>
                  <a:chExt cx="2408400" cy="1372680"/>
                </a:xfrm>
              </p:grpSpPr>
              <p:sp>
                <p:nvSpPr>
                  <p:cNvPr id="233" name="Line 7"/>
                  <p:cNvSpPr/>
                  <p:nvPr/>
                </p:nvSpPr>
                <p:spPr>
                  <a:xfrm>
                    <a:off x="1200960" y="5275800"/>
                    <a:ext cx="2408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Century"/>
                    </a:endParaRPr>
                  </a:p>
                </p:txBody>
              </p:sp>
              <p:sp>
                <p:nvSpPr>
                  <p:cNvPr id="234" name="Line 8"/>
                  <p:cNvSpPr/>
                  <p:nvPr/>
                </p:nvSpPr>
                <p:spPr>
                  <a:xfrm flipV="1">
                    <a:off x="1200960" y="3903120"/>
                    <a:ext cx="0" cy="1370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Century"/>
                    </a:endParaRPr>
                  </a:p>
                </p:txBody>
              </p:sp>
              <p:sp>
                <p:nvSpPr>
                  <p:cNvPr id="235" name="Line 9"/>
                  <p:cNvSpPr/>
                  <p:nvPr/>
                </p:nvSpPr>
                <p:spPr>
                  <a:xfrm flipV="1">
                    <a:off x="1200960" y="3903480"/>
                    <a:ext cx="1337760" cy="1372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Century"/>
                    </a:endParaRPr>
                  </a:p>
                </p:txBody>
              </p:sp>
              <p:sp>
                <p:nvSpPr>
                  <p:cNvPr id="236" name="Line 10"/>
                  <p:cNvSpPr/>
                  <p:nvPr/>
                </p:nvSpPr>
                <p:spPr>
                  <a:xfrm>
                    <a:off x="2137320" y="4360680"/>
                    <a:ext cx="1338120" cy="912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Century"/>
                    </a:endParaRPr>
                  </a:p>
                </p:txBody>
              </p:sp>
            </p:grpSp>
            <p:sp>
              <p:nvSpPr>
                <p:cNvPr id="237" name="Rectangle 11"/>
                <p:cNvSpPr/>
                <p:nvPr/>
              </p:nvSpPr>
              <p:spPr>
                <a:xfrm>
                  <a:off x="3609360" y="5275800"/>
                  <a:ext cx="401040" cy="228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4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U</a:t>
                  </a:r>
                  <a:endParaRPr b="1" lang="en-US" sz="12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  <p:sp>
              <p:nvSpPr>
                <p:cNvPr id="238" name="Rectangle 12"/>
                <p:cNvSpPr/>
                <p:nvPr/>
              </p:nvSpPr>
              <p:spPr>
                <a:xfrm>
                  <a:off x="2405160" y="4017960"/>
                  <a:ext cx="401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4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1" lang="en-US" sz="12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  <p:sp>
              <p:nvSpPr>
                <p:cNvPr id="239" name="Rectangle 13"/>
                <p:cNvSpPr/>
                <p:nvPr/>
              </p:nvSpPr>
              <p:spPr>
                <a:xfrm>
                  <a:off x="1602360" y="4246560"/>
                  <a:ext cx="4010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4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I</a:t>
                  </a:r>
                  <a:endParaRPr b="1" lang="en-US" sz="12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  <p:sp>
              <p:nvSpPr>
                <p:cNvPr id="240" name="Rectangle 14"/>
                <p:cNvSpPr/>
                <p:nvPr/>
              </p:nvSpPr>
              <p:spPr>
                <a:xfrm>
                  <a:off x="1200960" y="4589640"/>
                  <a:ext cx="40104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δ</a:t>
                  </a:r>
                  <a:endParaRPr b="1" lang="en-US" sz="14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  <p:sp>
              <p:nvSpPr>
                <p:cNvPr id="241" name="Rectangle 15"/>
                <p:cNvSpPr/>
                <p:nvPr/>
              </p:nvSpPr>
              <p:spPr>
                <a:xfrm>
                  <a:off x="1602360" y="4932720"/>
                  <a:ext cx="534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φ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14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  <p:sp>
              <p:nvSpPr>
                <p:cNvPr id="242" name="Rectangle 16"/>
                <p:cNvSpPr/>
                <p:nvPr/>
              </p:nvSpPr>
              <p:spPr>
                <a:xfrm>
                  <a:off x="2539080" y="5047200"/>
                  <a:ext cx="4010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4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1" lang="en-US" sz="12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  <p:sp>
              <p:nvSpPr>
                <p:cNvPr id="243" name="Rectangle 17"/>
                <p:cNvSpPr/>
                <p:nvPr/>
              </p:nvSpPr>
              <p:spPr>
                <a:xfrm>
                  <a:off x="2670480" y="4475520"/>
                  <a:ext cx="80244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/ωC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1" lang="en-US" sz="16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  <p:sp>
              <p:nvSpPr>
                <p:cNvPr id="244" name="Arc 18"/>
                <p:cNvSpPr/>
                <p:nvPr/>
              </p:nvSpPr>
              <p:spPr>
                <a:xfrm flipH="1" flipV="1" rot="11121600">
                  <a:off x="2671200" y="3787920"/>
                  <a:ext cx="802440" cy="800280"/>
                </a:xfrm>
                <a:custGeom>
                  <a:avLst/>
                  <a:gdLst>
                    <a:gd name="textAreaLeft" fmla="*/ -360 w 802440"/>
                    <a:gd name="textAreaRight" fmla="*/ 802440 w 802440"/>
                    <a:gd name="textAreaTop" fmla="*/ -360 h 800280"/>
                    <a:gd name="textAreaBottom" fmla="*/ 800280 h 800280"/>
                  </a:gdLst>
                  <a:ahLst/>
                  <a:rect l="textAreaLeft" t="textAreaTop" r="textAreaRight" b="textAreaBottom"/>
                  <a:pathLst>
                    <a:path fill="none" w="20986" h="21570">
                      <a:moveTo>
                        <a:pt x="1135" y="-1"/>
                      </a:moveTo>
                      <a:cubicBezTo>
                        <a:pt x="10660" y="501"/>
                        <a:pt x="18728" y="7190"/>
                        <a:pt x="20986" y="16457"/>
                      </a:cubicBezTo>
                    </a:path>
                    <a:path stroke="0" w="20986" h="21570">
                      <a:moveTo>
                        <a:pt x="1135" y="-1"/>
                      </a:moveTo>
                      <a:cubicBezTo>
                        <a:pt x="10660" y="501"/>
                        <a:pt x="18728" y="7190"/>
                        <a:pt x="20986" y="16457"/>
                      </a:cubicBezTo>
                      <a:lnTo>
                        <a:pt x="0" y="21570"/>
                      </a:lnTo>
                      <a:lnTo>
                        <a:pt x="1135" y="-1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  <p:sp>
              <p:nvSpPr>
                <p:cNvPr id="245" name="Arc 19"/>
                <p:cNvSpPr/>
                <p:nvPr/>
              </p:nvSpPr>
              <p:spPr>
                <a:xfrm>
                  <a:off x="1468440" y="4941000"/>
                  <a:ext cx="267480" cy="334800"/>
                </a:xfrm>
                <a:custGeom>
                  <a:avLst/>
                  <a:gdLst>
                    <a:gd name="textAreaLeft" fmla="*/ 0 w 267480"/>
                    <a:gd name="textAreaRight" fmla="*/ 267840 w 267480"/>
                    <a:gd name="textAreaTop" fmla="*/ 0 h 334800"/>
                    <a:gd name="textAreaBottom" fmla="*/ 335160 h 334800"/>
                  </a:gdLst>
                  <a:ahLst/>
                  <a:rect l="textAreaLeft" t="textAreaTop" r="textAreaRight" b="textAreaBottom"/>
                  <a:pathLst>
                    <a:path fill="none" w="21600" h="21093">
                      <a:moveTo>
                        <a:pt x="4652" y="0"/>
                      </a:moveTo>
                      <a:cubicBezTo>
                        <a:pt x="14551" y="2183"/>
                        <a:pt x="21600" y="10956"/>
                        <a:pt x="21600" y="21093"/>
                      </a:cubicBezTo>
                    </a:path>
                    <a:path stroke="0" w="21600" h="21093">
                      <a:moveTo>
                        <a:pt x="4652" y="0"/>
                      </a:moveTo>
                      <a:cubicBezTo>
                        <a:pt x="14551" y="2183"/>
                        <a:pt x="21600" y="10956"/>
                        <a:pt x="21600" y="21093"/>
                      </a:cubicBezTo>
                      <a:lnTo>
                        <a:pt x="0" y="21093"/>
                      </a:lnTo>
                      <a:lnTo>
                        <a:pt x="4652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  <p:sp>
              <p:nvSpPr>
                <p:cNvPr id="246" name="Arc 20"/>
                <p:cNvSpPr/>
                <p:nvPr/>
              </p:nvSpPr>
              <p:spPr>
                <a:xfrm>
                  <a:off x="1200960" y="4932720"/>
                  <a:ext cx="258480" cy="114120"/>
                </a:xfrm>
                <a:custGeom>
                  <a:avLst/>
                  <a:gdLst>
                    <a:gd name="textAreaLeft" fmla="*/ 0 w 258480"/>
                    <a:gd name="textAreaRight" fmla="*/ 258840 w 25848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fill="none" w="20901" h="21600">
                      <a:moveTo>
                        <a:pt x="-1" y="0"/>
                      </a:moveTo>
                      <a:cubicBezTo>
                        <a:pt x="9829" y="0"/>
                        <a:pt x="18419" y="6636"/>
                        <a:pt x="20900" y="16148"/>
                      </a:cubicBezTo>
                    </a:path>
                    <a:path stroke="0" w="20901" h="21600">
                      <a:moveTo>
                        <a:pt x="-1" y="0"/>
                      </a:moveTo>
                      <a:cubicBezTo>
                        <a:pt x="9829" y="0"/>
                        <a:pt x="18419" y="6636"/>
                        <a:pt x="20900" y="16148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  <p:sp>
              <p:nvSpPr>
                <p:cNvPr id="247" name="Arc 21"/>
                <p:cNvSpPr/>
                <p:nvPr/>
              </p:nvSpPr>
              <p:spPr>
                <a:xfrm rot="582000">
                  <a:off x="1173960" y="4814280"/>
                  <a:ext cx="381240" cy="114120"/>
                </a:xfrm>
                <a:custGeom>
                  <a:avLst/>
                  <a:gdLst>
                    <a:gd name="textAreaLeft" fmla="*/ 0 w 381240"/>
                    <a:gd name="textAreaRight" fmla="*/ 381600 w 38124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fill="none" w="20502" h="21600">
                      <a:moveTo>
                        <a:pt x="-1" y="50"/>
                      </a:moveTo>
                      <a:cubicBezTo>
                        <a:pt x="493" y="16"/>
                        <a:pt x="987" y="-1"/>
                        <a:pt x="1482" y="0"/>
                      </a:cubicBezTo>
                      <a:cubicBezTo>
                        <a:pt x="9430" y="0"/>
                        <a:pt x="16735" y="4364"/>
                        <a:pt x="20502" y="11363"/>
                      </a:cubicBezTo>
                    </a:path>
                    <a:path stroke="0" w="20502" h="21600">
                      <a:moveTo>
                        <a:pt x="-1" y="50"/>
                      </a:moveTo>
                      <a:cubicBezTo>
                        <a:pt x="493" y="16"/>
                        <a:pt x="987" y="-1"/>
                        <a:pt x="1482" y="0"/>
                      </a:cubicBezTo>
                      <a:cubicBezTo>
                        <a:pt x="9430" y="0"/>
                        <a:pt x="16735" y="4364"/>
                        <a:pt x="20502" y="11363"/>
                      </a:cubicBezTo>
                      <a:lnTo>
                        <a:pt x="1482" y="21600"/>
                      </a:lnTo>
                      <a:lnTo>
                        <a:pt x="-1" y="5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</p:grpSp>
          <p:grpSp>
            <p:nvGrpSpPr>
              <p:cNvPr id="248" name="Group 22"/>
              <p:cNvGrpSpPr/>
              <p:nvPr/>
            </p:nvGrpSpPr>
            <p:grpSpPr>
              <a:xfrm>
                <a:off x="5054760" y="3789000"/>
                <a:ext cx="3077640" cy="1829880"/>
                <a:chOff x="5054760" y="3789000"/>
                <a:chExt cx="3077640" cy="1829880"/>
              </a:xfrm>
            </p:grpSpPr>
            <p:grpSp>
              <p:nvGrpSpPr>
                <p:cNvPr id="249" name="Group 23"/>
                <p:cNvGrpSpPr/>
                <p:nvPr/>
              </p:nvGrpSpPr>
              <p:grpSpPr>
                <a:xfrm>
                  <a:off x="5456160" y="3789000"/>
                  <a:ext cx="2676240" cy="1829880"/>
                  <a:chOff x="5456160" y="3789000"/>
                  <a:chExt cx="2676240" cy="1829880"/>
                </a:xfrm>
              </p:grpSpPr>
              <p:grpSp>
                <p:nvGrpSpPr>
                  <p:cNvPr id="250" name="Group 24"/>
                  <p:cNvGrpSpPr/>
                  <p:nvPr/>
                </p:nvGrpSpPr>
                <p:grpSpPr>
                  <a:xfrm>
                    <a:off x="5456160" y="3789000"/>
                    <a:ext cx="2408400" cy="1488600"/>
                    <a:chOff x="5456160" y="3789000"/>
                    <a:chExt cx="2408400" cy="1488600"/>
                  </a:xfrm>
                </p:grpSpPr>
                <p:sp>
                  <p:nvSpPr>
                    <p:cNvPr id="251" name="Line 25"/>
                    <p:cNvSpPr/>
                    <p:nvPr/>
                  </p:nvSpPr>
                  <p:spPr>
                    <a:xfrm>
                      <a:off x="5456160" y="5277600"/>
                      <a:ext cx="24084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p:txBody>
                </p:sp>
                <p:sp>
                  <p:nvSpPr>
                    <p:cNvPr id="252" name="Line 26"/>
                    <p:cNvSpPr/>
                    <p:nvPr/>
                  </p:nvSpPr>
                  <p:spPr>
                    <a:xfrm flipV="1">
                      <a:off x="5456160" y="3789000"/>
                      <a:ext cx="0" cy="1486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p:txBody>
                </p:sp>
                <p:sp>
                  <p:nvSpPr>
                    <p:cNvPr id="253" name="Line 27"/>
                    <p:cNvSpPr/>
                    <p:nvPr/>
                  </p:nvSpPr>
                  <p:spPr>
                    <a:xfrm flipV="1">
                      <a:off x="5456160" y="3789000"/>
                      <a:ext cx="936360" cy="1486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p:txBody>
                </p:sp>
                <p:sp>
                  <p:nvSpPr>
                    <p:cNvPr id="254" name="Line 28"/>
                    <p:cNvSpPr/>
                    <p:nvPr/>
                  </p:nvSpPr>
                  <p:spPr>
                    <a:xfrm>
                      <a:off x="5456160" y="3789360"/>
                      <a:ext cx="936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p:txBody>
                </p:sp>
              </p:grpSp>
              <p:sp>
                <p:nvSpPr>
                  <p:cNvPr id="255" name="Arc 29"/>
                  <p:cNvSpPr/>
                  <p:nvPr/>
                </p:nvSpPr>
                <p:spPr>
                  <a:xfrm>
                    <a:off x="5589720" y="5047200"/>
                    <a:ext cx="267480" cy="228600"/>
                  </a:xfrm>
                  <a:custGeom>
                    <a:avLst/>
                    <a:gdLst>
                      <a:gd name="textAreaLeft" fmla="*/ 0 w 267480"/>
                      <a:gd name="textAreaRight" fmla="*/ 267840 w 267480"/>
                      <a:gd name="textAreaTop" fmla="*/ 0 h 228600"/>
                      <a:gd name="textAreaBottom" fmla="*/ 228960 h 22860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Century"/>
                    </a:endParaRPr>
                  </a:p>
                </p:txBody>
              </p:sp>
              <p:sp>
                <p:nvSpPr>
                  <p:cNvPr id="256" name="Arc 30"/>
                  <p:cNvSpPr/>
                  <p:nvPr/>
                </p:nvSpPr>
                <p:spPr>
                  <a:xfrm>
                    <a:off x="5456160" y="4818240"/>
                    <a:ext cx="248760" cy="114120"/>
                  </a:xfrm>
                  <a:custGeom>
                    <a:avLst/>
                    <a:gdLst>
                      <a:gd name="textAreaLeft" fmla="*/ 0 w 248760"/>
                      <a:gd name="textAreaRight" fmla="*/ 249120 w 248760"/>
                      <a:gd name="textAreaTop" fmla="*/ 0 h 114120"/>
                      <a:gd name="textAreaBottom" fmla="*/ 114480 h 114120"/>
                    </a:gdLst>
                    <a:ahLst/>
                    <a:rect l="textAreaLeft" t="textAreaTop" r="textAreaRight" b="textAreaBottom"/>
                    <a:pathLst>
                      <a:path fill="none" w="20118" h="21600">
                        <a:moveTo>
                          <a:pt x="-1" y="0"/>
                        </a:moveTo>
                        <a:cubicBezTo>
                          <a:pt x="8894" y="0"/>
                          <a:pt x="16880" y="5452"/>
                          <a:pt x="20117" y="13737"/>
                        </a:cubicBezTo>
                      </a:path>
                      <a:path stroke="0" w="20118" h="21600">
                        <a:moveTo>
                          <a:pt x="-1" y="0"/>
                        </a:moveTo>
                        <a:cubicBezTo>
                          <a:pt x="8894" y="0"/>
                          <a:pt x="16880" y="5452"/>
                          <a:pt x="20117" y="1373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Century"/>
                    </a:endParaRPr>
                  </a:p>
                </p:txBody>
              </p:sp>
              <p:sp>
                <p:nvSpPr>
                  <p:cNvPr id="257" name="Arc 31"/>
                  <p:cNvSpPr/>
                  <p:nvPr/>
                </p:nvSpPr>
                <p:spPr>
                  <a:xfrm>
                    <a:off x="5456160" y="4704120"/>
                    <a:ext cx="321120" cy="342720"/>
                  </a:xfrm>
                  <a:custGeom>
                    <a:avLst/>
                    <a:gdLst>
                      <a:gd name="textAreaLeft" fmla="*/ 0 w 321120"/>
                      <a:gd name="textAreaRight" fmla="*/ 321480 w 321120"/>
                      <a:gd name="textAreaTop" fmla="*/ 0 h 342720"/>
                      <a:gd name="textAreaBottom" fmla="*/ 343080 h 342720"/>
                    </a:gdLst>
                    <a:ahLst/>
                    <a:rect l="textAreaLeft" t="textAreaTop" r="textAreaRight" b="textAreaBottom"/>
                    <a:pathLst>
                      <a:path fill="none" w="12960" h="21600">
                        <a:moveTo>
                          <a:pt x="-1" y="0"/>
                        </a:moveTo>
                        <a:cubicBezTo>
                          <a:pt x="4673" y="0"/>
                          <a:pt x="9221" y="1515"/>
                          <a:pt x="12959" y="4319"/>
                        </a:cubicBezTo>
                      </a:path>
                      <a:path stroke="0" w="12960" h="21600">
                        <a:moveTo>
                          <a:pt x="-1" y="0"/>
                        </a:moveTo>
                        <a:cubicBezTo>
                          <a:pt x="4673" y="0"/>
                          <a:pt x="9221" y="1515"/>
                          <a:pt x="12959" y="4319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Century"/>
                    </a:endParaRPr>
                  </a:p>
                </p:txBody>
              </p:sp>
              <p:sp>
                <p:nvSpPr>
                  <p:cNvPr id="258" name="Rectangle 32"/>
                  <p:cNvSpPr/>
                  <p:nvPr/>
                </p:nvSpPr>
                <p:spPr>
                  <a:xfrm>
                    <a:off x="7731000" y="5390280"/>
                    <a:ext cx="4014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 fontScale="74000"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U</a:t>
                    </a:r>
                    <a:endParaRPr b="1" lang="en-US" sz="1200" spc="-1" strike="noStrike">
                      <a:solidFill>
                        <a:srgbClr val="000000"/>
                      </a:solidFill>
                      <a:latin typeface="Century"/>
                    </a:endParaRPr>
                  </a:p>
                </p:txBody>
              </p:sp>
            </p:grpSp>
            <p:sp>
              <p:nvSpPr>
                <p:cNvPr id="259" name="Rectangle 33"/>
                <p:cNvSpPr/>
                <p:nvPr/>
              </p:nvSpPr>
              <p:spPr>
                <a:xfrm rot="16200000">
                  <a:off x="4883760" y="4302720"/>
                  <a:ext cx="743040" cy="40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UωC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=I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12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  <p:sp>
              <p:nvSpPr>
                <p:cNvPr id="260" name="Rectangle 34"/>
                <p:cNvSpPr/>
                <p:nvPr/>
              </p:nvSpPr>
              <p:spPr>
                <a:xfrm>
                  <a:off x="5456160" y="3789360"/>
                  <a:ext cx="936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4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/R=Ia</a:t>
                  </a:r>
                  <a:endParaRPr b="1" lang="en-US" sz="12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  <p:sp>
              <p:nvSpPr>
                <p:cNvPr id="261" name="Rectangle 35"/>
                <p:cNvSpPr/>
                <p:nvPr/>
              </p:nvSpPr>
              <p:spPr>
                <a:xfrm>
                  <a:off x="5991120" y="4361040"/>
                  <a:ext cx="80280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</a:rPr>
                    <a:t>=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1" lang="en-US" sz="12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  <p:sp>
              <p:nvSpPr>
                <p:cNvPr id="262" name="Rectangle 36"/>
                <p:cNvSpPr/>
                <p:nvPr/>
              </p:nvSpPr>
              <p:spPr>
                <a:xfrm>
                  <a:off x="5456160" y="4475160"/>
                  <a:ext cx="401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4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</a:rPr>
                    <a:t>δ</a:t>
                  </a:r>
                  <a:endParaRPr b="1" lang="en-US" sz="12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  <p:sp>
              <p:nvSpPr>
                <p:cNvPr id="263" name="Rectangle 37"/>
                <p:cNvSpPr/>
                <p:nvPr/>
              </p:nvSpPr>
              <p:spPr>
                <a:xfrm>
                  <a:off x="5991120" y="4818240"/>
                  <a:ext cx="40140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</a:rPr>
                    <a:t>φ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12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  <p:sp>
              <p:nvSpPr>
                <p:cNvPr id="264" name="Arc 38"/>
                <p:cNvSpPr/>
                <p:nvPr/>
              </p:nvSpPr>
              <p:spPr>
                <a:xfrm>
                  <a:off x="5632200" y="4934160"/>
                  <a:ext cx="401400" cy="341640"/>
                </a:xfrm>
                <a:custGeom>
                  <a:avLst/>
                  <a:gdLst>
                    <a:gd name="textAreaLeft" fmla="*/ 0 w 401400"/>
                    <a:gd name="textAreaRight" fmla="*/ 401760 w 401400"/>
                    <a:gd name="textAreaTop" fmla="*/ 0 h 341640"/>
                    <a:gd name="textAreaBottom" fmla="*/ 342000 h 341640"/>
                  </a:gdLst>
                  <a:ahLst/>
                  <a:rect l="textAreaLeft" t="textAreaTop" r="textAreaRight" b="textAreaBottom"/>
                  <a:pathLst>
                    <a:path fill="none" w="21600" h="21526">
                      <a:moveTo>
                        <a:pt x="1789" y="0"/>
                      </a:moveTo>
                      <a:cubicBezTo>
                        <a:pt x="12986" y="931"/>
                        <a:pt x="21600" y="10290"/>
                        <a:pt x="21600" y="21526"/>
                      </a:cubicBezTo>
                    </a:path>
                    <a:path stroke="0" w="21600" h="21526">
                      <a:moveTo>
                        <a:pt x="1789" y="0"/>
                      </a:moveTo>
                      <a:cubicBezTo>
                        <a:pt x="12986" y="931"/>
                        <a:pt x="21600" y="10290"/>
                        <a:pt x="21600" y="21526"/>
                      </a:cubicBezTo>
                      <a:lnTo>
                        <a:pt x="0" y="21526"/>
                      </a:lnTo>
                      <a:lnTo>
                        <a:pt x="1789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  <p:sp>
              <p:nvSpPr>
                <p:cNvPr id="265" name="Arc 39"/>
                <p:cNvSpPr/>
                <p:nvPr/>
              </p:nvSpPr>
              <p:spPr>
                <a:xfrm flipH="1" flipV="1" rot="10800000">
                  <a:off x="6660360" y="3927600"/>
                  <a:ext cx="802800" cy="776160"/>
                </a:xfrm>
                <a:custGeom>
                  <a:avLst/>
                  <a:gdLst>
                    <a:gd name="textAreaLeft" fmla="*/ 360 w 802800"/>
                    <a:gd name="textAreaRight" fmla="*/ 803520 w 802800"/>
                    <a:gd name="textAreaTop" fmla="*/ 360 h 776160"/>
                    <a:gd name="textAreaBottom" fmla="*/ 776880 h 776160"/>
                  </a:gdLst>
                  <a:ahLst/>
                  <a:rect l="textAreaLeft" t="textAreaTop" r="textAreaRight" b="textAreaBottom"/>
                  <a:pathLst>
                    <a:path fill="none" w="21600" h="20955">
                      <a:moveTo>
                        <a:pt x="5239" y="-1"/>
                      </a:moveTo>
                      <a:cubicBezTo>
                        <a:pt x="14854" y="2403"/>
                        <a:pt x="21600" y="11043"/>
                        <a:pt x="21600" y="20955"/>
                      </a:cubicBezTo>
                    </a:path>
                    <a:path stroke="0" w="21600" h="20955">
                      <a:moveTo>
                        <a:pt x="5239" y="-1"/>
                      </a:moveTo>
                      <a:cubicBezTo>
                        <a:pt x="14854" y="2403"/>
                        <a:pt x="21600" y="11043"/>
                        <a:pt x="21600" y="20955"/>
                      </a:cubicBezTo>
                      <a:lnTo>
                        <a:pt x="0" y="20955"/>
                      </a:lnTo>
                      <a:lnTo>
                        <a:pt x="5239" y="-1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</p:grpSp>
        </p:grpSp>
        <p:graphicFrame>
          <p:nvGraphicFramePr>
            <p:cNvPr id="266" name="Object 40"/>
            <p:cNvGraphicFramePr/>
            <p:nvPr/>
          </p:nvGraphicFramePr>
          <p:xfrm>
            <a:off x="6127920" y="5618160"/>
            <a:ext cx="1070280" cy="56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7" name="Object 4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27920" y="5618160"/>
                      <a:ext cx="107028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8" name="Text Box 41"/>
            <p:cNvSpPr/>
            <p:nvPr/>
          </p:nvSpPr>
          <p:spPr>
            <a:xfrm>
              <a:off x="1979640" y="5389560"/>
              <a:ext cx="534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12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graphicFrame>
          <p:nvGraphicFramePr>
            <p:cNvPr id="269" name="Object 42"/>
            <p:cNvGraphicFramePr/>
            <p:nvPr/>
          </p:nvGraphicFramePr>
          <p:xfrm>
            <a:off x="1711800" y="5618160"/>
            <a:ext cx="1416240" cy="266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0" name="Object 4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11800" y="5618160"/>
                      <a:ext cx="14162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1" name="Text Box 43"/>
            <p:cNvSpPr/>
            <p:nvPr/>
          </p:nvSpPr>
          <p:spPr>
            <a:xfrm>
              <a:off x="6395400" y="5389560"/>
              <a:ext cx="534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12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272" name="Text Box 44"/>
            <p:cNvSpPr/>
            <p:nvPr/>
          </p:nvSpPr>
          <p:spPr>
            <a:xfrm>
              <a:off x="6261480" y="5846760"/>
              <a:ext cx="534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2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273" name="Text Box 45"/>
            <p:cNvSpPr/>
            <p:nvPr/>
          </p:nvSpPr>
          <p:spPr>
            <a:xfrm>
              <a:off x="2514960" y="5503680"/>
              <a:ext cx="534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2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274" name="Text Box 46"/>
            <p:cNvSpPr/>
            <p:nvPr/>
          </p:nvSpPr>
          <p:spPr>
            <a:xfrm>
              <a:off x="5324760" y="5389560"/>
              <a:ext cx="534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б)</a:t>
              </a:r>
              <a:endParaRPr b="1" lang="en-US" sz="12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275" name="Text Box 47"/>
            <p:cNvSpPr/>
            <p:nvPr/>
          </p:nvSpPr>
          <p:spPr>
            <a:xfrm>
              <a:off x="1042920" y="5389560"/>
              <a:ext cx="534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а)</a:t>
              </a:r>
              <a:endParaRPr b="1" lang="en-US" sz="12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276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6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Діелектричні втрат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77" name="Заголовок 1"/>
          <p:cNvSpPr/>
          <p:nvPr/>
        </p:nvSpPr>
        <p:spPr>
          <a:xfrm>
            <a:off x="324000" y="620640"/>
            <a:ext cx="8183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685800" indent="-685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Times New Roman"/>
              </a:rPr>
              <a:t>1. </a:t>
            </a:r>
            <a:r>
              <a:rPr b="1" lang="uk-UA" sz="2800" spc="-1" strike="noStrike">
                <a:solidFill>
                  <a:srgbClr val="7030a0"/>
                </a:solidFill>
                <a:latin typeface="Times New Roman"/>
              </a:rPr>
              <a:t>Основні визначення діелектричних втрат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468360" y="790560"/>
            <a:ext cx="8066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Обидві схеми еквівалентні одна одній, якщо при рівних повних опорах: 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z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1=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z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2=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z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, рівними є їх активні і реактивні складові. Ця умова буде виконана, якщо кути зсуву струму відносно напруги </a:t>
            </a:r>
            <a:r>
              <a:rPr b="0" lang="uz-Cyrl-UZ" sz="1600" spc="-1" strike="noStrike">
                <a:solidFill>
                  <a:srgbClr val="000000"/>
                </a:solidFill>
                <a:latin typeface="Century"/>
              </a:rPr>
              <a:t>φ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рівні і значення активної потужності однакові. З теорії змінних струмів відомо, що активна потужність: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(1)Для послідовної схеми, використовуючи вираз (1) і відповідну векторну діаграму (рис. 1-а), отримуємо: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aphicFrame>
        <p:nvGraphicFramePr>
          <p:cNvPr id="279" name="Object 3"/>
          <p:cNvGraphicFramePr/>
          <p:nvPr/>
        </p:nvGraphicFramePr>
        <p:xfrm>
          <a:off x="684360" y="2349360"/>
          <a:ext cx="379728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349360"/>
                    <a:ext cx="3797280" cy="777960"/>
                  </a:xfrm>
                  <a:prstGeom prst="rect">
                    <a:avLst/>
                  </a:prstGeom>
                  <a:ln w="936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1" name="Object 4"/>
          <p:cNvGraphicFramePr/>
          <p:nvPr/>
        </p:nvGraphicFramePr>
        <p:xfrm>
          <a:off x="4788000" y="2565360"/>
          <a:ext cx="341280" cy="27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2565360"/>
                    <a:ext cx="341280" cy="2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5"/>
          <p:cNvGraphicFramePr/>
          <p:nvPr/>
        </p:nvGraphicFramePr>
        <p:xfrm>
          <a:off x="5364000" y="2292480"/>
          <a:ext cx="111924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292480"/>
                    <a:ext cx="1119240" cy="776160"/>
                  </a:xfrm>
                  <a:prstGeom prst="rect">
                    <a:avLst/>
                  </a:prstGeom>
                  <a:ln w="936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5" name="Object 6"/>
          <p:cNvGraphicFramePr/>
          <p:nvPr/>
        </p:nvGraphicFramePr>
        <p:xfrm>
          <a:off x="5364000" y="3157560"/>
          <a:ext cx="1187640" cy="77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64000" y="3157560"/>
                    <a:ext cx="1187640" cy="776160"/>
                  </a:xfrm>
                  <a:prstGeom prst="rect">
                    <a:avLst/>
                  </a:prstGeom>
                  <a:ln w="936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7" name="Object 7"/>
          <p:cNvGraphicFramePr/>
          <p:nvPr/>
        </p:nvGraphicFramePr>
        <p:xfrm>
          <a:off x="6659640" y="2222640"/>
          <a:ext cx="1690560" cy="84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8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59640" y="2222640"/>
                    <a:ext cx="1690560" cy="846000"/>
                  </a:xfrm>
                  <a:prstGeom prst="rect">
                    <a:avLst/>
                  </a:prstGeom>
                  <a:ln w="936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9" name="Object 8"/>
          <p:cNvGraphicFramePr/>
          <p:nvPr/>
        </p:nvGraphicFramePr>
        <p:xfrm>
          <a:off x="544680" y="3935520"/>
          <a:ext cx="8059680" cy="1941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0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4680" y="3935520"/>
                    <a:ext cx="8059680" cy="1941480"/>
                  </a:xfrm>
                  <a:prstGeom prst="rect">
                    <a:avLst/>
                  </a:prstGeom>
                  <a:ln w="936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1" name="Object 9"/>
          <p:cNvGraphicFramePr/>
          <p:nvPr/>
        </p:nvGraphicFramePr>
        <p:xfrm>
          <a:off x="6659640" y="3135240"/>
          <a:ext cx="1939680" cy="798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2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59640" y="3135240"/>
                    <a:ext cx="1939680" cy="798480"/>
                  </a:xfrm>
                  <a:prstGeom prst="rect">
                    <a:avLst/>
                  </a:prstGeom>
                  <a:ln w="936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3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6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Діелектричні втрат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94" name="Заголовок 1"/>
          <p:cNvSpPr/>
          <p:nvPr/>
        </p:nvSpPr>
        <p:spPr>
          <a:xfrm>
            <a:off x="636480" y="189000"/>
            <a:ext cx="8183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Times New Roman"/>
              </a:rPr>
              <a:t>Визначення активної потужності діелектричних втрат</a:t>
            </a:r>
            <a:endParaRPr b="1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620640"/>
            <a:ext cx="433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1600" spc="-1" strike="noStrike">
                <a:solidFill>
                  <a:srgbClr val="000000"/>
                </a:solidFill>
                <a:latin typeface="Century"/>
              </a:rPr>
              <a:t>Для паралельно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ї еквівалентної схеми діелектрика з втратами (рис. 1-б):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aphicFrame>
        <p:nvGraphicFramePr>
          <p:cNvPr id="296" name="Object 3"/>
          <p:cNvGraphicFramePr/>
          <p:nvPr/>
        </p:nvGraphicFramePr>
        <p:xfrm>
          <a:off x="4716360" y="549360"/>
          <a:ext cx="1443240" cy="8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549360"/>
                    <a:ext cx="1443240" cy="801720"/>
                  </a:xfrm>
                  <a:prstGeom prst="rect">
                    <a:avLst/>
                  </a:prstGeom>
                  <a:ln w="936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8" name="Text Box 4"/>
          <p:cNvSpPr/>
          <p:nvPr/>
        </p:nvSpPr>
        <p:spPr>
          <a:xfrm>
            <a:off x="611280" y="1341360"/>
            <a:ext cx="79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Визначимо значення потужності діелектричних втрат: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aphicFrame>
        <p:nvGraphicFramePr>
          <p:cNvPr id="299" name="Object 5"/>
          <p:cNvGraphicFramePr/>
          <p:nvPr/>
        </p:nvGraphicFramePr>
        <p:xfrm>
          <a:off x="539640" y="1773360"/>
          <a:ext cx="132876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773360"/>
                    <a:ext cx="1328760" cy="777600"/>
                  </a:xfrm>
                  <a:prstGeom prst="rect">
                    <a:avLst/>
                  </a:prstGeom>
                  <a:ln w="936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1" name="Object 6"/>
          <p:cNvGraphicFramePr/>
          <p:nvPr/>
        </p:nvGraphicFramePr>
        <p:xfrm>
          <a:off x="2195640" y="1844640"/>
          <a:ext cx="1096920" cy="70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5640" y="1844640"/>
                    <a:ext cx="1096920" cy="708120"/>
                  </a:xfrm>
                  <a:prstGeom prst="rect">
                    <a:avLst/>
                  </a:prstGeom>
                  <a:ln w="936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3" name="Rectangle 8"/>
          <p:cNvSpPr/>
          <p:nvPr/>
        </p:nvSpPr>
        <p:spPr>
          <a:xfrm>
            <a:off x="4405320" y="300888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1" lang="en-US" sz="1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0" y="37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aphicFrame>
        <p:nvGraphicFramePr>
          <p:cNvPr id="305" name="Object 10"/>
          <p:cNvGraphicFramePr/>
          <p:nvPr/>
        </p:nvGraphicFramePr>
        <p:xfrm>
          <a:off x="3780000" y="1844640"/>
          <a:ext cx="846000" cy="70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80000" y="1844640"/>
                    <a:ext cx="846000" cy="708120"/>
                  </a:xfrm>
                  <a:prstGeom prst="rect">
                    <a:avLst/>
                  </a:prstGeom>
                  <a:ln w="936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7" name="Object 11"/>
          <p:cNvGraphicFramePr/>
          <p:nvPr/>
        </p:nvGraphicFramePr>
        <p:xfrm>
          <a:off x="5181480" y="1828800"/>
          <a:ext cx="2633760" cy="75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8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1828800"/>
                    <a:ext cx="2633760" cy="755640"/>
                  </a:xfrm>
                  <a:prstGeom prst="rect">
                    <a:avLst/>
                  </a:prstGeom>
                  <a:ln w="936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9" name="Text Box 12"/>
          <p:cNvSpPr/>
          <p:nvPr/>
        </p:nvSpPr>
        <p:spPr>
          <a:xfrm>
            <a:off x="1908000" y="19890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3348000" y="19890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4716360" y="206064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457200" y="256536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Користуючись векторною діаграмою (рис. 1-б) та правилами геометрії: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aphicFrame>
        <p:nvGraphicFramePr>
          <p:cNvPr id="313" name="Object 16"/>
          <p:cNvGraphicFramePr/>
          <p:nvPr/>
        </p:nvGraphicFramePr>
        <p:xfrm>
          <a:off x="611280" y="2924280"/>
          <a:ext cx="4135320" cy="798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4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1280" y="2924280"/>
                    <a:ext cx="4135320" cy="798480"/>
                  </a:xfrm>
                  <a:prstGeom prst="rect">
                    <a:avLst/>
                  </a:prstGeom>
                  <a:ln w="936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15" name="Object 17"/>
          <p:cNvGraphicFramePr/>
          <p:nvPr/>
        </p:nvGraphicFramePr>
        <p:xfrm>
          <a:off x="5292720" y="2924280"/>
          <a:ext cx="1442880" cy="709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6" name="Object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92720" y="2924280"/>
                    <a:ext cx="1442880" cy="709560"/>
                  </a:xfrm>
                  <a:prstGeom prst="rect">
                    <a:avLst/>
                  </a:prstGeom>
                  <a:ln w="936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7" name="Text Box 18"/>
          <p:cNvSpPr/>
          <p:nvPr/>
        </p:nvSpPr>
        <p:spPr>
          <a:xfrm>
            <a:off x="4859280" y="31417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graphicFrame>
        <p:nvGraphicFramePr>
          <p:cNvPr id="318" name="Object 19"/>
          <p:cNvGraphicFramePr/>
          <p:nvPr/>
        </p:nvGraphicFramePr>
        <p:xfrm>
          <a:off x="611280" y="4292640"/>
          <a:ext cx="2749320" cy="755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19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1280" y="4292640"/>
                    <a:ext cx="2749320" cy="755640"/>
                  </a:xfrm>
                  <a:prstGeom prst="rect">
                    <a:avLst/>
                  </a:prstGeom>
                  <a:ln w="936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0" name="Text Box 20"/>
          <p:cNvSpPr/>
          <p:nvPr/>
        </p:nvSpPr>
        <p:spPr>
          <a:xfrm>
            <a:off x="539640" y="3789360"/>
            <a:ext cx="63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Підставляючи вираз (4) у формулу (3), отримуємо: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1" name="Text Box 21"/>
          <p:cNvSpPr/>
          <p:nvPr/>
        </p:nvSpPr>
        <p:spPr>
          <a:xfrm>
            <a:off x="3924360" y="4221000"/>
            <a:ext cx="37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де Ра - вимірюється в ватах;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U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– в вольтах;</a:t>
            </a: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ω 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– в с-1;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Ср – у фарадах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2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6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Діелектричні втрат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AutoShape 2"/>
          <p:cNvSpPr/>
          <p:nvPr/>
        </p:nvSpPr>
        <p:spPr>
          <a:xfrm>
            <a:off x="539640" y="1052640"/>
            <a:ext cx="7467840" cy="2016000"/>
          </a:xfrm>
          <a:prstGeom prst="flowChartTerminator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378080" y="1131840"/>
            <a:ext cx="59436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cc"/>
                </a:solidFill>
                <a:latin typeface="Arial"/>
              </a:rPr>
              <a:t>Діелектричні втрати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– важливий параметр діелектрика. Діелектричні втрати призводять до нагрівання діелектрика, а зміна температури в свою чергу призводить до старіння матеріалу, що звісно, у свою чергу призводить до скорочення терміну служби установки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5" name="AutoShape 4"/>
          <p:cNvSpPr/>
          <p:nvPr/>
        </p:nvSpPr>
        <p:spPr>
          <a:xfrm>
            <a:off x="404640" y="3357720"/>
            <a:ext cx="7696440" cy="2592360"/>
          </a:xfrm>
          <a:prstGeom prst="flowChartTerminator">
            <a:avLst/>
          </a:prstGeom>
          <a:solidFill>
            <a:srgbClr val="96d4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279440" y="3386160"/>
            <a:ext cx="6172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іелектричні втрати за їх особливостями і фізичною природою можна розділити на 4 основних види: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діелектричні втрати, обумовлені поляризацією;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діелектричні втрати наскрізної електропровідності;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іонізаційні діелектричні втрати;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діелектричні втрати, обмовлені неоднорідністю структури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7" name="AutoShape 7"/>
          <p:cNvSpPr/>
          <p:nvPr/>
        </p:nvSpPr>
        <p:spPr>
          <a:xfrm>
            <a:off x="7451640" y="1844640"/>
            <a:ext cx="838440" cy="2808360"/>
          </a:xfrm>
          <a:custGeom>
            <a:avLst/>
            <a:gdLst>
              <a:gd name="textAreaLeft" fmla="*/ 112320 w 838440"/>
              <a:gd name="textAreaRight" fmla="*/ 726120 w 838440"/>
              <a:gd name="textAreaTop" fmla="*/ 491400 h 2808360"/>
              <a:gd name="textAreaBottom" fmla="*/ 203616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8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6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Діелектричні втрат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9" name="Заголовок 1"/>
          <p:cNvSpPr/>
          <p:nvPr/>
        </p:nvSpPr>
        <p:spPr>
          <a:xfrm>
            <a:off x="324000" y="1125360"/>
            <a:ext cx="81835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685800" indent="-685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Times New Roman"/>
              </a:rPr>
              <a:t>2. </a:t>
            </a:r>
            <a:r>
              <a:rPr b="1" lang="uk-UA" sz="2800" spc="-1" strike="noStrike">
                <a:solidFill>
                  <a:srgbClr val="7030a0"/>
                </a:solidFill>
                <a:latin typeface="Times New Roman"/>
              </a:rPr>
              <a:t>Види діелектричних втрат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395280" y="635040"/>
            <a:ext cx="8280360" cy="53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Century"/>
              </a:rPr>
              <a:t>1) тип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– особливо чітко спостерігається у речовинах, що мають </a:t>
            </a:r>
            <a:r>
              <a:rPr b="1" lang="uk-UA" sz="1600" spc="-1" strike="noStrike" u="sng">
                <a:solidFill>
                  <a:srgbClr val="7030a0"/>
                </a:solidFill>
                <a:uFillTx/>
                <a:latin typeface="Century"/>
              </a:rPr>
              <a:t>релаксаційну поляризацію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: в діелектриках дипольної структури і в діелектриках іонної структури з нещільним упакуванням іонів. Релаксаційні діелектричні втрати викликають порушення теплового руху частинок під впливом сил електричного поля. Це порушення призводить до розсіювання енергії і нагрівання діелектрика. Діелектричні втрати в сегнетоелектрика пов’язані з явищем спонтанної поляризації. Тут своя особливість: втрати в сегнетоелектрика є значними при температурі, нижчій точки Кюрі (має місце спонтанна поляризація), при температурі більшій точки Кюрі втрати в сегнетоелектриках зменшуються. Електричне старіння сегнетоелектриків супроводжується деяким зменшенням втрат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 u="sng">
                <a:solidFill>
                  <a:srgbClr val="7030a0"/>
                </a:solidFill>
                <a:uFillTx/>
                <a:latin typeface="Century"/>
              </a:rPr>
              <a:t>Резонансні </a:t>
            </a:r>
            <a:r>
              <a:rPr b="1" lang="uk-UA" sz="1600" spc="-1" strike="noStrike" u="sng">
                <a:solidFill>
                  <a:srgbClr val="7030a0"/>
                </a:solidFill>
                <a:uFillTx/>
                <a:latin typeface="Century"/>
              </a:rPr>
              <a:t>втрати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теж обумовлені поляризацією, проявляється в деяких газах при строго визначеній частоті і виражається в інтенсивному поглинанні енергії електричного поля. Так втрати можливі і в твердих  речовинах, якщо коливання, викликані електричним полем, співпадають з частотою власних коливань частинок твердої речовини. У цьому випадку температура майже не впливає на діелектричні втрати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Century"/>
              </a:rPr>
              <a:t>2) тип 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– характерний для діелектриків, що мають змінну електропровідність (об’ємну чи поверхневу). Діелектричні втрати зростають з температурою по експоненціальному закону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31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6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Діелектричні втрат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457200" y="47628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PT</a:t>
            </a: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A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ex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р</a:t>
            </a: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 (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-в/т</a:t>
            </a: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),  де А, в – постійні 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матеріалу. Наближений вираз:  </a:t>
            </a: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PT=P0exp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αt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468360" y="1052640"/>
            <a:ext cx="813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де РТ – втрати при певній температурі 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○, С; 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P</a:t>
            </a: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0 – 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втрати при 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○=0○С;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α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– постійна матеріалу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39640" y="1700280"/>
            <a:ext cx="806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Century"/>
              </a:rPr>
              <a:t>3) тип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– властивий діелектрикам у газоподібному стані. Іонізаційні втрати проявляються в неоднорідних електричних полях при напруженностях, що перевищують значення, яке відповідає початку іонізації даного газу. Іонізаційні втрати обчислюються за формулою: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aphicFrame>
        <p:nvGraphicFramePr>
          <p:cNvPr id="335" name="Object 5"/>
          <p:cNvGraphicFramePr/>
          <p:nvPr/>
        </p:nvGraphicFramePr>
        <p:xfrm>
          <a:off x="1116000" y="3141720"/>
          <a:ext cx="201924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201924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Text Box 7"/>
          <p:cNvSpPr/>
          <p:nvPr/>
        </p:nvSpPr>
        <p:spPr>
          <a:xfrm>
            <a:off x="3492360" y="2852640"/>
            <a:ext cx="4248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99"/>
                </a:solidFill>
                <a:latin typeface="Century"/>
              </a:rPr>
              <a:t>А1 – постійний коефіцієнт; 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entury"/>
              </a:rPr>
              <a:t>f</a:t>
            </a:r>
            <a:r>
              <a:rPr b="1" lang="ru-RU" sz="1600" spc="-1" strike="noStrike">
                <a:solidFill>
                  <a:srgbClr val="000099"/>
                </a:solidFill>
                <a:latin typeface="Century"/>
              </a:rPr>
              <a:t> – </a:t>
            </a:r>
            <a:r>
              <a:rPr b="1" lang="uk-UA" sz="1600" spc="-1" strike="noStrike">
                <a:solidFill>
                  <a:srgbClr val="000099"/>
                </a:solidFill>
                <a:latin typeface="Century"/>
              </a:rPr>
              <a:t>частота поля;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entury"/>
              </a:rPr>
              <a:t>U</a:t>
            </a:r>
            <a:r>
              <a:rPr b="1" lang="ru-RU" sz="1600" spc="-1" strike="noStrike">
                <a:solidFill>
                  <a:srgbClr val="000099"/>
                </a:solidFill>
                <a:latin typeface="Century"/>
              </a:rPr>
              <a:t> – </a:t>
            </a:r>
            <a:r>
              <a:rPr b="1" lang="uk-UA" sz="1600" spc="-1" strike="noStrike">
                <a:solidFill>
                  <a:srgbClr val="000099"/>
                </a:solidFill>
                <a:latin typeface="Century"/>
              </a:rPr>
              <a:t>прикладна напруга;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99"/>
                </a:solidFill>
                <a:latin typeface="Century"/>
              </a:rPr>
              <a:t>U0 – напруга, що відповідає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99"/>
                </a:solidFill>
                <a:latin typeface="Century"/>
              </a:rPr>
              <a:t>початку іонізації.</a:t>
            </a:r>
            <a:r>
              <a:rPr b="1" lang="ru-RU" sz="1600" spc="-1" strike="noStrike">
                <a:solidFill>
                  <a:srgbClr val="000099"/>
                </a:solidFill>
                <a:latin typeface="Century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611280" y="4437000"/>
            <a:ext cx="806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Формула справедлива при U&gt;U0 і лінійній залежності tg δ від Е. U0 залежить від тиску, оскільки розвиток ударної іонізації молекул залежить від довжини вільного пробігу носіїв заряду. Таким чином, із збільшенням тиску газу величина напруги початок іонізації зростає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39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6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Діелектричні втрат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468360" y="476280"/>
            <a:ext cx="813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Century"/>
              </a:rPr>
              <a:t>4) тип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– спостерігається у шарових «пластових» діелектриках із пропітаного паперу і тканини, у пластмасах з наповнювачем, в пористій кераміці, в похідних слюди → міканітах, мікалексі і т.п. Оскільки структура неоднорідних діелектриків і їх компонентів є досить різною, то не існує загальної формули розрахунку діелектричних втрат у цьому випадку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341" name="Group 3"/>
          <p:cNvGrpSpPr/>
          <p:nvPr/>
        </p:nvGrpSpPr>
        <p:grpSpPr>
          <a:xfrm>
            <a:off x="684360" y="2349000"/>
            <a:ext cx="2422440" cy="2064240"/>
            <a:chOff x="684360" y="2349000"/>
            <a:chExt cx="2422440" cy="2064240"/>
          </a:xfrm>
        </p:grpSpPr>
        <p:grpSp>
          <p:nvGrpSpPr>
            <p:cNvPr id="342" name="Group 4"/>
            <p:cNvGrpSpPr/>
            <p:nvPr/>
          </p:nvGrpSpPr>
          <p:grpSpPr>
            <a:xfrm>
              <a:off x="684360" y="2349000"/>
              <a:ext cx="2287800" cy="1588680"/>
              <a:chOff x="684360" y="2349000"/>
              <a:chExt cx="2287800" cy="1588680"/>
            </a:xfrm>
          </p:grpSpPr>
          <p:sp>
            <p:nvSpPr>
              <p:cNvPr id="343" name="Line 5"/>
              <p:cNvSpPr/>
              <p:nvPr/>
            </p:nvSpPr>
            <p:spPr>
              <a:xfrm>
                <a:off x="684360" y="3937680"/>
                <a:ext cx="2287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Century"/>
                </a:endParaRPr>
              </a:p>
            </p:txBody>
          </p:sp>
          <p:sp>
            <p:nvSpPr>
              <p:cNvPr id="344" name="Line 6"/>
              <p:cNvSpPr/>
              <p:nvPr/>
            </p:nvSpPr>
            <p:spPr>
              <a:xfrm flipV="1">
                <a:off x="684360" y="2349000"/>
                <a:ext cx="0" cy="15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Century"/>
                </a:endParaRPr>
              </a:p>
            </p:txBody>
          </p:sp>
          <p:sp>
            <p:nvSpPr>
              <p:cNvPr id="345" name="Line 7"/>
              <p:cNvSpPr/>
              <p:nvPr/>
            </p:nvSpPr>
            <p:spPr>
              <a:xfrm flipV="1">
                <a:off x="1357200" y="3620520"/>
                <a:ext cx="0" cy="31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Century"/>
                </a:endParaRPr>
              </a:p>
            </p:txBody>
          </p:sp>
          <p:sp>
            <p:nvSpPr>
              <p:cNvPr id="346" name="Line 8"/>
              <p:cNvSpPr/>
              <p:nvPr/>
            </p:nvSpPr>
            <p:spPr>
              <a:xfrm flipV="1">
                <a:off x="2030040" y="2510280"/>
                <a:ext cx="0" cy="142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Century"/>
                </a:endParaRPr>
              </a:p>
            </p:txBody>
          </p:sp>
          <p:sp>
            <p:nvSpPr>
              <p:cNvPr id="347" name="Line 9"/>
              <p:cNvSpPr/>
              <p:nvPr/>
            </p:nvSpPr>
            <p:spPr>
              <a:xfrm flipV="1">
                <a:off x="818640" y="3620520"/>
                <a:ext cx="538200" cy="15840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Century"/>
                </a:endParaRPr>
              </a:p>
            </p:txBody>
          </p:sp>
          <p:sp>
            <p:nvSpPr>
              <p:cNvPr id="348" name="Freeform 10"/>
              <p:cNvSpPr/>
              <p:nvPr/>
            </p:nvSpPr>
            <p:spPr>
              <a:xfrm>
                <a:off x="1357200" y="2484000"/>
                <a:ext cx="1076760" cy="1136520"/>
              </a:xfrm>
              <a:custGeom>
                <a:avLst/>
                <a:gdLst>
                  <a:gd name="textAreaLeft" fmla="*/ 0 w 1076760"/>
                  <a:gd name="textAreaRight" fmla="*/ 1077120 w 1076760"/>
                  <a:gd name="textAreaTop" fmla="*/ 0 h 1136520"/>
                  <a:gd name="textAreaBottom" fmla="*/ 1136880 h 1136520"/>
                </a:gdLst>
                <a:ahLst/>
                <a:rect l="textAreaLeft" t="textAreaTop" r="textAreaRight" b="textAreaBottom"/>
                <a:pathLst>
                  <a:path w="1440" h="1290">
                    <a:moveTo>
                      <a:pt x="0" y="1290"/>
                    </a:moveTo>
                    <a:cubicBezTo>
                      <a:pt x="105" y="855"/>
                      <a:pt x="210" y="420"/>
                      <a:pt x="360" y="210"/>
                    </a:cubicBezTo>
                    <a:cubicBezTo>
                      <a:pt x="510" y="0"/>
                      <a:pt x="720" y="0"/>
                      <a:pt x="900" y="30"/>
                    </a:cubicBezTo>
                    <a:cubicBezTo>
                      <a:pt x="1080" y="60"/>
                      <a:pt x="1350" y="330"/>
                      <a:pt x="1440" y="390"/>
                    </a:cubicBezTo>
                  </a:path>
                </a:pathLst>
              </a:custGeom>
              <a:noFill/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Century"/>
                </a:endParaRPr>
              </a:p>
            </p:txBody>
          </p:sp>
        </p:grpSp>
        <p:sp>
          <p:nvSpPr>
            <p:cNvPr id="349" name="Text Box 11"/>
            <p:cNvSpPr/>
            <p:nvPr/>
          </p:nvSpPr>
          <p:spPr>
            <a:xfrm>
              <a:off x="2703240" y="3937680"/>
              <a:ext cx="4035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2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50" name="Text Box 12"/>
            <p:cNvSpPr/>
            <p:nvPr/>
          </p:nvSpPr>
          <p:spPr>
            <a:xfrm>
              <a:off x="1222560" y="3937680"/>
              <a:ext cx="5382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2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51" name="Text Box 13"/>
            <p:cNvSpPr/>
            <p:nvPr/>
          </p:nvSpPr>
          <p:spPr>
            <a:xfrm>
              <a:off x="1895400" y="3937680"/>
              <a:ext cx="5382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52" name="Text Box 14"/>
            <p:cNvSpPr/>
            <p:nvPr/>
          </p:nvSpPr>
          <p:spPr>
            <a:xfrm>
              <a:off x="684360" y="2349360"/>
              <a:ext cx="672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g  δ</a:t>
              </a:r>
              <a:endParaRPr b="1" lang="en-US" sz="12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353" name="AutoShape 16"/>
          <p:cNvSpPr/>
          <p:nvPr/>
        </p:nvSpPr>
        <p:spPr>
          <a:xfrm>
            <a:off x="2700360" y="2349360"/>
            <a:ext cx="5904000" cy="1893960"/>
          </a:xfrm>
          <a:prstGeom prst="leftArrowCallout">
            <a:avLst>
              <a:gd name="adj1" fmla="val 10140"/>
              <a:gd name="adj2" fmla="val 20685"/>
              <a:gd name="adj3" fmla="val 29657"/>
              <a:gd name="adj4" fmla="val 806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54" name="Text Box 17"/>
          <p:cNvSpPr/>
          <p:nvPr/>
        </p:nvSpPr>
        <p:spPr>
          <a:xfrm>
            <a:off x="3851280" y="2349360"/>
            <a:ext cx="48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99"/>
                </a:solidFill>
                <a:latin typeface="Century"/>
              </a:rPr>
              <a:t>Якщо напруженість поля &lt; напруженості, необхідної для початку ударної іонізації молекул газу, то діелектричні втрати в газах дуже малі, і гази у цьому випадку розглядаються як ідеальний діелектрик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99"/>
                </a:solidFill>
                <a:latin typeface="Century"/>
              </a:rPr>
              <a:t>Основним джерелом діелектричних втрат у газах є електропровідність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55" name="Text Box 18"/>
          <p:cNvSpPr/>
          <p:nvPr/>
        </p:nvSpPr>
        <p:spPr>
          <a:xfrm>
            <a:off x="539640" y="4437000"/>
            <a:ext cx="813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При високих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Century"/>
              </a:rPr>
              <a:t>частотах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іонізація і втрати в газах зростають настільки, що явище може привести до розігріву і руйнування виробів із газовою ізоляцією, якщо напруга є більшою від 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U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.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На лініях електропередачі високої напруги, втрати на іонізацію повітря біля поверхні провідників (явище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Century"/>
              </a:rPr>
              <a:t>корони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) понижують коефіцієнт корисної дії ПЛЕП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56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6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Діелектричні втрат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57" name="Rectangle 20"/>
          <p:cNvSpPr/>
          <p:nvPr/>
        </p:nvSpPr>
        <p:spPr>
          <a:xfrm>
            <a:off x="705960" y="1773360"/>
            <a:ext cx="50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entury"/>
              </a:rPr>
              <a:t>3. Діелектричні втрати в</a:t>
            </a:r>
            <a:r>
              <a:rPr b="1" lang="uk-UA" sz="1600" spc="-1" strike="noStrike">
                <a:solidFill>
                  <a:srgbClr val="7030a0"/>
                </a:solidFill>
                <a:latin typeface="Century"/>
              </a:rPr>
              <a:t> </a:t>
            </a:r>
            <a:r>
              <a:rPr b="1" lang="uk-UA" sz="2400" spc="-1" strike="noStrike">
                <a:solidFill>
                  <a:srgbClr val="7030a0"/>
                </a:solidFill>
                <a:latin typeface="Century"/>
              </a:rPr>
              <a:t>газах</a:t>
            </a:r>
            <a:endParaRPr b="1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8:58:28Z</dcterms:created>
  <dc:creator>www.PHILka.RU</dc:creator>
  <dc:description/>
  <dc:language>en-US</dc:language>
  <cp:lastModifiedBy>Пользователь</cp:lastModifiedBy>
  <dcterms:modified xsi:type="dcterms:W3CDTF">2021-10-18T18:11:32Z</dcterms:modified>
  <cp:revision>210</cp:revision>
  <dc:subject/>
  <dc:title>Тема:   Пробій діелектриків </dc:title>
</cp:coreProperties>
</file>