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B70-F699-4E7B-9B67-AC191AC4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875-CC4A-4702-A9C5-5F15B8E5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9E5D-EFA5-4C0E-95BC-A1641F20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1263-72A0-443E-BA68-8182A307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711F-3822-4F6A-9FB3-225D4E6F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202A-EE8E-4077-8ABE-7216BFBB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E049-A684-42CB-962F-009EDA3C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876C-DDA1-4EB2-9E71-FF6C4E64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AC26-B0C5-4605-B2A5-94F473F9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4A32-CDEB-4DF5-99C6-23E1BC6F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DD4F-8C98-409F-BFB0-CF025590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516-9DE0-49DD-9877-22EC1A5F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DBE4-229D-4A25-8483-DFB050C9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1D6C-F8EB-46C0-B945-FC59CB0B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90F6-5285-45A6-B6A6-8016B173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BC96-D878-4E1C-84A2-8E15D9B6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968E-26D8-4EB8-9390-8CDEB3C6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9ED-BC5E-4F17-AC91-C393E841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8B34-9A20-4E4E-8A04-66164658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FAB2-4820-4F09-8224-02D36FF4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18EE-6652-46DF-800F-A66A22CE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969-99A3-4B95-9B85-E9D01102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A47-1B66-46E4-951E-CFF78006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ED4-8109-40D1-9577-462558BF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5A5C-D997-40C7-A69C-20E01052770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2CB9-6A4F-4017-A26D-B63A15450C51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2276280"/>
            <a:ext cx="806436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3333cc"/>
                </a:solidFill>
                <a:latin typeface="Arial"/>
              </a:rPr>
              <a:t>Виробнича санітарія, гігієна праці та фізіологія праці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95280" y="4724280"/>
            <a:ext cx="8064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3333cc"/>
                </a:solidFill>
                <a:latin typeface="Arial"/>
              </a:rPr>
              <a:t>Лекція 5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ласифікація умов праці на виробництв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10920" y="1916280"/>
            <a:ext cx="8281800" cy="41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ІІІ клас —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шкідливі умов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характеризуються такими рівнями шкідливих виробничих факторів, які перевищують гігієнічні нормативи і здатні чинити несприятливий вплив на організм працюючого та(або) його потомств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V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 —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ебезпечні (екстремальні) умов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характеризуються такими рівнями шкідливих факторів виробничого середовища і трудового процесу, вплив яких протягом робочої зміни (або її частин) створює загрозу для життя, високий ризик виникнення важких форм гострих професійних уражен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7.1.  Повітря робочої зони</a:t>
            </a:r>
            <a:br>
              <a:rPr sz="60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боча зона та повітря робочої зон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ікроклімат робочої зон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ормування та контроль параметрів мікроклімат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ходи та засоби нормалізації параметрів мікроклімат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uk-UA" sz="3600" spc="-1" strike="noStrike">
                <a:solidFill>
                  <a:srgbClr val="3333cc"/>
                </a:solidFill>
                <a:latin typeface="Tahoma"/>
              </a:rPr>
              <a:t>Основні параметри мікроклімату та їх </a:t>
            </a:r>
            <a:br>
              <a:rPr sz="3600"/>
            </a:br>
            <a:r>
              <a:rPr b="0" lang="uk-UA" sz="3600" spc="-1" strike="noStrike">
                <a:solidFill>
                  <a:srgbClr val="3333cc"/>
                </a:solidFill>
                <a:latin typeface="Tahoma"/>
              </a:rPr>
              <a:t>вплив на організм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95280" y="3290400"/>
            <a:ext cx="834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Мікроклімат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це клімат організму в місці його перебування ч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укупність параметрів повітря у виробничому приміщенні, які діють на людину у процесі праці, на її робочому місці, у робочій зоні.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95280" y="565668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Робоча зона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це простір висотою до 2 м над рівнем підлоги чи площадки, де розміщене робоче місц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324000" y="479736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обоче місц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 територія постійного або тимчасового знаходження людини у процесі праці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1276200" y="253800"/>
            <a:ext cx="76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Tahoma"/>
              </a:rPr>
              <a:t>До нормованих показників мікроклімат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Tahoma"/>
              </a:rPr>
              <a:t>робочої зони належать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11280" y="2337120"/>
            <a:ext cx="828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•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емпература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°С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•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носна вологість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%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•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швидкість руху повітр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/с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•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тенсивність теплового випромінювання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(і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т/м2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468360" y="4221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тивним документом, що визначає параметри мікроклімату виробничих приміщень, є санітарні норми ДСН 3.3.6.042-99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482040" y="497160"/>
            <a:ext cx="890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Tahoma"/>
              </a:rPr>
              <a:t>Для вимірювання температури повітр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3333cc"/>
                </a:solidFill>
                <a:latin typeface="Tahoma"/>
              </a:rPr>
              <a:t>використовують різноманітні термометр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5" descr="па"/>
          <p:cNvPicPr/>
          <p:nvPr/>
        </p:nvPicPr>
        <p:blipFill>
          <a:blip r:embed="rId1"/>
          <a:stretch/>
        </p:blipFill>
        <p:spPr>
          <a:xfrm>
            <a:off x="1116000" y="1557360"/>
            <a:ext cx="7632720" cy="31701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1042920" y="4762080"/>
            <a:ext cx="7669440" cy="15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мометри: 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симальний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інімальний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аксимально-мінімальний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термометр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перетворювач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-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учка потенціометра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 -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учка перемикача, 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 -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ектор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мограф (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 - біметалева пластинка, 2 - самописне перо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 -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циліндр з годинниковим механізмом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726120" y="119520"/>
            <a:ext cx="803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Tahoma"/>
              </a:rPr>
              <a:t>Відносну вологість повітря вимірюю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Tahoma"/>
              </a:rPr>
              <a:t>гігрометрами або психрометра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5" descr="55"/>
          <p:cNvPicPr/>
          <p:nvPr/>
        </p:nvPicPr>
        <p:blipFill>
          <a:blip r:embed="rId1"/>
          <a:stretch/>
        </p:blipFill>
        <p:spPr>
          <a:xfrm>
            <a:off x="1042920" y="1268280"/>
            <a:ext cx="7489800" cy="33181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826920" y="4685400"/>
            <a:ext cx="77025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сихрометри: 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а- станційний (Августа): 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ухий термометр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2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ологий термометр; 3 - резервуар, обгорнутий батистом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б -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аспіраційний (Ассмана): 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1-3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еталеві трубки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 які вміщені кульк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ермометрів;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4-5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ермометри;  6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ентилятор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7-8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біжник від вітру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9 —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іпетка для змочування тканини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ологого термометра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 – гігромет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сихрометричний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г - волосяний  гігрометр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395280" y="34560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Tahoma"/>
              </a:rPr>
              <a:t>Швидкість руху повітря вимірюють анемометром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5" descr="95"/>
          <p:cNvPicPr/>
          <p:nvPr/>
        </p:nvPicPr>
        <p:blipFill>
          <a:blip r:embed="rId1"/>
          <a:stretch/>
        </p:blipFill>
        <p:spPr>
          <a:xfrm>
            <a:off x="1835280" y="1484280"/>
            <a:ext cx="5400720" cy="4248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1143000" y="5950800"/>
            <a:ext cx="63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немометр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 – крильчастий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 – чашков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684360" y="535320"/>
            <a:ext cx="7848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Tahoma"/>
              </a:rPr>
              <a:t>Оптимальні й допустимі параметри мікроклімат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39640" y="185868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птимальним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мікрокліматичними умовами є такі поєднання кількісних параметрів мікроклімату, які при тривалому та систематичному впливі на людину забезпечують збереження нормального функціонального і теплового стану організму без напруження терморегуляційних механізмі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Допустимим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умовами називають такі поєднання кількісних параметрів  мікроклімату, які при тривалому і систематичному впливі на людину дають  змогу організму швидко нормалізувати функціональний і тепловий стан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1619280" y="-108000"/>
            <a:ext cx="71294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Категорії робіт за ступенем важкост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70160" y="1620720"/>
          <a:ext cx="7449840" cy="4721400"/>
        </p:xfrm>
        <a:graphic>
          <a:graphicData uri="http://schemas.openxmlformats.org/drawingml/2006/table">
            <a:tbl>
              <a:tblPr/>
              <a:tblGrid>
                <a:gridCol w="2701800"/>
                <a:gridCol w="4748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егорії робі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и робі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гка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боти, які виконуються сидячи, стоячи та   пов'язані з ходінням, але не вимагають фізичних зуси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едньої важкості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боти, які постійно виконуються ходячи, а  також виконуються сидячи або стоячи, але не вимагають переміщення вантаж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едньої важкості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боти, пов'язані з ходінням і переміщенням вантажів до 1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жк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боти, які пов'язані з  систематичними напруженням, постійним  переміщенням і перенесенням (понад 10 кг) вантаж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1017720" y="198360"/>
            <a:ext cx="7734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Для забезпечення нормальних параметрі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           </a:t>
            </a: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мікроклімату в робочій зоні необхідн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                        </a:t>
            </a: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проводити такі заход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еханізацію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втоматизацію   виробничих   процесі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аціональне  розміщення   обладнанн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хист від джерел теплового випромінюванн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лаштування систем вентиляції т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ндиціювання повітр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паленн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стачання питною водо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Tahoma"/>
              </a:rPr>
              <a:t>Основи фізіології та гігієни прац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1844280"/>
            <a:ext cx="8704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Основи фізіології праці.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Роль центральної нервової системи в трудовій діяльності людини. Втома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 u="sng">
                <a:solidFill>
                  <a:srgbClr val="000000"/>
                </a:solidFill>
                <a:uFillTx/>
                <a:latin typeface="Tahoma"/>
              </a:rPr>
              <a:t>Вплив характеру праці на організм людини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Гігієна праці, її значення. Чинники, що визначають санітарно-гігієнічні умови праці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Загальні підходи до оцінки умов праці та забезпечення належних, безпечних і здорових умов праці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1042920" y="2032920"/>
            <a:ext cx="7489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Механізація й автоматизаці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робничих процесів дає змогу або різко знизити трудове навантаження на  працюючих, або ж зовсім усунути людину із виробничого середовища, переклавши його трудові функції на автоматизовані машини й обладнанн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оте ці заходи, як правило, дорогі та часто недоступні виробник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971640" y="4490640"/>
            <a:ext cx="76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Раціональне розміщення обладнання.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цехах з тепловиділенням застосовують таке розміщення виробничого обладнання й організацію робочих місць, які б забезпечували комфортні умови праці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7" descr="IMG_0003"/>
          <p:cNvPicPr/>
          <p:nvPr/>
        </p:nvPicPr>
        <p:blipFill>
          <a:blip r:embed="rId1"/>
          <a:stretch/>
        </p:blipFill>
        <p:spPr>
          <a:xfrm>
            <a:off x="-1698480" y="3352680"/>
            <a:ext cx="104760" cy="152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IMG_0003"/>
          <p:cNvPicPr/>
          <p:nvPr/>
        </p:nvPicPr>
        <p:blipFill>
          <a:blip r:embed="rId2"/>
          <a:stretch/>
        </p:blipFill>
        <p:spPr>
          <a:xfrm>
            <a:off x="-1698480" y="3352680"/>
            <a:ext cx="104760" cy="1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IMG_0003"/>
          <p:cNvPicPr/>
          <p:nvPr/>
        </p:nvPicPr>
        <p:blipFill>
          <a:blip r:embed="rId1"/>
          <a:stretch/>
        </p:blipFill>
        <p:spPr>
          <a:xfrm>
            <a:off x="-1698480" y="3352680"/>
            <a:ext cx="104760" cy="152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042920" y="2126160"/>
            <a:ext cx="7705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Екранування.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плозахисні екрани застосовують для локалізації джерел теплового випромінювання, зниження опромінюваності на робочих місцях, а також для зменшення температури поверхонь, що оточують місце праці. Частину теплового випромінювання вони відбивають, а частину поглинаю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Теплоізоляція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Основним показником, який характеризує ефективність теплоізоляційних матеріалів, є низький коефіціє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плопровідності,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кий характеризує кількість тепла, що проходить за одиницю часу через одиничну площу стінки при різниці температур між поверхнями стінки один градус.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7.1.  Повітря робочої зон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360" y="1916280"/>
            <a:ext cx="848664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клад повітря робочої зони: джерела забруднення повітряного середовища шкідливими речовинами (газами, парою, пилом, димом, мікроорганізмами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ранично допустимі концентрації (ГДК) шкідливих речовин. Контроль за станом повітряного середовища на виробництві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ходи та засоби попередження забруднення повітря робочої зо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нтиляція. Види вентиляції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ласиф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ікація шкідливих речови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і шкідливі речовини, що потрапляють у повітря, за ступенем дії на організм людини поділяються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 класи небезпек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ГОСТ 12.1.007-76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 надзвичайно небезпечні (ртуть, свинець, фосген тощо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високонебезпечні (оксиди азоту, бензол, йод, марганець, мідь, хлор тощо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помірнонебезпечні (ацетон, сірчистий ангідрид, метиловий спирт та інші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) малонебезпечні (аміак, бензин, етиловий спирт, оксид вуглецю тощо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Класифікація хімічних речови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4920" y="2133360"/>
            <a:ext cx="8559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Хімічні речовини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(шкідливі та небезпечні) відповідно до ГОСТ 12.0.003-74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за характером впливу на організм людини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поділяються на: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токсичні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що викликають отруєння всього організму (ртуть, оксид вуглецю, толуол, анілін)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подразнювальні,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що викликають подразнення дихальних шляхів та слизових оболонок (хлор, аміак, сірководень, озон)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енсибілізувальні,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що діють як алергени (альдегіди, розчинники та лаки на основі нітросполук)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Класифікація хімічних речови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94920" y="2133720"/>
            <a:ext cx="85597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канцерогенні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що викликають ракові захворювання (ароматичні вуглеводні, аміносполуки, азбест)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мутагенні,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що викликають зміни спадкової інформації (свинець, радіоактивні речовини, формальдегід)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такі, що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пливають на репродуктивну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(відтворення потомства)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функцію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(бензол, свинець, марганець, нікотин)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Нормування шкідливих речови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гідно ДСТ 12.1.005-88 - нормуєть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ранично допустима концентрація (ГДК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кідливих речовин у повітрі робочої зо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ДК у повітрі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бочої зони – це така кiлькiсть шкідливих речовин, яка при щоденній роботі протягом 8 годин або іншої тривалості (40 годин у тиждень) протягом всього робочого стажу не може викликати захворювань або відхилень у стані здоров'я та не надає вплив на здоров'я майбутніх поколін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Заходи та засоби попередження забруднення повітря робочої зон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844640"/>
            <a:ext cx="8631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илучення шкідливих речовин з технологічних процесів, заміна шкідливих речовин менш шкідливими і т. п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досконалення технологічних процесів та устаткування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втоматизація і дистанційне управління технологічними процесами та обладнанням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ерметизація виробничого устаткування, локалізація шкідливих виділень за рахунок місцевої вентиляції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ормальне функціонування систем опалення, вентиляції, кондиціювання повітря, очистки викидів у атмосферу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передні та періодичні медичні огляди робітників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 за вмістом шкідливих речовин у повітрі робочої зони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икористання засобів індивідуального захисту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ласифікація засобів індивідуального захист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0" y="1844640"/>
            <a:ext cx="8972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1544400" y="332640"/>
            <a:ext cx="68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Вентиляція повітря й опалення приміще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150920" y="184428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Вентиляція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е організований і регульований повітрообмін, який забезпечує видалення з виробничих приміщень нагрітого або забрудненого повітря і  подачу чистого зовнішньог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6" descr="6"/>
          <p:cNvPicPr/>
          <p:nvPr/>
        </p:nvPicPr>
        <p:blipFill>
          <a:blip r:embed="rId1"/>
          <a:stretch/>
        </p:blipFill>
        <p:spPr>
          <a:xfrm>
            <a:off x="2484360" y="2711520"/>
            <a:ext cx="3816360" cy="2562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2396520" y="5376600"/>
            <a:ext cx="464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Схема аерації цеху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 - в теплу погоду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 - в холодну погоду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нижні отвори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2 - верхні отвори (фрамуги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снови фізіології прац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ahoma"/>
              </a:rPr>
              <a:t>Фізіологія праці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– це наука, що вивчає зміни функціонального стану організму людини під впливом його трудової діяльності й обґрунтовує методи і засоби організації трудового процесу, які спрямовані на підтримку високої працездатності і збереження здоров'я працююч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332000" y="1779480"/>
            <a:ext cx="748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ентиляція залежно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від способів приведення в рух повітря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же  бути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риродною, механічною (штучною),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омбінованою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За своїм призначенням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ентиляцію поділяють на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робочу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аварійн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357200" y="3226320"/>
            <a:ext cx="734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За місцем ді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вентиляції бувають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загальнообмінні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місцеві.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Загальнообмінна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ентиляція сприяє підтриманню необхідних  параметрів повітряного середовища у всьому об'ємі приміщенн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Місцева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ентиляція оздоровлює повітряний простір лише в певній  частині приміщення, а точніше на робочому місці, забезпечуючи працюючих чистим повітрям та вилучаючи з нього шкідливі  речовин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1904760" y="836640"/>
            <a:ext cx="67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Вентиляція повітря й опалення приміщ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1143000" y="2361600"/>
            <a:ext cx="7500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сцева витяжна вентиляція буває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відкритого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закритого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ипу.  Найефективнішими вважаються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закриті витяжк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бо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всмоктувачі,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 яких належать, наприклад, витяжні шаф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285920" y="38592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Природну вентиляцію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за характером повітрообміну поділяють на загально обмінну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неорганізовану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й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організован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214280" y="485748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Безканальна (аераційна)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ентиляція відбувається за рахунок різниці гравітаційного тиску повітря, що наявне всередині та ззовні приміщення, а також дії вітру. Обмін повітря здійснюється через отвори в стінах (вікна) та в перекриття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544400" y="765000"/>
            <a:ext cx="67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Вентиляція повітря й опалення приміщ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453320" y="429840"/>
            <a:ext cx="68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Вентиляція повітря й опалення приміщ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395280" y="2024280"/>
            <a:ext cx="833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За способом передачі та видалення повітр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механічна  вентиляція поділяється на припливну, витяжну й   комбінова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рипливна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ентиляція забезпечує подачу повітря у виробничі                        приміщення після його попереднього очищення та зволоження. Утворений внаслідок дії  вентиляторів надлишковий тиск забезпечує витіснення повітря назовні через  вікна та двері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258920" y="4084560"/>
            <a:ext cx="691344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1453320" y="429840"/>
            <a:ext cx="68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Вентиляція повітря й опалення приміщ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95280" y="1823760"/>
            <a:ext cx="8331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Витяжна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ентиляція забезпечує видалення перегрітого і забрудненого повітря з виробничого приміщення, не даючи йому перейти у сусідні приміщенн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омбінована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ентиляція - це одночасне поєднання - припливної та витяжної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виробничих приміщеннях, де можливе виділення в повітря великої кількості шкідливих та вибухонебезпечних речовин, використовують </a:t>
            </a: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аварійну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вентиляцію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706400" y="2781360"/>
            <a:ext cx="538668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Місцева витяжна вентиляція здійснюється за допомогою місцеви витяжних зонтів, всмоктуючих панелей, витяжних шаф, бортови відсмоктувачів</a:t>
            </a:r>
            <a:endParaRPr b="0" lang="en-US" sz="2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985680" y="2276640"/>
            <a:ext cx="74026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1187280" y="232200"/>
            <a:ext cx="777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Для забезпечення необхідних параметрів мікроклімату на певній ділянці  виробничого приміщення, як вже було сказано вище, використовують місцеву припливну вентиляцію: повітряні душі, повітряні завіси й оаз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857160" y="3435120"/>
            <a:ext cx="795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овітряний душ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е струмінь прохолодного зволоженого повітря зі  швидкістю 1 - 3,5 м/с, що огортає тіло людини, збільшуючи тепловіддачу від організму в навколишнє середовище, їх використовують для захисту працюючих від впливу теплового випромінювання інтенсивністю 350 Вт/м2  і більш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85880" y="50004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овітряні оази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е обмежені перегородками ділянки виробничого приміщення, в яких створюється мікроклімат певних параметрів.  Здебільшого вони створюються в гарячих цех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863640" y="2142720"/>
            <a:ext cx="792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овітряні або повітряно-теплові завіси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лаштовують у дверних проймах і воротах для захисту людей від охолодження під час холодного та перехідного періоду року, коли охолодження приміщень призводить до  частих простудних захворюван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971640" y="385920"/>
            <a:ext cx="788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Для підтримування заданої температури повітря у приміщеннях холодної  пори року використовують різні системи опалення: водяну, парову, повітряну та комбіновані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468360" y="1788120"/>
            <a:ext cx="83898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системах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водяного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палення як теплоносій використовують воду, нагріту  до 100°С чи вище. Така система опалення найбільш ефективна санітарно-гігієнічному відношенні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стеми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арового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палення використовують переважно у промислових приміщеннях. Теплоносієм у них є пара низького або високого тиск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овітряних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стемах для опалення використовують нагріте у спеціальних установках (калориферах) повітр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мбіновані системи опалення включають в себе описані вище елементи опалювальних систе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571680" y="5286240"/>
            <a:ext cx="82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випадку пожежі вентиляційні системи та установки кондиціювання  повітря одночасно з пуском електродвигуна пожежного насоса мають автоматично відключатися, оскільки вони, подаючи свіже насичене  кисн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ов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я,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спрямують поширенню пожежі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Основні поняття фізіології прац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ahoma"/>
              </a:rPr>
              <a:t>Працездатність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- потенційна можливість людини виконувати протягом заданого часу і з достатньою ефективністю роботу визначеного обсягу і якості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ahoma"/>
              </a:rPr>
              <a:t>Стомлення (втома)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– це зниження працездатності, що настає в процесі робо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Графік динаміки працездатності людин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Object 5"/>
          <p:cNvGraphicFramePr/>
          <p:nvPr/>
        </p:nvGraphicFramePr>
        <p:xfrm>
          <a:off x="1095480" y="1844640"/>
          <a:ext cx="74372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1844640"/>
                    <a:ext cx="74372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7"/>
          <p:cNvSpPr/>
          <p:nvPr/>
        </p:nvSpPr>
        <p:spPr>
          <a:xfrm>
            <a:off x="395280" y="6018840"/>
            <a:ext cx="85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Типова крива працездатності протягом робочої зміни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а — впрацювання; b — стійка працездатність; c — зниження працездатності; d — емоційний пори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Характеристика інтенсивності робо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71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11280" y="2276640"/>
          <a:ext cx="8064360" cy="3816360"/>
        </p:xfrm>
        <a:graphic>
          <a:graphicData uri="http://schemas.openxmlformats.org/drawingml/2006/table">
            <a:tbl>
              <a:tblPr/>
              <a:tblGrid>
                <a:gridCol w="2624040"/>
                <a:gridCol w="2719440"/>
                <a:gridCol w="2720880"/>
              </a:tblGrid>
              <a:tr h="1309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арактер робо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ЖИВАННЯ КИСНЮ, Л/Х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НЕРГОВИТРАТИ, ККАЛ/Х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900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Г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 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 2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00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ЕРЕДНЬОЇ  ТЯЖК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ІД 0,5 ДО 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...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0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Ж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0 І БІЛЬ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ІЛЬШЕ 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ігієна прац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1844280"/>
            <a:ext cx="848664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Tahoma"/>
              </a:rPr>
              <a:t>Гігієна праці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— це профілактична дисципліна, що вивчає вплив трудового процесу і навколишнього виробничого середовища на організм працівників з метою розробки санітарно-гігієнічних та лікувально-профілактичних заходів, спрямованих на створення найбільш сприятливих умов праці,  забезпечення здоров'я та високого рівня працездатності людей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анітарно-гігієнічні чинники виробничого середовищ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ікроклімат (температура, відносна вологість, швидкість руху повітря)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стота повітряного середовища (наявність парів, газів, пилу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ксичні речовин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вітленість, шум, вібраці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льтразвук, різні випромінюванн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іологічні та інші види вплив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ласифікація умов праці на виробництв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94920" y="1916280"/>
            <a:ext cx="855972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І клас —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оптимальні умов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такі умови, в яких не лише зберігається здоров’я працюючих, а й створюються передумови для підтримання високого рівня працездатності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ІІ клас —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допустимі умов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характеризуються такими рівнями факторів виробничого і трудового процесу, які не перевищують установлених гігієнічних нормативів, а можливі зміни функціонального стану організму відновлюються за час регламентованого відпочинку або до початку наступної зміни й не чинять несприятливого впливу на стан здоров’я працюючих та їх потомство в найближчому і віддаленому період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6:56:20Z</dcterms:created>
  <dc:creator>бтэт</dc:creator>
  <dc:description/>
  <dc:language>en-US</dc:language>
  <cp:lastModifiedBy>ТВЕРДОХЛIБ</cp:lastModifiedBy>
  <dcterms:modified xsi:type="dcterms:W3CDTF">2020-03-23T16:06:28Z</dcterms:modified>
  <cp:revision>46</cp:revision>
  <dc:subject/>
  <dc:title>Основи виробничої санитарії</dc:title>
</cp:coreProperties>
</file>