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A95-B491-4099-AEB7-21D15A4D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53C-9797-4392-8CD7-C413616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1DE-04CB-438A-9CEB-07FDE3E4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249-7AE4-41D6-ADE2-C7FDB2FB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97C-90A9-4BBB-9DE3-CA558444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39E2-5652-4B83-BBE7-5FA9FA9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5F5-3ECA-4C5C-A2F3-6D57B1F3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C6C5-A200-43AD-9CFF-F5975A4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6A5C-D14F-4F76-929F-30057E84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C193-2CB2-4D30-A0E0-A725F98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A911-7CFD-4C0A-B1D4-DC68849E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F17-941A-4FB7-BAEC-1133EFC1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49A-B596-4543-8AF2-59C498B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FACC-2830-4410-8D97-B8D8370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6CE0-9FAF-4F33-B145-1099E1A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50D-386F-4B14-A996-3A0356AF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DEF0-BA3E-4218-A6A2-B63AC21D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6D2-C70B-4CF9-8912-0824C9C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15A-3BD7-4186-862E-655622CD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10B-4BD2-4AF2-A5E6-B0E0952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CB6-A9BA-47E1-82CF-42E2EB1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D8D-8F6F-40CE-AD43-B82896C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8B0-723C-40B2-BEB3-0FA9F7F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477-46F8-44E2-8A9E-3D739B98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3FF0-5B18-4A51-8E16-FDE0F91A58F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28B-E882-4B60-9A12-A785DF552AB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276280"/>
            <a:ext cx="8064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33cc"/>
                </a:solidFill>
                <a:latin typeface="Arial"/>
              </a:rPr>
              <a:t>Виробнича санітарія, гігієна праці та фізіологія праці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95280" y="4724280"/>
            <a:ext cx="806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33cc"/>
                </a:solidFill>
                <a:latin typeface="Arial"/>
              </a:rPr>
              <a:t>Лекція 5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ікація умов праці на виробництв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916280"/>
            <a:ext cx="82818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ІІІ 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шкідливі умов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изуються такими рівнями шкідливих виробничих факторів, які перевищують гігієнічні нормативи і здатні чинити несприятливий вплив на організм працюючого та(або) його потом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безпечні (екстремальні) умов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характеризуються такими рівнями шкідливих факторів виробничого середовища і трудового процесу, вплив яких протягом робочої зміни (або її частин) створює загрозу для життя, високий ризик виникнення важких форм гострих професійних ураже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7.1.  Повітря робочої зони</a:t>
            </a:r>
            <a:br>
              <a:rPr sz="60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боча зона та повітря робочої зо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ікроклімат робочої зо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рмування та контроль параметрів мікроклімат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ходи та засоби нормалізації параметрів мікрокліма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Основні параметри мікроклімату та їх 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вплив на організ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5280" y="3290400"/>
            <a:ext cx="834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ікроклімат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це клімат організму в місці його перебування ч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укупність параметрів повітря у виробничому приміщенні, які діють на людину у процесі праці, на її робочому місці, у робочій зоні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5280" y="56566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Робоча зона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це простір висотою до 2 м над рівнем підлоги чи площадки, де розміщене робоче місц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24000" y="479736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обоче місц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 територія постійного або тимчасового знаходження людини у процесі праці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276200" y="253800"/>
            <a:ext cx="76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До нормованих показників мікроклімат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робочої зони належат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2337120"/>
            <a:ext cx="82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мператур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°С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носна вологість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%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швидкість руху повітр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/с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теплового випромінювання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і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т/м2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468360" y="422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им документом, що визначає параметри мікроклімату виробничих приміщень, є санітарні норми ДСН 3.3.6.042-9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482040" y="497160"/>
            <a:ext cx="89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Для вимірювання температури повіт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використовують різноманітні термометр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па"/>
          <p:cNvPicPr/>
          <p:nvPr/>
        </p:nvPicPr>
        <p:blipFill>
          <a:blip r:embed="rId1"/>
          <a:stretch/>
        </p:blipFill>
        <p:spPr>
          <a:xfrm>
            <a:off x="1116000" y="1557360"/>
            <a:ext cx="7632720" cy="3170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1042920" y="4762080"/>
            <a:ext cx="7669440" cy="15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метри: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альний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інімальний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ксимально-мінімальний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термометр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еретворювач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учка потенціометра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учка перемикача,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ектор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граф (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- біметалева пластинка, 2 - самописне перо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циліндр з годинниковим механізмо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726120" y="119520"/>
            <a:ext cx="80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Відносну вологість повітря вимірюю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гігрометрами або психрометр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55"/>
          <p:cNvPicPr/>
          <p:nvPr/>
        </p:nvPicPr>
        <p:blipFill>
          <a:blip r:embed="rId1"/>
          <a:stretch/>
        </p:blipFill>
        <p:spPr>
          <a:xfrm>
            <a:off x="1042920" y="1268280"/>
            <a:ext cx="7489800" cy="3318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826920" y="4685400"/>
            <a:ext cx="77025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сихрометри: 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- станційний (Августа):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хий термометр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2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ологий термометр; 3 - резервуар, обгорнутий батистом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аспіраційний (Ассмана):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1-3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еталеві трубки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які вміщені куль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ометрів;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4-5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ометри;  6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ентилятор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7-8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біжник від вітру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9 —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петка для змочування тканин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ологого термометр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 – гігромет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сихрометричний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 - волосяний  гігромет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95280" y="3456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Швидкість руху повітря вимірюють анемометром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95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4248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1143000" y="595080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емометр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– крильчастий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 – чашков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684360" y="535320"/>
            <a:ext cx="78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</a:rPr>
              <a:t>Оптимальні й допустимі параметри мікроклімат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9640" y="18586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птимальни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ікрокліматичними умовами є такі поєднання кількісних параметрів мікроклімату, які при тривалому та систематичному впливі на людину забезпечують збереження нормального функціонального і теплового стану організму без напруження терморегуляційних механізмі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Допустими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мовами називають такі поєднання кількісних параметрів  мікроклімату, які при тривалому і систематичному впливі на людину дають  змогу організму швидко нормалізувати функціональний і тепловий стан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619280" y="-108000"/>
            <a:ext cx="7129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Категорії робіт за ступенем важкост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0160" y="1620720"/>
          <a:ext cx="7449840" cy="4721400"/>
        </p:xfrm>
        <a:graphic>
          <a:graphicData uri="http://schemas.openxmlformats.org/drawingml/2006/table">
            <a:tbl>
              <a:tblPr/>
              <a:tblGrid>
                <a:gridCol w="2701800"/>
                <a:gridCol w="474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ії робі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и робі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гка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які виконуються сидячи, стоячи та   пов'язані з ходінням, але не вимагають фізичних зус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ї важкості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які постійно виконуються ходячи, а  також виконуються сидячи або стоячи, але не вимагають переміщення вантаж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ї важкості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пов'язані з ходінням і переміщенням вантажів до 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ж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боти, які пов'язані з  систематичними напруженням, постійним  переміщенням і перенесенням (понад 10 кг) вантаж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017720" y="198360"/>
            <a:ext cx="7734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ля забезпечення нормальних параметрі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мікроклімату в робочій зоні необхід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проводити такі заход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ханізаці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томатизацію   виробничих   процесі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ціональне  розміщення   обладна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хист від джерел теплового випромінюва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лаштування систем вентиляції 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диціювання повітр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але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•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ачання питною водо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Основи фізіології та гігієни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844280"/>
            <a:ext cx="8704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и фізіології праці.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оль центральної нервової системи в трудовій діяльності людини. Втом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Tahoma"/>
              </a:rPr>
              <a:t>Вплив характеру праці на організм людин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Гігієна праці, її значення. Чинники, що визначають санітарно-гігієнічні умови праці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Загальні підходи до оцінки умов праці та забезпечення належних, безпечних і здорових умов праці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042920" y="2032920"/>
            <a:ext cx="7489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еханізація й автоматизаці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обничих процесів дає змогу або різко знизити трудове навантаження на  працюючих, або ж зовсім усунути людину із виробничого середовища, переклавши його трудові функції на автоматизовані машини й обладнан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те ці заходи, як правило, дорогі та часто недоступні виробн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71640" y="4490640"/>
            <a:ext cx="76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аціональне розміщення обладнання.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цехах з тепловиділенням застосовують таке розміщення виробничого обладнання й організацію робочих місць, які б забезпечували комфортні умови праці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IMG_0003"/>
          <p:cNvPicPr/>
          <p:nvPr/>
        </p:nvPicPr>
        <p:blipFill>
          <a:blip r:embed="rId1"/>
          <a:stretch/>
        </p:blipFill>
        <p:spPr>
          <a:xfrm>
            <a:off x="-1698480" y="3352680"/>
            <a:ext cx="104760" cy="1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IMG_0003"/>
          <p:cNvPicPr/>
          <p:nvPr/>
        </p:nvPicPr>
        <p:blipFill>
          <a:blip r:embed="rId2"/>
          <a:stretch/>
        </p:blipFill>
        <p:spPr>
          <a:xfrm>
            <a:off x="-1698480" y="3352680"/>
            <a:ext cx="10476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G_0003"/>
          <p:cNvPicPr/>
          <p:nvPr/>
        </p:nvPicPr>
        <p:blipFill>
          <a:blip r:embed="rId1"/>
          <a:stretch/>
        </p:blipFill>
        <p:spPr>
          <a:xfrm>
            <a:off x="-1698480" y="3352680"/>
            <a:ext cx="104760" cy="1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042920" y="21261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Екранування.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плозахисні екрани застосовують для локалізації джерел теплового випромінювання, зниження опромінюваності на робочих місцях, а також для зменшення температури поверхонь, що оточують місце праці. Частину теплового випромінювання вони відбивають, а частину поглинаю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Теплоізоляці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Основним показником, який характеризує ефективність теплоізоляційних матеріалів, є низький коефіціє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еплопровідності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ий характеризує кількість тепла, що проходить за одиницю часу через одиничну площу стінки при різниці температур між поверхнями стінки один градус.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7.1.  Повітря робочої зо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1916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лад повітря робочої зони: джерела забруднення повітряного середовища шкідливими речовинами (газами, парою, пилом, димом, мікроорганізмами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нично допустимі концентрації (ГДК) шкідливих речовин. Контроль за станом повітряного середовища на виробництв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ходи та засоби попередження забруднення повітря робочої зо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тиляція. Види вентиляці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ікація шкідлив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і шкідливі речовини, що потрапляють у повітря, за ступенем дії на організм людини поділяються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 класи небезпе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ГОСТ 12.1.007-76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надзвичайно небезпечні (ртуть, свинець, фосген тощ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високонебезпечні (оксиди азоту, бензол, йод, марганець, мідь, хлор тощ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помірнонебезпечні (ацетон, сірчистий ангідрид, метиловий спирт та інші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малонебезпечні (аміак, бензин, етиловий спирт, оксид вуглецю тощо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ласифікація хімічн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4920" y="2133360"/>
            <a:ext cx="8559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Хімічні речовини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шкідливі та небезпечні) відповідно до ГОСТ 12.0.003-74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а характером впливу на організм людини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іляються на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агальнотоксичн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що викликають отруєння всього організму (ртуть, оксид вуглецю, толуол, анілін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одразнювальні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що викликають подразнення дихальних шляхів та слизових оболонок (хлор, аміак, сірководень, озон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енсибілізувальні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що діють як алергени (альдегіди, розчинники та лаки на основі нітросполук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ласифікація хімічн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4920" y="2133720"/>
            <a:ext cx="8559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анцерогенні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що викликають ракові захворювання (ароматичні вуглеводні, аміносполуки, азбест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утагенні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що викликають зміни спадкової інформації (свинець, радіоактивні речовини, формальдегід)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акі, щ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пливають на репродуктивну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відтворення потомств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ункцію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бензол, свинець, марганець, нікотин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Нормування шкідливих речов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гідно ДСТ 12.1.005-88 - нормує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ично допустима концентрація (ГДК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кідливих речовин у повітрі робочої зо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К у повітр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бочої зони – це така кiлькiсть шкідливих речовин, яка при щоденній роботі протягом 8 годин або іншої тривалості (40 годин у тиждень) протягом всього робочого стажу не може викликати захворювань або відхилень у стані здоров'я та не надає вплив на здоров'я майбутніх поколі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Заходи та засоби попередження забруднення повітря робочої зо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844640"/>
            <a:ext cx="8631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лучення шкідливих речовин з технологічних процесів, заміна шкідливих речовин менш шкідливими і т. п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досконалення технологічних процесів та устаткуванн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зація і дистанційне управління технологічними процесами та обладнання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ерметизація виробничого устаткування, локалізація шкідливих виділень за рахунок місцевої вентиляції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альне функціонування систем опалення, вентиляції, кондиціювання повітря, очистки викидів у атмосфе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передні та періодичні медичні огляди робітникі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за вмістом шкідливих речовин у повітрі робочої зон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користання засобів індивідуального захисту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ікація засобів індивідуального захист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8972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544400" y="332640"/>
            <a:ext cx="68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150920" y="1844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ентиляці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організований і регульований повітрообмін, який забезпечує видалення з виробничих приміщень нагрітого або забрудненого повітря і  подачу чистого зовнішнь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6"/>
          <p:cNvPicPr/>
          <p:nvPr/>
        </p:nvPicPr>
        <p:blipFill>
          <a:blip r:embed="rId1"/>
          <a:stretch/>
        </p:blipFill>
        <p:spPr>
          <a:xfrm>
            <a:off x="2484360" y="2711520"/>
            <a:ext cx="3816360" cy="2562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2396520" y="5376600"/>
            <a:ext cx="46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Схема аерації цеху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 - в теплу погоду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 - в холодну погоду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 нижні отвори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2 - верхні отвори (фрамуги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и фізіології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Фізіологія праці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– це наука, що вивчає зміни функціонального стану організму людини під впливом його трудової діяльності й обґрунтовує методи і засоби організації трудового процесу, які спрямовані на підтримку високої працездатності і збереження здоров'я працююч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332000" y="177948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залежн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від способів приведення в рух повітр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же  бут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иродною, механічною (штучною),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мбінованою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 своїм призначення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ю поділяють н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обоч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варій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357200" y="322632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 місцем д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ентиляції бувають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гальнообмінні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ісцеві.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гальнообмінна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сприяє підтриманню необхідних  параметрів повітряного середовища у всьому об'ємі приміщенн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Місцев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оздоровлює повітряний простір лише в певній  частині приміщення, а точніше на робочому місці, забезпечуючи працюючих чистим повітрям та вилучаючи з нього шкідливі  речови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904760" y="8366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1143000" y="2361600"/>
            <a:ext cx="750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цева витяжна вентиляція буває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ідкритог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критого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пу.  Найефективнішими вважаються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криті витяжк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смоктувачі,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яких належать, наприклад, витяжні шаф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285920" y="38592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Природну вентиляці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 характером повітрообміну поділяють на загально обмінну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еорганізован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організова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214280" y="485748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езканальна (аераційна)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відбувається за рахунок різниці гравітаційного тиску повітря, що наявне всередині та ззовні приміщення, а також дії вітру. Обмін повітря здійснюється через отвори в стінах (вікна) та в перекриття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544400" y="76500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453320" y="42984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395280" y="2024280"/>
            <a:ext cx="833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 способом передачі та видалення повітр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еханічна  вентиляція поділяється на припливну, витяжну й   комбінова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ипливн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забезпечує подачу повітря у виробничі                        приміщення після його попереднього очищення та зволоження. Утворений внаслідок дії  вентиляторів надлишковий тиск забезпечує витіснення повітря назовні через  вікна та двер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258920" y="4084560"/>
            <a:ext cx="691344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453320" y="42984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Вентиляція повітря й опалення приміщ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95280" y="1823760"/>
            <a:ext cx="833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итяжн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забезпечує видалення перегрітого і забрудненого повітря з виробничого приміщення, не даючи йому перейти у сусідні приміщенн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мбінована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ентиляція - це одночасне поєднання - припливної та витяжної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иробничих приміщеннях, де можливе виділення в повітря великої кількості шкідливих та вибухонебезпечних речовин, використовують </a:t>
            </a: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аварійну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вентиляці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706400" y="2781360"/>
            <a:ext cx="538668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Місцева витяжна вентиляція здійснюється за допомогою місцеви витяжних зонтів, всмоктуючих панелей, витяжних шаф, бортови відсмоктувачів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85680" y="2276640"/>
            <a:ext cx="74026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187280" y="232200"/>
            <a:ext cx="77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Для забезпечення необхідних параметрів мікроклімату на певній ділянці  виробничого приміщення, як вже було сказано вище, використовують місцеву припливну вентиляцію: повітряні душі, повітряні завіси й оаз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57160" y="3435120"/>
            <a:ext cx="795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ий душ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струмінь прохолодного зволоженого повітря зі  швидкістю 1 - 3,5 м/с, що огортає тіло людини, збільшуючи тепловіддачу від організму в навколишнє середовище, їх використовують для захисту працюючих від впливу теплового випромінювання інтенсивністю 350 Вт/м2  і більш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85880" y="5000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і оази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е обмежені перегородками ділянки виробничого приміщення, в яких створюється мікроклімат певних параметрів.  Здебільшого вони створюються в гарячих цех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863640" y="21427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і або повітряно-теплові завіси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лаштовують у дверних проймах і воротах для захисту людей від охолодження під час холодного та перехідного періоду року, коли охолодження приміщень призводить до  частих простудних захворюва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971640" y="385920"/>
            <a:ext cx="788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Для підтримування заданої температури повітря у приміщеннях холодної  пори року використовують різні системи опалення: водяну, парову, повітряну та комбіновані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1788120"/>
            <a:ext cx="83898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системах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одяног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алення як теплоносій використовують воду, нагріту  до 100°С чи вище. Така система опалення найбільш ефективна санітарно-гігієнічному відношенн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и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аровог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алення використовують переважно у промислових приміщеннях. Теплоносієм у них є пара низького або високого тис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овітряних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стемах для опалення використовують нагріте у спеціальних установках (калориферах) повітр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біновані системи опалення включають в себе описані вище елементи опалювальних сист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571680" y="5286240"/>
            <a:ext cx="82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випадку пожежі вентиляційні системи та установки кондиціювання  повітря одночасно з пуском електродвигуна пожежного насоса мають автоматично відключатися, оскільки вони, подаючи свіже насичене  кис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я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ямують поширенню пожеж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сновні поняття фізіології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Працездатність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- потенційна можливість людини виконувати протягом заданого часу і з достатньою ефективністю роботу визначеного обсягу і якості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Стомлення (втома)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– це зниження працездатності, що настає в процесі робо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рафік динаміки працездатності люди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1095480" y="1844640"/>
          <a:ext cx="74372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844640"/>
                    <a:ext cx="74372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7"/>
          <p:cNvSpPr/>
          <p:nvPr/>
        </p:nvSpPr>
        <p:spPr>
          <a:xfrm>
            <a:off x="395280" y="6018840"/>
            <a:ext cx="85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Типова крива працездатності протягом робочої зміни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а — впрацювання; b — стійка працездатність; c — зниження працездатності; d — емоційний пори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Характеристика інтенсивності робо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2276640"/>
          <a:ext cx="8064360" cy="3816360"/>
        </p:xfrm>
        <a:graphic>
          <a:graphicData uri="http://schemas.openxmlformats.org/drawingml/2006/table">
            <a:tbl>
              <a:tblPr/>
              <a:tblGrid>
                <a:gridCol w="2624040"/>
                <a:gridCol w="2719440"/>
                <a:gridCol w="2720880"/>
              </a:tblGrid>
              <a:tr h="1309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 роб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ЖИВАННЯ КИСНЮ, Л/Х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ЕРГОВИТРАТИ, ККАЛ/Х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Г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 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 2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ЕДНЬОЇ  ТЯЖК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ІД 0,5 ДО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...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 І БІ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ІЛЬШЕ 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ігієна прац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844280"/>
            <a:ext cx="8486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Гігієна праці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— це профілактична дисципліна, що вивчає вплив трудового процесу і навколишнього виробничого середовища на організм працівників з метою розробки санітарно-гігієнічних та лікувально-профілактичних заходів, спрямованих на створення найбільш сприятливих умов праці,  забезпечення здоров'я та високого рівня працездатності людей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нітарно-гігієнічні чинники виробничого середовищ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ікроклімат (температура, відносна вологість, швидкість руху повітря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тота повітряного середовища (наявність парів, газів, пилу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ксичні речови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вітленість, шум, вібраці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льтразвук, різні випромінюванн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іологічні та інші види впли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ифікація умов праці на виробництв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4920" y="1916280"/>
            <a:ext cx="8559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І 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птимальні умов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такі умови, в яких не лише зберігається здоров’я працюючих, а й створюються передумови для підтримання високого рівня працездатност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ІІ клас —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допустимі умов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изуються такими рівнями факторів виробничого і трудового процесу, які не перевищують установлених гігієнічних нормативів, а можливі зміни функціонального стану організму відновлюються за час регламентованого відпочинку або до початку наступної зміни й не чинять несприятливого впливу на стан здоров’я працюючих та їх потомство в найближчому і віддаленому період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56:20Z</dcterms:created>
  <dc:creator>бтэт</dc:creator>
  <dc:description/>
  <dc:language>en-US</dc:language>
  <cp:lastModifiedBy>ТВЕРДОХЛIБ</cp:lastModifiedBy>
  <dcterms:modified xsi:type="dcterms:W3CDTF">2020-03-23T16:06:28Z</dcterms:modified>
  <cp:revision>46</cp:revision>
  <dc:subject/>
  <dc:title>Основи виробничої санитарії</dc:title>
</cp:coreProperties>
</file>