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7611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7608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5" name="PlaceHolder 1"/>
          <p:cNvSpPr>
            <a:spLocks noGrp="1"/>
          </p:cNvSpPr>
          <p:nvPr>
            <p:ph type="hdr"/>
          </p:nvPr>
        </p:nvSpPr>
        <p:spPr>
          <a:xfrm>
            <a:off x="0" y="-360"/>
            <a:ext cx="29289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5"/>
          </p:nvPr>
        </p:nvSpPr>
        <p:spPr>
          <a:xfrm>
            <a:off x="3828960" y="-360"/>
            <a:ext cx="292896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912600" y="739440"/>
            <a:ext cx="493380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98" name="PlaceHolder 4"/>
          <p:cNvSpPr>
            <a:spLocks noGrp="1"/>
          </p:cNvSpPr>
          <p:nvPr>
            <p:ph type="body"/>
          </p:nvPr>
        </p:nvSpPr>
        <p:spPr>
          <a:xfrm>
            <a:off x="676080" y="4687920"/>
            <a:ext cx="540684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6"/>
          </p:nvPr>
        </p:nvSpPr>
        <p:spPr>
          <a:xfrm>
            <a:off x="0" y="9372240"/>
            <a:ext cx="292896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27"/>
          </p:nvPr>
        </p:nvSpPr>
        <p:spPr>
          <a:xfrm>
            <a:off x="3828960" y="9372240"/>
            <a:ext cx="29289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A6FD-7BE2-4C13-BAE9-50E7ECF971C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2960" y="739800"/>
            <a:ext cx="4933800" cy="3700440"/>
          </a:xfrm>
          <a:prstGeom prst="rect">
            <a:avLst/>
          </a:prstGeom>
          <a:ln w="0">
            <a:noFill/>
          </a:ln>
        </p:spPr>
      </p:sp>
      <p:sp>
        <p:nvSpPr>
          <p:cNvPr id="427" name="PlaceHolder 2"/>
          <p:cNvSpPr>
            <a:spLocks noGrp="1"/>
          </p:cNvSpPr>
          <p:nvPr>
            <p:ph type="body"/>
          </p:nvPr>
        </p:nvSpPr>
        <p:spPr>
          <a:xfrm>
            <a:off x="676080" y="4687920"/>
            <a:ext cx="5406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Номер слайда 3"/>
          <p:cNvSpPr/>
          <p:nvPr/>
        </p:nvSpPr>
        <p:spPr>
          <a:xfrm>
            <a:off x="3828960" y="9372600"/>
            <a:ext cx="29289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978F-1C06-4610-8C37-46AE4E5847DB}" type="slidenum">
              <a:rPr b="0" lang="uk-UA" sz="1200" spc="-1" strike="noStrike">
                <a:solidFill>
                  <a:srgbClr val="000000"/>
                </a:solidFill>
                <a:latin typeface="Trebuchet MS"/>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3B334-863A-49E7-A94E-17674EE0A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A45FA-A9FA-46D0-96C8-54C2B9610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ECA67-FCAB-411A-88C8-DA69816AB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585B1-A50B-4FE6-8C73-B1134F6DD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7BADC-E799-4F0A-8AC8-22251BB4F6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C99C2-B8CB-4E2C-9E98-6704389C9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DFAF1-F07C-4EA4-9427-02C65461A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14FE6-9E7F-4E2F-A038-53846E5E6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4FAD4-2A2A-485C-AFE8-1E12A1B7D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0F89E-59F1-4ABD-9CE7-56994D389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98820-ED6F-4475-B726-41FB2466A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3FFA9-3926-459A-B115-114191F56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8C3C3-02EF-4A69-B7DA-2602985AF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AF186-8C69-4EA9-9355-C0D1CAA94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BF531-B014-452B-98E3-EAB0C2E44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55750-EC9E-4E73-BDF6-B9546631C5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4CA28-736E-49DB-BF2A-A2FA09F90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6191BF-9EC8-4F08-8831-4C47837469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C57093-3FB8-4DA0-801A-C4ABE65050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EAD900-6BBE-437F-8415-95121510E7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63DA28-E801-430F-9617-9A52D0B428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1F0CDA-E977-4F44-9B37-8DFA798E26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C9E17-9997-43CE-98CC-D3E612C52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F0E031-4E9C-4488-A114-2FDE3CF695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95886E-E9ED-4EB0-B1FA-19350DD750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53C5E-A7C3-4C93-BA21-C211884ED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F60F9-C537-4178-8105-CC03898C8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1415EB-377C-436A-BE42-244E38CF4A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782560-9931-4500-AF30-F7825216EC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E759B9-EAEB-4DD7-AC11-308CE8CCDD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76579DD-806D-45FD-82A3-42174FAF78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9594655-3C9E-4FAA-B3E5-6DC70340CD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9F5A00-9543-41F8-AB1E-B1B7505603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932CD-0BD1-4ED7-A4A2-1E9F8E34F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175E307-A6E4-4542-8710-58240B9E19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EA0AE81-D1BE-4337-AE74-1FEECAD570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FD049B9-6DFB-4460-89EC-672AAB8E2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24B14C-F2EE-4AA7-98BE-B0B2D0CC7B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59B919-4A0C-4C03-BDFB-A0124925A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FF20C4-F937-4155-B97C-5B3DE98AB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D63DEB0-0D65-48BD-ACE0-4CB7254CE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943173F-0230-4729-B864-D0D0478DBA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FB5EEAB-7CA2-4CD2-A163-4E142172C7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8F591C-6660-4783-A1E7-4DBAAFEEE5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5CAD8-29F4-4DE9-AC2E-05DD0E0FB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FC164F-E302-4469-BBBE-C563E90F4F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C76F1D-FDE1-4564-BC47-ABC0856CC7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4F9038-1FBD-4956-8E66-A91D962B8A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EE7097-95BD-4A9E-AA98-0105556B0A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D7660E-8B13-48C8-9E18-95E8ADDCCE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E6DF26-ED44-4E14-AC8E-899E31164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AA1D95-9935-4AC4-829A-83469651F8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F6E007-300B-412D-AF6E-891216EC3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9A798-3287-4853-AA96-1A4839AA49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060D09-BEBF-4687-812F-FBC7304A29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FFC91-9936-489C-9588-5BEF35C88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A53B65-3A3C-48F5-B698-9DF1AACC29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37BBE71-AC03-43F3-A65C-CA23A12C08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02A3AC1-2F5D-4F3C-AB6C-41C3EB81BC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173B8A4-AB81-4BAD-AACB-E561CD5174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EF4E1E1-B255-4749-96E1-9DE3BFC59B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05A1A58-83B0-4CA5-8E19-52FF5548B8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FF7BD72-A612-4322-87AF-970F128084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496F3AA-B05A-414E-B7DB-C9C6E76DFD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AD2485B-34BC-4728-AD4D-9C35AE4AA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AEE63D7-D11C-49F1-AE37-FEAC781EDF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C5378-3F0C-4B51-8764-F0DF5DA85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DB7858C-FAC1-4968-A456-741DA45D4C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266CB9B-CE22-4F7D-974B-AC59F9B761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D435D67-68EA-4112-B61E-02D4249EB1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F9E96FF-1788-4FC3-967A-84FD9B4A01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8F6D0F8-9B40-4501-9F3E-EC5061D2C1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3D8A218-1B50-483F-BE63-E8857939DF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ED7C37F-1A12-4DF1-86C0-B87B504752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CB88184-6699-42A6-A934-676F9F98E8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2193B30-5B05-45C8-914E-02F1EB3825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F18D6A-761C-442D-A69D-621A49A6D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F3E59-D86B-4759-BB04-41D5ABC89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61C234-D8FD-4CE7-8677-B8CAEE9A25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442367D-7929-4BB0-A48A-8B3FC207C5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A4B93EA-7F65-48F4-B3EE-779907BFAD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099DFEB-8904-434B-B726-A67F206F9A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D2587E1-A07E-4C74-8384-0C5E7D62F7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A41A388-91CC-45D1-906A-5084B653C2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B8B745A-3CDD-4FB9-B0CD-72ECAABEE8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FF122FE-42E1-4548-A1E0-87632417CF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41E8AEB-5E94-45EB-AECE-4F524BC0DA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FAC5FF9-3EC4-4145-BEA6-1619A42AAD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C03F6-FA02-42A2-A3DA-68F91613C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BDA5A36-1648-429C-9E03-62CDFE6238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B6B5709-E50C-4ABF-A171-CD2951B993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E0E24E4-467A-46CD-AA2F-256BD1E24C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24AAFC7-A9B6-4B67-9530-0E909290BD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474C1A6-3BC1-4842-988D-2C36586980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E9028581-A0E5-4ACE-89A7-21B018E79B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2734B20-88A1-489E-860E-D7DA828E43C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DE07-8314-4853-BA3C-5F6B3052AAC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9374-D038-43F8-ABA6-5AFA285FC9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2" name="Picture 6" descr=""/>
          <p:cNvPicPr/>
          <p:nvPr/>
        </p:nvPicPr>
        <p:blipFill>
          <a:blip r:embed="rId2"/>
          <a:srcRect l="0" t="0" r="0" b="44430"/>
          <a:stretch/>
        </p:blipFill>
        <p:spPr>
          <a:xfrm>
            <a:off x="0" y="4041720"/>
            <a:ext cx="9144000" cy="2816280"/>
          </a:xfrm>
          <a:prstGeom prst="rect">
            <a:avLst/>
          </a:prstGeom>
          <a:ln w="0">
            <a:noFill/>
          </a:ln>
        </p:spPr>
      </p:pic>
      <p:sp>
        <p:nvSpPr>
          <p:cNvPr id="53" name="Straight Connector 8"/>
          <p:cNvSpPr/>
          <p:nvPr/>
        </p:nvSpPr>
        <p:spPr>
          <a:xfrm>
            <a:off x="457200" y="1143000"/>
            <a:ext cx="8229600" cy="0"/>
          </a:xfrm>
          <a:prstGeom prst="line">
            <a:avLst/>
          </a:prstGeom>
          <a:ln w="381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8" name="PlaceHolder 3"/>
          <p:cNvSpPr>
            <a:spLocks noGrp="1"/>
          </p:cNvSpPr>
          <p:nvPr>
            <p:ph type="dt" idx="7"/>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4"/>
          <p:cNvSpPr>
            <a:spLocks noGrp="1"/>
          </p:cNvSpPr>
          <p:nvPr>
            <p:ph type="ftr" idx="8"/>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5"/>
          <p:cNvSpPr>
            <a:spLocks noGrp="1"/>
          </p:cNvSpPr>
          <p:nvPr>
            <p:ph type="sldNum" idx="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E140-AF75-43E7-B85B-6F65FB8CAE0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5"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DF45-3171-4F51-9720-43F6039FFA2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7"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94"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2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212" name="PlaceHolder 3"/>
          <p:cNvSpPr>
            <a:spLocks noGrp="1"/>
          </p:cNvSpPr>
          <p:nvPr>
            <p:ph type="dt" idx="13"/>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ftr" idx="14"/>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17B2-656D-4C09-9B27-E041D058E04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59"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6876-089A-4E55-B78A-F5C4E12B90F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1"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0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07"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9CA9-4780-45D5-889A-D37B65C00D9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9"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5"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E952-FAE2-43DE-8B93-D77A2D8BF0B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7"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3"/>
          <p:cNvSpPr/>
          <p:nvPr/>
        </p:nvSpPr>
        <p:spPr>
          <a:xfrm>
            <a:off x="179280" y="1841040"/>
            <a:ext cx="8785440" cy="1556280"/>
          </a:xfrm>
          <a:prstGeom prst="rect">
            <a:avLst/>
          </a:prstGeom>
          <a:solidFill>
            <a:srgbClr val="9bbb5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Дисципліна:</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1" lang="ru-RU" sz="4800" spc="-1" strike="noStrike">
                <a:solidFill>
                  <a:srgbClr val="000000"/>
                </a:solidFill>
                <a:latin typeface="Times New Roman"/>
                <a:ea typeface="Times New Roman"/>
              </a:rPr>
              <a:t>Бренд</a:t>
            </a:r>
            <a:r>
              <a:rPr b="1" lang="en-US" sz="4800" spc="-1" strike="noStrike">
                <a:solidFill>
                  <a:srgbClr val="000000"/>
                </a:solidFill>
                <a:latin typeface="Times New Roman"/>
                <a:ea typeface="Times New Roman"/>
              </a:rPr>
              <a:t>-</a:t>
            </a:r>
            <a:r>
              <a:rPr b="1" lang="uk-UA" sz="4800" spc="-1" strike="noStrike">
                <a:solidFill>
                  <a:srgbClr val="000000"/>
                </a:solidFill>
                <a:latin typeface="Times New Roman"/>
                <a:ea typeface="Times New Roman"/>
              </a:rPr>
              <a:t>менеджмент»</a:t>
            </a:r>
            <a:endParaRPr b="0" lang="en-US" sz="4800" spc="-1" strike="noStrike">
              <a:solidFill>
                <a:srgbClr val="000000"/>
              </a:solidFill>
              <a:latin typeface="Times New Roman"/>
            </a:endParaRPr>
          </a:p>
        </p:txBody>
      </p:sp>
      <p:sp>
        <p:nvSpPr>
          <p:cNvPr id="402" name="Rectangle 3"/>
          <p:cNvSpPr/>
          <p:nvPr/>
        </p:nvSpPr>
        <p:spPr>
          <a:xfrm>
            <a:off x="179280" y="4424400"/>
            <a:ext cx="8964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Головня Олена Михайлівна</a:t>
            </a:r>
            <a:endParaRPr b="0" lang="en-US" sz="2800" spc="-1" strike="noStrike">
              <a:solidFill>
                <a:srgbClr val="000000"/>
              </a:solidFill>
              <a:latin typeface="Times New Roman"/>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94920" y="1052280"/>
            <a:ext cx="7467480" cy="4873320"/>
          </a:xfrm>
          <a:prstGeom prst="rect">
            <a:avLst/>
          </a:prstGeom>
          <a:noFill/>
          <a:ln w="0">
            <a:noFill/>
          </a:ln>
        </p:spPr>
        <p:txBody>
          <a:bodyPr anchor="t">
            <a:normAutofit fontScale="96000"/>
          </a:bodyPr>
          <a:p>
            <a:pPr marL="261720" indent="431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ренд</a:t>
            </a:r>
            <a:r>
              <a:rPr b="0" lang="uk-UA" sz="2400" spc="-1" strike="noStrike">
                <a:solidFill>
                  <a:srgbClr val="000000"/>
                </a:solidFill>
                <a:latin typeface="Times New Roman"/>
                <a:ea typeface="Calibri"/>
              </a:rPr>
              <a:t> - це унікальне ім'я, символ, дизайн або образ, вживаний для ідентифікації конкретного товару або компанії. Бренд - це нематеріальний актив, цінність якого в пізнаванні його споживачами і позитивних асоціаціях, пов'язаних з ним .</a:t>
            </a:r>
            <a:endParaRPr b="0" lang="en-US" sz="2400" spc="-1" strike="noStrike">
              <a:solidFill>
                <a:srgbClr val="000000"/>
              </a:solidFill>
              <a:latin typeface="Century Schoolbook"/>
            </a:endParaRPr>
          </a:p>
          <a:p>
            <a:pPr marL="261720" indent="431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ренд</a:t>
            </a:r>
            <a:r>
              <a:rPr b="0" lang="uk-UA" sz="2400" spc="-1" strike="noStrike">
                <a:solidFill>
                  <a:srgbClr val="000000"/>
                </a:solidFill>
                <a:latin typeface="Times New Roman"/>
                <a:ea typeface="Calibri"/>
              </a:rPr>
              <a:t> - це невідчутна сума властивостей продукту: його імені, упаковки і ціни, його історії, репутації і способу рекламування. </a:t>
            </a:r>
            <a:endParaRPr b="0" lang="en-US" sz="2400" spc="-1" strike="noStrike">
              <a:solidFill>
                <a:srgbClr val="000000"/>
              </a:solidFill>
              <a:latin typeface="Century Schoolbook"/>
            </a:endParaRPr>
          </a:p>
          <a:p>
            <a:pPr marL="261720" indent="431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Бренд</a:t>
            </a:r>
            <a:r>
              <a:rPr b="0" lang="uk-UA" sz="2400" spc="-1" strike="noStrike">
                <a:solidFill>
                  <a:srgbClr val="000000"/>
                </a:solidFill>
                <a:latin typeface="Times New Roman"/>
                <a:ea typeface="Calibri"/>
              </a:rPr>
              <a:t> - це комплекс вражень, які залишаються у покупця в результаті використання товару.</a:t>
            </a:r>
            <a:endParaRPr b="0" lang="en-US" sz="2400" spc="-1" strike="noStrike">
              <a:solidFill>
                <a:srgbClr val="000000"/>
              </a:solidFill>
              <a:latin typeface="Century Schoolbook"/>
            </a:endParaRPr>
          </a:p>
          <a:p>
            <a:pPr marL="261720" indent="431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рендом</a:t>
            </a:r>
            <a:r>
              <a:rPr b="0" lang="ru-RU" sz="2400" spc="-1" strike="noStrike">
                <a:solidFill>
                  <a:srgbClr val="000000"/>
                </a:solidFill>
                <a:latin typeface="Times New Roman"/>
                <a:ea typeface="Times New Roman"/>
              </a:rPr>
              <a:t> слід вважати лише відому торгову марку, яка в свідомості споживачів асоціюється з певними очікуваними вигодами та цінностями. </a:t>
            </a:r>
            <a:endParaRPr b="0" lang="en-US" sz="2400" spc="-1" strike="noStrike">
              <a:solidFill>
                <a:srgbClr val="000000"/>
              </a:solidFill>
              <a:latin typeface="Century Schoolbook"/>
            </a:endParaRPr>
          </a:p>
          <a:p>
            <a:pPr marL="261720" indent="4312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610920" y="765000"/>
            <a:ext cx="7467480" cy="4873680"/>
          </a:xfrm>
          <a:prstGeom prst="rect">
            <a:avLst/>
          </a:prstGeom>
          <a:noFill/>
          <a:ln w="0">
            <a:noFill/>
          </a:ln>
        </p:spPr>
        <p:txBody>
          <a:bodyPr anchor="t">
            <a:normAutofit/>
          </a:bodyPr>
          <a:p>
            <a:pPr marL="179280" indent="449280" algn="just">
              <a:lnSpc>
                <a:spcPct val="100000"/>
              </a:lnSpc>
              <a:spcBef>
                <a:spcPts val="601"/>
              </a:spcBef>
              <a:buClr>
                <a:srgbClr val="fe8637"/>
              </a:buClr>
              <a:buSzPct val="70000"/>
              <a:buFont typeface="Wingdings" charset="2"/>
              <a:buChar char=""/>
              <a:tabLst>
                <a:tab algn="l" pos="44928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Сучасний етап економічного розвитку зумовлює необхідність урахування бренда в діяльності підприємства як важливого нематеріального актива для забезпечення довготривалого життєвого циклу підприємства в умовах нестабільності зовнішнього середовища. </a:t>
            </a:r>
            <a:endParaRPr b="0" lang="en-US" sz="1800" spc="-1" strike="noStrike">
              <a:solidFill>
                <a:srgbClr val="000000"/>
              </a:solidFill>
              <a:latin typeface="Century Schoolbook"/>
            </a:endParaRPr>
          </a:p>
          <a:p>
            <a:pPr marL="179280" indent="449280" algn="just">
              <a:lnSpc>
                <a:spcPct val="100000"/>
              </a:lnSpc>
              <a:spcBef>
                <a:spcPts val="601"/>
              </a:spcBef>
              <a:buClr>
                <a:srgbClr val="fe8637"/>
              </a:buClr>
              <a:buSzPct val="70000"/>
              <a:buFont typeface="Wingdings" charset="2"/>
              <a:buChar char=""/>
              <a:tabLst>
                <a:tab algn="l" pos="44928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На сучасному етапі розвитку ринкової економіки введення в господарський обіг нематеріальних активів, здатних забезпечити інтенсивний розвиток економіки країни, набуває важливого значення. Їхнє використання в діяльності підприємств сприяє підвищенню конкурентоспроможності продукції на внутрішньому  ринку, розширенню виробництва, створенню нових товарів, економії трудових витрат, зменшенню собівартості продукції, поліпшенню умов праці, зміцненню іміджу, а отже, економічному зростанню суб’єктів господарювання. </a:t>
            </a:r>
            <a:endParaRPr b="0" lang="en-US" sz="1800" spc="-1" strike="noStrike">
              <a:solidFill>
                <a:srgbClr val="000000"/>
              </a:solidFill>
              <a:latin typeface="Century Schoolbook"/>
            </a:endParaRPr>
          </a:p>
          <a:p>
            <a:pPr marL="179280" indent="449280" algn="just">
              <a:lnSpc>
                <a:spcPct val="100000"/>
              </a:lnSpc>
              <a:spcBef>
                <a:spcPts val="601"/>
              </a:spcBef>
              <a:buClr>
                <a:srgbClr val="fe8637"/>
              </a:buClr>
              <a:buSzPct val="70000"/>
              <a:buFont typeface="Wingdings" charset="2"/>
              <a:buChar char=""/>
              <a:tabLst>
                <a:tab algn="l" pos="44928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Нематеріальні активи трактуються як цінності, ресурси, що мають грошову оцінку і забезпечують отримання доходу (перевага на ринку) для підприємства.</a:t>
            </a:r>
            <a:endParaRPr b="0" lang="en-US" sz="1800" spc="-1" strike="noStrike">
              <a:solidFill>
                <a:srgbClr val="000000"/>
              </a:solidFill>
              <a:latin typeface="Century Schoolbook"/>
            </a:endParaRPr>
          </a:p>
          <a:p>
            <a:pPr marL="179280" indent="449280">
              <a:lnSpc>
                <a:spcPct val="100000"/>
              </a:lnSpc>
              <a:spcBef>
                <a:spcPts val="601"/>
              </a:spcBef>
              <a:buClr>
                <a:srgbClr val="fe8637"/>
              </a:buClr>
              <a:buSzPct val="70000"/>
              <a:buFont typeface="Wingdings" charset="2"/>
              <a:buChar char=""/>
              <a:tabLst>
                <a:tab algn="l" pos="44928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23640" y="260280"/>
            <a:ext cx="8280360" cy="6121440"/>
          </a:xfrm>
          <a:prstGeom prst="rect">
            <a:avLst/>
          </a:prstGeom>
          <a:noFill/>
          <a:ln w="0">
            <a:noFill/>
          </a:ln>
        </p:spPr>
        <p:txBody>
          <a:bodyPr anchor="t">
            <a:normAutofit fontScale="97000"/>
          </a:bodyPr>
          <a:p>
            <a:pPr marL="264600" indent="4356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Ґрунтуючись на вищевикладених положеннях щодо сутності бренда в умовах ринкової економіки, сформулюємо його призначення в стратегічному розвитку підприємства:</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формування механізму взаємодії підприємства зі споживачами;</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абезпечення довготривалих конкурентних переваг (диференціації товарів, послуг, забезпечення захисту товарів/послуг від атак конкурентів, укріплюючи позиції щодо товарів-субститутів); </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формування лояльності у споживачів, завдяки чому протягом певного періоду, бренд забезпечує прибуток підприємству та посилює довіру партнерів, полегшуючи доступ підприємства до фінансових, інформаційних, людських та інших ресурсів;</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абезпечення адаптивності підприємства в умовах перманентних зовнішніх змін завдяки лояльності споживачів до бренда;</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ідвищення іміджу підприємства;</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є стійким фактором збільшення вартості матеріальних активів;</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абезпечення довготривалого життєвого циклу підприємства;</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сприяння цілісному, комплексному підходу до підприємства та його оточення;</a:t>
            </a:r>
            <a:endParaRPr b="0" lang="en-US" sz="1800" spc="-1" strike="noStrike">
              <a:solidFill>
                <a:srgbClr val="000000"/>
              </a:solidFill>
              <a:latin typeface="Century Schoolbook"/>
            </a:endParaRPr>
          </a:p>
          <a:p>
            <a:pPr marL="264600" indent="43560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у внутрішньому середовищі організації слугує мобілізуючим фактором, а також фактором згуртованості.</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78920" y="333000"/>
            <a:ext cx="8280360" cy="573732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тже, можна стверджувати про те, що бренд володіє великим потенціалом та є невід’ємним елементом ринкових відносин, фактором підвищення конкурентоспроможності продукції, захисту від недобросовісної конкуренції. </a:t>
            </a:r>
            <a:endParaRPr b="0" lang="en-US" sz="2400" spc="-1" strike="noStrike">
              <a:solidFill>
                <a:srgbClr val="000000"/>
              </a:solidFill>
              <a:latin typeface="Century Schoolbook"/>
            </a:endParaRPr>
          </a:p>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Бренд стає дедалі важливішим економічним важелем в умовах активізації торгівлі та глобалізації міжнародного торговельного простору, що дає змогу вважати його стратегічним інструментом бізнесу. </a:t>
            </a:r>
            <a:endParaRPr b="0" lang="en-US" sz="2400" spc="-1" strike="noStrike">
              <a:solidFill>
                <a:srgbClr val="000000"/>
              </a:solidFill>
              <a:latin typeface="Century Schoolbook"/>
            </a:endParaRPr>
          </a:p>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Розвиток   бренда – це стратегічна бізнес-функція, реалізацію якої в епоху глобалізації передбачає стратегічний розвиток підприємства.</a:t>
            </a:r>
            <a:endParaRPr b="0" lang="en-US" sz="2400" spc="-1" strike="noStrike">
              <a:solidFill>
                <a:srgbClr val="000000"/>
              </a:solidFill>
              <a:latin typeface="Century Schoolbook"/>
            </a:endParaRPr>
          </a:p>
          <a:p>
            <a:pPr marL="27288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94920" y="620280"/>
            <a:ext cx="7993080" cy="5545080"/>
          </a:xfrm>
          <a:prstGeom prst="rect">
            <a:avLst/>
          </a:prstGeom>
          <a:noFill/>
          <a:ln w="0">
            <a:noFill/>
          </a:ln>
        </p:spPr>
        <p:txBody>
          <a:bodyPr anchor="t">
            <a:normAutofit/>
          </a:bodyPr>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ерспективи застосування принципів брендингу зумовлені численними вигодами, які отримують продавець, виробник та власник успішної торгової марки. </a:t>
            </a:r>
            <a:endParaRPr b="0" lang="en-US" sz="2000" spc="-1" strike="noStrike">
              <a:solidFill>
                <a:srgbClr val="000000"/>
              </a:solidFill>
              <a:latin typeface="Century Schoolbook"/>
            </a:endParaRPr>
          </a:p>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споживача бренд також несе певні вигоди, оскільки, насамперед, полегшує вибір на перенасиченому товарами ринку, дає впевненість в його правильності, стає втіленням довіри та дає можливість самовираження. </a:t>
            </a:r>
            <a:endParaRPr b="0" lang="en-US" sz="2000" spc="-1" strike="noStrike">
              <a:solidFill>
                <a:srgbClr val="000000"/>
              </a:solidFill>
              <a:latin typeface="Century Schoolbook"/>
            </a:endParaRPr>
          </a:p>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виробника – це основний інструмент для формування довгострокової споживчої переваги до даної марки серед конкуруючих. </a:t>
            </a:r>
            <a:endParaRPr b="0" lang="en-US" sz="2000" spc="-1" strike="noStrike">
              <a:solidFill>
                <a:srgbClr val="000000"/>
              </a:solidFill>
              <a:latin typeface="Century Schoolbook"/>
            </a:endParaRPr>
          </a:p>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звичай орендовані товари вартують більше ніж аналогічні товари під невідомими марками. Споживачі брендів платять додаткові гроші не тільки за реальні якості товару (формальні розходження в якості різних товарів споживачем не диференціюються чи частіше всього спотворюються), а за "міф бренду", </a:t>
            </a:r>
            <a:r>
              <a:rPr b="1" lang="ru-RU" sz="2000" spc="-1" strike="noStrike" u="sng">
                <a:solidFill>
                  <a:srgbClr val="000000"/>
                </a:solidFill>
                <a:uFillTx/>
                <a:latin typeface="Times New Roman"/>
                <a:ea typeface="Times New Roman"/>
              </a:rPr>
              <a:t>що має для споживача наступні вигоди</a:t>
            </a:r>
            <a:r>
              <a:rPr b="0" lang="ru-RU" sz="2000" spc="-1" strike="noStrike">
                <a:solidFill>
                  <a:srgbClr val="000000"/>
                </a:solidFill>
                <a:latin typeface="Times New Roman"/>
                <a:ea typeface="Times New Roman"/>
              </a:rPr>
              <a:t>:</a:t>
            </a:r>
            <a:endParaRPr b="0" lang="en-US" sz="2000" spc="-1" strike="noStrike">
              <a:solidFill>
                <a:srgbClr val="000000"/>
              </a:solidFill>
              <a:latin typeface="Century Schoolbook"/>
            </a:endParaRPr>
          </a:p>
          <a:p>
            <a:pPr marL="272880" indent="4492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250920" y="404640"/>
            <a:ext cx="8424720" cy="48736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меншення витрат клієнтів на пошуки шляхом забезпечення швидкого й точного ідентифікування товарів;</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меншення сприйняття ризику в покупця, забезпечення гарантії якості та послідовності (в тому числі для нових товарів);</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безпечення додаткової впевненості, психологічної винагороди від купівлі марки;</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ідкреслення певного суспільного статусу та престижу; </a:t>
            </a:r>
            <a:endParaRPr b="0" lang="en-US" sz="24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меншення соціальних і психологічних ризиків, пов’язаних з купівлею та користуванням інноваційними або «особливими» (нетрадиційними) товарами.</a:t>
            </a:r>
            <a:endParaRPr b="0" lang="en-US" sz="24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95280" y="549000"/>
            <a:ext cx="7848720" cy="5832360"/>
          </a:xfrm>
          <a:prstGeom prst="rect">
            <a:avLst/>
          </a:prstGeom>
          <a:noFill/>
          <a:ln w="0">
            <a:noFill/>
          </a:ln>
        </p:spPr>
        <p:txBody>
          <a:bodyPr anchor="t">
            <a:normAutofit/>
          </a:bodyPr>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ля </a:t>
            </a:r>
            <a:r>
              <a:rPr b="1" lang="uk-UA" sz="2000" spc="-1" strike="noStrike">
                <a:solidFill>
                  <a:srgbClr val="000000"/>
                </a:solidFill>
                <a:latin typeface="Times New Roman"/>
                <a:ea typeface="Times New Roman"/>
              </a:rPr>
              <a:t>виробника </a:t>
            </a:r>
            <a:r>
              <a:rPr b="0" lang="uk-UA" sz="2000" spc="-1" strike="noStrike">
                <a:solidFill>
                  <a:srgbClr val="000000"/>
                </a:solidFill>
                <a:latin typeface="Times New Roman"/>
                <a:ea typeface="Times New Roman"/>
              </a:rPr>
              <a:t>сильний, вдалий бренд буде мати наступні </a:t>
            </a:r>
            <a:r>
              <a:rPr b="1" lang="uk-UA" sz="2000" spc="-1" strike="noStrike">
                <a:solidFill>
                  <a:srgbClr val="000000"/>
                </a:solidFill>
                <a:latin typeface="Times New Roman"/>
                <a:ea typeface="Times New Roman"/>
              </a:rPr>
              <a:t>вигоди</a:t>
            </a:r>
            <a:r>
              <a:rPr b="0" lang="uk-UA" sz="2000" spc="-1" strike="noStrike">
                <a:solidFill>
                  <a:srgbClr val="000000"/>
                </a:solidFill>
                <a:latin typeface="Times New Roman"/>
                <a:ea typeface="Times New Roman"/>
              </a:rPr>
              <a:t>:</a:t>
            </a:r>
            <a:endParaRPr b="0" lang="en-US" sz="2000" spc="-1" strike="noStrike">
              <a:solidFill>
                <a:srgbClr val="000000"/>
              </a:solidFill>
              <a:latin typeface="Century Schoolbook"/>
            </a:endParaRPr>
          </a:p>
          <a:p>
            <a:pPr marL="272880" indent="449280" algn="just">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Times New Roman"/>
              </a:rPr>
              <a:t>Дозволить отримувати додатковий прибуток. </a:t>
            </a:r>
            <a:endParaRPr b="0" lang="en-US" sz="2000" spc="-1" strike="noStrike">
              <a:solidFill>
                <a:srgbClr val="000000"/>
              </a:solidFill>
              <a:latin typeface="Century Schoolbook"/>
            </a:endParaRPr>
          </a:p>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Ми вже не дивуємося, що пляшка безалкогольного напою місцевого заводу коштує в 1,5-2 рази дешевше, ніж пляшка такої ж ємкості міжнародного виробника. Ми зрозуміли, що це плата за популярність, якість, рекламу. І, не зважаючи на те, що найчастіше товари місцевого виробника, які коштують набагато менше, нічим не відрізняються від дорогих товарів, виготовлених десь за морями, багато споживачів готові платити додаткову, так звану premium ціну, за можливість володіння бажаним. Це досить добре відомо багатьом чоловікам, які хоча б раз у житті намагалися домогтися уваги жінки. Як тільки об'єкт бажання відчуває підвищену увагу до своєї персони, відразу підвищуються вимоги - «машина, дача і шуба». Тобто товар зі звичайного перетворюється в premium. </a:t>
            </a:r>
            <a:endParaRPr b="0" lang="en-US" sz="2000" spc="-1" strike="noStrike">
              <a:solidFill>
                <a:srgbClr val="000000"/>
              </a:solidFill>
              <a:latin typeface="Century Schoolbook"/>
            </a:endParaRPr>
          </a:p>
          <a:p>
            <a:pPr marL="272880" indent="4492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539280" y="692280"/>
            <a:ext cx="7704360" cy="568944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Times New Roman"/>
              </a:rPr>
              <a:t>Захистить виробника в процесі роботи з партнерами. </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иробники, що випускають безликі товари, залежать від продавця, оскільки останньому всеодно, у кого з фабрикантів купувати «засіб для миття голови». І якщо завтра магазин затримає повернення грошей за товар одному з таких виробників, і це призведе до розриву відносин, то на місце «скривдженого» відразу прийде ще п'ятеро виробників «засобу». Інша справа, якщо P&amp;G пропонує магазину для реалізації бренд Head&amp;Shoulders. </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Цей товар рекламується, він відмінно упакований. Покупці приходять у магазин саме за цим товаром. Це значить, що виробник дає магазину для продажу такий товар, на якому продавець може заробити швидко і з мінімальними накладними витратами. Тому, що магазин зацікавлений у такому товарі. Отже, що виробник може диктувати умови, по яких він буде працювати з магазином. </a:t>
            </a:r>
            <a:endParaRPr b="0" lang="en-US" sz="20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68000" y="907560"/>
            <a:ext cx="7467480" cy="48754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Times New Roman"/>
              </a:rPr>
              <a:t>Полегшить процедуру вибору товару споживачем. </a:t>
            </a:r>
            <a:endParaRPr b="0" lang="en-US" sz="20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одному пристойному магазині сьогодні представлено кілька сотень, а то і тисяч найменувань товарів. Яскраві, помітні, привабливі флакони, коробки, тюбики юрбляться на полицях, закриваючи один одного, збиваючи з пантелику і покупців і продавців. Полегшити процедуру вибору товару, миттєво вказати покупцю на себе ("я тут") </a:t>
            </a:r>
            <a:r>
              <a:rPr b="0" lang="uk-UA" sz="2000" spc="-1" strike="noStrike">
                <a:solidFill>
                  <a:srgbClr val="000000"/>
                </a:solidFill>
                <a:latin typeface="Symbol"/>
                <a:ea typeface="Symbol"/>
              </a:rPr>
              <a:t></a:t>
            </a:r>
            <a:r>
              <a:rPr b="0" lang="uk-UA" sz="2000" spc="-1" strike="noStrike">
                <a:solidFill>
                  <a:srgbClr val="000000"/>
                </a:solidFill>
                <a:latin typeface="Times New Roman"/>
                <a:ea typeface="Times New Roman"/>
              </a:rPr>
              <a:t> одне з найважливіших завдань бренду. Бренд також гарантує покупцю якість. Той, хто один раз спробував той чи інший бренд, надалі не роздумує про доцільність покупки. "Сподобалося ­</a:t>
            </a:r>
            <a:r>
              <a:rPr b="0" lang="uk-UA" sz="2000" spc="-1" strike="noStrike">
                <a:solidFill>
                  <a:srgbClr val="000000"/>
                </a:solidFill>
                <a:latin typeface="Symbol"/>
                <a:ea typeface="Symbol"/>
              </a:rPr>
              <a:t></a:t>
            </a:r>
            <a:r>
              <a:rPr b="0" lang="uk-UA" sz="2000" spc="-1" strike="noStrike">
                <a:solidFill>
                  <a:srgbClr val="000000"/>
                </a:solidFill>
                <a:latin typeface="Times New Roman"/>
                <a:ea typeface="Times New Roman"/>
              </a:rPr>
              <a:t> просто купи. У цій коробці саме те, що тобі потрібно. Ти вже переконався", </a:t>
            </a:r>
            <a:r>
              <a:rPr b="0" lang="uk-UA" sz="2000" spc="-1" strike="noStrike">
                <a:solidFill>
                  <a:srgbClr val="000000"/>
                </a:solidFill>
                <a:latin typeface="Symbol"/>
                <a:ea typeface="Symbol"/>
              </a:rPr>
              <a:t></a:t>
            </a:r>
            <a:r>
              <a:rPr b="0" lang="uk-UA" sz="2000" spc="-1" strike="noStrike">
                <a:solidFill>
                  <a:srgbClr val="000000"/>
                </a:solidFill>
                <a:latin typeface="Times New Roman"/>
                <a:ea typeface="Times New Roman"/>
              </a:rPr>
              <a:t> от що говорить бренд своєму покупцю</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6840" y="1600200"/>
            <a:ext cx="7467480" cy="48736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Times New Roman"/>
              </a:rPr>
              <a:t>Ідентифікує компанію-виробника і її товари серед товарів конкурентів. </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скільки більшість компаній, що випускають товари масового споживання, не обмежуються випуском одного чи двох найменувань продукції, то ще одне завдання, що стоїть перед брендом </a:t>
            </a:r>
            <a:r>
              <a:rPr b="0" lang="uk-UA" sz="2000" spc="-1" strike="noStrike">
                <a:solidFill>
                  <a:srgbClr val="000000"/>
                </a:solidFill>
                <a:latin typeface="Symbol"/>
                <a:ea typeface="Symbol"/>
              </a:rPr>
              <a:t></a:t>
            </a:r>
            <a:r>
              <a:rPr b="0" lang="uk-UA" sz="2000" spc="-1" strike="noStrike">
                <a:solidFill>
                  <a:srgbClr val="000000"/>
                </a:solidFill>
                <a:latin typeface="Times New Roman"/>
                <a:ea typeface="Times New Roman"/>
              </a:rPr>
              <a:t> вказівка на фірму-виробника. Споживач, що купив який-небудь товар, випробувавши його й задовільнившись якістю, обов'язково зверне увагу на назву фірми-виробника, і наступного разу намагатиметься купити продукцію саме цього фабриканта.</a:t>
            </a:r>
            <a:endParaRPr b="0" lang="en-US" sz="20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Прямоугольник 1"/>
          <p:cNvSpPr/>
          <p:nvPr/>
        </p:nvSpPr>
        <p:spPr>
          <a:xfrm>
            <a:off x="179280" y="1844640"/>
            <a:ext cx="8496360" cy="3018600"/>
          </a:xfrm>
          <a:prstGeom prst="rect">
            <a:avLst/>
          </a:prstGeom>
          <a:solidFill>
            <a:srgbClr val="92d050"/>
          </a:solidFill>
          <a:ln w="0">
            <a:noFill/>
          </a:ln>
        </p:spPr>
        <p:style>
          <a:lnRef idx="0"/>
          <a:fillRef idx="0"/>
          <a:effectRef idx="0"/>
          <a:fontRef idx="minor"/>
        </p:style>
        <p:txBody>
          <a:bodyPr lIns="90000" rIns="90000" tIns="46800" bIns="46800" anchor="t">
            <a:spAutoFit/>
          </a:bodyPr>
          <a:p>
            <a:pPr marL="228600" indent="-179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ea typeface="Times New Roman"/>
              </a:rPr>
              <a:t>ТЕМА 1. </a:t>
            </a:r>
            <a:endParaRPr b="0" lang="en-US" sz="4800" spc="-1" strike="noStrike">
              <a:solidFill>
                <a:srgbClr val="000000"/>
              </a:solidFill>
              <a:latin typeface="Times New Roman"/>
            </a:endParaRPr>
          </a:p>
          <a:p>
            <a:pPr marL="228600" indent="-179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ea typeface="Times New Roman"/>
              </a:rPr>
              <a:t>СУТЬ, ПОНЯТТЯ ТА РОЗВИТОК </a:t>
            </a:r>
            <a:endParaRPr b="0" lang="en-US" sz="4800" spc="-1" strike="noStrike">
              <a:solidFill>
                <a:srgbClr val="000000"/>
              </a:solidFill>
              <a:latin typeface="Times New Roman"/>
            </a:endParaRPr>
          </a:p>
          <a:p>
            <a:pPr marL="228600" indent="-179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ea typeface="Times New Roman"/>
              </a:rPr>
              <a:t>БРЕНД-МЕНЕДЖМЕНТУ</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6840" y="1600200"/>
            <a:ext cx="7467480" cy="48736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Times New Roman"/>
              </a:rPr>
              <a:t>Полегшить вихід виробника з новими товарами на суміжні ринки. </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упуючи гель після гоління, виробництва фірми Gillette, споживач, як правило, не задумується над якістю цього товару </a:t>
            </a:r>
            <a:r>
              <a:rPr b="0" lang="uk-UA" sz="2000" spc="-1" strike="noStrike">
                <a:solidFill>
                  <a:srgbClr val="000000"/>
                </a:solidFill>
                <a:latin typeface="Symbol"/>
                <a:ea typeface="Symbol"/>
              </a:rPr>
              <a:t></a:t>
            </a:r>
            <a:r>
              <a:rPr b="0" lang="uk-UA" sz="2000" spc="-1" strike="noStrike">
                <a:solidFill>
                  <a:srgbClr val="000000"/>
                </a:solidFill>
                <a:latin typeface="Times New Roman"/>
                <a:ea typeface="Times New Roman"/>
              </a:rPr>
              <a:t> він цілком довіряє цій фірмі. Але слід відзначити, що довіра виникла як наслідок позитивного досвіду використання іншого товару фірми, що займає нішу, відмінну від засобів по догляду за шкірою </a:t>
            </a:r>
            <a:r>
              <a:rPr b="0" lang="uk-UA" sz="2000" spc="-1" strike="noStrike">
                <a:solidFill>
                  <a:srgbClr val="000000"/>
                </a:solidFill>
                <a:latin typeface="Symbol"/>
                <a:ea typeface="Symbol"/>
              </a:rPr>
              <a:t></a:t>
            </a:r>
            <a:r>
              <a:rPr b="0" lang="uk-UA" sz="2000" spc="-1" strike="noStrike">
                <a:solidFill>
                  <a:srgbClr val="000000"/>
                </a:solidFill>
                <a:latin typeface="Times New Roman"/>
                <a:ea typeface="Times New Roman"/>
              </a:rPr>
              <a:t> бритвених систем Gillette. Тобто фірма, що створила бренд в одній ніші ринку, надалі може з меншими витратами на рекламу і просування випускати продукцію в інших нішах, навіть не пов’язаних нішах.</a:t>
            </a:r>
            <a:endParaRPr b="0" lang="en-US" sz="20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620280"/>
            <a:ext cx="7848720" cy="55450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Times New Roman"/>
              </a:rPr>
              <a:t>Можливість робити інвестиції в майбутнє. </a:t>
            </a:r>
            <a:endParaRPr b="0" lang="en-US" sz="20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Якщо виробник випускає напій "лимонад" і вкладає гроші в "розкручування" товару через десять років з подивом зрозуміє, що плоди його багаторічних зусиль дорівнюють нулю. Тому, що ні назва напою, ні його упаковка нічого не говорять покупцю. Будь-який конкурент без особливих зусиль переманить покупців на свою сторону, якщо запропонує їм смачніший напій під тією ж назвою за меншу ціну. Люди хочуть пити не просто "колу", а саме Pepsi-колу, хоча в Америці виробників, що випускають "кольорові" напої – надзвичайно багато. Але якщо виробник створить гарний напій з оригінальним упаковкою і назвою, то подальші вкладення грошей у развиток товару буде захищено. Рік за роком фірма буде завойовувати все нових і нових споживачів, і в кінцевому підсумку, можливо, досягне того, що досягли деякі світові компанії, торгові марки яких у грошовому еквіваленті оцінюються значно дорожче, ніж усі матеріальні активи. </a:t>
            </a:r>
            <a:endParaRPr b="0" lang="en-US" sz="20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68000" y="907560"/>
            <a:ext cx="7467480" cy="4875480"/>
          </a:xfrm>
          <a:prstGeom prst="rect">
            <a:avLst/>
          </a:prstGeom>
          <a:noFill/>
          <a:ln w="0">
            <a:noFill/>
          </a:ln>
        </p:spPr>
        <p:txBody>
          <a:bodyPr anchor="t">
            <a:normAutofit/>
          </a:bodyPr>
          <a:p>
            <a:pPr marL="343080" indent="-343080" algn="just">
              <a:lnSpc>
                <a:spcPct val="100000"/>
              </a:lnSpc>
              <a:spcBef>
                <a:spcPts val="601"/>
              </a:spcBef>
              <a:buClr>
                <a:srgbClr val="fe8637"/>
              </a:buClr>
              <a:buSzPct val="70000"/>
              <a:buFont typeface="Times New Roman"/>
              <a:buAutoNum type="arabicPeriod"/>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Times New Roman"/>
                <a:ea typeface="Times New Roman"/>
              </a:rPr>
              <a:t>Розвиває цілі галузі виробництва і категорії товарів. </a:t>
            </a:r>
            <a:endParaRPr b="0" lang="en-US" sz="1800" spc="-1" strike="noStrike">
              <a:solidFill>
                <a:srgbClr val="000000"/>
              </a:solidFill>
              <a:latin typeface="Century Schoolbook"/>
            </a:endParaRPr>
          </a:p>
          <a:p>
            <a:pPr marL="343080" indent="-343080" algn="just">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Nike, Disney, Apple, Xerox </a:t>
            </a:r>
            <a:r>
              <a:rPr b="0" lang="uk-UA" sz="1800" spc="-1" strike="noStrike">
                <a:solidFill>
                  <a:srgbClr val="000000"/>
                </a:solidFill>
                <a:latin typeface="Symbol"/>
                <a:ea typeface="Symbol"/>
              </a:rPr>
              <a:t></a:t>
            </a:r>
            <a:r>
              <a:rPr b="0" lang="uk-UA" sz="1800" spc="-1" strike="noStrike">
                <a:solidFill>
                  <a:srgbClr val="000000"/>
                </a:solidFill>
                <a:latin typeface="Times New Roman"/>
                <a:ea typeface="Times New Roman"/>
              </a:rPr>
              <a:t> торгові марки, що розвили галузі, у яких вони працюють. Apple не зробив переворот у комп'ютерному світі, обчислювальні машини існували і до появи Аррle, він показав, що кожна людина може в індивідуальному порядку стати більш інформованою, сучасною, працювати більш продуктивно. Disney увійшов у кожен будинок і приніс туди веселощі і розваги. Nike, будучи лідером ринку спортивного одягу і взуття, запропонував нові підходи в роботі зі спортсменами. Nike першим задумався про те, як спортсмен робить свою роботу, що він при цьому думає, що думаємо про спортсменів ми, що буде зі спортом у майбутньому і що, зрештою, ми думаємо про себе, коли намагаємося досягти нової вершини у своєму житті. Xerox </a:t>
            </a:r>
            <a:r>
              <a:rPr b="0" lang="uk-UA" sz="1800" spc="-1" strike="noStrike">
                <a:solidFill>
                  <a:srgbClr val="000000"/>
                </a:solidFill>
                <a:latin typeface="Symbol"/>
                <a:ea typeface="Symbol"/>
              </a:rPr>
              <a:t></a:t>
            </a:r>
            <a:r>
              <a:rPr b="0" lang="uk-UA" sz="1800" spc="-1" strike="noStrike">
                <a:solidFill>
                  <a:srgbClr val="000000"/>
                </a:solidFill>
                <a:latin typeface="Times New Roman"/>
                <a:ea typeface="Times New Roman"/>
              </a:rPr>
              <a:t> найвідоміша в нас у країні торгова марка, що не просто поклала початок нової генерації офісних машин, а яка дала їй ім'я, та таке, котре ще довго буде сидіти в головах людей і підштовхувати їх говорити не “копір”, а “ксерокс”.</a:t>
            </a:r>
            <a:endParaRPr b="0" lang="en-US" sz="1800" spc="-1" strike="noStrike">
              <a:solidFill>
                <a:srgbClr val="000000"/>
              </a:solidFill>
              <a:latin typeface="Century Schoolbook"/>
            </a:endParaRPr>
          </a:p>
          <a:p>
            <a:pPr marL="343080" indent="-343080">
              <a:lnSpc>
                <a:spcPct val="100000"/>
              </a:lnSpc>
              <a:spcBef>
                <a:spcPts val="601"/>
              </a:spcBef>
              <a:buClr>
                <a:srgbClr val="fe8637"/>
              </a:buClr>
              <a:buSzPct val="70000"/>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53520" y="-360"/>
            <a:ext cx="801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5f6d"/>
                </a:solidFill>
                <a:latin typeface="Times New Roman"/>
                <a:ea typeface="Times New Roman"/>
              </a:rPr>
              <a:t>ПЛАН</a:t>
            </a:r>
            <a:endParaRPr b="0" lang="en-US" sz="4000" spc="-1" strike="noStrike">
              <a:solidFill>
                <a:srgbClr val="575f6d"/>
              </a:solidFill>
              <a:latin typeface="Century Schoolbook"/>
            </a:endParaRPr>
          </a:p>
        </p:txBody>
      </p:sp>
      <p:sp>
        <p:nvSpPr>
          <p:cNvPr id="405" name=""/>
          <p:cNvSpPr txBox="1"/>
          <p:nvPr/>
        </p:nvSpPr>
        <p:spPr>
          <a:xfrm>
            <a:off x="112320" y="1268280"/>
            <a:ext cx="8496360" cy="4873680"/>
          </a:xfrm>
          <a:prstGeom prst="rect">
            <a:avLst/>
          </a:prstGeom>
          <a:noFill/>
          <a:ln w="0">
            <a:noFill/>
          </a:ln>
        </p:spPr>
        <p:txBody>
          <a:bodyPr anchor="t">
            <a:normAutofit/>
          </a:bodyPr>
          <a:p>
            <a:pPr lvl="1" marL="743040" indent="-285840">
              <a:lnSpc>
                <a:spcPct val="100000"/>
              </a:lnSpc>
              <a:spcBef>
                <a:spcPts val="799"/>
              </a:spcBef>
              <a:buClr>
                <a:srgbClr val="fe8637"/>
              </a:buClr>
              <a:buSzPct val="43000"/>
              <a:buFont typeface="Times New Roman"/>
              <a:buAutoNum type="arabicPeriod"/>
              <a:tabLst>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Роль брендингу в сучасному житті суспільства</a:t>
            </a:r>
            <a:endParaRPr b="0" lang="en-US" sz="3200" spc="-1" strike="noStrike">
              <a:solidFill>
                <a:srgbClr val="000000"/>
              </a:solidFill>
              <a:latin typeface="Century Schoolbook"/>
            </a:endParaRPr>
          </a:p>
          <a:p>
            <a:pPr lvl="1" marL="743040" indent="-285840" algn="just">
              <a:lnSpc>
                <a:spcPct val="100000"/>
              </a:lnSpc>
              <a:spcBef>
                <a:spcPts val="799"/>
              </a:spcBef>
              <a:buClr>
                <a:srgbClr val="fe8637"/>
              </a:buClr>
              <a:buSzPct val="80000"/>
              <a:buFont typeface="Times New Roman"/>
              <a:buAutoNum type="arabicPeriod" startAt="2"/>
              <a:tabLst>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піввідношення термінів бренд, торгова марка та торговий знак</a:t>
            </a:r>
            <a:endParaRPr b="0" lang="en-US" sz="3200" spc="-1" strike="noStrike">
              <a:solidFill>
                <a:srgbClr val="000000"/>
              </a:solidFill>
              <a:latin typeface="Century Schoolbook"/>
            </a:endParaRPr>
          </a:p>
          <a:p>
            <a:pPr lvl="1" marL="743040" indent="-285840" algn="just">
              <a:lnSpc>
                <a:spcPct val="100000"/>
              </a:lnSpc>
              <a:spcBef>
                <a:spcPts val="799"/>
              </a:spcBef>
              <a:buClr>
                <a:srgbClr val="fe8637"/>
              </a:buClr>
              <a:buSzPct val="80000"/>
              <a:buFont typeface="Times New Roman"/>
              <a:buAutoNum type="arabicPeriod" startAt="2"/>
              <a:tabLst>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Бренд-менеджмент в стратегічному розвитку підприємства</a:t>
            </a:r>
            <a:endParaRPr b="0" lang="en-US" sz="3200" spc="-1" strike="noStrike">
              <a:solidFill>
                <a:srgbClr val="000000"/>
              </a:solidFill>
              <a:latin typeface="Century Schoolbook"/>
            </a:endParaRPr>
          </a:p>
          <a:p>
            <a:pPr lvl="1" marL="743040" indent="-285840" algn="just">
              <a:lnSpc>
                <a:spcPct val="100000"/>
              </a:lnSpc>
              <a:spcBef>
                <a:spcPts val="799"/>
              </a:spcBef>
              <a:buClr>
                <a:srgbClr val="fe8637"/>
              </a:buClr>
              <a:buSzPct val="80000"/>
              <a:buFont typeface="Times New Roman"/>
              <a:buAutoNum type="arabicPeriod" startAt="2"/>
              <a:tabLst>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Вигоди бренду для виробника та споживача</a:t>
            </a:r>
            <a:endParaRPr b="0" lang="en-US" sz="3200" spc="-1" strike="noStrike">
              <a:solidFill>
                <a:srgbClr val="000000"/>
              </a:solidFill>
              <a:latin typeface="Century Schoolbook"/>
            </a:endParaRPr>
          </a:p>
          <a:p>
            <a:pPr lvl="1" marL="743040" indent="-285840">
              <a:lnSpc>
                <a:spcPct val="100000"/>
              </a:lnSpc>
              <a:spcBef>
                <a:spcPts val="1001"/>
              </a:spcBef>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08000" y="189000"/>
            <a:ext cx="8928000" cy="6480000"/>
          </a:xfrm>
          <a:prstGeom prst="rect">
            <a:avLst/>
          </a:prstGeom>
          <a:solidFill>
            <a:srgbClr val="92d050"/>
          </a:solidFill>
          <a:ln w="0">
            <a:noFill/>
          </a:ln>
        </p:spPr>
        <p:txBody>
          <a:bodyPr anchor="t">
            <a:normAutofit/>
          </a:bodyPr>
          <a:p>
            <a:pPr marL="272880" indent="5400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умовах, коли споживачу важко (а в деяких випадках неможливо) відрізнити властивості та характеристики конкурентних товарів чи послуг, єдиним способом, який дозволяє ідентифікувати товар чи послугу на перенасиченому товарами ринку є маркування й активні маркетингові комунікації з метою просування марки.</a:t>
            </a:r>
            <a:endParaRPr b="0" lang="en-US" sz="2400" spc="-1" strike="noStrike">
              <a:solidFill>
                <a:srgbClr val="000000"/>
              </a:solidFill>
              <a:latin typeface="Century Schoolbook"/>
            </a:endParaRPr>
          </a:p>
          <a:p>
            <a:pPr marL="272880" indent="5400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Необхідність брендів виникає у конкретний історичний період. Якщо згадати попередні десять років вітчизняного бізнесу, то на зорі його становлення, у період суцільного дефіциту, важливо було швидко і багато продавати. Коли таких продавців стало багато, виникла необхідність в умінні переконати клієнта в тому, що ти — кращий. Виходить, у фірми повинна з'явитися деяка індивідуальність і тут проблема цінності вітчизняних брендів почала підніматися на належний рівень. Виробники (власники) починають розуміти, що таких, як вони, багато, тому їхній товар повинен бути унікальним і тільки тепер виробники починають приділяти максимум уваги бренду.</a:t>
            </a:r>
            <a:endParaRPr b="0" lang="en-US" sz="2400" spc="-1" strike="noStrike">
              <a:solidFill>
                <a:srgbClr val="000000"/>
              </a:solidFill>
              <a:latin typeface="Century Schoolbook"/>
            </a:endParaRPr>
          </a:p>
          <a:p>
            <a:pPr marL="272880" indent="54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68360" y="404640"/>
            <a:ext cx="7848720" cy="5732640"/>
          </a:xfrm>
          <a:prstGeom prst="rect">
            <a:avLst/>
          </a:prstGeom>
          <a:noFill/>
          <a:ln w="0">
            <a:noFill/>
          </a:ln>
        </p:spPr>
        <p:txBody>
          <a:bodyPr anchor="t">
            <a:normAutofit/>
          </a:bodyPr>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Індивідуальність бренду – це, фактично, його «душа», поняття, схоже до класичного визначення слов'янського характеру, дія на підсвідомих, емоційних мотивах, обіцянка, престижність, щось цінне і близьке до нашого менталітету. Експансія світових брендів в Україні (дуже швидка й успішна) ще раз підтверджує це. </a:t>
            </a:r>
            <a:endParaRPr b="0" lang="en-US" sz="2400" spc="-1" strike="noStrike">
              <a:solidFill>
                <a:srgbClr val="000000"/>
              </a:solidFill>
              <a:latin typeface="Century Schoolbook"/>
            </a:endParaRPr>
          </a:p>
          <a:p>
            <a:pPr marL="272880" indent="4492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плив бренду на прийняття рішення про покупку споживачем беззаперечний, характер цього впливу (позитивний – сприяє покупці, негативний – не сприяє) змінюється залежно від сприйняття конкретного бренду певним споживачем, а ступінь такого впливу (слабкий, помірний, сильний) варіюється залежно від галузі та країни. </a:t>
            </a:r>
            <a:endParaRPr b="0" lang="en-US" sz="2400" spc="-1" strike="noStrike">
              <a:solidFill>
                <a:srgbClr val="000000"/>
              </a:solidFill>
              <a:latin typeface="Century Schoolbook"/>
            </a:endParaRPr>
          </a:p>
          <a:p>
            <a:pPr marL="272880" indent="4492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08000" y="907560"/>
            <a:ext cx="8352000" cy="4875480"/>
          </a:xfrm>
          <a:prstGeom prst="rect">
            <a:avLst/>
          </a:prstGeom>
          <a:noFill/>
          <a:ln w="0">
            <a:noFill/>
          </a:ln>
        </p:spPr>
        <p:txBody>
          <a:bodyPr anchor="t">
            <a:normAutofit/>
          </a:bodyPr>
          <a:p>
            <a:pPr marL="914400" indent="457200" algn="just">
              <a:lnSpc>
                <a:spcPct val="100000"/>
              </a:lnSpc>
              <a:spcBef>
                <a:spcPts val="601"/>
              </a:spcBef>
              <a:buClr>
                <a:srgbClr val="fe863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зультати глобального дослідження значимості брендів, проведеного році консалтинговою групою </a:t>
            </a:r>
            <a:r>
              <a:rPr b="0" lang="en-GB" sz="2400" spc="-1" strike="noStrike">
                <a:solidFill>
                  <a:srgbClr val="000000"/>
                </a:solidFill>
                <a:latin typeface="Times New Roman"/>
                <a:ea typeface="Times New Roman"/>
              </a:rPr>
              <a:t>McKinsey</a:t>
            </a:r>
            <a:r>
              <a:rPr b="0" lang="ru-RU" sz="2400" spc="-1" strike="noStrike">
                <a:solidFill>
                  <a:srgbClr val="000000"/>
                </a:solidFill>
                <a:latin typeface="Times New Roman"/>
                <a:ea typeface="Times New Roman"/>
              </a:rPr>
              <a:t> показали, що в Росії, США та Польщі вплив бренду на прийняття рішення про покупку сильніший ніж у Японії, Німеччині, Австрії. </a:t>
            </a:r>
            <a:endParaRPr b="0" lang="en-US" sz="2400" spc="-1" strike="noStrike">
              <a:solidFill>
                <a:srgbClr val="000000"/>
              </a:solidFill>
              <a:latin typeface="Century Schoolbook"/>
            </a:endParaRPr>
          </a:p>
          <a:p>
            <a:pPr marL="914400" indent="457200" algn="just">
              <a:lnSpc>
                <a:spcPct val="100000"/>
              </a:lnSpc>
              <a:spcBef>
                <a:spcPts val="601"/>
              </a:spcBef>
              <a:buClr>
                <a:srgbClr val="fe863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Ініціатори дослідження пояснюють цей феномен соціально-культурними особливостями споживачів у різних країнах. Особливу увагу на бренди звертають споживачі тих країн, де раніше існувала система зрівнялівки, адже бренд дозволяє швидким і простим способом відрізнитися, підкреслити свій статус, проявити себе. </a:t>
            </a:r>
            <a:endParaRPr b="0" lang="en-US" sz="2400" spc="-1" strike="noStrike">
              <a:solidFill>
                <a:srgbClr val="000000"/>
              </a:solidFill>
              <a:latin typeface="Century Schoolbook"/>
            </a:endParaRPr>
          </a:p>
          <a:p>
            <a:pPr marL="914400" indent="457200">
              <a:lnSpc>
                <a:spcPct val="100000"/>
              </a:lnSpc>
              <a:spcBef>
                <a:spcPts val="601"/>
              </a:spcBef>
              <a:buClr>
                <a:srgbClr val="fe863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Рисунок 3" descr=""/>
          <p:cNvPicPr/>
          <p:nvPr/>
        </p:nvPicPr>
        <p:blipFill>
          <a:blip r:embed="rId1"/>
          <a:srcRect l="29605" t="38017" r="28335" b="18671"/>
          <a:stretch/>
        </p:blipFill>
        <p:spPr>
          <a:xfrm>
            <a:off x="250920" y="189000"/>
            <a:ext cx="8208720" cy="4752720"/>
          </a:xfrm>
          <a:prstGeom prst="rect">
            <a:avLst/>
          </a:prstGeom>
          <a:ln w="0">
            <a:noFill/>
          </a:ln>
        </p:spPr>
      </p:pic>
      <p:sp>
        <p:nvSpPr>
          <p:cNvPr id="410" name=""/>
          <p:cNvSpPr txBox="1"/>
          <p:nvPr/>
        </p:nvSpPr>
        <p:spPr>
          <a:xfrm>
            <a:off x="456840" y="5229000"/>
            <a:ext cx="7467480" cy="1244520"/>
          </a:xfrm>
          <a:prstGeom prst="rect">
            <a:avLst/>
          </a:prstGeom>
          <a:noFill/>
          <a:ln w="0">
            <a:noFill/>
          </a:ln>
        </p:spPr>
        <p:txBody>
          <a:bodyPr anchor="t">
            <a:normAutofit/>
          </a:bodyPr>
          <a:p>
            <a:pPr marL="272880" indent="457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Як свідчать дослідження, бренд має пріоритетне значення при виборі споживачем побутової техніки (рис. 1.1).</a:t>
            </a:r>
            <a:endParaRPr b="0" lang="en-US" sz="2400" spc="-1" strike="noStrike">
              <a:solidFill>
                <a:srgbClr val="000000"/>
              </a:solidFill>
              <a:latin typeface="Century Schoolbook"/>
            </a:endParaRPr>
          </a:p>
          <a:p>
            <a:pPr marL="272880" indent="457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6840" y="981000"/>
            <a:ext cx="7715160" cy="54928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 даними досліджень споживачів ринків трьох розвинутих країн (США, Великобританії та Японії) та близько двадцяти країн, що розвиваються, серед яких і України, проведених компанією Synovate, покупці на ще несформованих ринках схильні вважати, що продукція глобальних брендів характеризується вищою якістю, ніж товари місцевих виробників.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днак основний висновок даного дослідження полягає в тому, що національні марки зможуть завоювати довіру покупців, якщо підвищать якість виробництва та маркетингову майстерність</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Объект 3" descr=""/>
          <p:cNvPicPr/>
          <p:nvPr/>
        </p:nvPicPr>
        <p:blipFill>
          <a:blip r:embed="rId1"/>
          <a:srcRect l="25818" t="26083" r="25676" b="9631"/>
          <a:stretch/>
        </p:blipFill>
        <p:spPr>
          <a:xfrm>
            <a:off x="179280" y="115920"/>
            <a:ext cx="8856720" cy="633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 Windows</cp:lastModifiedBy>
  <cp:lastPrinted>2019-03-04T01:52:33Z</cp:lastPrinted>
  <dcterms:modified xsi:type="dcterms:W3CDTF">2021-09-05T15:20:27Z</dcterms:modified>
  <cp:revision>40</cp:revision>
  <dc:subject/>
  <dc:title>PowerPoint Presentation</dc:title>
</cp:coreProperties>
</file>