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52283-56C1-43E4-9F24-2EE3E8A7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2F2BD-0821-4C42-95E9-654E9884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2BBA3-7CA9-415C-99C6-53BCBAE1B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ED8D8-6506-4EE5-9297-8DFA90F56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89514-489D-44F7-A616-607BCBAD1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2ABCB-07C4-4309-912B-442BB41EA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149FF-0C23-4318-90F7-52B67FEA2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1F299-1D01-484F-8838-7D3273110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88097-E4E1-4690-917F-07FC0373C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B4C29-E5D8-40A8-85EF-D54A82FF5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5F32F-404E-4D11-B265-55C924DC3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FA5D1-DFF3-403B-A0F7-D0A6D9F9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BDA3-87C8-4945-8A87-53D90FB8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68437-1130-4393-B47F-1307A5E09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31F99-3EB0-4012-B8DE-6AFD3D6E8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ED075-C377-43D3-B384-94DCB8FF8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EF3EA-75F7-4ADB-99C5-6BA2946DB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A413BB-9B85-4A95-A873-087134BC6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144BD4-2F92-4971-A1F1-C2C402E8C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80AD87-7EFA-48CD-BB32-15A519FD5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311B8B-DBBB-4BF8-9B38-637A6DBA9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FBE156-21E1-4601-AAA2-70B907890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4752-687C-4466-9E42-652031C5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3BDE6B-9AD0-497F-90CD-00F804F14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262F1B-38AB-403F-9465-C7936E670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327B2F-EBFF-4AEE-811D-B9FD8BBBF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0C4A5F-F04E-4AEE-B9AA-D63F2E7D0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0D02D4-E23F-4CB0-A23C-9E99446E8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FBDA99-E1B0-48D5-9B09-BD4A2252C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9567A5-4380-4141-BDBD-ED9A51D03A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9CED4-5868-4CBF-869E-0AEEDE5A46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E5A74-69F7-4F49-8F4B-133B79307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310B7-6291-43AF-ABD9-A6655B7C5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D8A1-321C-436F-ACBC-6B029BBD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02AB0-3DF0-4D11-B0DF-58F1BD889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C3713-C163-40F9-A33F-2FDC4E9E3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5604F-D779-4967-ADDA-1B57561A0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F18F3-5170-49EF-9932-503A7140F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26F7A-0A20-4011-85DC-750E42464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FCDBB-4684-4CC9-A6BE-4C759234F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D8F34-44CE-4A38-93F4-71B886A6F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1D6D8-1E38-4B97-9A90-362EC986A5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A6AC55-D4D1-422E-BA89-04E91678DF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83AD5B-320B-4A9E-8C0C-F5BF878700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49FC8-C095-4DFD-9CCA-C6826BC3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391E90-B97F-4033-BEC1-33F45275E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08860A-2053-4CC5-A443-BCB2D3425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18A63A-EA18-4EEB-B49B-5F752F07E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CF8671-630C-46C8-BFE3-5385FF4D8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6D7AA0-6704-4C5F-8665-E697A1F8C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096A71-2F53-47FB-B50F-106E44EDC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77D3A3-CA4D-4977-B578-9325394B7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2DD6F5-F27B-4D66-AFE9-A1C81FAC8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B4609B-3687-4708-BC7F-AD8427286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081D116-5D52-4A25-A42F-0FE64975FE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EA4A4-C786-404A-9984-7AF597388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E695B4C-A05F-42AE-BFDA-D72BF50DF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6AFD970-22E8-4447-9E57-44D9726CB6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1B28FE-E496-4A33-B693-955E28790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98855A-CB7F-4ED8-B951-DFD0CF132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56CF09-26EC-4D3D-A9B0-659AB2E07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0A685AB-B08A-4D4E-90DC-F54BDF61D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CAEF0CE-40B5-4C65-BC01-56A0B7B768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323906-8AE1-4E7F-9A7E-F55A1CD1C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3A26672-01C2-4DF8-899D-6148CF435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09BF74-AED3-4842-AEA7-53EA27616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86BC-88C9-41AB-A24C-934F872D9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8BD22B-8CD9-4D0B-9BBC-224E0BBAF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B10B0EC-010F-4A4A-ABD3-AD08A0C53C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0E2FDF8-0EF1-43A7-BDA6-ACF39A2B0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D1B6342-038C-4F38-AC11-1AFD7F8EE0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0A7E80-168E-4A4A-8E96-C9488C9057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2297CB-053F-491A-ACA3-19E7063B9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A1087F-2317-4772-B420-E4DB7A71E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85A10E-36C3-4458-9F64-6EB65E160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B2C8B8-4F72-4450-804F-86EA916A7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1D178B-3CF4-4BD8-B443-F1C2F4960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CA77-A42E-4886-BEBB-346184C0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1399D0-4AC7-448D-8DB3-C6FD3BC73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599B43-64A9-4E62-BA3B-6E8BFBA82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BDA40D-0F30-45A0-B235-115C1A95D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9199B3D-83C7-4F2D-90A7-678AAAA673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BFE817-4273-4701-B7A6-6F1A06FF7B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7718-8E66-40F6-A420-4119FD8A6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5509-55C3-4780-9A41-2F738FD59CB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DCBF-5033-4B19-BC03-8540D709B1B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0FC0-252F-4BF6-AB68-A141A03FD4A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3663-4F3A-4F9F-9F45-DAC85E35013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1DC4-9FF3-4BAF-BD0D-C018AA521A1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2208-88B4-4380-8E34-6D596C79A07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5E51-2556-41FA-B0B0-4CC2B129149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Прямоугольник 1"/>
          <p:cNvSpPr/>
          <p:nvPr/>
        </p:nvSpPr>
        <p:spPr>
          <a:xfrm>
            <a:off x="468360" y="620640"/>
            <a:ext cx="82072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ТЕМА 2.</a:t>
            </a:r>
            <a:endParaRPr b="0" lang="en-US" sz="5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ЕКОНОМІЧНЕ СЕРЕДОВИЩЕ БРЕНДІВ</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0" y="-360"/>
            <a:ext cx="9036000" cy="7101000"/>
          </a:xfrm>
          <a:prstGeom prst="rect">
            <a:avLst/>
          </a:prstGeom>
          <a:noFill/>
          <a:ln w="0">
            <a:noFill/>
          </a:ln>
        </p:spPr>
        <p:txBody>
          <a:bodyPr anchor="t">
            <a:normAutofit/>
          </a:bodyPr>
          <a:p>
            <a:pPr marL="603360" indent="-273240" algn="just">
              <a:lnSpc>
                <a:spcPts val="1599"/>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Методи оцінки вартості бренда:</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Перша група </a:t>
            </a:r>
            <a:r>
              <a:rPr b="0" lang="uk-UA" sz="1800" spc="-1" strike="noStrike">
                <a:solidFill>
                  <a:srgbClr val="000000"/>
                </a:solidFill>
                <a:latin typeface="Times New Roman"/>
                <a:ea typeface="Times New Roman"/>
              </a:rPr>
              <a:t>методів заснована на вимірі вартості фондів компанії залежно від їхньої ліквідності, тобто можливості її продати.</a:t>
            </a:r>
            <a:endParaRPr b="0" lang="en-US" sz="1800" spc="-1" strike="noStrike">
              <a:solidFill>
                <a:srgbClr val="000000"/>
              </a:solidFill>
              <a:latin typeface="Century Schoolbook"/>
            </a:endParaRPr>
          </a:p>
          <a:p>
            <a:pPr marL="603360" indent="-273240" algn="just">
              <a:lnSpc>
                <a:spcPct val="100000"/>
              </a:lnSpc>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Друга група </a:t>
            </a:r>
            <a:r>
              <a:rPr b="0" lang="uk-UA" sz="1800" spc="-1" strike="noStrike">
                <a:solidFill>
                  <a:srgbClr val="000000"/>
                </a:solidFill>
                <a:latin typeface="Times New Roman"/>
                <a:ea typeface="Times New Roman"/>
              </a:rPr>
              <a:t>базується на встановленні різниці у вартості продажної ціни продукту порівняно з ціною конкурентів.</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Третій підхід </a:t>
            </a:r>
            <a:r>
              <a:rPr b="0" lang="uk-UA" sz="1800" spc="-1" strike="noStrike">
                <a:solidFill>
                  <a:srgbClr val="000000"/>
                </a:solidFill>
                <a:latin typeface="Times New Roman"/>
                <a:ea typeface="Times New Roman"/>
              </a:rPr>
              <a:t>заснований на визначенні впливу імені бренда на покупців. Це робиться виходячи з опитувань споживачів продукції та їхніх намірів купувати тільки її.</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Четвертий метод </a:t>
            </a:r>
            <a:r>
              <a:rPr b="0" lang="uk-UA" sz="1800" spc="-1" strike="noStrike">
                <a:solidFill>
                  <a:srgbClr val="000000"/>
                </a:solidFill>
                <a:latin typeface="Times New Roman"/>
                <a:ea typeface="Times New Roman"/>
              </a:rPr>
              <a:t>пропонує три виміри вартості бренда: немонетарна цінність бренда для покупців, рівень його домінування (визначення конкурентоспроможності) і визначення переваг покупців певного бренда, не пов’язаних із його фізичними властивостями. Цей метод заснований не на опитуванні покупців, а на аналізі історії продажів, отриманої з різних документів.</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П’ятий метод </a:t>
            </a:r>
            <a:r>
              <a:rPr b="0" lang="uk-UA" sz="1800" spc="-1" strike="noStrike">
                <a:solidFill>
                  <a:srgbClr val="000000"/>
                </a:solidFill>
                <a:latin typeface="Times New Roman"/>
                <a:ea typeface="Times New Roman"/>
              </a:rPr>
              <a:t>дозволяє визначити так звані поточні витрати на заміщення цього бренду, тобто виявляти рівень вкладень, необхідних наразі для створення аналогічної компанії з новим ім’ям, що займатиме таку ж частку ринку.</a:t>
            </a:r>
            <a:endParaRPr b="0" lang="en-US" sz="1800" spc="-1" strike="noStrike">
              <a:solidFill>
                <a:srgbClr val="000000"/>
              </a:solidFill>
              <a:latin typeface="Century Schoolbook"/>
            </a:endParaRPr>
          </a:p>
          <a:p>
            <a:pPr marL="603360" indent="-273240">
              <a:lnSpc>
                <a:spcPct val="100000"/>
              </a:lnSpc>
              <a:spcBef>
                <a:spcPts val="601"/>
              </a:spcBef>
              <a:buClr>
                <a:srgbClr val="fe8637"/>
              </a:buClr>
              <a:buSzPct val="77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Шостий метод</a:t>
            </a:r>
            <a:r>
              <a:rPr b="0" lang="uk-UA" sz="1800" spc="-1" strike="noStrike">
                <a:solidFill>
                  <a:srgbClr val="000000"/>
                </a:solidFill>
                <a:latin typeface="Times New Roman"/>
                <a:ea typeface="Times New Roman"/>
              </a:rPr>
              <a:t>, заснований на об’єктивних ринкових показниках за низку років, забезпечує порівняння різних компаній. Він ураховує такі фактор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необхідні для прогнозу ціни бренда, як розмір ринку певної продукції, його зростання, падіння прибутковості корпорації. Цей метод базується на визначенні вартості компанії на фінансовому ринку в загальній ціні компанії. Він застосовує поєднання макро- і мікроаналізу для визначення вартості бренда.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08000" y="333000"/>
            <a:ext cx="8856720" cy="6140520"/>
          </a:xfrm>
          <a:prstGeom prst="rect">
            <a:avLst/>
          </a:prstGeom>
          <a:noFill/>
          <a:ln w="0">
            <a:noFill/>
          </a:ln>
        </p:spPr>
        <p:txBody>
          <a:bodyPr anchor="t">
            <a:normAutofit/>
          </a:bodyPr>
          <a:p>
            <a:pPr marL="271440" indent="-271440" algn="just">
              <a:lnSpc>
                <a:spcPct val="100000"/>
              </a:lnSpc>
              <a:spcBef>
                <a:spcPts val="337"/>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Макро- підхід </a:t>
            </a:r>
            <a:r>
              <a:rPr b="0" lang="uk-UA" sz="2800" spc="-1" strike="noStrike">
                <a:solidFill>
                  <a:srgbClr val="000000"/>
                </a:solidFill>
                <a:latin typeface="Times New Roman"/>
                <a:ea typeface="Times New Roman"/>
              </a:rPr>
              <a:t>дозволяє визначити об’єктивну ціну бренда певної компанії і відносить цю величину до факторів, що впливають на формування його активу. </a:t>
            </a:r>
            <a:endParaRPr b="0" lang="en-US" sz="2800" spc="-1" strike="noStrike">
              <a:solidFill>
                <a:srgbClr val="000000"/>
              </a:solidFill>
              <a:latin typeface="Century Schoolbook"/>
            </a:endParaRPr>
          </a:p>
          <a:p>
            <a:pPr marL="271440" indent="-271440" algn="just">
              <a:lnSpc>
                <a:spcPct val="100000"/>
              </a:lnSpc>
              <a:spcBef>
                <a:spcPts val="337"/>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Мікро</a:t>
            </a:r>
            <a:r>
              <a:rPr b="0" i="1" lang="en-US"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підхід </a:t>
            </a:r>
            <a:r>
              <a:rPr b="0" lang="uk-UA" sz="2800" spc="-1" strike="noStrike">
                <a:solidFill>
                  <a:srgbClr val="000000"/>
                </a:solidFill>
                <a:latin typeface="Times New Roman"/>
                <a:ea typeface="Times New Roman"/>
              </a:rPr>
              <a:t>розглядає еластичність вартості бренда на індивідуальному рівні щодо змін стратегії маркетингу певної компанії. Вартість акцій компанії змінюється від будь-якої серйозної інформації, що потрапляє на фондовий ринок, тому оцінка вартості активу бренда дозволяє адаптувати її до ринкових змін.</a:t>
            </a:r>
            <a:endParaRPr b="0" lang="en-US" sz="2800" spc="-1" strike="noStrike">
              <a:solidFill>
                <a:srgbClr val="000000"/>
              </a:solidFill>
              <a:latin typeface="Century Schoolbook"/>
            </a:endParaRPr>
          </a:p>
          <a:p>
            <a:pPr marL="271440" indent="-271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79280" y="189000"/>
            <a:ext cx="8578800" cy="6192720"/>
          </a:xfrm>
          <a:prstGeom prst="rect">
            <a:avLst/>
          </a:prstGeom>
          <a:noFill/>
          <a:ln w="0">
            <a:noFill/>
          </a:ln>
        </p:spPr>
        <p:txBody>
          <a:bodyPr anchor="t">
            <a:normAutofit/>
          </a:bodyPr>
          <a:p>
            <a:pPr marL="146160" indent="457200" algn="ct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цінка бренда </a:t>
            </a:r>
            <a:r>
              <a:rPr b="0" lang="uk-UA" sz="2500" spc="-1" strike="noStrike">
                <a:solidFill>
                  <a:srgbClr val="000000"/>
                </a:solidFill>
                <a:latin typeface="Times New Roman"/>
                <a:ea typeface="Times New Roman"/>
              </a:rPr>
              <a:t>– необхідний інструмент, який використовується у процесі розроблення стратегії злиття і придбання, податкової політики і бюджету маркетингу, проведення маркетингових досліджень продуктових ринків, а також під час розгляду питань інвестування та запозичення. Із метою придбання бренда його вартісна оцінка визначається на основі прогнозу майбутніх грошових потоків від придбання та використання бренда. Таким чином, закупівельна ціна бренда з урахуванням прогнозованих грошових потоків може бути набагато вище його поточної вартості. Це одна з причин, за якої неможна визначити абсолютну вартість бренда. Інша причина пов’язана з кількістю бажаючих придбати певний бренд, оскільки за наявності двох і більше конкурентів ціна бренда автоматично підвищується.</a:t>
            </a:r>
            <a:endParaRPr b="0" lang="en-US" sz="25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280" y="404280"/>
            <a:ext cx="8569440" cy="6069240"/>
          </a:xfrm>
          <a:prstGeom prst="rect">
            <a:avLst/>
          </a:prstGeom>
          <a:noFill/>
          <a:ln w="0">
            <a:noFill/>
          </a:ln>
        </p:spPr>
        <p:txBody>
          <a:bodyPr anchor="t">
            <a:normAutofit/>
          </a:bodyPr>
          <a:p>
            <a:pPr marL="146160" indent="457200" algn="ctr">
              <a:lnSpc>
                <a:spcPct val="100000"/>
              </a:lnSpc>
              <a:spcBef>
                <a:spcPts val="1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imes New Roman"/>
                <a:ea typeface="Times New Roman"/>
              </a:rPr>
              <a:t>Іноді виникає потреба у визначенні </a:t>
            </a:r>
            <a:r>
              <a:rPr b="1" i="1" lang="uk-UA" sz="3600" spc="-1" strike="noStrike">
                <a:solidFill>
                  <a:srgbClr val="000000"/>
                </a:solidFill>
                <a:latin typeface="Times New Roman"/>
                <a:ea typeface="Times New Roman"/>
              </a:rPr>
              <a:t>сили бренда (brand power або brand strength) </a:t>
            </a:r>
            <a:r>
              <a:rPr b="0" lang="uk-UA" sz="3600" spc="-1" strike="noStrike">
                <a:solidFill>
                  <a:srgbClr val="000000"/>
                </a:solidFill>
                <a:latin typeface="Times New Roman"/>
                <a:ea typeface="Times New Roman"/>
              </a:rPr>
              <a:t>– міри здатності бренду домінувати у певній категорії продуктів, здатність подолати географічні та культурні кордони і забезпечити стійкість майбутніх доходів. Сила бренда визначає міру потягу споживача до того чи іншого бренда.</a:t>
            </a:r>
            <a:endParaRPr b="0" lang="en-US" sz="36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5373720"/>
            <a:ext cx="8353440" cy="792000"/>
          </a:xfrm>
          <a:prstGeom prst="rect">
            <a:avLst/>
          </a:prstGeom>
          <a:noFill/>
          <a:ln w="0">
            <a:noFill/>
          </a:ln>
        </p:spPr>
        <p:txBody>
          <a:bodyPr anchor="b">
            <a:noAutofit/>
          </a:bodyPr>
          <a:p>
            <a:pPr marL="598320" indent="0">
              <a:lnSpc>
                <a:spcPct val="10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РИСУНОК. КОГНІТИВНА МОДЕЛЬ СИЛИ БРЕНДА</a:t>
            </a:r>
            <a:br>
              <a:rPr sz="2200"/>
            </a:br>
            <a:endParaRPr b="0" lang="en-US" sz="2200" spc="-1" strike="noStrike">
              <a:solidFill>
                <a:srgbClr val="575f6d"/>
              </a:solidFill>
              <a:latin typeface="Century Schoolbook"/>
            </a:endParaRPr>
          </a:p>
        </p:txBody>
      </p:sp>
      <p:pic>
        <p:nvPicPr>
          <p:cNvPr id="366" name="Объект 3" descr=""/>
          <p:cNvPicPr/>
          <p:nvPr/>
        </p:nvPicPr>
        <p:blipFill>
          <a:blip r:embed="rId1"/>
          <a:stretch/>
        </p:blipFill>
        <p:spPr>
          <a:xfrm>
            <a:off x="108000" y="0"/>
            <a:ext cx="8496360" cy="53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79280" y="115920"/>
            <a:ext cx="8569440" cy="1301760"/>
          </a:xfrm>
          <a:prstGeom prst="rect">
            <a:avLst/>
          </a:prstGeom>
          <a:noFill/>
          <a:ln w="0">
            <a:noFill/>
          </a:ln>
        </p:spPr>
        <p:txBody>
          <a:bodyPr anchor="b">
            <a:noAutofit/>
          </a:bodyPr>
          <a:p>
            <a:pPr marL="588960" indent="0" algn="r">
              <a:lnSpc>
                <a:spcPct val="100000"/>
              </a:lnSpc>
              <a:spcBef>
                <a:spcPts val="81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uk-UA" sz="2600" spc="-1" strike="noStrike">
                <a:solidFill>
                  <a:srgbClr val="000000"/>
                </a:solidFill>
                <a:latin typeface="Times New Roman"/>
                <a:ea typeface="Times New Roman"/>
              </a:rPr>
              <a:t>ТАБЛИЦЯ 2.1. </a:t>
            </a:r>
            <a:br>
              <a:rPr sz="2600"/>
            </a:br>
            <a:r>
              <a:rPr b="0" lang="uk-UA" sz="2600" spc="-1" strike="noStrike">
                <a:solidFill>
                  <a:srgbClr val="000000"/>
                </a:solidFill>
                <a:latin typeface="Times New Roman"/>
                <a:ea typeface="Times New Roman"/>
              </a:rPr>
              <a:t>ДИФЕРЕНЦІАЦІЯ МІЖ АКТИВАМИ, СИЛОЮ І ВАРТІСТЮ БРЕНДА</a:t>
            </a:r>
            <a:endParaRPr b="0" lang="en-US" sz="2600" spc="-1" strike="noStrike">
              <a:solidFill>
                <a:srgbClr val="575f6d"/>
              </a:solidFill>
              <a:latin typeface="Century Schoolbook"/>
            </a:endParaRPr>
          </a:p>
        </p:txBody>
      </p:sp>
      <p:graphicFrame>
        <p:nvGraphicFramePr>
          <p:cNvPr id="368" name=""/>
          <p:cNvGraphicFramePr/>
          <p:nvPr/>
        </p:nvGraphicFramePr>
        <p:xfrm>
          <a:off x="457200" y="1417680"/>
          <a:ext cx="8291520" cy="4174920"/>
        </p:xfrm>
        <a:graphic>
          <a:graphicData uri="http://schemas.openxmlformats.org/drawingml/2006/table">
            <a:tbl>
              <a:tblPr/>
              <a:tblGrid>
                <a:gridCol w="3060720"/>
                <a:gridCol w="2647800"/>
                <a:gridCol w="2583000"/>
              </a:tblGrid>
              <a:tr h="347760">
                <a:tc>
                  <a:txBody>
                    <a:bodyPr lIns="0" rIns="0" tIns="0" bIns="0" anchor="t">
                      <a:noAutofit/>
                    </a:bodyPr>
                    <a:p>
                      <a:pPr marL="5540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Активи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49212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ила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366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арт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0" rIns="0" tIns="0" bIns="0" anchor="t">
                      <a:noAutofit/>
                    </a:bodyPr>
                    <a:p>
                      <a:pPr marL="69840">
                        <a:lnSpc>
                          <a:spcPts val="1500"/>
                        </a:lnSpc>
                        <a:tabLst>
                          <a:tab algn="l" pos="0"/>
                          <a:tab algn="l" pos="18972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інформованість</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про</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marL="666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ка ринку.</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marL="684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истий дисконтований</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r>
              <a:tr h="34776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ренд</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ідерство на ринку.</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тік грошових кош-</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епутація бренда (атрибу-</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либина впровадження</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581040"/>
                          <a:tab algn="l" pos="119556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ів,</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який</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створює</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450720"/>
                          <a:tab algn="l" pos="118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и,</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вигоди,</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компетенція,</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 ринок.</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739800"/>
                          <a:tab algn="l" pos="130824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ренд,</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після</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сплати</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40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оу-хау та ін.).</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ка споживачів.</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артості</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капітальних</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9200">
                <a:tc>
                  <a:txBody>
                    <a:bodyPr lIns="0" rIns="0" tIns="0" bIns="0" anchor="t">
                      <a:noAutofit/>
                    </a:bodyPr>
                    <a:p>
                      <a:pPr marL="6984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ндивідуальн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емпи зростання.</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25"/>
                        </a:lnSpc>
                        <a:tabLst>
                          <a:tab algn="l" pos="0"/>
                          <a:tab algn="l" pos="1003320"/>
                          <a:tab algn="l" pos="13176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нвестицій</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на</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вироб</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9560">
                <a:tc>
                  <a:txBody>
                    <a:bodyPr lIns="0" rIns="0" tIns="0" bIns="0" anchor="t">
                      <a:noAutofit/>
                    </a:bodyPr>
                    <a:p>
                      <a:pPr marL="6984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либокі цінності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тупінь лояльності.</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ичу діяльність і ви</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40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бразн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еміальна надбавк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рат на маркетинг</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1165320"/>
                          <a:tab algn="l" pos="1909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подобання</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брендів</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або</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ціни</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рн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40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делі і прав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549000"/>
            <a:ext cx="8640720" cy="5924520"/>
          </a:xfrm>
          <a:prstGeom prst="rect">
            <a:avLst/>
          </a:prstGeom>
          <a:noFill/>
          <a:ln w="0">
            <a:noFill/>
          </a:ln>
        </p:spPr>
        <p:txBody>
          <a:bodyPr anchor="t">
            <a:normAutofit/>
          </a:bodyPr>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Бренд має набір ідентифікаційних якостей, який відрізняє певний товар від інших схожих товарів, і називається </a:t>
            </a:r>
            <a:r>
              <a:rPr b="1" i="1" lang="uk-UA" sz="3200" spc="-1" strike="noStrike">
                <a:solidFill>
                  <a:srgbClr val="000000"/>
                </a:solidFill>
                <a:latin typeface="Times New Roman"/>
                <a:ea typeface="Times New Roman"/>
              </a:rPr>
              <a:t>айдентикою бренда (brand identity). </a:t>
            </a:r>
            <a:endParaRPr b="0" lang="en-US" sz="3200" spc="-1" strike="noStrike">
              <a:solidFill>
                <a:srgbClr val="000000"/>
              </a:solidFill>
              <a:latin typeface="Century Schoolbook"/>
            </a:endParaRPr>
          </a:p>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Айдентика формується сукупністю елементів і підтримується рекламним образом (іміджем), покликаним формувати позитивні асоціації споживачів із брендом.</a:t>
            </a:r>
            <a:endParaRPr b="0" lang="en-US" sz="32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49360"/>
            <a:ext cx="8013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ПЛАН</a:t>
            </a:r>
            <a:endParaRPr b="0" lang="en-US" sz="4000" spc="-1" strike="noStrike">
              <a:solidFill>
                <a:srgbClr val="575f6d"/>
              </a:solidFill>
              <a:latin typeface="Century Schoolbook"/>
            </a:endParaRPr>
          </a:p>
        </p:txBody>
      </p:sp>
      <p:sp>
        <p:nvSpPr>
          <p:cNvPr id="353" name=""/>
          <p:cNvSpPr txBox="1"/>
          <p:nvPr/>
        </p:nvSpPr>
        <p:spPr>
          <a:xfrm>
            <a:off x="250920" y="1557360"/>
            <a:ext cx="8424720" cy="4873680"/>
          </a:xfrm>
          <a:prstGeom prst="rect">
            <a:avLst/>
          </a:prstGeom>
          <a:noFill/>
          <a:ln w="0">
            <a:noFill/>
          </a:ln>
        </p:spPr>
        <p:txBody>
          <a:bodyPr anchor="t">
            <a:normAutofit/>
          </a:bodyPr>
          <a:p>
            <a:pPr lvl="1" marL="1200240" indent="-743040">
              <a:lnSpc>
                <a:spcPct val="100000"/>
              </a:lnSpc>
              <a:spcBef>
                <a:spcPts val="1001"/>
              </a:spcBef>
              <a:buClr>
                <a:srgbClr val="fe8637"/>
              </a:buClr>
              <a:buSzPct val="35000"/>
              <a:buFont typeface="Times New Roman"/>
              <a:buAutoNum type="arabicPeriod"/>
              <a:tabLst>
                <a:tab algn="l" pos="8730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Активи бренда</a:t>
            </a:r>
            <a:endParaRPr b="0" lang="en-US" sz="4000" spc="-1" strike="noStrike">
              <a:solidFill>
                <a:srgbClr val="000000"/>
              </a:solidFill>
              <a:latin typeface="Century Schoolbook"/>
            </a:endParaRPr>
          </a:p>
          <a:p>
            <a:pPr lvl="1" marL="1200240" indent="-743040">
              <a:lnSpc>
                <a:spcPct val="100000"/>
              </a:lnSpc>
              <a:spcBef>
                <a:spcPts val="1001"/>
              </a:spcBef>
              <a:buClr>
                <a:srgbClr val="fe8637"/>
              </a:buClr>
              <a:buSzPct val="35000"/>
              <a:buFont typeface="Times New Roman"/>
              <a:buAutoNum type="arabicPeriod"/>
              <a:tabLst>
                <a:tab algn="l" pos="8730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Вартість бренда (brand value)</a:t>
            </a:r>
            <a:endParaRPr b="0" lang="en-US" sz="4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476280"/>
            <a:ext cx="8507520" cy="5997600"/>
          </a:xfrm>
          <a:prstGeom prst="rect">
            <a:avLst/>
          </a:prstGeom>
          <a:noFill/>
          <a:ln w="0">
            <a:noFill/>
          </a:ln>
        </p:spPr>
        <p:txBody>
          <a:bodyPr anchor="t">
            <a:normAutofit/>
          </a:bodyPr>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Економічне середовище бренда </a:t>
            </a:r>
            <a:r>
              <a:rPr b="0" lang="uk-UA" sz="2800" spc="-1" strike="noStrike">
                <a:solidFill>
                  <a:srgbClr val="000000"/>
                </a:solidFill>
                <a:latin typeface="Times New Roman"/>
                <a:ea typeface="Times New Roman"/>
              </a:rPr>
              <a:t>складається з основних показників «активів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цінювання вартості бренда (етапи реалізації технології створення вартості бренду, різні методи оцінювання вартості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ила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браз (опис)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плив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набір ідентифікаційних якостей (айдентика бренда).</a:t>
            </a:r>
            <a:endParaRPr b="0" lang="en-US" sz="2800" spc="-1" strike="noStrike">
              <a:solidFill>
                <a:srgbClr val="000000"/>
              </a:solidFill>
              <a:latin typeface="Century Schoolbook"/>
            </a:endParaRPr>
          </a:p>
          <a:p>
            <a:pPr marL="14616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24000" y="189000"/>
            <a:ext cx="8686800" cy="6408720"/>
          </a:xfrm>
          <a:prstGeom prst="rect">
            <a:avLst/>
          </a:prstGeom>
          <a:noFill/>
          <a:ln w="0">
            <a:noFill/>
          </a:ln>
        </p:spPr>
        <p:txBody>
          <a:bodyPr anchor="t">
            <a:normAutofit/>
          </a:bodyPr>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Матеріальні активи </a:t>
            </a:r>
            <a:r>
              <a:rPr b="0" lang="uk-UA" sz="2800" spc="-1" strike="noStrike">
                <a:solidFill>
                  <a:srgbClr val="000000"/>
                </a:solidFill>
                <a:latin typeface="Times New Roman"/>
                <a:ea typeface="Times New Roman"/>
              </a:rPr>
              <a:t>здебільшого охоплюють землю і будівлі, заводи й устаткування, арматуру і гарнітуру, торговельний інвентар, інвестиції, дебет і готівку.</a:t>
            </a:r>
            <a:endParaRPr b="0" lang="en-US" sz="2800" spc="-1" strike="noStrike">
              <a:solidFill>
                <a:srgbClr val="000000"/>
              </a:solidFill>
              <a:latin typeface="Century Schoolbook"/>
            </a:endParaRPr>
          </a:p>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Нематеріальні активи </a:t>
            </a:r>
            <a:r>
              <a:rPr b="0" lang="uk-UA" sz="2800" spc="-1" strike="noStrike">
                <a:solidFill>
                  <a:srgbClr val="000000"/>
                </a:solidFill>
                <a:latin typeface="Times New Roman"/>
                <a:ea typeface="Times New Roman"/>
              </a:rPr>
              <a:t>– це особливі права, субсидії, привілеї і переваги, які належать компанії і які можуть принести вигоду в майбутньому, сприяючи збільшенню доходів підприємства. Зазвичай нематеріальні активи не мають матеріального змісту. До них можуть належати: репутацію фірми, патенти, авторські права, торговельні марки, торговельні назви, франшизи, ліцензії та авторські права, формули і процеси і, переважно, бренди.</a:t>
            </a:r>
            <a:endParaRPr b="0" lang="en-US" sz="28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0" y="0"/>
            <a:ext cx="8856360" cy="6453360"/>
          </a:xfrm>
          <a:prstGeom prst="rect">
            <a:avLst/>
          </a:prstGeom>
          <a:noFill/>
          <a:ln w="0">
            <a:noFill/>
          </a:ln>
        </p:spPr>
        <p:txBody>
          <a:bodyPr anchor="t">
            <a:normAutofit/>
          </a:bodyPr>
          <a:p>
            <a:pPr marL="146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ітер Дойль пропонує таку класифікацію нематеріальних активів компанії:</a:t>
            </a:r>
            <a:endParaRPr b="0" lang="en-US" sz="2400" spc="-1" strike="noStrike">
              <a:solidFill>
                <a:srgbClr val="000000"/>
              </a:solidFill>
              <a:latin typeface="Century Schoolbook"/>
            </a:endParaRPr>
          </a:p>
          <a:p>
            <a:pPr lvl="1" marL="743040" indent="-2858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технологічні активи </a:t>
            </a:r>
            <a:r>
              <a:rPr b="0" lang="uk-UA" sz="2400" spc="-1" strike="noStrike">
                <a:solidFill>
                  <a:srgbClr val="000000"/>
                </a:solidFill>
                <a:latin typeface="Times New Roman"/>
                <a:ea typeface="Times New Roman"/>
              </a:rPr>
              <a:t>– власна технологія у формі патентів, авторських прав та виробничих секторів, спеціальних ноу-хау;</a:t>
            </a:r>
            <a:endParaRPr b="0" lang="en-US" sz="2400" spc="-1" strike="noStrike">
              <a:solidFill>
                <a:srgbClr val="000000"/>
              </a:solidFill>
              <a:latin typeface="Century Schoolbook"/>
            </a:endParaRPr>
          </a:p>
          <a:p>
            <a:pPr lvl="1" marL="743040" indent="-285840" algn="just">
              <a:lnSpc>
                <a:spcPct val="100000"/>
              </a:lnSpc>
              <a:spcBef>
                <a:spcPts val="337"/>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стратегічні активи </a:t>
            </a:r>
            <a:r>
              <a:rPr b="0" lang="uk-UA" sz="2400" spc="-1" strike="noStrike">
                <a:solidFill>
                  <a:srgbClr val="000000"/>
                </a:solidFill>
                <a:latin typeface="Times New Roman"/>
                <a:ea typeface="Times New Roman"/>
              </a:rPr>
              <a:t>– ліцензії, природні монополії та інші майнові права, що обмежують конкуренцію;</a:t>
            </a:r>
            <a:endParaRPr b="0" lang="en-US" sz="2400" spc="-1" strike="noStrike">
              <a:solidFill>
                <a:srgbClr val="000000"/>
              </a:solidFill>
              <a:latin typeface="Century Schoolbook"/>
            </a:endParaRPr>
          </a:p>
          <a:p>
            <a:pPr lvl="1" marL="743040" indent="-285840" algn="just">
              <a:lnSpc>
                <a:spcPct val="100000"/>
              </a:lnSpc>
              <a:spcBef>
                <a:spcPts val="601"/>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репутаційні активи </a:t>
            </a:r>
            <a:r>
              <a:rPr b="0" lang="uk-UA" sz="2400" spc="-1" strike="noStrike">
                <a:solidFill>
                  <a:srgbClr val="000000"/>
                </a:solidFill>
                <a:latin typeface="Times New Roman"/>
                <a:ea typeface="Times New Roman"/>
              </a:rPr>
              <a:t>– назва компанії та її бренди (репутація її товарів, послуг і чесних відносин зі споживачами, постачальниками, державою і суспільством);</a:t>
            </a:r>
            <a:endParaRPr b="0" lang="en-US" sz="2400" spc="-1" strike="noStrike">
              <a:solidFill>
                <a:srgbClr val="000000"/>
              </a:solidFill>
              <a:latin typeface="Century Schoolbook"/>
            </a:endParaRPr>
          </a:p>
          <a:p>
            <a:pPr lvl="1" marL="743040" indent="-285840" algn="just">
              <a:lnSpc>
                <a:spcPct val="100000"/>
              </a:lnSpc>
              <a:spcBef>
                <a:spcPts val="601"/>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людські ресурси </a:t>
            </a:r>
            <a:r>
              <a:rPr b="0" lang="uk-UA" sz="2400" spc="-1" strike="noStrike">
                <a:solidFill>
                  <a:srgbClr val="000000"/>
                </a:solidFill>
                <a:latin typeface="Times New Roman"/>
                <a:ea typeface="Times New Roman"/>
              </a:rPr>
              <a:t>– уміння, навички та здібності співробітників фірми до адаптації;</a:t>
            </a:r>
            <a:endParaRPr b="0" lang="en-US" sz="2400" spc="-1" strike="noStrike">
              <a:solidFill>
                <a:srgbClr val="000000"/>
              </a:solidFill>
              <a:latin typeface="Century Schoolbook"/>
            </a:endParaRPr>
          </a:p>
          <a:p>
            <a:pPr lvl="1" marL="743040" indent="-285840" algn="just">
              <a:lnSpc>
                <a:spcPct val="100000"/>
              </a:lnSpc>
              <a:spcBef>
                <a:spcPts val="601"/>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організаційна культура </a:t>
            </a:r>
            <a:r>
              <a:rPr b="0" lang="uk-UA" sz="2400" spc="-1" strike="noStrike">
                <a:solidFill>
                  <a:srgbClr val="000000"/>
                </a:solidFill>
                <a:latin typeface="Times New Roman"/>
                <a:ea typeface="Times New Roman"/>
              </a:rPr>
              <a:t>– цінності та прийняті у фірмі соціальні норми, що сприяють формуванню лояльності співробітників.</a:t>
            </a:r>
            <a:endParaRPr b="0" lang="en-US" sz="2400" spc="-1" strike="noStrike">
              <a:solidFill>
                <a:srgbClr val="000000"/>
              </a:solidFill>
              <a:latin typeface="Century Schoolbook"/>
            </a:endParaRPr>
          </a:p>
          <a:p>
            <a:pPr marL="14616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0" y="-360"/>
            <a:ext cx="8748720" cy="6473880"/>
          </a:xfrm>
          <a:prstGeom prst="rect">
            <a:avLst/>
          </a:prstGeom>
          <a:noFill/>
          <a:ln w="0">
            <a:noFill/>
          </a:ln>
        </p:spPr>
        <p:txBody>
          <a:bodyPr anchor="t">
            <a:normAutofit/>
          </a:bodyPr>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окупець розглядає бренд як певну «заставу» того, що товар, який він купує, буде відповідати заявленим стандартам якості. Відоме ім’я бренда, ступінь прихильності до бренда, що існує у споживача, полегшує процес оброблення інформації під час зіткнення з великим вибором на ринку.</a:t>
            </a: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иви бренду безпосередньо пов’язані з поняттям «вартість бренда».</a:t>
            </a: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23640" y="404280"/>
            <a:ext cx="8351640" cy="6069240"/>
          </a:xfrm>
          <a:prstGeom prst="rect">
            <a:avLst/>
          </a:prstGeom>
          <a:noFill/>
          <a:ln w="0">
            <a:noFill/>
          </a:ln>
        </p:spPr>
        <p:txBody>
          <a:bodyPr anchor="t">
            <a:normAutofit/>
          </a:bodyPr>
          <a:p>
            <a:pPr indent="45720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Вартість бренда (brand value) </a:t>
            </a:r>
            <a:r>
              <a:rPr b="0" lang="uk-UA" sz="2400" spc="-1" strike="noStrike">
                <a:solidFill>
                  <a:srgbClr val="000000"/>
                </a:solidFill>
                <a:latin typeface="Times New Roman"/>
                <a:ea typeface="Times New Roman"/>
              </a:rPr>
              <a:t>– повна вартість бренда як окремого активу підприємства, яка може бути продана і включена в бухгалтерський баланс підприємства.</a:t>
            </a:r>
            <a:endParaRPr b="0" lang="en-US" sz="2400" spc="-1" strike="noStrike">
              <a:solidFill>
                <a:srgbClr val="000000"/>
              </a:solidFill>
              <a:latin typeface="Century Schoolbook"/>
            </a:endParaRPr>
          </a:p>
          <a:p>
            <a:pPr indent="45720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йчастіше вартість бренда оцінюється у грошовому вираженні як грошова премія, яку власник бренда отримує з покупців, прихильних до бренда, і згодних за нього платити.</a:t>
            </a:r>
            <a:endParaRPr b="0" lang="en-US" sz="2400" spc="-1" strike="noStrike">
              <a:solidFill>
                <a:srgbClr val="000000"/>
              </a:solidFill>
              <a:latin typeface="Century Schoolbook"/>
            </a:endParaRPr>
          </a:p>
          <a:p>
            <a:pPr indent="45720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снує низка причин, за якими компанії проводять оцінювання своїх брендів:</a:t>
            </a:r>
            <a:endParaRPr b="0" lang="en-US" sz="2400" spc="-1" strike="noStrike">
              <a:solidFill>
                <a:srgbClr val="000000"/>
              </a:solidFill>
              <a:latin typeface="Century Schoolbook"/>
            </a:endParaRPr>
          </a:p>
          <a:p>
            <a:pPr indent="457200">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пошуку потенційного покупця бренда;</a:t>
            </a:r>
            <a:endParaRPr b="0" lang="en-US" sz="2400" spc="-1" strike="noStrike">
              <a:solidFill>
                <a:srgbClr val="000000"/>
              </a:solidFill>
              <a:latin typeface="Century Schoolbook"/>
            </a:endParaRPr>
          </a:p>
          <a:p>
            <a:pPr indent="457200">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визначення вартості активів на балансі підприємства;</a:t>
            </a:r>
            <a:endParaRPr b="0" lang="en-US" sz="2400" spc="-1" strike="noStrike">
              <a:solidFill>
                <a:srgbClr val="000000"/>
              </a:solidFill>
              <a:latin typeface="Century Schoolbook"/>
            </a:endParaRPr>
          </a:p>
          <a:p>
            <a:pPr indent="457200">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надання гарантії у разі позики.</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50920" y="189000"/>
            <a:ext cx="8642160" cy="6284880"/>
          </a:xfrm>
          <a:prstGeom prst="rect">
            <a:avLst/>
          </a:prstGeom>
          <a:noFill/>
          <a:ln w="0">
            <a:noFill/>
          </a:ln>
        </p:spPr>
        <p:txBody>
          <a:bodyPr anchor="t">
            <a:normAutofit/>
          </a:bodyPr>
          <a:p>
            <a:pPr marL="271440" indent="-27144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сновні показники вартості бренда:</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різниця в ціні товару-бренда й аналогічного товару – що не є брендом, помноженої на обсяг продажів;</a:t>
            </a:r>
            <a:endParaRPr b="0" lang="en-US" sz="2400" spc="-1" strike="noStrike">
              <a:solidFill>
                <a:srgbClr val="000000"/>
              </a:solidFill>
              <a:latin typeface="Century Schoolbook"/>
            </a:endParaRPr>
          </a:p>
          <a:p>
            <a:pPr lvl="1" marL="284040" indent="-284040">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ниження витрат на просування (маркетингові комунікації);</a:t>
            </a:r>
            <a:endParaRPr b="0" lang="en-US" sz="2400" spc="-1" strike="noStrike">
              <a:solidFill>
                <a:srgbClr val="000000"/>
              </a:solidFill>
              <a:latin typeface="Century Schoolbook"/>
            </a:endParaRPr>
          </a:p>
          <a:p>
            <a:pPr lvl="1" marL="284040" indent="-284040">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можливість входити на нові ринки з низькими витратами;</a:t>
            </a:r>
            <a:endParaRPr b="0" lang="en-US" sz="2400" spc="-1" strike="noStrike">
              <a:solidFill>
                <a:srgbClr val="000000"/>
              </a:solidFill>
              <a:latin typeface="Century Schoolbook"/>
            </a:endParaRPr>
          </a:p>
          <a:p>
            <a:pPr lvl="1" marL="284040" indent="-284040">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створення бар’єрів для входу в галузь;</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орговельні важелі, які виражаються в тому, що канали розподілу набагато більш позитивно реагують на відомі марочні товари;</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більшення маржі товарів (покупці готові купувати бренди за вищими цінами);</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ростання обсягів продажів;</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оширення бренда (бренд надає додаткову вартість іншим товарам).</a:t>
            </a:r>
            <a:endParaRPr b="0" lang="en-US" sz="2400" spc="-1" strike="noStrike">
              <a:solidFill>
                <a:srgbClr val="000000"/>
              </a:solidFill>
              <a:latin typeface="Century Schoolbook"/>
            </a:endParaRPr>
          </a:p>
          <a:p>
            <a:pPr marL="271440" indent="-271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6840" y="549000"/>
            <a:ext cx="8218440" cy="5924520"/>
          </a:xfrm>
          <a:prstGeom prst="rect">
            <a:avLst/>
          </a:prstGeom>
          <a:noFill/>
          <a:ln w="0">
            <a:noFill/>
          </a:ln>
        </p:spPr>
        <p:txBody>
          <a:bodyPr anchor="t">
            <a:normAutofit/>
          </a:bodyPr>
          <a:p>
            <a:pPr marL="603360" indent="-273240" algn="just">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Етапи технології створення вартості бренда:</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цінка на якісному рівні.</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Бренд-аудит.</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Розроблення стратегії.</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рактична реалізація стратегії.</a:t>
            </a:r>
            <a:endParaRPr b="0" lang="en-US" sz="2400" spc="-1" strike="noStrike">
              <a:solidFill>
                <a:srgbClr val="000000"/>
              </a:solidFill>
              <a:latin typeface="Century Schoolbook"/>
            </a:endParaRPr>
          </a:p>
          <a:p>
            <a:pPr marL="603360" indent="-2732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снує багато методик для розрахунку безпосередньо вартості «невидимого» активу під назвою «бренд». Розглянемо основні з них.</a:t>
            </a:r>
            <a:endParaRPr b="0" lang="en-US" sz="2400" spc="-1" strike="noStrike">
              <a:solidFill>
                <a:srgbClr val="000000"/>
              </a:solidFill>
              <a:latin typeface="Century Schoolbook"/>
            </a:endParaRPr>
          </a:p>
          <a:p>
            <a:pPr marL="603360" indent="-2732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19-11-10T09:43:25Z</dcterms:modified>
  <cp:revision>40</cp:revision>
  <dc:subject/>
  <dc:title>PowerPoint Presentation</dc:title>
</cp:coreProperties>
</file>