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7611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DEFCED-60F8-49F1-8A83-B07E203A29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1752F-3E70-42D4-838D-736A74BE2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16738E-A4C8-482B-98D6-2206464CC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E5F86A-DBAB-4885-A987-44A3AC27C0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1D7334-C96A-4E9F-8846-B7C3FBD7A0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9EBC1C-88B1-4FCD-8638-12EA40A39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93E0E8-7F52-4429-9A1B-D433664E41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77E62A-5A53-4679-A55F-23B428C8A1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79009-D202-4F38-86B9-F93565D64C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90E9AF-4E3E-4523-842A-C6E7A03AEA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5176E-AFE0-4FB6-9790-439793234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298B4-7DDC-4DE9-A84B-FA1015FD6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E14BF-3743-4B3F-8246-2C5CE37ED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6F85B-D851-454B-B688-B98087A21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33DC1C-D9A6-4755-BFA0-BCC14C571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00AEB0-E786-4456-ADFB-BB712B2E0D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4D1F6D-DB3A-4472-B014-94064C05BA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7537DFE-48C8-43FF-BB7D-E88DE8987B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09A2BDD-A7D4-4B8A-B43B-0AA686998D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B562FDA-1A0B-43BC-B1B9-EF0A9FA88D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B02000A-9781-4CF2-B655-006651AAC0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E0B31CB-2533-47E4-BB0F-E950AB9696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36097-7ADE-4E62-8D19-17179B5E4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C45D60D-9099-4824-A814-ED148CDFF1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BB7335C-3E16-4EC1-B452-01978783B1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F65110F-B963-40AA-9541-CB22A3DDED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DB794B0-0B17-45E7-92EA-6269223FE2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E38E4F1-4EFD-4CE0-809D-36A66AFA22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D38675C-0C77-4FB7-9CD0-D5A380A361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BF66AA7-FF95-4E19-9952-E505A1BA37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CF1AA2-3A27-49C1-874A-EE70F680F7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9A39BA-78A3-49C2-8BAA-B952D5BE16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329B9F-CC59-4F53-9CB6-D36071ADE0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D0ED0-154E-4DB6-98BF-0C2CBA027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C1535E-899B-44ED-9269-18A69C6F95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FA0A25-A472-4ED0-8709-23C0CFE4E4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E1EF31-C264-4060-A6F4-5438D565B5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5D0E79-84E0-443C-85C4-FDFA7C76E5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AF4DD3-8298-4A90-81D2-0172AB89F0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8BAD90-7F3C-4B75-98BE-9251E1A488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0D4F97-4A7E-484C-A0CD-5CA1D0305C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EA46A7-10EA-43FD-AC28-9F93A658B7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461830-3C21-41D7-B25E-DCE300995E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50DE1E8-717D-4C00-9AE4-E297631CD1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E272F-EB5C-4813-BDE4-37F45B8E3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E7BD5DC-36B0-481B-B170-AA537C1FA2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3B92FAC-5D72-47A1-88D0-09E37DF937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C9CB90A-6749-423F-A365-6CCCF30D9E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E4D8F19-1D44-46DE-AC6E-954C365484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5561BBE-DB8A-4122-AC5E-658160C2E7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FCB5FEF-B8D7-4275-ACB7-DCCB6F073E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08C1FB5-53C0-4BA7-B790-7864F9FDFF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A3B4BFB-D560-43B6-8159-2BEDC058A1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3C82739-477C-4073-8823-E15D13A338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E340AA0-AE6B-41D5-8FB9-7E1AB83AB0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ADAF4-809E-4A32-9576-34799E081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73925E0-2E61-475B-9C68-160A654EBC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CCB16816-9225-402E-9FB9-2E23BCC573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691DB38-B3AB-4363-86A4-DE1AACBD2D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6887227-CDBF-4166-AD29-EC8C6FED76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7A1C51B-EFE3-4AF5-AD3D-B17D4CE322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149D143-3E24-4976-B863-F86FDC94DD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2D450EC-BA9F-4603-AA1A-57437A14EC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40C59E7-CF42-4979-96BE-A86386D5E8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7DEA5F9-72FF-4EBD-859C-A2C0676B0D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4398629-498D-4326-9210-6A3474EBA7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37932-99FC-40AB-8B46-1C6CFFDE9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6D01FDC-592B-4A00-90BC-055AB322E6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616D82E-88B3-4BFE-A066-09CFE2D9B5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3B39CCC2-D6C8-4BFF-B5FD-BD72388E4F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EE1F550-1C37-4648-AE43-0CCE7F6EC4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6861094-7CAE-4946-B8F7-EA7B521371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6C2C205-2B80-4FBB-9141-0FE5542936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11784F6-D78F-4DBA-AE90-96BDAC1838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9C7A2C0-FFC6-4082-8DD0-52334D439F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A7C5521-EE43-4D7E-9E51-6BF3D2CFC3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29D4E3A-10B9-4705-9076-D84948A07D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2424F-2EA6-4C6B-8856-BBDAA770D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3D9884D-FD77-45F3-831F-E6ED5A2D9B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DBDD6D1-2F8E-4482-B7B3-72203464CF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15FE41F-989B-42AC-96E3-DAF05B2C8C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5732540-7545-4489-9C55-24EAE566C3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EA6680F-DE29-4C22-9205-E1795FEF01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4928F-D8BA-4E7C-A21B-7AB55D733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1170E-43E4-4092-803E-EE9F593A4935}"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Прямая соединительная линия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Овал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Овал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Овал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78C7A-64A3-4FFA-AE9C-D9CDBF49A0CB}"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A7141-4128-4B2B-AE13-0036FEA7C7BB}"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Прямоугольник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Овал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Овал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Овал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Овал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Овал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Прямая соединительная линия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02ED0-3911-4E13-859F-6EF78D940126}"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F18FE-B1C8-4917-97FC-4DD54D785C75}"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Прямая соединительная линия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Прямая соединительная линия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Прямая соединительная линия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Прямоугольник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Прямая соединительная линия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Овал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525FC-4BF4-4F5D-8F69-D7C7A4C5E7DC}"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Овал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Прямая соединительная линия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Прямоугольник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Прямая соединительная линия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Прямая соединительная линия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82989-D75C-46FB-8E25-6311EA82F19C}"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Прямоугольник 1"/>
          <p:cNvSpPr/>
          <p:nvPr/>
        </p:nvSpPr>
        <p:spPr>
          <a:xfrm>
            <a:off x="468360" y="620640"/>
            <a:ext cx="8207280" cy="5031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a:solidFill>
                  <a:srgbClr val="000000"/>
                </a:solidFill>
                <a:latin typeface="Times New Roman"/>
                <a:ea typeface="Times New Roman"/>
              </a:rPr>
              <a:t>ТЕМА 3.</a:t>
            </a:r>
            <a:endParaRPr b="0" lang="en-US" sz="5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a:solidFill>
                  <a:srgbClr val="000000"/>
                </a:solidFill>
                <a:latin typeface="Times New Roman"/>
                <a:ea typeface="Times New Roman"/>
              </a:rPr>
              <a:t>ПРАВОВЕ СЕРЕДОВИЩЕ БРЕНДІВ</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456840" y="333000"/>
            <a:ext cx="8147160" cy="6140520"/>
          </a:xfrm>
          <a:prstGeom prst="rect">
            <a:avLst/>
          </a:prstGeom>
          <a:noFill/>
          <a:ln w="0">
            <a:noFill/>
          </a:ln>
        </p:spPr>
        <p:txBody>
          <a:bodyPr anchor="t">
            <a:normAutofit/>
          </a:bodyPr>
          <a:p>
            <a:pPr marL="272880" indent="4572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Зацікавленість підприємців у тому, щоб полегшити встановлення правої охорони знаків за кордоном, знайшла своє відображення в укладених міжнародних угодах - Паризькій конвенції з охорони промислової власності (1883 р.) і Мадридській угоді про міжнародну реєстрацію знаків (1891 р). </a:t>
            </a:r>
            <a:endParaRPr b="0" lang="en-US" sz="3200" spc="-1" strike="noStrike">
              <a:solidFill>
                <a:srgbClr val="000000"/>
              </a:solidFill>
              <a:latin typeface="Century Schoolbook"/>
            </a:endParaRPr>
          </a:p>
          <a:p>
            <a:pPr marL="272880" indent="4572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Основні положення Паризької конвенції, які стосуються товарних знаків такі:</a:t>
            </a:r>
            <a:endParaRPr b="0" lang="en-US" sz="3200" spc="-1" strike="noStrike">
              <a:solidFill>
                <a:srgbClr val="000000"/>
              </a:solidFill>
              <a:latin typeface="Century Schoolbook"/>
            </a:endParaRPr>
          </a:p>
          <a:p>
            <a:pPr marL="272880" indent="4572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60" y="0"/>
            <a:ext cx="8893080" cy="6858000"/>
          </a:xfrm>
          <a:prstGeom prst="rect">
            <a:avLst/>
          </a:prstGeom>
          <a:noFill/>
          <a:ln w="0">
            <a:noFill/>
          </a:ln>
        </p:spPr>
        <p:txBody>
          <a:bodyPr anchor="t">
            <a:normAutofit/>
          </a:bodyPr>
          <a:p>
            <a:pPr marL="343080" indent="-343080" algn="just">
              <a:lnSpc>
                <a:spcPct val="100000"/>
              </a:lnSpc>
              <a:spcBef>
                <a:spcPts val="601"/>
              </a:spcBef>
              <a:buClr>
                <a:srgbClr val="fe8637"/>
              </a:buClr>
              <a:buSzPct val="70000"/>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єстрація знака в одній З держав, які домовляються, стає незалежною від реєстрації знака у будь-якій іншій країні, включаючи країни походження;</a:t>
            </a:r>
            <a:endParaRPr b="0" lang="en-US" sz="2000" spc="-1" strike="noStrike">
              <a:solidFill>
                <a:srgbClr val="000000"/>
              </a:solidFill>
              <a:latin typeface="Century Schoolbook"/>
            </a:endParaRPr>
          </a:p>
          <a:p>
            <a:pPr marL="343080" indent="-343080" algn="just">
              <a:lnSpc>
                <a:spcPct val="100000"/>
              </a:lnSpc>
              <a:spcBef>
                <a:spcPts val="601"/>
              </a:spcBef>
              <a:buClr>
                <a:srgbClr val="fe8637"/>
              </a:buClr>
              <a:buSzPct val="70000"/>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знак певним чином зареєстрований в країні походження повинен прийматися для реєстрації і охоронятися у своєму початковому вигляді в інших державах, які домовляються; у реєстрації може бути відмовлено тільки у чітко визначених випадках: якщо ця реєстрація призводить до порушення прав третіх осіб, якщо знак не має відмінних ознак, якщо знак суперечить моралі і правопорядку, або може ввести суспільство в оману;</a:t>
            </a:r>
            <a:endParaRPr b="0" lang="en-US" sz="2000" spc="-1" strike="noStrike">
              <a:solidFill>
                <a:srgbClr val="000000"/>
              </a:solidFill>
              <a:latin typeface="Century Schoolbook"/>
            </a:endParaRPr>
          </a:p>
          <a:p>
            <a:pPr marL="343080" indent="-343080" algn="just">
              <a:lnSpc>
                <a:spcPct val="100000"/>
              </a:lnSpc>
              <a:spcBef>
                <a:spcPts val="601"/>
              </a:spcBef>
              <a:buClr>
                <a:srgbClr val="fe8637"/>
              </a:buClr>
              <a:buSzPct val="70000"/>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якщо використання зареєстрованого знака є обов'язковим, реєстрація може бути анульована тільки по закінченню справедливого строку і тільки тоді, коли власник не може представити доказів, ЯКІ виправдовують його невикористання;</a:t>
            </a:r>
            <a:endParaRPr b="0" lang="en-US" sz="2000" spc="-1" strike="noStrike">
              <a:solidFill>
                <a:srgbClr val="000000"/>
              </a:solidFill>
              <a:latin typeface="Century Schoolbook"/>
            </a:endParaRPr>
          </a:p>
          <a:p>
            <a:pPr marL="343080" indent="-343080" algn="just">
              <a:lnSpc>
                <a:spcPct val="100000"/>
              </a:lnSpc>
              <a:spcBef>
                <a:spcPts val="601"/>
              </a:spcBef>
              <a:buClr>
                <a:srgbClr val="fe8637"/>
              </a:buClr>
              <a:buSzPct val="70000"/>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ожна держава повинна відмовляти у реєстрації і забороняти використання знаків або елементів знаків, які містять без відповідного дозволу герби, прапори, або інші державні емблеми, офіційні знаки, клейма контролю і гарантії, скорочені і повні найменування міжнародних міжурядових організацій;</a:t>
            </a:r>
            <a:endParaRPr b="0" lang="en-US" sz="2000" spc="-1" strike="noStrike">
              <a:solidFill>
                <a:srgbClr val="000000"/>
              </a:solidFill>
              <a:latin typeface="Century Schoolbook"/>
            </a:endParaRPr>
          </a:p>
          <a:p>
            <a:pPr marL="343080" indent="-343080" algn="just">
              <a:lnSpc>
                <a:spcPct val="100000"/>
              </a:lnSpc>
              <a:spcBef>
                <a:spcPts val="601"/>
              </a:spcBef>
              <a:buClr>
                <a:srgbClr val="fe8637"/>
              </a:buClr>
              <a:buSzPct val="70000"/>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хорона розповсюджується на колективні знаки і знаки обслуговування.</a:t>
            </a:r>
            <a:endParaRPr b="0" lang="en-US" sz="2000" spc="-1" strike="noStrike">
              <a:solidFill>
                <a:srgbClr val="000000"/>
              </a:solidFill>
              <a:latin typeface="Century Schoolbook"/>
            </a:endParaRPr>
          </a:p>
          <a:p>
            <a:pPr marL="343080" indent="-343080">
              <a:lnSpc>
                <a:spcPct val="100000"/>
              </a:lnSpc>
              <a:spcBef>
                <a:spcPts val="601"/>
              </a:spcBef>
              <a:buClr>
                <a:srgbClr val="fe8637"/>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456840" y="260280"/>
            <a:ext cx="8002440" cy="6213600"/>
          </a:xfrm>
          <a:prstGeom prst="rect">
            <a:avLst/>
          </a:prstGeom>
          <a:noFill/>
          <a:ln w="0">
            <a:noFill/>
          </a:ln>
        </p:spPr>
        <p:txBody>
          <a:bodyPr anchor="t">
            <a:normAutofit/>
          </a:bodyPr>
          <a:p>
            <a:pPr marL="270000" algn="just">
              <a:lnSpc>
                <a:spcPct val="100000"/>
              </a:lnSpc>
              <a:spcBef>
                <a:spcPts val="601"/>
              </a:spcBef>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ПЛАН</a:t>
            </a:r>
            <a:endParaRPr b="0" lang="en-US" sz="2800" spc="-1" strike="noStrike">
              <a:solidFill>
                <a:srgbClr val="000000"/>
              </a:solidFill>
              <a:latin typeface="Century Schoolbook"/>
            </a:endParaRPr>
          </a:p>
          <a:p>
            <a:pPr marL="270000" algn="just">
              <a:lnSpc>
                <a:spcPct val="100000"/>
              </a:lnSpc>
              <a:spcBef>
                <a:spcPts val="601"/>
              </a:spcBef>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algn="just">
              <a:lnSpc>
                <a:spcPct val="100000"/>
              </a:lnSpc>
              <a:spcBef>
                <a:spcPts val="601"/>
              </a:spcBef>
              <a:buClr>
                <a:srgbClr val="fe8637"/>
              </a:buClr>
              <a:buSzPct val="70000"/>
              <a:buFont typeface="Wingdings" charset="2"/>
              <a:buChar char=""/>
              <a:tabLst>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Розвиток законодавства про знаки у світі</a:t>
            </a:r>
            <a:endParaRPr b="0" lang="en-US" sz="3200" spc="-1" strike="noStrike">
              <a:solidFill>
                <a:srgbClr val="000000"/>
              </a:solidFill>
              <a:latin typeface="Century Schoolbook"/>
            </a:endParaRPr>
          </a:p>
          <a:p>
            <a:pPr marL="270000" algn="just">
              <a:lnSpc>
                <a:spcPct val="100000"/>
              </a:lnSpc>
              <a:spcBef>
                <a:spcPts val="601"/>
              </a:spcBef>
              <a:buClr>
                <a:srgbClr val="fe8637"/>
              </a:buClr>
              <a:buSzPct val="70000"/>
              <a:buFont typeface="Wingdings" charset="2"/>
              <a:buChar char=""/>
              <a:tabLst>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Основні положення Закону України «Про охорону прав на знаки для товарів і послуг»</a:t>
            </a:r>
            <a:endParaRPr b="0" lang="en-US" sz="3200" spc="-1" strike="noStrike">
              <a:solidFill>
                <a:srgbClr val="000000"/>
              </a:solidFill>
              <a:latin typeface="Century Schoolbook"/>
            </a:endParaRPr>
          </a:p>
          <a:p>
            <a:pPr marL="270000" algn="just">
              <a:lnSpc>
                <a:spcPct val="100000"/>
              </a:lnSpc>
              <a:spcBef>
                <a:spcPts val="601"/>
              </a:spcBef>
              <a:buClr>
                <a:srgbClr val="fe8637"/>
              </a:buClr>
              <a:buSzPct val="70000"/>
              <a:buFont typeface="Wingdings" charset="2"/>
              <a:buChar char=""/>
              <a:tabLst>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орядок реєстрації товарного знаку</a:t>
            </a:r>
            <a:endParaRPr b="0" lang="en-US" sz="3200" spc="-1" strike="noStrike">
              <a:solidFill>
                <a:srgbClr val="000000"/>
              </a:solidFill>
              <a:latin typeface="Century Schoolbook"/>
            </a:endParaRPr>
          </a:p>
          <a:p>
            <a:pPr marL="270000" algn="just">
              <a:lnSpc>
                <a:spcPct val="100000"/>
              </a:lnSpc>
              <a:spcBef>
                <a:spcPts val="601"/>
              </a:spcBef>
              <a:buClr>
                <a:srgbClr val="fe8637"/>
              </a:buClr>
              <a:buSzPct val="70000"/>
              <a:buFont typeface="Wingdings" charset="2"/>
              <a:buChar char=""/>
              <a:tabLst>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Міжнародні угоди в сфері реєстрації та визнання знаків.</a:t>
            </a:r>
            <a:endParaRPr b="0" lang="en-US" sz="3200" spc="-1" strike="noStrike">
              <a:solidFill>
                <a:srgbClr val="000000"/>
              </a:solidFill>
              <a:latin typeface="Century Schoolbook"/>
            </a:endParaRPr>
          </a:p>
          <a:p>
            <a:pPr marL="270000">
              <a:lnSpc>
                <a:spcPct val="100000"/>
              </a:lnSpc>
              <a:spcBef>
                <a:spcPts val="601"/>
              </a:spcBef>
              <a:buClr>
                <a:srgbClr val="fe8637"/>
              </a:buClr>
              <a:buSzPct val="70000"/>
              <a:buFont typeface="Wingdings" charset="2"/>
              <a:buChar char=""/>
              <a:tabLst>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107640" y="189000"/>
            <a:ext cx="8785080" cy="6284880"/>
          </a:xfrm>
          <a:prstGeom prst="rect">
            <a:avLst/>
          </a:prstGeom>
          <a:noFill/>
          <a:ln w="0">
            <a:noFill/>
          </a:ln>
        </p:spPr>
        <p:txBody>
          <a:bodyPr anchor="t">
            <a:normAutofit/>
          </a:bodyPr>
          <a:p>
            <a:pPr marL="272880" indent="4572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 Україні охорона прав на товарні знаки забезпечується Законом України "Про охорону прав на знаки для товарів і послуг" від 15 грудня 1993 року, Паризькою конвенцією з охорони промислової власності, (чинна в Україні з 25 грудня 1991 року). Мадридською угодою про міжнародну реєстрацію знаків, підписаною 14 квітня 1891 року, (чинна в Україні з 25 грудня 1991 року), протоколом щодо Мадридської угоди про міжнародну реєстрацію знаків, підписаним 27 червня 1989 року (чинний на території України з 29 грудня 2000 р</a:t>
            </a:r>
            <a:r>
              <a:rPr b="0" lang="uk-UA" sz="2800" spc="-1" strike="noStrike">
                <a:solidFill>
                  <a:srgbClr val="000000"/>
                </a:solidFill>
                <a:latin typeface="Times New Roman"/>
                <a:ea typeface="Times New Roman"/>
              </a:rPr>
              <a:t>.</a:t>
            </a:r>
            <a:r>
              <a:rPr b="0" lang="ru-RU" sz="2800" spc="-1" strike="noStrike">
                <a:solidFill>
                  <a:srgbClr val="000000"/>
                </a:solidFill>
                <a:latin typeface="Times New Roman"/>
                <a:ea typeface="Times New Roman"/>
              </a:rPr>
              <a:t>). </a:t>
            </a:r>
            <a:endParaRPr b="0" lang="en-US" sz="2800" spc="-1" strike="noStrike">
              <a:solidFill>
                <a:srgbClr val="000000"/>
              </a:solidFill>
              <a:latin typeface="Century Schoolbook"/>
            </a:endParaRPr>
          </a:p>
          <a:p>
            <a:pPr marL="27288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108000" y="333000"/>
            <a:ext cx="8712000" cy="6140520"/>
          </a:xfrm>
          <a:prstGeom prst="rect">
            <a:avLst/>
          </a:prstGeom>
          <a:noFill/>
          <a:ln w="0">
            <a:noFill/>
          </a:ln>
        </p:spPr>
        <p:txBody>
          <a:bodyPr anchor="t">
            <a:normAutofit/>
          </a:bodyPr>
          <a:p>
            <a:pPr marL="272880" indent="4572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Діє також ряд законів і підзаконних актів, які регулюють сумлінне використання знаків з врахуванням національних інтересів, в тому числі Закони України "Про мови", "Про захист прав споживача, обмеження монополізму і недопустимість недобросовісної конкуренції", "Про наукову і науково-технічну експертизу", а також інші нормативні акти, зокрема, відносно недобросовісної реклами і її припинення, про використання Герба України.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178920" y="189000"/>
            <a:ext cx="8425080" cy="6284880"/>
          </a:xfrm>
          <a:prstGeom prst="rect">
            <a:avLst/>
          </a:prstGeom>
          <a:noFill/>
          <a:ln w="0">
            <a:noFill/>
          </a:ln>
        </p:spPr>
        <p:txBody>
          <a:bodyPr anchor="t">
            <a:normAutofit/>
          </a:bodyPr>
          <a:p>
            <a:pPr marL="272880" indent="4572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приклад, Постановою Київської міськради заборонено без спеціального дозволу використовувати в товарних знаках запозичення, що стосуються історії міста Києва. Указом Президента України від 27 квітня 2001 року "Про закони щодо охорони інтелектуальної власності в Україні" передбачено удосконалення законодавства України у сфері інтелектуальної власності з урахуванням положень міжнародних договорів України, а також Угоди про торговельні аспекти прав інтелектуальної власності (Угода ТЯІРЗ): "Власник зареєстрованого товарного знака мас виключне право не дозволяти третім особам без його згоди використовувати у торгівлі ідентичні або схожі позначення для товарів і послуг, які ідентичні або схожі з тими, по відношенню до яких зареєстрований товарний знак, якщо в результаті такого використання виникає вірогідність змішання".</a:t>
            </a:r>
            <a:endParaRPr b="0" lang="en-US" sz="2400" spc="-1" strike="noStrike">
              <a:solidFill>
                <a:srgbClr val="000000"/>
              </a:solidFill>
              <a:latin typeface="Century Schoolbook"/>
            </a:endParaRPr>
          </a:p>
          <a:p>
            <a:pPr marL="272880" indent="4572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456840" y="333000"/>
            <a:ext cx="8147160" cy="6140520"/>
          </a:xfrm>
          <a:prstGeom prst="rect">
            <a:avLst/>
          </a:prstGeom>
          <a:noFill/>
          <a:ln w="0">
            <a:noFill/>
          </a:ln>
        </p:spPr>
        <p:txBody>
          <a:bodyPr anchor="t">
            <a:normAutofit/>
          </a:bodyPr>
          <a:p>
            <a:pPr marL="272880" indent="4572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 Законі України "Про охорону прав на знаки для товарів і послуг", як і в аналогічних законах багатьох інших країн, головною є вимога про виключне право на товарний знак, яке можна придбати після його реєстрації в Держпатенті України.</a:t>
            </a:r>
            <a:endParaRPr b="0" lang="en-US" sz="2400" spc="-1" strike="noStrike">
              <a:solidFill>
                <a:srgbClr val="000000"/>
              </a:solidFill>
              <a:latin typeface="Century Schoolbook"/>
            </a:endParaRPr>
          </a:p>
          <a:p>
            <a:pPr marL="272880" indent="4572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гідно діючого законодавства використанням товарного знака є застосування його на товарах і при наданні послуг, для яких він зареєстрований, на упаковці товарів, у рекламі, друкованих виданнях, на вивісках, при демонстрації експонатів на виставках і ярмарках, що проводяться в Україні, у проспектах, на бланках і в іншій документації, пов'язаній з введенням знака до господарського обороту. </a:t>
            </a:r>
            <a:endParaRPr b="0" lang="en-US" sz="2400" spc="-1" strike="noStrike">
              <a:solidFill>
                <a:srgbClr val="000000"/>
              </a:solidFill>
              <a:latin typeface="Century Schoolbook"/>
            </a:endParaRPr>
          </a:p>
          <a:p>
            <a:pPr marL="272880" indent="4572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60" y="-360"/>
            <a:ext cx="8604360" cy="6473880"/>
          </a:xfrm>
          <a:prstGeom prst="rect">
            <a:avLst/>
          </a:prstGeom>
          <a:noFill/>
          <a:ln w="0">
            <a:noFill/>
          </a:ln>
        </p:spPr>
        <p:txBody>
          <a:bodyPr anchor="t">
            <a:normAutofit/>
          </a:bodyPr>
          <a:p>
            <a:pPr marL="272880" indent="4572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ередача права власності на товарний знак здійснюється на підставі договору. Власник свідоцтва на товарний знак має право забороняти іншим особам використовувати товарний знак без його дозволу Виключне право на товарний знак надається підприємству, яке використовує його. Ніхто не може використовувати товарний знак, що охороняється в Україні, без дозволу його власника.</a:t>
            </a:r>
            <a:endParaRPr b="0" lang="en-US" sz="2400" spc="-1" strike="noStrike">
              <a:solidFill>
                <a:srgbClr val="000000"/>
              </a:solidFill>
              <a:latin typeface="Century Schoolbook"/>
            </a:endParaRPr>
          </a:p>
          <a:p>
            <a:pPr marL="272880" indent="4572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олодіючи виключним правом на товарний знак, його власник має право вільно розпоряджатися ним. Правомочність розпорядження може полягати у поступці прав на основі договору права власності на знак, а також в наданні ліцензії будь-якій юридичній чи фізичній особі на використання товарного знака. Ліцензійний договір повинен містити умови про те, що якість товарів і послуг ліцензіата буде не нижчою якості товарів ліцензіара, і що останній буде здійснювати контроль за виконанням цієї умови.</a:t>
            </a:r>
            <a:endParaRPr b="0" lang="en-US" sz="2400" spc="-1" strike="noStrike">
              <a:solidFill>
                <a:srgbClr val="000000"/>
              </a:solidFill>
              <a:latin typeface="Century Schoolbook"/>
            </a:endParaRPr>
          </a:p>
          <a:p>
            <a:pPr marL="272880" indent="4572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0" y="115560"/>
            <a:ext cx="8964720" cy="6357960"/>
          </a:xfrm>
          <a:prstGeom prst="rect">
            <a:avLst/>
          </a:prstGeom>
          <a:noFill/>
          <a:ln w="0">
            <a:noFill/>
          </a:ln>
        </p:spPr>
        <p:txBody>
          <a:bodyPr anchor="t">
            <a:normAutofit fontScale="97000"/>
          </a:bodyPr>
          <a:p>
            <a:pPr marL="264600" indent="4356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Порядок реєстрації товарного знаку такий:</a:t>
            </a:r>
            <a:endParaRPr b="0" lang="en-US" sz="2400" spc="-1" strike="noStrike">
              <a:solidFill>
                <a:srgbClr val="000000"/>
              </a:solidFill>
              <a:latin typeface="Century Schoolbook"/>
            </a:endParaRPr>
          </a:p>
          <a:p>
            <a:pPr marL="264600" indent="435600" algn="just">
              <a:lnSpc>
                <a:spcPct val="100000"/>
              </a:lnSpc>
              <a:spcBef>
                <a:spcPts val="601"/>
              </a:spcBef>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дача заявки до патентного відомства (особисто або через патентного повіреного) з одночасною оплатою зборів за подачу і експертизу. Заявка повинна бути складена за встановленою формою.</a:t>
            </a:r>
            <a:endParaRPr b="0" lang="en-US" sz="2400" spc="-1" strike="noStrike">
              <a:solidFill>
                <a:srgbClr val="000000"/>
              </a:solidFill>
              <a:latin typeface="Century Schoolbook"/>
            </a:endParaRPr>
          </a:p>
          <a:p>
            <a:pPr marL="264600" indent="435600" algn="just">
              <a:lnSpc>
                <a:spcPct val="100000"/>
              </a:lnSpc>
              <a:spcBef>
                <a:spcPts val="601"/>
              </a:spcBef>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ідомство приймає рішення про встановлення дати пріоритету прав на знак. Ця дата зазвичай встановлюється від дати подачі заявки або від часу показу знака на виставці. Дане рішення направляється заявнику протягом місяця з дня отримання заявки. Після цього заявник може розмістити поряд з товарним знаком значок ТМ, який повідомляє про те, що знак знаходиться в процесі реєстрації.</a:t>
            </a:r>
            <a:endParaRPr b="0" lang="en-US" sz="2400" spc="-1" strike="noStrike">
              <a:solidFill>
                <a:srgbClr val="000000"/>
              </a:solidFill>
              <a:latin typeface="Century Schoolbook"/>
            </a:endParaRPr>
          </a:p>
          <a:p>
            <a:pPr marL="264600" indent="435600" algn="just">
              <a:lnSpc>
                <a:spcPct val="100000"/>
              </a:lnSpc>
              <a:spcBef>
                <a:spcPts val="601"/>
              </a:spcBef>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Експертиза заявки. Якщо відомство з будь-яких причин має намір відхилити заявку, то протягом двох місяців після цього рішення тільки заявник має право внести зміни в заявку, для того щоб остання була прийнята. Строк проведення експертизи законодавчо не обмежений.</a:t>
            </a:r>
            <a:endParaRPr b="0" lang="en-US" sz="2400" spc="-1" strike="noStrike">
              <a:solidFill>
                <a:srgbClr val="000000"/>
              </a:solidFill>
              <a:latin typeface="Century Schoolbook"/>
            </a:endParaRPr>
          </a:p>
          <a:p>
            <a:pPr marL="264600" indent="4356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178920" y="0"/>
            <a:ext cx="8496360" cy="6742080"/>
          </a:xfrm>
          <a:prstGeom prst="rect">
            <a:avLst/>
          </a:prstGeom>
          <a:noFill/>
          <a:ln w="0">
            <a:noFill/>
          </a:ln>
        </p:spPr>
        <p:txBody>
          <a:bodyPr anchor="t">
            <a:normAutofit/>
          </a:bodyPr>
          <a:p>
            <a:pPr marL="343080" indent="-343080" algn="just">
              <a:lnSpc>
                <a:spcPct val="100000"/>
              </a:lnSpc>
              <a:spcBef>
                <a:spcPts val="601"/>
              </a:spcBef>
              <a:buClr>
                <a:srgbClr val="fe8637"/>
              </a:buClr>
              <a:buSzPct val="70000"/>
              <a:buFont typeface="Times New Roman"/>
              <a:buAutoNum type="arabicPeriod"/>
              <a:tabLst>
                <a:tab algn="l" pos="22860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ішення про реєстрацію знака приймається за результатами експертизи і направляється заявнику.</a:t>
            </a:r>
            <a:endParaRPr b="0" lang="en-US" sz="2400" spc="-1" strike="noStrike">
              <a:solidFill>
                <a:srgbClr val="000000"/>
              </a:solidFill>
              <a:latin typeface="Century Schoolbook"/>
            </a:endParaRPr>
          </a:p>
          <a:p>
            <a:pPr marL="343080" indent="-343080" algn="just">
              <a:lnSpc>
                <a:spcPct val="100000"/>
              </a:lnSpc>
              <a:spcBef>
                <a:spcPts val="601"/>
              </a:spcBef>
              <a:buClr>
                <a:srgbClr val="fe8637"/>
              </a:buClr>
              <a:buSzPct val="70000"/>
              <a:buFont typeface="Times New Roman"/>
              <a:buAutoNum type="arabicPeriod"/>
              <a:tabLst>
                <a:tab algn="l" pos="22860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явник повинен оплатити збір за видачу свідоцтва протягом трьох місяців після отримання рішення. Якщо він цього не зробить, заявка вважається відкликаною.</a:t>
            </a:r>
            <a:endParaRPr b="0" lang="en-US" sz="2400" spc="-1" strike="noStrike">
              <a:solidFill>
                <a:srgbClr val="000000"/>
              </a:solidFill>
              <a:latin typeface="Century Schoolbook"/>
            </a:endParaRPr>
          </a:p>
          <a:p>
            <a:pPr marL="343080" indent="-343080" algn="just">
              <a:lnSpc>
                <a:spcPct val="100000"/>
              </a:lnSpc>
              <a:spcBef>
                <a:spcPts val="601"/>
              </a:spcBef>
              <a:buClr>
                <a:srgbClr val="fe8637"/>
              </a:buClr>
              <a:buSzPct val="70000"/>
              <a:buFont typeface="Times New Roman"/>
              <a:buAutoNum type="arabicPeriod"/>
              <a:tabLst>
                <a:tab algn="l" pos="22860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тягом трьох місяців після оплати відомство публікує рішення про реєстрацію знака і одночасно вносить знак до Державного реєстру. Після цього заявник має право розміщувати поряд зі знаком значок ®.</a:t>
            </a:r>
            <a:endParaRPr b="0" lang="en-US" sz="2400" spc="-1" strike="noStrike">
              <a:solidFill>
                <a:srgbClr val="000000"/>
              </a:solidFill>
              <a:latin typeface="Century Schoolbook"/>
            </a:endParaRPr>
          </a:p>
          <a:p>
            <a:pPr marL="343080" indent="-343080" algn="just">
              <a:lnSpc>
                <a:spcPct val="100000"/>
              </a:lnSpc>
              <a:spcBef>
                <a:spcPts val="601"/>
              </a:spcBef>
              <a:buClr>
                <a:srgbClr val="fe8637"/>
              </a:buClr>
              <a:buSzPct val="70000"/>
              <a:buFont typeface="Times New Roman"/>
              <a:buAutoNum type="arabicPeriod"/>
              <a:tabLst>
                <a:tab algn="l" pos="22860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явник отримує свідоцтво на знак. Строк дії свідоцтва 10 років. Потім даний строк може бути неодноразово продовжений щоразу знову ж на 10 років. Права, які випливають з свідоцтва на товарний знак, діють з дати подачі заявки (за умови сплати відповідного збору), а не з дати його реєстрації, публікації або дати видачі свідоцтва. Основним недоліком процедури реєстрації товарного знаку є її тривалість.</a:t>
            </a:r>
            <a:endParaRPr b="0" lang="en-US" sz="2400" spc="-1" strike="noStrike">
              <a:solidFill>
                <a:srgbClr val="000000"/>
              </a:solidFill>
              <a:latin typeface="Century Schoolbook"/>
            </a:endParaRPr>
          </a:p>
          <a:p>
            <a:pPr marL="343080" indent="-343080">
              <a:lnSpc>
                <a:spcPct val="100000"/>
              </a:lnSpc>
              <a:spcBef>
                <a:spcPts val="601"/>
              </a:spcBef>
              <a:buClr>
                <a:srgbClr val="fe8637"/>
              </a:buClr>
              <a:buSzPct val="70000"/>
              <a:buFont typeface="Wingdings" charset="2"/>
              <a:buChar char=""/>
              <a:tabLst>
                <a:tab algn="l" pos="22860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Пользователь Windows</cp:lastModifiedBy>
  <cp:lastPrinted>2019-03-04T01:52:33Z</cp:lastPrinted>
  <dcterms:modified xsi:type="dcterms:W3CDTF">2021-09-22T19:37:59Z</dcterms:modified>
  <cp:revision>43</cp:revision>
  <dc:subject/>
  <dc:title>PowerPoint Presentation</dc:title>
</cp:coreProperties>
</file>