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592-EC99-41E4-93A9-4F8B7F83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849-C341-4AA6-BBB8-C160DE23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638-FC10-4E87-8A43-5A98081F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4A9-13E7-4FFD-A0C5-5ADC3E61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7AB-39FD-437E-80C1-4DF1EBC3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F26-4F76-4E7F-B5CE-19B1B1E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D2AC-7633-454A-B60E-FCD49E7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BDC4-AB58-4CEA-A591-4A404FE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423-56AE-4A61-A9CD-C0D3AE9A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BB67-08A6-426E-B70F-E282A1C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ABE3-D198-4913-9E59-D1AAFA9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226-801A-4E64-B06A-DCDF19B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0833-1D66-4C23-B4D4-A43B628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008-29EE-48AB-8F17-7C265621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C9D-4C93-499E-92AE-B61A20B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DB71-5999-43BF-B993-0A336557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6CB-B551-49E3-9A79-97D2495F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C59FD-7406-458F-9FA8-A4AB4EA4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9F9DA-E9FF-4BB7-9806-3FB3A16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07D04-6893-4908-8928-44FBEE88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804D6-1481-4376-A5A7-E2D9BBBD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A63B1-6717-44D5-857E-268F145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25D-E3FC-4CF2-A09C-3813704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F6AFD-AE2B-4917-B2B9-02DCA35F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4AFE1-DFC9-4FA9-80E9-28C3F55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18AC6-B74B-42B8-B012-897EA03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1477E-2AAC-43A9-8B3E-2F9AE19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CE474-1B27-4D56-82D3-37604D3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E8E75-B480-490B-86BA-436F72CB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4C55F-3191-4669-A653-43C432BA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26F5-23A9-4486-93D2-CE543829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FCBD-406E-421E-BCB7-23441A38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EE2F-117B-4A14-905F-3D57BD9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64E-0512-4F86-B728-63A2FD0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361A-65C2-48F2-A924-86B7643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6119-6753-4AA6-B047-BF6FD16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C7C6-820E-4973-97D4-88BDEE2E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3F04-7A39-4076-AE22-F34773B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7F12-B0CD-4A5D-B743-E39F227C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ACB0-8A41-4628-B004-9385697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B114-B4C2-430E-9017-B8F976B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FCF7-CD17-48B2-BF5E-43AB57A0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F02F-BEBD-4B8E-B8E4-C2861371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521DA-C25A-467C-A052-CD4FDD4F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74F-712B-4487-869A-AD2DC259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A065A-77A2-401A-94D0-038437A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FB3F1-675B-4876-98A0-26493352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DA895-4954-490E-B349-55BCB4F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AEB18-3E99-4F33-954A-612B3ED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B39FE-13D1-435E-9958-9213A45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05283-884C-4972-A564-E8F4B41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D5003-E9D9-4F6B-9AD2-0F694D1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A8715-089F-4931-92A2-06EBE1A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EEC02-A78D-4E16-AD57-F9AD33CF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02945-D083-46A6-A2CC-984A6582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428-3C33-454B-85A4-A816CA3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82794-0C20-4EEC-A150-A2263194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4DFE3-8762-4020-A665-2755182C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6CD69-C151-4D55-99BD-6C0B92C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7F630-30B6-4536-A845-5E407AE8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826F0-9D60-4627-B858-A246D050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83C26-FAF7-4D29-B91A-FA8A258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15284-6901-4197-80AA-7E9D30D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D6BCE-1D27-4FB2-94F6-E7CD1EB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0F06F-1DD6-422D-9BA8-FEC02167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0F188-3BCA-4B43-992B-E88283A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C95-0A72-4500-B25D-8CAA96C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9B8A6-B1AC-4872-91F1-EE2F0C4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DB32E-6EEE-4415-BE56-1E41F3F4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07636-F881-465D-AD2A-0DB07337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37DE5-3B8D-4AE9-9E8B-429A0101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8BDEC-6CED-4F88-8EFE-AABA1E59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825E2-A19C-484C-A153-6F92154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50609-A3BC-44EA-B467-893EB54F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70D09-8389-4AFC-9F1B-91EFF49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C2837-1D6C-4EDF-A9FA-774381E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960DA-ACDD-4963-8AC1-DA6790E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270-D44A-4904-A329-94B6CE1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5347B-421B-45DC-8603-4E01C695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42825-0719-4C38-B9DE-ACCA234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4FF67-0416-4F1F-A556-D1FF0219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72032-174B-4BAE-B823-6EC58FA3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4A128-B1A5-4853-B673-C3466589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F7F-E0A7-4E16-BDCD-22AB96D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C49-71F7-4827-B588-6C89B8C53E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AC0-D139-41C4-A77C-38F725339E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1964-140B-4212-A5E0-85BA86EE10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E0F-D2DF-4071-821D-80255511D8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462-B733-4592-B669-1313E339E6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7670-8996-46F6-A1AD-BE522AEF0A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80D-EF4B-48F5-A741-2A1B831BBB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68360" y="981000"/>
            <a:ext cx="8207280" cy="3797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4. ФУНКЦІЇ, ВИДИ ТА СТРАТЕГІЇ БРЕН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33000"/>
            <a:ext cx="836280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клад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"/>
          <p:cNvPicPr/>
          <p:nvPr/>
        </p:nvPicPr>
        <p:blipFill>
          <a:blip r:embed="rId2"/>
          <a:stretch/>
        </p:blipFill>
        <p:spPr>
          <a:xfrm>
            <a:off x="4811760" y="789120"/>
            <a:ext cx="2444760" cy="22032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5" descr=""/>
          <p:cNvPicPr/>
          <p:nvPr/>
        </p:nvPicPr>
        <p:blipFill>
          <a:blip r:embed="rId3"/>
          <a:stretch/>
        </p:blipFill>
        <p:spPr>
          <a:xfrm>
            <a:off x="3270240" y="3718080"/>
            <a:ext cx="2736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6840" y="476280"/>
            <a:ext cx="814716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Бренд подій ("Event" brands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дії, що періодично проходять, як правило, в світі спорту, індустрії розваг і мистецтва. Цілі організаторів подібних заходів найчастіше досягаються за рахунок використання традиційних інструментів брендинга. Ті суми, які рекламодавці платять за право показати свій продукт в перервах при трансляції престижного спортивного турніру, - ось ціна подібного роду брендів. Суперкубок у бейсболі, Олімпійські ігри, «Три тенори» - ось приклади таких бренді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79280" y="404280"/>
            <a:ext cx="86407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Бренди осіб ("Personal" Brands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портсмени, співаки, політики, бізнесмени – завжди існували в людському суспільстві, але саме зараз вони стали схожими на решту всіх брендів. Їх особливість як "бренду" полягає в тому, що їх знаменитість розповсюджується набагато далі, ніж сфера їх діяльності - спортсмени і політики знімаються в рекламі, співаки - в кіно, актори і бізнесмени проводять спортивні змаг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ид, можливо, пішов від голлівудських знаменитостей минулого століття – Кларка Гейбла, Мерілін Монро і навіть Чарлі Чапліна. Сьогоднішні особисті бренди охоплюють певний діапазон імен: від зірок спорту (Майкл Джонсон) і  зірок поп-музики  («Beatles», «Grateful Dead», Брітні Спірс), до бізнес-гуру (Тоні Роббінс і Том Пітерс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89000"/>
            <a:ext cx="79311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"Географічні" бренди ("Geographical" brands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міста, країни, курорти. Цей вид бренду поступово стає поширеним, особливо в туристичному бізнесі, гірськолижний курорт Сент-Морітц, Французька Рів'єра і Сейшельські острови та інші. Де б ви не відпочивали -  вам нікуди не подітися від бренді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924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55280" y="69192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та характеристика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"Geographical" brands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188640"/>
            <a:ext cx="8135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еографічною ознако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а характеризує ступінь поширення бренду, розрізняют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Міжнарод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егіональний брен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метрально протилежними різновидами брендів за географічним критерієм є локальний та глобальний бренди, тоді як національний, регіональний та міжнародний бренди знаходяться посередині і характеризуються різним ступенем прояву полярних озна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0" y="-36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ими рисам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их бренді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те, що вони ґрунтуються на універсальних людських цінностях, однакових смаках, критеріях вибору товарів, стилі життя людей в усьому світі. Глобальна марка приходить на новий ринок із заданим іміджем як незмінною величиною, однаковою для США, Франції, Китаю чи України. Перевагами використання стратегії глобального бренду є ефект масштабу, потужна дистриб’юторська мережа, ширші можливості інформаційної підтримки на міжнародному рівні (участь у міжнародних проектах, світових спортивних змаганнях тощо), а також можливість використання бажання людини належати до певної соціальної групи чи групи користувачів марки в усьому світі. Найбільш яскравими представниками глобальних брендів є Coca-Cola та McDonald’s, які використовують єдині стандарти якості продукції та рівня обслуговування для споживачів у різних країнах. Недоліками глобальних брендів є віддаленість від цільових клієнтів, складність збору інформації про їх вподобання, обмеженість у пристосуванні до потреб місцевих ринкі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ивагу глобальним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і бренд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оч і не володіють потужними фінансовими ресурсами, однак їх територіальна та ментальна наближеність до цільової аудиторії дозволяє зосередитись на детальному вивченні її особливостей і забезпеченні найвищого рівня обслуговування. Локальні бренди можуть позиціонуватися використовуючи виняткові емоційні зв’язки, а також характер, культуру, традиції, світогляд місцевих клієнтів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Times New Roman"/>
              </a:rPr>
              <a:t>озиціонування бренду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і формування стратегії управління активами бренду концепція позиціювання є стержнем (основою), задаючим напрям всіх маркетингових комунікацій, витікаючих від брен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бренду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процес створення його іміджу та цінностей таким чином, що споживачі цільової аудиторії розуміють, за якими характеристиками бренд відрізняється від конкурент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0560" y="1557360"/>
            <a:ext cx="8219880" cy="4873680"/>
          </a:xfrm>
          <a:prstGeom prst="rect">
            <a:avLst/>
          </a:prstGeom>
          <a:solidFill>
            <a:srgbClr val="eb6e5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ї бренду та результати їх виконанн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 брендів та їх змі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а "Geographical" brands (Географічні бренд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иціонування брен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ї позиціонування брен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ювання залежить від цінності бренду, яка робить його відмінним від всіх останніх брендів. Процес формування позиціювання бренду складається з наступних етапів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цільового ринк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бізнесу компанії, тобто з ким вона веде конкурентну боротьбу (галузі, компанії, товарні групи і так далі), визначення відмінних рис і вигод брен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підтримувати позиції бренду в життєздатному стані, необхідно керуватися наступними принцип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я бренду повинна оновлюватися кожні 3—5 років або частіше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цього вимагає зміна стратегії розвитку компанії. Позиція бренду повинна регулярно передивлятися, щоб знати, чи відповідає вона цільовому ринку, ринковим тенденціям і динаміці, переміщенням у складі покупців, цілям і завданням компанії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ільно розглянути п'ять основних складових успішного позиціювання бренду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датність. Використовувати сильні сторони існуючого образу бренду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ість. Максимізувати період часу, протягом якого можна зберегти позицію бренду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ість. Зосередитися на сприйманих вигодах, коштовних для покупц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кальність. Давати те, чого немає у клієнтів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ність. Добиватися відповідності між чеканнями і фактичним станом реч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ратегії позиціонування бренд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8000" y="188640"/>
            <a:ext cx="864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наступні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ї позиціонування брен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осередження на характеристиках і атрибутах марк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vo - бренд, позиціонований як самий безпечний автомобіль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осередження на вигодах від використання товару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характеризується більшою гнучкістю та можливістю апелювання як до раціональних, так і до емоційних мотивів. У випадку із Volvo основна увага в процесі позиціонування бренду зосереджувалася б не на безпеці як атрибуті товару, а на захисті життя як вигоді, отриманій від товар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шення проблеми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найчастіше використовується в галузі фінансових послуг, інформаційних технологій, комунікацій, фармацевтиці та базується на припущенні, що метою споживача є не придбання певного товару, а вирішення конкретної проблеми (н-д, лупа, печія, повільний інтернет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протиставлення конкурента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з попереджуючою чи реактивною метою для позиціонування бренду компанії (на основі їх персоніфікованих характерист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індивідуальність, культура, розміри, візуальна ідентифікація) та бренду товару (базуючись на фактах та цифрах). Як приклад, слід згадати рекламну «війну» брендів засобів для миття посуду Fairy та Gal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333360"/>
            <a:ext cx="8353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на основі авторитету марки-вироб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користовує вплив материнської марки для формування сильної позиції бренду товару, що полегшує проникнення на нові ринки й ефективно використовується відомими у світі компаніями: Sony, IBM, Nestle (It’s a Sony)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позиціонування на основі доречності застосува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ою мірою використовується для просування брендів-товарів. Прикладом успішного застосування цієї стратегії є російський пивний бренд «Балтика», так як у комплексі маркетингових комунікацій акцент було зроблено не на виключних властивостях та якості пива, на відміну від інших марок, а на споживанні продукту при зустрічах з друзя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орієнтована на тип цільового користув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успіхом використовується для просування широкої номенклатури продукції, призначеної для широкого кола споживачів. В основі стратегії – чітке сегментування ринку, що в умовах динамічних змін ринкового середовища і змінах профілів споживачів може стати обмежуючим фактором розвитку бренду. (Nike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прагненнях клієнтів статусу, престиж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ники Rolex, автомобілі Rolls-Roy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 нематеріальних здобутків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das – спортивні досягнення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снову цієї стратегії покладені емоції, завдяки яким бренди можуть стати успішними в глобальному масштабі, однак вона може відштовхнути людей, які не змогли себе реалізувати, або не вірять у свій потенці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6944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часті у суспільному рус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і попередня, базується на емоціях, проте не особистих, а соціальних (бути приналежним до суспільства), для прикладу, компанія Avon позиціонується як борець за здоров’я жінок і проводить збір коштів на придбання мамографів для українських клінік). Основним недоліком даної стратегії є те, що проблематика може стати неактуальною, але за умови правильного підходу та в поєднанні з іншими ця стратегія може бути дуже ефективною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цінності товар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інність – це те, за що споживачі готові платити, тобто співвідношення ціна-якість, а також певна емоційна цінність. Ця стратегія може бути успішною при умові зосередження саме на цінності товару, а не на ціні, наприклад, «Toyota Corola – ніколи не ламається»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емоціях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користовується самостійно або як додаткова цінність до інших стратегій, наприклад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нжур - все для жіночої втіх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іссімо – і нехай весь світ зачекає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моції викликають бажання володіти цим товаром, але можуть не подіяти у випадку з бережливим покупцем, оскільки для нього вирішальним фактором завжди буде ці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індивідуальност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асто використовується всесвітньо відомими компаніями, таким як Sony та Volvo. Ця стратегія є однією із найуспішніших для досягнення сильної довгострокової конкурентної позиції, однак є складною для реалізації, оскільки ставить високі вимоги до забезпечення відповідної корпоративної культур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ування себе першим номер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формує сприйняття компанії як лідера галузі і повинна підкріплюватися конкретними діями. При забезпеченні високого рівня інновацій компанія може довго утримувати таку позицію, але вона вимагає великих витрат на наукові розробки, дослідження та рекламу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-3240" y="4680"/>
            <a:ext cx="9144000" cy="1018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того як створено торгову марку та зареєстровано товарний знак, для відображення даних у свідомості людини, потрібно розвивати їх бренд. Для кращого розуміння змісту бренда в умовах ринкової економіки доцільно сформувати його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функц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амперед це стратегія диференціації; саме бренд дає змогу споживачу чітко визначити основні цінності підприємства, донести до споживача інформацію про унікальність товару, матеріальну та нематеріальну користь, позиціонуючи таким чином товар на ринк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ижна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ус товару, гарантія якості, задоволення споживачів, імідж виробник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а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даткова вартість підприємства і його акцій за рахунок бренда, додаткова вартість у ціні товару, задоволення споживачів; потужний бренд є інструментом просування, інвестицій у маркетинг, окупність яких полягає у збільшенні попиту, що зумовлює економію масштаб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’єр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хист від імітацій і копіювання, укріплення позицій щодо товарів субститутів, ускладнення процесу проникнення конкурентів на ринок, створення емоційних і раціональних передумов для повторних покупок і багатократних клієнтів. Саме наявність постійної, лояльної аудиторії гарантує стійкий стратегічний розвиток підприємства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7640" y="-360"/>
            <a:ext cx="87850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413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функцій бренда дає змогу підприємству досягти таких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ів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ідтримувати запланований обсяг продажів на конкурентному ринку та реалізовувати на ньому довгострокову програму зі створення і закріплення у свідомості споживачів образу товару/послуги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безпечувати збільшення прибутковості в результаті розширення асортименту товарів/послуг і знань про їхні загальні унікальні якості, які втілюються за допомогою колективного образу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ідобразити в рекламних матеріалах і компаніях культуру країни, регіону, міста, де виготовлений товар (надана послуга), врахувати вимоги споживачів, для яких він призначений, а також особливості території, де він реалізовуєть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икористовувати три важливі для повідомлення і рекламної аудиторії фактори – походження, реалії сьогодення та прогнози на перспективу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ідвищення вартості підприємства на фондовому ринк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7640" y="189000"/>
            <a:ext cx="87850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з крупних фахівців теорії брендинга Лінн Апшоу, стверджує, що існує шість  основних видів брендів, кожен з яких займає своє місце на ринк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ні бренди (Product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це перші з брендів, що з'явилися, на ринку. Вони є основним ядром брендинга, оскільки явно превалюють в кількісному відношенні над іншими типами і згадуються споживачами в першу черг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ид краще за все асоціюється з тим, що більшість людей розуміють під брендом. Прикладом таких брендів може бути: автомобіль  Mercedes, шоколадний батончик Nats, напій Coca-Cola, чай Lipton, кава Nescaf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9" descr=""/>
          <p:cNvPicPr/>
          <p:nvPr/>
        </p:nvPicPr>
        <p:blipFill>
          <a:blip r:embed="rId1"/>
          <a:stretch/>
        </p:blipFill>
        <p:spPr>
          <a:xfrm>
            <a:off x="324000" y="544680"/>
            <a:ext cx="2295360" cy="1714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"/>
          <p:cNvPicPr/>
          <p:nvPr/>
        </p:nvPicPr>
        <p:blipFill>
          <a:blip r:embed="rId2"/>
          <a:stretch/>
        </p:blipFill>
        <p:spPr>
          <a:xfrm>
            <a:off x="3286080" y="544680"/>
            <a:ext cx="2152800" cy="17143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1" descr=""/>
          <p:cNvPicPr/>
          <p:nvPr/>
        </p:nvPicPr>
        <p:blipFill>
          <a:blip r:embed="rId3"/>
          <a:stretch/>
        </p:blipFill>
        <p:spPr>
          <a:xfrm>
            <a:off x="6221520" y="476280"/>
            <a:ext cx="2147760" cy="1714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2" descr=""/>
          <p:cNvPicPr/>
          <p:nvPr/>
        </p:nvPicPr>
        <p:blipFill>
          <a:blip r:embed="rId4"/>
          <a:stretch/>
        </p:blipFill>
        <p:spPr>
          <a:xfrm>
            <a:off x="409680" y="2905200"/>
            <a:ext cx="2124000" cy="164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3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4" descr=""/>
          <p:cNvPicPr/>
          <p:nvPr/>
        </p:nvPicPr>
        <p:blipFill>
          <a:blip r:embed="rId6"/>
          <a:stretch/>
        </p:blipFill>
        <p:spPr>
          <a:xfrm>
            <a:off x="6221520" y="2695680"/>
            <a:ext cx="2124000" cy="1647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5" descr=""/>
          <p:cNvPicPr/>
          <p:nvPr/>
        </p:nvPicPr>
        <p:blipFill>
          <a:blip r:embed="rId7"/>
          <a:stretch/>
        </p:blipFill>
        <p:spPr>
          <a:xfrm>
            <a:off x="1665360" y="5516640"/>
            <a:ext cx="5618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33000"/>
            <a:ext cx="87487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рвісні бренди (Service Brands)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Їх значно менше на ринку, чим товарних бренд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ідчутні послуги набагато важче представити в привабливому вигляді і продати покупцям, які випробовують труднощі з вибором навіть тих товарів, які вони можуть побачити і помаца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ш поширені, ніж товарні, сервісні бренди асоціюються скоріше з послугами, ніж з чимось матеріальними. Авіакомпанія Virgin Airlines – типовий сервісний бренд. Ви купуєте послуги, стиль повітряних подорожей від Virgin. FedEx, Visa, Citibank, Kodak – все це сервісні брен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Объект 3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133720" cy="16480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021040" y="83664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4492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кл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5" descr=""/>
          <p:cNvPicPr/>
          <p:nvPr/>
        </p:nvPicPr>
        <p:blipFill>
          <a:blip r:embed="rId2"/>
          <a:stretch/>
        </p:blipFill>
        <p:spPr>
          <a:xfrm>
            <a:off x="3228840" y="1989000"/>
            <a:ext cx="2438640" cy="164808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6" descr=""/>
          <p:cNvPicPr/>
          <p:nvPr/>
        </p:nvPicPr>
        <p:blipFill>
          <a:blip r:embed="rId3"/>
          <a:stretch/>
        </p:blipFill>
        <p:spPr>
          <a:xfrm>
            <a:off x="3917880" y="4508640"/>
            <a:ext cx="34988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476280"/>
            <a:ext cx="821844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енди організацій ("Organizational" Brands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корпоративні бренди, добродійна діяльність, політичні партії). Все частіше бренди переступають межі товарів/послуг і поширюються на категорії організацій. Організація – як бренд, і бренд стає складовою процесу стратегічного планування. WWF (Панда), Microsoft, Apple, Virgin і Sony – всі вони прийняли концепцію бренду як важливу частину корпоративної політи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21-09-22T19:38:32Z</dcterms:modified>
  <cp:revision>41</cp:revision>
  <dc:subject/>
  <dc:title>PowerPoint Presentation</dc:title>
</cp:coreProperties>
</file>