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898-6C6D-4003-808D-88D2E161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56D-7188-4357-B738-796679EB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E93-1614-44EC-932C-DB18A853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D33-DE07-4FBE-8675-BFE39A3C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45B3-249D-4CF7-A1F0-CFEBE9E1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9020-115C-4568-8FBC-02E73D3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FF83-8828-41B4-998B-0865A238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E838-55EB-4EFE-A3E8-EF01FCDC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C2A-66E7-4DE6-B368-1FCCA3D6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9DFD-06B3-4E03-8FF8-50681D08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817B-F7B8-482E-AAAD-2090A979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162-FADA-482A-9A00-17FA0BA3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E1A4-02DA-4947-A760-6171E8AC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4989-6884-421B-AB52-D17B6FD9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2FE4-FECA-4FE4-ADA2-FEE06FB0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9303-BF1E-42DA-B91E-A0578DE8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72B8-2277-40AA-BFDE-9450AB67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69D16-2BE5-4249-9E1B-5AE22EFC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61344-757A-42F7-A6C6-8B9FA00B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C4189-F168-4638-B298-41CC28A4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8890C-DA0C-4C7B-A53D-A2B46DBA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47534-AD4D-4174-A1A3-BC120902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E06-A8AF-4247-AC71-AA0BB90E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F39FC-E05E-415C-9F6E-4D4C52D0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141F1-0F5C-4E7A-85DA-EC78C078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D3BEE-FA01-496E-8BAA-2297C689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57186-CC7D-44CA-B731-92CC2B8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32045-9E5E-4848-BA41-D3D453EE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A3697-E887-465E-881B-73E205CA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CDAC5-8733-4D26-ABEC-F75F0162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04CD0-8620-4D42-AE1E-29B587F2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E9EE-A673-4111-80B0-941BDFB2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33C9-58ED-43EC-AEC8-14DF1EC4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E4B-EC2A-4C60-9447-3754DE37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E206-AA37-47AC-8013-307408F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1D37-27F6-45A3-B58D-7A13F105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E46B-EFD8-4A62-8B0A-03DDEFF9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EB87F-F220-4763-86F3-F061153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10BE-524E-4ECA-88B1-0287181C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CDE35-583E-40B5-9592-2806D7E5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2446-E92B-42AB-A613-E0DD3A1D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1A03-3BEA-4DCF-8E45-10CE5706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5B55-870B-4D7C-B58A-815A81A9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63CCC-CFB6-4442-B92D-6C5A3CBF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6B1-9CF9-4A75-8701-8D546619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77575-B222-466B-8945-EEFF268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4833A-8CA6-4A90-81BF-7B9B7C6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C0229-CE3A-4AF7-8C85-4CEBBDCC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664F4-4EFA-4C23-A6CA-6A248349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8CD25-7DCE-4B92-98FF-571B3977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2A9B4-5C44-4140-B6A9-2E049EF8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905EF-EBFD-4651-90E1-E91B58C9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415B5-9C7A-4507-AFB1-3AE18285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1A173-F263-4079-91BE-C38DDDC7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4E2D4-77D0-40DA-9171-F317CD7B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7E3-E68F-4819-A920-A90E7345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7A504-B0DF-4CDB-978F-421F02F2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77AD9-CEDB-46A4-9F57-C85B6172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D7013-3595-468E-882A-972EF794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82B85-4F15-4108-AD24-37174A62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B3990-291B-4600-8690-B688E944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C98E8-27DE-435E-AE8D-563A82E8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DDABD-F0C6-4C3D-97B2-CCABE190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50532-F0D7-4C3B-9681-28600BC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692AE-A055-4E7A-ABB7-D2486C8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36FF3-635F-4A48-9F4E-206C652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B6F-94C0-4417-8940-0627DA90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41777-02FC-4732-90FF-06EA944C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67BFB-0B08-4FC2-BCBD-8A6DD063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7D3E6-9303-4C62-B3AB-93D1A623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D7AD5-8187-4918-9157-E90CDB78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B0307-F12D-4C1F-9831-B59378B9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C85B0F-0955-450A-BE11-EA5FAEA8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70397-7A11-4306-917A-6009297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6C991-332E-41A7-8D38-1194D062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17059-E67A-4080-B19B-F72DB043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52E29-2F74-4154-A0FD-68818790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B1E-ABAA-4292-BED0-282E10D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DBB47-8AE2-4FF5-93EB-E0E5215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27F70-AF1B-46D8-A437-5B82310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A77A2-FC85-42AD-8489-714D75E8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655B2-52C4-4F88-9B85-3A5C9C33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45307-8E15-40FF-9C04-15A5081D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72F-B997-4D58-8B3C-878198B5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09CF-E7FB-46FD-BB93-C3F08D83BC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DEA-DAD8-4D0F-81A7-E476FD70D7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72CE-AA23-49BB-BCB2-869A31523A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7A4B-7B9B-46DC-BECE-2D0C7E3D4A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B6AF-DAB6-4A89-8DDF-9EAB39E59D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6F42-2935-4D9F-9A94-9371AE547E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637-F87A-4385-B809-41B5D83335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468360" y="981000"/>
            <a:ext cx="8207280" cy="3797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449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4. ФУНКЦІЇ, ВИДИ ТА СТРАТЕГІЇ БРЕНД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333000"/>
            <a:ext cx="836280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клад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Рисунок 3" descr=""/>
          <p:cNvPicPr/>
          <p:nvPr/>
        </p:nvPicPr>
        <p:blipFill>
          <a:blip r:embed="rId1"/>
          <a:stretch/>
        </p:blipFill>
        <p:spPr>
          <a:xfrm>
            <a:off x="826920" y="102708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"/>
          <p:cNvPicPr/>
          <p:nvPr/>
        </p:nvPicPr>
        <p:blipFill>
          <a:blip r:embed="rId2"/>
          <a:stretch/>
        </p:blipFill>
        <p:spPr>
          <a:xfrm>
            <a:off x="4811760" y="789120"/>
            <a:ext cx="2444760" cy="220320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5" descr=""/>
          <p:cNvPicPr/>
          <p:nvPr/>
        </p:nvPicPr>
        <p:blipFill>
          <a:blip r:embed="rId3"/>
          <a:stretch/>
        </p:blipFill>
        <p:spPr>
          <a:xfrm>
            <a:off x="3270240" y="3718080"/>
            <a:ext cx="2736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6840" y="476280"/>
            <a:ext cx="814716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Бренд подій ("Event" brands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події, що періодично проходять, як правило, в світі спорту, індустрії розваг і мистецтва. Цілі організаторів подібних заходів найчастіше досягаються за рахунок використання традиційних інструментів брендинга. Ті суми, які рекламодавці платять за право показати свій продукт в перервах при трансляції престижного спортивного турніру, - ось ціна подібного роду брендів. Суперкубок у бейсболі, Олімпійські ігри, «Три тенори» - ось приклади таких бренді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79280" y="404280"/>
            <a:ext cx="864072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Бренди осіб ("Personal" Brands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спортсмени, співаки, політики, бізнесмени – завжди існували в людському суспільстві, але саме зараз вони стали схожими на решту всіх брендів. Їх особливість як "бренду" полягає в тому, що їх знаменитість розповсюджується набагато далі, ніж сфера їх діяльності - спортсмени і політики знімаються в рекламі, співаки - в кіно, актори і бізнесмени проводять спортивні змаг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й вид, можливо, пішов від голлівудських знаменитостей минулого століття – Кларка Гейбла, Мерілін Монро і навіть Чарлі Чапліна. Сьогоднішні особисті бренди охоплюють певний діапазон імен: від зірок спорту (Майкл Джонсон) і  зірок поп-музики  («Beatles», «Grateful Dead», Брітні Спірс), до бізнес-гуру (Тоні Роббінс і Том Пітерс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89000"/>
            <a:ext cx="793116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"Географічні" бренди ("Geographical" brands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міста, країни, курорти. Цей вид бренду поступово стає поширеним, особливо в туристичному бізнесі, гірськолижний курорт Сент-Морітц, Французька Рів'єра і Сейшельські острови та інші. Де б ви не відпочивали -  вам нікуди не подітися від бренді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Объект 3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924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755280" y="69192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та характеристика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"Geographical" brands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3640" y="188640"/>
            <a:ext cx="81356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еографічною ознако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а характеризує ступінь поширення бренду, розрізняють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Г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Міжнародний бренд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егіональний брен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метрально протилежними різновидами брендів за географічним критерієм є локальний та глобальний бренди, тоді як національний, регіональний та міжнародний бренди знаходяться посередині і характеризуються різним ступенем прояву полярних озна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0" y="-360"/>
            <a:ext cx="88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ими рисами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их брендів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те, що вони ґрунтуються на універсальних людських цінностях, однакових смаках, критеріях вибору товарів, стилі життя людей в усьому світі. Глобальна марка приходить на новий ринок із заданим іміджем як незмінною величиною, однаковою для США, Франції, Китаю чи України. Перевагами використання стратегії глобального бренду є ефект масштабу, потужна дистриб’юторська мережа, ширші можливості інформаційної підтримки на міжнародному рівні (участь у міжнародних проектах, світових спортивних змаганнях тощо), а також можливість використання бажання людини належати до певної соціальної групи чи групи користувачів марки в усьому світі. Найбільш яскравими представниками глобальних брендів є Coca-Cola та McDonald’s, які використовують єдині стандарти якості продукції та рівня обслуговування для споживачів у різних країнах. Недоліками глобальних брендів є віддаленість від цільових клієнтів, складність збору інформації про їх вподобання, обмеженість у пристосуванні до потреб місцевих ринкі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ивагу глобальним,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і бренди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оч і не володіють потужними фінансовими ресурсами, однак їх територіальна та ментальна наближеність до цільової аудиторії дозволяє зосередитись на детальному вивченні її особливостей і забезпеченні найвищого рівня обслуговування. Локальні бренди можуть позиціонуватися використовуючи виняткові емоційні зв’язки, а також характер, культуру, традиції, світогляд місцевих клієнтів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  <a:ea typeface="Times New Roman"/>
              </a:rPr>
              <a:t>озиціонування бренду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і формування стратегії управління активами бренду концепція позиціювання є стержнем (основою), задаючим напрям всіх маркетингових комунікацій, витікаючих від брен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бренду 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процес створення його іміджу та цінностей таким чином, що споживачі цільової аудиторії розуміють, за якими характеристиками бренд відрізняється від конкуренті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ЛАН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50560" y="1557360"/>
            <a:ext cx="8219880" cy="4873680"/>
          </a:xfrm>
          <a:prstGeom prst="rect">
            <a:avLst/>
          </a:prstGeom>
          <a:solidFill>
            <a:srgbClr val="eb6e5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ї бренду та результати їх виконанн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 брендів та їх змі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стика "Geographical" brands (Географічні бренди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иціонування брен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ї позиціонування брен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692280"/>
            <a:ext cx="746748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ювання залежить від цінності бренду, яка робить його відмінним від всіх останніх брендів. Процес формування позиціювання бренду складається з наступних етапів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цільового ринку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бізнесу компанії, тобто з ким вона веде конкурентну боротьбу (галузі, компанії, товарні групи і так далі), визначення відмінних рис і вигод брен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404280"/>
            <a:ext cx="746748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підтримувати позиції бренду в життєздатному стані, необхідно керуватися наступними принципа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я бренду повинна оновлюватися кожні 3—5 років або частіше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цього вимагає зміна стратегії розвитку компанії. Позиція бренду повинна регулярно передивлятися, щоб знати, чи відповідає вона цільовому ринку, ринковим тенденціям і динаміці, переміщенням у складі покупців, цілям і завданням компанії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ільно розглянути п'ять основних складових успішного позиціювання бренду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датність. Використовувати сильні сторони існуючого образу бренду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ійкість. Максимізувати період часу, протягом якого можна зберегти позицію бренду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ність. Зосередитися на сприйманих вигодах, коштовних для покупц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кальність. Давати те, чого немає у клієнтів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ність. Добиватися відповідності між чеканнями і фактичним станом реч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тратегії позиціонування бренд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8000" y="188640"/>
            <a:ext cx="8640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яють наступні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ї позиціонування бренді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зосередження на характеристиках і атрибутах марк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vo - бренд, позиціонований як самий безпечний автомобіль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зосередження на вигодах від використання товару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я стратегія характеризується більшою гнучкістю та можливістю апелювання як до раціональних, так і до емоційних мотивів. У випадку із Volvo основна увага в процесі позиціонування бренду зосереджувалася б не на безпеці як атрибуті товару, а на захисті життя як вигоді, отриманій від товар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ішення проблеми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я стратегія найчастіше використовується в галузі фінансових послуг, інформаційних технологій, комунікацій, фармацевтиці та базується на припущенні, що метою споживача є не придбання певного товару, а вирішення конкретної проблеми (н-д, лупа, печія, повільний інтернет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протиставлення конкурента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ється з попереджуючою чи реактивною метою для позиціонування бренду компанії (на основі їх персоніфікованих характерист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індивідуальність, культура, розміри, візуальна ідентифікація) та бренду товару (базуючись на фактах та цифрах). Як приклад, слід згадати рекламну «війну» брендів засобів для миття посуду Fairy та Gal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333360"/>
            <a:ext cx="8353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на основі авторитету марки-вироб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користовує вплив материнської марки для формування сильної позиції бренду товару, що полегшує проникнення на нові ринки й ефективно використовується відомими у світі компаніями: Sony, IBM, Nestle (It’s a Sony)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позиціонування на основі доречності застосуванн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ьшою мірою використовується для просування брендів-товарів. Прикладом успішного застосування цієї стратегії є російський пивний бренд «Балтика», так як у комплексі маркетингових комунікацій акцент було зроблено не на виключних властивостях та якості пива, на відміну від інших марок, а на споживанні продукту при зустрічах з друзями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орієнтована на тип цільового користувач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успіхом використовується для просування широкої номенклатури продукції, призначеної для широкого кола споживачів. В основі стратегії – чітке сегментування ринку, що в умовах динамічних змін ринкового середовища і змінах профілів споживачів може стати обмежуючим фактором розвитку бренду. (Nike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яка базується на прагненнях клієнтів статусу, престиж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ники Rolex, автомобілі Rolls-Royc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а нематеріальних здобутків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idas – спортивні досягнення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основу цієї стратегії покладені емоції, завдяки яким бренди можуть стати успішними в глобальному масштабі, однак вона може відштовхнути людей, які не змогли себе реалізувати, або не вірять у свій потенціа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79280" y="260280"/>
            <a:ext cx="856944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участі у суспільному русі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і попередня, базується на емоціях, проте не особистих, а соціальних (бути приналежним до суспільства), для прикладу, компанія Avon позиціонується як борець за здоров’я жінок і проводить збір коштів на придбання мамографів для українських клінік). Основним недоліком даної стратегії є те, що проблематика може стати неактуальною, але за умови правильного підходу та в поєднанні з іншими ця стратегія може бути дуже ефективною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яка базується на цінності товару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інність – це те, за що споживачі готові платити, тобто співвідношення ціна-якість, а також певна емоційна цінність. Ця стратегія може бути успішною при умові зосередження саме на цінності товару, а не на ціні, наприклад, «Toyota Corola – ніколи не ламається»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яка базується на емоціях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користовується самостійно або як додаткова цінність до інших стратегій, наприклад,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нжур - все для жіночої втіх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о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ніссімо – і нехай весь світ зачекає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моції викликають бажання володіти цим товаром, але можуть не подіяти у випадку з бережливим покупцем, оскільки для нього вирішальним фактором завжди буде цін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, яка базується на індивідуальності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асто використовується всесвітньо відомими компаніями, таким як Sony та Volvo. Ця стратегія є однією із найуспішніших для досягнення сильної довгострокової конкурентної позиції, однак є складною для реалізації, оскільки ставить високі вимоги до забезпечення відповідної корпоративної культур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7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ування себе першим номеро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я стратегія формує сприйняття компанії як лідера галузі і повинна підкріплюватися конкретними діями. При забезпеченні високого рівня інновацій компанія може довго утримувати таку позицію, але вона вимагає великих витрат на наукові розробки, дослідження та рекламу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-3240" y="4680"/>
            <a:ext cx="9144000" cy="1018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того як створено торгову марку та зареєстровано товарний знак, для відображення даних у свідомості людини, потрібно розвивати їх бренд. Для кращого розуміння змісту бренда в умовах ринкової економіки доцільно сформувати його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функці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самперед це стратегія диференціації; саме бренд дає змогу споживачу чітко визначити основні цінності підприємства, донести до споживача інформацію про унікальність товару, матеріальну та нематеріальну користь, позиціонуючи таким чином товар на ринк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ижна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тус товару, гарантія якості, задоволення споживачів, імідж виробника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а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даткова вартість підприємства і його акцій за рахунок бренда, додаткова вартість у ціні товару, задоволення споживачів; потужний бренд є інструментом просування, інвестицій у маркетинг, окупність яких полягає у збільшенні попиту, що зумовлює економію масштаб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’єр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хист від імітацій і копіювання, укріплення позицій щодо товарів субститутів, ускладнення процесу проникнення конкурентів на ринок, створення емоційних і раціональних передумов для повторних покупок і багатократних клієнтів. Саме наявність постійної, лояльної аудиторії гарантує стійкий стратегічний розвиток підприємства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07640" y="-360"/>
            <a:ext cx="87850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413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ня функцій бренда дає змогу підприємству досягти таких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ів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ідтримувати запланований обсяг продажів на конкурентному ринку та реалізовувати на ньому довгострокову програму зі створення і закріплення у свідомості споживачів образу товару/послуги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забезпечувати збільшення прибутковості в результаті розширення асортименту товарів/послуг і знань про їхні загальні унікальні якості, які втілюються за допомогою колективного образу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відобразити в рекламних матеріалах і компаніях культуру країни, регіону, міста, де виготовлений товар (надана послуга), врахувати вимоги споживачів, для яких він призначений, а також особливості території, де він реалізовуєтьс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використовувати три важливі для повідомлення і рекламної аудиторії фактори – походження, реалії сьогодення та прогнози на перспективу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 algn="just"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ідвищення вартості підприємства на фондовому ринк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413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07640" y="189000"/>
            <a:ext cx="878508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ин з крупних фахівців теорії брендинга Лінн Апшоу, стверджує, що існує шість  основних видів брендів, кожен з яких займає своє місце на ринку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ні бренди (Product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- це перші з брендів, що з'явилися, на ринку. Вони є основним ядром брендинга, оскільки явно превалюють в кількісному відношенні над іншими типами і згадуються споживачами в першу черг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й вид краще за все асоціюється з тим, що більшість людей розуміють під брендом. Прикладом таких брендів може бути: автомобіль  Mercedes, шоколадний батончик Nats, напій Coca-Cola, чай Lipton, кава Nescaf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Объект 9" descr=""/>
          <p:cNvPicPr/>
          <p:nvPr/>
        </p:nvPicPr>
        <p:blipFill>
          <a:blip r:embed="rId1"/>
          <a:stretch/>
        </p:blipFill>
        <p:spPr>
          <a:xfrm>
            <a:off x="324000" y="544680"/>
            <a:ext cx="2295360" cy="17143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0" descr=""/>
          <p:cNvPicPr/>
          <p:nvPr/>
        </p:nvPicPr>
        <p:blipFill>
          <a:blip r:embed="rId2"/>
          <a:stretch/>
        </p:blipFill>
        <p:spPr>
          <a:xfrm>
            <a:off x="3286080" y="544680"/>
            <a:ext cx="2152800" cy="17143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1" descr=""/>
          <p:cNvPicPr/>
          <p:nvPr/>
        </p:nvPicPr>
        <p:blipFill>
          <a:blip r:embed="rId3"/>
          <a:stretch/>
        </p:blipFill>
        <p:spPr>
          <a:xfrm>
            <a:off x="6221520" y="476280"/>
            <a:ext cx="2147760" cy="17143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2" descr=""/>
          <p:cNvPicPr/>
          <p:nvPr/>
        </p:nvPicPr>
        <p:blipFill>
          <a:blip r:embed="rId4"/>
          <a:stretch/>
        </p:blipFill>
        <p:spPr>
          <a:xfrm>
            <a:off x="409680" y="2905200"/>
            <a:ext cx="2124000" cy="1647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3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4" descr=""/>
          <p:cNvPicPr/>
          <p:nvPr/>
        </p:nvPicPr>
        <p:blipFill>
          <a:blip r:embed="rId6"/>
          <a:stretch/>
        </p:blipFill>
        <p:spPr>
          <a:xfrm>
            <a:off x="6221520" y="2695680"/>
            <a:ext cx="2124000" cy="164772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5" descr=""/>
          <p:cNvPicPr/>
          <p:nvPr/>
        </p:nvPicPr>
        <p:blipFill>
          <a:blip r:embed="rId7"/>
          <a:stretch/>
        </p:blipFill>
        <p:spPr>
          <a:xfrm>
            <a:off x="1665360" y="5516640"/>
            <a:ext cx="56181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333000"/>
            <a:ext cx="87487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рвісні бренди (Service Brands)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Їх значно менше на ринку, чим товарних бренді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ідчутні послуги набагато важче представити в привабливому вигляді і продати покупцям, які випробовують труднощі з вибором навіть тих товарів, які вони можуть побачити і помаца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ш поширені, ніж товарні, сервісні бренди асоціюються скоріше з послугами, ніж з чимось матеріальними. Авіакомпанія Virgin Airlines – типовий сервісний бренд. Ви купуєте послуги, стиль повітряних подорожей від Virgin. FedEx, Visa, Citibank, Kodak – все це сервісні бренд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Объект 3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2133720" cy="16480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021040" y="83664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4492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кл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Рисунок 5" descr=""/>
          <p:cNvPicPr/>
          <p:nvPr/>
        </p:nvPicPr>
        <p:blipFill>
          <a:blip r:embed="rId2"/>
          <a:stretch/>
        </p:blipFill>
        <p:spPr>
          <a:xfrm>
            <a:off x="3228840" y="1989000"/>
            <a:ext cx="2438640" cy="164808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6" descr=""/>
          <p:cNvPicPr/>
          <p:nvPr/>
        </p:nvPicPr>
        <p:blipFill>
          <a:blip r:embed="rId3"/>
          <a:stretch/>
        </p:blipFill>
        <p:spPr>
          <a:xfrm>
            <a:off x="3917880" y="4508640"/>
            <a:ext cx="34988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476280"/>
            <a:ext cx="821844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ренди організацій ("Organizational" Brands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корпоративні бренди, добродійна діяльність, політичні партії). Все частіше бренди переступають межі товарів/послуг і поширюються на категорії організацій. Організація – як бренд, і бренд стає складовою процесу стратегічного планування. WWF (Панда), Microsoft, Apple, Virgin і Sony – всі вони прийняли концепцію бренду як важливу частину корпоративної політи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9-03-04T01:52:33Z</cp:lastPrinted>
  <dcterms:modified xsi:type="dcterms:W3CDTF">2021-09-22T19:38:32Z</dcterms:modified>
  <cp:revision>41</cp:revision>
  <dc:subject/>
  <dc:title>PowerPoint Presentation</dc:title>
</cp:coreProperties>
</file>