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04DE-7DF9-4C62-AF53-D8BF6C1B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D858-E2D9-4E98-8054-818EC33C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3B2B-9DCF-40F8-95CF-AC1DAF89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E9CB-6D96-45C9-881A-F84000AC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5ED1-B0F7-46AB-863F-0DF1B1E4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2122-CC6F-484A-8BEE-F27AFE54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C830-D79A-4754-A8AC-8FD4A6E2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AF48-DB79-4B8E-BD2C-F4F23246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12A8-05F4-413E-995A-DAA7820A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BCC2-AD6F-484A-9013-07DBC1F9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A66E-173A-4E58-8EA3-76B4EF02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6130-407A-46D1-875A-89366186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8CA3-4DE5-4531-987F-998B172F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5E80-3DF6-4630-A7D9-FE1617C2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E8D8-46BC-4DB7-8231-A0709662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015C-EBE2-4D92-9715-02E846D6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644B-C56D-4BC5-B271-119EA16A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327D51-4666-4E1E-8FA3-8E3D9796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480B3-776C-44EF-A25A-21DC8D5C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EFEC0B-AB28-4F59-902D-13F1D80C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EBBC64-70A7-4465-9A5C-984DEE28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ED0138-188F-4595-9BAE-26F7AAAA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A4BD-228F-4247-B8B8-E4C2FBEF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90962B-6AF9-4F76-BC46-DB8B221C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575053-8125-4514-8053-F5D01563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8A811E-8675-4B14-BAA6-C2A5C1B6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C7B727-05C0-4760-91F4-C39A32C9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32425-8606-44F3-A4AA-D37A9C69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B13E20-D163-400B-AE77-05508572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09E09A-4748-4B09-BE44-CC53E13D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1E4D7-41B4-492A-BDFA-BC91186C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5783D-BAF2-46EA-AE19-3238D7EB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2E72D-01A6-4D48-B8C5-5544ED38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9677-D79B-4B12-A8F2-0D435F29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CCD84-E4B8-4955-9FB8-C3BB52A5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50212-EC73-47BE-B849-AEAF3050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98F40-4417-4EA9-BBA1-5D0C3B2B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7A63A-3AEF-4852-B845-06F9A647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0E9FD-4A39-47FA-87DA-D44CD104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05114-C064-4F20-8A75-A037C7D0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F50E3-D784-4982-BC1D-83EF9698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08A81-3A86-4A00-917E-DB521278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6BAE7-EBF9-4DD0-A8F2-0106F77B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89AE30-6CBC-489B-8DDD-14A3CB20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69A5-99D7-489B-B043-F4D35249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FDA5E3-58E8-4BDA-A02D-6E2D5C8B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84D416-90AD-4C5B-A05B-EE9789CB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60C380-51FE-4CAC-B91E-EA511D61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1B11AE-00BB-4D80-8072-89B41539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4BA9EA-E160-4826-A2EB-DC64DA80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2E11E5-1FB1-4952-9A91-7104915E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7D0DAA-26A1-479B-B9A9-9B2184DA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CBF2F3-B3B8-4E9D-9BF3-39A02CB2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9DD314-F6C1-459C-B27A-86C0EC21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52AC23-696D-4635-847E-2EF37D36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2C14-E986-4BAF-845B-A21B5AC7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998C77-37A6-4EE2-8C9B-583CF8C1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1A0938-6982-4ECF-9CE7-70DA5CB8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472A4C-A196-49ED-8D78-8158FD1D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D0C435-CA15-4369-AE7E-B9B26A84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0948BB-ECA0-4AB9-94B1-38293B88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A7754C-EB51-404A-8346-55199019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1F6816-F7A3-4C27-9AEA-3BAC9B5C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6F199D-0A45-4477-93B4-AF61A9F5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D3E82E-CFA5-40BA-935F-A55575A1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364FCB-E085-4170-96AB-09D83E5D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3EC3-4101-4431-B6DC-59DFFDFA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7FE325-27A5-49AA-90F2-D083534E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3915AF-70C7-4D4A-A9EA-BF0522F4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1CEA71-2754-4E51-A3C2-2FF7523A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7B064A-AD6D-49DC-8822-843AF6FA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73D661-59C2-4952-AF5D-4280D79E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F299C5-5E6B-4F62-B7DA-0C98C794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0D4EC6-21C4-4925-A27C-B4B44E80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9433CF-1A0C-409C-BBC4-C775F893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13F424-14FE-470A-ADFE-2407825A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6D8A44-1475-489E-83AF-24EAB191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4B53-DCFB-42B6-A002-0F179589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B3C99E-8948-4E89-8E94-7258A524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38AF73-D989-413A-ABD2-C7AD5965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867210-63CC-420F-95C7-5BD9E4CF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E3A20A-F0A7-4F4E-873E-2D5F63FF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6747FE-72DF-43A9-AC7A-01EF38A7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C246-25F8-4A6F-BF8E-C3059897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34D1-0F5B-491A-95CB-8D8B7B13270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1AF5-E0BB-4284-84D0-C179C9E026C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9A24-DDE6-4FD5-B029-D87825F6C96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E9C0-BD3B-4E3F-BD46-E7B358C9129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4137-F7DD-418B-B051-11F8DCB8A0B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DFEA-83E1-4711-919C-17E9B4EA1E9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05A9-2798-4B37-AD3A-616F7320E61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500040" y="2133720"/>
            <a:ext cx="8207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549000"/>
            <a:ext cx="8075520" cy="59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сципліни спрямовані на формування у студентів інтегральної компетентності щодо: здатності розв’язувати складні спеціалізовані завдання та практичні проблеми у готельно-ресторанному господарстві, в процесі навчання, що передбачає застосування певних теорій та методів відповідної науки і характеризується комплексністю та невизначеністю умов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23640" y="18900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езультаті вивчення дисципліни студенти повинні знати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сце й роль бренд-менеджменту в системі управління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и використання бренд-менеджменту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і методологічні підходи до брендингу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сті створення бренду підприємства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ні результати застосування брендингу в організаціях Україн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сля вивчення дисципліни студенти повинні вміти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лізувати й розробляти різноманітні стратегії брендингу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стосовувати принципи формування бренду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лодіти технологіями управління активами торгової марки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стосовувати на практиці методи аналізування брендингу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стосовувати принципи брендингу інноваційної діяльності у різних галузях і сферах діяльності, у різних соціокультурних середовищах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стосовувати методи оцінювання вартості бренду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ворювати архітектуру брендингу підприємств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Объект 82" descr=""/>
          <p:cNvPicPr/>
          <p:nvPr/>
        </p:nvPicPr>
        <p:blipFill>
          <a:blip r:embed="rId1"/>
          <a:stretch/>
        </p:blipFill>
        <p:spPr>
          <a:xfrm>
            <a:off x="108000" y="0"/>
            <a:ext cx="8712000" cy="551664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7640" y="5805360"/>
            <a:ext cx="849636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3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1.1 – ЕТАПИ СТАНОВЛЕННЯ І РОЗВИТКУ БРЕНДІВ</a:t>
            </a:r>
            <a:br>
              <a:rPr sz="2600"/>
            </a:b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57200" y="404280"/>
            <a:ext cx="8291520" cy="60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0120" algn="ctr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і традиції брендингу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01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віті існують дві основні моделі рекламного ринку і бренд-менеджменту: англо-американська (західна) і японська (азіатська)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01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амні комунікації України в своєму розвитку більш тяжіють до західної моделі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01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 явно спостерігаються і деякі риси японської моделі, зокрема в брендингу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0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7200" y="476280"/>
            <a:ext cx="829152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0120"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ідний бренд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01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нгло-американській рекламно-комунікаційної моделі бренд – поняття майже священне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01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почалося ще з початку ХХ століття, коли на Заході закріпилася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ія «вільних брендів, що стоять» (free standing brands)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01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ктиці це означало, що якщо компанія випускала кілька товарів або товарних ліній, то вони позиціонувалися абсолютно незалежно і один від одного, і від компанії-виробника (назва якої найчастіше була навіть незнайома покупцю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0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15920" y="115920"/>
            <a:ext cx="9037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0120" algn="ctr">
              <a:lnSpc>
                <a:spcPts val="161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ідний бренд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3301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понії система роботи з брендами зовсім інша. Історично склалося, що після активного розвитку ринку в 50-60-ті роки, коли ціна була основним фактором вибору товару, японські покупці стали прискіпливо ставитися до якості продукції. Її гарантували насамперед великі компанії-виробники, що вкладали гроші у наукові розробки. Японські компанії і рекламні агентства відмовилися від створення «брендів, що вільно стоять» і ввели свою систему підбрендів (sub brands)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3301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 компанії «Sony» вже добре відома покупцю і гарантує якість товару. До того ж ця компанія є як би «парасолькою» для підбрендів, які поділяють товарні лінії («Sony Walkman» – плеєри, «Sony Trinitron» – телевізори). Отже, спочатку, історично у Японії бренди мають для споживачів набагато менше смислове навантаження, ніж назва компанії. Відповідно японські компанії набагато частіше розміщують корпоративний логотип у телевізійні ролики і друковану рекламу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330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94920" y="115560"/>
            <a:ext cx="82803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3360" indent="4572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цілому бренд – це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3360" indent="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цінніший нематеріальний актив компанії: її назва, логотип, символ, слоган, мелодія, люди в її рекламі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3360" indent="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е, що транслює, говорить і робить компанія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3360" indent="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ийняття компанії у цілому: її сервісу, продукту, корпоративної культури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3360" indent="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лізна» гарантія очікувань споживачів і передбачуваної поведінки компанії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3360" indent="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ження споживачів, яким можна управляти, правильну розробляючи стратегію бренд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3360" indent="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cp:lastPrinted>2019-03-04T01:52:33Z</cp:lastPrinted>
  <dcterms:modified xsi:type="dcterms:W3CDTF">2019-11-03T08:17:56Z</dcterms:modified>
  <cp:revision>35</cp:revision>
  <dc:subject/>
  <dc:title>PowerPoint Presentation</dc:title>
</cp:coreProperties>
</file>