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777-4EC7-4548-9928-EF0919EB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F7B-75D7-4767-A7FE-D4BA164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365-A3BD-4B6E-B120-50544E6C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5C6-3343-4509-A5DE-A01AB0F9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AC0F-7CD9-49A5-AD11-1850C653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DDC-6273-42D6-87D0-7291D36A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4552-4E0D-411B-A1E1-FF098588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4163-D414-4634-91E1-54D9149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A51C-9453-437F-A2AF-B38C62C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88BF-8434-4A42-A8B5-34E4BCD0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C8F-F649-4D67-B625-75C50E6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7F0-6BBC-44F2-BA5A-051BBCD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696-8976-4288-8671-11FD59C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67D2-2CAB-43B2-AF35-4EA0DD5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3317-1F5D-407E-9BA9-1962E9B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57E-64C8-4AAC-9957-59212B26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423-858D-4EE0-A8BD-DA52AE2B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3B765-DBCE-488E-BA56-7D08F087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B466C-5982-4AA2-9A8D-2EA699C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015B6-E7C6-4BC7-BC70-CAC4923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61AB5-A39B-4AA6-92C9-473999F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FB736-DF62-4C23-B89A-E8B4AECE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71D-5A23-4FBD-AE46-52D9E8A2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90ED-B3DC-4E1B-9A6E-B27E46F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030EE-00D5-485A-972D-BE44FA4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7A98F-FD7D-4CFF-8DA9-AC0C573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9D683-6ED9-49DB-A855-6A9B2CE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046CF-4D2B-42E2-ADFE-F528050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864A1-489A-49F9-AC38-94C9AC70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797FB-8EA8-4B94-9926-6EE93272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F143-1740-4F29-A542-FA8515BF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2098-EF69-4F1B-AC43-E45F2E73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2633-5F83-498B-8A62-85D8B85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0BE-39E7-41FC-A259-796FB43B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2E2E-E0D9-4E44-BE1E-AA0747A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CAF3-66EF-4CA2-B43B-FA9E069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DC71-1FCD-4B63-B009-AED3596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2D6E-A7D3-45CE-B324-5E99EF67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2EF6-A506-498B-AABF-328FC69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11B9-5698-4426-985C-A6C4A6B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B6D8-863C-486C-9782-EE9DAB0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476B-F634-4C00-84C6-2348464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3EA0-B8B3-46C7-9D01-12DA7E2E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9502B-79D8-4E35-86BB-12D282DD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49D-550B-4947-B6C4-4996E229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CC734-BBFC-4615-843C-C325284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FBA44-1221-4282-A56A-277A882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0CC9E-7C10-4BCD-96DD-39DF3FA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C549D-2151-490A-9A4E-6B34627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3298A-8B71-4397-B6EB-303A5FF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B8009-6A4D-4BB1-8A72-B15B096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F809C-90CF-4E93-9225-BF5E8AE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A943F-FA65-4E97-AAEB-3451500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F4B77-3FAF-4AEC-B464-71FED1FB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77E52-69E8-41AB-ACC9-760301C0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92C-AA04-49A5-9066-D1ACA873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4C78B-4854-43F2-B0C4-321D54D8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CBD70-A206-4773-B407-BC1F5794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309BA-1974-47B8-AB4C-244D8EA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414E6-248B-41BA-84B1-0AB4D55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1BC43-B740-4FB7-A7C7-8E4E5402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CDB04-2857-4FA2-BF0F-7755F96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F2680-5BAD-4746-ABF2-9AC70B6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789E5-71E0-46DE-B139-9CC5740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307C1-AEC3-4C67-AAB9-87D5EE39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C6778-2043-4FF5-BA9A-AA8446C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AB2-AF74-4EB0-8BFA-1B8F8D2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B9B41-29E0-48CE-8355-C96E18A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8337E-5A2C-4212-BFB8-04E316A8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ECDF1-85C9-4776-A946-4F0886FE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6D325-A47D-44EB-95EE-639513AB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25CB3-FDF1-4C4D-BDA5-4FF2EF08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AA1F9-AE00-433E-AD6E-2F9B648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57FCD-409E-4164-BA40-82AAAF8F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AEB3F-63D1-431C-A252-7E552EF6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0CF1F-6E19-48F2-A857-4D9DC8B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88D71-83E3-427F-873A-2E8A965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311-16D5-4084-9164-B59F5F6D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90713-A34E-4806-81EB-8C9693D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659F5-22F3-4B29-B9C5-728829C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0F2E3-3840-4EBE-833C-E44A7104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CE5DE-E8E6-4752-8DC0-4B3820F0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422A6-9D6A-4444-8C6A-B28EAC3B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72C-6BC4-4371-9B2F-2B7E15D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7761-7B7E-42B5-B9F7-087BCAA212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010-D335-4AB2-868B-9EA454BB8E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F8B-7701-4C48-AECF-2AD79D9BC3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A48-2366-4218-A2C8-915292773E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B7E-8E35-41C6-84D9-1B99EC7A88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92B-2CAF-49E9-A8FA-B77654F103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B57-D99B-482D-8013-2B90EE748A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00040" y="2133720"/>
            <a:ext cx="820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ципліни спрямовані на формування у студентів інтегральної компетентності щодо: здатності розв’язувати складні спеціалізовані завдання та практичні проблеми у готельно-ресторанному господарстві, в процесі навчання, що передбачає застосування певних теорій та методів відповідної науки і характеризується комплексністю та невизначеністю ум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2364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зультаті вивчення дисципліни студенти повинні знат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це й роль бренд-менеджменту в системі управлінн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 використання бренд-менеджменту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методологічні підходи до брендингу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створення бренду підприємств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і результати застосування брендингу в організаціях Украї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вивчення дисципліни студенти повинні вміт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увати й розробляти різноманітні стратегії брендинг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принципи формування бренд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ти технологіями управління активами торгової марки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на практиці методи аналізування брендинг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принципи брендингу інноваційної діяльності у різних галузях і сферах діяльності, у різних соціокультурних середовищах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методи оцінювання вартості бренд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ювати архітектуру брендингу підприємст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Объект 82" descr=""/>
          <p:cNvPicPr/>
          <p:nvPr/>
        </p:nvPicPr>
        <p:blipFill>
          <a:blip r:embed="rId1"/>
          <a:stretch/>
        </p:blipFill>
        <p:spPr>
          <a:xfrm>
            <a:off x="108000" y="0"/>
            <a:ext cx="8712000" cy="55166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640" y="5805360"/>
            <a:ext cx="8496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1 – ЕТАПИ СТАНОВЛЕННЯ І РОЗВИТКУ БРЕНДІВ</a:t>
            </a:r>
            <a:br>
              <a:rPr sz="2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404280"/>
            <a:ext cx="82915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традиції брендинг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іті існують дві основні моделі рекламного ринку і бренд-менеджменту: англо-американська (західна) і японська (азіатська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і комунікації України в своєму розвитку більш тяжіють до західної моделі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 явно спостерігаються і деякі риси японської моделі, зокрема в брендинг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476280"/>
            <a:ext cx="829152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ідний брен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о-американській рекламно-комунікаційної моделі бренд – поняття майже священн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очалося ще з початку ХХ століття, коли на Заході закріпилася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«вільних брендів, що стоять» (free standing brands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це означало, що якщо компанія випускала кілька товарів або товарних ліній, то вони позиціонувалися абсолютно незалежно і один від одного, і від компанії-виробника (назва якої найчастіше була навіть незнайома покупцю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5920" y="115920"/>
            <a:ext cx="9037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ий бренд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понії система роботи з брендами зовсім інша. Історично склалося, що після активного розвитку ринку в 50-60-ті роки, коли ціна була основним фактором вибору товару, японські покупці стали прискіпливо ставитися до якості продукції. Її гарантували насамперед великі компанії-виробники, що вкладали гроші у наукові розробки. Японські компанії і рекламні агентства відмовилися від створення «брендів, що вільно стоять» і ввели свою систему підбрендів (sub brands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 компанії «Sony» вже добре відома покупцю і гарантує якість товару. До того ж ця компанія є як би «парасолькою» для підбрендів, які поділяють товарні лінії («Sony Walkman» – плеєри, «Sony Trinitron» – телевізори). Отже, спочатку, історично у Японії бренди мають для споживачів набагато менше смислове навантаження, ніж назва компанії. Відповідно японські компанії набагато частіше розміщують корпоративний логотип у телевізійні ролики і друковану рекламу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4920" y="115560"/>
            <a:ext cx="82803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3360" indent="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ілому бренд – ц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цінніший нематеріальний актив компанії: її назва, логотип, символ, слоган, мелодія, люди в її рекламі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, що транслює, говорить і робить компані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 компанії у цілому: її сервісу, продукту, корпоративної культур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лізна» гарантія очікувань споживачів і передбачуваної поведінки компанії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ження споживачів, яким можна управляти, правильну розробляючи стратегію брен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9-03-04T01:52:33Z</cp:lastPrinted>
  <dcterms:modified xsi:type="dcterms:W3CDTF">2019-11-03T08:17:56Z</dcterms:modified>
  <cp:revision>35</cp:revision>
  <dc:subject/>
  <dc:title>PowerPoint Presentation</dc:title>
</cp:coreProperties>
</file>