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98E-4392-495F-B3F7-3DF6675F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9CE-B8E9-41BD-B82D-D3EBB9B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930-6647-4330-BCE4-34E24D8C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CB8-A8CB-45D8-A1A4-F2896472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80C-E355-408F-AF5E-93887B44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BC9-B8BB-4A5C-984E-E6A982F4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A3B5-2F09-44E3-8E45-51D02CD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130F-EC9F-4FCF-91E2-80EA6FE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B6DB-57B1-43FF-AE3B-41A5C04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96CC-9F92-4966-B828-13BE7C4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4572-6BB2-4D73-AD02-1A9E455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F6A-0A3C-4CE5-A17F-D1D444D2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52B4-29FB-4F23-AB15-67D3ECB4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7BC3-CA9F-48B3-A11A-EEAEE7D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05C-5668-4907-93EB-C0ACABE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EC9B-8F27-4A25-93C9-16712A6D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999-3FE8-4896-8EB4-2EBCFDCE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5FDB3-4929-4362-91A9-40D2D26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D6982-761D-42F9-925E-09472D8B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17DF2-8B5B-4B23-B4BC-D0F69B8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3E211-4234-4AC8-BBB6-89B82575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DB846-74D2-4A1A-81F6-9D9FC8C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2AD-B753-4DA3-B971-232651C8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1D3B4-848B-4344-9638-FB404C3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A631F-2449-49D2-B004-641FA5D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95E62-6FEE-465F-94A0-9CCD143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4F093-C88D-4D38-B0AD-8EE7A27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223AF-B7A4-4120-8560-62A7D79B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9FB66-A682-4189-BB54-11D11B14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73361-92E8-4D2D-9BBA-D3B8CC90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3671-CECC-4E39-8D89-0E715E2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9A33-63FA-44A6-9729-63FFDB2D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77C0-8B6D-4189-9EC5-FC13CC70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721-3C74-42C8-A01C-27CD777A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3040-5C02-4918-A2A0-2A9E1795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92F0-6EC0-4B8A-8392-B724346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F314-3731-49FA-8A5F-09AF3F47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9666B-C1DA-408F-9158-70E40943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B5B2-2D6F-4189-B7F4-6976A79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26BB-E4EF-4243-A53D-B3E72F9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DC5D-F0F6-4905-9364-0E916E1A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3761-EE66-46B5-BC63-8AB443D6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AEA9-A036-456D-9DE7-8C5A4D1B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62466-963F-40D4-8D13-5C292967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781-ADFA-43A8-A0CC-FED4EB0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70A61-5CFC-40A5-BEF0-EC7F5216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44ED3-2FBC-4343-8A77-BA1D91B5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A8BE7-ED9C-4766-A071-22441B3D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D78AB-EA56-41B6-8DD9-7488395D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84FCA-5E7C-4F08-856C-DAABAFC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79BE5-9D7F-4356-9530-B83FB2F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27B24-29B6-4EB0-8223-BF706BE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7C167-7555-4C05-A9E5-8E46FFE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90AB0-DADC-469D-B0B3-196E0C6A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4BB3F-4FAE-4366-80B6-5D37BAC5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90B-75A5-4014-9F5C-4C13A3E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D9EA2-FFCE-41F9-9C44-07C7EBA2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6A094-66F5-4718-8DE4-ABA37BED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5F62B-775F-4EB1-AD2B-20F36929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2D174-8FE5-46E0-8194-03D715A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D9A88-7829-4E58-BDD8-72BECB0F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4B0E1-2EB0-449A-A758-AE97E85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4B02C-F554-4CDE-98A9-CCEDCD2E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DB9EA-64DB-47DE-A53D-50559BA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7C40A-8F8F-4877-993E-1BCFB8C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4378F-7F0B-4675-B948-C69615E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A5C-578E-4B82-BF73-7AD7C48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F8FA1-2518-4F20-B2B3-686DAA4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7FEBD-A36F-487B-B6C7-2CE566F6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5D298-A47D-49DD-AD23-10026D95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19684-699F-47AF-92FD-968244DC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3D2ED-DE8B-43E1-A4D7-0467C999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BED7B-C48C-45B7-BA04-5AA1CDB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6C474-EB58-417E-8702-EDC4762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B783B-57F3-48F3-BE3E-8D53B294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AE91B-7CB2-40E1-8181-56195BCE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D8326-0FF5-4F02-8991-C458B72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EED-C2DD-4317-91AB-4C93D19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06C9C-EECD-442D-A4F4-15A37D7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A1543-E65D-47F0-81D7-70C0C8B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40D80-DE43-4B94-BBAA-1E5ADB1C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F4B57-2587-433B-8F4F-1FF3BBC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A3629-6FCB-4510-8B7A-CE707382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B4F-224B-4D8F-AD52-4676AA0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314A-535E-4C01-ADE7-1D421364E7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C37D-BEF7-41D8-A626-1CC7BC5AC2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9C78-7B93-49A9-84B9-C1077A8FA1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8C4-E4A0-42A6-A8DD-69E1E7D5A0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14D7-39F2-4BC3-8548-ABB4084611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0C5-C375-48D0-A368-3E42939C15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7AF4-9DAA-44CD-8CAC-56378A1236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500040" y="2133720"/>
            <a:ext cx="82072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 СПОЖИВАЧІВ ПОСЛУГ ГОСТИННОСТ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549000"/>
            <a:ext cx="807552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ципліни спрямовані на формування у студентів інтегральної компетентності щодо: здатності розв’язувати складні спеціалізовані завдання та практичні проблеми у готельно-ресторанному господарстві, в процесі навчання, що передбачає застосування певних теорій та методів відповідної науки і характеризується комплексністю та невизначеністю ум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2364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вчення дисципліни “Поведінка споживача послуг гостинності” є набуття знань та практичних навичок відносно роботи із споживачами, управлінні їх поведінкою, формуванні і підтримці попиту споживачів на продукт та послуги готельно-ресторанного бізнесу та туризму, виявленні свого споживача і вплив на процес прийняття ним рішення щодо поку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і вивчення дисципліни студенти повинні знат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тність та моделі поведінки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фактори зовнішнього середовища, які впливають на формування поведінки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ішні фактори поведінки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орії мотивації та методи опису життєвого стил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 прийняття рішення споживача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тапи та типи процесу рішення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іночні критерії та правила рішень, які забезпечують вибір остаточної альтернативи покуп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а споживачів, які визнані в світі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15560"/>
            <a:ext cx="8075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і вивчення дисципліни студенти повинні вміт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значати вплив зовнішніх та внутрішніх факторів на поведінку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вати і підтримувати попит споживачів на певні послуг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являти свого споживача і впливати на  процес прийняття їм рішення про покупку певних послуг, використовуючи широку гаму професійних методів управління поведінкою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ляти та обґрунтовувати моделі поведінки споживачів, заходів впливу на їх поведінку та оцінку ефективност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23640" y="188640"/>
            <a:ext cx="813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ПОНЯТТЯ ДИСЦИПЛІ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суті та моделі поведінки споживач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ічні підходи до аналізу поведінки споживач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волення потреб споживача – головний орієнтир діяльності господарюючих суб’єкт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, що впливають на процес прийняття рішення споживаче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дослідження поведінки споживачі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лософія зовнішнього і внутрішнього маркетинг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, як процес, що поєднує споживача і маркетолог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яційний обмін – основа маркетингових відноси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справедливості і обмі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обміну в поведінці індивідуальних і промислових споживач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маркетингу і поведінка споживачів на ринку послуг гостинності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9-03-04T01:52:33Z</cp:lastPrinted>
  <dcterms:modified xsi:type="dcterms:W3CDTF">2019-11-11T08:02:16Z</dcterms:modified>
  <cp:revision>37</cp:revision>
  <dc:subject/>
  <dc:title>PowerPoint Presentation</dc:title>
</cp:coreProperties>
</file>