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500-4C8C-45C5-81C8-AD91F637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68E-3BFC-4A55-A382-0F160A1A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51D-4CBA-4AFE-B495-DA5BA89D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306-AC51-42D7-9DC9-2BC28BF6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3DB4-D105-4EBE-9C59-23847FEE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135E-564F-4C6A-9F90-703BA773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A91F-0D70-44D1-965B-A3C80C7B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F9C0-F533-4BAE-BDDF-290DB0BA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67E3-4A2D-499E-8A65-CD5D32CE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8430-C0AC-4D2F-9477-DCA27B28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E922-11A0-4A33-BB52-54FADF23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6A7-052E-43A4-8576-55C4E33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3582-6B87-4C4E-8FC0-0868C5D4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B280-1B80-40F3-BD81-1F9D64D3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509D-D1A5-4DC1-B601-FDEC59A6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20E5-C592-4D0C-AD9D-44C0ED07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2892-46F4-4613-909A-CE2D1113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35A75-EF84-4D93-9448-16B387E8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F05C2-5EC0-4CF3-9828-5CA8BE1A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52D76-2FB7-4F22-A45B-47221D22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81AAF-1BE6-4B34-BBBB-E29D111C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230B3-8A5A-48C1-87C5-0098C66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A65-8782-4E48-AB10-66808439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B02A4-0319-47E9-90BD-9BC466D5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B91C8-4AC7-4EC7-9F39-887ADBA9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156EC-BA5F-459C-9290-56672B5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7526D-947D-42DE-8A53-FAEC6D50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F279A-6115-416C-9B1A-18CAB737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28E1E-A0A8-4BC9-9DAE-D22CE428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02A04-C014-4237-9E10-EC5D3336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35D8-B471-4E2A-BF48-DF720635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9FAB5-6663-4A51-83F9-1950BAAF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8E54-A5FC-4EF0-8068-09F8706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4A7-3229-4DDA-8733-823629AA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19E8-1B4A-4CB8-87BB-4F998EE9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600B-459F-4C6D-96A3-BA1D7698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EA52-F676-4729-8156-D87473E1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5D76-5B92-46F8-803A-DB503221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7758-8719-4447-A843-8A944F8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995D-A034-45C4-BD03-164EF83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6A2DF-2636-49B0-AEFD-D1FB272F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FCF6-77AF-4767-99E6-1E59784B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AC788-E2DE-4AA1-9DD7-5626DF26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070B6-D223-44D8-BDE3-B05F87D3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962-D596-481B-9664-CD1D7C27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DA2D9-0534-44B3-BF17-0DB6AC63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6FC21-33D5-4617-A60D-CF4D47B3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A54BA-6D55-47A9-80F9-775CF2A1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393CA-24E3-4667-8ED7-26FFCF3D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84E02-AAA3-4761-8CAC-2F91658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3FB1F-36F2-48B4-B4CE-169C1379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3FA63-D781-49FB-B64B-951008F3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925D8-EA40-44F4-A69B-E246B6D3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B205B-5E95-4068-BDC1-7AA1FCB9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87836-0E32-4056-87F1-18B62376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9C5-F43B-44C7-8D6D-C6FE8EB2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85FA6-89CC-4C82-AA05-3F1A3138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1D22D-6A15-4BEA-B1E6-05669F92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855B3-6D0F-40E7-9911-82FB527A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6DAA0-FAE0-4768-964E-66F674E5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48C0A-E843-49E8-881B-3F661020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BD938-AF22-43EA-BE72-836E324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5AED1-4662-4BD7-B6AD-B6AE8EEE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AEB60-C3C3-4829-B160-1B27728A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67D97-82A2-4315-AD21-31DA3150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052DA-FBE2-4621-A1C2-60501B85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CA5-4DB0-4569-9D7E-AB8D267D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97350-98AF-4BE1-8FAD-5BEBFDA4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65D9A-D0F8-4906-BB6D-F733BF64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9ED51-D197-44EC-AE4D-B8CA00B1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AF94F-4590-473F-B47A-919F65E8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B6DE3-017E-4B8C-9402-ECA9DF9B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969C4-BA11-488D-935D-C749B002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AA801-3EC6-4E4C-9002-C6DC30A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B84C2-D4A3-48D4-990D-CFB6001E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36E82-A33D-4ED5-8491-C3598E6B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C05BD-9539-40B1-83FD-A115361A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0EA-40CE-456A-97AF-1D5D513D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75EEC-67F1-46EA-BC1F-72F0F16F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C500B-9768-4163-9F1F-1990FA1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8D7AF-811D-441D-889D-9E3E771C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AE65B-93EF-4433-9AC3-52E14874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D53D1-34F8-48FF-8237-19424A73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BF4-821A-4C44-BEE7-2BF3512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D13-2DE0-48A8-88D2-682138F45E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4A23-48B6-4154-BA91-0909B8E7A2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5636-7DD1-45DD-B4B6-095F299716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CB6E-E1A1-42FA-87A4-B4D78C6F1A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467C-7B88-43DA-97F8-A20A72A051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C83F-DC50-47A5-9600-959F5C5E56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1AA6-22E6-4ACA-A06E-3C6F6628DA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500040" y="2133720"/>
            <a:ext cx="82072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А СПОЖИВАЧІВ ПОСЛУГ ГОСТИННОСТ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549000"/>
            <a:ext cx="807552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ципліни спрямовані на формування у студентів інтегральної компетентності щодо: здатності розв’язувати складні спеціалізовані завдання та практичні проблеми у готельно-ресторанному господарстві, в процесі навчання, що передбачає застосування певних теорій та методів відповідної науки і характеризується комплексністю та невизначеністю ум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2364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вчення дисципліни “Поведінка споживача послуг гостинності” є набуття знань та практичних навичок відносно роботи із споживачами, управлінні їх поведінкою, формуванні і підтримці попиту споживачів на продукт та послуги готельно-ресторанного бізнесу та туризму, виявленні свого споживача і вплив на процес прийняття ним рішення щодо поку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і вивчення дисципліни студенти повинні знат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тність та моделі поведінки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фактори зовнішнього середовища, які впливають на формування поведінки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ішні фактори поведінки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орії мотивації та методи опису життєвого стил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 прийняття рішення споживача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тапи та типи процесу рішення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іночні критерії та правила рішень, які забезпечують вибір остаточної альтернативи покуп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а споживачів, які визнані в світі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15560"/>
            <a:ext cx="80755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і вивчення дисципліни студенти повинні вміт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значати вплив зовнішніх та внутрішніх факторів на поведінку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увати і підтримувати попит споживачів на певні послуг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являти свого споживача і впливати на  процес прийняття їм рішення про покупку певних послуг, використовуючи широку гаму професійних методів управління поведінкою споживачі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ляти та обґрунтовувати моделі поведінки споживачів, заходів впливу на їх поведінку та оцінку ефективності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23640" y="188640"/>
            <a:ext cx="8135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ПОНЯТТЯ ДИСЦИПЛІ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суті та моделі поведінки споживачі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ічні підходи до аналізу поведінки споживачі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оволення потреб споживача – головний орієнтир діяльності господарюючих суб’єкті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, що впливають на процес прийняття рішення споживачем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дослідження поведінки споживачі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лософія зовнішнього і внутрішнього маркетинг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, як процес, що поєднує споживача і маркетолог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яційний обмін – основа маркетингових відноси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 справедливості і обмі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обміну в поведінці індивідуальних і промислових споживачі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маркетингу і поведінка споживачів на ринку послуг гостинності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9-03-04T01:52:33Z</cp:lastPrinted>
  <dcterms:modified xsi:type="dcterms:W3CDTF">2019-11-11T08:02:16Z</dcterms:modified>
  <cp:revision>37</cp:revision>
  <dc:subject/>
  <dc:title>PowerPoint Presentation</dc:title>
</cp:coreProperties>
</file>