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2896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2896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1735-7FBF-4CDF-ADD1-F4CA1C268B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6B01-6B3D-4800-8892-903E3EDFED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C9A-1642-4C8E-AAE4-B79135DF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979-B411-4642-87A3-5004C16C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291-9188-44CE-87F4-0DE699C0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823-A55B-4F20-B2B8-1240955E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198F-1FE6-4105-89CA-0F8176CC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FC7F-AC98-4124-B310-C3CC8DA3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FD16-B068-48FB-B811-38F6EB2E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6C8C-E2C4-4632-AFB5-145349EC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700C-BCE9-4F3D-8DE5-C86934F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A1C4-560A-4624-9B12-47753C6D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B27C-C007-4FAE-948B-ED5F60CB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AC5-94F2-4479-B2C9-813F7736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080E-AFCA-4510-AB08-D56802BE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367C-9C38-48E7-A241-AC66E81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92AE-AA22-4F94-A3EF-9004F64E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B9D6-E297-4167-9765-03F3D35B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D1E3-5B42-420E-B9F7-7D3A24EC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A50D8-2C95-4542-A14F-B05E24EA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52193-5F70-4C2C-83B8-74D3499D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48F3E-77E6-4B61-9818-585D3956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0AEA7-B529-47A5-90B2-CFA4ACB5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A0862-9733-4B09-88AA-17FBC59C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3FC-3B4F-4550-A80E-875D82D7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BC21F-7299-4386-A931-B8D109B6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BA47C-F63E-4AEB-AECE-97C2528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254F3-5710-44C6-BFD2-BFA9F167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CD500-4F25-4FAD-A89B-39CCCEF2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A40F6-8044-4161-947F-4773411E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6C068-9CEE-4135-BDB0-243ABA12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16811-93C5-4B94-AAC1-0399A9C0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BC6D-7010-4FD2-8921-15733A55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5E961-DCB7-41EF-ABE0-B757F164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4F73-EF7E-408B-9B02-57C0ADF9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C9B-30B1-434F-B1D6-1F163CC0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19B2-04E8-4131-9454-C81E2ADF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8D60-C227-4B6E-A643-A004D3DB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E61C-4835-4DD7-AA1C-19AD79B8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BE00-065D-4FB9-87D7-189EA2DF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BF76-874F-40BE-A387-CC31742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61096-A399-4C55-83F8-F4D30DCB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4F15-56F8-4745-8A6D-D5D7A74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1BC9-56C5-486B-AE8D-BB308590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5BF8-4507-470B-BFB7-4A9C32C9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5279F-2638-45C4-AC94-39357705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6A8-9E54-4034-B363-E63E2D97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B3741-6C21-474A-8E2B-0CFA9ECC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00F8E-1752-4184-918A-AE0C197E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AEB18-E0CF-4EDD-BCB6-5CF98ECE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B02B7-E1C9-4D8B-8B25-F6E6B780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11943-EAD7-4B60-9C7C-E54D39F0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F3693-81DF-43CD-B0F7-6F688ADE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1EE3B-D8FA-44A9-B9B1-6257F428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1F3F0-6AB7-45D1-A733-0B1467D0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36DE2-08CB-4962-A166-B1EB643E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2705E-17E7-4834-92D0-99D6414C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476-7C88-433E-A4FB-F13D1F94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DA4F0-2FB6-4155-84AB-BBEDEBBB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CE61A-2755-4C67-A14C-1D1F8839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87AAE-0D09-4A58-9931-6CECF6C2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20189-01EA-469D-8B4D-D7FCADB4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640DE-A620-4F18-B240-15D830F8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36518-0548-49C9-BC47-0A2EE33B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C17A2-7222-430E-A6BB-79FADAE2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DA7AA-6E72-4EE6-9C5B-53580A6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B8023-1D16-4849-BF36-FB5B00F6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B2157-1903-4E48-9784-E98B6D8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3F8-0705-4649-B4BB-9AE6693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9F72A-4C8C-4E13-8339-A4D49F12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BA4DB-BF3F-44FE-A16E-4CEDC13E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8D990-4506-42B8-886B-7F7A5180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2B6BE-19B9-487E-90B4-7A9DCB2C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B15F1-1702-4D4F-9B50-BBE1DA2D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6AEB3-5D19-4F3B-92B3-CC9192A6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B0457-E79D-467A-8DDB-CF7CAF25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22B7E-5716-42DE-A1DF-7F798FCE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AAF4A-9803-4626-BB63-302B1291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0773B-3D7D-41A4-BC4B-6DCFD355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681-3C1B-494A-8809-363DC7C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B5B58-7852-42BC-817F-79AC07B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CBD15-5E85-4EDF-9550-D2EDC9A2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631C9-AC56-468D-83B7-FF36C9E7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7E9B0-7F9D-441C-A2A8-51788A6E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0F318-E6AF-45A5-81E1-10C71189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9C5-E0FA-49E3-B9F0-A068804B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ECE4-FDEB-4ABE-AC4C-57D8466364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4B29-5A59-423C-9355-C3C8A5E451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22A9-7B0E-4928-BFFC-6C95F984DB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3B0E-C05A-43A9-9520-0763D67C9E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F25E-5E06-40EA-B2D0-013550CE5A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E609-C977-4B58-81CD-1B3D6FC6F2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A505-5230-4646-8D9D-9ED63DB0CB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Times New Roman"/>
                <a:ea typeface="Calibri"/>
              </a:rPr>
              <a:t>ТЕМА 1. РОЛЬ МЕРЧАНДАЙЗИНГУ В ТОРГОВЕЛЬНІЙ ДІЯЛЬНОСТІ ПІДПРИЄМСТВА</a:t>
            </a:r>
            <a:br>
              <a:rPr sz="32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4491000" y="335772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4491000" y="3357720"/>
            <a:ext cx="16200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ходів мерчандайзингу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ідносять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Забезпечення оптимального розподілу та експлуатації загальної, допоміжної торгової, складської площі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Формування товарного асортименту, згідно з попитом, викладка та демонстрація товару і його споживчих властивос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Гнучка політика цін і забезпечення високої рентабельності за рахунок задоволення попиту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виток активних форм продажу товарів (особистий продаж, продаж за каталогами, телемаркетинг, телевізійний маркетинг, продаж поштою, продаж через комп’ютерні мережі комерційні та Internet)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Використання упаковки як “мовчазного продавця”, маркування товарів для надання покупцям вичерпної інформації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Внутрішньомагазинна реклам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Поширення додаткових послуг торговельними підприємствам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8. Стимулювання попиту покупців за допомогою різних засобів, методі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Times New Roman"/>
                <a:ea typeface="Calibri"/>
              </a:rPr>
              <a:t>1. МЕРЧАНДАЙЗИНГ: СУТНІСТЬ ТА ЗАХОДИ ЙОГО ЗДІЙСНЕНН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Times New Roman"/>
                <a:ea typeface="Calibri"/>
              </a:rPr>
              <a:t>2. ЦІЛІ МЕРЧАНДАЙЗИНГУ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Times New Roman"/>
                <a:ea typeface="Calibri"/>
              </a:rPr>
              <a:t>3. ЗАВДАННЯ МЕРЧАНДАЙЗИНГУ</a:t>
            </a:r>
            <a:br>
              <a:rPr sz="4000"/>
            </a:br>
            <a:r>
              <a:rPr b="1" lang="uk-UA" sz="4000" spc="-1" strike="noStrike">
                <a:solidFill>
                  <a:srgbClr val="575f6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549000"/>
            <a:ext cx="746748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 - одне із найбільш неоднозначних понять у теорії маркетинг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ктично саме поняття «мерчандайзинг» походить від англ. 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erchandising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", що означає мистецтво торгувати. Досвід передових компаній переконує, що сутність мерчандайзингу - в кращому представленні (презентації) товарів у торговельному підприємстві. В загальному розумінні мерчандайзинг - це розміщення і оформлення продукту в роздрібній торговельній точці, яка впливає на вибір споживача на користь саме даного продук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альніше мерчандайзинг можна розглядати з точки зору маркетингових технологій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1.</a:t>
            </a:r>
            <a:r>
              <a:rPr b="0" lang="uk-UA" sz="6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я торгово-технологічного процесу і управління цим процесом за допомогою оптимального планування торгової зали, розміщення торгово-технологічного обладнання і позиціонування товарів на основі психологічних особливостей покупців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2.</a:t>
            </a:r>
            <a:r>
              <a:rPr b="0" lang="uk-UA" sz="6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ологія просування окремих товарів,  при якій один товар стимулює продаж інших товарів без додаткових інвестицій, тоді як більшість інших способів приваблення уваги потребують значних затрат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uk-UA" sz="6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організації торгово-технологічного процесу в магазині, при якому роль і значення продавців знижується, а покупців і самих товарів - збільшується за рахунок наукового управління природної системи людини, правильного розміщення товарів у торговій залі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4.</a:t>
            </a:r>
            <a:r>
              <a:rPr b="0" lang="uk-UA" sz="6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стимулювання продажу, заснований на збалансованому розподіленні ресурсів у торговій залі та створення атмосфери магазин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6840" y="404280"/>
            <a:ext cx="793116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здійснення цілого комплексу заходів для просування товару через торгові точки, мистецтво розміщення товарів на полицях магазинів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- це подання товарів у пункті продажу, організації його внутрішнього простору і зовнішнього оформлення, оптимального світлового і колірного дозволу, зручність підходу або під'їзду до нього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напрям маркетингу, що сприяє стимулюванню роздрібного продажу за допомогою залучення уваги кінцевих покупців до певних марок або групам товарів у місцях продажу без активної участі спеціального персоналу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комплекс заходів, вироблених в торговому залі і спрямований на просування того чи іншого товару, марки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620280"/>
            <a:ext cx="778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и мерчандайзингу полягають у тому, щ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ше 20-30 % покупок плануються покупцям заздалегідь, інші відбуваються спонтанн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укція повинна займати не менше як 30 см. довжини полиці (з урахуванням того, що швидкість просування покупця по магазину – 1 м за секунду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ину магазину покупець проходить не помічаючи продукції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міщення товарів з рівня пояса покупця на рівень грудей підвищує продаж на 34 %, а з рівня пояса на рівень очей – на 78 %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50920" y="260280"/>
          <a:ext cx="8569080" cy="6589800"/>
        </p:xfrm>
        <a:graphic>
          <a:graphicData uri="http://schemas.openxmlformats.org/drawingml/2006/table">
            <a:tbl>
              <a:tblPr/>
              <a:tblGrid>
                <a:gridCol w="2592360"/>
                <a:gridCol w="5976720"/>
              </a:tblGrid>
              <a:tr h="50796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ілі мерчандайзинг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 та рівень зацікавленості у мерчандайзингу роздрібного торговельного підприєм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Стимулювання торговельної підтримки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збільшенні загального прибутку магазину та показників обертання, збільшенні інтенсивності потоків покупц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Забезпечення товарних запасів роздрібного торговельного підприєм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оптимізації асортименту з точки зору використання технологій мерчандайзинг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24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Підвищення привабливості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досягненні високого рівня привабливості асортименту товарів та торговельних послуг для відвідувачів магазин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Просування нових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вдосконаленні структури свого торгового асортимент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Формування прихильності покупців до окремих мар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формуванні прихильності до магазин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Розширення ринку збуту, завоювання нових покупц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завоюванні нових покупців та збільшенні частки постійних відвідувачів, підвищенні їх лояльност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60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Вплив на рішення покупців на користь конкретних мар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впливі на покупців, що стимулює купівлю більшої кількості товарів у своєму торговельному підприємств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 Визначення цінової стратег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гнучкій ціновій політиці, що забезпечує просування свого асортименту товарів та послуг і одержання прибут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 Просування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постійному удосконаленні політики просування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 Формування імідж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формуванні іміджу свого підприєм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68360" y="260280"/>
          <a:ext cx="8064360" cy="6215040"/>
        </p:xfrm>
        <a:graphic>
          <a:graphicData uri="http://schemas.openxmlformats.org/drawingml/2006/table">
            <a:tbl>
              <a:tblPr/>
              <a:tblGrid>
                <a:gridCol w="1528560"/>
                <a:gridCol w="6535800"/>
              </a:tblGrid>
              <a:tr h="642960"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адові маркетингової полі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і мерчандайзин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4600"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а полі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Орієнтація асортименту на упровадження технологій мерчандайзингу і його адаптація до потреб покупців; 2. Вибір методів подання, розміщення і викладення товарів у торговому залі магазину, що підвищують сприйняття товарів відвідувачами. 3. Надання інформації про споживчі властивості і використовування товару. 4. Підтримка товарного запасу, що не тільки забезпечує безперебійну пропозицію прибуткових товарів, але і достатнього для виконання окремими товарами своїх функцій відповідно до їх статусу і ролі в технологіях мерчандайзинг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0360"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інова полі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Забезпечення представлення товарів відповідно до їх цінової орієнтації і з урахуванням психологічних чинників сприйняття ціни відвідувачами торгового залу. 2. Участь всіх суб'єктів маркетингу у формуванні цін на товари, розробка інструментів цінового стимулювання у межах інтегрованих кампаній з мерчандайзингу. 3. Встановлення ціни відповідно до статусу і ролі товару (марки) у технологіях мерчандайзинг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040"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бутова полі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Розробка плану магазину, розташування відділів залежно від статусу товарної групи і її ролі в мерчандайзинговому процесі і поведінки відвідувачів у торговому залі. 2. Подання різних груп, видів і марок товарів з метою створення максимальної привабливості для цільового сегменту покупців з урахуванням чинників візуального мерчандайзингу, типу і спеціалізації магазину. 3. Створення атмосфери магазину, що формує позитивні емоції і активізує діяльність покупців. 4. Використовування рекламних засобів на місці продаж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унікаційна полі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Розміщення рекламних матеріалів безпосередньо на місці, де споживач здійснює оцінку варіантів і вибір товару. 2. Навчання і підготовка торгового персоналу технологіям мерчандайзингу. 3. Проведення спільних акцій виробників, оптових і роздрібних торговців по просуванню товару на ринку, які орієнтовані на впровадження технологій мерчандайзинг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0" y="189000"/>
            <a:ext cx="8820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 сприяє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збільшенню роздрібного товарообороту, особливо товарів імпульсивного і пасивного попиту, що мають високу привабливість з точки зору прибутку і користуються підтримкою з боку самих виробників марок товар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вдосконаленню торгово-технологічних процесів і застосуванню прогресивних методів продажу товарів і обслуговування покупців за допомогою залучення постачальників товарів з високим рівнем підготовленості до продажу за сучасними технологіям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скороченню витрат, пов'язаних з інформаційною діяльністю, зокрема з рекламою і консультуванням покупців при виборі товар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регулюванню потоків покупців за допомогою раціонального розміщення обладнання і забезпечення привабливості товарів для відвідувач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ефективній експлуатації торгових площ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6) формуванню сприятливого клімату для постачальників високоякісних товарів з привабливими для роздрібного торгового підприємства цінами і такими, що відповідають перевагам покупц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забезпеченню доступності товарів для покупців без участі продавців-консультантів у процесі їх вибору і подальшій експлуатації або споживанні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8) створенню іміджу підприємства, що застосовує зручні для покупця прийоми продажу товар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перерозподілу ресурсів на користь додаткових послуг, які стимулюють відвідання магазину потенційними покупцям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створенню у відвідувачів відчуття, що вони є не пасивними, а повноправними учасниками процесу купівлі-продажу, який приносить їм задоволення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) можливості виявлення марок товарів, недостатньо підтримуваних виробниками і маловідомих, але високої якості, з привабливою ціною і перспективних з погляду визнання покупцями. Вдале розміщення таких товарів дозволяє істотно скоротити час, що витрачається покупцем на усвідомлення переваг цих товарів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9-03-04T01:52:33Z</cp:lastPrinted>
  <dcterms:modified xsi:type="dcterms:W3CDTF">2019-03-04T02:31:10Z</dcterms:modified>
  <cp:revision>27</cp:revision>
  <dc:subject/>
  <dc:title>PowerPoint Presentation</dc:title>
</cp:coreProperties>
</file>