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A8F-6186-4590-8617-7C8E13251B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A00-C7F7-4FF5-9CFA-A94BD644C8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3F8-D15C-441D-8380-94DFD938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236-B3B7-43DC-97CA-133862B7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896-66F5-4D03-B612-9F4C72DF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AB6-C3D5-441C-B3F4-976E9D72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89F-03BA-47AC-88BB-6479FD2E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D6C1-FA05-477C-8426-5578E89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FAF6-5395-4321-9DD9-7B11123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0A23-E83B-4D57-916F-12E7BAD4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9E51-9640-40F1-94A4-1FB2E28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5A08-B4D2-4ADA-8221-B7C6523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EC84-E700-43BB-BDA9-04EBAA7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727-7248-40E9-8AE0-B197A957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D8A6-80B7-45EA-9EAF-5870B6C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3311-E497-4B27-B8A3-2E0B3F3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61A-36CA-4259-94DA-ACA6194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72FD-8E2D-46FB-BD40-CCD5310C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59D4-F1E9-47D2-80A7-C575C757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ECE49-2355-494B-8782-F4F9E0BA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82533-505F-4E69-BC72-B15741BA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A2E18-C7DB-40DD-AC72-69CDAF4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10197-0A67-46DE-8AAD-28E5029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D14B9-FD80-4AF7-8FEC-DBABF9E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F1D-2724-40C7-ACF1-1585B14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B416B-9330-4B02-BC1B-E78BD234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E930A-9CBC-4AEA-A40D-5AB815D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0A613-DF6C-4DD1-8B68-A3E51CA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DFCCE-1AF2-45DE-95E3-9BE6D24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AFC8E-D8AC-401C-88CB-23873D13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F0A2D-407A-4CA0-814C-EED3CFA3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DC82F-D18F-4508-ADA2-17391CDD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FBA8-FEB0-491A-A25D-8A6416D6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38E04-F2E8-44A2-9795-3E1BCBB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1424-7949-4A67-B2C7-D464FD4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E98-A211-471D-A610-74694EF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23BF-2675-4241-8504-E09FE08D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06A1-1494-4E44-962A-3DEAD62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368B-ABE0-470B-9E85-B957A9A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7872-3024-4439-A3F2-359E6E8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A1F9-733E-4D9D-A9D7-F2C7400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582D-7C91-45F0-B7EE-D77AA43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D763-98B1-470F-84C3-609CF17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BF53-E1E1-42AB-B9AB-AC69DA8E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4C07-388B-42E7-B226-5C4E7026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F778D-9BEF-47F2-B14B-69D47291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33C-6F8C-4EC0-A309-7059FB1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BAFFC-E3E9-459C-A40D-640439F7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973DD-37BF-4CF1-B9AB-263D4CA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83B52-C971-49D5-99F5-C063A12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F8235-9ACA-42AB-9149-6A776C1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48696-7571-4DF0-9438-827784D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1FBA0-CD2C-430A-8464-B453EBF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45BA8-3BC4-49B3-9673-620A836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34FAE-97F6-45F8-8149-E70A7D8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556F5-34AC-425E-87F3-0820554D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60E04-9F2F-4387-BCC4-56DAB8AF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AF4-2307-4C98-B495-3686AAF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BDC8B-CCD0-434D-B462-72784C9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1E62C-6A91-46BB-8D5D-B4AE46BC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7ADD8-6449-4472-98EA-D796392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BD6AE-C945-4789-AE65-F623E30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0B597-9843-4507-B4E5-5D56D1C5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3D38B-CE6E-4E47-80A6-1864712B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D83EB-404E-421C-A877-1DB0405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DF98D-0E3A-4158-A068-795538A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912B6-4B23-4624-A344-8F758AD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968BC-6989-4264-8219-17E20AF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22B-B25B-4B90-ADAA-50386D6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D5E9F-4BF4-474F-9C7A-BEEAA0F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77DCD-8589-46D9-A437-9F1592AE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FC58F-CA79-40A2-ADEE-37E5CF66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B6195-5421-416C-B1B4-02C0240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4D8BA-051A-46AD-AD8A-979FEC2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37398-009F-4817-9BFC-FB0CA7A6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DC38F-61CB-4F0D-A332-E3A5799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79FFD-2402-4EE1-9A8F-DF844817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E7077-4447-48ED-9D64-FBCF566F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FD13E-1D32-4C03-9231-A2AEEC7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8A7-90A6-4C97-939B-55AC024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60807-ED89-418A-BD9F-A275D73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33747-BC67-4FCA-983B-FF8FCBF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C5660-2278-4AE3-A3B0-64183BA4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1BA0F-6BA4-41EC-84BF-D82483B6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48C41-A95B-4FF4-B0E0-1590C10E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FFD-8FFE-48F5-8287-C5A63CF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42D-4336-40B8-92F3-7206AD46E1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593-C2A1-4CED-BFE6-BC146E7FF1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791F-4406-492D-838B-75DD6925B8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622-0592-4660-B3F0-6EB1857199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145-2296-4E72-97A0-AD79647E52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C7A8-A181-4E04-A258-5633E6748A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8A5-B180-4BDE-BF92-B1D94E5F9D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ТЕМА 1. РОЛЬ МЕРЧАНДАЙЗИНГУ В ТОРГОВЕЛЬНІЙ ДІЯЛЬНОСТІ ПІДПРИЄМСТВА</a:t>
            </a:r>
            <a:br>
              <a:rPr sz="32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дів мерчандайзингу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ідносять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Забезпечення оптимального розподілу та експлуатації загальної, допоміжної торгової, складської площі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Формування товарного асортименту, згідно з попитом, викладка та демонстрація товару і його споживчих властивос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нучка політика цін і забезпечення високої рентабельності за рахунок задоволення попиту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виток активних форм продажу товарів (особистий продаж, продаж за каталогами, телемаркетинг, телевізійний маркетинг, продаж поштою, продаж через комп’ютерні мережі комерційні та Internet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икористання упаковки як “мовчазного продавця”, маркування товарів для надання покупцям вичерпної інформації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Внутрішньомагазинна реклам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оширення додаткових послуг торговельними підприємствам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тимулювання попиту покупців за допомогою різних засобів, методі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1. МЕРЧАНДАЙЗИНГ: СУТНІСТЬ ТА ЗАХОДИ ЙОГО ЗДІЙСНЕНН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2. ЦІЛІ МЕРЧАНДАЙЗИНГУ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75f6d"/>
                </a:solidFill>
                <a:latin typeface="Times New Roman"/>
                <a:ea typeface="Calibri"/>
              </a:rPr>
              <a:t>3. ЗАВДАННЯ МЕРЧАНДАЙЗИНГУ</a:t>
            </a:r>
            <a:br>
              <a:rPr sz="4000"/>
            </a:br>
            <a:r>
              <a:rPr b="1" lang="uk-UA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- одне із найбільш неоднозначних понять у теорії маркетинг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тично саме поняття «мерчандайзинг» походить від англ. 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rchandising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", що означає мистецтво торгувати. Досвід передових компаній переконує, що сутність мерчандайзингу - в кращому представленні (презентації) товарів у торговельному підприємстві. В загальному розумінні мерчандайзинг - це розміщення і оформлення продукту в роздрібній торговельній точці, яка впливає на вибір споживача на користь саме даного продук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альніше мерчандайзинг можна розглядати з точки зору маркетингових технологій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1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я торгово-технологічного процесу і управління цим процесом за допомогою оптимального планування торгової зали, розміщення торгово-технологічного обладнання і позиціонування товарів на основі психологічних особливостей покупців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ія просування окремих товарів,  при якій один товар стимулює продаж інших товарів без додаткових інвестицій, тоді як більшість інших способів приваблення уваги потребують значних затрат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організації торгово-технологічного процесу в магазині, при якому роль і значення продавців знижується, а покупців і самих товарів - збільшується за рахунок наукового управління природної системи людини, правильного розміщення товарів у торговій залі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0" lang="uk-UA" sz="6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            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стимулювання продажу, заснований на збалансованому розподіленні ресурсів у торговій залі та створення атмосфери магазин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404280"/>
            <a:ext cx="793116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здійснення цілого комплексу заходів для просування товару через торгові точки, мистецтво розміщення товарів на полицях магазинів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е подання товарів у пункті продажу, організації його внутрішнього простору і зовнішнього оформлення, оптимального світлового і колірного дозволу, зручність підходу або під'їзду до нього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напрям маркетингу, що сприяє стимулюванню роздрібного продажу за допомогою залучення уваги кінцевих покупців до певних марок або групам товарів у місцях продажу без активної участі спеціального персоналу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комплекс заходів, вироблених в торговому залі і спрямований на просування того чи іншого товару, марки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620280"/>
            <a:ext cx="778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и мерчандайзингу полягають у тому, щ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е 20-30 % покупок плануються покупцям заздалегідь, інші відбуваються спонтан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ція повинна займати не менше як 30 см. довжини полиці (з урахуванням того, що швидкість просування покупця по магазину – 1 м за секунду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ну магазину покупець проходить не помічаючи продукції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міщення товарів з рівня пояса покупця на рівень грудей підвищує продаж на 34 %, а з рівня пояса на рівень очей – на 78 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4492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50920" y="260280"/>
          <a:ext cx="8569080" cy="6589800"/>
        </p:xfrm>
        <a:graphic>
          <a:graphicData uri="http://schemas.openxmlformats.org/drawingml/2006/table">
            <a:tbl>
              <a:tblPr/>
              <a:tblGrid>
                <a:gridCol w="2592360"/>
                <a:gridCol w="5976720"/>
              </a:tblGrid>
              <a:tr h="5079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ілі мерчандайзин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та рівень зацікавленості у мерчандайзингу роздрібного торговельн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Стимулювання торговельної підтримки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збільшенні загального прибутку магазину та показників обертання, збільшенні інтенсивності потоків покупц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Забезпечення товарних запасів роздрібного торговельн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оптимізації асортименту з точки зору використання технологій мерчандайзин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24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Підвищення привабливості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досягненні високого рівня привабливості асортименту товарів та торговельних послуг для відвідувачів магазин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Просування нових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вдосконаленні структури свого торгового асортимен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Формування прихильності покупців до окремих мар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формуванні прихильності до магазин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Розширення ринку збуту, завоювання нових покупц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завоюванні нових покупців та збільшенні частки постійних відвідувачів, підвищенні їх лояльност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6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Вплив на рішення покупців на користь конкретних мар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впливі на покупців, що стимулює купівлю більшої кількості товарів у своєму торговельному підприємств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Визначення цінової стратег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гнучкій ціновій політиці, що забезпечує просування свого асортименту товарів та послуг і одержання прибут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Просування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постійному удосконаленні політики просування товарі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 Формування імідж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цікавлено у формуванні іміджу свого підприєм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68360" y="260280"/>
          <a:ext cx="8064360" cy="6215040"/>
        </p:xfrm>
        <a:graphic>
          <a:graphicData uri="http://schemas.openxmlformats.org/drawingml/2006/table">
            <a:tbl>
              <a:tblPr/>
              <a:tblGrid>
                <a:gridCol w="1528560"/>
                <a:gridCol w="6535800"/>
              </a:tblGrid>
              <a:tr h="64296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ові маркетингової полі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і мерчандайз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460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Орієнтація асортименту на упровадження технологій мерчандайзингу і його адаптація до потреб покупців; 2. Вибір методів подання, розміщення і викладення товарів у торговому залі магазину, що підвищують сприйняття товарів відвідувачами. 3. Надання інформації про споживчі властивості і використовування товару. 4. Підтримка товарного запасу, що не тільки забезпечує безперебійну пропозицію прибуткових товарів, але і достатнього для виконання окремими товарами своїх функцій відповідно до їх статусу і ролі в технологіях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036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інов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Забезпечення представлення товарів відповідно до їх цінової орієнтації і з урахуванням психологічних чинників сприйняття ціни відвідувачами торгового залу. 2. Участь всіх суб'єктів маркетингу у формуванні цін на товари, розробка інструментів цінового стимулювання у межах інтегрованих кампаній з мерчандайзингу. 3. Встановлення ціни відповідно до статусу і ролі товару (марки) у технологіях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04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бутов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Розробка плану магазину, розташування відділів залежно від статусу товарної групи і її ролі в мерчандайзинговому процесі і поведінки відвідувачів у торговому залі. 2. Подання різних груп, видів і марок товарів з метою створення максимальної привабливості для цільового сегменту покупців з урахуванням чинників візуального мерчандайзингу, типу і спеціалізації магазину. 3. Створення атмосфери магазину, що формує позитивні емоції і активізує діяльність покупців. 4. Використовування рекламних засобів на місці продаж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унікаційна полі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Розміщення рекламних матеріалів безпосередньо на місці, де споживач здійснює оцінку варіантів і вибір товару. 2. Навчання і підготовка торгового персоналу технологіям мерчандайзингу. 3. Проведення спільних акцій виробників, оптових і роздрібних торговців по просуванню товару на ринку, які орієнтовані на впровадження технологій мерчандайзинг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189000"/>
            <a:ext cx="8820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чандайзинг сприяє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збільшенню роздрібного товарообороту, особливо товарів імпульсивного і пасивного попиту, що мають високу привабливість з точки зору прибутку і користуються підтримкою з боку самих виробників марок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вдосконаленню торгово-технологічних процесів і застосуванню прогресивних методів продажу товарів і обслуговування покупців за допомогою залучення постачальників товарів з високим рівнем підготовленості до продажу за сучасними технологі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скороченню витрат, пов'язаних з інформаційною діяльністю, зокрема з рекламою і консультуванням покупців при виборі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регулюванню потоків покупців за допомогою раціонального розміщення обладнання і забезпечення привабливості товарів для відвідувач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ефективній експлуатації торгових площ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формуванню сприятливого клімату для постачальників високоякісних товарів з привабливими для роздрібного торгового підприємства цінами і такими, що відповідають перевагам покупц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забезпеченню доступності товарів для покупців без участі продавців-консультантів у процесі їх вибору і подальшій експлуатації або споживанні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8) створенню іміджу підприємства, що застосовує зручні для покупця прийоми продажу товарів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перерозподілу ресурсів на користь додаткових послуг, які стимулюють відвідання магазину потенційними покупцями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створенню у відвідувачів відчуття, що вони є не пасивними, а повноправними учасниками процесу купівлі-продажу, який приносить їм задоволення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1) можливості виявлення марок товарів, недостатньо підтримуваних виробниками і маловідомих, але високої якості, з привабливою ціною і перспективних з погляду визнання покупцями. Вдале розміщення таких товарів дозволяє істотно скоротити час, що витрачається покупцем на усвідомлення переваг цих товарі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9-03-04T01:52:33Z</cp:lastPrinted>
  <dcterms:modified xsi:type="dcterms:W3CDTF">2019-03-04T02:31:10Z</dcterms:modified>
  <cp:revision>27</cp:revision>
  <dc:subject/>
  <dc:title>PowerPoint Presentation</dc:title>
</cp:coreProperties>
</file>