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76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4"/>
          </p:nvPr>
        </p:nvSpPr>
        <p:spPr>
          <a:xfrm>
            <a:off x="3828960" y="-36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912600" y="739440"/>
            <a:ext cx="49338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5"/>
          </p:nvPr>
        </p:nvSpPr>
        <p:spPr>
          <a:xfrm>
            <a:off x="0" y="937224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6"/>
          </p:nvPr>
        </p:nvSpPr>
        <p:spPr>
          <a:xfrm>
            <a:off x="3828960" y="937224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D5DC-6167-4D03-9F77-951C74F0E5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Номер слайда 3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A8B1-FC25-4551-8393-731866947F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895-1DC8-4C79-B790-E11EF42A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84C-146B-4DF7-95BD-1FD3B0D7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2DE62-422C-4F7D-8FE0-DD70DF88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AA199-4BD3-4142-BA05-101A9E01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ECF28-6F7D-4BED-981C-1D86152B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658A1-61A2-454B-8DE5-ED99CFCE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FDC38-EB66-40CD-A61D-6101E156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E627C-B520-4C77-B61D-24789EC7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8FB6E-07BC-4D11-B3D3-3457B12A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E2395-4F1F-4916-94DF-6DAA48B0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6269C-1C03-4F25-8E1C-F8A96AF2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26F29-450C-4E94-9315-1EF8645D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F6FB-D741-4611-9704-A6FF3AF6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CF9EF-7073-4825-B3BE-5C30AAA9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95888-E624-4FB2-A98D-8BB7DE02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B8A9B-442B-44C9-89EE-3BBB9A0B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0F894-8561-49E6-8585-93AA3AF7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77742-E852-4A89-B22F-8428A139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C6703-4710-4B48-AC78-6E13E4C9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C41C9-CE07-4E60-B2F0-6DEF1F0C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29868-6AEC-4E0D-85F4-1721D180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D3A16-4220-40EA-A8EB-3FC664BA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8D0F6-CB6F-47DD-906C-E76D48B5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37C-9A0A-47B3-837A-8F868262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5CDAB-26A7-44E9-9070-BAF3454D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755A9-54F3-4D96-B773-22E87AD0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49EB0-2E84-4236-8247-DC4DD037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15317-9346-4EC7-82A0-5A255EFA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675C7-3F76-4381-87F6-96E8597E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5B7FC-54CD-4097-B275-3ADF7B04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33937-5FB0-41AF-A249-89B31A08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4E8FE-C59D-4132-B43C-F69E7E3D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DC986-5822-4B3C-9F9F-6E7695E5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E21CD-40E5-4622-AE27-D063A9FF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BB0F-6DB5-4AFD-979F-2566AE2C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916C0-04F1-40FC-ADE8-30F345A6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66A8A-E359-4C0F-9E51-A746419E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8B92F-E29C-4871-B82F-C9394701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E79A-FCEC-4C1D-BACC-DA60A90C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74F7-E73D-4385-93CC-556B653C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29FD-E9E4-4964-B8A2-3F97B805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B8CB-C0F5-4924-8F06-0C5010C1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DDF2-4E24-48FD-A189-466DD047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7385-CD47-4A6F-B8E6-3D411976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4ADE-8FD6-4856-9BAD-75C8F8C5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1090-D417-41B0-BF21-8E9EC29F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DE40-364F-4A02-ADCD-380BCF3C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EF52-8AA4-4BA3-B703-10CF3FE1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4789-93D2-4601-BB2F-92723DE9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A0BE-A0F9-4167-88D9-07A7F0AC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50914-D389-493F-8F5B-6909EFF6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327E5-30E5-4C8B-841A-FB27B644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00FC9-0A5A-4258-91FD-8D7FD31B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8FA6D-E843-4353-B9D4-3CA9A843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430E2-7EE2-461F-AC43-A286E394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95C-ED33-43B6-A806-3819F2DE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62E39-A167-4B09-A9A4-F2B6140F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0843A-FB96-4070-A38A-EACB70F7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8C652-619A-42F7-8662-30525353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ED6DA-6535-4810-9C38-663A95F5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5EA72-235E-430A-B3BE-1692DEFD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A711E-100A-43BA-9A47-800DF668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E04FC-661E-4DA9-9CDF-99216865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F081D-7FA1-46E5-90AB-70980065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EE512-F466-4CFB-AE9A-6A08C0AA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5A23F-E05B-45C6-ADC6-116F51DD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0F50-1A16-4555-8453-F2637169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2C87C-C677-4613-BB21-3A52E298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6961D-6822-45A0-A79C-E92A0025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B16DB-F294-4EA8-B9AA-17F9FAF7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72BAA-F7AE-4C3A-BCEA-A0A7A7D2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32CD8-DE48-4D07-9748-94F9811C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8EA9C-5C20-49F8-B38E-FD95BEAE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FD770-5D6F-4F2A-82B8-CDC23921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DEB29-5D74-4E16-B73B-665F764D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6242A-9683-4A34-8E59-A67E199B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FAA2C-FDF7-4A02-8401-6CACCF55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8729-AACB-4CA2-951A-9646947E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E9747-AF10-439F-BB35-2287C8EE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91D71-E466-499D-841A-71C20DA2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068C1-5D11-482B-9E52-656C5BF7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CA33A-CA80-40CF-9F52-91183762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D4224-6FF2-4BCD-B010-3A4D37B9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35E4E-5852-453A-BF42-11649997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F4A55-8C23-405F-87E1-2213A308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ACB6A-DB86-45C7-8048-4B28A808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A3C43-8405-4F57-A30C-03AC666B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112CF-F9CD-4CA6-A79B-93EE74CE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08C5-EA8B-4D8A-8531-636FD724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D11EF-1706-4AEF-AA7B-AD1EA400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EE186-5BE6-45BF-B739-94414B78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CF1C9-AE4F-4CBE-AE5A-B2572FF7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ECDC7-05DB-4B3F-A4F0-6AC371F4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28863-354A-4E63-810D-6B2E67C3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EC269-A4DB-4BDC-99AD-4E53A5CD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144A6-3182-48A2-8A90-1DB7256E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9E2C4-BBAB-4C61-944A-C92BF4F7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FAA01-AB61-4EEB-BA0B-1E1D7BB9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10D4C-2CE5-4EF9-B59D-BE9ADECA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9AC-C0A8-40EE-A6EB-011EF075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DCB51-EBA6-491C-9439-073F6888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2DF56-5A20-4760-B7BF-8BB4F894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B2EDA-14E8-4200-B5B3-9AB33EB6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BBD12-3248-4258-AD05-FF79FFA3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FD02B-58D0-4144-9D1B-BFAAD3E3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96394-6462-4064-AB96-03650661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B4F34-887D-45F5-A802-604B00E8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08437-30A2-4107-8537-19B83C33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E01CF-47E3-4366-A3BD-ED6E6D1D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A8D23-0DB5-4BE0-A606-AF7E2610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CB90-75B7-42AB-B78F-E758E5A9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3276A-5710-458D-93A8-66C5D4E5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2DDF2-4790-453A-AD8E-E87ECAC5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E4641-41EE-4C8E-A8B5-7658F1E1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F1127-67FF-47FB-91BE-298857D2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4FA2E-F24B-4FB4-8B08-83ABE9D4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83289-69DE-4835-9425-9E533FAA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FEDDF-85D3-4E19-BE63-5CBD777F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2C8C6-4020-4210-998F-7737B18D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E6C2B-4E0C-4A11-8076-13B7D083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E55CC-34C4-4C5F-9899-7CF45E82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DFD0-878B-4647-B9EE-110E1D9E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EB6E7-9617-44C0-977F-7C9C8AFE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2026A-BE91-43C6-983D-0F33EE0C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389BE-2D9E-45B4-8786-E2CC485F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1F1CF-A1DC-4EBE-91AA-38AE1D91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16D15-6020-473E-8078-BE0A91F3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37FA9-9959-4C0B-BDB2-F3EE7A14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F520F-2369-4862-B673-4B29AB14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722A0-25E8-4E31-871F-DA6C5965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AA423-2254-4435-AF44-61ACCF6E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F4339-C751-4F48-B429-544A066F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55FD-4435-4D6C-92E8-ECA8E651620F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393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eb8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4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96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8EFB-2094-4292-9D3F-5E4A5DEEAE4A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443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eb8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4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96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7B7A-6D4F-42CA-AD47-4FD37A03A5A4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51DC-4350-4AEC-9ED5-76A432E783AE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E42D-956E-4FC8-B3B6-C18F6EBA0E97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9569-7869-4B7D-93F9-B12D145EDC6A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8639-FA86-479C-B416-66A511A9E0E5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1017-998B-459E-B4CC-DE3215FA1B77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2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eb8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4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96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27A6-928D-44F7-AFEB-F2AA620BA588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295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eb8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7b4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6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147C-4757-4AAA-B691-D3F3F52B1D6E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345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eb8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4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96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63D1-AA92-47B9-818A-51266A4103C5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40;&#1085;&#1075;&#1083;&#1110;&#1081;&#1089;&#1100;&#1082;&#1072;_&#1084;&#1086;&#1074;&#1072;" TargetMode="External"/><Relationship Id="rId2" Type="http://schemas.openxmlformats.org/officeDocument/2006/relationships/hyperlink" Target="https://uk.wikipedia.org/wiki/&#1040;&#1085;&#1075;&#1083;&#1110;&#1081;&#1089;&#1100;&#1082;&#1072;_&#1084;&#1086;&#1074;&#1072;" TargetMode="External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6859440" cy="68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  <a:ea typeface="Arial"/>
              </a:rPr>
              <a:t>ТЕМА 3: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entury Gothic"/>
              </a:rPr>
              <a:t>ПРОФЕСІЙНИЙ МЕРЧАНДАЙЗИНГ У КОМЕРЦІЙНІЙ ДІЯЛЬНОСТІ ПІДПРИЄМСТВ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00" name="Picture 4" descr=""/>
          <p:cNvPicPr/>
          <p:nvPr/>
        </p:nvPicPr>
        <p:blipFill>
          <a:blip r:embed="rId1"/>
          <a:stretch/>
        </p:blipFill>
        <p:spPr>
          <a:xfrm>
            <a:off x="4491000" y="3357720"/>
            <a:ext cx="162000" cy="1425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" descr=""/>
          <p:cNvPicPr/>
          <p:nvPr/>
        </p:nvPicPr>
        <p:blipFill>
          <a:blip r:embed="rId2"/>
          <a:stretch/>
        </p:blipFill>
        <p:spPr>
          <a:xfrm>
            <a:off x="4491000" y="3357720"/>
            <a:ext cx="162000" cy="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818640" y="188640"/>
            <a:ext cx="831708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Одна з проблем полягає у тому, що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стриб</a:t>
            </a: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’</a:t>
            </a:r>
            <a:r>
              <a:rPr b="0" i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ю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ори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звичай співрацює відразу з кількома виробниками, а серед них можуть бути й конкурент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До того ж посередники часто не зацікавлені продавати повний асортимент бренду, а торгові агенти дистрибутора, котрі працюють з відсотка від продажів, намагаються просунути тільки найбільш ходові позиції з наявного асортименту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З цих причин ефективність роботи агента дистрибутора в просуванні бренду набагато нижча порівняно з ефективністю роботи мерчандайзера самого виробник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У більшості випадків немає можливості контролювати агентів дистрибутора чи допомагати їм у просуванні товар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68000" y="41040"/>
            <a:ext cx="8675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9280" algn="just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робник самостійн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є систему мерчандайзингу на основі власного штату мерчандайзерів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ака система є привабливою для компаній, збут яких заснований на продажах через регіональні представництв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робник набирає команду регіональних торгових представників — мерчандайзерів. Це жителі певних міст, яких включають у штат головного офісу чи філії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складност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ормуванні виробником власного штату мерчандайзерів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організаційної моделі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програм мерчандайзингу і механізмів контролю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інфраструктури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бір і навчання кадрів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9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не забезпеченн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900000" y="0"/>
            <a:ext cx="82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зитивні моменти полягають у тому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що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eb3d9f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панія цілком контролює систему збуту, а мерчандайзери вирішують завдання, пов’ язані з просуванням свого бренду, управлінням продажам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eb3d9f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я організаційна модель дозволяє встановити довгострокові та особисті стосунки з торговим персоналом роздрібної торгівлі, отримувати оперативну інформацію про споживчий попит, наявність представленого асортименту продукції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eb3d9f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исельність персоналу системи мерчандайзингу може бути різною залежно від специфіки продуктів, кількості торгових марок у портфелі виробника та їх обсягів реалізації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684000" y="-100080"/>
            <a:ext cx="8459640" cy="71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9280" algn="just">
              <a:lnSpc>
                <a:spcPct val="87000"/>
              </a:lnSpc>
              <a:spcBef>
                <a:spcPts val="499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ля здійснення мерчандайзингу виробник може звернутися до професіоналі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іалізованих агентст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артість залучення виробником мерчандайзерів агентства така сама чи набагато вища порівняно з витратами на формування власної мережі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87000"/>
              </a:lnSpc>
              <a:spcBef>
                <a:spcPts val="499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 звернення до агентства полягає у тому, що компанія може охопити мерчандайзингом територію будь-якого розмір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87000"/>
              </a:lnSpc>
              <a:spcBef>
                <a:spcPts val="499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еси бренду представляє спеціальна навчена, досвідчена команда, зацікавлена в успіху проекту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87000"/>
              </a:lnSpc>
              <a:spcBef>
                <a:spcPts val="499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обник-замовник одержує гарантію на очікування позитивних реальних результатів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87000"/>
              </a:lnSpc>
              <a:spcBef>
                <a:spcPts val="499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овувати мерчандайзерів агентства виробник може як на постійній основі, цілком перекладаючи на них функції відділу продажів, так і для разових завдань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87000"/>
              </a:lnSpc>
              <a:spcBef>
                <a:spcPts val="499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хівці агентства можуть зробити презентацію продукції і розмістити рекламні матеріали у торгових точках будь-яких міст; оперативно зібрати маркетингову інформацію, необхідну для виявлення проблем, пов´язаних з торговою маркою (відмова магазинів від товару, складності з розміщенням реклами); розробити заходи щодо більш повного розповсюдження фірмового асортименту у роздрібній торгівлі; допомогти налагодити стосунки з торговельними мережа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982800" y="188640"/>
            <a:ext cx="8161200" cy="67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algn="ctr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іалізовані компанії (агентства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уть надавати такі послуги з мерчандайзингу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лідження ринку, розміщення продукції в торгових точках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я викладки товарів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ювання імпульсних покупок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новлення дисплеїв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я моніторингу збуту, стимулюючих акці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якась компанія хоче створити власний штат мерчандайзерів, то деякі агентства спроможні запропонувати курси з навчання персонал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982800" y="115920"/>
            <a:ext cx="8161200" cy="674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algn="just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З точки зору роботи мерчандайзера виділяють наступні види мерчандайзингу: ексклюзивний та сумісний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49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Ексклюзивний мерчандайзинг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– вид мерчандайзингу, що передбачає роботу мерчандайзера виключно з торговельною маркою одного виробника. Цей вид ефективний в разі великої кількості 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KU (Stock Keeping Unit) –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асортиментних позицій та оборотності асортименту. Мова йде про роботу з брендовими товарами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Сумісний (комплексний)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– вид мерчандайзингу, що передбачає роботу мерчандайзера з продукцією декількох виробників та декілька ми торговельними марками. Такий підхід значно скорочує витрат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982800" y="333000"/>
            <a:ext cx="798192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Залежно від часу перебування мерчандайзера в торговельній точці: стаціонарний та візитний (мобільний)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Стаціонарний мерчандайзинг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– вид мерчандайзингу, який передбачає роботу мерчандайзера в одній торговельній точці, як правило, в форматі Гіпермаркет та 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ash &amp; Carry,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ротягом усього робочого дня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Візитний (мобільний)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– вид мерчандайзингу, що передбачає обслуговування мерчандайзером декількох торговельних точок за день при складанні оптимального маршруту, враховуючи віддаленість торговельних точок одна від одної, обсяг роботи в кожній торговельній точці та їх формат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982800" y="115920"/>
            <a:ext cx="77040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алежно від сприйняття споживачем товару, магазину та його співробітників: візуальний та комунікаційний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Візуальний мерчандайзинг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– привернення уваги споживачів за рахунок зовнішнього оформлення та особливої атмосфери. Візуальний мерчандайзинг включає в себе: вибір місця торговельної точки; оформлення зовнішніх вивісок; оформлення вітрин магазину; внутрішня компоновка магазину; дизайн інтер’єрів приміщень; розташування виставлених товарів; упакування, маркування товарів; оформлення цінникі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982800" y="620640"/>
            <a:ext cx="7704000" cy="53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74320" indent="-274320">
              <a:spcBef>
                <a:spcPts val="700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До комунікаційного мерчандайзингу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ідносять вміння представників торговельної марки, яка продається, спілкуватися, налагоджувати контакти як з покупцями, так і з співробітниками торговельних точок. Важливим моментом в комунікаційному мерчандайзингу є прагнення до високого рівня обслуговування покупців з метою спонукання їх до повтор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ої покупки. В комунікаційному мерчандайзингу великих компаній часто використовується ПР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spcBef>
                <a:spcPts val="700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1407600" y="0"/>
            <a:ext cx="77043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алежно від форми викладення товару: довільний та перехресний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Довільний мерчандайзинг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– викладення продукції різними способами, що не передбачає спільного розміщення товарів, які доповнюють один одного. Такий підхід себе вичерпує, і на зміну йому в категорійному менеджменті з’явився перехресний мерчандайзинг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Перехресний мерчандайзинг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– викладення продукції, що передбачає спільне розміщення тих товарів, які взаємодоповнюють один одного і, найчастіше, купуються разом. Наприклад, це шампунь і кондиціонер для волос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rbel"/>
              </a:rPr>
              <a:t>ПЛАН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755280" y="1628280"/>
            <a:ext cx="8388360" cy="441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50000"/>
              </a:lnSpc>
              <a:spcBef>
                <a:spcPts val="700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1. Професійні вимоги до мерчандайзер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700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2. Організаційні системи мерчандайзинг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700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3. Види мерчандайзингу: класифікаційні ознак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982800" y="0"/>
            <a:ext cx="7704000" cy="59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Залежності від сфери діяльності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фармацевтичний,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ресторанний,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кондитерський тощо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982800" y="333360"/>
            <a:ext cx="770400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лежності від способу дії на споживача: реальний та віртуальний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Реальний мерчандайзинг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вид мерчандайзингу, що передбачає використання мерчандайзингових технологій в традиційній роздрібній мережі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іртуальний (електронний) мерчандайзинг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це сукупність технологій презентації та продажу товарів в Інтернеті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982800" y="0"/>
            <a:ext cx="82692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о комплексу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електронного мерчандайзингу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ходять елементи вебмосфери, які можна поділити на декілька категорій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ізуальний ряд (текст, графіка, фотографії, дизайн, колірна гама, відео, тривимірні зображення, масштабування зображень)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вук (музика, клацання при натисканні кнопок на сайті та інші звукові ефекти)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пах (зразки духів і іншої парфумерії)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ручність у використанні (інтерактивні засоби взаємодії з користувачем, зручність і легкість навігації, «покупка в три натискання», кнопки управління відео та звуком, швидке завантаження файлів, аватари тощо)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ерсоналізація та індивідуалізація веб-сторінок, продуктів і послуг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1258560" y="549000"/>
            <a:ext cx="7705800" cy="552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лежно від правомірності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чистий» та «чорний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Чистий» мерчандайзинг передбачає застосування мерчандайзингових технологій, які не суперечать законам та етичним нормам ведення бізнесу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Чорний» мерчандайзинг – незаконні прийоми, які використовуються в торговельних точках, що шкодять просуванню конкурентних товарів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982800" y="0"/>
            <a:ext cx="82692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иділяють напівзаконні методи: тимчасове розширення викладки своєї продукції за допомогою уявної перевірки начальства; збільшення площі викладки продукції за рахунок притиснення сусідньої продукції; заповнення чужих стійок, холодильників; підстановка своєї продукції в чужу викладку (дублювання власної викладки); змішування викладки конкурентів; відвернення «фейсингів» продукції; змішування цінників тощо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о незаконних методів відносять: підстановка одиниці продукції «несумісної» категорії в викладку конкурента, крадіжка і заміна цінників тощо. Саме тому торговельні точки повинні прикладати максимум зусиль, щоб мінімізувати дії так званих «чорних» мерчандайзерів шляхом запровадження санкцій проти таких людей посилення активності служби безпеки в роздрібній мережі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899640" y="475920"/>
            <a:ext cx="741708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928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чендайзинг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комерційна політика підприємства, що орієнтована на досягнення максимального впливу на покупця у точці продажу, ефективного просування товарів для здійснення покупок, отримала назву мерчандайзинг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handisin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та технологія управління думкою споживача, система маркетингових комунікацій за допомогою професійного оформлення місця продажу, позиціювання торгової марки (бренду), структурування інформації, розміщення рекламних матеріалі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1116000" y="115560"/>
            <a:ext cx="7634160" cy="64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чандайзинг має сенс тоді, коли ринок торгових марок насичений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ого використовують при продажі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итерських виробів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ів, алкогольних і безалкогольних напоїв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фумерно-косметичних товарів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вальних гумок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algn="just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обів для гоління та ін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Заголовок 1"/>
          <p:cNvSpPr/>
          <p:nvPr/>
        </p:nvSpPr>
        <p:spPr>
          <a:xfrm>
            <a:off x="611280" y="115920"/>
            <a:ext cx="74595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entury Gothic"/>
              </a:rPr>
              <a:t>ЩО ПОВИНЕН ЗНАТ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826920" y="1125360"/>
            <a:ext cx="849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асортимент, якісні характеристики товарів певної групи та виробників товарів, зберігання, технічні можливості, ознаки браку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умови експлуатації, гарантійні терміни служби, перелік додаткових послуг, що надаються покупцеві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ерелік товарів належної якості, що не підлягають обміну (поверненню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ила підготовки товарів до продажу; способи показу і упакування товарі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нципи розміщення, викладки товарів і оформлення прилавкових вітрин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ила розшифрування артикулів, штрихового коду товару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йоми підбору, примірки, відмірювання, відрізу, комплектування товарі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Прямоугольник 1"/>
          <p:cNvSpPr/>
          <p:nvPr/>
        </p:nvSpPr>
        <p:spPr>
          <a:xfrm>
            <a:off x="920880" y="981000"/>
            <a:ext cx="8207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ила зберігання порядок використання товарно-касових книг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ила експлуатації відповідних  видів торгово-технологічного обладнанн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ила використання та призначення в торгово-технологічному процесі виробничого інвентарю, інструменту, ваговимірювальних приладі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орядок розрахунку з покупцям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ила поводження з тарою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орядок обміну товарів; правила продажу непродовольчих товарі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ила торговельного обслуговування населенн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ила і норми охорони праці, проти­пожежного захисту, виробничої санітарії та особистої гігіє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Объект 3" descr="Можливі організатори системи мерчандайзингу"/>
          <p:cNvPicPr/>
          <p:nvPr/>
        </p:nvPicPr>
        <p:blipFill>
          <a:blip r:embed="rId1"/>
          <a:stretch/>
        </p:blipFill>
        <p:spPr>
          <a:xfrm>
            <a:off x="1116000" y="83664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790560" y="568440"/>
            <a:ext cx="835344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22222"/>
                </a:solidFill>
                <a:latin typeface="Arial"/>
              </a:rPr>
              <a:t>Дистриб'ютор</a:t>
            </a:r>
            <a:r>
              <a:rPr b="0" lang="ru-RU" sz="2800" spc="-1" strike="noStrike">
                <a:solidFill>
                  <a:srgbClr val="222222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ec7220"/>
                </a:solidFill>
                <a:uFillTx/>
                <a:latin typeface="Arial"/>
                <a:hlinkClick r:id="rId1"/>
              </a:rPr>
              <a:t>англ</a:t>
            </a:r>
            <a:r>
              <a:rPr b="0" lang="ru-RU" sz="2800" spc="-1" strike="noStrike" u="sng">
                <a:solidFill>
                  <a:srgbClr val="ec7220"/>
                </a:solidFill>
                <a:uFillTx/>
                <a:latin typeface="Arial"/>
                <a:hlinkClick r:id="rId2"/>
              </a:rPr>
              <a:t>.</a:t>
            </a:r>
            <a:r>
              <a:rPr b="0" lang="ru-RU" sz="2800" spc="-1" strike="noStrike">
                <a:solidFill>
                  <a:srgbClr val="222222"/>
                </a:solidFill>
                <a:latin typeface="Arial"/>
              </a:rPr>
              <a:t> </a:t>
            </a:r>
            <a:r>
              <a:rPr b="0" i="1" lang="en-US" sz="2800" spc="-1" strike="noStrike">
                <a:solidFill>
                  <a:srgbClr val="222222"/>
                </a:solidFill>
                <a:latin typeface="Arial"/>
              </a:rPr>
              <a:t>distributor</a:t>
            </a:r>
            <a:r>
              <a:rPr b="0" lang="en-US" sz="2800" spc="-1" strike="noStrike">
                <a:solidFill>
                  <a:srgbClr val="222222"/>
                </a:solidFill>
                <a:latin typeface="Arial"/>
              </a:rPr>
              <a:t> — </a:t>
            </a:r>
            <a:r>
              <a:rPr b="0" lang="ru-RU" sz="2800" spc="-1" strike="noStrike">
                <a:solidFill>
                  <a:srgbClr val="222222"/>
                </a:solidFill>
                <a:latin typeface="Arial"/>
              </a:rPr>
              <a:t>розповсюджувач) — фірма або агент промислового підприємства, які здійснюють реалізацію продукції й виступають як торгівці за договором на основі угоди про право на продаж в окремому регіоні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22222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222222"/>
                </a:solidFill>
                <a:latin typeface="Arial"/>
              </a:rPr>
              <a:t>Угода фірми передбачає виконання дистриб'ютором ряду функцій, пов'язаних з реалізацією товару: організацію реклами в даному регіоні, передпродажну підготовку технічно складних товарів, наданням покупцям сервісних послуг, аналіз кон'юнктури ринку та відгуків покупців про придбані ними вироби фірми тощ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684000" y="115920"/>
            <a:ext cx="8351640" cy="672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44928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иробник може попросит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и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іятися мерчандайзингом для просування свого бренду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еякі українські промислові підприємства намагаються перекласти проблеми збуту на дистрибуторів, концентруючі більше уваги на виробничо-технологічних функціях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мпанії-бренди "забувають" про виготовлений товар зразу ж після його продажу оптовикам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 цьому випадку мерчандайзинг лягає на плечі посередникі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иробник практично не фінансує підтримку продажів, тому ефективність подібного мерчандайзингу не дає очікуваних результаті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449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96c11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cp:lastPrinted>2019-03-04T01:52:33Z</cp:lastPrinted>
  <dcterms:modified xsi:type="dcterms:W3CDTF">2019-04-07T20:21:29Z</dcterms:modified>
  <cp:revision>35</cp:revision>
  <dc:subject/>
  <dc:title>PowerPoint Presentation</dc:title>
</cp:coreProperties>
</file>