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4"/>
          </p:nvPr>
        </p:nvSpPr>
        <p:spPr>
          <a:xfrm>
            <a:off x="382896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5"/>
          </p:nvPr>
        </p:nvSpPr>
        <p:spPr>
          <a:xfrm>
            <a:off x="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6"/>
          </p:nvPr>
        </p:nvSpPr>
        <p:spPr>
          <a:xfrm>
            <a:off x="382896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CC53-8AF2-457B-B1D0-7FB5E81F84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2A25-813A-49D7-AEB2-94F8B21423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5E9-AEAE-4887-8F87-01438CA6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3DB-E5F5-46F4-ADB3-220652DA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A5869-9FD8-4B2C-9AF5-62FC39A7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C98D5-042B-4BA8-88F1-977BDED4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CFA98-8AA6-4320-AEAC-B093A69B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59DA7-3E89-4134-AC6B-431459A6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6D948-8F33-4A36-B9F8-26E3707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59690-6B82-4A61-824F-8545B4F8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B09CD-B762-4168-8750-772EBC81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0924C-821C-4192-A79C-2AD10B5F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C772B-3911-42D7-9844-6C81C873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F6E79-E8B5-4AF5-8C43-A884DDD5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0AA-CDEE-4DB8-99E7-11FC7653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DC558-F9F6-4814-A7F1-F498451D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8FAE3-7B6C-4D51-B1D5-D0D4655E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265A7-64D2-4B02-8A2C-7DBA3FFC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22BD2-E84A-4290-8399-4529EE30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C5E72-5D87-4B85-BF91-6FD4EA53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B7079-85D0-4318-B901-E63C6A2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C6FE5-3469-41C5-86F8-D2E5B32B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DFFD2-BFEE-46E6-8AC9-A78C8E74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0B900-EE68-4744-A799-4DC95A33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F1B6D-F563-48FE-AA4E-A24CF1A6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C78-3710-4CF4-BD5E-B1564C9F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BA441-4540-442C-AD61-C161B7A0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2CAFE-0170-4A8F-AD5A-B009EAFF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24868-F91C-489A-AFD6-FAE63E7B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814CB-9F5A-4D1E-B825-04EF1287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DE838-DDF0-4FF9-91B0-E03750A0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58868-206C-4560-8ED7-48906137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79744-A188-43A6-88C8-5317196D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CEA59-DF06-43F8-B649-8C12B5DF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513C6-9556-4445-9220-77B09964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78673-00F9-4356-B162-3E3E811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A7A9-A018-4C87-A740-2F7D83C2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D803D-1A2F-4F34-83E4-9D09CD6D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30940-4BC4-4155-9827-6FEC5A57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6F66C-A78A-49B0-B3E9-E226F2E7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651B-F634-426E-8558-34A728B4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77DC-D6E1-4E6A-873B-EE318E3F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4101-3D99-4C84-A0E3-7391F0A0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28F3-3DB2-40F1-A8CD-08E26150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BC66-7FE8-4870-B091-80B34961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86E-DBF8-400A-81A2-6BFDDE29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34A-FE50-4957-B849-CFDBFF90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33A7-3587-43AE-AC49-2A4EF6E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1D77-ED3E-49C0-A547-1BA8EE41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ADE-50C8-4F87-97F8-6AF9AF45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2AD5-F865-4A2B-B59A-EEB0508B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A5AA-8B6D-4A7D-9529-51C8D608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55F2B-BEBA-4607-AC5B-68BB07E3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851C-1689-4C64-8591-3F293D96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4C32-7D6A-457D-937D-04204E2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116E-7595-475F-BC38-FBF4BF9F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416A-5528-496B-A44E-2C21C9E3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8F6-0FFE-4401-94EA-4788ED5B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75A0-A391-4085-BB0C-7BBD5EDF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CFA4-09CA-486A-8830-7EE44F26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342D4-5D88-4470-8C2C-8346BDD4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CB02-5C0A-417F-AE9F-EB98FC5E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7B2C-2CBC-4E94-AEE0-C844B2FB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C775-CCA1-49F5-BEE9-4AE03B32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CECD-F7DE-49B3-A4E0-C31F80EC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C38A8-F6F3-49EC-84AC-8B74A491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18B4-C5C6-418D-AD8F-8F056F01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70902-8A5F-41E5-BAD9-60330C5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DCD-50B8-40D5-A4CC-51557DA1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9D82-7EF5-42AA-82BA-69B2F3AC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30024-4475-4F8D-97F3-083508A0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8464-59E8-40D8-8898-D2F62E2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B6D4-B863-40F3-9AD3-3A21A5D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D032-1FFF-46CF-B70F-C6CA2983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5DD0-65C8-4F50-9E89-8F56B530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F795-23D9-42F9-8F4E-4E9F6487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F757-06F2-4626-B915-2B008373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F946-6E02-421F-954B-B288E3C0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71D5-49BB-4592-9A5B-1D6F4B48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A59-F825-48D3-877D-1A88C76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A4F8-4B48-4DD2-B140-0DB29EF7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A373A-EF81-4679-9D12-3F42674F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A776-1F89-45D3-AEF7-F5399132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66CE-7B47-42CF-88EA-A7851BDA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8232A-16A4-489D-A2FC-8F6DB520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AE3F0-FFC5-4F8D-A96B-ABE13D19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C8DF-FB79-45DC-BA59-500FC09B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4B72B-7D7F-4AE6-A344-C9F00E0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F88C4-D266-4D28-9314-85D02F39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E5E00-F582-4269-A022-9C8FD9E4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FA9-BAD6-46A0-8C05-38EC6F5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B90EC-7D82-445B-87A0-A8FBD91A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148FF-AF51-461C-A9BC-5F23F26C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0838-4FBB-41F4-A99E-ADDEEEB0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115A1-652C-4D59-B6E8-77D91E6F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5F82B-24C8-4F18-988B-324E6637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CEB1D-B4AF-4485-A520-FD641F36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73D35-403A-4A21-A5F0-7B30F8D3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51DA-FEC7-446B-ACEA-2C176EC2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C393-05EA-4605-8108-AA3ABAE3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16188-9A0E-411E-9684-11CCC1AC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349-C671-48B3-A84F-81F5ED0F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16683-C389-4E25-8A2E-B5446A2F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FBF0A-5D57-4BB2-BF97-9EC0AC6E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21886-2D4D-4C59-9CDE-D42D1E75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086E8-42C6-4326-ABDC-DED66132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89B39-FB4B-46AE-9A6F-36CEAFE2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CDB5-41C8-4FB9-8EF1-1D185880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84D55-C302-40C3-A336-AFEAC71C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EBF93-1A2D-4C23-8EB5-E621018E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2E3B6-F042-4777-84A4-E49C6D6B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4593-08D7-472D-9008-68FE9E7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2B8-F048-43C1-BF5D-2C3C5EEF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85F71-4925-4C52-B0CA-47D6520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BDFDA-F0D3-4994-AA04-0D833A5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05497-5497-4629-B98A-BA27E45B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5CA57-770E-492A-B5DF-F43CCC4A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A6CD8-E29C-4272-80D4-7346FF92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2FF09-8BA3-47AF-A542-AE4BB8C3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E01F-2BAD-42BD-942F-720442DF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611D5-CB1E-4B27-9A42-6F90700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46949-15D5-4A9F-928C-19FFC0F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88BAC-8513-44A6-8AB1-1B72423D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22C-41EC-43B7-A4D1-B5C06F1C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1DE6A-7B29-4A0E-BF5F-5635A808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9E8D-ABCE-4DDF-B19C-EC8F3A20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D7B40-DD6A-45EC-A84C-AEE58145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8757E-DE54-43D2-86E0-AC0EA216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949EF-4BE6-4ED9-88E8-33D2E4DB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74948-C776-4D52-AFA4-AEFCD9F1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E21A-7EBE-4883-BBBF-E5FE8B65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747F3-B13F-4483-97D3-22DCCEBF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8280C-32E6-4510-A613-2B6C5A70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A7D11-8641-45DE-80A3-90DC256A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718A-0D9F-4D91-A2A9-45D2D73D1234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393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4B9-A12C-4054-9E6D-C361495543F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443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5072-305C-4294-AB0D-886C9435E61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B0AE-C93D-4D8D-80F6-E39B016C25AE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E947-03D2-4A7A-869D-4D7807C6D7D5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C7AE-3943-4ACD-8AF8-AE32D794E2E6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59F3-1B2A-48D6-8A22-7FF8E17B1533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7AF7-8F71-42DF-8734-374F6FCFF24F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2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7394-AA03-4097-8CEF-2A26818B273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295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AAA6-1C3B-4CC1-89C2-EE7D22037D3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345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8431-210D-4F21-9813-A03350A73A4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40;&#1085;&#1075;&#1083;&#1110;&#1081;&#1089;&#1100;&#1082;&#1072;_&#1084;&#1086;&#1074;&#1072;" TargetMode="External"/><Relationship Id="rId2" Type="http://schemas.openxmlformats.org/officeDocument/2006/relationships/hyperlink" Target="https://uk.wikipedia.org/wiki/&#1040;&#1085;&#1075;&#1083;&#1110;&#1081;&#1089;&#1100;&#1082;&#1072;_&#1084;&#1086;&#1074;&#1072;" TargetMode="External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859440" cy="68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ТЕМА 3: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entury Gothic"/>
              </a:rPr>
              <a:t>ПРОФЕСІЙНИЙ МЕРЧАНДАЙЗИНГ У КОМЕРЦІЙНІЙ ДІЯЛЬНОСТІ ПІДПРИЄМСТ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4491000" y="335772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"/>
          <p:cNvPicPr/>
          <p:nvPr/>
        </p:nvPicPr>
        <p:blipFill>
          <a:blip r:embed="rId2"/>
          <a:stretch/>
        </p:blipFill>
        <p:spPr>
          <a:xfrm>
            <a:off x="4491000" y="3357720"/>
            <a:ext cx="16200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818640" y="188640"/>
            <a:ext cx="831708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Одна з проблем полягає у тому, що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триб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’</a:t>
            </a:r>
            <a:r>
              <a:rPr b="0" i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ю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ри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звичай співрацює відразу з кількома виробниками, а серед них можуть бути й конкурен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До того ж посередники часто не зацікавлені продавати повний асортимент бренду, а торгові агенти дистрибутора, котрі працюють з відсотка від продажів, намагаються просунути тільки найбільш ходові позиції з наявного асортименту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З цих причин ефективність роботи агента дистрибутора в просуванні бренду набагато нижча порівняно з ефективністю роботи мерчандайзера самого виробник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У більшості випадків немає можливості контролювати агентів дистрибутора чи допомагати їм у просуванні товар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68000" y="41040"/>
            <a:ext cx="8675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робник самостійн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є систему мерчандайзингу на основі власного штату мерчандайзері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ка система є привабливою для компаній, збут яких заснований на продажах через регіональні представництв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робник набирає команду регіональних торгових представників — мерчандайзерів. Це жителі певних міст, яких включають у штат головного офісу чи філ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складност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уванні виробником власного штату мерчандайзерів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організаційної моделі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програм мерчандайзингу і механізмів контролю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інфраструктур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бір і навчання кадрі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не забезпеченн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90000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итивні моменти полягають у тому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щ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eb3d9f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панія цілком контролює систему збуту, а мерчандайзери вирішують завдання, пов’ язані з просуванням свого бренду, управлінням продажа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eb3d9f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я організаційна модель дозволяє встановити довгострокові та особисті стосунки з торговим персоналом роздрібної торгівлі, отримувати оперативну інформацію про споживчий попит, наявність представленого асортименту продукції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eb3d9f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исельність персоналу системи мерчандайзингу може бути різною залежно від специфіки продуктів, кількості торгових марок у портфелі виробника та їх обсягів реалізац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84000" y="-100080"/>
            <a:ext cx="8459640" cy="71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здійснення мерчандайзингу виробник може звернутися до професіоналі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ізованих агент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ртість залучення виробником мерчандайзерів агентства така сама чи набагато вища порівняно з витратами на формування власної мережі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 звернення до агентства полягає у тому, що компанія може охопити мерчандайзингом територію будь-якого розмір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еси бренду представляє спеціальна навчена, досвідчена команда, зацікавлена в успіху проект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к-замовник одержує гарантію на очікування позитивних реальних результаті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овувати мерчандайзерів агентства виробник може як на постійній основі, цілком перекладаючи на них функції відділу продажів, так і для разових завдан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ці агентства можуть зробити презентацію продукції і розмістити рекламні матеріали у торгових точках будь-яких міст; оперативно зібрати маркетингову інформацію, необхідну для виявлення проблем, пов´язаних з торговою маркою (відмова магазинів від товару, складності з розміщенням реклами); розробити заходи щодо більш повного розповсюдження фірмового асортименту у роздрібній торгівлі; допомогти налагодити стосунки з торговельними мереж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982800" y="188640"/>
            <a:ext cx="8161200" cy="67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ctr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ізовані компанії (агентства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уть надавати такі послуги з мерчандайзингу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ринку, розміщення продукції в торгових точках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викладки товарі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ювання імпульсних покупок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ня дисплеї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моніторингу збуту, стимулюючих акці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якась компанія хоче створити власний штат мерчандайзерів, то деякі агентства спроможні запропонувати курси з навчання персонал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982800" y="115920"/>
            <a:ext cx="816120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algn="just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З точки зору роботи мерчандайзера виділяють наступні види мерчандайзингу: ексклюзивний та сумісний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4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Ексклюзивний мерчандайзинг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– вид мерчандайзингу, що передбачає роботу мерчандайзера виключно з торговельною маркою одного виробника. Цей вид ефективний в разі великої кількості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KU (Stock Keeping Unit) –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асортиментних позицій та оборотності асортименту. Мова йде про роботу з брендовими товарами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Сумісний (комплексний)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– вид мерчандайзингу, що передбачає роботу мерчандайзера з продукцією декількох виробників та декілька ми торговельними марками. Такий підхід значно скорочує витра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982800" y="333000"/>
            <a:ext cx="79819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Залежно від часу перебування мерчандайзера в торговельній точці: стаціонарний та візитний (мобільний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Стаціонарний мерчандайзинг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– вид мерчандайзингу, який передбачає роботу мерчандайзера в одній торговельній точці, як правило, в форматі Гіпермаркет та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ash &amp; Carry,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отягом усього робочого дня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ізитний (мобільний)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– вид мерчандайзингу, що передбачає обслуговування мерчандайзером декількох торговельних точок за день при складанні оптимального маршруту, враховуючи віддаленість торговельних точок одна від одної, обсяг роботи в кожній торговельній точці та їх формат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982800" y="115920"/>
            <a:ext cx="77040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лежно від сприйняття споживачем товару, магазину та його співробітників: візуальний та комунікаційни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Візуальний мерчандайзинг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привернення уваги споживачів за рахунок зовнішнього оформлення та особливої атмосфери. Візуальний мерчандайзинг включає в себе: вибір місця торговельної точки; оформлення зовнішніх вивісок; оформлення вітрин магазину; внутрішня компоновка магазину; дизайн інтер’єрів приміщень; розташування виставлених товарів; упакування, маркування товарів; оформлення цінник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982800" y="620640"/>
            <a:ext cx="7704000" cy="53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До комунікаційного мерчандайзингу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ідносять вміння представників торговельної марки, яка продається, спілкуватися, налагоджувати контакти як з покупцями, так і з співробітниками торговельних точок. Важливим моментом в комунікаційному мерчандайзингу є прагнення до високого рівня обслуговування покупців з метою спонукання їх до повтор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ї покупки. В комунікаційному мерчандайзингу великих компаній часто використовується П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407600" y="0"/>
            <a:ext cx="7704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лежно від форми викладення товару: довільний та перехресни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Довільний мерчандайзинг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викладення продукції різними способами, що не передбачає спільного розміщення товарів, які доповнюють один одного. Такий підхід себе вичерпує, і на зміну йому в категорійному менеджменті з’явився перехресний мерчандайзинг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ерехресний мерчандайзинг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викладення продукції, що передбачає спільне розміщення тих товарів, які взаємодоповнюють один одного і, найчастіше, купуються разом. Наприклад, це шампунь і кондиціонер для волос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rbel"/>
              </a:rPr>
              <a:t>ПЛАН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55280" y="1628280"/>
            <a:ext cx="838836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1. Професійні вимоги до мерчандайзер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2. Організаційні системи мерчандайзинг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3. Види мерчандайзингу: класифікаційні ознак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982800" y="0"/>
            <a:ext cx="7704000" cy="59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лежності від сфери діяльності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фармацевтичний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ресторанний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кондитерський тощо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982800" y="333360"/>
            <a:ext cx="77040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лежності від способу дії на споживача: реальний та віртуальни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еальний мерчандайзинг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вид мерчандайзингу, що передбачає використання мерчандайзингових технологій в традиційній роздрібній мережі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іртуальний (електронний) мерчандайзинг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це сукупність технологій презентації та продажу товарів в Інтернеті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982800" y="0"/>
            <a:ext cx="82692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 комплексу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електронного мерчандайзингу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ходять елементи вебмосфери, які можна поділити на декілька категорій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ізуальний ряд (текст, графіка, фотографії, дизайн, колірна гама, відео, тривимірні зображення, масштабування зображень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 (музика, клацання при натисканні кнопок на сайті та інші звукові ефекти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пах (зразки духів і іншої парфумерії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ручність у використанні (інтерактивні засоби взаємодії з користувачем, зручність і легкість навігації, «покупка в три натискання», кнопки управління відео та звуком, швидке завантаження файлів, аватари тощо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соналізація та індивідуалізація веб-сторінок, продуктів і послуг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1258560" y="549000"/>
            <a:ext cx="7705800" cy="55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лежно від правомірності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чистий» та «чорний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Чистий» мерчандайзинг передбачає застосування мерчандайзингових технологій, які не суперечать законам та етичним нормам ведення бізнесу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Чорний» мерчандайзинг – незаконні прийоми, які використовуються в торговельних точках, що шкодять просуванню конкурентних товарів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982800" y="0"/>
            <a:ext cx="82692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іляють напівзаконні методи: тимчасове розширення викладки своєї продукції за допомогою уявної перевірки начальства; збільшення площі викладки продукції за рахунок притиснення сусідньої продукції; заповнення чужих стійок, холодильників; підстановка своєї продукції в чужу викладку (дублювання власної викладки); змішування викладки конкурентів; відвернення «фейсингів» продукції; змішування цінників тощ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 незаконних методів відносять: підстановка одиниці продукції «несумісної» категорії в викладку конкурента, крадіжка і заміна цінників тощо. Саме тому торговельні точки повинні прикладати максимум зусиль, щоб мінімізувати дії так званих «чорних» мерчандайзерів шляхом запровадження санкцій проти таких людей посилення активності служби безпеки в роздрібній мережі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99640" y="475920"/>
            <a:ext cx="7417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чендайзинг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комерційна політика підприємства, що орієнтована на досягнення максимального впливу на покупця у точці продажу, ефективного просування товарів для здійснення покупок, отримала назву мерчандайзинг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handisin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а технологія управління думкою споживача, система маркетингових комунікацій за допомогою професійного оформлення місця продажу, позиціювання торгової марки (бренду), структурування інформації, розміщення рекламних матеріал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116000" y="115560"/>
            <a:ext cx="763416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чандайзинг має сенс тоді, коли ринок торгових марок насичени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го використовують при продажі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терських виробів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ів, алкогольних і безалкогольних напоїв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фумерно-косметичних товарів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вальних гумо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бів для гоління та ін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Заголовок 1"/>
          <p:cNvSpPr/>
          <p:nvPr/>
        </p:nvSpPr>
        <p:spPr>
          <a:xfrm>
            <a:off x="611280" y="115920"/>
            <a:ext cx="7459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Gothic"/>
              </a:rPr>
              <a:t>ЩО ПОВИНЕН ЗНАТ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826920" y="1125360"/>
            <a:ext cx="849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асортимент, якісні характеристики товарів певної групи та виробників товарів, зберігання, технічні можливості, ознаки брак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умови експлуатації, гарантійні терміни служби, перелік додаткових послуг, що надаються покупцев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ерелік товарів належної якості, що не підлягають обміну (поверненню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підготовки товарів до продажу; способи показу і упакування товарі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нципи розміщення, викладки товарів і оформлення прилавкових вітри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розшифрування артикулів, штрихового коду товар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йоми підбору, примірки, відмірювання, відрізу, комплектування товарі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1"/>
          <p:cNvSpPr/>
          <p:nvPr/>
        </p:nvSpPr>
        <p:spPr>
          <a:xfrm>
            <a:off x="920880" y="981000"/>
            <a:ext cx="8207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зберігання порядок використання товарно-касових книг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експлуатації відповідних  видів торгово-технологічного обладнанн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використання та призначення в торгово-технологічному процесі виробничого інвентарю, інструменту, ваговимірювальних приладі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орядок розрахунку з покупцям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поводження з тарою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орядок обміну товарів; правила продажу непродовольчих товарі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торговельного обслуговування населенн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і норми охорони праці, проти­пожежного захисту, виробничої санітарії та особистої гігіє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Объект 3" descr="Можливі організатори системи мерчандайзингу"/>
          <p:cNvPicPr/>
          <p:nvPr/>
        </p:nvPicPr>
        <p:blipFill>
          <a:blip r:embed="rId1"/>
          <a:stretch/>
        </p:blipFill>
        <p:spPr>
          <a:xfrm>
            <a:off x="1116000" y="83664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790560" y="568440"/>
            <a:ext cx="835344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Arial"/>
              </a:rPr>
              <a:t>Дистриб'ютор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ec7220"/>
                </a:solidFill>
                <a:uFillTx/>
                <a:latin typeface="Arial"/>
                <a:hlinkClick r:id="rId1"/>
              </a:rPr>
              <a:t>англ</a:t>
            </a:r>
            <a:r>
              <a:rPr b="0" lang="ru-RU" sz="2800" spc="-1" strike="noStrike" u="sng">
                <a:solidFill>
                  <a:srgbClr val="ec7220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222222"/>
                </a:solidFill>
                <a:latin typeface="Arial"/>
              </a:rPr>
              <a:t>distributor</a:t>
            </a: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 — 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розповсюджувач) — фірма або агент промислового підприємства, які здійснюють реалізацію продукції й виступають як торгівці за договором на основі угоди про право на продаж в окремому регіоні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Угода фірми передбачає виконання дистриб'ютором ряду функцій, пов'язаних з реалізацією товару: організацію реклами в даному регіоні, передпродажну підготовку технічно складних товарів, наданням покупцям сервісних послуг, аналіз кон'юнктури ринку та відгуків покупців про придбані ними вироби фірми тощ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684000" y="115920"/>
            <a:ext cx="8351640" cy="67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иробник може попроси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іятися мерчандайзингом для просування свого бренду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які українські промислові підприємства намагаються перекласти проблеми збуту на дистрибуторів, концентруючі більше уваги на виробничо-технологічних функціях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мпанії-бренди "забувають" про виготовлений товар зразу ж після його продажу оптовика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цьому випадку мерчандайзинг лягає на плечі посередник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робник практично не фінансує підтримку продажів, тому ефективність подібного мерчандайзингу не дає очікуваних результат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9-03-04T01:52:33Z</cp:lastPrinted>
  <dcterms:modified xsi:type="dcterms:W3CDTF">2019-04-07T20:21:29Z</dcterms:modified>
  <cp:revision>35</cp:revision>
  <dc:subject/>
  <dc:title>PowerPoint Presentation</dc:title>
</cp:coreProperties>
</file>