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AE7-0A3F-41CE-8B07-825D8FF7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F5B-0693-4AD4-AD46-3B7588AB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F72-1EE6-41CB-9B62-FC7937A7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EE3-BBC0-49E4-8364-EDEF0B5A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40C-5F1E-4935-BD23-7428408A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3B1-C352-4C37-9C09-672C2CAF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2F6-73AA-4593-AE4A-14F16F05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A70-0E8C-489F-BE09-BE0B4A82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741-B17B-460A-99AD-92AC0202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B28-0D42-4F2B-81DF-3C7CBCBA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5A7-C267-40F0-B9C4-FB1B6838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B7C-76C1-4844-94FF-AE25380F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30D7-F1CA-444B-8DAC-A7FCCEE33F84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elikan-print.com.ua/ua/pos-materiali_-suvenirna-produktsiya.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761760"/>
            <a:ext cx="8686800" cy="5562360"/>
          </a:xfrm>
          <a:prstGeom prst="rect">
            <a:avLst/>
          </a:prstGeom>
          <a:solidFill>
            <a:srgbClr val="eed4e2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6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МУЛЮВАННЯ ЗБУТУ В ТОРГОВИХ ОБ’ЄКТ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304920"/>
            <a:ext cx="8610480" cy="632448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Як і у випадку з прямою рекламою, 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TL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не обмежується тільки постановкою і досягненням конкретних бізнес-ціл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При правильному підході для успішного проведення будь-якої 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TL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акції необхідна оцінка цільової аудиторії, характеристик марки, яка просувається, оптимального часу і місця проведення; вивчення систем збуту цього товару, каналів отримання інформації, які використовують потенційні споживачі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Тому для багатьох 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TL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стає справою життя, основним джерелом коштів для існування, окремим бізнесом. І, треба сказати, ринок сприяє розвитку цього напря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POS-матеріа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-360"/>
            <a:ext cx="8915400" cy="6705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-матеріа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рекламні матеріали, які безпосередньо замість продажу сприяють просуванню товару або бренду. До POS-матеріалів відносять: цінники, шелфтокери, воблери, диспенсери, стопери, прапорці, упаковку, рекламні магніти, підставки під чашки, постери, бирки, та інші подібні виро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-матеріали - сприяють просуванню товару, аксесуари, так як наприклад цінники. Вивчаючи POS-матеріали покупці отримують можливість більше дізнатися про вигоди та переваги пропонованої продукц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анувавши рекламну кампанію, в якій будуть використані POS-матеріали - навіть при невеликому бюджеті POS-матеріали допоможуть успішно просунути свій товар в місцях продажу. Мета, яку допомагають досягти POS-матеріали - це передусім привернення уваги споживача до торговельної точки, товару або посл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хунок великої різноманітності POS-матеріали можна використовувати в найрізноманітніших місцях, наприклад в зонах зовнішнього оформлення використовуються такі POS-матеріали як: штендери і панель - кронштейни, а також тротуарна графі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152280"/>
            <a:ext cx="9067680" cy="64771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S-матеріали вхідної групи включають в себ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лакати з рельєфним зображенням товар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Різного роду таблички, наприклад: відкрито / закрито та інші написи з подібною темати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Наклейки на камерах зберігання, брелках і ключах від цих самих камер зберігання, візках і кошиках для покупц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одне місце де використовують POS-матеріали - це місця викладки. Розрізняють поличні, настільні POS- матеріали, підвісні кишені і утримувачі цінни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чні POS-матеріали являють собою пластикові смуги, які кріпляться на торцях стелажів демонструючи назва товару і його варті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ільні POS-матеріали як правило використовуються на різного роду горизонтальних поверхнях. Інші ж POS-матеріали цієї категорії: підвісний кишеню (використовується для розміщення в ньому детальної інформації та залучення уваги споживачів), POS-матеріали у вигляді цінників призначені для інформування про ціну тов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456840"/>
            <a:ext cx="8458200" cy="56689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117"/>
                </a:solidFill>
                <a:latin typeface="Arial"/>
              </a:rPr>
              <a:t>Картонні </a:t>
            </a:r>
            <a:r>
              <a:rPr b="1" lang="en-US" sz="2000" spc="-1" strike="noStrike">
                <a:solidFill>
                  <a:srgbClr val="121117"/>
                </a:solidFill>
                <a:latin typeface="Arial"/>
              </a:rPr>
              <a:t>POS-</a:t>
            </a:r>
            <a:r>
              <a:rPr b="1" lang="ru-RU" sz="2000" spc="-1" strike="noStrike">
                <a:solidFill>
                  <a:srgbClr val="121117"/>
                </a:solidFill>
                <a:latin typeface="Arial"/>
              </a:rPr>
              <a:t>матеріали середнього і великого форма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Хардпос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Диспенс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Підлогові диспле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Дисплеї для різних категорій товарів (кондитерські вироби, спиртні напої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Палетні диспле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Фальш-пал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Сті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Вітр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Ростові фіг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Слівси-Чекпой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Мобай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Л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Муляжі (джумб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3" descr=""/>
          <p:cNvPicPr/>
          <p:nvPr/>
        </p:nvPicPr>
        <p:blipFill>
          <a:blip r:embed="rId1"/>
          <a:srcRect l="35385" t="8253" r="21584" b="3529"/>
          <a:stretch/>
        </p:blipFill>
        <p:spPr>
          <a:xfrm>
            <a:off x="1219320" y="0"/>
            <a:ext cx="6933960" cy="64008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990720" y="64882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elikan-print.com.ua/ua/pos-materiali_-suvenirna-produktsiy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2280" y="228600"/>
            <a:ext cx="8839440" cy="6324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117"/>
                </a:solidFill>
                <a:latin typeface="Arial"/>
              </a:rPr>
              <a:t>Воблер</a:t>
            </a: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 - рекламний носій фігурної форми, виготовлений зі щільного паперу або картону на гнучкій пластиковій ніжці, за допомогою якої він приклеюється на 2-х сторонній скотч до вертикальної опори або до будь-якого іншого місця реклами товару. Завдання воблера - виділити товар в місці продажів. Виготовлятися воблери можуть з картону з лакуванням; картону з ламінуванням; синтетичних матеріалів з покриттям захисним ла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117"/>
                </a:solidFill>
                <a:latin typeface="Arial"/>
              </a:rPr>
              <a:t>Гофропалета (постамент)</a:t>
            </a: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 - використовують як постамент для викладення товару в торговому залі. Зазвичай розміри постаменту рівні 1/4 палети. Гофропалета також використовується для групової паллетної викладки в торговому зал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117"/>
                </a:solidFill>
                <a:latin typeface="Arial"/>
              </a:rPr>
              <a:t>Джумби</a:t>
            </a: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 - це пропорційно збільшена в декілька разів копія реально існуючої упаковки конкретного товару. Залежно від розміру картонного муляжу і місця продажу джумби можуть розміщуватися на лотках, прилавках, просто на підлозі або підвішуватися до стелі, як мобайли. Їх головне завдання привернути увагу покупця і зафіксувати образ даного товару, що потім дозволить легше виділити його серед конкурентної продук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117"/>
                </a:solidFill>
                <a:latin typeface="Arial"/>
              </a:rPr>
              <a:t>Диспенсер</a:t>
            </a: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 - це вид </a:t>
            </a:r>
            <a:r>
              <a:rPr b="0" lang="en-US" sz="2400" spc="-1" strike="noStrike">
                <a:solidFill>
                  <a:srgbClr val="121117"/>
                </a:solidFill>
                <a:latin typeface="Arial"/>
              </a:rPr>
              <a:t>POS </a:t>
            </a: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матеріалів, призначених для розміщення рекламної інформації (листівок, буклетів і т. д.). Рекламна підставка або ємність під продукцію, розроблена під конкретний вид товару, використовується для виставлення в магазині з метою збільшення продаж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Конструктивно диспенсер - це постер з кишенею для викладки матеріалів з лицьового боку і ніжкою забезпечує стійкість - зі зворотнь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Замість кишені іноді використовується відривний блокнот. Найбільш часто диспенсери виготовляються з картону і можуть бути як суцільнокроєними, так і збірними. Виготовляються шляхом каширування  лайнера на товстий картон з лицьового і / або зворотного боку. Викарбовується таким чином, що кишеня шляхом перевороту служить ніжкою для диспенс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6840" y="609120"/>
            <a:ext cx="8458200" cy="586764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 та BTL на сучасному ринку маркетингових комунікац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POS-матері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мо-ак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1117"/>
                </a:solidFill>
                <a:latin typeface="Arial"/>
              </a:rPr>
              <a:t>Дисплей-палети</a:t>
            </a:r>
            <a:r>
              <a:rPr b="0" lang="ru-RU" sz="3200" spc="-1" strike="noStrike">
                <a:solidFill>
                  <a:srgbClr val="121117"/>
                </a:solidFill>
                <a:latin typeface="Arial"/>
              </a:rPr>
              <a:t> (палетна огорожа) - це вид виробу, вироблений, в тому числі і з картону. Виріб використовуються для прикраси паллетної-підлоги викладки і як дисплей для ефективної демонстрації товару. Паллета є незамінним інструментом представлення нової торгової марки покупцям при короткострокових рекламних кампаніях і оформленні місць продажів в гіпермарке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1117"/>
                </a:solidFill>
                <a:latin typeface="Arial"/>
              </a:rPr>
              <a:t>Лоток</a:t>
            </a:r>
            <a:r>
              <a:rPr b="0" lang="ru-RU" sz="2800" spc="-1" strike="noStrike">
                <a:solidFill>
                  <a:srgbClr val="121117"/>
                </a:solidFill>
                <a:latin typeface="Arial"/>
              </a:rPr>
              <a:t> - різновид </a:t>
            </a:r>
            <a:r>
              <a:rPr b="0" lang="en-US" sz="2800" spc="-1" strike="noStrike">
                <a:solidFill>
                  <a:srgbClr val="121117"/>
                </a:solidFill>
                <a:latin typeface="Arial"/>
              </a:rPr>
              <a:t>POS-</a:t>
            </a:r>
            <a:r>
              <a:rPr b="0" lang="ru-RU" sz="2800" spc="-1" strike="noStrike">
                <a:solidFill>
                  <a:srgbClr val="121117"/>
                </a:solidFill>
                <a:latin typeface="Arial"/>
              </a:rPr>
              <a:t>матеріалів, призначених для забезпечення зручності розміщення товару в торговому залі, розміщення товару з метою його демонстрації, а також виділення на тлі інших аналогічних товарів і забезпечення переваги вибору для кінцевого споживача. Як правило, це розбірні нескладні конструкції для зручності транспортування і установки в торговому за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117"/>
                </a:solidFill>
                <a:latin typeface="Arial"/>
              </a:rPr>
              <a:t>Мобайли</a:t>
            </a: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 - різновид </a:t>
            </a:r>
            <a:r>
              <a:rPr b="0" lang="en-US" sz="2400" spc="-1" strike="noStrike">
                <a:solidFill>
                  <a:srgbClr val="121117"/>
                </a:solidFill>
                <a:latin typeface="Arial"/>
              </a:rPr>
              <a:t>POS-</a:t>
            </a: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матеріалів, специфічних насамперед розташуванням - зазвичай вони підвішуються під стелею. Кріплення Мобайл до стелі здійснюється за допомогою лески  або пружинки з гачками на кінцях. Одним кінцем пружина протягується в вирубаний отвір в Мобайлі, іншим - в стельовий трим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Мобайли бувають плоскими, складовими і об'ємними. Плоский мобайл - двосторонній «жорсткий плакат». Складові мобайли - кілька плоских Мобайлів, з'єднаних між собою. Об'ємні мобайли - тривимірні конструкції зібрані у вигляді коробок або складені з плоских част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165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омо-акці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600" y="228600"/>
            <a:ext cx="8763120" cy="64771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акці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один з методів нетрадиційної реклами (BTL). Простими словами, промо-акція - це рекламна діяльність компанії, під час якої ми дізнаємося про продукт не від когось (з телевізора, радіо чи преси), а особисто – під час дегустації, роздачі рекламних зразків продукції чи інформативних листівок, або іншого виду промо-акцій. Під час промо-акції відбувається особистий контакт між промоутером, який представляє компанію виробника чи дистрибутора продукції що просувається та безпосередньо потенційного споживача даної продукції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ctr"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и проведення промо акції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ування будь-якого товару чи послуги без обмежен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сональний контакт та знайомство бренду із покупц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фект впізнавання вашого товару чи послуг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ріст числа клієнті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ріплення статусу торгової марки в очах аудиторі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забутність враження від побачено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240" y="304560"/>
            <a:ext cx="8458200" cy="65530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іляють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упні різновиди промо-акці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ультування у торгових точк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онсультирование, product consul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ції «подарунок за покупку»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арок за покупку, gift for purc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плінги (sampling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озповсюдження, роздача зразків рекламних продук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-360" y="0"/>
            <a:ext cx="8991720" cy="69343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вання великої кількості різновидів заходів зі стимулювання збуту актуалізує наукове завдання класифікації промо-акцій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нуємо класифікувати промо-акції за такими озна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лежно від об'єкта промо-акці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sumer promotion - спрямована на стимулювання споживач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rade promotion - спрямована на стимулювання торгового персон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мети проведення промо-акці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збільшення обсягів збуту продук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виведення нового товару на ри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ідтримки іміджу підприємства або Т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лежно від місця розповсюдження промо-акційних листів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громадських місц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з розповсюдженням по автомобіл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з розповсюдженням по поштових скринь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52280" y="0"/>
            <a:ext cx="8763120" cy="6858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ігрові промо-акції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урс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тереї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гр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залежно від форми отримання зразка продукції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мплінг - роздавання пробних зразкі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густації - куштування на смак зразків продукції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еїнг - ознайомлення з парфумерними ТМ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ування - показ і апробація можливостей товар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лежно від форми отримання подарунку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ії "Подарунок за покупку"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ії "2+1" або "2 в 1"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ії "Обмін продукції конкурентів на товар власної ТМ"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ії "Безкоштовне роздавання зразків продукції"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залежно від різновидів подій (Event promotion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о-шоу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ії на честь історичної події (відкриття магазину, святкування ювілею підприємства тощо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лешмо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акці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вид рекламної активності компанії. Таким шляхом покупці дізнаються про товар особисто, а не з ЗМІ. Це може бути семплінг – роздача рекламних зразків або дегустація, лістинг або HoReCa, вирішувати тільки в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одяг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одяг з нанесеним на неї логотипом якогось бренду або компанії, яка використовується для проведення рекламних акцій. Різноманітність промо-одягу зараз дуже велике: від звичайних футболок і фартухів до елегантних суконь або стилізованих костюм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сай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одна або декілька web-сторінок, які створюються для просування товарів або послуг в Інтернеті. Це інтернет-проект, метою якого буде привернення уваги максимальної кількості людей. Промо-сайт яскраво розповість вам про переваги продукту і забезпечить сталий запам’ятовування у потенційних клієнт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сувенір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частина сувенірної продукції у вигляді недорогих дрібниць з нанесенням логотипу компанії: гуртки, ручки, календарі, блокноти – все залежить тільки від вашої фантазії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вичай їх використовують для роздачі на промо-акціях і різних презентаціях або як корпоративні подарунки клієн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280" y="304920"/>
            <a:ext cx="8686800" cy="62481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ролик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відео ролик, створений для того, щоб в графічній формі донести до цільової аудиторії основні якості і переваги товарів і послуг. Дуже вдалий і дієвий спосіб, тому як візуальне сприйняття найчастіше набагато ефективніше слухового. Підходить як для ТБ, так і для мережі Інтернет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код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код (букви, цифри або ключове слово), який покупець вказує при покупці товару / послуги і отримує знижку. Також своєрідна форма промо-акції, спрямована на стимулювання продажів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моделі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вчата модельної зовнішності, які наймаються компанією для створення сприятливого іміджу. Зазвичай в обов’язки цих дівчат входить фотозйомка з відвідувачами, від них самих вимагається тільки доброзичливість і посмішк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d4e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15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 та BTL на сучасному ринку маркетингових комунікаці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51920" y="228600"/>
            <a:ext cx="8534520" cy="58975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плінг (семплинг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ing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езкоштовне розповсюдження пробних зразків торгової марки, що рекламується серед споживацької аудиторії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різновид BTL найкраще проводити на вулицях одноразово чи кількома хвилями. Головними точками організації семплінгів є місця масового скупчення людей, або місця концентрації споживачів певної аудиторії, наприклад біля вищих навчальних закладів з орієнтацією на студент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вичай використовується для просування нового товару на ринку, хоча і є практика розповсюдження безкоштовних зразків уже давно існуючої торговий марки, послуги чи товару. Вважається, що семплінг є одним із найефективніших засобів для підвищення рівня продаж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плін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це безкоштовна роздача пробних зразків продукції. Семплінги використовуються як для стимулювання збуту, так і в якості інструменту маркетингових досліджен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ирення зразків продукції і рекламних матеріалів здійснюється шляхом безкоштовної роздачі зразків або рекламних матеріалів в торгових точках, на вулицях, в клубах, на концертах і шоу-заходах, а також в інших місцях скупчення цільової аудиторії. Це один з найефективніших методів збільшення попиту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плін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цює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 просування товару на ринок, стимулювання збуту і продажів серед покупців. Він дозволяє безпосередньо ознайомитися з новим товаром, привертає увагу покупця до зміни якостей чи іміджу вже зарекомендованої марк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даного метод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залучити нових і утримати вже існуючих покупців шляхом вручення безкоштовного зразка продукції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ування товару на ринок відрізняється методами розповсюдження: в місцях продажу, поштою, разом з пресою, в місці проживання цільової аудиторії за принципом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кожні двері»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ивості товарів, які підходять для успішного семплінгу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Націленість на широку аудиторію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Велика потенційна місткість ринку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Невисока собівартість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Можливість багаторазових продажів товару одній і тій же особі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це такі товари, як засоби гігієни, продукти харчування, парфумерія.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плін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це ще й досить витратне стимулювання збут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ід враховувати вартість зразків продукції і послуг з проведення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плінг-акці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, необхідно забезпечити запас товару для семплінгу і для продажу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у від безкоштовної роздачі зразків продукції обов’язково буде досягнут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дже особисте знайомство з новим продуктом не можна замінити просто розповіддю про його перева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6320" y="151920"/>
            <a:ext cx="9067680" cy="6705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и проведення семплінг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ке підвищення рівня популярності рекламн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іст числа потенційних кліє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голос серед споживач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остання продажів вказаного товару, бренду, торгової м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сний товар віднайде свого покупця, а ми лише покажемо йому дорогу та проведемо до нь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685440"/>
            <a:ext cx="8686800" cy="57913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іфлейтінг (лифлейтинг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afleting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озповсюдження, роздача рекламних матеріалів (буклетів, листівок, «флаєрів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флетінг є, мабуть, найбільш поширенішим рекламним явищем сьогодення. Адже із здешевленням друку флаєрів, візиток, листівок різного формату, газет, набрав популярності цей різновид рекламної комунікації, який стали використовувати у своєму арсеналі як і відомі бренди, так і представники малого бізнесу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всюдження флаєрів чи газет стало хорошим засобом для анонсуванням новин компаній, майбутніх акцій, сезонних знижок. Цей підрозділ промоушн використовується як і систематично, так і однораз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520" y="404280"/>
            <a:ext cx="8610840" cy="619308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Мерчандайзинг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- це комплекс комунікаційних заходів, спрямований на збільшення обсягів продажу аптеками та їх відокремленими структурними підрозділами лікарсь­ких засобів конкретного виробника, в першу чергу безрецептурних препараті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Головна мета мерчандайзингу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більшити обсяг реалізації конкретних марок безрецептурних препаратів через їх популяризацію на основі спеціальних заходів з роз­міщення і викладки ліків, оформлення місць продажу в аптеках та їх відокремлених структурних підрозділ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Підпорядковані цілі мерчандайзинг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іпшення позитивного іміджу фірми-виробн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прощення процесу купівл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безпечення зручностей для відвідувач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береження постійних покупців і залучення нов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560" y="228600"/>
            <a:ext cx="8381880" cy="640080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і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L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ід анг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 the lin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ід рискою) з'явився порівняно недавно. Приблизно в середині ми­нулого століття один з керівників великої компанії (мо­жли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ter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bl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кладав кошторис майбутніх витрат на маркетинг (бюджет маркетинг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ивши в нього стандартні елементи (реклама в пресі, на ТБ і радіо, розробка ново­го пакунка й т. д.), він підвів риску й згадав, що не вра­хував роздачі безкоштовних зразків товару, витрати на організацію міського свята, на якому люди будуть «ви­пробовувати» вироблену компанією продукці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­хувавши всі додаткові витрати, він склав остаточний кошторис, а за переліками закріпилися назви ATL (at the line — над рискою) і B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520" y="457200"/>
            <a:ext cx="8534520" cy="601992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ьогодні не існує загальновизнаної класифікації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L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ходів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питання залишається предметом дискусій для сучасних учених. ATL заходи пов'язані з розміщенням реклами в традиційних засобах масової інформації. До склад­ників ATL відносять: рекламу (друковані ЗМІ, радіо, телеба­чення, кіно (у т.ч. product placement), зовнішню рекламу (у т. ч. рекламу на транспорті), а також indoor-vid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кладу BTL заходів відносять: стимулювання збуту, персональний продаж, паблік рілейшнз, директ-маркетинг, подвійний маркетинг, спонсорство, мерчандайзинг, POS-ма- теріали та інші. Нині BTL — це інтегрований комплекс мар­кетингових заходів, який не включає традиційних медіа. У зв'язку з тим, що термін з'явився недавно, чітко ще не визна­чено, які саме заходи слід відносити до below the line, відсут­ня стала класифікація BTL-технологі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04920" y="75960"/>
            <a:ext cx="8610480" cy="662940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BTL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 —</a:t>
            </a: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222222"/>
                </a:solidFill>
                <a:latin typeface="Arial"/>
              </a:rPr>
              <a:t>це елемент реклами, що є частиною довгострокової стратегії виведення бренду (марки) на ринок. Він пропонує короткі (або довгострокові) маркетингові інструменти для досягнення специфічних ринкових цілей протягом певного періоду ч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380520"/>
            <a:ext cx="8763120" cy="632484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22"/>
                </a:solidFill>
                <a:latin typeface="Arial"/>
              </a:rPr>
              <a:t>BTL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222222"/>
                </a:solidFill>
                <a:latin typeface="Arial"/>
              </a:rPr>
              <a:t>традиційно включає</a:t>
            </a: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демонстрації і дегустації продуктів (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mpling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масові заходи (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ents: </a:t>
            </a: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презентації семінари прес-конференції, вечірки тощо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лотереї, конкурс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стимулювання продажу (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promotion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спонсорст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сувенірну продукці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паблісіті/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дизайн-упаков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мерчандайзинг (оформлення місця продажу товарі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рекламу в інтерактивних засобах комунікації (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ternet </a:t>
            </a: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тощо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використання нетрадиційних рекламних носіїв і практично будь-які дії, що сприяють просуванню товару на р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кладу BTL заходів віднося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имулювання збуту, персональний продаж, паблік рілейшнз, директ-маркетинг, подвійний маркетинг, спонсорство, мерчандайзинг, POS-матеріали та інші. Нині BTL — це інтегрований комплекс мар­кетингових заходів, який не включає традиційних медіа. У зв'язку з тим, що термін з'явився недавно, чітко ще не визна­чено, які саме заходи слід відносити до below the line, відсут­ня стала класифікація BTL-технолог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. представ­лені основні складники B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 Windows</cp:lastModifiedBy>
  <dcterms:modified xsi:type="dcterms:W3CDTF">2020-04-10T09:07:4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