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9"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move the slide</a:t>
            </a:r>
            <a:endParaRPr b="0" lang="en-US" sz="2600" spc="-1" strike="noStrike">
              <a:solidFill>
                <a:srgbClr val="262626"/>
              </a:solidFill>
              <a:latin typeface="Gill Sans MT"/>
            </a:endParaRPr>
          </a:p>
        </p:txBody>
      </p:sp>
      <p:sp>
        <p:nvSpPr>
          <p:cNvPr id="21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2"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3"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C371-8D65-4AEF-BD6B-19EEF845A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1143000"/>
            <a:ext cx="4114800" cy="3086280"/>
          </a:xfrm>
          <a:prstGeom prst="rect">
            <a:avLst/>
          </a:prstGeom>
          <a:ln w="0">
            <a:noFill/>
          </a:ln>
        </p:spPr>
      </p:sp>
      <p:sp>
        <p:nvSpPr>
          <p:cNvPr id="2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7807-68B4-42CB-8B60-A5986E92BBAF}" type="slidenum">
              <a:rPr b="0" lang="uk-UA" sz="1200" spc="-1" strike="noStrike">
                <a:solidFill>
                  <a:srgbClr val="000000"/>
                </a:solidFill>
                <a:latin typeface="Trebuchet MS"/>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F38C0-2AC8-44C0-9C14-3C6DD99BD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7"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979D-9439-4C43-828E-F9905B99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0"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68E86-D700-49F9-8D51-77230AA25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5"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C66C5-E672-4DB6-BCB5-8B766A85E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7CE5B-478F-4540-BC06-841F767DD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47"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05581-927B-47C4-BD4E-2E78B597E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49"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A2DA5-E32F-4AA9-B95D-3F5B9C56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51"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7A5EE-38E7-47ED-97E0-C2A29E0D6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BB7F9-06A4-4AED-AF05-CDFC96CEE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02229-23C9-46B3-B841-393B1FF76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56"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009D1-1F66-40D5-BBE0-CA279DEC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3A1B-C28D-4AFD-B242-E3D318CB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0"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0574D-EC23-4E1E-897F-398972003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4"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3218-0EAE-4B22-966C-921F69B4F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8"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D32DC-B01C-4100-99C5-58795AB9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71"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77043-AE78-4910-8DD8-9B3E71E1E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76"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632CF-5DA1-4BE4-80BB-D8442BD0F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30EBE4-FED7-40AD-9776-E1E858D99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88"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832FC-72D0-43E1-85E7-C0710D852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0"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E7DDF-FF95-47E6-827C-15FA4614C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2"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41408-3510-4C39-A449-12F56FECE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76357-D351-48C0-A73C-C80B6DE6F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8"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858DA-D170-4CB5-813E-5A64FEDBB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B7DF6-A778-4989-9C8F-C96BE0662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7"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524C0-94F9-4A58-88FD-D57F03A6D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1"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E9577-4F4F-46D1-9FFF-D855E40A2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5"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02CBF-F5D5-4C1E-B256-599724504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9"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22CF4-2A0B-4F30-A452-E7BF994C1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12"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3BF85-3421-4AB8-B05A-5E3455B51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17"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75546B-7EE5-4120-9E06-8A954DD1C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14F3A3-26F2-4CA9-8C38-4667B483B4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0"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7564C-AF2F-4311-AB82-AFE35FFA8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2"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D9F18-0E91-4927-9A09-14CA1702B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7D0DC-6811-432A-BE35-6304FC38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4"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17CC4-9CD5-4768-829F-779DA87DB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92D975-1F97-4FCE-9BED-703CF1276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72B18-FF0D-4B8D-A7C6-D9B38D8FB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9"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91D4A-D42A-485D-BE69-445C14490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43"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5E971-166E-412A-96A2-7D87461D3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47"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25DA9-E333-482B-BD03-8466C1DA8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1"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9F2B2-E964-4157-8C05-E200AE0FA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4"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17D79-4B59-43A7-8B6A-FB2E0C10D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9"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0F735D-740E-485C-827E-68FD4D908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A3ECFF-A19C-4409-A3A2-25B62A5E1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BFD5-D748-4839-98A5-A3A7B72A3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2"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858B7-E6C4-4773-B175-A525B9513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4"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97D7D-9399-4949-B9BC-35AD32C2B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6"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698AC-F2E0-4D1A-BFE1-3648DA4DE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D271F-D10F-44AC-A978-9D298C6E7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E57F8-A12C-4564-B2F6-18190A451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1"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BA1B4-8DA5-4F2C-96E9-7055FEBF5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5"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ADDE5-A825-42E0-965E-18F666B66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9"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A051F-FFF3-4AF3-87DD-519BD5046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3"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643EC1-B0B9-47A4-9F8C-1580C8ABF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6"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C7300-CD33-4600-B459-0B50C64D5A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18D5-8EEA-43BA-B062-D566240A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01"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0D35D-89A9-4448-B4EC-DBEB0769D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3862-AC2F-4E1D-9DCA-5C94AEF8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1964-0994-4F03-8C4F-6CD9CC128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3"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78EF-DA7D-4E14-BA48-1D2488FDF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B9C7-8D2C-4313-90EF-2C91304106BE}"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b4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42"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C704-36C6-4505-B8B1-20DF39166B7D}"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b4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83"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7D43-F697-43B2-B58F-3F27F275A5DD}"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123" name="Rectangle 25"/>
          <p:cNvSpPr/>
          <p:nvPr/>
        </p:nvSpPr>
        <p:spPr>
          <a:xfrm>
            <a:off x="0" y="0"/>
            <a:ext cx="457200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25"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1"/>
          </p:nvPr>
        </p:nvSpPr>
        <p:spPr>
          <a:xfrm>
            <a:off x="641520" y="6235200"/>
            <a:ext cx="3805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722A-04B7-40C1-AA82-483253BE270D}"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165" name="Rectangle 17"/>
          <p:cNvSpPr/>
          <p:nvPr/>
        </p:nvSpPr>
        <p:spPr>
          <a:xfrm>
            <a:off x="0" y="0"/>
            <a:ext cx="457200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67"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4"/>
          </p:nvPr>
        </p:nvSpPr>
        <p:spPr>
          <a:xfrm>
            <a:off x="639720" y="6235200"/>
            <a:ext cx="38037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FDD1-E757-4FF5-84B5-3BCBC6F9EE4F}"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179280" y="1657800"/>
            <a:ext cx="8785440" cy="1922760"/>
          </a:xfrm>
          <a:prstGeom prst="rect">
            <a:avLst/>
          </a:prstGeom>
          <a:solidFill>
            <a:srgbClr val="eceae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Times New Roman"/>
                <a:ea typeface="Times New Roman"/>
              </a:rPr>
              <a:t>Дисципліна:</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Times New Roman"/>
                <a:ea typeface="Times New Roman"/>
              </a:rPr>
              <a:t>«Мерчендайзинг»</a:t>
            </a:r>
            <a:endParaRPr b="0" lang="en-US" sz="6000" spc="-1" strike="noStrike">
              <a:solidFill>
                <a:srgbClr val="000000"/>
              </a:solidFill>
              <a:latin typeface="Arial"/>
            </a:endParaRPr>
          </a:p>
        </p:txBody>
      </p:sp>
      <p:sp>
        <p:nvSpPr>
          <p:cNvPr id="215"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Головня Олена Михайлів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Объект 3" descr=""/>
          <p:cNvPicPr/>
          <p:nvPr/>
        </p:nvPicPr>
        <p:blipFill>
          <a:blip r:embed="rId1"/>
          <a:srcRect l="21604" t="25256" r="33908" b="7402"/>
          <a:stretch/>
        </p:blipFill>
        <p:spPr>
          <a:xfrm>
            <a:off x="762120" y="554040"/>
            <a:ext cx="8076960" cy="62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380520"/>
            <a:ext cx="8229600" cy="5745240"/>
          </a:xfrm>
          <a:prstGeom prst="rect">
            <a:avLst/>
          </a:prstGeom>
          <a:noFill/>
          <a:ln w="0">
            <a:noFill/>
          </a:ln>
        </p:spPr>
        <p:txBody>
          <a:bodyPr anchor="t">
            <a:normAutofit fontScale="98000"/>
          </a:bodyPr>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Створення планограм - це трудоємкий процес, тому їх рідко використовують українські торгові мережі. Засоби автоматизації цього процесу дорогі та не доступні для усіх рітейлерів (для прикладу програмні продукти компанії Nielsen). Планограма являє собою план-схему викладки асортименту в торгівельному залі. Це документ, що містить точне зображення викладки товарів з детальним розміщенням асортиментних позицій на торговому обладнанні.</a:t>
            </a:r>
            <a:endParaRPr b="0" lang="en-US" sz="2000" spc="-1" strike="noStrike">
              <a:solidFill>
                <a:srgbClr val="262626"/>
              </a:solidFill>
              <a:latin typeface="Gill Sans M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        </a:t>
            </a:r>
            <a:r>
              <a:rPr b="0" lang="ru-RU" sz="2000" spc="-1" strike="noStrike">
                <a:solidFill>
                  <a:srgbClr val="262626"/>
                </a:solidFill>
                <a:latin typeface="Corbel"/>
              </a:rPr>
              <a:t>Правильно складені планограми допомагають:</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рітейлерам - </a:t>
            </a:r>
            <a:r>
              <a:rPr b="0" lang="ru-RU" sz="2000" spc="-1" strike="noStrike">
                <a:solidFill>
                  <a:srgbClr val="262626"/>
                </a:solidFill>
                <a:latin typeface="Corbel"/>
              </a:rPr>
              <a:t>задовольнити потреби покупця; збільшити товарообіг, кількість покупців, середній чек; отримати від постачальників вигоду з розміщень товарів; збільшити продажі товарів із найбільшою маржею;</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постачальникам - </a:t>
            </a:r>
            <a:r>
              <a:rPr b="0" lang="ru-RU" sz="2000" spc="-1" strike="noStrike">
                <a:solidFill>
                  <a:srgbClr val="262626"/>
                </a:solidFill>
                <a:latin typeface="Corbel"/>
              </a:rPr>
              <a:t>займати кращі місця на полиці, викладати «свій» товар єдиним блоком;</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покупцям - </a:t>
            </a:r>
            <a:r>
              <a:rPr b="0" lang="ru-RU" sz="2000" spc="-1" strike="noStrike">
                <a:solidFill>
                  <a:srgbClr val="262626"/>
                </a:solidFill>
                <a:latin typeface="Corbel"/>
              </a:rPr>
              <a:t>легко знаходити потрібні товари, зручно брати товари з полиць.</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Планограмма выкладки товара что это такое и с какой целью используется"/>
          <p:cNvPicPr/>
          <p:nvPr/>
        </p:nvPicPr>
        <p:blipFill>
          <a:blip r:embed="rId1"/>
          <a:stretch/>
        </p:blipFill>
        <p:spPr>
          <a:xfrm>
            <a:off x="-685800" y="152280"/>
            <a:ext cx="10439280" cy="649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85800"/>
            <a:ext cx="8229600" cy="54403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       </a:t>
            </a:r>
            <a:r>
              <a:rPr b="0" lang="ru-RU" sz="2000" spc="-1" strike="noStrike">
                <a:solidFill>
                  <a:srgbClr val="262626"/>
                </a:solidFill>
                <a:latin typeface="Corbel"/>
              </a:rPr>
              <a:t>Можливими вигодами застосування магазинами такої планограми буде:</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краще розуміння руху клієнтів торговим залом та коригування їхнього маршрут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оптимальне розміщення супутніх товарів та акційних стендів;</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визначення “гарячих” та “холодних” зон магазин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визначення правильних місць для встановлення вказівників.</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262626"/>
                </a:solidFill>
                <a:latin typeface="Corbel"/>
              </a:rPr>
              <a:t>Підсумовуючи зазначимо, що планограми є дуже широко функціональним інструментом за допомогою якого можна і треба планувати та покращувати розміщення товарів в магазинах, складах та на полицях; планувати взаємодії з споживачами що дасть можливість збільшувати продажі та дохід. Правильне і раціональне використання та аналіз планограм принесе тільки користь для вашого бізнес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456840"/>
            <a:ext cx="8229600" cy="61722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Для вирішення зазначених проблем в діяльності підприємств роздрібної торгівлі України доцільно:</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1) передбачити, що розробкою плану мерчендайзингу як складової комерційної діяльності в крупних роздрібних торговельних підприємствах повинен займатися комерційний апарат, натомість в малих і середніх магазинах план мерчендайзингу має розробляти директор (завідуючий магазину) у співпраці з мерчендайзерами постачальників.</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2) впроваджувати в практику торговельної діяльності управління "за категоріями";</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3) передбачати "м'які" форми співпраці виробників з підприємствами роздрібної торгівлі щодо впровадження інструментарію мерчендайзингу, які б ґрунтувалися на роз'ясненні переваг та економічної вигоди для останніх від застосування рекомендованих варіантів технологічних схем і способів організації викладки товарів;</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4) оптимізовувати розміщування та викладання товарів у торговельних залах магазинів, в т.ч. розробляти для них планограми;</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5) розробляти і впроваджувати в магазинах Стандарти мерчендайзингу.</a:t>
            </a:r>
            <a:endParaRPr b="0" lang="en-US" sz="1800" spc="-1" strike="noStrike">
              <a:solidFill>
                <a:srgbClr val="262626"/>
              </a:solidFill>
              <a:latin typeface="Gill Sans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28600"/>
            <a:ext cx="8229600" cy="589752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андарт мерчендайзингу магазину </a:t>
            </a:r>
            <a:r>
              <a:rPr b="0" lang="ru-RU" sz="2000" spc="-1" strike="noStrike">
                <a:solidFill>
                  <a:srgbClr val="262626"/>
                </a:solidFill>
                <a:latin typeface="Times New Roman"/>
                <a:ea typeface="Times New Roman"/>
              </a:rPr>
              <a:t>— корпоративний документ, який розробляється та впроваджується з метою підтримки системи мерчендайзингу в торговельній компанії.</a:t>
            </a:r>
            <a:endParaRPr b="0" lang="en-US" sz="20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андарт мерчендайзингу </a:t>
            </a:r>
            <a:r>
              <a:rPr b="0" lang="ru-RU" sz="2000" spc="-1" strike="noStrike">
                <a:solidFill>
                  <a:srgbClr val="262626"/>
                </a:solidFill>
                <a:latin typeface="Times New Roman"/>
                <a:ea typeface="Times New Roman"/>
              </a:rPr>
              <a:t>потрібен для того, щоб керівництво торговельної компанії (підприємства, магазину) змогло визначити та сформулювати всі вимоги щодо системи мерчендайзингу з врахуванням специфіки товару, особливостей попиту потенційних покупців та концепції торговельної діяльності компанії (підприємства, магазину). Стандарт мерчендайзингу потрібен також для того, щоб весь персонал магазину (підприємства, компанії) мав однакове уявлення про те, що і як слід робити з метою організації системи мерчендайзингу в магазині. Більше того, цей документ дає можливості оцінити дії працівників з підтримання цієї системи мерчендайзингу в магазині.</a:t>
            </a:r>
            <a:endParaRPr b="0" lang="en-US" sz="20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09120"/>
            <a:ext cx="8229600" cy="5715000"/>
          </a:xfrm>
          <a:prstGeom prst="rect">
            <a:avLst/>
          </a:prstGeom>
          <a:noFill/>
          <a:ln w="0">
            <a:noFill/>
          </a:ln>
        </p:spPr>
        <p:txBody>
          <a:bodyPr anchor="t">
            <a:norm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У Стандарті мерчендайзинг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чітко сформульовані всі правила, вимоги та рекомендації щодо організації системи мерчендайзингу в магазині;</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наведені планограми розташування торговельного обладнання;</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наведені планограми викладки товарів з детальними коментарями.</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руктура Стандартів мерчендайзингу традиційно включа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Загальні положення, в яких визначаються загальні правила мерчендайзингу для товарів, котрими торгує магазин;</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Схема торгового залу — у формі плану-схеми розташування в торговому залі торговельного обладнання з вказанням розмірів торгового залу та обладнання, а також з відображенням місця розташування товарних груп;</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Планограми викладки товарів </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51920" y="152280"/>
            <a:ext cx="8915400" cy="6553440"/>
          </a:xfrm>
          <a:prstGeom prst="rect">
            <a:avLst/>
          </a:prstGeom>
          <a:noFill/>
          <a:ln w="0">
            <a:noFill/>
          </a:ln>
        </p:spPr>
        <p:txBody>
          <a:bodyPr anchor="t">
            <a:normAutofit/>
          </a:bodyPr>
          <a:p>
            <a:pPr algn="just">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Обов'язковими елементами Стандарту мерчендайзингу вважаються:</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асортиментного ряду (перелік обов'язкових для представлення в даній групі позицій товарів);</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кількості кожного представленого артикулу товару (мінімально допустима кількість одиниць товарів по кожному артикулу);</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значення конкретних місць (точок) продажу, розмірів та площі обладнання (вітрин, прилавків. полиць і т.п.), на котрих розташовується товар;</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фейсингу — визначення особливостей викладання товарів у першому ряду стелажу чи вітрини (кількість пакувань товару кожного артикулу, визначення лицевої сторони пакування, кут розташування товару на полиці, розмір викладуваного вагового товару, розташування зрізу куска того чи іншого різновиду продуктів харчування, послідовність розташування різних артикулів товарів однієї торгової марки);</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розташування у магазині рекламних матеріалів;</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цінників (розташування цінника, оформлення цінника, його зміст);</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додаткові пояснення та коментарі щодо особливостей розташовування товару в конкретному магазині, в т.ч. — з врахуванням особливостей даного товару;</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пояснення щодо розташовування товарів на випадок відсутності в продажу окремих товарів чи товарних груп;</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інформація про сезонні зміни асортименту, про зміни у виділенні під певні товари торгової або демонстраційної площі.</a:t>
            </a:r>
            <a:endParaRPr b="0" lang="en-US" sz="1600" spc="-1" strike="noStrike">
              <a:solidFill>
                <a:srgbClr val="262626"/>
              </a:solidFill>
              <a:latin typeface="Gill Sans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Объект 4" descr=""/>
          <p:cNvPicPr/>
          <p:nvPr/>
        </p:nvPicPr>
        <p:blipFill>
          <a:blip r:embed="rId1"/>
          <a:stretch/>
        </p:blipFill>
        <p:spPr>
          <a:xfrm>
            <a:off x="304920" y="838080"/>
            <a:ext cx="85723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380520"/>
            <a:ext cx="8229600" cy="5745240"/>
          </a:xfrm>
          <a:prstGeom prst="rect">
            <a:avLst/>
          </a:prstGeom>
          <a:solidFill>
            <a:srgbClr val="eceae8"/>
          </a:solid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2626"/>
                </a:solidFill>
                <a:latin typeface="Times New Roman"/>
                <a:ea typeface="Times New Roman"/>
              </a:rPr>
              <a:t>ТЕМА: </a:t>
            </a:r>
            <a:endParaRPr b="0" lang="en-US" sz="6000" spc="-1" strike="noStrike">
              <a:solidFill>
                <a:srgbClr val="262626"/>
              </a:solidFill>
              <a:latin typeface="Gill Sans MT"/>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2626"/>
                </a:solidFill>
                <a:latin typeface="Times New Roman"/>
                <a:ea typeface="Times New Roman"/>
              </a:rPr>
              <a:t>ОРГАНІЗАЦІЯ РОБОТИ МЕРЧЕНДАЙЗЕРА</a:t>
            </a:r>
            <a:endParaRPr b="0" lang="en-US" sz="6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990720"/>
            <a:ext cx="8686800" cy="4749840"/>
          </a:xfrm>
          <a:prstGeom prst="rect">
            <a:avLst/>
          </a:prstGeom>
          <a:solidFill>
            <a:srgbClr val="eceae8"/>
          </a:solidFill>
          <a:ln w="0">
            <a:noFill/>
          </a:ln>
        </p:spPr>
        <p:txBody>
          <a:bodyPr anchor="t">
            <a:norm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ПЛАН</a:t>
            </a:r>
            <a:endParaRPr b="0" lang="en-US" sz="4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1. Планограма в мерчандайзингу</a:t>
            </a:r>
            <a:endParaRPr b="0" lang="en-US" sz="4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2. Стандарт менрчендайзингу</a:t>
            </a:r>
            <a:endParaRPr b="0" lang="en-US" sz="4000" spc="-1" strike="noStrike">
              <a:solidFill>
                <a:srgbClr val="262626"/>
              </a:solidFill>
              <a:latin typeface="Gill Sans MT"/>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28600" y="151920"/>
            <a:ext cx="8686800" cy="66294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Обов'язковою умовою ефективності комплексу мерчендайзингу є системний характер реалізації всіх запропонованих заходів і подальший контроль виконання програми мерчендайзингу.</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Основними напрямками діяльності та контролю у підприємствах торгівлі при застосуванні практики мерчендайзингу є:</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наявність товарів власної фірми у магазині, їх кількість та асортимент;</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якість і терміни придатності товарів;</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правильне, максимально ефективне і по можливості ефектне розміщування та викладання товарів на полицях, стендах і вітринах;</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розміщування реклами та рекламних атрибутів;</a:t>
            </a:r>
            <a:endParaRPr b="0" lang="en-US" sz="22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наявність реклами конкурентів і їх дії з просування своєї продукції</a:t>
            </a:r>
            <a:endParaRPr b="0" lang="en-US" sz="22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04920" y="76320"/>
            <a:ext cx="8229600" cy="6248160"/>
          </a:xfrm>
          <a:prstGeom prst="rect">
            <a:avLst/>
          </a:prstGeom>
          <a:noFill/>
          <a:ln w="0">
            <a:noFill/>
          </a:ln>
        </p:spPr>
        <p:txBody>
          <a:bodyPr anchor="t">
            <a:norm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62626"/>
                </a:solidFill>
                <a:latin typeface="Times New Roman"/>
                <a:ea typeface="Times New Roman"/>
              </a:rPr>
              <a:t>Проблеми застосування мерчендайзинг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Основними проблемами застосування ідей та інструментарію мерчендайзингу у вітчизняній торговельній практиці 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1) відсутність інформації про витрати обігу по кожному товару і неможливість розрахувати точно показники прямої доходності товар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2) архаїчність застосовуваних форм і методів продажу товарів. Мерчендайзинг вимагає насамперед застосування самообслуговування; а не продажу товарів-за відсталими технологіями;</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3) неможливість застосування комплексу мерчендайзингу в малих магазинах (при застосуванні лише окремих принципів він не спрацьову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4) дороговизна проведення детального аналізу витрат (а) по товарах; б) по видах діяльності) для більшості невеликих магазинів.</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60"/>
            <a:ext cx="8305920" cy="6629400"/>
          </a:xfrm>
          <a:prstGeom prst="rect">
            <a:avLst/>
          </a:prstGeom>
          <a:noFill/>
          <a:ln w="0">
            <a:noFill/>
          </a:ln>
        </p:spPr>
        <p:txBody>
          <a:bodyPr anchor="t">
            <a:normAutofit fontScale="99000"/>
          </a:bodyPr>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Для ефективної організації робіт з викладення товарів у магазинах доцільно розробляти та застосовувати спеціальні </a:t>
            </a:r>
            <a:r>
              <a:rPr b="0" lang="ru-RU" sz="2400" spc="-1" strike="noStrike">
                <a:solidFill>
                  <a:srgbClr val="262626"/>
                </a:solidFill>
                <a:latin typeface="Corbel"/>
              </a:rPr>
              <a:t>технологічні карти (планограми) </a:t>
            </a:r>
            <a:r>
              <a:rPr b="0" lang="ru-RU" sz="2400" spc="-1" strike="noStrike">
                <a:solidFill>
                  <a:srgbClr val="262626"/>
                </a:solidFill>
                <a:latin typeface="Corbel"/>
              </a:rPr>
              <a:t>для кожного виду торговельно-технологічного обладнання, що використовується для викладення товарів.</a:t>
            </a:r>
            <a:endParaRPr b="0" lang="en-US" sz="2400" spc="-1" strike="noStrike">
              <a:solidFill>
                <a:srgbClr val="262626"/>
              </a:solidFill>
              <a:latin typeface="Gill Sans MT"/>
            </a:endParaRPr>
          </a:p>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 </a:t>
            </a:r>
            <a:r>
              <a:rPr b="0" lang="ru-RU" sz="2400" spc="-1" strike="noStrike">
                <a:solidFill>
                  <a:srgbClr val="262626"/>
                </a:solidFill>
                <a:latin typeface="Corbel"/>
              </a:rPr>
              <a:t>У таких технологічних картах потрібно визначати місця викладення конкретних товарів, послідовність розташування окремих різновидів товарів у групі з урахуванням їх взаємозамінності, найбільш зручні способи та прийоми викладення товарів на даному торгово-технологічному обладнанні. </a:t>
            </a:r>
            <a:endParaRPr b="0" lang="en-US" sz="2400" spc="-1" strike="noStrike">
              <a:solidFill>
                <a:srgbClr val="262626"/>
              </a:solidFill>
              <a:latin typeface="Gill Sans MT"/>
            </a:endParaRPr>
          </a:p>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При цьому орієнтуються на раціональне використання демонстраційної площі кожної одиниці обладнання та максимальне заповнення простору між товаронесучими елементами (наприклад полицями гірок) різних рівнів.</a:t>
            </a:r>
            <a:endParaRPr b="0" lang="en-US" sz="24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04920" y="6480"/>
            <a:ext cx="8229600" cy="67752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62626"/>
                </a:solidFill>
                <a:latin typeface="Times New Roman"/>
                <a:ea typeface="Times New Roman"/>
              </a:rPr>
              <a:t>Планограма </a:t>
            </a:r>
            <a:r>
              <a:rPr b="0" lang="ru-RU" sz="2800" spc="-1" strike="noStrike">
                <a:solidFill>
                  <a:srgbClr val="262626"/>
                </a:solidFill>
                <a:latin typeface="Times New Roman"/>
                <a:ea typeface="Times New Roman"/>
              </a:rPr>
              <a:t>- це графічне зображення викладки товару на конкретному торговельному обладнанні магазину. Графічне зображення може бути у вигляді фотографії, схеми та рисунка. Відповідні зображення доповнюються докладними коментарями щодо викладки тих чи інших товарів.</a:t>
            </a:r>
            <a:endParaRPr b="0" lang="en-US" sz="2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Times New Roman"/>
                <a:ea typeface="Times New Roman"/>
              </a:rPr>
              <a:t>Планограми викладки товарів — графічне зображення (у формі фотографії, схеми, рисунку) викладки товару на конкретному торговельному обладнанні магазину з необхідними поясненнями та коментарями.</a:t>
            </a:r>
            <a:endParaRPr b="0" lang="en-US" sz="2800" spc="-1" strike="noStrike">
              <a:solidFill>
                <a:srgbClr val="262626"/>
              </a:solidFill>
              <a:latin typeface="Gill Sans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Объект 3" descr=""/>
          <p:cNvPicPr/>
          <p:nvPr/>
        </p:nvPicPr>
        <p:blipFill>
          <a:blip r:embed="rId1"/>
          <a:srcRect l="0" t="26939" r="24442" b="7402"/>
          <a:stretch/>
        </p:blipFill>
        <p:spPr>
          <a:xfrm>
            <a:off x="152280" y="1143000"/>
            <a:ext cx="87346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dcterms:modified xsi:type="dcterms:W3CDTF">2021-04-19T19:38:5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