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7579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7572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89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27520" y="0"/>
            <a:ext cx="29289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58840" y="1233360"/>
            <a:ext cx="4440240" cy="332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76080" y="4747680"/>
            <a:ext cx="540540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0" y="9370800"/>
            <a:ext cx="292896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27520" y="9370800"/>
            <a:ext cx="292896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E154-4748-4612-8421-8C8967988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8840" y="1233360"/>
            <a:ext cx="4440240" cy="33292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6080" y="4747680"/>
            <a:ext cx="540540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27520" y="9371160"/>
            <a:ext cx="29289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E908-C2E3-4285-A5E5-1196EA960559}" type="slidenum">
              <a:rPr b="0" lang="uk-UA" sz="1200" spc="-1" strike="noStrike">
                <a:solidFill>
                  <a:srgbClr val="000000"/>
                </a:solidFill>
                <a:latin typeface="Trebuchet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CA85-CB52-45BE-8978-A62846B0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051F-22A3-4DF3-98C4-E58C167D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64C3-72C9-49F3-A8B8-E2D1DD288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3CB2-3725-43E0-B6FF-9809558D5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37E7-F09B-4F0B-906B-559F575B0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EF33-EC14-4536-BDA6-7E11E202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FBBB-729B-4C15-B90C-0958BB4E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B1F9-51F8-403C-ADDF-D9D8CBF5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6628-6059-4E9A-ADC4-E5B1207C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2693-C263-4831-951B-76A64DE5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91AD-F450-48A2-AECC-226B6F48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199D-FC72-49A7-8E4E-C7F98889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0015-A8FE-4558-909A-57ADCF58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2EE1-B7D1-4F15-B719-76E9AD77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2638-C7EA-4F8B-BA48-AFA60418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8430-2BCA-409C-AE40-26A45B46C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F9FC-88DB-4623-ADE8-C44A9CE51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6FF35-36E9-4CCF-846D-1B8D819CC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AE662-13BA-4468-A81A-E12C1ECC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5A98B-506F-4BC0-8B70-1E4F8B7F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A1128-FB89-4E40-8513-40CB19FA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EB76B-0CB1-4688-9D17-23A63482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D778-D51D-443D-9156-28DDD2C8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943E2-012F-45D3-A918-7D5E083A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D881C-298E-4E62-8850-2987F826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BA4CC-B5F8-4D29-BBFB-E54B64CB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851F9-37E5-4092-ABD7-194074D6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19FDF-82E7-44BF-B7BA-6C10E256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E3264-D166-43DE-856A-9F10F9D81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4CA01-8E8A-476C-A5F0-A33ADF59F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0AB12-BDF5-4287-AAEB-B40909A21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08AD4-50F4-4725-8C25-B73E2025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5298D-C43A-4D4A-B5AC-98F24E30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2AD8-F86D-4CB5-BED7-CE30DF12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BA92E-B06A-49D9-9C22-081EE7EC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46507-A8EE-45B8-A173-5AAAA6C7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3162E-A070-489D-9F03-AE2A476C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7A8D8-855C-4A80-8B73-7998569A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1D7FC-E640-461E-A5EF-2544826A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DF599-BD3B-47A3-B689-810904C8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2DB3C-0AF4-473E-97A3-AF79B64C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74169-5C90-4E78-A3A2-6000B2CD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20F5F-2640-4502-A3F5-415FD42A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F54B-9B90-476C-B3E1-ABE665B9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FA50-7ECC-4717-883E-14CBB907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3197-1B36-4AE5-AA49-499E3B48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6079-25F4-47E7-869D-B72B6708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099F-53DF-4962-A722-C79C9F5B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69DB-DA36-4694-98B7-618ACC7C27D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9649-6DE2-49B5-B27B-137084762D3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6EFC-9095-4302-82E4-86270C93CE7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FB3E-7CBE-4712-8A64-C8B2E64D5BF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rbis-nbuv.gov.ua/cgi-bin/irbis_nbuv/cgiirbis_64.exe?Z21ID=&amp;I21DBN=UJRN&amp;P21DBN=UJRN&amp;S21STN=1&amp;S21REF=10&amp;S21FMT=fullwebr&amp;C21COM=S&amp;S21CNR=20&amp;S21P01=0&amp;S21P02=0&amp;S21P03=A=&amp;S21COLORTERMS=1&amp;S21STR=&#1050;&#1080;&#1088;&#1080;&#1095;&#1086;&#1082;%20&#1040;$" TargetMode="External"/><Relationship Id="rId2" Type="http://schemas.openxmlformats.org/officeDocument/2006/relationships/hyperlink" Target="http://www.irbis-nbuv.gov.ua/cgi-bin/irbis_nbuv/cgiirbis_64.exe?Z21ID=&amp;I21DBN=UJRN&amp;P21DBN=UJRN&amp;S21STN=1&amp;S21REF=10&amp;S21FMT=fullwebr&amp;C21COM=S&amp;S21CNR=20&amp;S21P01=0&amp;S21P02=0&amp;S21P03=A=&amp;S21COLORTERMS=1&amp;S21STR=&#1050;&#1080;&#1088;&#1080;&#1095;&#1086;&#1082;%20&#1040;$" TargetMode="External"/><Relationship Id="rId3" Type="http://schemas.openxmlformats.org/officeDocument/2006/relationships/hyperlink" Target="http://www.irbis-nbuv.gov.ua/cgi-bin/irbis_nbuv/cgiirbis_64.exe?Z21ID=&amp;I21DBN=UJRN&amp;P21DBN=UJRN&amp;S21STN=1&amp;S21REF=10&amp;S21FMT=JUU_all&amp;C21COM=S&amp;S21CNR=20&amp;S21P01=0&amp;S21P02=0&amp;S21P03=IJ=&amp;S21COLORTERMS=1&amp;S21STR=&#1046;23244:&#1057;&#1086;&#1094;.&#1082;&#1086;&#1084;&#1091;&#1085;." TargetMode="External"/><Relationship Id="rId4" Type="http://schemas.openxmlformats.org/officeDocument/2006/relationships/hyperlink" Target="http://nbuv.gov.ua/UJRN/drsk_2015_1_27" TargetMode="External"/><Relationship Id="rId5" Type="http://schemas.openxmlformats.org/officeDocument/2006/relationships/hyperlink" Target="http://www.irbis-nbuv.gov.ua/cgi-bin/irbis_nbuv/cgiirbis_64.exe?Z21ID=&amp;I21DBN=UJRN&amp;P21DBN=UJRN&amp;S21STN=1&amp;S21REF=10&amp;S21FMT=fullwebr&amp;C21COM=S&amp;S21CNR=20&amp;S21P01=0&amp;S21P02=0&amp;S21P03=A=&amp;S21COLORTERMS=1&amp;S21STR=&#1044;&#1086;&#1089;&#1082;&#1110;&#1095;%20&#1051;$" TargetMode="External"/><Relationship Id="rId6" Type="http://schemas.openxmlformats.org/officeDocument/2006/relationships/hyperlink" Target="http://www.irbis-nbuv.gov.ua/cgi-bin/irbis_nbuv/cgiirbis_64.exe?Z21ID=&amp;I21DBN=UJRN&amp;P21DBN=UJRN&amp;S21STN=1&amp;S21REF=10&amp;S21FMT=JUU_all&amp;C21COM=S&amp;S21CNR=20&amp;S21P01=0&amp;S21P02=0&amp;S21P03=IJ=&amp;S21COLORTERMS=1&amp;S21STR=&#1046;25326" TargetMode="External"/><Relationship Id="rId7" Type="http://schemas.openxmlformats.org/officeDocument/2006/relationships/hyperlink" Target="http://nbuv.gov.ua/UJRN/gileya_2013_79_87" TargetMode="External"/><Relationship Id="rId8" Type="http://schemas.openxmlformats.org/officeDocument/2006/relationships/hyperlink" Target="http://www.irbis-nbuv.gov.ua/cgi-bin/irbis_nbuv/cgiirbis_64.exe?Z21ID=&amp;I21DBN=UJRN&amp;P21DBN=UJRN&amp;S21STN=1&amp;S21REF=10&amp;S21FMT=fullwebr&amp;C21COM=S&amp;S21CNR=20&amp;S21P01=0&amp;S21P02=0&amp;S21P03=A=&amp;S21COLORTERMS=1&amp;S21STR=&#1056;&#1072;&#1082;%20&#1054;$" TargetMode="External"/><Relationship Id="rId9" Type="http://schemas.openxmlformats.org/officeDocument/2006/relationships/hyperlink" Target="http://www.irbis-nbuv.gov.ua/cgi-bin/irbis_nbuv/cgiirbis_64.exe?Z21ID=&amp;I21DBN=UJRN&amp;P21DBN=UJRN&amp;S21STN=1&amp;S21REF=10&amp;S21FMT=JUU_all&amp;C21COM=S&amp;S21CNR=20&amp;S21P01=0&amp;S21P02=0&amp;S21P03=IJ=&amp;S21COLORTERMS=1&amp;S21STR=&#1046;73716" TargetMode="External"/><Relationship Id="rId10" Type="http://schemas.openxmlformats.org/officeDocument/2006/relationships/hyperlink" Target="http://nbuv.gov.ua/UJRN/Vnyua_2013_2_33" TargetMode="External"/><Relationship Id="rId11" Type="http://schemas.openxmlformats.org/officeDocument/2006/relationships/hyperlink" Target="http://www.irbis-nbuv.gov.ua/cgi-bin/irbis_nbuv/cgiirbis_64.exe?Z21ID=&amp;I21DBN=UJRN&amp;P21DBN=UJRN&amp;S21STN=1&amp;S21REF=10&amp;S21FMT=fullwebr&amp;C21COM=S&amp;S21CNR=20&amp;S21P01=0&amp;S21P02=0&amp;S21P03=A=&amp;S21COLORTERMS=1&amp;S21STR=&#1050;&#1072;&#1076;&#1085;&#1110;&#1095;&#1072;&#1085;&#1089;&#1100;&#1082;&#1080;&#1081;%20&#1044;$" TargetMode="External"/><Relationship Id="rId12" Type="http://schemas.openxmlformats.org/officeDocument/2006/relationships/hyperlink" Target="http://www.irbis-nbuv.gov.ua/cgi-bin/irbis_nbuv/cgiirbis_64.exe?Z21ID=&amp;I21DBN=UJRN&amp;P21DBN=UJRN&amp;S21STN=1&amp;S21REF=10&amp;S21FMT=JUU_all&amp;C21COM=S&amp;S21CNR=20&amp;S21P01=0&amp;S21P02=0&amp;S21P03=IJ=&amp;S21COLORTERMS=1&amp;S21STR=&#1046;28852:&#1052;&#1110;&#1078;&#1085;&#1072;&#1088;.&#1074;&#1110;&#1076;&#1085;." TargetMode="External"/><Relationship Id="rId13" Type="http://schemas.openxmlformats.org/officeDocument/2006/relationships/hyperlink" Target="http://nbuv.gov.ua/UJRN/VLNU_Mv_2012_29%281%29__10" TargetMode="External"/><Relationship Id="rId14" Type="http://schemas.openxmlformats.org/officeDocument/2006/relationships/hyperlink" Target="http://www.irbis-nbuv.gov.ua/cgi-bin/irbis_nbuv/cgiirbis_64.exe?Z21ID=&amp;I21DBN=UJRN&amp;P21DBN=UJRN&amp;S21STN=1&amp;S21REF=10&amp;S21FMT=fullwebr&amp;C21COM=S&amp;S21CNR=20&amp;S21P01=0&amp;S21P02=0&amp;S21P03=A=&amp;S21COLORTERMS=1&amp;S21STR=&#1056;&#1091;&#1078;&#1077;&#1085;&#1082;&#1086;%20&#1051;$" TargetMode="External"/><Relationship Id="rId15" Type="http://schemas.openxmlformats.org/officeDocument/2006/relationships/hyperlink" Target="http://www.irbis-nbuv.gov.ua/cgi-bin/irbis_nbuv/cgiirbis_64.exe?Z21ID=&amp;I21DBN=UJRN&amp;P21DBN=UJRN&amp;S21STN=1&amp;S21REF=10&amp;S21FMT=JUU_all&amp;C21COM=S&amp;S21CNR=20&amp;S21P01=0&amp;S21P02=0&amp;S21P03=IJ=&amp;S21COLORTERMS=1&amp;S21STR=&#1046;69514" TargetMode="External"/><Relationship Id="rId16" Type="http://schemas.openxmlformats.org/officeDocument/2006/relationships/hyperlink" Target="http://nbuv.gov.ua/UJRN/appol_2013_50_36" TargetMode="External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179280" y="1475640"/>
            <a:ext cx="8785440" cy="2287440"/>
          </a:xfrm>
          <a:prstGeom prst="rect">
            <a:avLst/>
          </a:prstGeom>
          <a:solidFill>
            <a:srgbClr val="dbf4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циплін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  <a:ea typeface="Arial"/>
              </a:rPr>
              <a:t>PR-</a:t>
            </a:r>
            <a:r>
              <a:rPr b="1" lang="uk-UA" sz="4400" spc="-1" strike="noStrike">
                <a:solidFill>
                  <a:srgbClr val="000000"/>
                </a:solidFill>
                <a:latin typeface="Trebuchet MS"/>
                <a:ea typeface="Arial"/>
              </a:rPr>
              <a:t>технології в готельному бізнесі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179280" y="4424400"/>
            <a:ext cx="89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ладач: д.е.н., доцент кафедри менеджменту зовнішньоекономічної діяльності, готельно-ресторанної справи та туриз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ня Олена Михайлі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 узгоджує цілі підсистем, інтегрує та аналізує різноманітні зворотні зв’язки, впливає на стан керуючої та керованої підсистем, гармонізує відносини між ними. Водночас ПР не є керуючою системою у традиційному розумінні, тобто вона не чинить директивних управлінських впливів. Вона координує взаємодію, оптимізує інформаційні процеси між підсистемами, впливає на них, є активним посередником в узгодженні та формуванні нових інтересів. Отже, ПР у силу своїх функцій одночасно входять до управлінської системи і знаходяться над нею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89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09480" y="549000"/>
            <a:ext cx="7491600" cy="54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оловними завданнями ПР у системі управління ринковою діяльністю  готельного  підприємства  </a:t>
            </a: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є такі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892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ормування та збереження суверенітету, індивідуальності, іміджу та легітимності фірми на ринку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892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лагоджування позитивних довготривалих партнерських зв’язків між підприємством і ринковими суб’єктам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892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рганізація та проведення іміджмейкерства та брендінгу як елементів цілеспрямованої ПР-діяльності у бізнесі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892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няття «індивідуальність» є досить близьким до поняття «суверенітет», а поняття «імідж» — до поняття «легітимність». </a:t>
            </a:r>
            <a:r>
              <a:rPr b="0" i="1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Індивідуальність</a:t>
            </a: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використовується підприємством передусім для закріплення і розширення своєї території, а імідж — для демонстрування та роз’яснення своєї ролі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89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539640" y="692280"/>
            <a:ext cx="80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егітимність</a:t>
            </a: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— це визнання або підтвердження законності якого-небудь права або повноваження. Легітимність  готельного підприємства   та його керівника пересікаються, але не збігаються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892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Як індивідуальність складається із фактів, так легітимність, імідж  готельного  підприємства   засновуються на цінностях. Вони ще більше від фактів підвладні різним оцінкам, які змінюються залежно від соціальних умов, а саме від часу і простору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892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바탕"/>
              </a:rPr>
              <a:t>Імідж  готельного підприємства залежить від оцінки, здійснюваної за двома показниками: дія і поведінка. Вважається, що підприємство повинно нести відповідальність за свої дії. Це виражається в кіль­ка способів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892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цінкою характеру діяльності  готельного  підприємств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892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овами робо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892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слідками функціонування готельного підприємства для оточуючих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89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тавленням  готельного  підприємства   до свого оточенн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09480" y="476280"/>
            <a:ext cx="7058160" cy="55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жерело легітимності  готельного  підприємства полягає у виконанні влад­них повноважень відповідно до інтересів своїх пайовиків, працівників і клієнтів (незалежно від юридичної форми), а легітимності держави — у вираженні загальної волі та управлінні в народних (суспільних) інтересах. Через свою недовговічність  готельного  підприємства   вимушені нав’язувати елементи своєї індивідуальності, для чого передбачається створення повідомлень, засобів, задіяних для забезпечення їхньої однорідності, вписування комунікації у жорсткі графіки тощо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892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умовах постійної конкуренції підприємство, щоб запобігти викривленню у вираженні своєї індивідуальності, повинно мати захисні механізми. Це лише посилює необхідність підтримування легітимності за певної умови: правильно вибрана мета виправдовує засоби, які, однак, обмежу­ють свободу самовиразу членів колективу  готельного  підприємства  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89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44424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егітимність  готельного  підприємства   може бут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44424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овнішньою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44424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нутрішньою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44424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она виявляється за допомогою паблік рилейшнз через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44424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відомлення своєї позиції щодо тих подій, які відбуваютьс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44424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відомлення цілей (у чиїх це інтересах)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44424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відомлення про свої дії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44424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ивчення суспільної думки як орієнтиру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4442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4920" y="1125000"/>
            <a:ext cx="8142120" cy="3598920"/>
          </a:xfrm>
          <a:prstGeom prst="rect">
            <a:avLst/>
          </a:prstGeom>
          <a:solidFill>
            <a:srgbClr val="dbf4ca"/>
          </a:solidFill>
          <a:ln w="0">
            <a:noFill/>
          </a:ln>
        </p:spPr>
        <p:txBody>
          <a:bodyPr anchor="b">
            <a:noAutofit/>
          </a:bodyPr>
          <a:p>
            <a:pPr marL="449280" indent="0" algn="ctr">
              <a:lnSpc>
                <a:spcPct val="10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А 2.</a:t>
            </a:r>
            <a:br>
              <a:rPr sz="24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БЛІК-РИЛЕЙШНЗ У СИСТЕМІ  УПРАВЛІННЯ ГОТЕЛЬНИМ ПІДПРИЄМСТВОМ</a:t>
            </a:r>
            <a:br>
              <a:rPr sz="2400"/>
            </a:br>
            <a:r>
              <a:rPr b="1" lang="ru-RU" sz="3200" spc="-1" strike="noStrike">
                <a:solidFill>
                  <a:srgbClr val="90c226"/>
                </a:solidFill>
                <a:latin typeface="Times New Roman"/>
                <a:ea typeface="Calibri"/>
              </a:rPr>
              <a:t> </a:t>
            </a:r>
            <a:br>
              <a:rPr sz="2400"/>
            </a:b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ПІАР (PR, Public Relations) - це що таке, слово, визначення, види, суть"/>
          <p:cNvPicPr/>
          <p:nvPr/>
        </p:nvPicPr>
        <p:blipFill>
          <a:blip r:embed="rId1"/>
          <a:stretch/>
        </p:blipFill>
        <p:spPr>
          <a:xfrm>
            <a:off x="179280" y="1341360"/>
            <a:ext cx="8821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7704360" cy="79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79280" y="1125000"/>
            <a:ext cx="8856720" cy="5085000"/>
          </a:xfrm>
          <a:prstGeom prst="rect">
            <a:avLst/>
          </a:prstGeom>
          <a:solidFill>
            <a:srgbClr val="dbf4c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404040"/>
                </a:solidFill>
                <a:latin typeface="Times New Roman"/>
                <a:ea typeface="바탕"/>
              </a:rPr>
              <a:t>Управління ринковою діяльністю готельного підприємства, місце і роль у ньому паблік рилейшнз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404040"/>
                </a:solidFill>
                <a:latin typeface="Times New Roman"/>
                <a:ea typeface="바탕"/>
              </a:rPr>
              <a:t>Основні завдання, функції паблік рилейшнз у системі управління ринковою діяльністю  готельного  підприємства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404040"/>
                </a:solidFill>
                <a:latin typeface="Times New Roman"/>
                <a:ea typeface="바탕"/>
              </a:rPr>
              <a:t>Основні напрями ПР-діяльності у бізнесі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08000" y="0"/>
            <a:ext cx="8856720" cy="6524640"/>
          </a:xfrm>
          <a:prstGeom prst="rect">
            <a:avLst/>
          </a:prstGeom>
          <a:solidFill>
            <a:srgbClr val="dbf4ca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523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28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1"/>
              </a:rPr>
              <a:t>Список рекомендованої літератур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15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523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5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2"/>
              </a:rPr>
              <a:t>Киричок А. П.</a:t>
            </a:r>
            <a:r>
              <a:rPr b="0" lang="uk-UA" sz="1500" spc="-1" strike="noStrike">
                <a:solidFill>
                  <a:srgbClr val="404040"/>
                </a:solidFill>
                <a:latin typeface="Times New Roman"/>
                <a:ea typeface="Calibri"/>
              </a:rPr>
              <a:t> Дефініція поняття паблік рилейшнз та зв’язки з громадськістю як соціальний інститут [Електронний ресурс] / А. П. Киричок // </a:t>
            </a:r>
            <a:r>
              <a:rPr b="0" lang="uk-UA" sz="15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3"/>
              </a:rPr>
              <a:t>Держава та регіони. Серія : Соціальні комунікації</a:t>
            </a:r>
            <a:r>
              <a:rPr b="0" lang="uk-UA" sz="1500" spc="-1" strike="noStrike">
                <a:solidFill>
                  <a:srgbClr val="404040"/>
                </a:solidFill>
                <a:latin typeface="Times New Roman"/>
                <a:ea typeface="Calibri"/>
              </a:rPr>
              <a:t>. - 2015. - № 1. - С. 127-132. - Режим доступу: </a:t>
            </a:r>
            <a:r>
              <a:rPr b="0" lang="uk-UA" sz="15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4"/>
              </a:rPr>
              <a:t>http://nbuv.gov.ua/UJRN/drsk_2015_1_27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15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523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5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5"/>
              </a:rPr>
              <a:t>Доскіч Л. С.</a:t>
            </a:r>
            <a:r>
              <a:rPr b="0" lang="uk-UA" sz="1500" spc="-1" strike="noStrike">
                <a:solidFill>
                  <a:srgbClr val="404040"/>
                </a:solidFill>
                <a:latin typeface="Times New Roman"/>
                <a:ea typeface="Calibri"/>
              </a:rPr>
              <a:t> Роль громадськості та громадської діяльності у паблік рілейшенз [Електронний ресурс] / Л. С. Доскіч, О. М. Шеремета // </a:t>
            </a:r>
            <a:r>
              <a:rPr b="0" lang="uk-UA" sz="15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6"/>
              </a:rPr>
              <a:t>Гілея: науковий вісник</a:t>
            </a:r>
            <a:r>
              <a:rPr b="0" lang="uk-UA" sz="1500" spc="-1" strike="noStrike">
                <a:solidFill>
                  <a:srgbClr val="404040"/>
                </a:solidFill>
                <a:latin typeface="Times New Roman"/>
                <a:ea typeface="Calibri"/>
              </a:rPr>
              <a:t>. - 2013. - Вип. 79. - С. 276-279. - Режим доступу: </a:t>
            </a:r>
            <a:r>
              <a:rPr b="0" lang="uk-UA" sz="15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7"/>
              </a:rPr>
              <a:t>http://nbuv.gov.ua/UJRN/gileya_2013_79_87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15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523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5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8"/>
              </a:rPr>
              <a:t>Рак О. Ю.</a:t>
            </a:r>
            <a:r>
              <a:rPr b="0" lang="uk-UA" sz="1500" spc="-1" strike="noStrike">
                <a:solidFill>
                  <a:srgbClr val="404040"/>
                </a:solidFill>
                <a:latin typeface="Times New Roman"/>
                <a:ea typeface="Calibri"/>
              </a:rPr>
              <a:t> Комунікативно-інформаційний вплив політичної влади на громадськість та громадську думку[Електронний ресурс] / О. Ю. Рак // </a:t>
            </a:r>
            <a:r>
              <a:rPr b="0" lang="uk-UA" sz="15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9"/>
              </a:rPr>
              <a:t>Вісник Національної юридичної академії України імені Ярослава Мудрого. Сер. : Філософія, філософія права, політологія, соціологія</a:t>
            </a:r>
            <a:r>
              <a:rPr b="0" lang="uk-UA" sz="1500" spc="-1" strike="noStrike">
                <a:solidFill>
                  <a:srgbClr val="404040"/>
                </a:solidFill>
                <a:latin typeface="Times New Roman"/>
                <a:ea typeface="Calibri"/>
              </a:rPr>
              <a:t>. - 2013. - № 2. - С. 271–281. - Режим доступу: </a:t>
            </a:r>
            <a:r>
              <a:rPr b="0" lang="uk-UA" sz="15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10"/>
              </a:rPr>
              <a:t>http://nbuv.gov.ua/UJRN/Vnyua_2013_2_33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15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523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5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11"/>
              </a:rPr>
              <a:t>Каднічанський Д.</a:t>
            </a:r>
            <a:r>
              <a:rPr b="0" lang="uk-UA" sz="1500" spc="-1" strike="noStrike">
                <a:solidFill>
                  <a:srgbClr val="404040"/>
                </a:solidFill>
                <a:latin typeface="Times New Roman"/>
                <a:ea typeface="Calibri"/>
              </a:rPr>
              <a:t> Внесок громадських організацій Львівської області у розвиток молодіжного туризму [Електронний ресурс] / Д. Каднічанський // </a:t>
            </a:r>
            <a:r>
              <a:rPr b="0" lang="uk-UA" sz="15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12"/>
              </a:rPr>
              <a:t>Вісник Львівського університету. Серія : Міжнародні відносини</a:t>
            </a:r>
            <a:r>
              <a:rPr b="0" lang="uk-UA" sz="1500" spc="-1" strike="noStrike">
                <a:solidFill>
                  <a:srgbClr val="404040"/>
                </a:solidFill>
                <a:latin typeface="Times New Roman"/>
                <a:ea typeface="Calibri"/>
              </a:rPr>
              <a:t>. - 2012. - Вип. 29(1). - С. 48-54. - Режим доступу: </a:t>
            </a:r>
            <a:r>
              <a:rPr b="0" lang="uk-UA" sz="15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13"/>
              </a:rPr>
              <a:t>http://nbuv.gov.ua/UJRN/VLNU_Mv_2012_29(1)__10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15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523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5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14"/>
              </a:rPr>
              <a:t>Руженко Л. М.</a:t>
            </a:r>
            <a:r>
              <a:rPr b="0" lang="uk-UA" sz="1500" spc="-1" strike="noStrike">
                <a:solidFill>
                  <a:srgbClr val="404040"/>
                </a:solidFill>
                <a:latin typeface="Times New Roman"/>
                <a:ea typeface="Calibri"/>
              </a:rPr>
              <a:t> Сутність та підстави класифікації громадської думки [Електронний ресурс] / Л. М. Руженко // </a:t>
            </a:r>
            <a:r>
              <a:rPr b="0" lang="uk-UA" sz="15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15"/>
              </a:rPr>
              <a:t>Актуальні проблеми політики</a:t>
            </a:r>
            <a:r>
              <a:rPr b="0" lang="uk-UA" sz="1500" spc="-1" strike="noStrike">
                <a:solidFill>
                  <a:srgbClr val="404040"/>
                </a:solidFill>
                <a:latin typeface="Times New Roman"/>
                <a:ea typeface="Calibri"/>
              </a:rPr>
              <a:t>. - 2013. - Вип. 50. - С. 292-299. - Режим доступу: </a:t>
            </a:r>
            <a:r>
              <a:rPr b="0" lang="uk-UA" sz="15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16"/>
              </a:rPr>
              <a:t>http://nbuv.gov.ua/UJRN/appol_2013_50_36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15000"/>
              </a:lnSpc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523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500" spc="-1" strike="noStrike">
                <a:solidFill>
                  <a:srgbClr val="0000ff"/>
                </a:solidFill>
                <a:latin typeface="Times New Roman"/>
                <a:ea typeface="Calibri"/>
              </a:rPr>
              <a:t>Ігнатова О. В.</a:t>
            </a:r>
            <a:r>
              <a:rPr b="0" lang="uk-UA" sz="1500" spc="-1" strike="noStrike">
                <a:solidFill>
                  <a:srgbClr val="404040"/>
                </a:solidFill>
                <a:latin typeface="Times New Roman"/>
                <a:ea typeface="Calibri"/>
              </a:rPr>
              <a:t> Статистичний інструментарій як складова системи дослідження процеса формування позитивної громадської думки [Електронний ресурс] / О. В. Ігнатова, Г. О. Овчіннікова, О. М. Міхальова // </a:t>
            </a:r>
            <a:r>
              <a:rPr b="0" lang="uk-UA" sz="1500" spc="-1" strike="noStrike">
                <a:solidFill>
                  <a:srgbClr val="0000ff"/>
                </a:solidFill>
                <a:latin typeface="Times New Roman"/>
                <a:ea typeface="Calibri"/>
              </a:rPr>
              <a:t>Управління проектами та розвиток виробництва</a:t>
            </a:r>
            <a:r>
              <a:rPr b="0" lang="uk-UA" sz="1500" spc="-1" strike="noStrike">
                <a:solidFill>
                  <a:srgbClr val="404040"/>
                </a:solidFill>
                <a:latin typeface="Times New Roman"/>
                <a:ea typeface="Calibri"/>
              </a:rPr>
              <a:t>. - 2010. - № 2. - С. 17-27. - Режим доступу: </a:t>
            </a:r>
            <a:r>
              <a:rPr b="0" lang="uk-UA" sz="1500" spc="-1" strike="noStrike">
                <a:solidFill>
                  <a:srgbClr val="0000ff"/>
                </a:solidFill>
                <a:latin typeface="Times New Roman"/>
                <a:ea typeface="Calibri"/>
              </a:rPr>
              <a:t>http://nbuv.gov.ua/UJRN/Uprv_2010_2_4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23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609120" y="981000"/>
            <a:ext cx="713124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правління ринковою діяльністю </a:t>
            </a:r>
            <a:r>
              <a:rPr b="0" lang="uk-UA" sz="2400" spc="-1" strike="noStrike">
                <a:solidFill>
                  <a:srgbClr val="404040"/>
                </a:solidFill>
                <a:latin typeface="Times New Roman"/>
                <a:ea typeface="바탕"/>
              </a:rPr>
              <a:t>готельного</a:t>
            </a:r>
            <a:r>
              <a:rPr b="0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підприємства —</a:t>
            </a:r>
            <a:r>
              <a:rPr b="1" i="1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 ті аспекти загальної функції управління, що визначають політику </a:t>
            </a:r>
            <a:r>
              <a:rPr b="0" lang="uk-UA" sz="2400" spc="-1" strike="noStrike">
                <a:solidFill>
                  <a:srgbClr val="404040"/>
                </a:solidFill>
                <a:latin typeface="Times New Roman"/>
                <a:ea typeface="바탕"/>
              </a:rPr>
              <a:t>готельного</a:t>
            </a:r>
            <a:r>
              <a:rPr b="0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підприємства   на ринку, його цілі та відповідальність. У межах цього управління передбачається застосування методів і видів діяльності оперативного характеру, спрямованих як на управління самою діяльністю, так і на запобігання негативному результату функціонування  готельного  підприємства   на всіх етапах ринкової діяльності з метою досягнення економічної ефективності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89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09120" y="1125000"/>
            <a:ext cx="74185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оловні чинники успіху управління ринковою діяльністю готельного  підприємства пов’язані як із зовнішньою стороною, з якої підприємство отримує всі види ресурсів, включаючи інформацію, так і з внутрішньою, сильні і слабкі сторони якої створюють певні передумови для перетворення ресурсів на продукцію або послуг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89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аблік рилейшнз за напрямом діяльності поділяється на зовнішній та внутрішній. </a:t>
            </a:r>
            <a:r>
              <a:rPr b="0" i="1" lang="uk-UA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овнішній</a:t>
            </a:r>
            <a:r>
              <a:rPr b="0" lang="uk-UA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</a:t>
            </a:r>
            <a:r>
              <a:rPr b="0" lang="uk-UA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прямований на встановлення тривалих партнерських відносин  готельного підприємства   із зовнішнім середовищем, </a:t>
            </a:r>
            <a:r>
              <a:rPr b="0" i="1" lang="uk-UA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нутрішній</a:t>
            </a:r>
            <a:r>
              <a:rPr b="0" lang="uk-UA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</a:t>
            </a:r>
            <a:r>
              <a:rPr b="0" lang="uk-UA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— на зміцнення відносин у колективі  готельного  підприємства, формування з нього цілісної команди для вирішення завдань організації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89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23640" y="40428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algn="just">
              <a:lnSpc>
                <a:spcPct val="106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 позицій загальної теорії управління особливості ПР порівняно з іншими видами управлінської ді­яльності полягають у такому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 У ПР-взаємодіях управлінню підлягають два об’єкти: громадськість і безпосередньо організаці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Об’єкти ПР-управління принципово різняться: організація є ієрархічно організованою і структурованою системою; громадськість, у широкому розумінні, є слабоструктурованою, з нечіткою ієрархією, проте має свої цілі та мотив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Об’єкти ПР-управління не є рівнозначними. Організація виконує функції керуючої системи, а громадськість — керованої. Досягнення рівноправності серед ПР-об’єктів — найчастіше є утопією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. Керуюча система має діяти на керовану так, щоб не відчувалися маніпуляції і директивний вплив на свідомість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5. Найефективнішим способом структурування об’єктів у ПР-діяльності є формування єдиної системи, яка складається з трьох підсистем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еруючої (організація)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ерованої (громадськість)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algn="just">
              <a:lnSpc>
                <a:spcPct val="106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ординувальної (паблік рилейшнз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07:24:18Z</dcterms:created>
  <dc:creator>Bodyk</dc:creator>
  <dc:description/>
  <dc:language>en-US</dc:language>
  <cp:lastModifiedBy>Пользователь Windows</cp:lastModifiedBy>
  <cp:lastPrinted>2018-02-11T01:22:02Z</cp:lastPrinted>
  <dcterms:modified xsi:type="dcterms:W3CDTF">2021-10-11T21:48:33Z</dcterms:modified>
  <cp:revision>44</cp:revision>
  <dc:subject/>
  <dc:title>PR (звязки з громадськістю) як функція державного управління</dc:title>
</cp:coreProperties>
</file>