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8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27520" y="0"/>
            <a:ext cx="2928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1233360"/>
            <a:ext cx="444024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76080" y="4747680"/>
            <a:ext cx="540540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370800"/>
            <a:ext cx="292896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27520" y="9370800"/>
            <a:ext cx="292896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2282-1DDF-4126-9E03-8D3D1DCF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1233360"/>
            <a:ext cx="4440240" cy="33292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6080" y="4747680"/>
            <a:ext cx="540540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27520" y="9371160"/>
            <a:ext cx="29289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70BF-74CD-4DFD-81DC-56FE52B7D083}" type="slidenum">
              <a:rPr b="0" lang="uk-UA" sz="1200" spc="-1" strike="noStrike">
                <a:solidFill>
                  <a:srgbClr val="000000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97B-A483-4FCC-BB3A-032628EB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4FF-09D9-40A5-9C78-D2B47CEE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25D-A276-4348-8B80-B7903992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FEA-5277-4192-B88B-0E0770F5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AC5A-66B6-4A26-9A78-24FDE1BF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E862-3C09-4F9A-AC2C-31E9EE9F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340F-A0D2-4F96-9B87-0F927D79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B5A0-FF0A-4515-B758-CE086866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9EBE-7476-4F71-A36C-92EEB1AA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6F14-C802-40B2-8B94-E844584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3748-CBA7-4B60-8F19-B0990AD0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045-B9BA-451E-8F8C-06371F53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570C-A0F1-4D57-9193-0254B8F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B296-63D5-45A0-AFE3-E617FC7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8DAD-F6AB-41CE-88A6-0099BEE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C7C9-6E9C-4B48-A400-5CF7093D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FDDC-3B61-4DBA-94BA-DF62F436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6FB6-C2F7-4466-9DAB-D7142DA9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52FC-E4E8-4718-8334-8D1279DD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8C62-81FA-49E4-96E0-7D8C2B55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7122-182B-4075-BF40-13369F29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2287-D454-4CC9-A4F6-A3735D4A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B59-8B59-408C-9C71-C303D46F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DD2F-B356-4BC9-8BE6-58DF5698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4B5B-CC2A-4939-B2CB-7CC2A86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8A2F-270A-4F8F-8621-ABBBB1A2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DC15-32BC-47D8-A39D-E09A030C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963A-D5FA-4FA3-A0A6-3BC4391B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AD0D-8B1A-4BAF-B0BB-74330726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54E4-9437-4A92-BDA9-1A060FF6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1D8A8-77A0-4296-AA93-87C32582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FE8D-3049-4744-9CE5-AB012C8A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B9D56-5C5E-4862-B3CD-D47EE884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B62-F51F-4662-8C93-70FC30A8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E528B-359F-4A68-8ED5-6F3F3A2D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DF68-E82A-4F65-A624-AD8779A1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15FBE-B3B2-486C-9ED2-2FF4B3E6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D72BD-F606-455F-8427-FF82BB18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B48C-C7DA-449B-9DF2-F834576A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2BE1-B516-45EE-A32E-75F67F8D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704D-CB52-4B87-A1A6-C57390AC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B682-6404-4486-842E-97A0B44F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D1188-BFE4-491B-9EBC-E398A99D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165-E192-49AA-B627-81359D07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E6F-6714-421B-AAA2-4E05FF52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B46-CA0F-4586-BD50-544F1993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517-8536-466D-94C6-4C12115A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0FF-8F7B-408A-9EAB-7D5DC011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F076-1181-4FD0-99A5-A40F35CADE5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A7BB-6AA9-4DF8-AFFB-738464E6BA1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6434-A280-47CD-8462-7AC22C95357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73AE-9AB7-44BE-843B-5BCE2221340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0;&#1080;&#1088;&#1080;&#1095;&#1086;&#1082;%20&#1040;$" TargetMode="External"/><Relationship Id="rId2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0;&#1080;&#1088;&#1080;&#1095;&#1086;&#1082;%20&#1040;$" TargetMode="External"/><Relationship Id="rId3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23244:&#1057;&#1086;&#1094;.&#1082;&#1086;&#1084;&#1091;&#1085;." TargetMode="External"/><Relationship Id="rId4" Type="http://schemas.openxmlformats.org/officeDocument/2006/relationships/hyperlink" Target="http://nbuv.gov.ua/UJRN/drsk_2015_1_27" TargetMode="External"/><Relationship Id="rId5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44;&#1086;&#1089;&#1082;&#1110;&#1095;%20&#1051;$" TargetMode="External"/><Relationship Id="rId6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25326" TargetMode="External"/><Relationship Id="rId7" Type="http://schemas.openxmlformats.org/officeDocument/2006/relationships/hyperlink" Target="http://nbuv.gov.ua/UJRN/gileya_2013_79_87" TargetMode="External"/><Relationship Id="rId8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6;&#1072;&#1082;%20&#1054;$" TargetMode="External"/><Relationship Id="rId9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73716" TargetMode="External"/><Relationship Id="rId10" Type="http://schemas.openxmlformats.org/officeDocument/2006/relationships/hyperlink" Target="http://nbuv.gov.ua/UJRN/Vnyua_2013_2_33" TargetMode="External"/><Relationship Id="rId11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0;&#1072;&#1076;&#1085;&#1110;&#1095;&#1072;&#1085;&#1089;&#1100;&#1082;&#1080;&#1081;%20&#1044;$" TargetMode="External"/><Relationship Id="rId12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28852:&#1052;&#1110;&#1078;&#1085;&#1072;&#1088;.&#1074;&#1110;&#1076;&#1085;." TargetMode="External"/><Relationship Id="rId13" Type="http://schemas.openxmlformats.org/officeDocument/2006/relationships/hyperlink" Target="http://nbuv.gov.ua/UJRN/VLNU_Mv_2012_29%281%29__10" TargetMode="External"/><Relationship Id="rId14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6;&#1091;&#1078;&#1077;&#1085;&#1082;&#1086;%20&#1051;$" TargetMode="External"/><Relationship Id="rId15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69514" TargetMode="External"/><Relationship Id="rId16" Type="http://schemas.openxmlformats.org/officeDocument/2006/relationships/hyperlink" Target="http://nbuv.gov.ua/UJRN/appol_2013_50_36" TargetMode="Externa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179280" y="1475640"/>
            <a:ext cx="8785440" cy="2287440"/>
          </a:xfrm>
          <a:prstGeom prst="rect">
            <a:avLst/>
          </a:prstGeom>
          <a:solidFill>
            <a:srgbClr val="dbf4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і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"/>
              </a:rPr>
              <a:t>PR-</a:t>
            </a:r>
            <a:r>
              <a:rPr b="1" lang="uk-UA" sz="4400" spc="-1" strike="noStrike">
                <a:solidFill>
                  <a:srgbClr val="000000"/>
                </a:solidFill>
                <a:latin typeface="Trebuchet MS"/>
                <a:ea typeface="Arial"/>
              </a:rPr>
              <a:t>технології в готельному бізнесі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79280" y="44244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ладач: д.е.н., доцент кафедри менеджменту зовнішньоекономічної діяльності, готельно-ресторанної справи та туриз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я Олена Михайлі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 узгоджує цілі підсистем, інтегрує та аналізує різноманітні зворотні зв’язки, впливає на стан керуючої та керованої підсистем, гармонізує відносини між ними. Водночас ПР не є керуючою системою у традиційному розумінні, тобто вона не чинить директивних управлінських впливів. Вона координує взаємодію, оптимізує інформаційні процеси між підсистемами, впливає на них, є активним посередником в узгодженні та формуванні нових інтересів. Отже, ПР у силу своїх функцій одночасно входять до управлінської системи і знаходяться над нею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09480" y="549000"/>
            <a:ext cx="749160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ловними завданнями ПР у системі управління ринковою діяльністю  готельного  підприємства  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є такі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ування та збереження суверенітету, індивідуальності, іміджу та легітимності фірми на ринк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лагоджування позитивних довготривалих партнерських зв’язків між підприємством і ринковими суб’єкт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ганізація та проведення іміджмейкерства та брендінгу як елементів цілеспрямованої ПР-діяльності у бізнесі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няття «індивідуальність» є досить близьким до поняття «суверенітет», а поняття «імідж» — до поняття «легітимність». </a:t>
            </a:r>
            <a:r>
              <a:rPr b="0" i="1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Індивідуальність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икористовується підприємством передусім для закріплення і розширення своєї території, а імідж — для демонстрування та роз’яснення своєї ролі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69228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егітимність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це визнання або підтвердження законності якого-небудь права або повноваження. Легітимність  готельного підприємства   та його керівника пересікаються, але не збігаютьс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к індивідуальність складається із фактів, так легітимність, імідж  готельного  підприємства   засновуються на цінностях. Вони ще більше від фактів підвладні різним оцінкам, які змінюються залежно від соціальних умов, а саме від часу і простору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바탕"/>
              </a:rPr>
              <a:t>Імідж  готельного підприємства залежить від оцінки, здійснюваної за двома показниками: дія і поведінка. Вважається, що підприємство повинно нести відповідальність за свої дії. Це виражається в кіль­ка способі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інкою характеру діяльності  готельного  підприєм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овами робо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слідками функціонування готельного підприємства для оточую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вленням  готельного  підприємства   до свого оточенн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09480" y="476280"/>
            <a:ext cx="705816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жерело легітимності  готельного  підприємства полягає у виконанні влад­них повноважень відповідно до інтересів своїх пайовиків, працівників і клієнтів (незалежно від юридичної форми), а легітимності держави — у вираженні загальної волі та управлінні в народних (суспільних) інтересах. Через свою недовговічність  готельного  підприємства   вимушені нав’язувати елементи своєї індивідуальності, для чого передбачається створення повідомлень, засобів, задіяних для забезпечення їхньої однорідності, вписування комунікації у жорсткі графіки тощ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умовах постійної конкуренції підприємство, щоб запобігти викривленню у вираженні своєї індивідуальності, повинно мати захисні механізми. Це лише посилює необхідність підтримування легітимності за певної умови: правильно вибрана мета виправдовує засоби, які, однак, обмежу­ють свободу самовиразу членів колективу  готельного  підприємства 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егітимність  готельного  підприємства   може бу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овнішньо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утрішньою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на виявляється за допомогою паблік рилейшнз через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ідомлення своєї позиції щодо тих подій, які відбуваютьс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ідомлення цілей (у чиїх це інтересах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ідомлення про свої дії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вчення суспільної думки як орієнтиру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142120" cy="3598920"/>
          </a:xfrm>
          <a:prstGeom prst="rect">
            <a:avLst/>
          </a:prstGeom>
          <a:solidFill>
            <a:srgbClr val="dbf4ca"/>
          </a:solidFill>
          <a:ln w="0">
            <a:noFill/>
          </a:ln>
        </p:spPr>
        <p:txBody>
          <a:bodyPr anchor="b">
            <a:noAutofit/>
          </a:bodyPr>
          <a:p>
            <a:pPr marL="449280" indent="0" algn="ctr">
              <a:lnSpc>
                <a:spcPct val="10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2.</a:t>
            </a: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БЛІК-РИЛЕЙШНЗ У СИСТЕМІ  УПРАВЛІННЯ ГОТЕЛЬНИМ ПІДПРИЄМСТВОМ</a:t>
            </a:r>
            <a:br>
              <a:rPr sz="2400"/>
            </a:br>
            <a:r>
              <a:rPr b="1" lang="ru-RU" sz="3200" spc="-1" strike="noStrike">
                <a:solidFill>
                  <a:srgbClr val="90c226"/>
                </a:solidFill>
                <a:latin typeface="Times New Roman"/>
                <a:ea typeface="Calibri"/>
              </a:rPr>
              <a:t> </a:t>
            </a:r>
            <a:br>
              <a:rPr sz="24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ПІАР (PR, Public Relations) - це що таке, слово, визначення, види, суть"/>
          <p:cNvPicPr/>
          <p:nvPr/>
        </p:nvPicPr>
        <p:blipFill>
          <a:blip r:embed="rId1"/>
          <a:stretch/>
        </p:blipFill>
        <p:spPr>
          <a:xfrm>
            <a:off x="179280" y="1341360"/>
            <a:ext cx="8821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704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9280" y="1125000"/>
            <a:ext cx="8856720" cy="5085000"/>
          </a:xfrm>
          <a:prstGeom prst="rect">
            <a:avLst/>
          </a:prstGeom>
          <a:solidFill>
            <a:srgbClr val="dbf4c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Times New Roman"/>
                <a:ea typeface="바탕"/>
              </a:rPr>
              <a:t>Управління ринковою діяльністю готельного підприємства, місце і роль у ньому паблік рилейшн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Times New Roman"/>
                <a:ea typeface="바탕"/>
              </a:rPr>
              <a:t>Основні завдання, функції паблік рилейшнз у системі управління ринковою діяльністю  готельного  підприємства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Times New Roman"/>
                <a:ea typeface="바탕"/>
              </a:rPr>
              <a:t>Основні напрями ПР-діяльності у бізнесі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08000" y="0"/>
            <a:ext cx="8856720" cy="6524640"/>
          </a:xfrm>
          <a:prstGeom prst="rect">
            <a:avLst/>
          </a:prstGeom>
          <a:solidFill>
            <a:srgbClr val="dbf4ca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8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"/>
              </a:rPr>
              <a:t>Список рекомендованої літератур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2"/>
              </a:rPr>
              <a:t>Киричок А. П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Дефініція поняття паблік рилейшнз та зв’язки з громадськістю як соціальний інститут [Електронний ресурс] / А. П. Киричок //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3"/>
              </a:rPr>
              <a:t>Держава та регіони. Серія : Соціальні комунікації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5. - № 1. - С. 127-132. - Режим доступу: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4"/>
              </a:rPr>
              <a:t>http://nbuv.gov.ua/UJRN/drsk_2015_1_27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5"/>
              </a:rPr>
              <a:t>Доскіч Л. С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Роль громадськості та громадської діяльності у паблік рілейшенз [Електронний ресурс] / Л. С. Доскіч, О. М. Шеремета //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6"/>
              </a:rPr>
              <a:t>Гілея: науковий вісник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3. - Вип. 79. - С. 276-279. - Режим доступу: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7"/>
              </a:rPr>
              <a:t>http://nbuv.gov.ua/UJRN/gileya_2013_79_87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8"/>
              </a:rPr>
              <a:t>Рак О. Ю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Комунікативно-інформаційний вплив політичної влади на громадськість та громадську думку[Електронний ресурс] / О. Ю. Рак //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9"/>
              </a:rPr>
              <a:t>Вісник Національної юридичної академії України імені Ярослава Мудрого. Сер. : Філософія, філософія права, політологія, соціологія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3. - № 2. - С. 271–281. - Режим доступу: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0"/>
              </a:rPr>
              <a:t>http://nbuv.gov.ua/UJRN/Vnyua_2013_2_33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1"/>
              </a:rPr>
              <a:t>Каднічанський Д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Внесок громадських організацій Львівської області у розвиток молодіжного туризму [Електронний ресурс] / Д. Каднічанський //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2"/>
              </a:rPr>
              <a:t>Вісник Львівського університету. Серія : Міжнародні відносини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2. - Вип. 29(1). - С. 48-54. - Режим доступу: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3"/>
              </a:rPr>
              <a:t>http://nbuv.gov.ua/UJRN/VLNU_Mv_2012_29(1)__10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4"/>
              </a:rPr>
              <a:t>Руженко Л. М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Сутність та підстави класифікації громадської думки [Електронний ресурс] / Л. М. Руженко //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5"/>
              </a:rPr>
              <a:t>Актуальні проблеми політики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3. - Вип. 50. - С. 292-299. - Режим доступу: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6"/>
              </a:rPr>
              <a:t>http://nbuv.gov.ua/UJRN/appol_2013_50_36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>
                <a:solidFill>
                  <a:srgbClr val="0000ff"/>
                </a:solidFill>
                <a:latin typeface="Times New Roman"/>
                <a:ea typeface="Calibri"/>
              </a:rPr>
              <a:t>Ігнатова О. В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Статистичний інструментарій як складова системи дослідження процеса формування позитивної громадської думки [Електронний ресурс] / О. В. Ігнатова, Г. О. Овчіннікова, О. М. Міхальова // </a:t>
            </a:r>
            <a:r>
              <a:rPr b="0" lang="uk-UA" sz="1500" spc="-1" strike="noStrike">
                <a:solidFill>
                  <a:srgbClr val="0000ff"/>
                </a:solidFill>
                <a:latin typeface="Times New Roman"/>
                <a:ea typeface="Calibri"/>
              </a:rPr>
              <a:t>Управління проектами та розвиток виробництва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0. - № 2. - С. 17-27. - Режим доступу: </a:t>
            </a:r>
            <a:r>
              <a:rPr b="0" lang="uk-UA" sz="1500" spc="-1" strike="noStrike">
                <a:solidFill>
                  <a:srgbClr val="0000ff"/>
                </a:solidFill>
                <a:latin typeface="Times New Roman"/>
                <a:ea typeface="Calibri"/>
              </a:rPr>
              <a:t>http://nbuv.gov.ua/UJRN/Uprv_2010_2_4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09120" y="981000"/>
            <a:ext cx="71312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іння ринковою діяльністю 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바탕"/>
              </a:rPr>
              <a:t>готельного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підприємства —</a:t>
            </a:r>
            <a:r>
              <a:rPr b="1" i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 ті аспекти загальної функції управління, що визначають політику 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바탕"/>
              </a:rPr>
              <a:t>готельного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підприємства   на ринку, його цілі та відповідальність. У межах цього управління передбачається застосування методів і видів діяльності оперативного характеру, спрямованих як на управління самою діяльністю, так і на запобігання негативному результату функціонування  готельного  підприємства   на всіх етапах ринкової діяльності з метою досягнення економічної ефективн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09120" y="1125000"/>
            <a:ext cx="7418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ловні чинники успіху управління ринковою діяльністю готельного  підприємства пов’язані як із зовнішньою стороною, з якої підприємство отримує всі види ресурсів, включаючи інформацію, так і з внутрішньою, сильні і слабкі сторони якої створюють певні передумови для перетворення ресурсів на продукцію або послуг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блік рилейшнз за напрямом діяльності поділяється на зовнішній та внутрішній. </a:t>
            </a:r>
            <a:r>
              <a:rPr b="0" i="1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овнішній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рямований на встановлення тривалих партнерських відносин  готельного підприємства   із зовнішнім середовищем, </a:t>
            </a:r>
            <a:r>
              <a:rPr b="0" i="1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утрішній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на зміцнення відносин у колективі  готельного  підприємства, формування з нього цілісної команди для вирішення завдань організації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40428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algn="just">
              <a:lnSpc>
                <a:spcPct val="10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 позицій загальної теорії управління особливості ПР порівняно з іншими видами управлінської ді­яльності полягають у такому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У ПР-взаємодіях управлінню підлягають два об’єкти: громадськість і безпосередньо організаці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Об’єкти ПР-управління принципово різняться: організація є ієрархічно організованою і структурованою системою; громадськість, у широкому розумінні, є слабоструктурованою, з нечіткою ієрархією, проте має свої цілі та мотив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Об’єкти ПР-управління не є рівнозначними. Організація виконує функції керуючої системи, а громадськість — керованої. Досягнення рівноправності серед ПР-об’єктів — найчастіше є утопіє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Керуюча система має діяти на керовану так, щоб не відчувалися маніпуляції і директивний вплив на свідоміс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Найефективнішим способом структурування об’єктів у ПР-діяльності є формування єдиної системи, яка складається з трьох підсистем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еруючої (організація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ерованої (громадськість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ординувальної (паблік рилейшн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7:24:18Z</dcterms:created>
  <dc:creator>Bodyk</dc:creator>
  <dc:description/>
  <dc:language>en-US</dc:language>
  <cp:lastModifiedBy>Пользователь Windows</cp:lastModifiedBy>
  <cp:lastPrinted>2018-02-11T01:22:02Z</cp:lastPrinted>
  <dcterms:modified xsi:type="dcterms:W3CDTF">2021-10-11T21:48:33Z</dcterms:modified>
  <cp:revision>44</cp:revision>
  <dc:subject/>
  <dc:title>PR (звязки з громадськістю) як функція державного управління</dc:title>
</cp:coreProperties>
</file>