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E82-240B-49EA-A0C2-A0EE8A0F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4D6-C62B-4DCB-ABBD-85A5DEA4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D09-3C18-443B-92BD-F74F3FB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463-E1FA-4DF5-B253-AF06D1BA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9A4A-9BEC-4AFF-AA53-9A9F47F7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1B41-7C1B-4AF7-9C60-334FC16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FA37-8EE4-4732-AEF3-66BB3AC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EB70-6210-42DD-89BA-EC8CFBAB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C246-CBC4-49CC-A605-E985FDF6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359C-4173-42C8-9B0F-5B741318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52C0-9403-48F7-BF71-8B90426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0DA-C556-4603-A485-16CB273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5C36-7F2A-4A9F-A73E-E384D61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B25A-445D-42A4-A2F7-43EE3F20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992C-377B-4332-B5D0-60F6E7E1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FD0B-BB5B-431C-824D-32CD8AF1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CD8B-A897-4188-A323-B986FA50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07C8-42AA-49AE-A572-E85ED793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4F7A-41DA-4139-9813-BA03373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A7E6-969D-4DF5-B8C8-7DAAD42C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8FAD-A8FB-4460-B803-C34F6C7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FA11-98AA-4ECF-BB46-46B0C3E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B21-44AD-4176-B87F-629094E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B732-E720-454C-AD03-6C0FBC99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E77A-7918-4B34-A0E4-B19CE40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3656-0BBD-4FA9-AEDE-2EFE1F62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C413-BD69-4371-9042-A8B2572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0EE8-BBB4-4C1D-BD90-AD315AF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F35F-C7BA-4F87-8D6C-871558FA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05DB-1881-4F2A-9D6A-66B6A8F3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E826-6D80-4266-A334-8AD7F33C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E767-E061-4C07-BFA1-568DDEDC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C04A-F1EF-4F93-91F4-CF0EF76E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D09-FBF7-46B4-9E98-F6A7CDCB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9BBA-09DE-4ED1-B8AE-85688583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0EDC-CA19-4B33-B8A8-26C7271D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5B3E-D5CF-4EFF-8E7B-573B8BDE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36E0-A81E-47CF-A384-50251999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41DE-D754-4808-8119-62490BB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AC25-A176-4E77-9D2F-BF9FF1D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504E-EC15-4CB2-90EB-EDF606C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3CFB-5483-4B5B-B179-A12674EB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5BB6-8EE8-4D8B-80EC-74E6E941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299D-3615-4C6B-B4CB-EE9A4071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F6C-A4C2-4CE3-815C-D9004E3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1ECF7-CD14-430A-944E-80FF43C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526C-CBA3-460E-B8BE-0771F37C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6846-4242-4611-8AA0-D461343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E18E-A85E-4B4D-B99A-91212E5B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52FE-CD70-441C-8FF7-49D11A9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9AA9-7C5A-40D2-A787-477314B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8624-9FEA-4AD0-AE95-D444DC9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3EA5-1D87-4EE4-99EB-E7269DF9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1A9E-B7AA-459B-8A6F-C746260C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0782B-4BFD-4AD9-9A1F-02340C2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CE4-6B1B-4F91-B4E4-3F971377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E7BD-F124-4F13-AC3D-41804739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C8956-917E-46AA-A184-DB3D7323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2D27-1C01-484A-96F5-AEEA11AF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6C55-50C6-405F-AA0A-BBB77E53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C859-7D28-452F-A26C-EE1D352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BD6C-4A8A-467E-9C54-DFF2D971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077B-E63A-4E96-ACCF-FD98EE73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261C-F676-46DC-8413-FE53CCC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0683-9E31-4BA4-8F3C-1AEB4D9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EB7AD-B19E-4F3C-9961-88F44C8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748-B3EA-406A-A3F0-3E960F98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EB36-3F0F-4614-BDA0-15227AC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13E5-C775-4D2B-B12E-4383D1B9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CCC3-6C2F-4A33-B617-ADE3940E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19B-EBB5-484C-95A4-DD68182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5CA-7E37-4491-8550-7C38EBE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96D3-20F0-4E86-8628-F29827D18FE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71B-7A61-4678-9244-6354FEB522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1F2-1C4D-4E05-8BD4-26591DFA194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4C1-E960-4314-AF17-93A0A5DBFED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9755-87F6-4EE2-933A-391618F1822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3A2-F38E-4949-8C4E-728CDFA7E0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a-referat.com/&#1055;&#1083;&#1072;&#1085;&#1091;&#1074;&#1072;&#1085;&#1085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84;&#1080;&#1088;&#1085;&#1086;&#1074;&#1072;%20&#1058;$" TargetMode="External"/><Relationship Id="rId2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68774:&#1052;&#1077;&#1085;.&#1110;&#1085;." TargetMode="External"/><Relationship Id="rId3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90;&#1077;&#1087;&#1072;&#1085;&#1102;&#1082;%20&#1053;$" TargetMode="External"/><Relationship Id="rId4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4261" TargetMode="External"/><Relationship Id="rId5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9;&#1075;&#1086;&#1076;&#1085;&#1110;&#1082;&#1086;&#1074;&#1072;%20&#1054;$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623360" cy="518508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7.</a:t>
            </a:r>
            <a:br>
              <a:rPr sz="28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 ПР КАМПАНІЯМИ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ПР ПРОГРАМАМИ У ГОТЕЛЬНОМУ БІЗНЕСІ</a:t>
            </a:r>
            <a:br>
              <a:rPr sz="3200"/>
            </a:br>
            <a:br>
              <a:rPr sz="2800"/>
            </a:br>
            <a:br>
              <a:rPr sz="3200"/>
            </a:b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79280" y="1236240"/>
            <a:ext cx="8498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430920">
              <a:lnSpc>
                <a:spcPct val="9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ПР програми та етапи її створенн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тап № 1: Визначення пробле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№ 2:</a:t>
            </a:r>
            <a:r>
              <a:rPr b="0" lang="uk-UA" sz="28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 Планування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програмування.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тап № 3: Реалізаці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тап № 4: Оцінка ефективност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4309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Список рекомендованої літерату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7640" y="1145880"/>
            <a:ext cx="87850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Смирнова Т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ування бренда міста як інноваційний шлях підвищення його привабливості для туризму [Електронний ресурс] / Т. А. Смирнова, І. Ю. Приварникова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Вісник Дніпропетровського університету. Серія : Менеджмент інноваці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5. - Т. 23, вип. 5. - С. 93-10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Степанюк Н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рендинг міста у сфері туризму: підхід менеджера [Електронний ресурс] / Н. А. Степанюк, С. І. Цюх, Ю. І. Цибульський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Економіка та держа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4. - № 2. - С. 103-10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5"/>
              </a:rPr>
              <a:t>Угоднікова О. І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івняння специфіки та особливостей визначення поняття маркетингу та брендінгу у галузі туризму та готельного господарства [Електронний ресурс] / О. І. Угоднікова, А. А. Жигло // </a:t>
            </a:r>
            <a:r>
              <a:rPr b="0" lang="ru-RU" sz="2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cienceRise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7. - № 7. - С. 15-18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ті-брендинг : навч. посібник / Н. М. Влащенко; Харків. нац. ун-т міськ. госп-ва ім. О. М. Бекетова. – Харків : ХНУМГ ім. О. М. Бекетова, 2016. – 151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ПР-програм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іють комплекс логічно взаємопов'язаних між собою і реалізовуються в певній послідовності акцій та заходів з метою зміни в потрібному напрямку поведінки ключових і цільових аудиторій громадськості, вирішення конкретних корпоративних або маркетингових проблем і завдань.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у ПР-програми традиційно тісно пов'язують із загальною стратегією комерційної структури на ринку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останніх десятиліть переконливо свідчить: ефективність практично будь-якого ПР-заходи, ПР-акції або цілої ПР-кампанії безпосередньо залежать від якості програмування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11280" y="1196640"/>
            <a:ext cx="634824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мпан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комплексне, багаторазове використан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обів, а також рекламних матеріалів у рамках єдиної концепції та проведення загального плану впливу на думки і ставлення людей з метою популяризації іміджу, підтримки репутації, створення паблісіті.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атегічних програмних планів зі зв'язків з громадськістю згідно розробкам Сема Блека складається з чотирьох кроків: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ування і програмуванн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і комунікаці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50560" y="189000"/>
            <a:ext cx="8281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вна потреба в розробці та реалізації тривалої ПР-програми може бути викликана цілим рядом різних чинників.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в комерційному секторі найбільш поширені такі причини: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, просування і підтримки привабливого корпоративного іміджу чи іміджу бренд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компанією нової наступальної маркетингової стратегії закріплення на ринку і підвищення рівня продажів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нової корпоративної політики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назви фірми, її корпоративного іміджу, торгової марки або логотип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статусу фірми (наприклад, перетворення її у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ідкрите акціонерне товари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лиття з іншою структурою, поглинання її більш великою фірмою і т.д.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поліпшити і зробити більш привабливою ділову репутацію комерційної структури (reputation management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відбудови від конкурентів, особливо у випадку, якщо велика кількість компаній випускає продукцію, подібну за споживчими - якостям і номенклатурі, розраховану на одну й ту ж цільову аудиторію і знаходиться в одній і тій же ціновій ніш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нення серйозної проблеми (issue management) або навіть кризової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итуації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isis communic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68360" y="333360"/>
            <a:ext cx="7199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дення на ринки нової, маловідомої фірми або компан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едення на ринок особливо складної продукції (наприклад, класу «високих технологій»), що вимагає спеціально підготовленої і добре поінформованої споживчої аудитор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індивідуальної роботи з обраними групами аудиторій, які займають ключове положення і вплив у суспільств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ристання комерційною структурою особливої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еалізації продукції постійним клієнтам не через знеособлену торгівлю, а через індивідуальну роботу з постійними групами споживачів («система прямого маркетингу», яку використовують компанії Herbalife, Zepter, Avon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 сприятливого клімату для розвитку та функціонування компанії (наприклад, налагодження відносин з урядовими структурами і органами місцевого самоврядування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і підтримка зв'язків з великими і впливовими громадськими організаціями (захисники навколишнього середовища, товариства захисту прав споживачів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шук і залучення коштів інвесторів (investor rel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та проведення спеціальних акцій (special PR event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зв'язків з професійним співтовариством фахівців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549000"/>
            <a:ext cx="656280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й підхід до резюмування аналізу ситуації називають SWOT-або TOWS-аналізо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цієї аналітичної конструкції випливає кілька стратегічних висновк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-стратегія будуються на сильних сторонах організації з метою отримання переваг з нових можливостей, що з'являються у зовнішньому оточенні організації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-стратегії також будуються на сильних сторонах організації з метою протистояння загрозам, які з'являтимуться в її зовнішньому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-стратегії пов'язані зі спробами мінімізувати слабк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и організації з метою отримання переваг із зовнішніх можливост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-стратегії пов'язані зі спробами мінімізувати як слабкі сторони організації, так і загрози, що з'являються в її зовні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9-02-24T23:47:19Z</cp:lastPrinted>
  <dcterms:modified xsi:type="dcterms:W3CDTF">2021-12-06T18:43:05Z</dcterms:modified>
  <cp:revision>47</cp:revision>
  <dc:subject/>
  <dc:title>PR (звязки з громадськістю) як функція державного управління</dc:title>
</cp:coreProperties>
</file>