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35E-1F3D-44D3-81D0-90B4B294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629-07A9-4937-A263-884DC681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222-198C-42C8-8193-00E6255B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529-0D8D-4DD5-9CBF-60C11D8F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A2ED-904E-4950-9D56-58382D9E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2B1A-6571-4582-B883-B85FA1B8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AB17-7339-4FB5-8CB3-5EF5E0D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25EA-1AEE-4AA7-9D8C-2BFB4F6D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5236-8F43-4F2E-B7E7-9F0A3D2C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AF28-2F50-4DEE-BC80-9C8560D1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0609-0B56-4801-86D8-9D85840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2C9-9028-41F9-A4F4-6A6816D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03F4-9B5F-42E4-978A-DCF0D43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E46-642A-4A00-B289-E6EA23A1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AA90-A8D5-48D5-87B1-45224C69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CEA8-B94B-4E11-AFCB-40CBA383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5601-DBF0-4D01-A0E1-D1136BA2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F6E27-5C8F-4BE0-9FDE-67C0F32C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61AF-B4AD-41C9-9DA8-8658CA64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601D-5A1F-4327-908C-667AD2B8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961B-0F98-4793-A736-CFB722E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48C4-672F-400D-8AB3-3B9AF686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E3B-10FB-4913-9F7C-6E0C0AA6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0BA8-7DE4-425D-8509-D9C8DB35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E84C-1D03-4824-9A3A-CA9EF18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04AF-27EB-4075-BDDC-A9FC6462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47E6-C4EF-48D4-A30B-BE51F49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7546-7090-4440-B9B8-4BFB30FC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3340-8864-4D5E-9AB5-B2EEDD07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BBAC-DF5D-49C0-93CB-714DD763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2908-1DA4-4D09-A2C2-AD4A868E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B1A0-EAD1-4940-8EC6-8300D037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04B00-38B8-4049-8139-4B76E28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E84-AE2F-4451-8904-3BE8EA09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1570-55B8-4C39-8ED9-1D80AE01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311C3-4D22-408A-9D54-42056B5F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8D39-3D06-412E-ABD0-49A462A0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1A45-EAA7-49B1-AB33-0549E86B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60D06-431B-483E-B319-E6A7613A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AEA3-4703-4B4A-8F1B-464CDBE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789EE-07FB-4F11-A934-A03E6BFF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EF108-FF1E-4F9D-B2BE-617219C6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68B9-0CCD-4A79-B89D-AAAE76CC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A9C2-4004-4EB3-AF6F-0B7B0DA4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C5C-EC80-40A8-A107-19EE50BF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64CA-1116-4179-8E57-D00B51FC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E656-1FFC-4DCE-9520-A0042DB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21147-F879-4128-B3EA-26610998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A01E-C692-4B5F-BF97-08D534F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56F7-158A-487B-9647-5DD9252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560D-D40F-4583-B3A4-73BD2CB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810B-8BBB-40DA-B11A-8529BD24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2F3F-14AD-4491-AAFC-C7CABD96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1BCA-3C28-499A-A5FC-C862B96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6D22-154F-4BAA-AE7D-9C09D28D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830-0626-435D-917F-5C1D17A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1381B-58FA-440C-9ECF-35C9D833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27D9-D449-43D1-B4D9-37464DA0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76AE5-4152-4D1E-B9E4-E4826109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E4C5-A3C4-4F23-B914-79B2561C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1F98-B2C9-4A0A-B2E0-709A594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2664-EEB7-4FCF-998E-422D4AB1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1FDD-3B0A-4FA4-979C-C2672E71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C7E3-3842-41F4-9F81-ADDE648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8B96-88F9-48AB-851F-774F557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ACC3-791D-4F89-9203-2B7CCB4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138-5F73-4F26-AC37-5A19135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D83A-0A34-4DBD-A2C4-31A5E72A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4A63-5B36-4655-BC8D-BB4C02A1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5258-3F40-4579-9FE3-7D6AF3F6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CE0-31B6-4442-8DD5-132A9A5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C48-C649-4E00-BE30-1992D88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7C0-EECD-4710-BC47-F716C10AB1F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909-4D75-4C95-AFEF-05DFBC7673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B8E4-D0AB-43EA-BD7E-414D0583BFD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3EB2-A90C-40D7-ABF7-CEEA183AC9E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63BD-EB5D-41C8-BCF6-466F58ADD21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2F6-F1C5-43F5-A9F7-F4689E8E94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a-referat.com/&#1055;&#1083;&#1072;&#1085;&#1091;&#1074;&#1072;&#1085;&#1085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84;&#1080;&#1088;&#1085;&#1086;&#1074;&#1072;%20&#1058;$" TargetMode="External"/><Relationship Id="rId2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68774:&#1052;&#1077;&#1085;.&#1110;&#1085;." TargetMode="External"/><Relationship Id="rId3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90;&#1077;&#1087;&#1072;&#1085;&#1102;&#1082;%20&#1053;$" TargetMode="External"/><Relationship Id="rId4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4261" TargetMode="External"/><Relationship Id="rId5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9;&#1075;&#1086;&#1076;&#1085;&#1110;&#1082;&#1086;&#1074;&#1072;%20&#1054;$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623360" cy="518508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7.</a:t>
            </a:r>
            <a:br>
              <a:rPr sz="28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 ПР КАМПАНІЯМИ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ПР ПРОГРАМАМИ У ГОТЕЛЬНОМУ БІЗНЕСІ</a:t>
            </a:r>
            <a:br>
              <a:rPr sz="3200"/>
            </a:br>
            <a:br>
              <a:rPr sz="2800"/>
            </a:br>
            <a:br>
              <a:rPr sz="3200"/>
            </a:b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79280" y="1236240"/>
            <a:ext cx="8498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430920">
              <a:lnSpc>
                <a:spcPct val="9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ПР програми та етапи її створенн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тап № 1: Визначення пробле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№ 2:</a:t>
            </a:r>
            <a:r>
              <a:rPr b="0" lang="uk-UA" sz="2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 Планування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програмування.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тап № 3: Реалізаці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тап № 4: Оцінка ефективност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Список рекомендованої літерату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7640" y="1145880"/>
            <a:ext cx="87850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Смирнова Т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ування бренда міста як інноваційний шлях підвищення його привабливості для туризму [Електронний ресурс] / Т. А. Смирнова, І. Ю. Приварникова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Вісник Дніпропетровського університету. Серія : Менеджмент інноваці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5. - Т. 23, вип. 5. - С. 93-10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Степанюк Н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рендинг міста у сфері туризму: підхід менеджера [Електронний ресурс] / Н. А. Степанюк, С. І. Цюх, Ю. І. Цибульський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Економіка та держа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4. - № 2. - С. 103-10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5"/>
              </a:rPr>
              <a:t>Угоднікова О. І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івняння специфіки та особливостей визначення поняття маркетингу та брендінгу у галузі туризму та готельного господарства [Електронний ресурс] / О. І. Угоднікова, А. А. Жигло // </a:t>
            </a:r>
            <a:r>
              <a:rPr b="0" lang="ru-RU" sz="2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cienceRise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7. - № 7. - С. 15-18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ті-брендинг : навч. посібник / Н. М. Влащенко; Харків. нац. ун-т міськ. госп-ва ім. О. М. Бекетова. – Харків : ХНУМГ ім. О. М. Бекетова, 2016. – 151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ПР-програм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іють комплекс логічно взаємопов'язаних між собою і реалізовуються в певній послідовності акцій та заходів з метою зміни в потрібному напрямку поведінки ключових і цільових аудиторій громадськості, вирішення конкретних корпоративних або маркетингових проблем і завдань.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у ПР-програми традиційно тісно пов'язують із загальною стратегією комерційної структури на ринку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останніх десятиліть переконливо свідчить: ефективність практично будь-якого ПР-заходи, ПР-акції або цілої ПР-кампанії безпосередньо залежать від якості програмування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11280" y="1196640"/>
            <a:ext cx="634824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мпан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комплексне, багаторазове використан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обів, а також рекламних матеріалів у рамках єдиної концепції та проведення загального плану впливу на думки і ставлення людей з метою популяризації іміджу, підтримки репутації, створення паблісіті.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атегічних програмних планів зі зв'язків з громадськістю згідно розробкам Сема Блека складається з чотирьох кроків: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ування і програмуванн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і комунікаці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50560" y="189000"/>
            <a:ext cx="8281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вна потреба в розробці та реалізації тривалої ПР-програми може бути викликана цілим рядом різних чинників.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в комерційному секторі найбільш поширені такі причини: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, просування і підтримки привабливого корпоративного іміджу чи іміджу бренд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компанією нової наступальної маркетингової стратегії закріплення на ринку і підвищення рівня продажів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нової корпоративної політики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назви фірми, її корпоративного іміджу, торгової марки або логотип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статусу фірми (наприклад, перетворення її у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ідкрите акціонерне товари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лиття з іншою структурою, поглинання її більш великою фірмою і т.д.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поліпшити і зробити більш привабливою ділову репутацію комерційної структури (reputation management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відбудови від конкурентів, особливо у випадку, якщо велика кількість компаній випускає продукцію, подібну за споживчими - якостям і номенклатурі, розраховану на одну й ту ж цільову аудиторію і знаходиться в одній і тій же ціновій ніш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нення серйозної проблеми (issue management) або навіть кризової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итуації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isis communic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68360" y="333360"/>
            <a:ext cx="7199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дення на ринки нової, маловідомої фірми або компан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едення на ринок особливо складної продукції (наприклад, класу «високих технологій»), що вимагає спеціально підготовленої і добре поінформованої споживчої аудитор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індивідуальної роботи з обраними групами аудиторій, які займають ключове положення і вплив у суспільств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ристання комерційною структурою особливої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еалізації продукції постійним клієнтам не через знеособлену торгівлю, а через індивідуальну роботу з постійними групами споживачів («система прямого маркетингу», яку використовують компанії Herbalife, Zepter, Avon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 сприятливого клімату для розвитку та функціонування компанії (наприклад, налагодження відносин з урядовими структурами і органами місцевого самоврядування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і підтримка зв'язків з великими і впливовими громадськими організаціями (захисники навколишнього середовища, товариства захисту прав споживачів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шук і залучення коштів інвесторів (investor rel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та проведення спеціальних акцій (special PR event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зв'язків з професійним співтовариством фахівців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549000"/>
            <a:ext cx="656280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й підхід до резюмування аналізу ситуації називають SWOT-або TOWS-аналізо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цієї аналітичної конструкції випливає кілька стратегічних висновк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-стратегія будуються на сильних сторонах організації з метою отримання переваг з нових можливостей, що з'являються у зовнішньому оточенні організації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-стратегії також будуються на сильних сторонах організації з метою протистояння загрозам, які з'являтимуться в її зовнішньому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-стратегії пов'язані зі спробами мінімізувати слабк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и організації з метою отримання переваг із зовнішніх можливост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-стратегії пов'язані зі спробами мінімізувати як слабкі сторони організації, так і загрози, що з'являються в її зовні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9-02-24T23:47:19Z</cp:lastPrinted>
  <dcterms:modified xsi:type="dcterms:W3CDTF">2021-12-06T18:43:05Z</dcterms:modified>
  <cp:revision>47</cp:revision>
  <dc:subject/>
  <dc:title>PR (звязки з громадськістю) як функція державного управління</dc:title>
</cp:coreProperties>
</file>