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2A8-8E7F-4482-A8BE-3CD92979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00E5-2F4C-4DBF-B796-3BAB1EDC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31D-485A-4AFF-9BE0-997056B1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BD0-5FC9-4489-8560-68FE8EC3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664B-2703-48B4-B0A9-17E7D79D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2C38-9D43-4B12-8426-E39C8CC0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2F7E-771F-4C0F-B05E-3E281A25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9E4A-54E5-44FE-9EB3-C9862D0D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F8BC-8260-4464-84CE-1A61FCC2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2C5C-149E-4A13-A8A8-CAEDF285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DC5E-5E6A-499B-B02E-FC6D1DE4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1F6-8BC3-4BF0-8DD7-59483C9C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F400-011A-4CD9-895B-078F2ADE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802F-66F0-4DE8-A91C-61B44546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4282-057F-473E-A2AC-4DE31927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0742-1FFC-4068-BA31-AD7B1E3A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EB61-393A-463E-8688-C24C2D20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6FF37-53BC-41D4-B6AF-E089E16A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25A5F-0F05-4304-860B-8817AE2E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65F9A-064D-4072-B389-6DDEF0DA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87175-1BBE-4016-968D-C4536587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B9DE-EB12-464E-AA6F-FC64B65B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885-8D16-4470-AC92-DD4BD508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121FF-9764-448B-99D2-82E7ACB6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28AE6-45EF-49CD-9A5E-C9E1293C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FBE77-4468-48B0-A4BB-91013111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663EE-FC3B-40E8-A409-6AA7FE60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E002-A0CA-4021-9B42-94D0A9D1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1289B-7F3A-4AC3-A1D8-85D0CFC6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A139C-704C-49E6-9304-0430553C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B976B-F364-4B62-A359-770216B7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A0C48-989D-4122-999C-C29ACB82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C65FA-7B6B-4D1B-906D-7A51B137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95D-4FC5-4D2C-ABF3-6D8B0212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321B2-274C-4B6F-B22F-0FF85471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41797-1259-48ED-93FF-99D1219B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68DB3-0D31-47B2-A415-ECE2EFB6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C4953-3A05-4EC5-BC68-1F8B28DE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DD8F8-617F-4CE5-9BC2-ABDF35A2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704A6-64C6-432D-94FA-884BB75D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44D71-310C-4A86-B276-A9F1F0C6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F889C-333F-4759-9765-4EB1D9D1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DC070-A5B8-43C6-925F-CFF10868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D38CA-496B-403C-AA81-5852BDE2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F15-616E-4604-8D13-D50C3025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8585C-CB5C-4861-81CE-77E64CB8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E8243-E45D-410C-922F-5F0EABFC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E28F2-1E8A-42D7-B697-554E9001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57AA0-96C4-4F5E-B4B8-E88F8500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EA2DA-88E9-4A92-8BA8-087B43D3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59795-EE9E-4CC3-ABBD-A0684221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560E2-539D-47FA-BD1F-6EF42469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99B99-FA55-46E4-9383-7CB6A135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5FDD4-3FD0-45C2-ABDB-C4CE2CCF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40D69-4C87-4F0E-9635-CFCE0880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EDB-FCA3-48CF-A8A1-AEE1AD26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E5190-2326-4C91-9AAB-A7DFE4AC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08F7E-3E8D-4407-9161-4648CBEA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1274B-7B66-4F75-8AFF-6B89E5EA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B9ADE-8364-4910-AA12-EF574F9B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C3E40-8322-498B-BE0E-9542BA86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896A1-0C40-4DEE-B44E-D0100B9D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32DFD-9481-4EBE-B6D3-249AC5E5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8ACC2-CD4E-4E32-9C06-15B137A1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8850C-5672-44AC-83D3-C1D941F0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334B2-FB45-4A8C-9BF0-7839EECB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637-47B7-4605-B1A1-6C1B5980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CDEAE-9EA7-4F04-8CD5-7BD9C175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EAF32-2066-47F6-9255-14BA7BF6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7ACA0-D9E4-4872-85F9-8C7F10B6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B6C-A717-44C1-A53D-DAA9C863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978-A48E-4B2C-A117-2E61E366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73A3-A4BE-4C4C-BF7F-8ACD4D1D6EE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B913-FAF5-4EAA-A583-5FAC82D9D97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6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B225-D764-4FAE-A832-59E495D55AF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2EE7-9A8B-45E9-A834-29F667DF09F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EBEF-4FD4-4624-B44B-8D9DA1D6DB0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E444-BF9E-4D55-BFCE-9D9CEBC442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7;&#1084;&#1080;&#1088;&#1085;&#1086;&#1074;&#1072;%20&#1058;$" TargetMode="External"/><Relationship Id="rId2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68774:&#1052;&#1077;&#1085;.&#1110;&#1085;." TargetMode="External"/><Relationship Id="rId3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7;&#1090;&#1077;&#1087;&#1072;&#1085;&#1102;&#1082;%20&#1053;$" TargetMode="External"/><Relationship Id="rId4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24261" TargetMode="External"/><Relationship Id="rId5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9;&#1075;&#1086;&#1076;&#1085;&#1110;&#1082;&#1086;&#1074;&#1072;%20&#1054;$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912080" cy="6192720"/>
          </a:xfrm>
          <a:prstGeom prst="rect">
            <a:avLst/>
          </a:prstGeom>
          <a:solidFill>
            <a:srgbClr val="e6b91e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8: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БЛІК Р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ЙШНЗ У КОНФЛІКТНИХ І КРИЗОВИХ СИТУАЦІЯХ ГОТЕЛЬНОГО БІЗНЕСУ</a:t>
            </a:r>
            <a:br>
              <a:rPr sz="3600"/>
            </a:br>
            <a:br>
              <a:rPr sz="3600"/>
            </a:br>
            <a:br>
              <a:rPr sz="2000"/>
            </a:br>
            <a:br>
              <a:rPr sz="2800"/>
            </a:br>
            <a:br>
              <a:rPr sz="2800"/>
            </a:br>
            <a:br>
              <a:rPr sz="20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95280" y="549000"/>
            <a:ext cx="656280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й підхід до резюмування аналізу ситуації називають SWOT-або TOWS-аналізом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цієї аналітичної конструкції випливає кілька стратегічних висновків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-стратегія будуються на сильних сторонах організації з метою отримання переваг з нових можливостей, що з'являються у зовнішньому оточенні організації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-стратегії також будуються на сильних сторонах організації з метою протистояння загрозам, які з'являтимуться в її зовнішньому оточенні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-стратегії пов'язані зі спробами мінімізувати слабиесторони організації з метою отримання переваг із зовнішніх можливостей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-стратегії пов'язані зі спробами мінімізувати як слабкі сторони організації, так і загрози, що з'являються в її зовні оточенні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глянемо деякі методи досліджень, що використовуються в сфері PR:</a:t>
            </a:r>
            <a:r>
              <a:rPr b="1" lang="ru-RU" sz="1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120" y="1413000"/>
            <a:ext cx="634860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 контакти.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кращим способом, який дозволяє ефективно виявляти і оцінювати тенденції, що мають місце в будь-якому співтоваристві, є вільне встановлення контактів з різними людьми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ією з різновидів особистих контактів є бесіди з ключовими інформаторами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й підхід включає підбір та інтерв'ювання добре поінформованих лідерів та експертів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в'ю зазвичай приймає форму вільною і не обмеженою в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у дискусії, в ході якої обраним особам пропонується обговорити відповідну проблему або питання зі своєї точки зору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ю для підбору ключових інформаторів є передбачуване знання ними того чи іншого питання, а також їх здатність представити точку зору інших людей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иблене інтерв'ю з ключовими інформаторами часто дозволяють отримати сигнали раннього попередження про ранні проблемах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609120" y="691920"/>
            <a:ext cx="6348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-групи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им продовженням використання особистих контактів та ключових інформаторів є звернення за ідеями і зворотним зв'язком до цілих груп людей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-група складається з 6-10 чоловік, яких просять провести кілька годин в товаристві досвідченого ведучого для обговорення товару, послуг, компанії або іншого об'єкта дослідження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чий повинен бути об'єктивним, добре обізнаним про предмет бесіди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говорення зазвичай проводиться в комфортній обстановці, при цьому ведучий повинен заохочувати вільні і невимушені висловлювання, щоб динаміка групи, що встановлюються в ній взаємини дозволили виявити справжні почуття і думки учасників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часно ведучий прагне «сфокусувати» обговорення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ід дискусії записується на аудіо-або відеомагнітофон і згодом уважно вивчається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-групи використовуються для того, щоб з'ясувати, як люди будуть реагувати на ті чи інші пропозиції, і для збору інформації, яка може стати в нагоді для розробки анкет, що застосовуються згодом у більш формальних методах проведення досліджень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609120" y="1125000"/>
            <a:ext cx="63486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арячі» телефонні лінії.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і лінії використовуються для отримання негайного зворотного зв'язку і відстеження проблем, що викликають особливу заклопотаність і інтерес різних суспільних груп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щі, однак, полягає в тому, що подібне виявлення проблем і думок не може замінити собою опису частоти проблем і розподілу думок з різним суспільним групам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пошти.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чно ефективним способом збору інформації є періодичний аналіз надходить пошти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спонденція, що надходить від громадськості, дозволяє виявити «проблемні сфери» та інформаційні потреби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 необхідно враховувати, що автори листів більше схильні до критичного, а не конструктивного підходу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и можуть служити засобом раннього попередження про неблагополуччя і виникненні певних проблем, але не є зрізом громадської думки або навіть думок певної суспільної групи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09480" y="620640"/>
            <a:ext cx="7850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нт-аналіз ЗМІ.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нт-аналіз засобів масової інформації представляє собою застосування систематичних процедур у спробі об'єктивно оцінити те, про що повідомляється в ЗМІ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ізки з преси і звіти з моніторингу радіопрограм і телепередач показують лише те, що прочитано, почуто або віддане в ефір, а зовсім не те, що прочитано, почуто і побачимо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ім того, вони не показують, чи дійсно аудиторія сприйняла зміст того чи іншого повідомлення і повірила йому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тування.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, розсилається поштою, - самий відповідний спосіб зв'язатися з людьми, які або не згодні на особисту зустріч, або в силу рис особистості схильні під впливом інтерв'юера спотворювати відповіді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ва анкета вимагає простих і чітко сформульованих питань, час отримання відповідей на які може бути значним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числа найважливіших переваг анкет, що розсилаються поштою, відноситься значна економія часу і грошей, зручність для респондентів, гарантія анонімності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сутність впливу особистості інтерв'юера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серйознішим недоліком багатьох опитувань є те, що у дослідників немає ніякого контролю над тим, хто відповідає, а також низький коефіцієнт отримання відповідей, який означає, що підсумкова вибірка може виявитися зовсім не репрезентативною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79280" y="1236240"/>
            <a:ext cx="849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uk-UA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ризові ситуації на підприємстві та у бізнес-середовищі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 algn="just"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uk-UA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тикризовий паблік рилейшнз у бізнесі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 algn="just"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uk-UA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даптаційний паблік рилейшнз у бізнесі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Список рекомендованої літератур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07640" y="1145880"/>
            <a:ext cx="878508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1"/>
              </a:rPr>
              <a:t>Смирнова Т. А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Формування бренда міста як інноваційний шлях підвищення його привабливості для туризму [Електронний ресурс] / Т. А. Смирнова, І. Ю. Приварникова //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2"/>
              </a:rPr>
              <a:t>Вісник Дніпропетровського університету. Серія : Менеджмент інновацій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2015. - Т. 23, вип. 5. - С. 93-100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3"/>
              </a:rPr>
              <a:t>Степанюк Н. А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рендинг міста у сфері туризму: підхід менеджера [Електронний ресурс] / Н. А. Степанюк, С. І. Цюх, Ю. І. Цибульський //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4"/>
              </a:rPr>
              <a:t>Економіка та держа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2014. - № 2. - С. 103-105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5"/>
              </a:rPr>
              <a:t>Угоднікова О. І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рівняння специфіки та особливостей визначення поняття маркетингу та брендінгу у галузі туризму та готельного господарства [Електронний ресурс] / О. І. Угоднікова, А. А. Жигло // </a:t>
            </a:r>
            <a:r>
              <a:rPr b="0" lang="ru-RU" sz="21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ScienceRise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2017. - № 7. - С. 15-18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іті-брендинг : навч. посібник / Н. М. Влащенко; Харків. нац. ун-т міськ. госп-ва ім. О. М. Бекетова. – Харків : ХНУМГ ім. О. М. Бекетова, 2016. – 151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179280" y="333000"/>
            <a:ext cx="8507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90440" algn="just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кризовий ПР і консалтинг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це комплекс високоефективних технологій, орієнтованих на прогнозування, виявлення та усунення кризи, управління кризою та вихід із неї, а також регулювання її наслід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190440" algn="just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 виникнення кризи можуть бути різними: невчасно перераховані гроші, не певним чином подане рекламне повідомлення, вплив політичної ситуації в країні тощ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1904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611280" y="1196640"/>
            <a:ext cx="634824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мпан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це комплексне, багаторазове використанн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собів, а також рекламних матеріалів у рамках єдиної концепції та проведення загального плану впливу на думки і ставлення людей з метою популяризації іміджу, підтримки репутації, створення паблісіті.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09120" y="907560"/>
            <a:ext cx="63486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ПР-програмою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уміють комплекс логічно взаємопов'язаних між собою і реалізовуються в певній послідовності акцій та заходів з метою зміни в потрібному напрямку поведінки ключових і цільових аудиторій громадськості, вирішення конкретних корпоративних або маркетингових проблем і завдань.</a:t>
            </a:r>
            <a:r>
              <a:rPr b="0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у ПР-програми традиційно тісно пов'язують із загальною стратегією комерційної структури на ринку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останніх десятиліть переконливо свідчить: ефективність практично будь-якого ПР-заходи, ПР-акції або цілої ПР-кампанії безпосередньо залежать від якості програмування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09120" y="907560"/>
            <a:ext cx="63486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стратегічних програмних планів зі зв'язків з громадськістю згідно розробкам Сема Блека складається з чотирьох кроків: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проблеми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ування і програмування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 і комунікація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ка програми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250560" y="189000"/>
            <a:ext cx="8281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ивна потреба в розробці та реалізації тривалої ПР-програми може бути викликана цілим рядом різних чинників.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клад, в комерційному секторі найбільш поширені такі причини: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створення, просування і підтримки привабливого корпоративного іміджу чи іміджу бренду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йняття компанією нової наступальної маркетингової стратегії закріплення на ринку і підвищення рівня продажів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йняття нової корпоративної політики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іна назви фірми, її корпоративного іміджу, торгової марки або логотипу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іна статусу фірми (наприклад, перетворення її у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ідкрите акціонерне товарист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злиття з іншою структурою, поглинання її більш великою фірмою і т.д.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поліпшити і зробити більш привабливою ділову репутацію комерційної структури (reputation management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відбудови від конкурентів, особливо у випадку, якщо велика кількість компаній випускає продукцію, подібну за споживчими - якостям і номенклатурі, розраховану на одну й ту ж цільову аудиторію і знаходиться в одній і тій же ціновій ніші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никнення серйозної проблеми (issue management) або навіть кризової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ситуації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isis communications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68360" y="333360"/>
            <a:ext cx="7199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едення на ринки нової, маловідомої фірми або компанії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ведення на ринок особливо складної продукції (наприклад, класу «високих технологій»), що вимагає спеціально підготовленої і добре поінформованої споживчої аудиторії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індивідуальної роботи з обраними групами аудиторій, які займають ключове положення і вплив у суспільстві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користання комерційною структурою особливої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​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реалізації продукції постійним клієнтам не через знеособлену торгівлю, а через індивідуальну роботу з постійними групами споживачів («система прямого маркетингу», яку використовують компанії Herbalife, Zepter, Avon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створення сприятливого клімату для розвитку та функціонування компанії (наприклад, налагодження відносин з урядовими структурами і органами місцевого самоврядування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виток і підтримка зв'язків з великими і впливовими громадськими організаціями (захисники навколишнього середовища, товариства захисту прав споживачів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шук і залучення коштів інвесторів (investor relations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ізація та проведення спеціальних акцій (special PR events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виток зв'язків з професійним співтовариством фахівців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7:24:18Z</dcterms:created>
  <dc:creator>Bodyk</dc:creator>
  <dc:description/>
  <dc:language>en-US</dc:language>
  <cp:lastModifiedBy>Пользователь Windows</cp:lastModifiedBy>
  <cp:lastPrinted>2019-02-24T23:47:19Z</cp:lastPrinted>
  <dcterms:modified xsi:type="dcterms:W3CDTF">2021-10-11T22:06:56Z</dcterms:modified>
  <cp:revision>46</cp:revision>
  <dc:subject/>
  <dc:title>PR (звязки з громадськістю) як функція державного управління</dc:title>
</cp:coreProperties>
</file>