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F32-FCB8-48C5-B688-422F5E55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F531-270C-4A77-9576-0F212F7E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B4AB-02CE-4FD9-B6CD-A155C883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F82-AA7B-47DE-A86E-58074908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5053-1D23-4EE5-8299-1ADD909B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7C1F-CC14-4881-9B9E-0C711D92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542C-0591-437F-916F-100DF9DC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942E-3A3A-4D0C-A1F9-2FBDBA56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E601-CE21-4E26-8F5C-5A4C258A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17AC-2404-411F-BE20-20632E93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6DE0-1A0A-46FC-9E0D-E438564D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2079-267E-4FB6-9D39-BEF6991F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AE41-4A99-4D49-9DFB-B64F1530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74B0-337B-4219-86DA-155FFEAB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4B2B-441F-41C7-AC3F-224E42B6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95D9-3319-425D-A3D3-94807AFE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A735-BF8D-4053-88C6-C33E8850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1FED7-2F07-4B3B-8115-F6F89005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37E37-3552-40E7-BEB8-E2A8118C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5D50B-7D3F-4F07-B04B-AF65F7CD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154F6-D0DD-4CA3-908B-E7D51A70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BACA4-B959-4075-882A-718A09E5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DED-D931-4521-962C-992A8194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50BC2-358C-4024-9696-7031CA54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8B546-C378-43D1-8C2B-AD0C276F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41751-11B5-4487-88BE-9D42420E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3B2CB-A568-436B-BA77-FE1818C4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C96D9-899B-4372-B432-1BEE5E67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19244-B0A5-4884-B97C-36322520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13210-7A13-4444-BBD3-B24BF81E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04348-52C2-4937-925A-09E401EF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41634-A37B-4465-808B-B250C715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A352D-DFD5-405D-B1B2-440ECC89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9C29-CF38-40BF-81B5-C58FDC6F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91D6C-8C5A-494A-9266-AB57AA08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5C229-D247-4878-A98D-FDEE06AA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7B634-0E4E-4FAF-944E-3FDA1F58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214E0-786D-47C5-A5E7-7EF11E7B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78144-F78F-43DF-93D9-88223B9F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58CF9-6CC8-4CE4-8927-A317EB6A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DF6C1-CB63-43E9-87DF-3CA9AD2C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7E9EA-199A-42F1-9CF9-2D5602B8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64D3A-F737-43EC-A69B-826A7B6B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D5BCD-D9EE-4C1B-B7F7-2BB25961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537A-83D6-4511-A0BF-C4184B75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232B0-F31A-4FA8-B366-3FAABE29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4158C-2DFF-44F3-800A-B71B9859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DF1FC-AF5F-46F6-87AD-5876C736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118EA-89B5-4065-AC70-9930FE15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9F05F-2F10-4F14-B561-3DFE608D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DEBA6-A1E0-4279-AB08-613DE504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63F50-B3E2-4BC1-88B2-5E656887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E9D02-FC51-448C-8C8C-9178F59B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AB7D4-2664-42DD-95E7-491E0F77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9E623-D20A-4C5A-891D-725B1F22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7DB6-C8F8-4082-AEB6-51DE5E56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B560C-A740-4D90-B4C5-DB0B4DE3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178FF-EDB3-43ED-8B48-2B2A2D25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DAE0B-0753-4BBD-9CD5-C9DD368D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1C4B5-D0B2-4952-A102-4D18F43E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BB484-AF5F-4D17-A93B-45784EFD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5C959-2971-4E3B-A0B3-16F9E14E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950A8-FBDD-4B77-8A54-0DFAB579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06D60-5556-4FDB-9303-F68129A1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69D9D-98B0-4F57-903B-BBBE4D15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17A61-BC21-409E-A1E1-CEBA8AE0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A219-7C08-4B8E-8C0B-23C48F6D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D7426-89B7-40BC-ADD4-C948BCDA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5A5B4-20E2-4A12-82E8-63F11614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A1F13-108C-43C5-8323-59979CD9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B604-1FE7-484B-BEB4-370FC824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9C1-254A-4104-A14F-22A2F677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D359-654D-4F07-983C-CF5A8607CBF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A688-EF17-40D1-806B-D080A534FF4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6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3192-E6B3-4D86-AFBE-C88ADD84613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0D90-1E53-4FDE-87C6-F767A75BB78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F87B-0D5C-4697-AF35-AA1A50A078D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3B8C-2640-4A83-B72E-F47775A5C53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rbis-nbuv.gov.ua/cgi-bin/irbis_nbuv/cgiirbis_64.exe?Z21ID=&amp;I21DBN=UJRN&amp;P21DBN=UJRN&amp;S21STN=1&amp;S21REF=10&amp;S21FMT=fullwebr&amp;C21COM=S&amp;S21CNR=20&amp;S21P01=0&amp;S21P02=0&amp;S21P03=A=&amp;S21COLORTERMS=1&amp;S21STR=&#1057;&#1084;&#1080;&#1088;&#1085;&#1086;&#1074;&#1072;%20&#1058;$" TargetMode="External"/><Relationship Id="rId2" Type="http://schemas.openxmlformats.org/officeDocument/2006/relationships/hyperlink" Target="http://www.irbis-nbuv.gov.ua/cgi-bin/irbis_nbuv/cgiirbis_64.exe?Z21ID=&amp;I21DBN=UJRN&amp;P21DBN=UJRN&amp;S21STN=1&amp;S21REF=10&amp;S21FMT=JUU_all&amp;C21COM=S&amp;S21CNR=20&amp;S21P01=0&amp;S21P02=0&amp;S21P03=IJ=&amp;S21COLORTERMS=1&amp;S21STR=&#1046;68774:&#1052;&#1077;&#1085;.&#1110;&#1085;." TargetMode="External"/><Relationship Id="rId3" Type="http://schemas.openxmlformats.org/officeDocument/2006/relationships/hyperlink" Target="http://www.irbis-nbuv.gov.ua/cgi-bin/irbis_nbuv/cgiirbis_64.exe?Z21ID=&amp;I21DBN=UJRN&amp;P21DBN=UJRN&amp;S21STN=1&amp;S21REF=10&amp;S21FMT=fullwebr&amp;C21COM=S&amp;S21CNR=20&amp;S21P01=0&amp;S21P02=0&amp;S21P03=A=&amp;S21COLORTERMS=1&amp;S21STR=&#1057;&#1090;&#1077;&#1087;&#1072;&#1085;&#1102;&#1082;%20&#1053;$" TargetMode="External"/><Relationship Id="rId4" Type="http://schemas.openxmlformats.org/officeDocument/2006/relationships/hyperlink" Target="http://www.irbis-nbuv.gov.ua/cgi-bin/irbis_nbuv/cgiirbis_64.exe?Z21ID=&amp;I21DBN=UJRN&amp;P21DBN=UJRN&amp;S21STN=1&amp;S21REF=10&amp;S21FMT=JUU_all&amp;C21COM=S&amp;S21CNR=20&amp;S21P01=0&amp;S21P02=0&amp;S21P03=IJ=&amp;S21COLORTERMS=1&amp;S21STR=&#1046;24261" TargetMode="External"/><Relationship Id="rId5" Type="http://schemas.openxmlformats.org/officeDocument/2006/relationships/hyperlink" Target="http://www.irbis-nbuv.gov.ua/cgi-bin/irbis_nbuv/cgiirbis_64.exe?Z21ID=&amp;I21DBN=UJRN&amp;P21DBN=UJRN&amp;S21STN=1&amp;S21REF=10&amp;S21FMT=fullwebr&amp;C21COM=S&amp;S21CNR=20&amp;S21P01=0&amp;S21P02=0&amp;S21P03=A=&amp;S21COLORTERMS=1&amp;S21STR=&#1059;&#1075;&#1086;&#1076;&#1085;&#1110;&#1082;&#1086;&#1074;&#1072;%20&#1054;$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912080" cy="6192720"/>
          </a:xfrm>
          <a:prstGeom prst="rect">
            <a:avLst/>
          </a:prstGeom>
          <a:solidFill>
            <a:srgbClr val="e6b91e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8: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БЛІК Р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ЙШНЗ У КОНФЛІКТНИХ І КРИЗОВИХ СИТУАЦІЯХ ГОТЕЛЬНОГО БІЗНЕСУ</a:t>
            </a:r>
            <a:br>
              <a:rPr sz="3600"/>
            </a:br>
            <a:br>
              <a:rPr sz="3600"/>
            </a:br>
            <a:br>
              <a:rPr sz="2000"/>
            </a:br>
            <a:br>
              <a:rPr sz="2800"/>
            </a:br>
            <a:br>
              <a:rPr sz="2800"/>
            </a:br>
            <a:br>
              <a:rPr sz="20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95280" y="549000"/>
            <a:ext cx="6562800" cy="54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й підхід до резюмування аналізу ситуації називають SWOT-або TOWS-аналізом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цієї аналітичної конструкції випливає кілька стратегічних висновків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-стратегія будуються на сильних сторонах організації з метою отримання переваг з нових можливостей, що з'являються у зовнішньому оточенні організації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-стратегії також будуються на сильних сторонах організації з метою протистояння загрозам, які з'являтимуться в її зовнішньому оточенні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-стратегії пов'язані зі спробами мінімізувати слабиесторони організації з метою отримання переваг із зовнішніх можливостей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T-стратегії пов'язані зі спробами мінімізувати як слабкі сторони організації, так і загрози, що з'являються в її зовні оточенні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глянемо деякі методи досліджень, що використовуються в сфері PR:</a:t>
            </a:r>
            <a:r>
              <a:rPr b="1" lang="ru-RU" sz="1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09120" y="1413000"/>
            <a:ext cx="6348600" cy="46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 контакти.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кращим способом, який дозволяє ефективно виявляти і оцінювати тенденції, що мають місце в будь-якому співтоваристві, є вільне встановлення контактів з різними людьми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ією з різновидів особистих контактів є бесіди з ключовими інформаторами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й підхід включає підбір та інтерв'ювання добре поінформованих лідерів та експертів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рв'ю зазвичай приймає форму вільною і не обмеженою в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у дискусії, в ході якої обраним особам пропонується обговорити відповідну проблему або питання зі своєї точки зору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ою для підбору ключових інформаторів є передбачуване знання ними того чи іншого питання, а також їх здатність представити точку зору інших людей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иблене інтерв'ю з ключовими інформаторами часто дозволяють отримати сигнали раннього попередження про ранні проблемах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609120" y="691920"/>
            <a:ext cx="6348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ус-групи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им продовженням використання особистих контактів та ключових інформаторів є звернення за ідеями і зворотним зв'язком до цілих груп людей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ус-група складається з 6-10 чоловік, яких просять провести кілька годин в товаристві досвідченого ведучого для обговорення товару, послуг, компанії або іншого об'єкта дослідження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чий повинен бути об'єктивним, добре обізнаним про предмет бесіди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говорення зазвичай проводиться в комфортній обстановці, при цьому ведучий повинен заохочувати вільні і невимушені висловлювання, щоб динаміка групи, що встановлюються в ній взаємини дозволили виявити справжні почуття і думки учасників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часно ведучий прагне «сфокусувати» обговорення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ід дискусії записується на аудіо-або відеомагнітофон і згодом уважно вивчається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ус-групи використовуються для того, щоб з'ясувати, як люди будуть реагувати на ті чи інші пропозиції, і для збору інформації, яка може стати в нагоді для розробки анкет, що застосовуються згодом у більш формальних методах проведення досліджень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609120" y="1125000"/>
            <a:ext cx="63486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арячі» телефонні лінії.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ні лінії використовуються для отримання негайного зворотного зв'язку і відстеження проблем, що викликають особливу заклопотаність і інтерес різних суспільних груп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щі, однак, полягає в тому, що подібне виявлення проблем і думок не може замінити собою опису частоти проблем і розподілу думок з різним суспільним групам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пошти.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ічно ефективним способом збору інформації є періодичний аналіз надходить пошти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спонденція, що надходить від громадськості, дозволяє виявити «проблемні сфери» та інформаційні потреби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 необхідно враховувати, що автори листів більше схильні до критичного, а не конструктивного підходу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и можуть служити засобом раннього попередження про неблагополуччя і виникненні певних проблем, але не є зрізом громадської думки або навіть думок певної суспільної групи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609480" y="620640"/>
            <a:ext cx="78501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нт-аналіз ЗМІ.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нт-аналіз засобів масової інформації представляє собою застосування систематичних процедур у спробі об'єктивно оцінити те, про що повідомляється в ЗМІ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ізки з преси і звіти з моніторингу радіопрограм і телепередач показують лише те, що прочитано, почуто або віддане в ефір, а зовсім не те, що прочитано, почуто і побачимо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ім того, вони не показують, чи дійсно аудиторія сприйняла зміст того чи іншого повідомлення і повірила йому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тування.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, розсилається поштою, - самий відповідний спосіб зв'язатися з людьми, які або не згодні на особисту зустріч, або в силу рис особистості схильні під впливом інтерв'юера спотворювати відповіді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ва анкета вимагає простих і чітко сформульованих питань, час отримання відповідей на які може бути значним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числа найважливіших переваг анкет, що розсилаються поштою, відноситься значна економія часу і грошей, зручність для респондентів, гарантія анонімності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сутність впливу особистості інтерв'юера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серйознішим недоліком багатьох опитувань є те, що у дослідників немає ніякого контролю над тим, хто відповідає, а також низький коефіцієнт отримання відповідей, який означає, що підсумкова вибірка може виявитися зовсім не репрезентативною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79280" y="1236240"/>
            <a:ext cx="8498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uk-UA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ризові ситуації на підприємстві та у бізнес-середовищі.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 algn="just"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uk-UA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нтикризовий паблік рилейшнз у бізнесі.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 algn="just"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uk-UA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даптаційний паблік рилейшнз у бізнесі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Список рекомендованої літератур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07640" y="1145880"/>
            <a:ext cx="878508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1"/>
              </a:rPr>
              <a:t>Смирнова Т. А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Формування бренда міста як інноваційний шлях підвищення його привабливості для туризму [Електронний ресурс] / Т. А. Смирнова, І. Ю. Приварникова // </a:t>
            </a:r>
            <a:r>
              <a:rPr b="0" lang="ru-RU" sz="21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2"/>
              </a:rPr>
              <a:t>Вісник Дніпропетровського університету. Серія : Менеджмент інновацій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 2015. - Т. 23, вип. 5. - С. 93-100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3"/>
              </a:rPr>
              <a:t>Степанюк Н. А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рендинг міста у сфері туризму: підхід менеджера [Електронний ресурс] / Н. А. Степанюк, С. І. Цюх, Ю. І. Цибульський // </a:t>
            </a:r>
            <a:r>
              <a:rPr b="0" lang="ru-RU" sz="21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4"/>
              </a:rPr>
              <a:t>Економіка та держав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 2014. - № 2. - С. 103-105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5"/>
              </a:rPr>
              <a:t>Угоднікова О. І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рівняння специфіки та особливостей визначення поняття маркетингу та брендінгу у галузі туризму та готельного господарства [Електронний ресурс] / О. І. Угоднікова, А. А. Жигло // </a:t>
            </a:r>
            <a:r>
              <a:rPr b="0" lang="ru-RU" sz="21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ScienceRise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 2017. - № 7. - С. 15-18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іті-брендинг : навч. посібник / Н. М. Влащенко; Харків. нац. ун-т міськ. госп-ва ім. О. М. Бекетова. – Харків : ХНУМГ ім. О. М. Бекетова, 2016. – 151 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179280" y="333000"/>
            <a:ext cx="8507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90440" algn="just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кризовий ПР і консалтинг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це комплекс високоефективних технологій, орієнтованих на прогнозування, виявлення та усунення кризи, управління кризою та вихід із неї, а також регулювання її наслідк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190440" algn="just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и виникнення кризи можуть бути різними: невчасно перераховані гроші, не певним чином подане рекламне повідомлення, вплив політичної ситуації в країні тощ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1904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611280" y="1196640"/>
            <a:ext cx="6348240" cy="48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мпан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це комплексне, багаторазове використанн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собів, а також рекламних матеріалів у рамках єдиної концепції та проведення загального плану впливу на думки і ставлення людей з метою популяризації іміджу, підтримки репутації, створення паблісіті.</a:t>
            </a: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09120" y="907560"/>
            <a:ext cx="634860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 ПР-програмою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уміють комплекс логічно взаємопов'язаних між собою і реалізовуються в певній послідовності акцій та заходів з метою зміни в потрібному напрямку поведінки ключових і цільових аудиторій громадськості, вирішення конкретних корпоративних або маркетингових проблем і завдань.</a:t>
            </a:r>
            <a:r>
              <a:rPr b="0" lang="uk-UA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у ПР-програми традиційно тісно пов'язують із загальною стратегією комерційної структури на ринку.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останніх десятиліть переконливо свідчить: ефективність практично будь-якого ПР-заходи, ПР-акції або цілої ПР-кампанії безпосередньо залежать від якості програмування.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609120" y="907560"/>
            <a:ext cx="634860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стратегічних програмних планів зі зв'язків з громадськістю згідно розробкам Сема Блека складається з чотирьох кроків: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проблеми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ування і програмування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я і комунікація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інка програми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250560" y="189000"/>
            <a:ext cx="8281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'єктивна потреба в розробці та реалізації тривалої ПР-програми може бути викликана цілим рядом різних чинників.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клад, в комерційному секторі найбільш поширені такі причини: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створення, просування і підтримки привабливого корпоративного іміджу чи іміджу бренду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йняття компанією нової наступальної маркетингової стратегії закріплення на ринку і підвищення рівня продажів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йняття нової корпоративної політики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міна назви фірми, її корпоративного іміджу, торгової марки або логотипу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міна статусу фірми (наприклад, перетворення її у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відкрите акціонерне товарист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злиття з іншою структурою, поглинання її більш великою фірмою і т.д.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поліпшити і зробити більш привабливою ділову репутацію комерційної структури (reputation management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відбудови від конкурентів, особливо у випадку, якщо велика кількість компаній випускає продукцію, подібну за споживчими - якостям і номенклатурі, розраховану на одну й ту ж цільову аудиторію і знаходиться в одній і тій же ціновій ніші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никнення серйозної проблеми (issue management) або навіть кризової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ситуації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isis communications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68360" y="333360"/>
            <a:ext cx="71992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ведення на ринки нової, маловідомої фірми або компанії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ведення на ринок особливо складної продукції (наприклад, класу «високих технологій»), що вимагає спеціально підготовленої і добре поінформованої споживчої аудиторії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індивідуальної роботи з обраними групами аудиторій, які займають ключове положення і вплив у суспільстві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користання комерційною структурою особливої 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Times New Roman"/>
              </a:rPr>
              <a:t>​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реалізації продукції постійним клієнтам не через знеособлену торгівлю, а через індивідуальну роботу з постійними групами споживачів («система прямого маркетингу», яку використовують компанії Herbalife, Zepter, Avon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створення сприятливого клімату для розвитку та функціонування компанії (наприклад, налагодження відносин з урядовими структурами і органами місцевого самоврядування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виток і підтримка зв'язків з великими і впливовими громадськими організаціями (захисники навколишнього середовища, товариства захисту прав споживачів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шук і залучення коштів інвесторів (investor relations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ізація та проведення спеціальних акцій (special PR events);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виток зв'язків з професійним співтовариством фахівців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447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7:24:18Z</dcterms:created>
  <dc:creator>Bodyk</dc:creator>
  <dc:description/>
  <dc:language>en-US</dc:language>
  <cp:lastModifiedBy>Пользователь Windows</cp:lastModifiedBy>
  <cp:lastPrinted>2019-02-24T23:47:19Z</cp:lastPrinted>
  <dcterms:modified xsi:type="dcterms:W3CDTF">2021-10-11T22:06:56Z</dcterms:modified>
  <cp:revision>46</cp:revision>
  <dc:subject/>
  <dc:title>PR (звязки з громадськістю) як функція державного управління</dc:title>
</cp:coreProperties>
</file>