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8B6-5FC2-41A7-AF41-11960378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CB8-5496-4B58-AB03-1F4DF380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B67-A3E6-4452-AFF5-B2E07DCA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06E-B0D2-4FCD-8D44-C0EA1B86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88C7-F0D4-4F00-8C06-927312F4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D5AC-B588-461A-B325-4E619F2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085A-B0C1-48CF-90A7-2F7E4989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3387-A622-415A-8507-A91E73A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1D8-8D58-4F89-9C59-4334F85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6D6A-7417-4232-B553-DA081307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2A88-52FE-41FC-B2DF-98308EC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899-4E83-4034-8609-F4F0408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354-0BE1-4FB5-B706-0B1B4B2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8DCD-45BF-4096-B6E5-B230C82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BA1-27AF-442E-8F47-19360E95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E5F4-90E1-4EAC-8459-EEE0E102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D475-196D-418E-9B7E-72243771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1256-0CF4-44E3-BB23-A1A57390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6C84-B15F-4044-8AE9-4611337E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6A95-97F2-4106-B09D-00BD5D8E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461E-934B-4213-8CF1-C9403332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0614-01B4-4B4A-98FB-6B8C8ADF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D03-A139-4F4C-8A91-25F7653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754D-E04D-4D56-8A04-3E1C83E2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4EC6-0A5B-4209-A224-A22B031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8751-AC88-4B34-9737-CC95AFD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FA2E-4C4D-4DD9-A7F5-952597C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9829-DFC3-4BFB-A340-6E58A36F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3575-BB5C-495D-81D8-6D228C2E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7392-9F6A-4DB9-9F30-C0BB0297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FA27-C773-4846-808F-524CC259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CB1B-E361-486E-967D-12AD49DC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0296-5754-411F-AED6-B69F82A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5C4-4D9D-46A5-8F8F-2CE136F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53BE-3835-45DC-B0EA-EED26FCB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C27E-13F5-49AE-B2E9-A187D2B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25E6-02E7-4D53-92C7-5369D25B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3BC4-FF9B-4AB3-AE0D-FFD096A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C158-2F15-4F25-A14E-3EDE795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98F6-D2E6-4398-8D22-D831CF5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96B0-4A62-4892-8DA7-411D1F43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F8CE-DF8A-4351-896C-1DCB4069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0265-55CA-40BD-B0D2-03A43493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617-06CF-4C60-94A1-27B4DB0C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F56-CC7F-4CEA-9FE4-F79CE96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F66-5D04-4B3C-A2A8-E802C4E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F03-2B2C-4BA0-9967-F2AF48A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4D6-485E-4600-ACA7-60AC595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EDB-1A95-439A-A3E8-44A47FF319B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DFD-2BA7-46F8-9362-34A9E006699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13A3-8B0B-40F1-B454-A76CF1386E7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71F-05D4-4837-9D17-8C71D9AC772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88;&#1080;&#1084;&#1072;&#1082;,%20&#1058;&#1077;&#1090;&#1103;&#1085;&#1072;%20&#1054;&#1083;&#1077;&#1082;&#1089;&#1072;&#1085;&#1076;&#1088;&#1110;&#1074;&#1085;&#1072;" TargetMode="External"/><Relationship Id="rId2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88;&#1080;&#1084;&#1072;&#1082;,%20&#1058;&#1077;&#1090;&#1103;&#1085;&#1072;%20&#1054;&#1083;&#1077;&#1082;&#1089;&#1072;&#1085;&#1076;&#1088;&#1110;&#1074;&#1085;&#1072;" TargetMode="External"/><Relationship Id="rId3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72;&#1089;&#1100;&#1082;&#1086;,%20&#1052;&#1072;&#1088;&#1080;&#1085;&#1072;%20&#1030;&#1074;&#1072;&#1085;&#1110;&#1074;&#1085;&#1072;" TargetMode="External"/><Relationship Id="rId4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072;&#1089;&#1100;&#1082;&#1086;,%20&#1052;&#1072;&#1088;&#1080;&#1085;&#1072;%20&#1030;&#1074;&#1072;&#1085;&#1110;&#1074;&#1085;&#1072;" TargetMode="External"/><Relationship Id="rId5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110;&#1079;&#1085;&#1102;&#1082;,%20&#1051;&#1077;&#1089;&#1103;%20&#1042;&#1086;&#1083;&#1086;&#1076;&#1080;&#1084;&#1080;&#1088;&#1110;&#1074;&#1085;&#1072;" TargetMode="External"/><Relationship Id="rId6" Type="http://schemas.openxmlformats.org/officeDocument/2006/relationships/hyperlink" Target="http://irbis-nbuv.gov.ua/cgi-bin/irbis_all/cgiirbis_64.exe?Z21ID=&amp;I21DBN=EC&amp;P21DBN=EC&amp;S21STN=1&amp;S21REF=10&amp;S21FMT=fullw&amp;C21COM=S&amp;S21CNR=20&amp;S21P01=3&amp;S21P02=0&amp;S21P03=A=&amp;S21COLORTERMS=0&amp;S21STR=&#1055;&#1110;&#1079;&#1085;&#1102;&#1082;,%20&#1051;&#1077;&#1089;&#1103;%20&#1042;&#1086;&#1083;&#1086;&#1076;&#1080;&#1084;&#1080;&#1088;&#1110;&#1074;&#1085;&#1072;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a-referat.com/&#1055;&#1083;&#1072;&#1085;&#1091;&#1074;&#1072;&#1085;&#1085;&#1103;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a-referat.com/&#1042;&#1110;&#1076;&#1082;&#1088;&#1080;&#1090;&#1077;_&#1072;&#1082;&#1094;&#1110;&#1086;&#1085;&#1077;&#1088;&#1085;&#1077;_&#1090;&#1086;&#1074;&#1072;&#1088;&#1080;&#1089;&#1090;&#1074;&#1086;" TargetMode="External"/><Relationship Id="rId2" Type="http://schemas.openxmlformats.org/officeDocument/2006/relationships/hyperlink" Target="http://ua-referat.com/&#1057;&#1080;&#1090;&#1091;&#1072;&#1094;&#1110;&#1103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840720" cy="6551640"/>
          </a:xfrm>
          <a:prstGeom prst="rect">
            <a:avLst/>
          </a:prstGeom>
          <a:solidFill>
            <a:srgbClr val="50761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7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ПР-КАМПАНІЯМИ У БІЗНЕСІ</a:t>
            </a:r>
            <a:br>
              <a:rPr sz="4000"/>
            </a:br>
            <a:br>
              <a:rPr sz="4000"/>
            </a:br>
            <a:br>
              <a:rPr sz="3600"/>
            </a:br>
            <a:br>
              <a:rPr sz="29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176480" y="2491920"/>
            <a:ext cx="6780240" cy="34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ТАП № 1: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</a:t>
            </a:r>
            <a:r>
              <a:rPr b="1" lang="ru-RU" sz="32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4920" y="54900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и являє собою короткий опис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ій ситуації, сформульованого у вигляді пропозиції або короткого абзац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ідміну від постановки проблеми аналіз ситуації представляє собою повний набір відомостей, відомих про ситуацію, її історії, що діють силах та осіб, яких вона стосується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йний аналіз виявляє всю «фонову» інформацію, необхідну для того, щоб ширше поглянути на дану проблему, і включає в себе такі аспекти: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ення історії питання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про минуле необхідна для визначення того, що робилося для вирішення проблеми до цього момент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асоби і методи були найбільш ефективні?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ому виявлені недоліки?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дозволить вірно вибудувати програму дій і уникнути помилок в майбутньом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погляд навколо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кроком є безперервний ні на хвилину моніторинг громадської думки стосовно PR-об'єкту, що дозволить вірно вибрати стратегію впливу на цільову аудиторію PR - кампанії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бокий погляд всередину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самого PR-об'єкта, при якому зручна оцінка з точки зору його сильних і слабких сторін, можливостей і загроз при взаємодії із зовнішнім середовищем.</a:t>
            </a:r>
            <a:r>
              <a:rPr b="0" lang="ru-RU" sz="18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549000"/>
            <a:ext cx="7416720" cy="549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й підхід до резюмування аналізу ситуації називають SWOT-або TOWS-аналізо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цієї аналітичної конструкції випливає кілька стратегічних висновк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-стратегія будуються на сильних сторонах організації з метою отримання переваг з нових можливостей, що з'являються у зовнішньому оточенні організації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-стратегії також будуються на сильних сторонах організації з метою протистояння загрозам, які з'являтимуться в її зовнішньому оточенні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-стратегії пов'язані зі спробами мінімізувати слабиесторони організації з метою отримання переваг із зовнішніх можливост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-стратегії пов'язані зі спробами мінімізувати як слабкі сторони організації, так і загрози, що з'являються в її зовні оточенні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ДЕЯКІ МЕТОДИ ДОСЛІДЖЕНЬ, ЩО ВИКОРИСТОВУЮТЬСЯ В СФЕРІ PR: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413000"/>
            <a:ext cx="7778880" cy="46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 контакти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кращим способом, який дозволяє ефективно виявляти і оцінювати тенденції, що мають місце в будь-якому співтоваристві, є вільне встановлення контактів з різними людь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ією з різновидів особистих контактів є бесіди з ключовими інформатора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включає підбір та інтерв'ювання добре поінформованих лідерів та експерт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в'ю зазвичай приймає форму вільною і не обмеженою 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дискусії, в ході якої обраним особам пропонується обговорити відповідну проблему або питання зі своєї точки зор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для підбору ключових інформаторів є передбачуване знання ними того чи іншого питання, а також їх здатність представити точку зору інших люд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иблене інтерв'ю з ключовими інформаторами часто дозволяють отримати сигнали раннього попередження про ранні проблемах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09480" y="691920"/>
            <a:ext cx="785016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м продовженням використання особистих контактів та ключових інформаторів є звернення за ідеями і зворотним зв'язком до цілих груп люде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а складається з 6-10 чоловік, яких просять провести кілька годин в товаристві досвідченого ведучого для обговорення товару, послуг, компанії або іншого об'єкта дослідже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чий повинен бути об'єктивним, добре обізнаним про предмет бесід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говорення зазвичай проводиться в комфортній обстановці, при цьому ведучий повинен заохочувати вільні і невимушені висловлювання, щоб динаміка групи, що встановлюються в ній взаємини дозволили виявити справжні почуття і думки учасникі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часно ведучий прагне «сфокусувати» обговоре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д дискусії записується на аудіо-або відеомагнітофон і згодом уважно вивчаєтьс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-групи використовуються для того, щоб з'ясувати, як люди будуть реагувати на ті чи інші пропозиції, і для збору інформації, яка може стати в нагоді для розробки анкет, що застосовуються згодом у більш формальних методах проведення досліджень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09480" y="692280"/>
            <a:ext cx="7778880" cy="53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ячі» телефонні лінії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і лінії використовуються для отримання негайного зворотного зв'язку і відстеження проблем, що викликають особливу заклопотаність і інтерес різних суспільних груп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щі, однак, полягає в тому, що подібне виявлення проблем і думок не може замінити собою опису частоти проблем і розподілу думок з різним суспільним група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пошти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о ефективним способом збору інформації є періодичний аналіз надходить пошт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спонденція, що надходить від громадськості, дозволяє виявити «проблемні сфери» та інформаційні потреб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необхідно враховувати, що автори листів більше схильні до критичного, а не конструктивного підход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 можуть служити засобом раннього попередження про неблагополуччя і виникненні певних проблем, але не є зрізом громадської думки або навіть думок певної суспільної груп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620640"/>
            <a:ext cx="7850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МІ.</a:t>
            </a:r>
            <a:r>
              <a:rPr b="0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нт-аналіз засобів масової інформації представляє собою застосування систематичних процедур у спробі об'єктивно оцінити те, про що повідомляється в ЗМ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зки з преси і звіти з моніторингу радіопрограм і телепередач показують лише те, що прочитано, почуто або віддане в ефір, а зовсім не те, що прочитано, почуто і побачимо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вони не показують, чи дійсно аудиторія сприйняла зміст того чи іншого повідомлення і повірила йому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тування.</a:t>
            </a:r>
            <a:r>
              <a:rPr b="0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, розсилається поштою, - самий відповідний спосіб зв'язатися з людьми, які або не згодні на особисту зустріч, або в силу рис особистості схильні під впливом інтерв'юера спотворювати відповід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 анкета вимагає простих і чітко сформульованих питань, час отримання відповідей на які може бути значним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исла найважливіших переваг анкет, що розсилаються поштою, відноситься значна економія часу і грошей, зручність для респондентів, гарантія анонімності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впливу особистості інтерв'юера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серйознішим недоліком багатьох опитувань є те, що у дослідників немає ніякого контролю над тим, хто відповідає, а також низький коефіцієнт отримання відповідей, який означає, що підсумкова вибірка може виявитися зовсім не репрезентативною.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476280"/>
            <a:ext cx="849636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ий етап у підготовці PR-кампанії - всебічне вивченн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аудиторії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ільових груп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цього необхідно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фікувати групи, які повинні стати цільовим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організації мають зв'язку з певними стандартними групами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 та журналіста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овця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ям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овниками (муніципального та федерального рівнів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фері бізнесу - це групи споживачів, акціонерів та фінансист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організації мають специфічні цільові групи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мерційні - спонсор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и - батьк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 компанії - дилерів і постачальник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вищення ефективності комунікацій необхідно сегментувати кожну групу на підгруп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4360" y="691920"/>
            <a:ext cx="7704000" cy="52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пріоритетні групи, тобто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ити найбільш важливі цільові групи з точки зору ступеня їх впливу, престижу, влади, потреби в них для організації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визначити пріоритетні групи, фахівці зі зв'язків з громадськістю повинні виявити: чим і чому ця група важлива для нас; якими соціальними, демографічними, психологічними та іншими характеристиками володіє дана пріоритетна група; наскільки вона активна і як пов'язана з нашими інтересами.</a:t>
            </a:r>
            <a:r>
              <a:rPr b="0" lang="ru-RU" sz="24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44748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ування громадськості відбувається по найбільш важливим критеріям, наприклад, за такими як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Географічний - окреслює природні кордон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визначає місце розташування людей, але малополезен для розуміння важливих відмінностей, що існують в цих кордонах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Демографічна - стать, дохід, вік, сімейний стан, освіт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айбільш часто використовувані характеристики, однак, мало інформативні в плані визначення того, як залучені люди у розглянуту проблему або ситу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о цих характеристик не вистачає для розробки стратегії і такти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Психографический - психологічні особливості і спосіб життя (структурно-ситуаційний підхід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розділяє дорослих на основі їх «психологічної зрілості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ня способу життя і цінностей є корисним, але зазвичай лише в поєднанні з іншими характеристиками, які прив'язують дану групу до чогось, що має відношення до конкретної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Підхід з точки зору займаного суспільного становищ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грунтується на положенні, що займає окремими особистостями, але не відносить на рахунок самих особистост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ідентифікують по значимості їх у конкретній ситуації внаслідок ролі, яку вони грають через свого впливу на дану ситу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мане ними положення робить їх важливими фігурами при спробі досягти програмних цілей і завда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69120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ПИСОК РЕКОМЕНДОВАНОЇ ЛІТЕРАТУРИ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7640" y="2160360"/>
            <a:ext cx="8209080" cy="38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Примак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2"/>
              </a:rPr>
              <a:t>Т.О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у бізнесі : навч. посіб. / Т. О. Примак ; Київський національний економічний ун-т ім. Вадима Гетьмана. - К. : КНЕУ, 2006. - 174 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3"/>
              </a:rPr>
              <a:t>Пасько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4"/>
              </a:rPr>
              <a:t>М.І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: конспект лекцій / М. І. Пасько, К. А. Заславська ; Харківський національний економічний ун-т. - Х. : Видавництво ХНЕУ, 2006. - 92 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5"/>
              </a:rPr>
              <a:t>Пізнюк </a:t>
            </a:r>
            <a:r>
              <a:rPr b="0" lang="uk-UA" sz="2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6"/>
              </a:rPr>
              <a:t>Л.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. Паблік рилейшнз : навч. посіб. для дистанц. навчання / Л. В. Пізнюк ; Відкритий міжнародний ун-т розвитку людини "Україна". - К. : Ун-т "Україна", 2005. - 240 с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665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333360"/>
            <a:ext cx="8964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Членств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хід використовує членство в організації або прийом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лени організації як атрибут, доречний у даній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«членство у професійній асоціації» або «групі за інтересами» сигналізує про персональну участь в ситуації, а не окремому характерному ознаці члена »Зазвичай члени отримують від своєї організації контрольовані засоби мас-меді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Прихована влада - «за лаштунками» політичної і економічної влад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ує людей на вершині піраміди, що діють наперекір ситуації (всупереч законам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чинять тиск на інших людей з широкого діапазону проблем, але, як правило, способами, які нелегко поміти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ення цих людей вимагає поєднання ретельного спостереження під час інтерв'ю з іншими людьми з даної проблеми, аналізу отриманих документів або сследа, залишеного діями прихованої влад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Підхід з точки зору репут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ється «обізнаність» чи «впливовість» на основі сприйняття цих особистостей іншими людь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суспільні групи називають «лідерами думок» або «авторитетами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називають так тільки в ситуації, що розглядається, і тому не слід плутати їх із групою «прихованої влади» або групою, визначеної як «лідери думок» при встановленні груп структурно-ситуаційним аналізом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Підхід з точки зору суспільних груп у прийнятті ріше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агає спостереження за процесом розробки рішень з метою вивчення того, хто і яку роль грає при прийнятті рішень в даній конкретній ситу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цільові групи ідентифіковані та їх характерні риси вивчені, доцільно розділити ці аудиторії у двох категоріях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инципом зацікавленості - на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сновну групу, на яку спрямована PR-акція і заради якої вона здійснюється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міжну групу, яка має безпосередні контакти з основною і може надати інформацію, а також має власну думку про цю інформацію і ставлення до не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прияє групу, яка розділяє зацікавленість у проведенні PR-кампанії і може надати реальну допомогу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инципом обізнаності і розуміння важливості PR-кампанії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латентну групу, яка не має поняття про акці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ізнані групу, усвідомлює важливість акції, але не готову діят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ктивну групу, усвідомлює важливість акції і готову дія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ити ступінь інформованості цільових груп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ю з PR необхідно знати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івень поінформованості кожної групи про організацію, її товари і послуги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інку іміджу організації;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уле і сьогодення поведінку цільових груп по відношенню до організа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33160" y="533520"/>
            <a:ext cx="7926120" cy="57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Етап № 2: Планування і програмування.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, зібрана на першому етапі дозволяє встановити цілі і завд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.</a:t>
            </a:r>
            <a:r>
              <a:rPr b="0" lang="uk-UA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- другий етап процесу, який повинен дати відповідь на питання: «Що ми повинні змінити, зробити або сказати з урахуванням того, що нам стало відомо про ситуацію?»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PR - кампанії, відбиваючи її специфіку, дають уявлення про те, до чого потрібно прагнути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І.Л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кентьева всі заход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ublic Relatio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оїй основі мають п'ять цілей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ювання PR - об'єкта, товару та / або послуги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несення іміджу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(або зниження іміджу)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штування від конкурентів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реклама (або «відмивання»)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7640" y="18864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мета: позиціюв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в PR (від англійського position - положення, перебування, стан, позиція і т.п.) - створення і підтримка (відтворення) зрозумілого клієнтам образу,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мета: піднесення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кваліфіковано виконаного позиціювання можна перейти до наступної задачі PR: піднесенню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я мета: антиреклам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завжди має на меті зниження іміджу, зменшення потоку клієнтів, інвестицій, голос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реклама використовується також для зниження попиту при реалізації останніх партій товару (продукції), кількість якого обмежен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 мета: відбудова від конкурент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вило, це комбінація піднесення одного іміджу при зниженні іншог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так: позицирование свого PR - об'єкта на тлі конкурент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'ята мета: контрреклам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а відмінність контрреклами: потрібно піднімати вже «впущений» імідж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інакше: контрреклама - це відновлення потоків, «кредиту довіри», що живлять особистість, фірму і т.п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си видно, що всі цілі PR - кампанії спрямовані на створення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ої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адської думки і завоювання розташування конкретного контингенту споживачів продукції даного підприємств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ом досягнення цих цілей є розвиток комунікації (громадських зв'язків) організації з її соціальним середовищем через проведення різного роду заходів PR та рек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-360" y="18864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 цілі PR - кампанії спрямовані на створення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ої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адської думки і завоювання розташування конкретного контингенту споживачів продукції даного підприємств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ом досягнення цих цілей є розвиток комунікації (громадських зв'язків) організації з її соціальним середовищем через проведення різного роду заходів PR та рек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ій цілі повинен відповідати ряд взаємопов'язаних завда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кладно описують ключові результати, яких необхідно досягти в кожній суспільній групі, а також послідовність виконання програми, терміни та масштаб дій, необхідних для досягнення намічених програмних ціл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но завдання виконують такі фун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ють напрямок для розробки програми стратегії і такти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но викладають критерії для контролю та оцінки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че наведені рекомендації для складання програмних завдань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ніть з трьох варіантів руху до заданого результату: «збільшити», «зменшити», і «зберегти»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ажіть результат, якого необхідно досяг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іть у вимірних величинах значення зміни або рівень, який необхідно підтримува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те цільову дату, до якої повинен бути отриманий конкретний результа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ілей і завдань може здійснюватися різними способами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неформальних дискусій з клієнтом (замовником) або провідними менеджерами організації - по телефону або особисто (переважно) - для виявлення цілей і завдань організац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формальних (офіційних) зустрічей для визначення цілей і завдань організації з використанням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озсилання учасникам перед проведенням нарад відповідних документів та матеріалів;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аких методик прийняття рішень, як складання списку пропозицій і досягнення консенсусу в ході обговорення стратегічних цілей організації;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формалізованих методик - таких, як техніка номінальної групи або аналіз протидіючих сил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ний етап процесу планування - розробка ідей та альтернативних рішень - здійснюється запропонованими нижче способами: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и не розглядаються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иться те, що очікується в даній ситуац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і зі зв'язків з громадськістю готують документ, що містить програму PR-кампанії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ім цей документ представляється керівництву або клієнтові для розгляду та коментарів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ся дослідження для визначення характеристик цільових груп, вибору каналів ЗМІ, комунікаційних повідомлень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ься формальні зустрічі та дискусії з клієнтом або керівництвом організації для обговорення основних ідей PR-кампанії та альтернативних варіантів її проведення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вершення визначають тип ПР-програми, її тривалість (тимчасові або хронологічні рамки), заздалегідь обумовлюють з клієнтом критерії оцінки її ефективності та форми звітності.</a:t>
            </a:r>
            <a:r>
              <a:rPr b="0" lang="ru-RU" sz="17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ими факторами, що визначають характер тієї чи іншої програми, є характер середовища, в якому працює фірма: сприятлива, нейтральна, негативна, вкрай несприятлива чи ворожа, і наявність часу, достатнього для вирішення пробле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-програми понад один рік досить рідкісні через те, що протягом року на ринку відбуваються досить істотні зміни: змінюється кон'юнктура, змінюються уподобання цільових аудиторій, з'являються їх нові групи, виявляється ефективність одних ПР-акцій і слабкість інших і т.д 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ом, виникає об'єктивна потреба внесення серйозних коректив у реалізуються ПР-проект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яток становить практика ряду транснаціональних компаній, що реалізують глобальні ПР-програми та промоушн акції з підтримки своєї продукції або послуг в глобальному масштабі на декількох континентах - через обширної географії та світового масштабу такі ПР-програми можуть тривати і більше року (наприклад, відоме світове promotion турне з висвітленням у міжнародних ЗМІ американського поп співака Майкла Джексона на замовлення компанії «Пепсі-кола»)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такого роду глобальні програми вимагають дуже ретельного опрацювання, серйозних фінансових ресурсів і великомасштабного організаційного забезпечення, що під силу лише великим міжнародним компаніям з величезними оборотами і високим прибутком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уванні заходів особлива увага приділяється фактору вибору часу, бо протягом року існують як сприятливі, так і несприятливі періоди («мертві сезони») в широкому розумінні, коли проведення PR-акцій недоцільно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імо, несприятливими для великих PR-подій є два літні місяці (липень і майже весь серпень) - час традиційних відпусток і помітного зниження активності ЗМ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3520" y="188640"/>
            <a:ext cx="82152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PR-КАМПАНІЇ</a:t>
            </a:r>
            <a:r>
              <a:rPr b="1" lang="ru-RU" sz="4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етап процесу управління знаменує собою перехід на стадію реалізації PR-програми, яка являє собою практичне втілення розробок, зроблених на перших двох етапах - пошуку фактів і стратегічного планув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 стадія включає в себе визначення наступних елементів програми PR-кампан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д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міни необхідні для досягнення результатів, встановлених програмо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комунікац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що необхідно проінформувати громадськість для досягнення результатів, встановлених програмо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засоби масової інформації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краще передадуть цю інформацію цільовим групам громадськості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 виконання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то відповідає за виконання кожного пункту програми і тактики встановлення зв'язків з громадськістю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послідовність дій і її схема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витрати на виконання програми?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дії на практиці реалізує модель системи зворотного зв'язк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підхід грунтується на трьох умов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е з них полягає в тому, що зміни повинні відбуватися як всередині компанії, так і в її цільової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умова полягає в тому, що в результаті таких змін складається ситуація, в якій виграють обидві сторони, Третя умова, яка є мотивом для цієї стратегії PR-акції, полягає в поліпшенні дії, а не тільки імідж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PR-кампанія повинна формувати взаємовигідні відносини, необхідні для існування і процвітання організації, то вона повинна розробляти стратегію PR-акції та координувати її з комунікаційної стратегіє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236240"/>
            <a:ext cx="849816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>
              <a:lnSpc>
                <a:spcPct val="96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тап № 1: Визначення пробле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 № 2:</a:t>
            </a:r>
            <a:r>
              <a:rPr b="0" lang="uk-UA" sz="2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 Планування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програмування.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тап № 3: Реалізаці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Оцінка ефективност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мпанії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дійснення комунікацій підтримує програму дій в досягненні таких цілей: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ування внутрішньої і зовнішньої цільової аудиторії про дії компанії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онання цільової аудиторії у необхідності підтримати або прийняти дії компанії;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'яснення громадськості, яким чином вона може перетворити свої наміри в дії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комунікації включає в себе такі компоненти як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ір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-яка інформаційна кампанія починається зі створення атмосфери довіри шляхом відображення організацією щирого прагнення служити всім зацікавленим сторонам і громадськост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інформування повинна відповідати реаліям навколишнього середовищ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а інформаційна кампанія вимагає адекватного соціального оточення, яке у великій мірі може бути забезпечено інформаційними канал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ідомлення повинно мати сенс для одержувачів; воно має бути сумісним з їх системою цінносте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іс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ідомлення має бути викладено як можна простіше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які використовуються в ньому, повинні мати для одержувача таке ж значення, що і для відправника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перервність і послідовніс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мпанія - нескінченний процес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донести до адресата якесь повідомлення, потрібне його повторе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икористовувати вже існуючі канали інформування, які одержувачі знають і поважают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ості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дачі інформації слід брати до уваги можливості аудитор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 ефективною є така інформаційна кампанія, яка вимагає від одержувача мінімум зусил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2960" indent="44280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Calibri"/>
              </a:rPr>
              <a:t>Дотримання перерахованих правилами, що визначає ефективність здійснення інформаційної комунікації, сприятиме успішній реалізації PR-кампанії в цілому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4000" y="404280"/>
            <a:ext cx="8712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ТАП № 4: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ЕФЕКТИВНОСТІ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-КАМПАНІЇ</a:t>
            </a:r>
            <a:r>
              <a:rPr b="0" lang="ru-RU" sz="36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цього етапу - отримати якомога більше інформації про вплив даної PR - кампанії, зробити висновок про її ефективність, усунути недолік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три рівні проведення оціночного дослідження: оцінка підготовки, реалізації і впливу PR-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 не може бути повною без вивчення критеріїв кожного рів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інці підготовки аналізується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ість вихідної інформації розробляється програм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ість змісту повідомлення здійснюваної PR-а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ть подачі повідомлення здійснюваної PR-акції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реалізації направлена </a:t>
            </a:r>
            <a:r>
              <a:rPr b="0" lang="ru-RU" sz="19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лік наступних показників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повідомлень, переданих ЗМІ, і запланованих PR-д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розміщених в ЗМІ повідомлень і виконаних PR-дій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що одержали повідомлення та охоплених PR-діє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людей, що звернули увагу на повідомлення і PR-ді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тапі впливу оцінюється: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вивчили зміст повідомлень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змінили перекона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змінили своє ставлення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членів цільової аудиторії, які виконали дію, заплановане програмо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очна дослідження - постійна і центральна частина процес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08000" y="115560"/>
            <a:ext cx="8712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умкове дослідження, якщо воно виконується після закінчення програми і вказує виключно на факт наявності (відсутності) впливу, не представляє ніякої цінності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ивного дослідження, що виконується до початку програми і в ході її реалізації, дає найважливішу інформаці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 інформація використовується потім для порівняння результатів підсумкового дослідження з початковими умовами та для внесення коректив у процес реалізації програ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ьно існують ще кілька варіантів оцінки ефективності реалізації тієї чи іншої програми або акції в галузі зв'язків з громадськістю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дного з найпоширеніших відноситься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ількісний аналіз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використовують зазвичай у випадках, коли фірма тільки виходить на нові ринки і головне завдання PR-програми зводиться до створення ефекту постійної присутності, видимості (visibility) комерційної структури або її продукції на ринку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ою чергу, ефект постійної присутності в інформаційному полі сприяє підвищенню впізнаваності логотипу, торговельної марки фірми або назви бренду цільовими аудиторіями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ий вид оцінки ефективності пов'язаний з контент-аналізом, тобто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ладним аналізом змісту текстів статей, телевізійних сюжетів і радіорепортажів.</a:t>
            </a:r>
            <a:r>
              <a:rPr b="0" lang="ru-RU" sz="1900" spc="-1" strike="noStrike">
                <a:solidFill>
                  <a:srgbClr val="0f496f"/>
                </a:solidFill>
                <a:latin typeface="Times New Roman"/>
                <a:ea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ліку підлягають такі фактори, як позитивний / негативний тон статті, наявність думок авторитетних експертів та лідерів громадської думки, заголовок, під яким вийшов матеріал, доказовість і система аргументації, жанр матеріалів, наявність помилок, неточностей, а також ступінь використання журналістами вихідної інформації, підготовленої в департаменті зі зв'язків з громадськістю або найнятому PR-агентстві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7640" y="-36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 реалізована PR-програма не тільки допомагає комерційним структурам істотно економити на витратах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ра цільових аудиторій до матеріалів, які вийшли під ім'ям авторитетного журналіста, експерта, оглядача, редактора в новинних рубриках ЗМІ і відображає точку зору редакції, наукового співтовариства або впливової громадської організації, незрівнянно вище, ніж до оплаченим сюжетів під рубриками «комерційна інформація», «на правах реклами», «прес-реліз», «рекламна публікація» і т.д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вид оцінки ефективності - по кінцевому результату впливу інформації на цільові аудиторії (нерідко, у вигляді зростання числа клієнтів, збільшенн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продажів товарів і по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викликає найбільші суперечки в піарівським співтоваристві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на керівників комерційних структур жорстко наполягає на конкретному, відчутному кінцевому результаті від здійсненої PR-програми та витрачених ресурс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аргументів прихильників цього способу оцінки ефективності зводиться до тези що реалізація PR-програми має призвести до прямого зростання реалізованої продукції або збільшення числа клієнтів.</a:t>
            </a:r>
            <a:r>
              <a:rPr b="0" lang="ru-RU" sz="2000" spc="-1" strike="noStrike">
                <a:solidFill>
                  <a:srgbClr val="0f496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76480" y="2565360"/>
            <a:ext cx="679896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ctr">
              <a:lnSpc>
                <a:spcPct val="100000"/>
              </a:lnSpc>
              <a:spcBef>
                <a:spcPts val="1001"/>
              </a:spcBef>
              <a:buClr>
                <a:srgbClr val="83992a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ПР програми та етапи її створення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92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11280" y="1196640"/>
            <a:ext cx="7200720" cy="48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мпані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комплексне, багаторазове використанн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обів, а також рекламних матеріалів у рамках єдиної концепції та проведення загального плану впливу на думки і ставлення людей з метою популяризації іміджу, підтримки репутації, створення паблісіті.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09120" y="907560"/>
            <a:ext cx="7634520" cy="51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ПР-програм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уміють комплекс логічно взаємопов'язаних між собою і реалізовуються в певній послідовності акцій та заходів з метою зміни в потрібному напрямку поведінки ключових і цільових аудиторій громадськості, вирішення конкретних корпоративних або маркетингових проблем і завдань.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у ПР-програми традиційно тісно пов'язують із загальною стратегією комерційної структури на ринку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останніх десятиліть переконливо свідчить: ефективність практично будь-якого ПР-заходи, ПР-акції або цілої ПР-кампанії безпосередньо залежать від якості програмуванн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09120" y="907560"/>
            <a:ext cx="6348600" cy="51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стратегічних програмних планів зі зв'язків з громадськістю згідно розробкам Сема Блека складається з чотирьох кроків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роблем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ування і програмуванн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і комунікація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програм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560" y="189000"/>
            <a:ext cx="8281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вна потреба в розробці та реалізації тривалої ПР-програми може бути викликана цілим рядом різних чинникі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в комерційному секторі найбільш поширені такі причини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, просування і підтримки привабливого корпоративного іміджу чи іміджу бренду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компанією нової наступальної маркетингової стратегії закріплення на ринку і підвищення рівня продажів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йняття нової корпоративної політики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назви фірми, її корпоративного іміджу, торгової марки або логотипу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а статусу фірми (наприклад, перетворення її у </a:t>
            </a:r>
            <a:r>
              <a:rPr b="0" lang="ru-RU" sz="1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відкрите акціонерне товари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лиття з іншою структурою, поглинання її більш великою фірмою і т.д.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поліпшити і зробити більш привабливою ділову репутацію комерційної структури (reputation management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відбудови від конкурентів, особливо у випадку, якщо велика кількість компаній випускає продукцію, подібну за споживчими - якостям і номенклатурі, розраховану на одну й ту ж цільову аудиторію і знаходиться в одній і тій же ціновій ніші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нення серйозної проблеми (issue management) або навіть кризової </a:t>
            </a:r>
            <a:r>
              <a:rPr b="0" lang="ru-RU" sz="18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2"/>
              </a:rPr>
              <a:t>ситуації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isis communication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333360"/>
            <a:ext cx="81356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дення на ринки нової, маловідомої фірми або компанії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едення на ринок особливо складної продукції (наприклад, класу «високих технологій»), що вимагає спеціально підготовленої і добре поінформованої споживчої аудиторії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індивідуальної роботи з обраними групами аудиторій, які займають ключове положення і вплив у суспільстві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ристання комерційною структурою особливої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Times New Roman"/>
              </a:rPr>
              <a:t>​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реалізації продукції постійним клієнтам не через знеособлену торгівлю, а через індивідуальну роботу з постійними групами споживачів («система прямого маркетингу», яку використовують компанії Herbalife, Zepter, Avon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ідність створення сприятливого клімату для розвитку та функціонування компанії (наприклад, налагодження відносин з урядовими структурами і органами місцевого самоврядування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і підтримка зв'язків з великими і впливовими громадськими організаціями (захисники навколишнього середовища, товариства захисту прав споживачів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шук і залучення коштів інвесторів (investor relation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та проведення спеціальних акцій (special PR events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виток зв'язків з професійним співтовариством фахівці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447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7:24:18Z</dcterms:created>
  <dc:creator>Bodyk</dc:creator>
  <dc:description/>
  <dc:language>en-US</dc:language>
  <cp:lastModifiedBy>Пользователь Windows</cp:lastModifiedBy>
  <cp:lastPrinted>2019-02-24T23:47:19Z</cp:lastPrinted>
  <dcterms:modified xsi:type="dcterms:W3CDTF">2020-04-21T09:23:18Z</dcterms:modified>
  <cp:revision>53</cp:revision>
  <dc:subject/>
  <dc:title>PR (звязки з громадськістю) як функція державного управління</dc:title>
</cp:coreProperties>
</file>