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</p:sldIdLst>
  <p:sldSz cx="9144000" cy="6858000"/>
  <p:notesSz cx="67611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AB9B-C4BC-4F4C-A21C-2954EB5A0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E3FB-02C8-4A34-89F2-D6B35CE23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45F2-82C1-4D90-8099-72335120D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D8AA-D2B2-49FD-857C-C4BB90EA5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1F7C1-E478-4489-97D4-D34E9CE6F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99ADD-3DF8-4FA2-B280-A4457D8E2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C047D-4533-445C-BDA3-EEA1C367F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5F344-1643-4276-8EC5-4A5E76EB3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9F8E0-9DA2-4C1C-987E-17961BFE1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B2C56-FEB3-49DA-98C2-70013A333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011AA-E1C9-41E2-BBDD-86F18272C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3077-3FB5-41A2-953B-6C21A2909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04603-62DB-4785-9CCD-994C7CF08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0473C-D1B4-45C7-97B7-1E602BADE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B974A-18C4-4C84-9BD6-E387F618F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EA987-B726-4A7F-9F4A-A5AE1961A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8F0F6-DF62-46BF-B419-A0D536723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50B78B-99F4-4587-BB9A-89E23ED33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EB1AAC-8FB4-442B-91A3-AAA1F8572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49D617-5664-4474-B874-92A630327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F96542-43CA-4FAE-AB12-F85F20DF6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7CF37F-276D-42AC-B27F-13717CE1E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5510-4ECB-491C-A2E5-0B9C72FCF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28EAFB-5906-4B1D-B1FA-0A0BE9896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3AAAD5-8FE3-4145-A1F7-77571DE6A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DF549B-4B80-4ABC-BB01-562DFA4A9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78BAF9-80C4-4A3E-B831-F48A10406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9D71BA-C6F5-4898-BC2A-FE155D1C5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0FDCDE-BD35-4C95-98FE-3E274DD2E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05E57B-4D0F-4C7D-933E-3A7672231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2BAAD9-B2F0-4BFB-BCAE-6B47E8481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1D374A-73D3-4563-82A7-8DFE06333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529C94-F403-4D9B-81C1-2EBB85663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DC84-8D17-436F-95EF-346EF9A97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E7A188-4A67-44D1-B3AC-94DD198BF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1D2AF8-718B-4437-B7DB-D208A1F91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502C8E-DD0C-432F-8042-D20A8D0B8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8EE9EA-E855-49EB-B074-32B1B98F0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74A90F-C81B-4664-ADF8-ECCD375F9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72FC46-6BAA-4F5B-9E8A-73CA5B019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CAE73D-4B54-4060-AB48-0669FFB53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E5EC38-BD05-49A5-9012-7C19F2A7E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3C7207-A20A-4876-85BF-06CFADADC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DA45-DFA1-4E73-9170-D7B625D61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D233-5C72-4F89-893A-86D0154FA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E94A-D923-42F4-8F5B-E4F099244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134F-0AA6-42F8-AE5A-3BED367B8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2996-D316-446E-80D1-B422D14A1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6670440" y="3894120"/>
            <a:ext cx="2470320" cy="2658960"/>
            <a:chOff x="6670440" y="3894120"/>
            <a:chExt cx="2470320" cy="2658960"/>
          </a:xfrm>
        </p:grpSpPr>
        <p:sp>
          <p:nvSpPr>
            <p:cNvPr id="1" name="Straight Connector 7"/>
            <p:cNvSpPr/>
            <p:nvPr/>
          </p:nvSpPr>
          <p:spPr>
            <a:xfrm flipH="1">
              <a:off x="8384760" y="3894120"/>
              <a:ext cx="756000" cy="7563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Straight Connector 8"/>
            <p:cNvSpPr/>
            <p:nvPr/>
          </p:nvSpPr>
          <p:spPr>
            <a:xfrm flipH="1">
              <a:off x="6670440" y="4082040"/>
              <a:ext cx="2469960" cy="247104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Straight Connector 9"/>
            <p:cNvSpPr/>
            <p:nvPr/>
          </p:nvSpPr>
          <p:spPr>
            <a:xfrm flipH="1">
              <a:off x="7569720" y="4160520"/>
              <a:ext cx="1571040" cy="15714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Straight Connector 10"/>
            <p:cNvSpPr/>
            <p:nvPr/>
          </p:nvSpPr>
          <p:spPr>
            <a:xfrm flipH="1">
              <a:off x="7694280" y="4037760"/>
              <a:ext cx="1441080" cy="144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Straight Connector 11"/>
            <p:cNvSpPr/>
            <p:nvPr/>
          </p:nvSpPr>
          <p:spPr>
            <a:xfrm flipH="1">
              <a:off x="8088840" y="4495320"/>
              <a:ext cx="1046880" cy="10472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D96BC-55A0-4181-96C7-A860C7C8B787}" type="slidenum">
              <a:rPr b="0" lang="ru-RU" sz="28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15"/>
          <p:cNvGrpSpPr/>
          <p:nvPr/>
        </p:nvGrpSpPr>
        <p:grpSpPr>
          <a:xfrm>
            <a:off x="4335120" y="1170000"/>
            <a:ext cx="4815000" cy="4994280"/>
            <a:chOff x="4335120" y="1170000"/>
            <a:chExt cx="4815000" cy="4994280"/>
          </a:xfrm>
        </p:grpSpPr>
        <p:sp>
          <p:nvSpPr>
            <p:cNvPr id="48" name="Straight Connector 16"/>
            <p:cNvSpPr/>
            <p:nvPr/>
          </p:nvSpPr>
          <p:spPr>
            <a:xfrm flipH="1">
              <a:off x="6009840" y="1170000"/>
              <a:ext cx="3134880" cy="3135240"/>
            </a:xfrm>
            <a:prstGeom prst="line">
              <a:avLst/>
            </a:prstGeom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Straight Connector 18"/>
            <p:cNvSpPr/>
            <p:nvPr/>
          </p:nvSpPr>
          <p:spPr>
            <a:xfrm flipH="1">
              <a:off x="4335120" y="1348920"/>
              <a:ext cx="4815000" cy="4815360"/>
            </a:xfrm>
            <a:prstGeom prst="line">
              <a:avLst/>
            </a:prstGeom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Straight Connector 20"/>
            <p:cNvSpPr/>
            <p:nvPr/>
          </p:nvSpPr>
          <p:spPr>
            <a:xfrm flipH="1">
              <a:off x="5226120" y="1469160"/>
              <a:ext cx="3912480" cy="3912480"/>
            </a:xfrm>
            <a:prstGeom prst="line">
              <a:avLst/>
            </a:prstGeom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Straight Connector 21"/>
            <p:cNvSpPr/>
            <p:nvPr/>
          </p:nvSpPr>
          <p:spPr>
            <a:xfrm flipH="1">
              <a:off x="5304960" y="1307880"/>
              <a:ext cx="3839760" cy="3839760"/>
            </a:xfrm>
            <a:prstGeom prst="line">
              <a:avLst/>
            </a:prstGeom>
            <a:ln cap="rnd"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Straight Connector 22"/>
            <p:cNvSpPr/>
            <p:nvPr/>
          </p:nvSpPr>
          <p:spPr>
            <a:xfrm flipH="1">
              <a:off x="5707440" y="1770120"/>
              <a:ext cx="3430800" cy="3430800"/>
            </a:xfrm>
            <a:prstGeom prst="line">
              <a:avLst/>
            </a:prstGeom>
            <a:ln cap="rnd"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B50D3-DBF5-40A5-BD6F-CDE79C889DA8}" type="slidenum">
              <a:rPr b="0" lang="ru-RU" sz="28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Group 6"/>
          <p:cNvGrpSpPr/>
          <p:nvPr/>
        </p:nvGrpSpPr>
        <p:grpSpPr>
          <a:xfrm>
            <a:off x="6670440" y="3894120"/>
            <a:ext cx="2470320" cy="2658960"/>
            <a:chOff x="6670440" y="3894120"/>
            <a:chExt cx="2470320" cy="2658960"/>
          </a:xfrm>
        </p:grpSpPr>
        <p:sp>
          <p:nvSpPr>
            <p:cNvPr id="95" name="Straight Connector 7"/>
            <p:cNvSpPr/>
            <p:nvPr/>
          </p:nvSpPr>
          <p:spPr>
            <a:xfrm flipH="1">
              <a:off x="8384760" y="3894120"/>
              <a:ext cx="756000" cy="7563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Straight Connector 8"/>
            <p:cNvSpPr/>
            <p:nvPr/>
          </p:nvSpPr>
          <p:spPr>
            <a:xfrm flipH="1">
              <a:off x="6670440" y="4082040"/>
              <a:ext cx="2469960" cy="247104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Straight Connector 9"/>
            <p:cNvSpPr/>
            <p:nvPr/>
          </p:nvSpPr>
          <p:spPr>
            <a:xfrm flipH="1">
              <a:off x="7569720" y="4160520"/>
              <a:ext cx="1571040" cy="15714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Straight Connector 10"/>
            <p:cNvSpPr/>
            <p:nvPr/>
          </p:nvSpPr>
          <p:spPr>
            <a:xfrm flipH="1">
              <a:off x="7694280" y="4037760"/>
              <a:ext cx="1441080" cy="144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Straight Connector 11"/>
            <p:cNvSpPr/>
            <p:nvPr/>
          </p:nvSpPr>
          <p:spPr>
            <a:xfrm flipH="1">
              <a:off x="8088840" y="4495320"/>
              <a:ext cx="1046880" cy="10472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0" name="TextBox 12"/>
          <p:cNvSpPr/>
          <p:nvPr/>
        </p:nvSpPr>
        <p:spPr>
          <a:xfrm>
            <a:off x="228600" y="7113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Box 13"/>
          <p:cNvSpPr/>
          <p:nvPr/>
        </p:nvSpPr>
        <p:spPr>
          <a:xfrm>
            <a:off x="7696080" y="27687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8FC67-832F-4A3E-AC7C-27AA02707FAE}" type="slidenum">
              <a:rPr b="0" lang="ru-RU" sz="28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Group 6"/>
          <p:cNvGrpSpPr/>
          <p:nvPr/>
        </p:nvGrpSpPr>
        <p:grpSpPr>
          <a:xfrm>
            <a:off x="6670440" y="3894120"/>
            <a:ext cx="2470320" cy="2658960"/>
            <a:chOff x="6670440" y="3894120"/>
            <a:chExt cx="2470320" cy="2658960"/>
          </a:xfrm>
        </p:grpSpPr>
        <p:sp>
          <p:nvSpPr>
            <p:cNvPr id="144" name="Straight Connector 7"/>
            <p:cNvSpPr/>
            <p:nvPr/>
          </p:nvSpPr>
          <p:spPr>
            <a:xfrm flipH="1">
              <a:off x="8384760" y="3894120"/>
              <a:ext cx="756000" cy="7563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Straight Connector 8"/>
            <p:cNvSpPr/>
            <p:nvPr/>
          </p:nvSpPr>
          <p:spPr>
            <a:xfrm flipH="1">
              <a:off x="6670440" y="4082040"/>
              <a:ext cx="2469960" cy="247104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Straight Connector 9"/>
            <p:cNvSpPr/>
            <p:nvPr/>
          </p:nvSpPr>
          <p:spPr>
            <a:xfrm flipH="1">
              <a:off x="7569720" y="4160520"/>
              <a:ext cx="1571040" cy="15714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Straight Connector 10"/>
            <p:cNvSpPr/>
            <p:nvPr/>
          </p:nvSpPr>
          <p:spPr>
            <a:xfrm flipH="1">
              <a:off x="7694280" y="4037760"/>
              <a:ext cx="1441080" cy="144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Straight Connector 11"/>
            <p:cNvSpPr/>
            <p:nvPr/>
          </p:nvSpPr>
          <p:spPr>
            <a:xfrm flipH="1">
              <a:off x="8088840" y="4495320"/>
              <a:ext cx="1046880" cy="10472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9" name="TextBox 12"/>
          <p:cNvSpPr/>
          <p:nvPr/>
        </p:nvSpPr>
        <p:spPr>
          <a:xfrm>
            <a:off x="228600" y="7113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Box 13"/>
          <p:cNvSpPr/>
          <p:nvPr/>
        </p:nvSpPr>
        <p:spPr>
          <a:xfrm>
            <a:off x="7696080" y="27687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B7694-C25A-4512-A071-453B48A2432E}" type="slidenum">
              <a:rPr b="0" lang="ru-RU" sz="28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rbis-nbuv.gov.ua/cgi-bin/irbis_all/cgiirbis_64.exe?Z21ID=&amp;I21DBN=EC&amp;P21DBN=EC&amp;S21STN=1&amp;S21REF=10&amp;S21FMT=fullw&amp;C21COM=S&amp;S21CNR=20&amp;S21P01=3&amp;S21P02=0&amp;S21P03=A=&amp;S21COLORTERMS=0&amp;S21STR=&#1055;&#1088;&#1080;&#1084;&#1072;&#1082;,%20&#1058;&#1077;&#1090;&#1103;&#1085;&#1072;%20&#1054;&#1083;&#1077;&#1082;&#1089;&#1072;&#1085;&#1076;&#1088;&#1110;&#1074;&#1085;&#1072;" TargetMode="External"/><Relationship Id="rId2" Type="http://schemas.openxmlformats.org/officeDocument/2006/relationships/hyperlink" Target="http://irbis-nbuv.gov.ua/cgi-bin/irbis_all/cgiirbis_64.exe?Z21ID=&amp;I21DBN=EC&amp;P21DBN=EC&amp;S21STN=1&amp;S21REF=10&amp;S21FMT=fullw&amp;C21COM=S&amp;S21CNR=20&amp;S21P01=3&amp;S21P02=0&amp;S21P03=A=&amp;S21COLORTERMS=0&amp;S21STR=&#1055;&#1088;&#1080;&#1084;&#1072;&#1082;,%20&#1058;&#1077;&#1090;&#1103;&#1085;&#1072;%20&#1054;&#1083;&#1077;&#1082;&#1089;&#1072;&#1085;&#1076;&#1088;&#1110;&#1074;&#1085;&#1072;" TargetMode="External"/><Relationship Id="rId3" Type="http://schemas.openxmlformats.org/officeDocument/2006/relationships/hyperlink" Target="http://irbis-nbuv.gov.ua/cgi-bin/irbis_all/cgiirbis_64.exe?Z21ID=&amp;I21DBN=EC&amp;P21DBN=EC&amp;S21STN=1&amp;S21REF=10&amp;S21FMT=fullw&amp;C21COM=S&amp;S21CNR=20&amp;S21P01=3&amp;S21P02=0&amp;S21P03=A=&amp;S21COLORTERMS=0&amp;S21STR=&#1055;&#1072;&#1089;&#1100;&#1082;&#1086;,%20&#1052;&#1072;&#1088;&#1080;&#1085;&#1072;%20&#1030;&#1074;&#1072;&#1085;&#1110;&#1074;&#1085;&#1072;" TargetMode="External"/><Relationship Id="rId4" Type="http://schemas.openxmlformats.org/officeDocument/2006/relationships/hyperlink" Target="http://irbis-nbuv.gov.ua/cgi-bin/irbis_all/cgiirbis_64.exe?Z21ID=&amp;I21DBN=EC&amp;P21DBN=EC&amp;S21STN=1&amp;S21REF=10&amp;S21FMT=fullw&amp;C21COM=S&amp;S21CNR=20&amp;S21P01=3&amp;S21P02=0&amp;S21P03=A=&amp;S21COLORTERMS=0&amp;S21STR=&#1055;&#1072;&#1089;&#1100;&#1082;&#1086;,%20&#1052;&#1072;&#1088;&#1080;&#1085;&#1072;%20&#1030;&#1074;&#1072;&#1085;&#1110;&#1074;&#1085;&#1072;" TargetMode="External"/><Relationship Id="rId5" Type="http://schemas.openxmlformats.org/officeDocument/2006/relationships/hyperlink" Target="http://irbis-nbuv.gov.ua/cgi-bin/irbis_all/cgiirbis_64.exe?Z21ID=&amp;I21DBN=EC&amp;P21DBN=EC&amp;S21STN=1&amp;S21REF=10&amp;S21FMT=fullw&amp;C21COM=S&amp;S21CNR=20&amp;S21P01=3&amp;S21P02=0&amp;S21P03=A=&amp;S21COLORTERMS=0&amp;S21STR=&#1055;&#1110;&#1079;&#1085;&#1102;&#1082;,%20&#1051;&#1077;&#1089;&#1103;%20&#1042;&#1086;&#1083;&#1086;&#1076;&#1080;&#1084;&#1080;&#1088;&#1110;&#1074;&#1085;&#1072;" TargetMode="External"/><Relationship Id="rId6" Type="http://schemas.openxmlformats.org/officeDocument/2006/relationships/hyperlink" Target="http://irbis-nbuv.gov.ua/cgi-bin/irbis_all/cgiirbis_64.exe?Z21ID=&amp;I21DBN=EC&amp;P21DBN=EC&amp;S21STN=1&amp;S21REF=10&amp;S21FMT=fullw&amp;C21COM=S&amp;S21CNR=20&amp;S21P01=3&amp;S21P02=0&amp;S21P03=A=&amp;S21COLORTERMS=0&amp;S21STR=&#1055;&#1110;&#1079;&#1085;&#1102;&#1082;,%20&#1051;&#1077;&#1089;&#1103;%20&#1042;&#1086;&#1083;&#1086;&#1076;&#1080;&#1084;&#1080;&#1088;&#1110;&#1074;&#1085;&#1072;" TargetMode="External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ua-referat.com/&#1055;&#1083;&#1072;&#1085;&#1091;&#1074;&#1072;&#1085;&#1085;&#1103;" TargetMode="External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ua-referat.com/&#1042;&#1110;&#1076;&#1082;&#1088;&#1080;&#1090;&#1077;_&#1072;&#1082;&#1094;&#1110;&#1086;&#1085;&#1077;&#1088;&#1085;&#1077;_&#1090;&#1086;&#1074;&#1072;&#1088;&#1080;&#1089;&#1090;&#1074;&#1086;" TargetMode="External"/><Relationship Id="rId2" Type="http://schemas.openxmlformats.org/officeDocument/2006/relationships/hyperlink" Target="http://ua-referat.com/&#1057;&#1080;&#1090;&#1091;&#1072;&#1094;&#1110;&#1103;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6840720" cy="6551640"/>
          </a:xfrm>
          <a:prstGeom prst="rect">
            <a:avLst/>
          </a:prstGeom>
          <a:solidFill>
            <a:srgbClr val="507617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r>
              <a:rPr b="1" lang="uk-U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 7.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ІННЯ ПР-КАМПАНІЯМИ У БІЗНЕСІ</a:t>
            </a:r>
            <a:br>
              <a:rPr sz="4000"/>
            </a:br>
            <a:br>
              <a:rPr sz="4000"/>
            </a:br>
            <a:br>
              <a:rPr sz="3600"/>
            </a:br>
            <a:br>
              <a:rPr sz="2900"/>
            </a:b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1176480" y="2491920"/>
            <a:ext cx="6780240" cy="344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447480" algn="ctr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ЕТАП № 1: </a:t>
            </a:r>
            <a:endParaRPr b="0" lang="en-US" sz="32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447480" algn="ctr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ЗНАЧЕННЯ ПРОБЛЕМИ</a:t>
            </a:r>
            <a:r>
              <a:rPr b="1" lang="ru-RU" sz="32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447480" algn="ctr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f496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394920" y="549000"/>
            <a:ext cx="8064360" cy="583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447480" algn="just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новка проблеми являє собою короткий опис</a:t>
            </a:r>
            <a:r>
              <a:rPr b="0" lang="ru-RU" sz="18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дповідній ситуації, сформульованого у вигляді пропозиції або короткого абзацу.</a:t>
            </a:r>
            <a:r>
              <a:rPr b="0" lang="ru-RU" sz="18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відміну від постановки проблеми аналіз ситуації представляє собою повний набір відомостей, відомих про ситуацію, її історії, що діють силах та осіб, яких вона стосується.</a:t>
            </a:r>
            <a:r>
              <a:rPr b="0" lang="ru-RU" sz="18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туаційний аналіз виявляє всю «фонову» інформацію, необхідну для того, щоб ширше поглянути на дану проблему, і включає в себе такі аспекти:</a:t>
            </a:r>
            <a:r>
              <a:rPr b="0" lang="ru-RU" sz="18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447480" algn="just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0" lang="ru-RU" sz="18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вчення історії питання.</a:t>
            </a:r>
            <a:r>
              <a:rPr b="0" lang="ru-RU" sz="18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нформація про минуле необхідна для визначення того, що робилося для вирішення проблеми до цього моменту.</a:t>
            </a:r>
            <a:r>
              <a:rPr b="0" lang="ru-RU" sz="18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кі засоби і методи були найбільш ефективні?</a:t>
            </a:r>
            <a:r>
              <a:rPr b="0" lang="ru-RU" sz="18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чому виявлені недоліки?</a:t>
            </a:r>
            <a:r>
              <a:rPr b="0" lang="ru-RU" sz="18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 дозволить вірно вибудувати програму дій і уникнути помилок в майбутньому.</a:t>
            </a:r>
            <a:r>
              <a:rPr b="0" lang="ru-RU" sz="18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447480" algn="just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ru-RU" sz="18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ирокий погляд навколо.</a:t>
            </a:r>
            <a:r>
              <a:rPr b="0" lang="ru-RU" sz="18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им кроком є безперервний ні на хвилину моніторинг громадської думки стосовно PR-об'єкту, що дозволить вірно вибрати стратегію впливу на цільову аудиторію PR - кампанії.</a:t>
            </a:r>
            <a:r>
              <a:rPr b="0" lang="ru-RU" sz="18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447480" algn="just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ru-RU" sz="18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ибокий погляд всередину.</a:t>
            </a:r>
            <a:r>
              <a:rPr b="0" lang="ru-RU" sz="18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лідження самого PR-об'єкта, при якому зручна оцінка з точки зору його сильних і слабких сторін, можливостей і загроз при взаємодії із зовнішнім середовищем.</a:t>
            </a:r>
            <a:r>
              <a:rPr b="0" lang="ru-RU" sz="18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44748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f496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395280" y="549000"/>
            <a:ext cx="7416720" cy="549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ий підхід до резюмування аналізу ситуації називають SWOT-або TOWS-аналізом.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 цієї аналітичної конструкції випливає кілька стратегічних висновків.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marL="28584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-стратегія будуються на сильних сторонах організації з метою отримання переваг з нових можливостей, що з'являються у зовнішньому оточенні організації.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marL="28584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-стратегії також будуються на сильних сторонах організації з метою протистояння загрозам, які з'являтимуться в її зовнішньому оточенні.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marL="28584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-стратегії пов'язані зі спробами мінімізувати слабиесторони організації з метою отримання переваг із зовнішніх можливостей.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marL="28584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T-стратегії пов'язані зі спробами мінімізувати як слабкі сторони організації, так і загрози, що з'являються в її зовні оточенні.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marL="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120" y="609480"/>
            <a:ext cx="6348600" cy="80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ГЛЯНЕМО ДЕЯКІ МЕТОДИ ДОСЛІДЖЕНЬ, ЩО ВИКОРИСТОВУЮТЬСЯ В СФЕРІ PR: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br>
              <a:rPr sz="1800"/>
            </a:b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09480" y="1413000"/>
            <a:ext cx="7778880" cy="46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4474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исті контакти.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кращим способом, який дозволяє ефективно виявляти і оцінювати тенденції, що мають місце в будь-якому співтоваристві, є вільне встановлення контактів з різними людьми.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ією з різновидів особистих контактів є бесіди з ключовими інформаторами.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й підхід включає підбір та інтерв'ювання добре поінформованих лідерів та експертів.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нтерв'ю зазвичай приймає форму вільною і не обмеженою в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у дискусії, в ході якої обраним особам пропонується обговорити відповідну проблему або питання зі своєї точки зору.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ою для підбору ключових інформаторів є передбачуване знання ними того чи іншого питання, а також їх здатність представити точку зору інших людей.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глиблене інтерв'ю з ключовими інформаторами часто дозволяють отримати сигнали раннього попередження про ранні проблемах.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4474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609480" y="691920"/>
            <a:ext cx="7850160" cy="583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4474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кус-групи.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родним продовженням використання особистих контактів та ключових інформаторів є звернення за ідеями і зворотним зв'язком до цілих груп людей.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кус-група складається з 6-10 чоловік, яких просять провести кілька годин в товаристві досвідченого ведучого для обговорення товару, послуг, компанії або іншого об'єкта дослідження.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дучий повинен бути об'єктивним, добре обізнаним про предмет бесіди.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говорення зазвичай проводиться в комфортній обстановці, при цьому ведучий повинен заохочувати вільні і невимушені висловлювання, щоб динаміка групи, що встановлюються в ній взаємини дозволили виявити справжні почуття і думки учасників.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часно ведучий прагне «сфокусувати» обговорення.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ід дискусії записується на аудіо-або відеомагнітофон і згодом уважно вивчається.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кус-групи використовуються для того, щоб з'ясувати, як люди будуть реагувати на ті чи інші пропозиції, і для збору інформації, яка може стати в нагоді для розробки анкет, що застосовуються згодом у більш формальних методах проведення досліджень.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4474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09480" y="692280"/>
            <a:ext cx="7778880" cy="534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4474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Гарячі» телефонні лінії.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ефонні лінії використовуються для отримання негайного зворотного зв'язку і відстеження проблем, що викликають особливу заклопотаність і інтерес різних суспільних груп.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днощі, однак, полягає в тому, що подібне виявлення проблем і думок не може замінити собою опису частоти проблем і розподілу думок з різним суспільним групам.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4474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із пошти.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кономічно ефективним способом збору інформації є періодичний аналіз надходить пошти.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еспонденція, що надходить від громадськості, дозволяє виявити «проблемні сфери» та інформаційні потреби.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ак необхідно враховувати, що автори листів більше схильні до критичного, а не конструктивного підходу.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сти можуть служити засобом раннього попередження про неблагополуччя і виникненні певних проблем, але не є зрізом громадської думки або навіть думок певної суспільної групи.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4474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609480" y="620640"/>
            <a:ext cx="7850160" cy="590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447480" algn="just">
              <a:lnSpc>
                <a:spcPct val="100000"/>
              </a:lnSpc>
              <a:spcBef>
                <a:spcPts val="476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ент-аналіз ЗМІ.</a:t>
            </a:r>
            <a:r>
              <a:rPr b="0" i="1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ент-аналіз засобів масової інформації представляє собою застосування систематичних процедур у спробі об'єктивно оцінити те, про що повідомляється в ЗМІ.</a:t>
            </a:r>
            <a:r>
              <a:rPr b="0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різки з преси і звіти з моніторингу радіопрограм і телепередач показують лише те, що прочитано, почуто або віддане в ефір, а зовсім не те, що прочитано, почуто і побачимо.</a:t>
            </a:r>
            <a:r>
              <a:rPr b="0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ім того, вони не показують, чи дійсно аудиторія сприйняла зміст того чи іншого повідомлення і повірила йому.</a:t>
            </a:r>
            <a:r>
              <a:rPr b="0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9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447480" algn="just">
              <a:lnSpc>
                <a:spcPct val="100000"/>
              </a:lnSpc>
              <a:spcBef>
                <a:spcPts val="249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447480" algn="just">
              <a:lnSpc>
                <a:spcPct val="100000"/>
              </a:lnSpc>
              <a:spcBef>
                <a:spcPts val="476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итування.</a:t>
            </a:r>
            <a:r>
              <a:rPr b="0" i="1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кета, розсилається поштою, - самий відповідний спосіб зв'язатися з людьми, які або не згодні на особисту зустріч, або в силу рис особистості схильні під впливом інтерв'юера спотворювати відповіді.</a:t>
            </a:r>
            <a:r>
              <a:rPr b="0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штова анкета вимагає простих і чітко сформульованих питань, час отримання відповідей на які може бути значним.</a:t>
            </a:r>
            <a:r>
              <a:rPr b="0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числа найважливіших переваг анкет, що розсилаються поштою, відноситься значна економія часу і грошей, зручність для респондентів, гарантія анонімності.</a:t>
            </a:r>
            <a:r>
              <a:rPr b="0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дсутність впливу особистості інтерв'юера.</a:t>
            </a:r>
            <a:r>
              <a:rPr b="0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серйознішим недоліком багатьох опитувань є те, що у дослідників немає ніякого контролю над тим, хто відповідає, а також низький коефіцієнт отримання відповідей, який означає, що підсумкова вибірка може виявитися зовсім не репрезентативною.</a:t>
            </a:r>
            <a:r>
              <a:rPr b="0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9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447480">
              <a:lnSpc>
                <a:spcPct val="100000"/>
              </a:lnSpc>
              <a:spcBef>
                <a:spcPts val="476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f496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468000" y="476280"/>
            <a:ext cx="8496360" cy="61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жливий етап у підготовці PR-кампанії - всебічне вивчення 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аудиторії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цільових груп).</a:t>
            </a:r>
            <a:r>
              <a:rPr b="0" lang="ru-RU" sz="20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цього необхідно:</a:t>
            </a:r>
            <a:r>
              <a:rPr b="0" lang="ru-RU" sz="20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marL="28584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0" lang="ru-RU" sz="20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дентифікувати групи, які повинні стати цільовими.</a:t>
            </a:r>
            <a:r>
              <a:rPr b="0" lang="ru-RU" sz="20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і організації мають зв'язку з певними стандартними групами:</a:t>
            </a:r>
            <a:r>
              <a:rPr b="0" lang="ru-RU" sz="20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marL="28584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МІ та журналістами;</a:t>
            </a:r>
            <a:r>
              <a:rPr b="0" lang="ru-RU" sz="20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marL="28584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ужбовцями;</a:t>
            </a:r>
            <a:r>
              <a:rPr b="0" lang="ru-RU" sz="20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marL="28584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телями;</a:t>
            </a:r>
            <a:r>
              <a:rPr b="0" lang="ru-RU" sz="20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marL="28584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новниками (муніципального та федерального рівнів).</a:t>
            </a:r>
            <a:r>
              <a:rPr b="0" lang="ru-RU" sz="20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marL="2858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сфері бізнесу - це групи споживачів, акціонерів та фінансистів.</a:t>
            </a:r>
            <a:r>
              <a:rPr b="0" lang="ru-RU" sz="20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marL="2858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і організації мають специфічні цільові групи:</a:t>
            </a:r>
            <a:r>
              <a:rPr b="0" lang="ru-RU" sz="20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marL="28584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комерційні - спонсорів;</a:t>
            </a:r>
            <a:r>
              <a:rPr b="0" lang="ru-RU" sz="20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marL="28584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коли - батьків;</a:t>
            </a:r>
            <a:r>
              <a:rPr b="0" lang="ru-RU" sz="20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marL="28584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икі компанії - дилерів і постачальників.</a:t>
            </a:r>
            <a:r>
              <a:rPr b="0" lang="ru-RU" sz="20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marL="2858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підвищення ефективності комунікацій необхідно сегментувати кожну групу на підгрупи.</a:t>
            </a:r>
            <a:r>
              <a:rPr b="0" lang="ru-RU" sz="20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marL="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684360" y="691920"/>
            <a:ext cx="7704000" cy="524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4474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ru-RU" sz="24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значити пріоритетні групи, тобто</a:t>
            </a:r>
            <a:r>
              <a:rPr b="0" lang="ru-RU" sz="24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явити найбільш важливі цільові групи з точки зору ступеня їх впливу, престижу, влади, потреби в них для організації.</a:t>
            </a:r>
            <a:r>
              <a:rPr b="0" lang="ru-RU" sz="24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4474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Щоб визначити пріоритетні групи, фахівці зі зв'язків з громадськістю повинні виявити: чим і чому ця група важлива для нас; якими соціальними, демографічними, психологічними та іншими характеристиками володіє дана пріоритетна група; наскільки вона активна і як пов'язана з нашими інтересами.</a:t>
            </a:r>
            <a:r>
              <a:rPr b="0" lang="ru-RU" sz="24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4474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f496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0" y="404640"/>
            <a:ext cx="8820000" cy="612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lvl="1" marL="743040" indent="447480" algn="just">
              <a:lnSpc>
                <a:spcPct val="90000"/>
              </a:lnSpc>
              <a:spcBef>
                <a:spcPts val="425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гментування громадськості відбувається по найбільш важливим критеріям, наприклад, за такими як:</a:t>
            </a:r>
            <a:r>
              <a:rPr b="0" lang="ru-RU" sz="17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endParaRPr b="0" lang="en-US" sz="17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447480" algn="just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Географічний - окреслює природні кордону.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ідхід визначає місце розташування людей, але малополезен для розуміння важливих відмінностей, що існують в цих кордонах.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endParaRPr b="0" lang="en-US" sz="19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447480" algn="just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 Демографічна - стать, дохід, вік, сімейний стан, освіту.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 найбільш часто використовувані характеристики, однак, мало інформативні в плані визначення того, як залучені люди у розглянуту проблему або ситуацію.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endParaRPr b="0" lang="en-US" sz="19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447480" algn="just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вичайно цих характеристик не вистачає для розробки стратегії і тактики.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endParaRPr b="0" lang="en-US" sz="19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447480" algn="just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Психографический - психологічні особливості і спосіб життя (структурно-ситуаційний підхід).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ідхід розділяє дорослих на основі їх «психологічної зрілості».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ння способу життя і цінностей є корисним, але зазвичай лише в поєднанні з іншими характеристиками, які прив'язують дану групу до чогось, що має відношення до конкретної ситуації.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endParaRPr b="0" lang="en-US" sz="19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447480" algn="just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) Підхід з точки зору займаного суспільного становища.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endParaRPr b="0" lang="en-US" sz="19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447480" algn="just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й підхід грунтується на положенні, що займає окремими особистостями, але не відносить на рахунок самих особистостей.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дей ідентифікують по значимості їх у конкретній ситуації внаслідок ролі, яку вони грають через свого впливу на дану ситуацію.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ймане ними положення робить їх важливими фігурами при спробі досягти програмних цілей і завдань.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endParaRPr b="0" lang="en-US" sz="19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447480">
              <a:lnSpc>
                <a:spcPct val="90000"/>
              </a:lnSpc>
              <a:spcBef>
                <a:spcPts val="476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f496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6912000" cy="132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entury Gothic"/>
              </a:rPr>
              <a:t>СПИСОК РЕКОМЕНДОВАНОЇ ЛІТЕРАТУРИ: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107640" y="2160360"/>
            <a:ext cx="8209080" cy="388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Times New Roman"/>
              <a:buAutoNum type="arabicPeriod"/>
              <a:tabLst>
                <a:tab algn="l" pos="4665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000" spc="-1" strike="noStrike" u="sng">
                <a:solidFill>
                  <a:srgbClr val="0d2e46"/>
                </a:solidFill>
                <a:uFillTx/>
                <a:latin typeface="Times New Roman"/>
                <a:ea typeface="Times New Roman"/>
                <a:hlinkClick r:id="rId1"/>
              </a:rPr>
              <a:t>Примак </a:t>
            </a:r>
            <a:r>
              <a:rPr b="0" lang="uk-UA" sz="2000" spc="-1" strike="noStrike" u="sng">
                <a:solidFill>
                  <a:srgbClr val="0d2e46"/>
                </a:solidFill>
                <a:uFillTx/>
                <a:latin typeface="Times New Roman"/>
                <a:ea typeface="Times New Roman"/>
                <a:hlinkClick r:id="rId2"/>
              </a:rPr>
              <a:t>Т.О</a:t>
            </a:r>
            <a:r>
              <a:rPr b="0" lang="ru-RU" sz="20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. Паблік рилейшнз у бізнесі : навч. посіб. / Т. О. Примак ; Київський національний економічний ун-т ім. Вадима Гетьмана. - К. : КНЕУ, 2006. - 174 с.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Times New Roman"/>
              <a:buAutoNum type="arabicPeriod"/>
              <a:tabLst>
                <a:tab algn="l" pos="4665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000" spc="-1" strike="noStrike" u="sng">
                <a:solidFill>
                  <a:srgbClr val="0d2e46"/>
                </a:solidFill>
                <a:uFillTx/>
                <a:latin typeface="Times New Roman"/>
                <a:ea typeface="Times New Roman"/>
                <a:hlinkClick r:id="rId3"/>
              </a:rPr>
              <a:t>Пасько </a:t>
            </a:r>
            <a:r>
              <a:rPr b="0" lang="uk-UA" sz="2000" spc="-1" strike="noStrike" u="sng">
                <a:solidFill>
                  <a:srgbClr val="0d2e46"/>
                </a:solidFill>
                <a:uFillTx/>
                <a:latin typeface="Times New Roman"/>
                <a:ea typeface="Times New Roman"/>
                <a:hlinkClick r:id="rId4"/>
              </a:rPr>
              <a:t>М.І.</a:t>
            </a:r>
            <a:r>
              <a:rPr b="0" lang="ru-RU" sz="20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. Паблік рилейшнз : конспект лекцій / М. І. Пасько, К. А. Заславська ; Харківський національний економічний ун-т. - Х. : Видавництво ХНЕУ, 2006. - 92 с.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Times New Roman"/>
              <a:buAutoNum type="arabicPeriod"/>
              <a:tabLst>
                <a:tab algn="l" pos="4665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000" spc="-1" strike="noStrike" u="sng">
                <a:solidFill>
                  <a:srgbClr val="0d2e46"/>
                </a:solidFill>
                <a:uFillTx/>
                <a:latin typeface="Times New Roman"/>
                <a:ea typeface="Times New Roman"/>
                <a:hlinkClick r:id="rId5"/>
              </a:rPr>
              <a:t>Пізнюк </a:t>
            </a:r>
            <a:r>
              <a:rPr b="0" lang="uk-UA" sz="2000" spc="-1" strike="noStrike" u="sng">
                <a:solidFill>
                  <a:srgbClr val="0d2e46"/>
                </a:solidFill>
                <a:uFillTx/>
                <a:latin typeface="Times New Roman"/>
                <a:ea typeface="Times New Roman"/>
                <a:hlinkClick r:id="rId6"/>
              </a:rPr>
              <a:t>Л.В.</a:t>
            </a:r>
            <a:r>
              <a:rPr b="0" lang="ru-RU" sz="20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. Паблік рилейшнз : навч. посіб. для дистанц. навчання / Л. В. Пізнюк ; Відкритий міжнародний ун-т розвитку людини "Україна". - К. : Ун-т "Україна", 2005. - 240 с. 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665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0" y="333360"/>
            <a:ext cx="8964720" cy="619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447480" algn="just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 Членство.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ідхід використовує членство в організації або прийом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члени організації як атрибут, доречний у даній ситуації.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endParaRPr b="0" lang="en-US" sz="19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447480" algn="just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иклад, «членство у професійній асоціації» або «групі за інтересами» сигналізує про персональну участь в ситуації, а не окремому характерному ознаці члена »Зазвичай члени отримують від своєї організації контрольовані засоби мас-медіа.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endParaRPr b="0" lang="en-US" sz="19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447480" algn="just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 Прихована влада - «за лаштунками» політичної і економічної влади.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исує людей на вершині піраміди, що діють наперекір ситуації (всупереч законам).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ни чинять тиск на інших людей з широкого діапазону проблем, але, як правило, способами, які нелегко помітити.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явлення цих людей вимагає поєднання ретельного спостереження під час інтерв'ю з іншими людьми з даної проблеми, аналізу отриманих документів або сследа, залишеного діями прихованої влади;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endParaRPr b="0" lang="en-US" sz="19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447480" algn="just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) Підхід з точки зору репутації.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значається «обізнаність» чи «впливовість» на основі сприйняття цих особистостей іншими людьми.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і суспільні групи називають «лідерами думок» або «авторитетами».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Їх називають так тільки в ситуації, що розглядається, і тому не слід плутати їх із групою «прихованої влади» або групою, визначеної як «лідери думок» при встановленні груп структурно-ситуаційним аналізом.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endParaRPr b="0" lang="en-US" sz="19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447480" algn="just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 Підхід з точки зору суспільних груп у прийнятті рішень.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endParaRPr b="0" lang="en-US" sz="19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447480" algn="just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магає спостереження за процесом розробки рішень з метою вивчення того, хто і яку роль грає при прийнятті рішень в даній конкретній ситуації.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endParaRPr b="0" lang="en-US" sz="19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447480">
              <a:lnSpc>
                <a:spcPct val="90000"/>
              </a:lnSpc>
              <a:spcBef>
                <a:spcPts val="476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f496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179280" y="188640"/>
            <a:ext cx="8785440" cy="633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447480" algn="just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 цільові групи ідентифіковані та їх характерні риси вивчені, доцільно розділити ці аудиторії у двох категоріях: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endParaRPr b="0" lang="en-US" sz="19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447480" algn="just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За принципом зацікавленості - на: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endParaRPr b="0" lang="en-US" sz="19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447480" algn="just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основну групу, на яку спрямована PR-акція і заради якої вона здійснюється;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endParaRPr b="0" lang="en-US" sz="19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447480" algn="just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проміжну групу, яка має безпосередні контакти з основною і може надати інформацію, а також має власну думку про цю інформацію і ставлення до неї;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endParaRPr b="0" lang="en-US" sz="19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447480" algn="just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сприяє групу, яка розділяє зацікавленість у проведенні PR-кампанії і може надати реальну допомогу;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endParaRPr b="0" lang="en-US" sz="19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447480" algn="just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За принципом обізнаності і розуміння важливості PR-кампанії: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endParaRPr b="0" lang="en-US" sz="19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447480" algn="just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латентну групу, яка не має поняття про акції;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endParaRPr b="0" lang="en-US" sz="19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447480" algn="just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обізнані групу, усвідомлює важливість акції, але не готову діяти;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endParaRPr b="0" lang="en-US" sz="19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447480" algn="just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активну групу, усвідомлює важливість акції і готову діяти.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endParaRPr b="0" lang="en-US" sz="19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447480" algn="just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явити ступінь інформованості цільових груп.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endParaRPr b="0" lang="en-US" sz="19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447480" algn="just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хівцю з PR необхідно знати: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endParaRPr b="0" lang="en-US" sz="19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447480" algn="just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івень поінформованості кожної групи про організацію, її товари і послуги;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endParaRPr b="0" lang="en-US" sz="19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447480" algn="just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цінку іміджу організації;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endParaRPr b="0" lang="en-US" sz="19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447480" algn="just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Минуле і сьогодення поведінку цільових груп по відношенню до організації.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endParaRPr b="0" lang="en-US" sz="19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447480">
              <a:lnSpc>
                <a:spcPct val="90000"/>
              </a:lnSpc>
              <a:spcBef>
                <a:spcPts val="476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f496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533160" y="533520"/>
            <a:ext cx="7926120" cy="577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447480" algn="ctr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3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.</a:t>
            </a:r>
            <a:r>
              <a:rPr b="1" lang="uk-UA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Етап № 2: Планування і програмування. </a:t>
            </a:r>
            <a:endParaRPr b="0" lang="en-US" sz="40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447480">
              <a:lnSpc>
                <a:spcPct val="100000"/>
              </a:lnSpc>
              <a:spcBef>
                <a:spcPts val="10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f496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250920" y="188640"/>
            <a:ext cx="8642160" cy="626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4474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нформація, зібрана на першому етапі дозволяє встановити цілі і завдання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кампанії.</a:t>
            </a:r>
            <a:r>
              <a:rPr b="0" lang="uk-UA" sz="20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 - другий етап процесу, який повинен дати відповідь на питання: «Що ми повинні змінити, зробити або сказати з урахуванням того, що нам стало відомо про ситуацію?»</a:t>
            </a:r>
            <a:r>
              <a:rPr b="0" lang="ru-RU" sz="20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4474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ілі PR - кампанії, відбиваючи її специфіку, дають уявлення про те, до чого потрібно прагнути.</a:t>
            </a:r>
            <a:r>
              <a:rPr b="0" lang="ru-RU" sz="20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І.Л.</a:t>
            </a:r>
            <a:r>
              <a:rPr b="0" lang="ru-RU" sz="20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кентьева всі заходи 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Public Relations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своїй основі мають п'ять цілей:</a:t>
            </a:r>
            <a:r>
              <a:rPr b="0" lang="ru-RU" sz="20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4474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иціювання PR - об'єкта, товару та / або послуги;</a:t>
            </a:r>
            <a:r>
              <a:rPr b="0" lang="ru-RU" sz="20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4474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іднесення іміджу;</a:t>
            </a:r>
            <a:r>
              <a:rPr b="0" lang="ru-RU" sz="20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4474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реклама (або зниження іміджу);</a:t>
            </a:r>
            <a:r>
              <a:rPr b="0" lang="ru-RU" sz="20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4474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аштування від конкурентів;</a:t>
            </a:r>
            <a:r>
              <a:rPr b="0" lang="ru-RU" sz="20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4474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реклама (або «відмивання»).</a:t>
            </a:r>
            <a:r>
              <a:rPr b="0" lang="ru-RU" sz="20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4474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107640" y="188640"/>
            <a:ext cx="8785080" cy="633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447480" algn="just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ша мета: позиціювання.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endParaRPr b="0" lang="en-US" sz="19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447480" algn="just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иціонування в PR (від англійського position - положення, перебування, стан, позиція і т.п.) - створення і підтримка (відтворення) зрозумілого клієнтам образу, іміджу.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endParaRPr b="0" lang="en-US" sz="19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447480" algn="just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а мета: піднесення іміджу.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endParaRPr b="0" lang="en-US" sz="19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447480" algn="just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ісля кваліфіковано виконаного позиціювання можна перейти до наступної задачі PR: піднесенню іміджу.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endParaRPr b="0" lang="en-US" sz="19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447480" algn="just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тя мета: антиреклама.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endParaRPr b="0" lang="en-US" sz="19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447480" algn="just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реклама завжди має на меті зниження іміджу, зменшення потоку клієнтів, інвестицій, голосів.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реклама використовується також для зниження попиту при реалізації останніх партій товару (продукції), кількість якого обмежена.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endParaRPr b="0" lang="en-US" sz="19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447480" algn="just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тверта мета: відбудова від конкурентів.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endParaRPr b="0" lang="en-US" sz="19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447480" algn="just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к правило, це комбінація піднесення одного іміджу при зниженні іншого.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бо так: позицирование свого PR - об'єкта на тлі конкурентів.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endParaRPr b="0" lang="en-US" sz="19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447480" algn="just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'ята мета: контрреклама.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endParaRPr b="0" lang="en-US" sz="19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447480" algn="just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ловна відмінність контрреклами: потрібно піднімати вже «впущений» імідж.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бо інакше: контрреклама - це відновлення потоків, «кредиту довіри», що живлять особистість, фірму і т.п.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endParaRPr b="0" lang="en-US" sz="19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447480" algn="just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відси видно, що всі цілі PR - кампанії спрямовані на створення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риятливої </a:t>
            </a:r>
            <a:r>
              <a:rPr b="0" lang="ru-RU" sz="1900" spc="-1" strike="noStrike">
                <a:solidFill>
                  <a:srgbClr val="000000"/>
                </a:solidFill>
                <a:latin typeface="Cambria Math"/>
                <a:ea typeface="Times New Roman"/>
              </a:rPr>
              <a:t>​​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омадської думки і завоювання розташування конкретного контингенту споживачів продукції даного підприємства.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собом досягнення цих цілей є розвиток комунікації (громадських зв'язків) організації з її соціальним середовищем через проведення різного роду заходів PR та реклами.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endParaRPr b="0" lang="en-US" sz="19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447480">
              <a:lnSpc>
                <a:spcPct val="80000"/>
              </a:lnSpc>
              <a:spcBef>
                <a:spcPts val="476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f496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-360" y="188640"/>
            <a:ext cx="8893080" cy="626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447480" algn="just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і цілі PR - кампанії спрямовані на створення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риятливої </a:t>
            </a:r>
            <a:r>
              <a:rPr b="0" lang="ru-RU" sz="1900" spc="-1" strike="noStrike">
                <a:solidFill>
                  <a:srgbClr val="000000"/>
                </a:solidFill>
                <a:latin typeface="Cambria Math"/>
                <a:ea typeface="Times New Roman"/>
              </a:rPr>
              <a:t>​​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омадської думки і завоювання розташування конкретного контингенту споживачів продукції даного підприємства.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собом досягнення цих цілей є розвиток комунікації (громадських зв'язків) організації з її соціальним середовищем через проведення різного роду заходів PR та реклами.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endParaRPr b="0" lang="en-US" sz="19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447480" algn="just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жній цілі повинен відповідати ряд взаємопов'язаних завдань.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endParaRPr b="0" lang="en-US" sz="19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447480" algn="just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дання докладно описують ключові результати, яких необхідно досягти в кожній суспільній групі, а також послідовність виконання програми, терміни та масштаб дій, необхідних для досягнення намічених програмних цілей.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ктично завдання виконують такі функції.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endParaRPr b="0" lang="en-US" sz="19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447480" algn="just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ють напрямок для розробки програми стратегії і тактики.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endParaRPr b="0" lang="en-US" sz="19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447480" algn="just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ладно викладають критерії для контролю та оцінки програми.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endParaRPr b="0" lang="en-US" sz="19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447480" algn="just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жче наведені рекомендації для складання програмних завдань: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endParaRPr b="0" lang="en-US" sz="19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447480" algn="just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ніть з трьох варіантів руху до заданого результату: «збільшити», «зменшити», і «зберегти».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endParaRPr b="0" lang="en-US" sz="19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447480" algn="just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ажіть результат, якого необхідно досягти.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endParaRPr b="0" lang="en-US" sz="19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447480" algn="just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тановіть у вимірних величинах значення зміни або рівень, який необхідно підтримувати.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endParaRPr b="0" lang="en-US" sz="19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447480" algn="just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значте цільову дату, до якої повинен бути отриманий конкретний результат.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endParaRPr b="0" lang="en-US" sz="19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447480">
              <a:lnSpc>
                <a:spcPct val="90000"/>
              </a:lnSpc>
              <a:spcBef>
                <a:spcPts val="476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f496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0" y="115920"/>
            <a:ext cx="8964720" cy="674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algn="just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новка цілей і завдань може здійснюватися різними способами:</a:t>
            </a:r>
            <a:r>
              <a:rPr b="0" lang="ru-RU" sz="17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endParaRPr b="0" lang="en-US" sz="1700" spc="-1" strike="noStrike">
              <a:solidFill>
                <a:srgbClr val="0f496f"/>
              </a:solidFill>
              <a:latin typeface="Century Gothic"/>
            </a:endParaRPr>
          </a:p>
          <a:p>
            <a:pPr marL="285840" algn="just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ення неформальних дискусій з клієнтом (замовником) або провідними менеджерами організації - по телефону або особисто (переважно) - для виявлення цілей і завдань організації.</a:t>
            </a:r>
            <a:r>
              <a:rPr b="0" lang="ru-RU" sz="17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endParaRPr b="0" lang="en-US" sz="1700" spc="-1" strike="noStrike">
              <a:solidFill>
                <a:srgbClr val="0f496f"/>
              </a:solidFill>
              <a:latin typeface="Century Gothic"/>
            </a:endParaRPr>
          </a:p>
          <a:p>
            <a:pPr marL="285840" algn="just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ення формальних (офіційних) зустрічей для визначення цілей і завдань організації з використанням:</a:t>
            </a:r>
            <a:r>
              <a:rPr b="0" lang="ru-RU" sz="17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endParaRPr b="0" lang="en-US" sz="1700" spc="-1" strike="noStrike">
              <a:solidFill>
                <a:srgbClr val="0f496f"/>
              </a:solidFill>
              <a:latin typeface="Century Gothic"/>
            </a:endParaRPr>
          </a:p>
          <a:p>
            <a:pPr marL="285840" algn="just">
              <a:lnSpc>
                <a:spcPct val="90000"/>
              </a:lnSpc>
              <a:spcBef>
                <a:spcPts val="425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розсилання учасникам перед проведенням нарад відповідних документів та матеріалів;</a:t>
            </a:r>
            <a:r>
              <a:rPr b="0" lang="ru-RU" sz="17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endParaRPr b="0" lang="en-US" sz="1700" spc="-1" strike="noStrike">
              <a:solidFill>
                <a:srgbClr val="0f496f"/>
              </a:solidFill>
              <a:latin typeface="Century Gothic"/>
            </a:endParaRPr>
          </a:p>
          <a:p>
            <a:pPr marL="285840" algn="just">
              <a:lnSpc>
                <a:spcPct val="90000"/>
              </a:lnSpc>
              <a:spcBef>
                <a:spcPts val="425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таких методик прийняття рішень, як складання списку пропозицій і досягнення консенсусу в ході обговорення стратегічних цілей організації;</a:t>
            </a:r>
            <a:r>
              <a:rPr b="0" lang="ru-RU" sz="17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endParaRPr b="0" lang="en-US" sz="1700" spc="-1" strike="noStrike">
              <a:solidFill>
                <a:srgbClr val="0f496f"/>
              </a:solidFill>
              <a:latin typeface="Century Gothic"/>
            </a:endParaRPr>
          </a:p>
          <a:p>
            <a:pPr marL="285840" algn="just">
              <a:lnSpc>
                <a:spcPct val="90000"/>
              </a:lnSpc>
              <a:spcBef>
                <a:spcPts val="425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формалізованих методик - таких, як техніка номінальної групи або аналіз протидіючих сил.</a:t>
            </a:r>
            <a:r>
              <a:rPr b="0" lang="ru-RU" sz="17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endParaRPr b="0" lang="en-US" sz="1700" spc="-1" strike="noStrike">
              <a:solidFill>
                <a:srgbClr val="0f496f"/>
              </a:solidFill>
              <a:latin typeface="Century Gothic"/>
            </a:endParaRPr>
          </a:p>
          <a:p>
            <a:pPr marL="285840" algn="just">
              <a:lnSpc>
                <a:spcPct val="90000"/>
              </a:lnSpc>
              <a:spcBef>
                <a:spcPts val="425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упний етап процесу планування - розробка ідей та альтернативних рішень - здійснюється запропонованими нижче способами:</a:t>
            </a:r>
            <a:r>
              <a:rPr b="0" lang="ru-RU" sz="17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endParaRPr b="0" lang="en-US" sz="1700" spc="-1" strike="noStrike">
              <a:solidFill>
                <a:srgbClr val="0f496f"/>
              </a:solidFill>
              <a:latin typeface="Century Gothic"/>
            </a:endParaRPr>
          </a:p>
          <a:p>
            <a:pPr marL="285840" algn="just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ьтернативи не розглядаються.</a:t>
            </a:r>
            <a:r>
              <a:rPr b="0" lang="ru-RU" sz="17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биться те, що очікується в даній ситуації.</a:t>
            </a:r>
            <a:r>
              <a:rPr b="0" lang="ru-RU" sz="17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endParaRPr b="0" lang="en-US" sz="1700" spc="-1" strike="noStrike">
              <a:solidFill>
                <a:srgbClr val="0f496f"/>
              </a:solidFill>
              <a:latin typeface="Century Gothic"/>
            </a:endParaRPr>
          </a:p>
          <a:p>
            <a:pPr marL="285840" algn="just">
              <a:lnSpc>
                <a:spcPct val="90000"/>
              </a:lnSpc>
              <a:spcBef>
                <a:spcPts val="425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хівці зі зв'язків з громадськістю готують документ, що містить програму PR-кампанії.</a:t>
            </a:r>
            <a:r>
              <a:rPr b="0" lang="ru-RU" sz="17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ім цей документ представляється керівництву або клієнтові для розгляду та коментарів.</a:t>
            </a:r>
            <a:r>
              <a:rPr b="0" lang="ru-RU" sz="17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endParaRPr b="0" lang="en-US" sz="1700" spc="-1" strike="noStrike">
              <a:solidFill>
                <a:srgbClr val="0f496f"/>
              </a:solidFill>
              <a:latin typeface="Century Gothic"/>
            </a:endParaRPr>
          </a:p>
          <a:p>
            <a:pPr marL="285840" algn="just">
              <a:lnSpc>
                <a:spcPct val="90000"/>
              </a:lnSpc>
              <a:spcBef>
                <a:spcPts val="425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одиться дослідження для визначення характеристик цільових груп, вибору каналів ЗМІ, комунікаційних повідомлень.</a:t>
            </a:r>
            <a:r>
              <a:rPr b="0" lang="ru-RU" sz="17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endParaRPr b="0" lang="en-US" sz="1700" spc="-1" strike="noStrike">
              <a:solidFill>
                <a:srgbClr val="0f496f"/>
              </a:solidFill>
              <a:latin typeface="Century Gothic"/>
            </a:endParaRPr>
          </a:p>
          <a:p>
            <a:pPr marL="285840" algn="just">
              <a:lnSpc>
                <a:spcPct val="90000"/>
              </a:lnSpc>
              <a:spcBef>
                <a:spcPts val="425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одяться формальні зустрічі та дискусії з клієнтом або керівництвом організації для обговорення основних ідей PR-кампанії та альтернативних варіантів її проведення.</a:t>
            </a:r>
            <a:r>
              <a:rPr b="0" lang="ru-RU" sz="17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endParaRPr b="0" lang="en-US" sz="1700" spc="-1" strike="noStrike">
              <a:solidFill>
                <a:srgbClr val="0f496f"/>
              </a:solidFill>
              <a:latin typeface="Century Gothic"/>
            </a:endParaRPr>
          </a:p>
          <a:p>
            <a:pPr marL="285840" algn="just">
              <a:lnSpc>
                <a:spcPct val="90000"/>
              </a:lnSpc>
              <a:spcBef>
                <a:spcPts val="425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завершення визначають тип ПР-програми, її тривалість (тимчасові або хронологічні рамки), заздалегідь обумовлюють з клієнтом критерії оцінки її ефективності та форми звітності.</a:t>
            </a:r>
            <a:r>
              <a:rPr b="0" lang="ru-RU" sz="17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endParaRPr b="0" lang="en-US" sz="1700" spc="-1" strike="noStrike">
              <a:solidFill>
                <a:srgbClr val="0f496f"/>
              </a:solidFill>
              <a:latin typeface="Century Gothic"/>
            </a:endParaRPr>
          </a:p>
          <a:p>
            <a:pPr marL="285840">
              <a:lnSpc>
                <a:spcPct val="90000"/>
              </a:lnSpc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f496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0" y="0"/>
            <a:ext cx="9036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447480" algn="just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ючовими факторами, що визначають характер тієї чи іншої програми, є характер середовища, в якому працює фірма: сприятлива, нейтральна, негативна, вкрай несприятлива чи ворожа, і наявність часу, достатнього для вирішення проблеми.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endParaRPr b="0" lang="en-US" sz="19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447480" algn="just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-програми понад один рік досить рідкісні через те, що протягом року на ринку відбуваються досить істотні зміни: змінюється кон'юнктура, змінюються уподобання цільових аудиторій, з'являються їх нові групи, виявляється ефективність одних ПР-акцій і слабкість інших і т.д .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ловом, виникає об'єктивна потреба внесення серйозних коректив у реалізуються ПР-проекти.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endParaRPr b="0" lang="en-US" sz="19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447480" algn="just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няток становить практика ряду транснаціональних компаній, що реалізують глобальні ПР-програми та промоушн акції з підтримки своєї продукції або послуг в глобальному масштабі на декількох континентах - через обширної географії та світового масштабу такі ПР-програми можуть тривати і більше року (наприклад, відоме світове promotion турне з висвітленням у міжнародних ЗМІ американського поп співака Майкла Джексона на замовлення компанії «Пепсі-кола»).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ак такого роду глобальні програми вимагають дуже ретельного опрацювання, серйозних фінансових ресурсів і великомасштабного організаційного забезпечення, що під силу лише великим міжнародним компаніям з величезними оборотами і високим прибутком.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endParaRPr b="0" lang="en-US" sz="19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447480" algn="just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лануванні заходів особлива увага приділяється фактору вибору часу, бо протягом року існують як сприятливі, так і несприятливі періоди («мертві сезони») в широкому розумінні, коли проведення PR-акцій недоцільно.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ажімо, несприятливими для великих PR-подій є два літні місяці (липень і майже весь серпень) - час традиційних відпусток і помітного зниження активності ЗМІ.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endParaRPr b="0" lang="en-US" sz="19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447480">
              <a:lnSpc>
                <a:spcPct val="90000"/>
              </a:lnSpc>
              <a:spcBef>
                <a:spcPts val="476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f496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533520" y="188640"/>
            <a:ext cx="8215200" cy="604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447480" algn="ctr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ЕТАП № 3: РЕАЛІЗАЦІЯ PR-КАМПАНІЇ</a:t>
            </a:r>
            <a:r>
              <a:rPr b="1" lang="ru-RU" sz="40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447480">
              <a:lnSpc>
                <a:spcPct val="100000"/>
              </a:lnSpc>
              <a:spcBef>
                <a:spcPts val="10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f496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179280" y="115920"/>
            <a:ext cx="8785440" cy="662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447480" algn="just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тій етап процесу управління знаменує собою перехід на стадію реалізації PR-програми, яка являє собою практичне втілення розробок, зроблених на перших двох етапах - пошуку фактів і стратегічного планування.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я стадія включає в себе визначення наступних елементів програми PR-кампанії.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endParaRPr b="0" lang="en-US" sz="19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447480" algn="just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атегія дії.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кі зміни необхідні для досягнення результатів, встановлених програмою?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endParaRPr b="0" lang="en-US" sz="19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447480" algn="just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атегія комунікацій.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 що необхідно проінформувати громадськість для досягнення результатів, встановлених програмою?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кі </a:t>
            </a:r>
            <a:r>
              <a:rPr b="0" lang="ru-RU" sz="19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засоби масової інформації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йкраще передадуть цю інформацію цільовим групам громадськості?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endParaRPr b="0" lang="en-US" sz="19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447480" algn="just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 виконання програми.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то відповідає за виконання кожного пункту програми і тактики встановлення зв'язків з громадськістю?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ка послідовність дій і її схема?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кі витрати на виконання програми?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endParaRPr b="0" lang="en-US" sz="19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447480" algn="just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атегія дії на практиці реалізує модель системи зворотного зв'язку.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й підхід грунтується на трьох умови.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ше з них полягає в тому, що зміни повинні відбуватися як всередині компанії, так і в її цільової аудиторії.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а умова полягає в тому, що в результаті таких змін складається ситуація, в якій виграють обидві сторони, Третя умова, яка є мотивом для цієї стратегії PR-акції, полягає в поліпшенні дії, а не тільки іміджу.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кщо PR-кампанія повинна формувати взаємовигідні відносини, необхідні для існування і процвітання організації, то вона повинна розробляти стратегію PR-акції та координувати її з комунікаційної стратегією.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endParaRPr b="0" lang="en-US" sz="19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447480">
              <a:lnSpc>
                <a:spcPct val="90000"/>
              </a:lnSpc>
              <a:spcBef>
                <a:spcPts val="476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f496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entury Gothic"/>
              </a:rPr>
              <a:t>ПЛАН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179280" y="1236240"/>
            <a:ext cx="8498160" cy="441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449280">
              <a:lnSpc>
                <a:spcPct val="96000"/>
              </a:lnSpc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449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4492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Поняття ПР програми та етапи її створення</a:t>
            </a:r>
            <a:endParaRPr b="0" lang="en-US" sz="28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449280" algn="just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Етап № 1: Визначення проблеми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449280" algn="just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тап № 2:</a:t>
            </a:r>
            <a:r>
              <a:rPr b="0" lang="uk-UA" sz="2800" spc="-1" strike="noStrike" u="sng">
                <a:solidFill>
                  <a:srgbClr val="0d2e46"/>
                </a:solidFill>
                <a:uFillTx/>
                <a:latin typeface="Times New Roman"/>
                <a:ea typeface="Times New Roman"/>
                <a:hlinkClick r:id="rId1"/>
              </a:rPr>
              <a:t> Планування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і програмування.</a:t>
            </a:r>
            <a:r>
              <a:rPr b="0" lang="uk-U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449280" algn="just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Етап № 3: Реалізація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кампанії</a:t>
            </a:r>
            <a:r>
              <a:rPr b="0" lang="uk-U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449280" algn="just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Етап № 4: Оцінка ефективності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кампанії</a:t>
            </a:r>
            <a:r>
              <a:rPr b="0" lang="uk-U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449280" algn="just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f496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179280" y="0"/>
            <a:ext cx="8785440" cy="652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4474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атегія здійснення комунікацій підтримує програму дій в досягненні таких цілей:</a:t>
            </a:r>
            <a:r>
              <a:rPr b="0" lang="ru-RU" sz="20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4474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0" lang="ru-RU" sz="20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нформування внутрішньої і зовнішньої цільової аудиторії про дії компанії;</a:t>
            </a:r>
            <a:r>
              <a:rPr b="0" lang="ru-RU" sz="20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4474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ru-RU" sz="20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конання цільової аудиторії у необхідності підтримати або прийняти дії компанії;</a:t>
            </a:r>
            <a:r>
              <a:rPr b="0" lang="ru-RU" sz="20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4474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ru-RU" sz="20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'яснення громадськості, яким чином вона може перетворити свої наміри в дії.</a:t>
            </a:r>
            <a:r>
              <a:rPr b="0" lang="ru-RU" sz="20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4474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108000" y="115920"/>
            <a:ext cx="8856720" cy="662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9000"/>
          </a:bodyPr>
          <a:p>
            <a:pPr marL="282960" indent="442800" algn="just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атегія комунікації включає в себе такі компоненти як: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endParaRPr b="0" lang="en-US" sz="1900" spc="-1" strike="noStrike">
              <a:solidFill>
                <a:srgbClr val="0f496f"/>
              </a:solidFill>
              <a:latin typeface="Century Gothic"/>
            </a:endParaRPr>
          </a:p>
          <a:p>
            <a:pPr marL="282960" indent="442800" algn="just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Довіра.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дь-яка інформаційна кампанія починається зі створення атмосфери довіри шляхом відображення організацією щирого прагнення служити всім зацікавленим сторонам і громадськості.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endParaRPr b="0" lang="en-US" sz="1900" spc="-1" strike="noStrike">
              <a:solidFill>
                <a:srgbClr val="0f496f"/>
              </a:solidFill>
              <a:latin typeface="Century Gothic"/>
            </a:endParaRPr>
          </a:p>
          <a:p>
            <a:pPr marL="282960" indent="442800" algn="just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екст.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а інформування повинна відповідати реаліям навколишнього середовища.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фективна інформаційна кампанія вимагає адекватного соціального оточення, яке у великій мірі може бути забезпечено інформаційними каналами.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endParaRPr b="0" lang="en-US" sz="1900" spc="-1" strike="noStrike">
              <a:solidFill>
                <a:srgbClr val="0f496f"/>
              </a:solidFill>
              <a:latin typeface="Century Gothic"/>
            </a:endParaRPr>
          </a:p>
          <a:p>
            <a:pPr marL="282960" indent="442800" algn="just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міст.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ідомлення повинно мати сенс для одержувачів; воно має бути сумісним з їх системою цінностей.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endParaRPr b="0" lang="en-US" sz="1900" spc="-1" strike="noStrike">
              <a:solidFill>
                <a:srgbClr val="0f496f"/>
              </a:solidFill>
              <a:latin typeface="Century Gothic"/>
            </a:endParaRPr>
          </a:p>
          <a:p>
            <a:pPr marL="282960" indent="442800" algn="just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сність.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ідомлення має бути викладено як можна простіше.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а, які використовуються в ньому, повинні мати для одержувача таке ж значення, що і для відправника.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endParaRPr b="0" lang="en-US" sz="1900" spc="-1" strike="noStrike">
              <a:solidFill>
                <a:srgbClr val="0f496f"/>
              </a:solidFill>
              <a:latin typeface="Century Gothic"/>
            </a:endParaRPr>
          </a:p>
          <a:p>
            <a:pPr marL="282960" indent="442800" algn="just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перервність і послідовність.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нформаційна кампанія - нескінченний процес.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Щоб донести до адресата якесь повідомлення, потрібне його повторення.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endParaRPr b="0" lang="en-US" sz="1900" spc="-1" strike="noStrike">
              <a:solidFill>
                <a:srgbClr val="0f496f"/>
              </a:solidFill>
              <a:latin typeface="Century Gothic"/>
            </a:endParaRPr>
          </a:p>
          <a:p>
            <a:pPr marL="282960" indent="442800" algn="just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нали.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ід використовувати вже існуючі канали інформування, які одержувачі знають і поважають.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endParaRPr b="0" lang="en-US" sz="1900" spc="-1" strike="noStrike">
              <a:solidFill>
                <a:srgbClr val="0f496f"/>
              </a:solidFill>
              <a:latin typeface="Century Gothic"/>
            </a:endParaRPr>
          </a:p>
          <a:p>
            <a:pPr marL="282960" indent="442800" algn="just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ливості аудиторії.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ередачі інформації слід брати до уваги можливості аудиторії.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більш ефективною є така інформаційна кампанія, яка вимагає від одержувача мінімум зусиль.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endParaRPr b="0" lang="en-US" sz="1900" spc="-1" strike="noStrike">
              <a:solidFill>
                <a:srgbClr val="0f496f"/>
              </a:solidFill>
              <a:latin typeface="Century Gothic"/>
            </a:endParaRPr>
          </a:p>
          <a:p>
            <a:pPr marL="282960" indent="442800">
              <a:lnSpc>
                <a:spcPct val="90000"/>
              </a:lnSpc>
              <a:spcBef>
                <a:spcPts val="476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  <a:ea typeface="Calibri"/>
              </a:rPr>
              <a:t>Дотримання перерахованих правилами, що визначає ефективність здійснення інформаційної комунікації, сприятиме успішній реалізації PR-кампанії в цілому</a:t>
            </a:r>
            <a:endParaRPr b="0" lang="en-US" sz="1900" spc="-1" strike="noStrike">
              <a:solidFill>
                <a:srgbClr val="0f496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324000" y="404280"/>
            <a:ext cx="8712000" cy="626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447480" algn="ctr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ЕТАП № 4: </a:t>
            </a:r>
            <a:endParaRPr b="0" lang="en-US" sz="36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447480" algn="ctr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ІНКА ЕФЕКТИВНОСТІ </a:t>
            </a:r>
            <a:endParaRPr b="0" lang="en-US" sz="36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447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-КАМПАНІЇ</a:t>
            </a:r>
            <a:r>
              <a:rPr b="0" lang="ru-RU" sz="36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447480">
              <a:lnSpc>
                <a:spcPct val="100000"/>
              </a:lnSpc>
              <a:spcBef>
                <a:spcPts val="9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496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108000" y="115560"/>
            <a:ext cx="8928000" cy="65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447480" algn="just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 цього етапу - отримати якомога більше інформації про вплив даної PR - кампанії, зробити висновок про її ефективність, усунути недоліки.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снує три рівні проведення оціночного дослідження: оцінка підготовки, реалізації і впливу PR-програми.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інка програми не може бути повною без вивчення критеріїв кожного рівня.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endParaRPr b="0" lang="en-US" sz="19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447480" algn="just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оцінці підготовки аналізується: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endParaRPr b="0" lang="en-US" sz="19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447480" algn="just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екватність вихідної інформації розробляється програмі.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endParaRPr b="0" lang="en-US" sz="19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447480" algn="just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дповідність змісту повідомлення здійснюваної PR-акції.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endParaRPr b="0" lang="en-US" sz="19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447480" algn="just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кість подачі повідомлення здійснюваної PR-акції.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endParaRPr b="0" lang="en-US" sz="19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447480" algn="just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інка реалізації направлена </a:t>
            </a:r>
            <a:r>
              <a:rPr b="0" lang="ru-RU" sz="1900" spc="-1" strike="noStrike">
                <a:solidFill>
                  <a:srgbClr val="000000"/>
                </a:solidFill>
                <a:latin typeface="Cambria Math"/>
                <a:ea typeface="Times New Roman"/>
              </a:rPr>
              <a:t>​​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облік наступних показників: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endParaRPr b="0" lang="en-US" sz="19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447480" algn="just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ількість повідомлень, переданих ЗМІ, і запланованих PR-дій.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endParaRPr b="0" lang="en-US" sz="19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447480" algn="just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ількість розміщених в ЗМІ повідомлень і виконаних PR-дій.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endParaRPr b="0" lang="en-US" sz="19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447480" algn="just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ількість людей, що одержали повідомлення та охоплених PR-дією.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endParaRPr b="0" lang="en-US" sz="19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447480" algn="just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ількість людей, що звернули увагу на повідомлення і PR-дія.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endParaRPr b="0" lang="en-US" sz="19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447480" algn="just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етапі впливу оцінюється: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endParaRPr b="0" lang="en-US" sz="19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447480" algn="just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ількість вивчили зміст повідомлень.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endParaRPr b="0" lang="en-US" sz="19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447480" algn="just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ількість змінили переконання.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endParaRPr b="0" lang="en-US" sz="19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447480" algn="just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ількість змінили своє ставлення.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endParaRPr b="0" lang="en-US" sz="19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447480" algn="just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ількість членів цільової аудиторії, які виконали дію, заплановане програмою.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endParaRPr b="0" lang="en-US" sz="19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447480" algn="just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іночна дослідження - постійна і центральна частина процесу.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endParaRPr b="0" lang="en-US" sz="19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447480">
              <a:lnSpc>
                <a:spcPct val="90000"/>
              </a:lnSpc>
              <a:spcBef>
                <a:spcPts val="476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f496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108000" y="115560"/>
            <a:ext cx="8712000" cy="65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447480" algn="just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ідсумкове дослідження, якщо воно виконується після закінчення програми і вказує виключно на факт наявності (відсутності) впливу, не представляє ніякої цінності.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тивного дослідження, що виконується до початку програми і в ході її реалізації, дає найважливішу інформацію.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я інформація використовується потім для порівняння результатів підсумкового дослідження з початковими умовами та для внесення коректив у процес реалізації програми.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endParaRPr b="0" lang="en-US" sz="19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447480" algn="just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льно існують ще кілька варіантів оцінки ефективності реалізації тієї чи іншої програми або акції в галузі зв'язків з громадськістю.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одного з найпоширеніших відноситься </a:t>
            </a:r>
            <a:r>
              <a:rPr b="0" lang="ru-RU" sz="19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кількісний аналіз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Його використовують зазвичай у випадках, коли фірма тільки виходить на нові ринки і головне завдання PR-програми зводиться до створення ефекту постійної присутності, видимості (visibility) комерційної структури або її продукції на ринку.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свою чергу, ефект постійної присутності в інформаційному полі сприяє підвищенню впізнаваності логотипу, торговельної марки фірми або назви бренду цільовими аудиторіями.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endParaRPr b="0" lang="en-US" sz="19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447480" algn="just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Calibri"/>
              </a:rPr>
              <a:t>Другий вид оцінки ефективності пов'язаний з контент-аналізом, тобто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Calibri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кладним аналізом змісту текстів статей, телевізійних сюжетів і радіорепортажів.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Calibri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ліку підлягають такі фактори, як позитивний / негативний тон статті, наявність думок авторитетних експертів та лідерів громадської думки, заголовок, під яким вийшов матеріал, доказовість і система аргументації, жанр матеріалів, наявність помилок, неточностей, а також ступінь використання журналістами вихідної інформації, підготовленої в департаменті зі зв'язків з громадськістю або найнятому PR-агентстві</a:t>
            </a:r>
            <a:endParaRPr b="0" lang="en-US" sz="1900" spc="-1" strike="noStrike">
              <a:solidFill>
                <a:srgbClr val="0f496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107640" y="-360"/>
            <a:ext cx="8785080" cy="666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4474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мотно реалізована PR-програма не тільки допомагає комерційним структурам істотно економити на витратах.</a:t>
            </a:r>
            <a:r>
              <a:rPr b="0" lang="ru-RU" sz="20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віра цільових аудиторій до матеріалів, які вийшли під ім'ям авторитетного журналіста, експерта, оглядача, редактора в новинних рубриках ЗМІ і відображає точку зору редакції, наукового співтовариства або впливової громадської організації, незрівнянно вище, ніж до оплаченим сюжетів під рубриками «комерційна інформація», «на правах реклами», «прес-реліз», «рекламна публікація» і т.д.</a:t>
            </a:r>
            <a:r>
              <a:rPr b="0" lang="ru-RU" sz="20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4474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тій вид оцінки ефективності - по кінцевому результату впливу інформації на цільові аудиторії (нерідко, у вигляді зростання числа клієнтів, збільшення 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продажів товарів і послуг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- викликає найбільші суперечки в піарівським співтоваристві.</a:t>
            </a:r>
            <a:r>
              <a:rPr b="0" lang="ru-RU" sz="20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ина керівників комерційних структур жорстко наполягає на конкретному, відчутному кінцевому результаті від здійсненої PR-програми та витрачених ресурсів.</a:t>
            </a:r>
            <a:r>
              <a:rPr b="0" lang="ru-RU" sz="20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4474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ть аргументів прихильників цього способу оцінки ефективності зводиться до тези що реалізація PR-програми має призвести до прямого зростання реалізованої продукції або збільшення числа клієнтів.</a:t>
            </a:r>
            <a:r>
              <a:rPr b="0" lang="ru-RU" sz="20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447480" algn="just">
              <a:lnSpc>
                <a:spcPct val="115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f496f"/>
                </a:solidFill>
                <a:latin typeface="Calibri"/>
                <a:ea typeface="Calibri"/>
              </a:rPr>
              <a:t> 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4474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1176480" y="2565360"/>
            <a:ext cx="6798960" cy="337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449280" algn="ctr">
              <a:lnSpc>
                <a:spcPct val="100000"/>
              </a:lnSpc>
              <a:spcBef>
                <a:spcPts val="1001"/>
              </a:spcBef>
              <a:buClr>
                <a:srgbClr val="83992a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Поняття ПР програми та етапи її створення</a:t>
            </a:r>
            <a:endParaRPr b="0" lang="en-US" sz="40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449280">
              <a:lnSpc>
                <a:spcPct val="100000"/>
              </a:lnSpc>
              <a:spcBef>
                <a:spcPts val="10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f496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611280" y="1196640"/>
            <a:ext cx="7200720" cy="481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447480" algn="ctr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 </a:t>
            </a:r>
            <a:r>
              <a:rPr b="0" i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ампанія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це комплексне, багаторазове використання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засобів, а також рекламних матеріалів у рамках єдиної концепції та проведення загального плану впливу на думки і ставлення людей з метою популяризації іміджу, підтримки репутації, створення паблісіті.</a:t>
            </a:r>
            <a:r>
              <a:rPr b="0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44748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f496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609120" y="907560"/>
            <a:ext cx="7634520" cy="513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447480" algn="ctr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ід ПР-програмою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уміють комплекс логічно взаємопов'язаних між собою і реалізовуються в певній послідовності акцій та заходів з метою зміни в потрібному напрямку поведінки ключових і цільових аудиторій громадськості, вирішення конкретних корпоративних або маркетингових проблем і завдань.</a:t>
            </a:r>
            <a:r>
              <a:rPr b="0" lang="uk-UA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робку ПР-програми традиційно тісно пов'язують із загальною стратегією комерційної структури на ринку.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ктика останніх десятиліть переконливо свідчить: ефективність практично будь-якого ПР-заходи, ПР-акції або цілої ПР-кампанії безпосередньо залежать від якості програмування.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4474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609120" y="907560"/>
            <a:ext cx="6348600" cy="513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робка стратегічних програмних планів зі зв'язків з громадськістю згідно розробкам Сема Блека складається з чотирьох кроків: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f496f"/>
              </a:solidFill>
              <a:latin typeface="Century Gothic"/>
            </a:endParaRPr>
          </a:p>
          <a:p>
            <a:pPr marL="285840" algn="just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значення проблеми.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f496f"/>
              </a:solidFill>
              <a:latin typeface="Century Gothic"/>
            </a:endParaRPr>
          </a:p>
          <a:p>
            <a:pPr marL="285840" algn="just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ування і програмування.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f496f"/>
              </a:solidFill>
              <a:latin typeface="Century Gothic"/>
            </a:endParaRPr>
          </a:p>
          <a:p>
            <a:pPr marL="285840" algn="just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ія і комунікація.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f496f"/>
              </a:solidFill>
              <a:latin typeface="Century Gothic"/>
            </a:endParaRPr>
          </a:p>
          <a:p>
            <a:pPr marL="285840" algn="just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інка програми.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f496f"/>
              </a:solidFill>
              <a:latin typeface="Century Gothic"/>
            </a:endParaRPr>
          </a:p>
          <a:p>
            <a:pPr marL="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f496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250560" y="189000"/>
            <a:ext cx="8281800" cy="640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447480" algn="just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'єктивна потреба в розробці та реалізації тривалої ПР-програми може бути викликана цілим рядом різних чинників.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иклад, в комерційному секторі найбільш поширені такі причини: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447480" algn="just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обхідність створення, просування і підтримки привабливого корпоративного іміджу чи іміджу бренду;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447480" algn="just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ийняття компанією нової наступальної маркетингової стратегії закріплення на ринку і підвищення рівня продажів;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447480" algn="just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ийняття нової корпоративної політики;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447480" algn="just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Зміна назви фірми, її корпоративного іміджу, торгової марки або логотипу;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447480" algn="just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Зміна статусу фірми (наприклад, перетворення її у </a:t>
            </a:r>
            <a:r>
              <a:rPr b="0" lang="ru-RU" sz="1800" spc="-1" strike="noStrike" u="sng">
                <a:solidFill>
                  <a:srgbClr val="0d2e46"/>
                </a:solidFill>
                <a:uFillTx/>
                <a:latin typeface="Times New Roman"/>
                <a:ea typeface="Times New Roman"/>
                <a:hlinkClick r:id="rId1"/>
              </a:rPr>
              <a:t>відкрите акціонерне товариство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злиття з іншою структурою, поглинання її більш великою фірмою і т.д.;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447480" algn="just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обхідність поліпшити і зробити більш привабливою ділову репутацію комерційної структури (reputation management);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447480" algn="just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обхідність відбудови від конкурентів, особливо у випадку, якщо велика кількість компаній випускає продукцію, подібну за споживчими - якостям і номенклатурі, розраховану на одну й ту ж цільову аудиторію і знаходиться в одній і тій же ціновій ніші;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447480" algn="just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иникнення серйозної проблеми (issue management) або навіть кризової </a:t>
            </a:r>
            <a:r>
              <a:rPr b="0" lang="ru-RU" sz="1800" spc="-1" strike="noStrike" u="sng">
                <a:solidFill>
                  <a:srgbClr val="0d2e46"/>
                </a:solidFill>
                <a:uFillTx/>
                <a:latin typeface="Times New Roman"/>
                <a:ea typeface="Times New Roman"/>
                <a:hlinkClick r:id="rId2"/>
              </a:rPr>
              <a:t>ситуації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risis communications);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44748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f496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23640" y="333360"/>
            <a:ext cx="8135640" cy="619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447480" algn="just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ведення на ринки нової, маловідомої фірми або компанії;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447480" algn="just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иведення на ринок особливо складної продукції (наприклад, класу «високих технологій»), що вимагає спеціально підготовленої і добре поінформованої споживчої аудиторії;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447480" algn="just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обхідність індивідуальної роботи з обраними групами аудиторій, які займають ключове положення і вплив у суспільстві;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447480" algn="just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икористання комерційною структурою особливої </a:t>
            </a:r>
            <a:r>
              <a:rPr b="0" lang="ru-RU" sz="1800" spc="-1" strike="noStrike">
                <a:solidFill>
                  <a:srgbClr val="000000"/>
                </a:solidFill>
                <a:latin typeface="Cambria Math"/>
                <a:ea typeface="Times New Roman"/>
              </a:rPr>
              <a:t>​​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и реалізації продукції постійним клієнтам не через знеособлену торгівлю, а через індивідуальну роботу з постійними групами споживачів («система прямого маркетингу», яку використовують компанії Herbalife, Zepter, Avon);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447480" algn="just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обхідність створення сприятливого клімату для розвитку та функціонування компанії (наприклад, налагодження відносин з урядовими структурами і органами місцевого самоврядування);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447480" algn="just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озвиток і підтримка зв'язків з великими і впливовими громадськими організаціями (захисники навколишнього середовища, товариства захисту прав споживачів);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447480" algn="just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шук і залучення коштів інвесторів (investor relations);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447480" algn="just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рганізація та проведення спеціальних акцій (special PR events);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447480" algn="just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озвиток зв'язків з професійним співтовариством фахівців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.</a:t>
            </a:r>
            <a:endParaRPr b="0" lang="en-US" sz="18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44748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f496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9T07:24:18Z</dcterms:created>
  <dc:creator>Bodyk</dc:creator>
  <dc:description/>
  <dc:language>en-US</dc:language>
  <cp:lastModifiedBy>Пользователь Windows</cp:lastModifiedBy>
  <cp:lastPrinted>2019-02-24T23:47:19Z</cp:lastPrinted>
  <dcterms:modified xsi:type="dcterms:W3CDTF">2020-04-21T09:23:18Z</dcterms:modified>
  <cp:revision>53</cp:revision>
  <dc:subject/>
  <dc:title>PR (звязки з громадськістю) як функція державного управління</dc:title>
</cp:coreProperties>
</file>