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4D5F-313F-4419-9E75-548560981AB0}"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7680" y="1233360"/>
            <a:ext cx="4440240" cy="3330720"/>
          </a:xfrm>
          <a:prstGeom prst="rect">
            <a:avLst/>
          </a:prstGeom>
          <a:ln w="0">
            <a:noFill/>
          </a:ln>
        </p:spPr>
      </p:sp>
      <p:sp>
        <p:nvSpPr>
          <p:cNvPr id="76"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216A-5F7E-4F69-88B0-5185A484C471}"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7680" y="1233360"/>
            <a:ext cx="4440240" cy="3330720"/>
          </a:xfrm>
          <a:prstGeom prst="rect">
            <a:avLst/>
          </a:prstGeom>
          <a:ln w="0">
            <a:noFill/>
          </a:ln>
        </p:spPr>
      </p:sp>
      <p:sp>
        <p:nvSpPr>
          <p:cNvPr id="79"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6AF9-124A-4E60-AB7E-CA308CC1BF4E}"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80711-CA48-4010-B8A1-EF1EC3E42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A508-D24C-41EA-AEAD-3CDA9F39D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3CAB2-1909-4413-AA7C-F3A41335D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0676A-FDC3-4C22-9F0E-3E2D50E39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71A5-A8CD-485A-A0B0-FFA64F41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E92B4-BFD6-4713-8F6C-20758EA0A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91AC-2DB8-454F-B9C0-E15C4326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4F6E4-FA48-47C5-B306-C924D5C6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1CB8-D1E7-47CC-9875-BE9431B4C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E5D0-AA9D-4132-8AB8-24973D60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11CF-B6CB-416F-BBA1-8F9B5E97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66A3-F0EF-4258-ACB1-9FA9FA627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DB85-F733-494D-BB21-18A161DFDBCD}"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2;&#1110;&#1083;&#1072;&#1096;&#1086;&#1074;&#1089;&#1100;&#1082;&#1072;%20&#1054;$"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3447" TargetMode="External"/><Relationship Id="rId3" Type="http://schemas.openxmlformats.org/officeDocument/2006/relationships/hyperlink" Target="http://nbuv.gov.ua/UJRN/ecpros_2013_74_16"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1841040"/>
            <a:ext cx="8785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115920"/>
            <a:ext cx="8856720" cy="6626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У географії найбільш вживаним є визначення рекреалогії (від лат. </a:t>
            </a:r>
            <a:r>
              <a:rPr b="0" lang="en-US" sz="2800" spc="-1" strike="noStrike">
                <a:solidFill>
                  <a:srgbClr val="000000"/>
                </a:solidFill>
                <a:latin typeface="Calibri"/>
              </a:rPr>
              <a:t>recreo — </a:t>
            </a:r>
            <a:r>
              <a:rPr b="0" lang="ru-RU" sz="2800" spc="-1" strike="noStrike">
                <a:solidFill>
                  <a:srgbClr val="000000"/>
                </a:solidFill>
                <a:latin typeface="Calibri"/>
              </a:rPr>
              <a:t>відновлюю та грец. </a:t>
            </a:r>
            <a:r>
              <a:rPr b="0" lang="en-US" sz="2800" spc="-1" strike="noStrike">
                <a:solidFill>
                  <a:srgbClr val="000000"/>
                </a:solidFill>
                <a:latin typeface="Calibri"/>
              </a:rPr>
              <a:t>logos — </a:t>
            </a:r>
            <a:r>
              <a:rPr b="0" lang="ru-RU" sz="2800" spc="-1" strike="noStrike">
                <a:solidFill>
                  <a:srgbClr val="000000"/>
                </a:solidFill>
                <a:latin typeface="Calibri"/>
              </a:rPr>
              <a:t>вчення) як галузі знань про причини та способи здійснення рекреаційної діяльності як невід’ємної складової життя кожної людини та суспільства, соціально-культурні, економічні, антропоекологічні механізми організації цієї діяльності та її наслідк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 </a:t>
            </a:r>
            <a:r>
              <a:rPr b="0" lang="ru-RU" sz="2800" spc="-1" strike="noStrike">
                <a:solidFill>
                  <a:srgbClr val="000000"/>
                </a:solidFill>
                <a:latin typeface="Calibri"/>
              </a:rPr>
              <a:t>Організація рекреаційної діяльності здійснюється на основі комплексного підходу, тому рекреалогія виступає не як «чиста» наука, а як міждисциплінарна наукова дисципліна, що вивчає процеси і методи відновлення здоров’я людини.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креалогія </a:t>
            </a:r>
            <a:r>
              <a:rPr b="0" lang="ru-RU" sz="2800" spc="-1" strike="noStrike">
                <a:solidFill>
                  <a:srgbClr val="000000"/>
                </a:solidFill>
                <a:latin typeface="Calibri"/>
              </a:rPr>
              <a:t>— це комплексна суспільно-природнича наука про передумови, способи здійснення, наслідки та закономірності процесів відтворення психофізіологічного здоров’я людин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260280"/>
            <a:ext cx="8640720" cy="61214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Об’єктом рекреалогії </a:t>
            </a:r>
            <a:r>
              <a:rPr b="0" lang="ru-RU" sz="2800" spc="-1" strike="noStrike">
                <a:solidFill>
                  <a:srgbClr val="000000"/>
                </a:solidFill>
                <a:latin typeface="Calibri"/>
              </a:rPr>
              <a:t>виступає рекреаційна система як об’єктивне і соціальне утворення, яке охоплює рекреантів, природні комплекси, технічну інфраструктуру, сферу обслуговування, виробничу сферу, трудові ресурси, систему розселе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Предметом рекреалогії </a:t>
            </a:r>
            <a:r>
              <a:rPr b="0" lang="ru-RU" sz="2800" spc="-1" strike="noStrike">
                <a:solidFill>
                  <a:srgbClr val="000000"/>
                </a:solidFill>
                <a:latin typeface="Calibri"/>
              </a:rPr>
              <a:t>є різноманітні аспекти і об’єктивні закономірності становлення, функціонування і перспективного розвитку рекреаційних систем загалом та їх підсистем, зокрема, включаючи основні поняття рекреалогії (відпочинок, рекреація, вільний час, рекреаційна діяльність, рекреаційні ресурси, рекреаційний потенціал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4000" y="331560"/>
            <a:ext cx="8712000" cy="5848200"/>
          </a:xfrm>
          <a:prstGeom prst="rect">
            <a:avLst/>
          </a:prstGeom>
          <a:noFill/>
          <a:ln w="0">
            <a:noFill/>
          </a:ln>
        </p:spPr>
        <p:txBody>
          <a:bodyPr anchor="t">
            <a:normAutofit fontScale="97000"/>
          </a:bodyPr>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і умови </a:t>
            </a:r>
            <a:r>
              <a:rPr b="0" lang="ru-RU" sz="2600" spc="-1" strike="noStrike">
                <a:solidFill>
                  <a:srgbClr val="000000"/>
                </a:solidFill>
                <a:latin typeface="Times New Roman"/>
                <a:ea typeface="Times New Roman"/>
              </a:rPr>
              <a:t>являють собою сукупність компонентів і властивостей природного середовища, які сприяють рекреаційній діяльності (характер ландшафту і кліматичні особливості, наявність мінеральних джерел, біорізноманіття, можливості для занять тими чи іншими видами спорту і т. ін.), але при цьому не є її матеріальною базою.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ий потенціал </a:t>
            </a:r>
            <a:r>
              <a:rPr b="0" lang="ru-RU" sz="2600" spc="-1" strike="noStrike">
                <a:solidFill>
                  <a:srgbClr val="000000"/>
                </a:solidFill>
                <a:latin typeface="Times New Roman"/>
                <a:ea typeface="Times New Roman"/>
              </a:rPr>
              <a:t>— це сукупність природних, культурно-історичних і соціально-економічних передумов організації рекреаційної діяльності на певній території.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ою територією </a:t>
            </a:r>
            <a:r>
              <a:rPr b="0" lang="ru-RU" sz="2600" spc="-1" strike="noStrike">
                <a:solidFill>
                  <a:srgbClr val="000000"/>
                </a:solidFill>
                <a:latin typeface="Times New Roman"/>
                <a:ea typeface="Times New Roman"/>
              </a:rPr>
              <a:t>називається територія, що використовується для оздоровлення людей. При цьому слід розрізняти рекреаційні території для короткочасної (лісопарки, зелені зони міст, водні об’єкти тощо) і тривалої (приморські райони, лікувально-санаторні комплекси і т. п.) рекреаційної діяльності.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08000" y="331920"/>
            <a:ext cx="8928000" cy="6194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а ємність </a:t>
            </a:r>
            <a:r>
              <a:rPr b="0" lang="ru-RU" sz="2800" spc="-1" strike="noStrike">
                <a:solidFill>
                  <a:srgbClr val="000000"/>
                </a:solidFill>
                <a:latin typeface="Times New Roman"/>
                <a:ea typeface="Times New Roman"/>
              </a:rPr>
              <a:t>— здатність території забезпечувати для певного числа відпочиваючих психофізіологічний комфорт і можливість спортивно-оздоровчої діяльності без деградації природно-територіального чи антропокультурного комплексу і швидкого зношування соціального обладна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ий об’єкт </a:t>
            </a:r>
            <a:r>
              <a:rPr b="0" lang="ru-RU" sz="2800" spc="-1" strike="noStrike">
                <a:solidFill>
                  <a:srgbClr val="000000"/>
                </a:solidFill>
                <a:latin typeface="Times New Roman"/>
                <a:ea typeface="Times New Roman"/>
              </a:rPr>
              <a:t>— місце з обмеженою площею, що використовується для відпочинку (лісова галявина, пам’ятка природи, пляж тощо).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е навантаження </a:t>
            </a:r>
            <a:r>
              <a:rPr b="0" lang="ru-RU" sz="2800" spc="-1" strike="noStrike">
                <a:solidFill>
                  <a:srgbClr val="000000"/>
                </a:solidFill>
                <a:latin typeface="Times New Roman"/>
                <a:ea typeface="Times New Roman"/>
              </a:rPr>
              <a:t>— це сукупність безпосередніх впливів людини на природно-територіальний комплекс, насамперед на рослинний покрив (витоптування, ущільнення ґрунту, знищення фітомас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560" y="836640"/>
            <a:ext cx="8569080" cy="5472000"/>
          </a:xfrm>
          <a:prstGeom prst="rect">
            <a:avLst/>
          </a:prstGeom>
          <a:noFill/>
          <a:ln w="0">
            <a:noFill/>
          </a:ln>
        </p:spPr>
        <p:txBody>
          <a:bodyPr anchor="t">
            <a:normAutofit/>
          </a:bodyPr>
          <a:p>
            <a:pPr marL="171360" algn="ctr">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4800" spc="-1" strike="noStrike">
                <a:solidFill>
                  <a:srgbClr val="874988"/>
                </a:solidFill>
                <a:latin typeface="Trebuchet MS"/>
                <a:ea typeface="Times New Roman"/>
              </a:rPr>
              <a:t>2. Основні завдання рекреаційних досліджень в Україні </a:t>
            </a:r>
            <a:endParaRPr b="0" lang="en-US" sz="4800" spc="-1" strike="noStrike">
              <a:solidFill>
                <a:srgbClr val="000000"/>
              </a:solidFill>
              <a:latin typeface="Calibri"/>
            </a:endParaRPr>
          </a:p>
          <a:p>
            <a:pPr marL="171360" algn="ctr">
              <a:lnSpc>
                <a:spcPct val="90000"/>
              </a:lnSpc>
              <a:spcBef>
                <a:spcPts val="751"/>
              </a:spcBef>
              <a:buClr>
                <a:srgbClr val="874988"/>
              </a:buClr>
              <a:buFont typeface="Calibri Light"/>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4"/>
          <p:cNvSpPr/>
          <p:nvPr/>
        </p:nvSpPr>
        <p:spPr>
          <a:xfrm>
            <a:off x="108000" y="115920"/>
            <a:ext cx="9144000" cy="582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ими завданнями рекреаційних досліджень в Україні є:</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цінка рекреаційних ресурсів та ефективності їх використання;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значення рекреаційної ємності території і максимально допустимих рекреаційних навантажень;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креаційне районування території 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гнозування розвитку та оптимізація функціонування туристсько-рекреаційного господарства У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озробка і впровадження комплексу заходів, спрямованих на збільшення територіального рекреаційного потенціалу;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вчення внутрішнього і зовнішнього попиту на рекреаційні послуги. Вивчення рекреаційних систем і первинне накопичення фактичного матеріалу було започатковане саме географією. При цьому становлення рекреаційної географії як самостійної наукової дисципліни відбувалося на базі фізичної, економічної, медичної географії та географії населення.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549000"/>
            <a:ext cx="826920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Безпосередньо рекреалогія обумовила виникнення нової галузі господарства — курортології. </a:t>
            </a:r>
            <a:endParaRPr b="0" lang="en-US" sz="28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Курортологія визначається як медична навчальна дисципліна, що вивчає лікувальні властивості природних фізичних факторів, характер їх дії на організм людини, можливості їх застосування з лікувальною і профілактичною метою на курортах і поза їх межами. Вона розробляє методики та рекомендації щодо раціонального використання цілющих факторів навколишнього середовища з лікувальною і оздоровчою мето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33240" y="692280"/>
            <a:ext cx="7886880" cy="5487840"/>
          </a:xfrm>
          <a:prstGeom prst="rect">
            <a:avLst/>
          </a:prstGeom>
          <a:noFill/>
          <a:ln w="0">
            <a:noFill/>
          </a:ln>
        </p:spPr>
        <p:txBody>
          <a:bodyPr anchor="t">
            <a:normAutofit/>
          </a:bodyPr>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3. Загальні функції рекреаційної діяльності </a:t>
            </a:r>
            <a:endParaRPr b="0" lang="en-US" sz="5400" spc="-1" strike="noStrike">
              <a:solidFill>
                <a:srgbClr val="000000"/>
              </a:solidFill>
              <a:latin typeface="Calibri"/>
            </a:endParaRPr>
          </a:p>
          <a:p>
            <a:pPr marL="171360">
              <a:lnSpc>
                <a:spcPct val="90000"/>
              </a:lnSpc>
              <a:spcBef>
                <a:spcPts val="751"/>
              </a:spcBef>
              <a:buClr>
                <a:srgbClr val="874988"/>
              </a:buClr>
              <a:buFont typeface="Wingdings 2" charset="2"/>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0"/>
            <a:ext cx="9036000" cy="6742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Суспільні функції рекреаційної діяльності визначаються тими завданнями, які вона виконує в житті суспільства: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формування всебічно розвиненої особистост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відновлення і розвиток фізичних і психічних сил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розвиток господарської структури регіон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ільшення зайнятості населення;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абезпечення грошових надходжень у бюджет;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лиження народ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Таке широке коло завдань не дозволяє однозначно сформулювати суспільні функції рекреації.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У найбільш загальному вигляді вони можуть бути віднесені до трьох великих груп: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медико-біолог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соціокультур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економ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Окремі дослідники виділяють політичну функцію рекреації. Кожна з цих груп пов’язана з певною сферою людської діяльності, хоча між ними відсутні чіткі межі внаслідок взаємопов’язаності суспільних потре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79280" y="404640"/>
            <a:ext cx="8785440" cy="6121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Медико-біологічні функції </a:t>
            </a:r>
            <a:r>
              <a:rPr b="0" lang="ru-RU" sz="2200" spc="-1" strike="noStrike">
                <a:solidFill>
                  <a:srgbClr val="000000"/>
                </a:solidFill>
                <a:latin typeface="Times New Roman"/>
                <a:ea typeface="Times New Roman"/>
              </a:rPr>
              <a:t>рекреації реалізовуються через санаторно- курортне лікування та оздоровлення і мають розглядатися в аспектах лікування (відновлення здоров’я людини після перенесеного захворювання) і оздоровлення (зняття виробничої і невиробничої психофізіологічної втоми).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При активній рекреаційній діяльності відновлювальні процеси відбуваються швидше, ніж при пасивній.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медико-біологічних функцій рекреації передбачає такі аспекти організації рекреаційної діяльності: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широкий розвиток активних видів відпочинку, пов’язаних насамперед з м’язовими навантаженнями;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урізноманітнення діяльності як необхідна умова ефективності заходів, спрямованих на відновлення здоров’я.</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особливостей усіх вікових і соціально-професійних груп, що забезпечить свободу вибору занять відповідно до індивіду альних психофізіологічних можливостей, пріоритетів та інтересів рекреанті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395280" y="1776240"/>
            <a:ext cx="8569440" cy="2957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1: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Сутність та мета дисципліни  «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6200" y="692280"/>
            <a:ext cx="8053560" cy="54878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500" spc="-1" strike="noStrike">
                <a:solidFill>
                  <a:srgbClr val="000000"/>
                </a:solidFill>
                <a:latin typeface="Times New Roman"/>
                <a:ea typeface="Times New Roman"/>
              </a:rPr>
              <a:t>В основу культурних і духовних потреб полягає потреба в пізнанні. Рекреація має величезні можливості для їх задоволення, що сприяє гармонійному розвитку особистості. Це шлях реалізації </a:t>
            </a:r>
            <a:r>
              <a:rPr b="0" lang="ru-RU" sz="2500" spc="-1" strike="noStrike">
                <a:solidFill>
                  <a:srgbClr val="000000"/>
                </a:solidFill>
                <a:latin typeface="Times New Roman"/>
                <a:ea typeface="Times New Roman"/>
              </a:rPr>
              <a:t>соціокультурних функцій рекреації</a:t>
            </a:r>
            <a:r>
              <a:rPr b="0" lang="ru-RU" sz="2500" spc="-1" strike="noStrike">
                <a:solidFill>
                  <a:srgbClr val="000000"/>
                </a:solidFill>
                <a:latin typeface="Times New Roman"/>
                <a:ea typeface="Times New Roman"/>
              </a:rPr>
              <a:t>. На сьогодні спостерігається поєднання пізнавальних і розважальних функції рекреації, що доповнюють одна одну. Прикладом такого поєднання є функціонування спеціалізованих культурно-розважальних центрів: Лас-Вегас, Сан-Сіті, Монте-Карло, Дісней- та Євроленд і т. ін</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24000" y="404280"/>
            <a:ext cx="864072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Основними </a:t>
            </a:r>
            <a:r>
              <a:rPr b="0" lang="ru-RU" sz="2800" spc="-1" strike="noStrike">
                <a:solidFill>
                  <a:srgbClr val="000000"/>
                </a:solidFill>
                <a:latin typeface="Times New Roman"/>
                <a:ea typeface="Times New Roman"/>
              </a:rPr>
              <a:t>економічними функціями рекреації </a:t>
            </a:r>
            <a:r>
              <a:rPr b="0" lang="ru-RU" sz="2800" spc="-1" strike="noStrike">
                <a:solidFill>
                  <a:srgbClr val="000000"/>
                </a:solidFill>
                <a:latin typeface="Times New Roman"/>
                <a:ea typeface="Times New Roman"/>
              </a:rPr>
              <a:t>є просте і розширене відтворення робочої сили; формування  сфери послуг і зв’язків з іншими галузями господарства; розвиток окремих  територій і розширення зайнятості населення; збільшення валютних надходжень до бюджету.</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Зі зміною структури рекреаційної діяльності відбувається трансформація її функцій,  серед  яких  зокрема, зростає роль економічної. Завдяки рекреації підвищується здатність людей до праці, збільшується тривалість періоду збереження повноцінної працездатності, що веде до збільшення фонду робочого часу внаслідок скорочення захворюваності, підвищення життєвого тонус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8D8EBC4B-A765-4B45-86A9-2418C6BCC5EB}"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4"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2" name=""/>
          <p:cNvSpPr txBox="1"/>
          <p:nvPr/>
        </p:nvSpPr>
        <p:spPr>
          <a:xfrm>
            <a:off x="179280" y="1197000"/>
            <a:ext cx="8785440" cy="5400720"/>
          </a:xfrm>
          <a:prstGeom prst="rect">
            <a:avLst/>
          </a:prstGeom>
          <a:noFill/>
          <a:ln w="0">
            <a:noFill/>
          </a:ln>
        </p:spPr>
        <p:txBody>
          <a:bodyPr anchor="t">
            <a:normAutofit/>
          </a:bodyPr>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Основи рекреалогії (економіко-екологічний та маркетинговий аспект) [текст] : навч. посіб. / І. О. Гродзинська, С. Г. Нездоймінов, О. В. Гусєва, А. В. Замкова. – К. : «Центр учбової літератури», 2014. – 264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Стафійчук В. І. Рекреалогія: навчальний посібник / Стафійчук В. І. – Херсон: ОЛДІ ПЛЮС, 2017. – 428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u="sng">
                <a:solidFill>
                  <a:srgbClr val="0563c1"/>
                </a:solidFill>
                <a:uFillTx/>
                <a:latin typeface="Arial"/>
                <a:ea typeface="Arial"/>
                <a:hlinkClick r:id="rId1"/>
              </a:rPr>
              <a:t>Мілашовська О. І.</a:t>
            </a:r>
            <a:r>
              <a:rPr b="0" lang="ru-RU" sz="2100" spc="-1" strike="noStrike">
                <a:solidFill>
                  <a:srgbClr val="000000"/>
                </a:solidFill>
                <a:latin typeface="Arial"/>
                <a:ea typeface="Arial"/>
              </a:rPr>
              <a:t> Характеристика стану та тенденцій розвитку сфери рекреації та туризму в Україні [Електронний ресурс] / О. І. Мілашовська, О. О. Маслиган // </a:t>
            </a:r>
            <a:r>
              <a:rPr b="0" lang="ru-RU" sz="2100" spc="-1" strike="noStrike" u="sng">
                <a:solidFill>
                  <a:srgbClr val="0563c1"/>
                </a:solidFill>
                <a:uFillTx/>
                <a:latin typeface="Arial"/>
                <a:ea typeface="Arial"/>
                <a:hlinkClick r:id="rId2"/>
              </a:rPr>
              <a:t>Економічний простір</a:t>
            </a:r>
            <a:r>
              <a:rPr b="0" lang="ru-RU" sz="2100" spc="-1" strike="noStrike">
                <a:solidFill>
                  <a:srgbClr val="000000"/>
                </a:solidFill>
                <a:latin typeface="Arial"/>
                <a:ea typeface="Arial"/>
              </a:rPr>
              <a:t>. - 2013. - № 74. - С. 131-141. - Режим доступу: </a:t>
            </a:r>
            <a:r>
              <a:rPr b="0" lang="ru-RU" sz="2100" spc="-1" strike="noStrike" u="sng">
                <a:solidFill>
                  <a:srgbClr val="0563c1"/>
                </a:solidFill>
                <a:uFillTx/>
                <a:latin typeface="Arial"/>
                <a:ea typeface="Arial"/>
                <a:hlinkClick r:id="rId3"/>
              </a:rPr>
              <a:t>http://nbuv.gov.ua/UJRN/ecpros_2013_74_16</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Устименко Л. М. Культурно-рекреаційні потреби в контексті розвитку туризму [Електронний ресурс] / Л. М. Устименко, Н. В. Булгакова // Вісник Національної академії керівних кадрів культури і мистецтв. - 2019. - № 2. - С. 226-229. - Режим доступу: http://nbuv.gov.ua/UJRN/vdakkkm_2019_2_50</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4000" spc="-1" strike="noStrike">
                <a:solidFill>
                  <a:srgbClr val="000000"/>
                </a:solidFill>
                <a:latin typeface="Times New Roman"/>
                <a:ea typeface="Times New Roman"/>
              </a:rPr>
              <a:t>ПЛАН</a:t>
            </a:r>
            <a:endParaRPr b="0" lang="en-US" sz="40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Мета та завдання дисципліни. Характеристика передумов розвитку рекреалогії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Основні завдання рекреаційних досліджень в Україні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Загальні функції рекреаційної діяльності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4000" y="476280"/>
            <a:ext cx="7886520" cy="4479840"/>
          </a:xfrm>
          <a:prstGeom prst="rect">
            <a:avLst/>
          </a:prstGeom>
          <a:noFill/>
          <a:ln w="0">
            <a:noFill/>
          </a:ln>
        </p:spPr>
        <p:txBody>
          <a:bodyPr anchor="t">
            <a:normAutofit/>
          </a:bodyPr>
          <a:p>
            <a:pPr marL="685800" indent="-514440" algn="ctr">
              <a:lnSpc>
                <a:spcPct val="100000"/>
              </a:lnSpc>
              <a:spcBef>
                <a:spcPts val="751"/>
              </a:spcBef>
              <a:buClr>
                <a:srgbClr val="874988"/>
              </a:buClr>
              <a:buFont typeface="Times New Roman"/>
              <a:buAutoNum type="arabicPeriod"/>
              <a:tabLst>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5400" spc="-1" strike="noStrike">
                <a:solidFill>
                  <a:srgbClr val="874988"/>
                </a:solidFill>
                <a:latin typeface="Times New Roman"/>
              </a:rPr>
              <a:t> </a:t>
            </a:r>
            <a:r>
              <a:rPr b="0" lang="ru-RU" sz="5400" spc="-1" strike="noStrike">
                <a:solidFill>
                  <a:srgbClr val="874988"/>
                </a:solidFill>
                <a:latin typeface="Calibri"/>
              </a:rPr>
              <a:t>Мета та завдання дисципліни.</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Характеристика передумов розвитку рекреалогії </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a:p>
            <a:pPr marL="685800" indent="-514440" algn="ctr">
              <a:lnSpc>
                <a:spcPct val="9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108000" y="259920"/>
            <a:ext cx="8856720" cy="626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ередумовами зародження рекреалогії виступили трансформаційні процеси, що відбуваються в останні десятиліття в сфері науки та економіки, і насамперед посилення уваги до вдосконалювання методології дослідження складних гетерогенних утворів, екології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еред об’єктивних факторів, що впливають на формування рекреалогії, слід назват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встановлену тривалість вільного часу та різноманітність форм і методів його використа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суспільством значимості рекреаційної діяльності в розвитку особистості, збереженні й поліпшенні здоров’я та підвищення соціально-трудового потенціалу населе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озуміння необхідності наукового осмислення феномену «рекреаційної діяльності» як сукупності безлічі нових для суспільства процес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актуальності створення наукової бази для подальшого розвитку рекреаційної культури і організації рекреаційної діяльності;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ізні проблеми, вирішення яких необхідно для виявлення закономірностей рекреаційної діяльності та підвищення ефективності її організації.</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3" descr=""/>
          <p:cNvPicPr/>
          <p:nvPr/>
        </p:nvPicPr>
        <p:blipFill>
          <a:blip r:embed="rId1"/>
          <a:stretch/>
        </p:blipFill>
        <p:spPr>
          <a:xfrm>
            <a:off x="250920" y="620640"/>
            <a:ext cx="8691480" cy="526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360"/>
            <a:ext cx="8713800" cy="6180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я</a:t>
            </a:r>
            <a:r>
              <a:rPr b="0" lang="ru-RU" sz="2100" spc="-1" strike="noStrike">
                <a:solidFill>
                  <a:srgbClr val="000000"/>
                </a:solidFill>
                <a:latin typeface="Calibri"/>
              </a:rPr>
              <a:t> – це всі форми дозвілля людини, що проводяться в закритих приміщеннях і просто неба, у природному й урбанізованому середовищах.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йний ефект </a:t>
            </a:r>
            <a:r>
              <a:rPr b="0" lang="ru-RU" sz="2100" spc="-1" strike="noStrike">
                <a:solidFill>
                  <a:srgbClr val="000000"/>
                </a:solidFill>
                <a:latin typeface="Calibri"/>
              </a:rPr>
              <a:t>– виявляється в тому, що людина відчуває бадьорість і задоволення від відпочинку, оскільки організм досяг необхідного рівня енергообміну із середовищем унаслідок фізіологічного й психологічного оздоровлення, досягнення душевної рівноваги.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Людина, котра переживає рекреаційний ефект, перебуває в стані психофізіологічного комфорту, у неї з’являється відчуття збалансованості емоційних і соціокультурних самооцінок, вона готова до нових навантажень.</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Сприятливі емоції й висока самооцінка засновані не тільки на внутрішніх відчуттях, а й на розумінні людиною важливості суспільних стандартів праці та відпочинку.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Безперечно, рекреація – це збірне поняття, яке охоплює широке коло проблем, переважно пов’язаних із санітарно-курортним лікуванням і з усіма видами активного оздоровчого відпочинку: заняття фізичною культурою, туризмом, екскурсіями тощо</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95280" y="260280"/>
            <a:ext cx="8424720" cy="5919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опонується розмежовувати широке і вузьке трактування рекреалогії.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Так, у широкому розумінні це система суспільно-природничих наук, яка вивчає відтворення здоров’я людей шляхом відновлення їх сутнісних сил; умови, причини, особливості, механізми і рушійні сили процесу відновлення на різних етапах; закони і закономірності функціонування і розвитку рекреаційних систем, їх зв’язки з іншими сферами суспільного життя і виробництва.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У вузькому розумінні </a:t>
            </a:r>
            <a:r>
              <a:rPr b="0" lang="ru-RU" sz="2400" spc="-1" strike="noStrike">
                <a:solidFill>
                  <a:srgbClr val="000000"/>
                </a:solidFill>
                <a:latin typeface="Calibri"/>
              </a:rPr>
              <a:t>рекреалогія</a:t>
            </a:r>
            <a:r>
              <a:rPr b="0" lang="ru-RU" sz="2400" spc="-1" strike="noStrike">
                <a:solidFill>
                  <a:srgbClr val="000000"/>
                </a:solidFill>
                <a:latin typeface="Calibri"/>
              </a:rPr>
              <a:t> є теоретичною дисципліною, що вивчає закони і закономірності функціонування і розвитку сфери відтворення здоров’я, механізми, які є основою соціальної політики і стратегії вдосконалення суспільної практики формування і відтворення здоров’я людини, та їх прояви і взаємоді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0-08-31T16:22:39Z</dcterms:modified>
  <cp:revision>427</cp:revision>
  <dc:subject/>
  <dc:title>Презентация PowerPoint</dc:title>
</cp:coreProperties>
</file>