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 name="PlaceHolder 1"/>
          <p:cNvSpPr>
            <a:spLocks noGrp="1"/>
          </p:cNvSpPr>
          <p:nvPr>
            <p:ph type="hdr"/>
          </p:nvPr>
        </p:nvSpPr>
        <p:spPr>
          <a:xfrm>
            <a:off x="-360" y="0"/>
            <a:ext cx="29192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 name="PlaceHolder 2"/>
          <p:cNvSpPr>
            <a:spLocks noGrp="1"/>
          </p:cNvSpPr>
          <p:nvPr>
            <p:ph type="dt" idx="4"/>
          </p:nvPr>
        </p:nvSpPr>
        <p:spPr>
          <a:xfrm>
            <a:off x="3814560" y="0"/>
            <a:ext cx="29192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lt;date/time&gt;</a:t>
            </a:r>
            <a:endParaRPr b="0" lang="en-US" sz="1200" spc="-1" strike="noStrike">
              <a:solidFill>
                <a:srgbClr val="000000"/>
              </a:solidFill>
              <a:latin typeface="Trebuchet MS"/>
            </a:endParaRPr>
          </a:p>
        </p:txBody>
      </p:sp>
      <p:sp>
        <p:nvSpPr>
          <p:cNvPr id="44" name="PlaceHolder 3"/>
          <p:cNvSpPr>
            <a:spLocks noGrp="1"/>
          </p:cNvSpPr>
          <p:nvPr>
            <p:ph type="sldImg"/>
          </p:nvPr>
        </p:nvSpPr>
        <p:spPr>
          <a:xfrm>
            <a:off x="1147680" y="1233360"/>
            <a:ext cx="4440240" cy="333072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72840" y="4749480"/>
            <a:ext cx="5389560" cy="388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4040"/>
            <a:ext cx="291924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7" name="PlaceHolder 6"/>
          <p:cNvSpPr>
            <a:spLocks noGrp="1"/>
          </p:cNvSpPr>
          <p:nvPr>
            <p:ph type="sldNum" idx="6"/>
          </p:nvPr>
        </p:nvSpPr>
        <p:spPr>
          <a:xfrm>
            <a:off x="3814560" y="9374040"/>
            <a:ext cx="29192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72165-21D4-40AB-93C6-4BDD9C2D5F15}" type="slidenum">
              <a:rPr b="0" lang="uk-UA"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7680" y="1233360"/>
            <a:ext cx="4440240" cy="3330720"/>
          </a:xfrm>
          <a:prstGeom prst="rect">
            <a:avLst/>
          </a:prstGeom>
          <a:ln w="0">
            <a:noFill/>
          </a:ln>
        </p:spPr>
      </p:sp>
      <p:sp>
        <p:nvSpPr>
          <p:cNvPr id="80" name="PlaceHolder 2"/>
          <p:cNvSpPr>
            <a:spLocks noGrp="1"/>
          </p:cNvSpPr>
          <p:nvPr>
            <p:ph type="body"/>
          </p:nvPr>
        </p:nvSpPr>
        <p:spPr>
          <a:xfrm>
            <a:off x="672840" y="4749480"/>
            <a:ext cx="5389560" cy="388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Номер слайда 3"/>
          <p:cNvSpPr/>
          <p:nvPr/>
        </p:nvSpPr>
        <p:spPr>
          <a:xfrm>
            <a:off x="3814920" y="9374040"/>
            <a:ext cx="2919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08A9-9B5D-4C9B-80BE-3D7F18811B4D}" type="slidenum">
              <a:rPr b="0" lang="uk-UA"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7680" y="1233360"/>
            <a:ext cx="4440240" cy="3330720"/>
          </a:xfrm>
          <a:prstGeom prst="rect">
            <a:avLst/>
          </a:prstGeom>
          <a:ln w="0">
            <a:noFill/>
          </a:ln>
        </p:spPr>
      </p:sp>
      <p:sp>
        <p:nvSpPr>
          <p:cNvPr id="83" name="PlaceHolder 2"/>
          <p:cNvSpPr>
            <a:spLocks noGrp="1"/>
          </p:cNvSpPr>
          <p:nvPr>
            <p:ph type="body"/>
          </p:nvPr>
        </p:nvSpPr>
        <p:spPr>
          <a:xfrm>
            <a:off x="672840" y="4749480"/>
            <a:ext cx="5389560" cy="388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Номер слайда 3"/>
          <p:cNvSpPr/>
          <p:nvPr/>
        </p:nvSpPr>
        <p:spPr>
          <a:xfrm>
            <a:off x="3814920" y="9374040"/>
            <a:ext cx="2919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7ABE-5372-4716-875A-83AAA8CB3EB0}" type="slidenum">
              <a:rPr b="0" lang="uk-UA"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70F07-B0D8-4EFF-9AAB-FB9FF104F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33240" y="18284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33240" y="410148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99B56-C894-4A45-8905-FFF7B13C5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3324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496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3324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496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601D3-2CAA-4CD5-97AB-D48D43358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33240" y="18284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300120" y="18284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7000" y="18284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33240" y="410148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300120" y="410148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7000" y="410148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07150-9673-43C1-AF10-5A3F0E4D6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33240" y="182844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78ACB-5E83-4F05-87D4-56170688B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33240" y="182844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492F0-D8A0-46CC-8E43-902BFF4FA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3324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496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26AFF-440D-4913-82DC-6656BB673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E1425-A972-48F7-AA70-00789B09B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324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63AB7-5FC0-49D3-8206-056412B42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3324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496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3324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ECB12-8B8A-47A4-B7A4-4AB78BE1F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3324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496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496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FDFCB-EAA6-4301-BAEE-51E1620D1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3324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496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33240" y="410148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E8C95-C1F4-4604-87BB-6C1311D7C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2"/>
            </a:gs>
            <a:gs pos="100000">
              <a:srgbClr val="00b0f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800" spc="-1" strike="noStrike">
                <a:solidFill>
                  <a:srgbClr val="595959"/>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595959"/>
                </a:solidFill>
                <a:latin typeface="Trebuchet MS"/>
              </a:rPr>
              <a:t>&lt;date/time&gt;</a:t>
            </a:r>
            <a:endParaRPr b="0" lang="en-US" sz="800" spc="-1" strike="noStrike">
              <a:solidFill>
                <a:srgbClr val="000000"/>
              </a:solidFill>
              <a:latin typeface="Trebuchet MS"/>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800" spc="-1" strike="noStrike">
                <a:solidFill>
                  <a:srgbClr val="898989"/>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EBFCD-2C50-46D3-ACBB-E78094BA8081}" type="slidenum">
              <a:rPr b="0" lang="uk-UA" sz="800" spc="-1" strike="noStrike">
                <a:solidFill>
                  <a:srgbClr val="898989"/>
                </a:solidFill>
                <a:latin typeface="Trebuchet MS"/>
              </a:rPr>
              <a:t>&lt;number&gt;</a:t>
            </a:fld>
            <a:endParaRPr b="0" lang="en-US" sz="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rbis-nbuv.gov.ua/cgi-bin/irbis_nbuv/cgiirbis_64.exe?Z21ID=&amp;I21DBN=UJRN&amp;P21DBN=UJRN&amp;S21STN=1&amp;S21REF=10&amp;S21FMT=fullwebr&amp;C21COM=S&amp;S21CNR=20&amp;S21P01=0&amp;S21P02=0&amp;S21P03=A=&amp;S21COLORTERMS=1&amp;S21STR=&#1052;&#1110;&#1083;&#1072;&#1096;&#1086;&#1074;&#1089;&#1100;&#1082;&#1072;%20&#1054;$" TargetMode="External"/><Relationship Id="rId2" Type="http://schemas.openxmlformats.org/officeDocument/2006/relationships/hyperlink" Target="http://www.irbis-nbuv.gov.ua/cgi-bin/irbis_nbuv/cgiirbis_64.exe?Z21ID=&amp;I21DBN=UJRN&amp;P21DBN=UJRN&amp;S21STN=1&amp;S21REF=10&amp;S21FMT=JUU_all&amp;C21COM=S&amp;S21CNR=20&amp;S21P01=0&amp;S21P02=0&amp;S21P03=IJ=&amp;S21COLORTERMS=1&amp;S21STR=&#1046;73447" TargetMode="External"/><Relationship Id="rId3" Type="http://schemas.openxmlformats.org/officeDocument/2006/relationships/hyperlink" Target="http://nbuv.gov.ua/UJRN/ecpros_2013_74_16"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74600" y="2874600"/>
            <a:ext cx="878508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Дисципліна:</a:t>
            </a:r>
            <a:endParaRPr b="0" lang="en-US" sz="4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a:t>
            </a:r>
            <a:r>
              <a:rPr b="0" lang="ru-RU" sz="4800" spc="-1" strike="noStrike">
                <a:solidFill>
                  <a:srgbClr val="000000"/>
                </a:solidFill>
                <a:latin typeface="Trebuchet MS"/>
              </a:rPr>
              <a:t>РЕКРЕАЛОГІЯ</a:t>
            </a:r>
            <a:r>
              <a:rPr b="1" lang="uk-UA" sz="4800" spc="-1" strike="noStrike">
                <a:solidFill>
                  <a:srgbClr val="000000"/>
                </a:solidFill>
                <a:latin typeface="Times New Roman"/>
                <a:ea typeface="Times New Roman"/>
              </a:rPr>
              <a:t>»</a:t>
            </a:r>
            <a:endParaRPr b="0" lang="en-US" sz="4800" spc="-1" strike="noStrike">
              <a:solidFill>
                <a:srgbClr val="000000"/>
              </a:solidFill>
              <a:latin typeface="Trebuchet MS"/>
            </a:endParaRPr>
          </a:p>
        </p:txBody>
      </p:sp>
      <p:sp>
        <p:nvSpPr>
          <p:cNvPr id="49" name="Rectangle 3"/>
          <p:cNvSpPr/>
          <p:nvPr/>
        </p:nvSpPr>
        <p:spPr>
          <a:xfrm>
            <a:off x="209520" y="4776840"/>
            <a:ext cx="89647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Викладач: д.е.н., доцент кафедри менеджменту зовнішньоекономічної діяльності, готельно-ресторанної справи та туризму </a:t>
            </a:r>
            <a:endParaRPr b="0" lang="en-US" sz="2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Головня Олена Михайлівна</a:t>
            </a:r>
            <a:endParaRPr b="0" lang="en-US" sz="2800" spc="-1" strike="noStrike">
              <a:solidFill>
                <a:srgbClr val="000000"/>
              </a:solidFill>
              <a:latin typeface="Trebuchet MS"/>
            </a:endParaRPr>
          </a:p>
        </p:txBody>
      </p:sp>
      <p:pic>
        <p:nvPicPr>
          <p:cNvPr id="50" name="Picture 5" descr="https://summitcoveimages.nyc3.digitaloceanspaces.com/wp-content/uploads/2010/03/25125214/Summer.jpg"/>
          <p:cNvPicPr/>
          <p:nvPr/>
        </p:nvPicPr>
        <p:blipFill>
          <a:blip r:embed="rId1"/>
          <a:stretch/>
        </p:blipFill>
        <p:spPr>
          <a:xfrm>
            <a:off x="431640" y="23760"/>
            <a:ext cx="8520120" cy="287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8920" y="-360"/>
            <a:ext cx="8713800" cy="618012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Рекреація</a:t>
            </a:r>
            <a:r>
              <a:rPr b="0" lang="ru-RU" sz="2100" spc="-1" strike="noStrike">
                <a:solidFill>
                  <a:srgbClr val="000000"/>
                </a:solidFill>
                <a:latin typeface="Calibri"/>
              </a:rPr>
              <a:t> – це всі форми дозвілля людини, що проводяться в закритих приміщеннях і просто неба, у природному й урбанізованому середовищах.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Рекреаційний ефект </a:t>
            </a:r>
            <a:r>
              <a:rPr b="0" lang="ru-RU" sz="2100" spc="-1" strike="noStrike">
                <a:solidFill>
                  <a:srgbClr val="000000"/>
                </a:solidFill>
                <a:latin typeface="Calibri"/>
              </a:rPr>
              <a:t>– виявляється в тому, що людина відчуває бадьорість і задоволення від відпочинку, оскільки організм досяг необхідного рівня енергообміну із середовищем унаслідок фізіологічного й психологічного оздоровлення, досягнення душевної рівноваги.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Людина, котра переживає рекреаційний ефект, перебуває в стані психофізіологічного комфорту, у неї з’являється відчуття збалансованості емоційних і соціокультурних самооцінок, вона готова до нових навантажень.</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Сприятливі емоції й висока самооцінка засновані не тільки на внутрішніх відчуттях, а й на розумінні людиною важливості суспільних стандартів праці та відпочинку.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Безперечно, рекреація – це збірне поняття, яке охоплює широке коло проблем, переважно пов’язаних із санітарно-курортним лікуванням і з усіма видами активного оздоровчого відпочинку: заняття фізичною культурою, туризмом, екскурсіями тощо</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95280" y="260280"/>
            <a:ext cx="8424720" cy="591984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Пропонується розмежовувати широке і вузьке трактування </a:t>
            </a:r>
            <a:r>
              <a:rPr b="0" lang="ru-RU" sz="2400" spc="-1" strike="noStrike" u="sng">
                <a:solidFill>
                  <a:srgbClr val="ff0000"/>
                </a:solidFill>
                <a:uFillTx/>
                <a:latin typeface="Calibri"/>
              </a:rPr>
              <a:t>рекреалогії. </a:t>
            </a:r>
            <a:endParaRPr b="0" lang="en-US" sz="24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Так, у широкому розумінні це система суспільно-природничих наук, яка вивчає відтворення здоров’я людей шляхом відновлення їх сутнісних сил; умови, причини, особливості, механізми і рушійні сили процесу відновлення на різних етапах; закони і закономірності функціонування і розвитку рекреаційних систем, їх зв’язки з іншими сферами суспільного життя і виробництва. </a:t>
            </a:r>
            <a:endParaRPr b="0" lang="en-US" sz="24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У вузькому розумінні </a:t>
            </a:r>
            <a:r>
              <a:rPr b="0" lang="ru-RU" sz="2400" spc="-1" strike="noStrike">
                <a:solidFill>
                  <a:srgbClr val="000000"/>
                </a:solidFill>
                <a:latin typeface="Calibri"/>
              </a:rPr>
              <a:t>рекреалогія</a:t>
            </a:r>
            <a:r>
              <a:rPr b="0" lang="ru-RU" sz="2400" spc="-1" strike="noStrike">
                <a:solidFill>
                  <a:srgbClr val="000000"/>
                </a:solidFill>
                <a:latin typeface="Calibri"/>
              </a:rPr>
              <a:t> є теоретичною дисципліною, що вивчає закони і закономірності функціонування і розвитку сфери відтворення здоров’я, механізми, які є основою соціальної політики і стратегії вдосконалення суспільної практики формування і відтворення здоров’я людини, та їх прояви і взаємодію.</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179280" y="115920"/>
            <a:ext cx="8856720" cy="662616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У географії найбільш вживаним є визначення рекреалогії (від лат. </a:t>
            </a:r>
            <a:r>
              <a:rPr b="0" lang="en-US" sz="2800" spc="-1" strike="noStrike">
                <a:solidFill>
                  <a:srgbClr val="000000"/>
                </a:solidFill>
                <a:latin typeface="Calibri"/>
              </a:rPr>
              <a:t>recreo — </a:t>
            </a:r>
            <a:r>
              <a:rPr b="0" lang="ru-RU" sz="2800" spc="-1" strike="noStrike">
                <a:solidFill>
                  <a:srgbClr val="000000"/>
                </a:solidFill>
                <a:latin typeface="Calibri"/>
              </a:rPr>
              <a:t>відновлюю та грец. </a:t>
            </a:r>
            <a:r>
              <a:rPr b="0" lang="en-US" sz="2800" spc="-1" strike="noStrike">
                <a:solidFill>
                  <a:srgbClr val="000000"/>
                </a:solidFill>
                <a:latin typeface="Calibri"/>
              </a:rPr>
              <a:t>logos — </a:t>
            </a:r>
            <a:r>
              <a:rPr b="0" lang="ru-RU" sz="2800" spc="-1" strike="noStrike">
                <a:solidFill>
                  <a:srgbClr val="000000"/>
                </a:solidFill>
                <a:latin typeface="Calibri"/>
              </a:rPr>
              <a:t>вчення) як галузі знань про причини та способи здійснення рекреаційної діяльності як невід’ємної складової життя кожної людини та суспільства, соціально-культурні, економічні, антропоекологічні механізми організації цієї діяльності та її наслідки.</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 </a:t>
            </a:r>
            <a:r>
              <a:rPr b="0" lang="ru-RU" sz="2800" spc="-1" strike="noStrike">
                <a:solidFill>
                  <a:srgbClr val="000000"/>
                </a:solidFill>
                <a:latin typeface="Calibri"/>
              </a:rPr>
              <a:t>Організація рекреаційної діяльності здійснюється на основі комплексного підходу, тому рекреалогія виступає не як «чиста» наука, а як міждисциплінарна наукова дисципліна, що вивчає процеси і методи відновлення здоров’я людини.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Рекреалогія </a:t>
            </a:r>
            <a:r>
              <a:rPr b="0" lang="ru-RU" sz="2800" spc="-1" strike="noStrike">
                <a:solidFill>
                  <a:srgbClr val="000000"/>
                </a:solidFill>
                <a:latin typeface="Calibri"/>
              </a:rPr>
              <a:t>— це комплексна суспільно-природнича наука про передумови, способи здійснення, наслідки та закономірності процесів відтворення психофізіологічного здоров’я людини.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79280" y="260280"/>
            <a:ext cx="8640720" cy="612144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Об’єктом рекреалогії </a:t>
            </a:r>
            <a:r>
              <a:rPr b="0" lang="ru-RU" sz="2800" spc="-1" strike="noStrike">
                <a:solidFill>
                  <a:srgbClr val="000000"/>
                </a:solidFill>
                <a:latin typeface="Calibri"/>
              </a:rPr>
              <a:t>виступає рекреаційна система як об’єктивне і соціальне утворення, яке охоплює рекреантів, природні комплекси, технічну інфраструктуру, сферу обслуговування, виробничу сферу, трудові ресурси, систему розселення.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Предметом рекреалогії </a:t>
            </a:r>
            <a:r>
              <a:rPr b="0" lang="ru-RU" sz="2800" spc="-1" strike="noStrike">
                <a:solidFill>
                  <a:srgbClr val="000000"/>
                </a:solidFill>
                <a:latin typeface="Calibri"/>
              </a:rPr>
              <a:t>є різноманітні аспекти і об’єктивні закономірності становлення, функціонування і перспективного розвитку рекреаційних систем загалом та їх підсистем, зокрема, включаючи основні поняття рекреалогії (відпочинок, рекреація, вільний час, рекреаційна діяльність, рекреаційні ресурси, рекреаційний потенціал тощо).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24000" y="331560"/>
            <a:ext cx="8712000" cy="5848200"/>
          </a:xfrm>
          <a:prstGeom prst="rect">
            <a:avLst/>
          </a:prstGeom>
          <a:noFill/>
          <a:ln w="0">
            <a:noFill/>
          </a:ln>
        </p:spPr>
        <p:txBody>
          <a:bodyPr anchor="t">
            <a:normAutofit fontScale="97000"/>
          </a:bodyPr>
          <a:p>
            <a:pPr marL="165960" indent="-1659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Рекреаційні умови </a:t>
            </a:r>
            <a:r>
              <a:rPr b="0" lang="ru-RU" sz="2600" spc="-1" strike="noStrike">
                <a:solidFill>
                  <a:srgbClr val="000000"/>
                </a:solidFill>
                <a:latin typeface="Times New Roman"/>
                <a:ea typeface="Times New Roman"/>
              </a:rPr>
              <a:t>являють собою сукупність компонентів і властивостей природного середовища, які сприяють рекреаційній діяльності (характер ландшафту і кліматичні особливості, наявність мінеральних джерел, біорізноманіття, можливості для занять тими чи іншими видами спорту і т. ін.), але при цьому не є її матеріальною базою. </a:t>
            </a:r>
            <a:endParaRPr b="0" lang="en-US" sz="2600" spc="-1" strike="noStrike">
              <a:solidFill>
                <a:srgbClr val="000000"/>
              </a:solidFill>
              <a:latin typeface="Calibri"/>
            </a:endParaRPr>
          </a:p>
          <a:p>
            <a:pPr marL="165960" indent="-1659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Рекреаційний потенціал </a:t>
            </a:r>
            <a:r>
              <a:rPr b="0" lang="ru-RU" sz="2600" spc="-1" strike="noStrike">
                <a:solidFill>
                  <a:srgbClr val="000000"/>
                </a:solidFill>
                <a:latin typeface="Times New Roman"/>
                <a:ea typeface="Times New Roman"/>
              </a:rPr>
              <a:t>— це сукупність природних, культурно-історичних і соціально-економічних передумов організації рекреаційної діяльності на певній території. </a:t>
            </a:r>
            <a:endParaRPr b="0" lang="en-US" sz="2600" spc="-1" strike="noStrike">
              <a:solidFill>
                <a:srgbClr val="000000"/>
              </a:solidFill>
              <a:latin typeface="Calibri"/>
            </a:endParaRPr>
          </a:p>
          <a:p>
            <a:pPr marL="165960" indent="-1659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Рекреаційною територією </a:t>
            </a:r>
            <a:r>
              <a:rPr b="0" lang="ru-RU" sz="2600" spc="-1" strike="noStrike">
                <a:solidFill>
                  <a:srgbClr val="000000"/>
                </a:solidFill>
                <a:latin typeface="Times New Roman"/>
                <a:ea typeface="Times New Roman"/>
              </a:rPr>
              <a:t>називається територія, що використовується для оздоровлення людей. При цьому слід розрізняти рекреаційні території для короткочасної (лісопарки, зелені зони міст, водні об’єкти тощо) і тривалої (приморські райони, лікувально-санаторні комплекси і т. п.) рекреаційної діяльності.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08000" y="331920"/>
            <a:ext cx="8928000" cy="619416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Рекреаційна ємність </a:t>
            </a:r>
            <a:r>
              <a:rPr b="0" lang="ru-RU" sz="2800" spc="-1" strike="noStrike">
                <a:solidFill>
                  <a:srgbClr val="000000"/>
                </a:solidFill>
                <a:latin typeface="Times New Roman"/>
                <a:ea typeface="Times New Roman"/>
              </a:rPr>
              <a:t>— здатність території забезпечувати для певного числа відпочиваючих психофізіологічний комфорт і можливість спортивно-оздоровчої діяльності без деградації природно-територіального чи антропокультурного комплексу і швидкого зношування соціального обладнання.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Рекреаційний об’єкт </a:t>
            </a:r>
            <a:r>
              <a:rPr b="0" lang="ru-RU" sz="2800" spc="-1" strike="noStrike">
                <a:solidFill>
                  <a:srgbClr val="000000"/>
                </a:solidFill>
                <a:latin typeface="Times New Roman"/>
                <a:ea typeface="Times New Roman"/>
              </a:rPr>
              <a:t>— місце з обмеженою площею, що використовується для відпочинку (лісова галявина, пам’ятка природи, пляж тощо).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Рекреаційне навантаження </a:t>
            </a:r>
            <a:r>
              <a:rPr b="0" lang="ru-RU" sz="2800" spc="-1" strike="noStrike">
                <a:solidFill>
                  <a:srgbClr val="000000"/>
                </a:solidFill>
                <a:latin typeface="Times New Roman"/>
                <a:ea typeface="Times New Roman"/>
              </a:rPr>
              <a:t>— це сукупність безпосередніх впливів людини на природно-територіальний комплекс, насамперед на рослинний покрив (витоптування, ущільнення ґрунту, знищення фітомаси тощо).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250560" y="836640"/>
            <a:ext cx="8569080" cy="5472000"/>
          </a:xfrm>
          <a:prstGeom prst="rect">
            <a:avLst/>
          </a:prstGeom>
          <a:noFill/>
          <a:ln w="0">
            <a:noFill/>
          </a:ln>
        </p:spPr>
        <p:txBody>
          <a:bodyPr anchor="t">
            <a:normAutofit/>
          </a:bodyPr>
          <a:p>
            <a:pPr marL="171360" algn="ctr">
              <a:lnSpc>
                <a:spcPct val="15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4800" spc="-1" strike="noStrike">
                <a:solidFill>
                  <a:srgbClr val="874988"/>
                </a:solidFill>
                <a:latin typeface="Trebuchet MS"/>
                <a:ea typeface="Times New Roman"/>
              </a:rPr>
              <a:t>2. Основні завдання рекреаційних досліджень в Україні </a:t>
            </a:r>
            <a:endParaRPr b="0" lang="en-US" sz="4800" spc="-1" strike="noStrike">
              <a:solidFill>
                <a:srgbClr val="000000"/>
              </a:solidFill>
              <a:latin typeface="Calibri"/>
            </a:endParaRPr>
          </a:p>
          <a:p>
            <a:pPr marL="171360" algn="ctr">
              <a:lnSpc>
                <a:spcPct val="90000"/>
              </a:lnSpc>
              <a:spcBef>
                <a:spcPts val="751"/>
              </a:spcBef>
              <a:buClr>
                <a:srgbClr val="874988"/>
              </a:buClr>
              <a:buFont typeface="Calibri Light"/>
              <a:buChar char=""/>
              <a:tabLst>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Прямоугольник 4"/>
          <p:cNvSpPr/>
          <p:nvPr/>
        </p:nvSpPr>
        <p:spPr>
          <a:xfrm>
            <a:off x="108000" y="115920"/>
            <a:ext cx="9144000" cy="588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сновними завданнями рекреаційних досліджень в Україні є:</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цінка рекреаційних ресурсів та ефективності їх використання;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изначення рекреаційної ємності території і максимально допустимих рекреаційних навантажень;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екреаційне районування території країни;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огнозування розвитку та оптимізація функціонування туристсько-рекреаційного господарства України;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озробка і впровадження комплексу заходів, спрямованих на збільшення територіального рекреаційного потенціалу;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ивчення внутрішнього і зовнішнього попиту на рекреаційні послуги. Вивчення рекреаційних систем і первинне накопичення фактичного матеріалу було започатковане саме географією. При цьому становлення рекреаційної географії як самостійної наукової дисципліни відбувалося на базі фізичної, економічної, медичної географії та географії населення.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50920" y="549000"/>
            <a:ext cx="8269200" cy="56307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Безпосередньо рекреалогія обумовила виникнення нової галузі господарства — курортології. </a:t>
            </a:r>
            <a:endParaRPr b="0" lang="en-US" sz="2800" spc="-1" strike="noStrike">
              <a:solidFill>
                <a:srgbClr val="000000"/>
              </a:solidFill>
              <a:latin typeface="Calibri"/>
            </a:endParaRPr>
          </a:p>
          <a:p>
            <a:pPr>
              <a:lnSpc>
                <a:spcPct val="90000"/>
              </a:lnSpc>
              <a:spcBef>
                <a:spcPts val="751"/>
              </a:spcBef>
              <a:buClr>
                <a:srgbClr val="ff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u="sng">
                <a:solidFill>
                  <a:srgbClr val="ff0000"/>
                </a:solidFill>
                <a:uFillTx/>
                <a:latin typeface="Calibri"/>
              </a:rPr>
              <a:t>Курортологія</a:t>
            </a:r>
            <a:r>
              <a:rPr b="0" lang="ru-RU" sz="2800" spc="-1" strike="noStrike">
                <a:solidFill>
                  <a:srgbClr val="000000"/>
                </a:solidFill>
                <a:latin typeface="Calibri"/>
              </a:rPr>
              <a:t> визначається як медична навчальна дисципліна, що вивчає лікувальні властивості природних фізичних факторів, характер їх дії на організм людини, можливості їх застосування з лікувальною і профілактичною метою на курортах і поза їх межами. Вона розробляє методики та рекомендації щодо раціонального використання цілющих факторів навколишнього середовища з лікувальною і оздоровчою мето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33240" y="692280"/>
            <a:ext cx="7886880" cy="5487840"/>
          </a:xfrm>
          <a:prstGeom prst="rect">
            <a:avLst/>
          </a:prstGeom>
          <a:noFill/>
          <a:ln w="0">
            <a:noFill/>
          </a:ln>
        </p:spPr>
        <p:txBody>
          <a:bodyPr anchor="t">
            <a:normAutofit/>
          </a:bodyPr>
          <a:p>
            <a:pPr marL="171360" algn="ctr">
              <a:lnSpc>
                <a:spcPct val="10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400" spc="-1" strike="noStrike">
              <a:solidFill>
                <a:srgbClr val="000000"/>
              </a:solidFill>
              <a:latin typeface="Calibri"/>
            </a:endParaRPr>
          </a:p>
          <a:p>
            <a:pPr marL="171360" algn="ctr">
              <a:lnSpc>
                <a:spcPct val="10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400" spc="-1" strike="noStrike">
              <a:solidFill>
                <a:srgbClr val="000000"/>
              </a:solidFill>
              <a:latin typeface="Calibri"/>
            </a:endParaRPr>
          </a:p>
          <a:p>
            <a:pPr marL="171360" algn="ctr">
              <a:lnSpc>
                <a:spcPct val="10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5400" spc="-1" strike="noStrike">
                <a:solidFill>
                  <a:srgbClr val="874988"/>
                </a:solidFill>
                <a:latin typeface="Calibri"/>
              </a:rPr>
              <a:t>3. Загальні функції рекреаційної діяльності </a:t>
            </a:r>
            <a:endParaRPr b="0" lang="en-US" sz="5400" spc="-1" strike="noStrike">
              <a:solidFill>
                <a:srgbClr val="000000"/>
              </a:solidFill>
              <a:latin typeface="Calibri"/>
            </a:endParaRPr>
          </a:p>
          <a:p>
            <a:pPr marL="171360">
              <a:lnSpc>
                <a:spcPct val="90000"/>
              </a:lnSpc>
              <a:spcBef>
                <a:spcPts val="751"/>
              </a:spcBef>
              <a:buClr>
                <a:srgbClr val="874988"/>
              </a:buClr>
              <a:buFont typeface="Wingdings 2" charset="2"/>
              <a:buChar char=""/>
              <a:tabLst>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395280" y="3120840"/>
            <a:ext cx="8569440" cy="2957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Тема лекції 1: </a:t>
            </a:r>
            <a:endParaRPr b="0" lang="en-US" sz="4800" spc="-1" strike="noStrike">
              <a:solidFill>
                <a:srgbClr val="000000"/>
              </a:solidFill>
              <a:latin typeface="Trebuchet MS"/>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a:t>
            </a:r>
            <a:r>
              <a:rPr b="0" lang="ru-RU" sz="4800" spc="-1" strike="noStrike">
                <a:solidFill>
                  <a:srgbClr val="000000"/>
                </a:solidFill>
                <a:latin typeface="Trebuchet MS"/>
              </a:rPr>
              <a:t>Сутність та мета дисципліни  «Рекреалогія»</a:t>
            </a:r>
            <a:r>
              <a:rPr b="1" lang="uk-UA" sz="4800" spc="-1" strike="noStrike">
                <a:solidFill>
                  <a:srgbClr val="000000"/>
                </a:solidFill>
                <a:latin typeface="Times New Roman"/>
                <a:ea typeface="Times New Roman"/>
              </a:rPr>
              <a:t>»</a:t>
            </a:r>
            <a:endParaRPr b="0" lang="en-US" sz="4800" spc="-1" strike="noStrike">
              <a:solidFill>
                <a:srgbClr val="000000"/>
              </a:solidFill>
              <a:latin typeface="Trebuchet MS"/>
            </a:endParaRPr>
          </a:p>
        </p:txBody>
      </p:sp>
      <p:pic>
        <p:nvPicPr>
          <p:cNvPr id="52" name="Picture 4" descr="Summer Activities | Keystone Ski Resort"/>
          <p:cNvPicPr/>
          <p:nvPr/>
        </p:nvPicPr>
        <p:blipFill>
          <a:blip r:embed="rId1"/>
          <a:stretch/>
        </p:blipFill>
        <p:spPr>
          <a:xfrm>
            <a:off x="1763640" y="189000"/>
            <a:ext cx="5329440" cy="2779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0" y="0"/>
            <a:ext cx="9036000" cy="67420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Суспільні функції рекреаційної діяльності визначаються тими завданнями, які вона виконує в житті суспільства: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формування всебічно розвиненої особистості;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відновлення і розвиток фізичних і психічних сил людини;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розвиток господарської структури регіонів;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збільшення зайнятості населення;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забезпечення грошових надходжень у бюджет;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зближення народів.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Таке широке коло завдань не дозволяє однозначно сформулювати суспільні функції рекреації.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У найбільш загальному вигляді вони можуть бути віднесені до трьох великих груп: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медико-біологічні;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соціокультурні;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економічні.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Окремі дослідники виділяють політичну функцію рекреації. Кожна з цих груп пов’язана з певною сферою людської діяльності, хоча між ними відсутні чіткі межі внаслідок взаємопов’язаності суспільних потреб.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79280" y="404640"/>
            <a:ext cx="8785440" cy="612144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Медико-біологічні функції </a:t>
            </a:r>
            <a:r>
              <a:rPr b="0" lang="ru-RU" sz="2200" spc="-1" strike="noStrike">
                <a:solidFill>
                  <a:srgbClr val="000000"/>
                </a:solidFill>
                <a:latin typeface="Times New Roman"/>
                <a:ea typeface="Times New Roman"/>
              </a:rPr>
              <a:t>рекреації реалізовуються через санаторно- курортне лікування та оздоровлення і мають розглядатися в аспектах лікування (відновлення здоров’я людини після перенесеного захворювання) і оздоровлення (зняття виробничої і невиробничої психофізіологічної втоми). </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При активній рекреаційній діяльності відновлювальні процеси відбуваються швидше, ніж при пасивній. </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Врахування медико-біологічних функцій рекреації передбачає такі аспекти організації рекреаційної діяльності: </a:t>
            </a:r>
            <a:endParaRPr b="0" lang="en-US" sz="22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широкий розвиток активних видів відпочинку, пов’язаних насамперед з м’язовими навантаженнями; </a:t>
            </a:r>
            <a:endParaRPr b="0" lang="en-US" sz="22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урізноманітнення діяльності як необхідна умова ефективності заходів, спрямованих на відновлення здоров’я.</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Врахування особливостей усіх вікових і соціально-професійних груп, що забезпечить свободу вибору занять відповідно до індивіду альних психофізіологічних можливостей, пріоритетів та інтересів рекреантів</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66200" y="692280"/>
            <a:ext cx="8053560" cy="548784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В основу культурних і духовних потреб полягає потреба в пізнанні. Рекреація має величезні можливості для їх задоволення, що сприяє гармонійному розвитку особистості. Це шлях реалізації </a:t>
            </a:r>
            <a:r>
              <a:rPr b="0" lang="ru-RU" sz="2800" spc="-1" strike="noStrike">
                <a:solidFill>
                  <a:srgbClr val="000000"/>
                </a:solidFill>
                <a:latin typeface="Times New Roman"/>
                <a:ea typeface="Times New Roman"/>
              </a:rPr>
              <a:t>соціокультурних функцій рекреації</a:t>
            </a:r>
            <a:r>
              <a:rPr b="0" lang="ru-RU" sz="2800" spc="-1" strike="noStrike">
                <a:solidFill>
                  <a:srgbClr val="000000"/>
                </a:solidFill>
                <a:latin typeface="Times New Roman"/>
                <a:ea typeface="Times New Roman"/>
              </a:rPr>
              <a:t>. На сьогодні спостерігається поєднання пізнавальних і розважальних функції рекреації, що доповнюють одна одну.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Прикладом такого поєднання є функціонування спеціалізованих культурно-розважальних центрів: Лас-Вегас, Сан-Сіті, Монте-Карло, Дісней- та Євроленд і т. і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24000" y="404280"/>
            <a:ext cx="8640720" cy="57754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Основними </a:t>
            </a:r>
            <a:r>
              <a:rPr b="0" lang="ru-RU" sz="2800" spc="-1" strike="noStrike">
                <a:solidFill>
                  <a:srgbClr val="000000"/>
                </a:solidFill>
                <a:latin typeface="Times New Roman"/>
                <a:ea typeface="Times New Roman"/>
              </a:rPr>
              <a:t>економічними функціями рекреації </a:t>
            </a:r>
            <a:r>
              <a:rPr b="0" lang="ru-RU" sz="2800" spc="-1" strike="noStrike">
                <a:solidFill>
                  <a:srgbClr val="000000"/>
                </a:solidFill>
                <a:latin typeface="Times New Roman"/>
                <a:ea typeface="Times New Roman"/>
              </a:rPr>
              <a:t>є просте і розширене відтворення робочої сили; формування  сфери послуг і зв’язків з іншими галузями господарства; розвиток окремих  територій і розширення зайнятості населення; збільшення валютних надходжень до бюджету.</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Зі зміною структури рекреаційної діяльності відбувається трансформація її функцій,  серед  яких  зокрема, зростає роль економічної. Завдяки рекреації підвищується здатність людей до праці, збільшується тривалість періоду збереження повноцінної працездатності, що веде до збільшення фонду робочого часу внаслідок скорочення захворюваності, підвищення життєвого тонусу.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5"/>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6" name="Rectangle 3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7" name="Text Box 2"/>
          <p:cNvSpPr/>
          <p:nvPr/>
        </p:nvSpPr>
        <p:spPr>
          <a:xfrm>
            <a:off x="8267760" y="6540480"/>
            <a:ext cx="9237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Слайд </a:t>
            </a:r>
            <a:fld id="{D9C3F992-5452-437F-B849-DAA43C91B357}" type="slidenum">
              <a:rPr b="0" lang="uk-UA" sz="1200" spc="-1" strike="noStrike">
                <a:solidFill>
                  <a:srgbClr val="000000"/>
                </a:solidFill>
                <a:latin typeface="Times New Roman"/>
                <a:ea typeface="Times New Roman"/>
              </a:rPr>
              <a:t>&lt;number&gt;</a:t>
            </a:fld>
            <a:endParaRPr b="0" lang="en-US" sz="1200" spc="-1" strike="noStrike">
              <a:solidFill>
                <a:srgbClr val="000000"/>
              </a:solidFill>
              <a:latin typeface="Trebuchet MS"/>
            </a:endParaRPr>
          </a:p>
        </p:txBody>
      </p:sp>
      <p:sp>
        <p:nvSpPr>
          <p:cNvPr id="78" name="Прямоугольник 3"/>
          <p:cNvSpPr/>
          <p:nvPr/>
        </p:nvSpPr>
        <p:spPr>
          <a:xfrm>
            <a:off x="755640" y="1557360"/>
            <a:ext cx="770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ea typeface="Times New Roman"/>
              </a:rPr>
              <a:t>Дякую за увагу!</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23640" y="-27360"/>
            <a:ext cx="8064360" cy="11509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3300" spc="-1" strike="noStrike">
                <a:solidFill>
                  <a:srgbClr val="000000"/>
                </a:solidFill>
                <a:latin typeface="Calibri Light"/>
              </a:rPr>
              <a:t>Література:</a:t>
            </a:r>
            <a:endParaRPr b="0" lang="en-US" sz="3300" spc="-1" strike="noStrike">
              <a:solidFill>
                <a:srgbClr val="000000"/>
              </a:solidFill>
              <a:latin typeface="Calibri Light"/>
            </a:endParaRPr>
          </a:p>
        </p:txBody>
      </p:sp>
      <p:sp>
        <p:nvSpPr>
          <p:cNvPr id="54" name=""/>
          <p:cNvSpPr txBox="1"/>
          <p:nvPr/>
        </p:nvSpPr>
        <p:spPr>
          <a:xfrm>
            <a:off x="179280" y="1197000"/>
            <a:ext cx="8785440" cy="5400720"/>
          </a:xfrm>
          <a:prstGeom prst="rect">
            <a:avLst/>
          </a:prstGeom>
          <a:noFill/>
          <a:ln w="0">
            <a:noFill/>
          </a:ln>
        </p:spPr>
        <p:txBody>
          <a:bodyPr anchor="t">
            <a:normAutofit/>
          </a:bodyPr>
          <a:p>
            <a:pPr marL="171360" indent="-171360" algn="just">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Arial"/>
                <a:ea typeface="Arial"/>
              </a:rPr>
              <a:t>Основи рекреалогії (економіко-екологічний та маркетинговий аспект) [текст] : навч. посіб. / І. О. Гродзинська, С. Г. Нездоймінов, О. В. Гусєва, А. В. Замкова. – К. : «Центр учбової літератури», 2014. – 264 с.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Arial"/>
                <a:ea typeface="Arial"/>
              </a:rPr>
              <a:t>Стафійчук В. І. Рекреалогія: навчальний посібник / Стафійчук В. І. – Херсон: ОЛДІ ПЛЮС, 2017. – 428 с.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u="sng">
                <a:solidFill>
                  <a:srgbClr val="0563c1"/>
                </a:solidFill>
                <a:uFillTx/>
                <a:latin typeface="Arial"/>
                <a:ea typeface="Arial"/>
                <a:hlinkClick r:id="rId1"/>
              </a:rPr>
              <a:t>Мілашовська О. І.</a:t>
            </a:r>
            <a:r>
              <a:rPr b="0" lang="ru-RU" sz="2100" spc="-1" strike="noStrike">
                <a:solidFill>
                  <a:srgbClr val="000000"/>
                </a:solidFill>
                <a:latin typeface="Arial"/>
                <a:ea typeface="Arial"/>
              </a:rPr>
              <a:t> Характеристика стану та тенденцій розвитку сфери рекреації та туризму в Україні [Електронний ресурс] / О. І. Мілашовська, О. О. Маслиган // </a:t>
            </a:r>
            <a:r>
              <a:rPr b="0" lang="ru-RU" sz="2100" spc="-1" strike="noStrike" u="sng">
                <a:solidFill>
                  <a:srgbClr val="0563c1"/>
                </a:solidFill>
                <a:uFillTx/>
                <a:latin typeface="Arial"/>
                <a:ea typeface="Arial"/>
                <a:hlinkClick r:id="rId2"/>
              </a:rPr>
              <a:t>Економічний простір</a:t>
            </a:r>
            <a:r>
              <a:rPr b="0" lang="ru-RU" sz="2100" spc="-1" strike="noStrike">
                <a:solidFill>
                  <a:srgbClr val="000000"/>
                </a:solidFill>
                <a:latin typeface="Arial"/>
                <a:ea typeface="Arial"/>
              </a:rPr>
              <a:t>. - 2013. - № 74. - С. 131-141. - Режим доступу: </a:t>
            </a:r>
            <a:r>
              <a:rPr b="0" lang="ru-RU" sz="2100" spc="-1" strike="noStrike" u="sng">
                <a:solidFill>
                  <a:srgbClr val="0563c1"/>
                </a:solidFill>
                <a:uFillTx/>
                <a:latin typeface="Arial"/>
                <a:ea typeface="Arial"/>
                <a:hlinkClick r:id="rId3"/>
              </a:rPr>
              <a:t>http://nbuv.gov.ua/UJRN/ecpros_2013_74_16</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Arial"/>
                <a:ea typeface="Arial"/>
              </a:rPr>
              <a:t>Устименко Л. М. Культурно-рекреаційні потреби в контексті розвитку туризму [Електронний ресурс] / Л. М. Устименко, Н. В. Булгакова // Вісник Національної академії керівних кадрів культури і мистецтв. - 2019. - № 2. - С. 226-229. - Режим доступу: http://nbuv.gov.ua/UJRN/vdakkkm_2019_2_50</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50920" y="115920"/>
            <a:ext cx="8642160" cy="6060960"/>
          </a:xfrm>
          <a:prstGeom prst="rect">
            <a:avLst/>
          </a:prstGeom>
          <a:noFill/>
          <a:ln w="0">
            <a:noFill/>
          </a:ln>
        </p:spPr>
        <p:txBody>
          <a:bodyPr anchor="t">
            <a:normAutofit/>
          </a:bodyPr>
          <a:p>
            <a:pPr marL="171360">
              <a:lnSpc>
                <a:spcPct val="15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4000" spc="-1" strike="noStrike">
                <a:solidFill>
                  <a:srgbClr val="000000"/>
                </a:solidFill>
                <a:latin typeface="Times New Roman"/>
                <a:ea typeface="Times New Roman"/>
              </a:rPr>
              <a:t>ПЛАН</a:t>
            </a:r>
            <a:endParaRPr b="0" lang="en-US" sz="4000" spc="-1" strike="noStrike">
              <a:solidFill>
                <a:srgbClr val="000000"/>
              </a:solidFill>
              <a:latin typeface="Calibri"/>
            </a:endParaRPr>
          </a:p>
          <a:p>
            <a:pPr marL="171360">
              <a:lnSpc>
                <a:spcPct val="100000"/>
              </a:lnSpc>
              <a:spcBef>
                <a:spcPts val="751"/>
              </a:spcBef>
              <a:buClr>
                <a:srgbClr val="000000"/>
              </a:buClr>
              <a:buFont typeface="Calibri"/>
              <a:buAutoNum type="arabicPeriod"/>
              <a:tabLst>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000000"/>
                </a:solidFill>
                <a:latin typeface="Calibri"/>
              </a:rPr>
              <a:t>Мета та завдання дисципліни. Характеристика передумов розвитку рекреалогії </a:t>
            </a:r>
            <a:endParaRPr b="0" lang="en-US" sz="3200" spc="-1" strike="noStrike">
              <a:solidFill>
                <a:srgbClr val="000000"/>
              </a:solidFill>
              <a:latin typeface="Calibri"/>
            </a:endParaRPr>
          </a:p>
          <a:p>
            <a:pPr marL="171360">
              <a:lnSpc>
                <a:spcPct val="100000"/>
              </a:lnSpc>
              <a:spcBef>
                <a:spcPts val="751"/>
              </a:spcBef>
              <a:buClr>
                <a:srgbClr val="000000"/>
              </a:buClr>
              <a:buFont typeface="Calibri"/>
              <a:buAutoNum type="arabicPeriod"/>
              <a:tabLst>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000000"/>
                </a:solidFill>
                <a:latin typeface="Calibri"/>
              </a:rPr>
              <a:t>Основні завдання рекреаційних досліджень в Україні  </a:t>
            </a:r>
            <a:endParaRPr b="0" lang="en-US" sz="3200" spc="-1" strike="noStrike">
              <a:solidFill>
                <a:srgbClr val="000000"/>
              </a:solidFill>
              <a:latin typeface="Calibri"/>
            </a:endParaRPr>
          </a:p>
          <a:p>
            <a:pPr marL="171360">
              <a:lnSpc>
                <a:spcPct val="100000"/>
              </a:lnSpc>
              <a:spcBef>
                <a:spcPts val="751"/>
              </a:spcBef>
              <a:buClr>
                <a:srgbClr val="000000"/>
              </a:buClr>
              <a:buFont typeface="Calibri"/>
              <a:buAutoNum type="arabicPeriod"/>
              <a:tabLst>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000000"/>
                </a:solidFill>
                <a:latin typeface="Calibri"/>
              </a:rPr>
              <a:t>Загальні функції рекреаційної діяльності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4000" y="476280"/>
            <a:ext cx="7886520" cy="4479840"/>
          </a:xfrm>
          <a:prstGeom prst="rect">
            <a:avLst/>
          </a:prstGeom>
          <a:noFill/>
          <a:ln w="0">
            <a:noFill/>
          </a:ln>
        </p:spPr>
        <p:txBody>
          <a:bodyPr anchor="t">
            <a:normAutofit/>
          </a:bodyPr>
          <a:p>
            <a:pPr marL="685800" indent="-514440" algn="ctr">
              <a:lnSpc>
                <a:spcPct val="100000"/>
              </a:lnSpc>
              <a:spcBef>
                <a:spcPts val="751"/>
              </a:spcBef>
              <a:buClr>
                <a:srgbClr val="874988"/>
              </a:buClr>
              <a:buFont typeface="Times New Roman"/>
              <a:buAutoNum type="arabicPeriod"/>
              <a:tabLst>
                <a:tab algn="l" pos="523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5400" spc="-1" strike="noStrike">
                <a:solidFill>
                  <a:srgbClr val="874988"/>
                </a:solidFill>
                <a:latin typeface="Times New Roman"/>
              </a:rPr>
              <a:t> </a:t>
            </a:r>
            <a:r>
              <a:rPr b="0" lang="ru-RU" sz="5400" spc="-1" strike="noStrike">
                <a:solidFill>
                  <a:srgbClr val="874988"/>
                </a:solidFill>
                <a:latin typeface="Calibri"/>
              </a:rPr>
              <a:t>Мета та завдання дисципліни.</a:t>
            </a:r>
            <a:endParaRPr b="0" lang="en-US" sz="5400" spc="-1" strike="noStrike">
              <a:solidFill>
                <a:srgbClr val="000000"/>
              </a:solidFill>
              <a:latin typeface="Calibri"/>
            </a:endParaRPr>
          </a:p>
          <a:p>
            <a:pPr marL="685800" indent="-514440" algn="ctr">
              <a:lnSpc>
                <a:spcPct val="100000"/>
              </a:lnSpc>
              <a:spcBef>
                <a:spcPts val="751"/>
              </a:spcBef>
              <a:tabLst>
                <a:tab algn="l" pos="0"/>
                <a:tab algn="l" pos="523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5400" spc="-1" strike="noStrike">
                <a:solidFill>
                  <a:srgbClr val="874988"/>
                </a:solidFill>
                <a:latin typeface="Calibri"/>
              </a:rPr>
              <a:t>Характеристика передумов розвитку рекреалогії </a:t>
            </a:r>
            <a:endParaRPr b="0" lang="en-US" sz="5400" spc="-1" strike="noStrike">
              <a:solidFill>
                <a:srgbClr val="000000"/>
              </a:solidFill>
              <a:latin typeface="Calibri"/>
            </a:endParaRPr>
          </a:p>
          <a:p>
            <a:pPr marL="685800" indent="-514440" algn="ctr">
              <a:lnSpc>
                <a:spcPct val="100000"/>
              </a:lnSpc>
              <a:spcBef>
                <a:spcPts val="751"/>
              </a:spcBef>
              <a:tabLst>
                <a:tab algn="l" pos="0"/>
                <a:tab algn="l" pos="523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6000" spc="-1" strike="noStrike">
              <a:solidFill>
                <a:srgbClr val="000000"/>
              </a:solidFill>
              <a:latin typeface="Calibri"/>
            </a:endParaRPr>
          </a:p>
          <a:p>
            <a:pPr marL="685800" indent="-514440" algn="ctr">
              <a:lnSpc>
                <a:spcPct val="90000"/>
              </a:lnSpc>
              <a:spcBef>
                <a:spcPts val="751"/>
              </a:spcBef>
              <a:tabLst>
                <a:tab algn="l" pos="0"/>
                <a:tab algn="l" pos="523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79280" y="331920"/>
            <a:ext cx="8785440" cy="597672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Ретроспективні дослідження науковців</a:t>
            </a:r>
            <a:r>
              <a:rPr b="0" lang="ru-RU" sz="2000" spc="-1" strike="noStrike">
                <a:solidFill>
                  <a:srgbClr val="000000"/>
                </a:solidFill>
                <a:latin typeface="Calibri"/>
              </a:rPr>
              <a:t> </a:t>
            </a:r>
            <a:r>
              <a:rPr b="0" lang="ru-RU" sz="2800" spc="-1" strike="noStrike">
                <a:solidFill>
                  <a:srgbClr val="000000"/>
                </a:solidFill>
                <a:latin typeface="Calibri"/>
              </a:rPr>
              <a:t>засвідчили, що рекреація в різних історичних епохах включала в собі велику кількість процесів, які реалізувалися не лише в місцевому середовищі, а й у середовищі на рівні регіону та країни в цілому, що дозволило представити її у вигляді ієрархічної системи, від вищого — національного — до нижнього рівня — житла.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000000"/>
                </a:solidFill>
                <a:latin typeface="Calibri"/>
              </a:rPr>
              <a:t>Для людей кожної вікової групи були притаманними свої види і форми відпочинку. На сьогодні спеціалістами виділяються більше 60 елементарних рекреаційних занять (ЕРЗ), які є необхідними для повноцінного відпочинку людини, відновлення її фізичних і духовних сил</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755640" y="112356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Розвиток рекреаційної сфери чітко пов’язаний зі структурою вільного часу населення, до якого входить «рекреаційний час», найбільшими складовими частинами якого є щоденний (після завершення роботи) рекреаційний час (ЩРЧ) — 39% та уїк-енд (35%), тобто рекреаційний час в кінці робочого тижня, який проводиться населенням як в межах населеного пункту так і за його межами, в приміських рекреаційних лісах, лісопарках, заміських пляжах тощ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08000" y="259920"/>
            <a:ext cx="8856720" cy="62658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Передумовами зародження рекреалогії виступили трансформаційні процеси, що відбуваються в останні десятиліття в сфері науки та економіки, і насамперед посилення уваги до вдосконалювання методології дослідження складних гетерогенних утворів, екології людини.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Серед об’єктивних факторів, що впливають на формування рекреалогії, слід назвати: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встановлену тривалість вільного часу та різноманітність форм і методів його використання;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усвідомлення суспільством значимості рекреаційної діяльності в розвитку особистості, збереженні й поліпшенні здоров’я та підвищення соціально-трудового потенціалу населення;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розуміння необхідності наукового осмислення феномену «рекреаційної діяльності» як сукупності безлічі нових для суспільства процесів;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усвідомлення актуальності створення наукової бази для подальшого розвитку рекреаційної культури і організації рекреаційної діяльності;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різні проблеми, вирішення яких необхідно для виявлення закономірностей рекреаційної діяльності та підвищення ефективності її організації.</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Рисунок 3" descr=""/>
          <p:cNvPicPr/>
          <p:nvPr/>
        </p:nvPicPr>
        <p:blipFill>
          <a:blip r:embed="rId1"/>
          <a:stretch/>
        </p:blipFill>
        <p:spPr>
          <a:xfrm>
            <a:off x="250920" y="620640"/>
            <a:ext cx="8691480" cy="5267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2T11:15:48Z</dcterms:created>
  <dc:creator>Татьянка</dc:creator>
  <dc:description/>
  <dc:language>en-US</dc:language>
  <cp:lastModifiedBy>Пользователь Windows</cp:lastModifiedBy>
  <dcterms:modified xsi:type="dcterms:W3CDTF">2021-08-31T18:19:49Z</dcterms:modified>
  <cp:revision>430</cp:revision>
  <dc:subject/>
  <dc:title>Презентация PowerPoint</dc:title>
</cp:coreProperties>
</file>