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6B1B-B10B-4AA0-B443-28715B86FAD2}"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7680" y="1233360"/>
            <a:ext cx="4440240" cy="3330720"/>
          </a:xfrm>
          <a:prstGeom prst="rect">
            <a:avLst/>
          </a:prstGeom>
          <a:ln w="0">
            <a:noFill/>
          </a:ln>
        </p:spPr>
      </p:sp>
      <p:sp>
        <p:nvSpPr>
          <p:cNvPr id="77"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819B-DA34-49A5-8D2F-7CFE2A33F44D}"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7680" y="1233360"/>
            <a:ext cx="4440240" cy="3330720"/>
          </a:xfrm>
          <a:prstGeom prst="rect">
            <a:avLst/>
          </a:prstGeom>
          <a:ln w="0">
            <a:noFill/>
          </a:ln>
        </p:spPr>
      </p:sp>
      <p:sp>
        <p:nvSpPr>
          <p:cNvPr id="80"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1C31-28E3-4A0E-B05A-CBDA7B299875}"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3CB1-E6A3-42AC-BB5B-0328CE4D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1E65-AF04-4445-963A-788E9597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392C-49F2-4809-A12E-0D65375E2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06B7B-CA8B-440A-89AD-8F80B1717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A889-1466-4F76-829A-8E0D59524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DC94-3F69-4EBB-8A33-E7D3477B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4EB1-312C-4D26-90C7-E8ED9966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5E02-A845-4440-B5B4-22A418C4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CD0DB-26F4-4F81-B4A3-B3A44AD8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F1B0-5C20-43ED-AE16-D7E53A1D5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1B49-C5D7-4637-ACD2-85A50F12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32B3-5EAA-47AE-A138-DC33E8955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EC94-6D1E-4856-AE3C-B2C45B028156}"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8;&#1091;&#1088;&#1110;&#1103;&#1085;&#1089;&#1100;&#1082;&#1072;%20&#1052;$"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0115" TargetMode="External"/><Relationship Id="rId3"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0;&#1080;&#1092;&#1103;&#1082;%20&#1042;$"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1841040"/>
            <a:ext cx="8785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920" y="404280"/>
            <a:ext cx="8269200" cy="577548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Нині найвищий рівень сформованості інтегральних ТРС серед дев’яти, виділених ще у 1978 р. І. Родічкіним (Київсько-Дніпровської, Волинської, Сіверсько-Донецької, Придніпровської, Приазовської, Одесько-Чорноморської, Дніпровсько-Бузької, Карпатської, Кримської), мають лише три: Одесько-Чорноморська, Карпатська і Кримсь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33240" y="404280"/>
            <a:ext cx="788688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32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Основними функціями територіальної рекреаційної системи є економічна, бюджетна, соціальна</a:t>
            </a: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Рекреаційна система може розглядатися і в горизонтальній (міжгалузевій) площині. Науковці вважають, що територіальна рекреаційна система нормально функціонує при тісній взаємодії декількох галузей на певній території. Ці галузі виконують в територіальній рекреаційній системі різні функці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4000" y="331560"/>
            <a:ext cx="8640720" cy="584820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Для сформованої територіальної рекреаційної системи як міжсекторального утворення необхідно мінімум 5 функціональних галузей та їх груп: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400" spc="-1" strike="noStrike">
                <a:solidFill>
                  <a:srgbClr val="000000"/>
                </a:solidFill>
                <a:latin typeface="Times New Roman"/>
                <a:ea typeface="Times New Roman"/>
              </a:rPr>
              <a:t>Група галузей, які виконують основну функцію систем</a:t>
            </a:r>
            <a:r>
              <a:rPr b="0" lang="ru-RU" sz="2400" spc="-1" strike="noStrike">
                <a:solidFill>
                  <a:srgbClr val="000000"/>
                </a:solidFill>
                <a:latin typeface="Times New Roman"/>
                <a:ea typeface="Times New Roman"/>
              </a:rPr>
              <a:t>. Сюди відносяться курортні, туристичні підприємства, сфера відпочинку.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Ці галузі складають центральне ядро системи. Єдність на деякій території вже тільки цих галузей (єдність цих цілей, функцій, загальне використання певних природних ресурсів та ін.) дає можливість трактувати територіальну рекреаційну систему як вид міжгалузевих систем. Кожна зі складових галузевих частин територіальної рекреаційної системи є системою досить різних галузей, підгалузей і видів діяльності. Склад ядра територіальної рекреаційної системи свідчить про те, що вона є переважно міжгалузевою системою невиробничої сфер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94920" y="476280"/>
            <a:ext cx="8497800" cy="5703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a:t>
            </a:r>
            <a:r>
              <a:rPr b="0" i="1" lang="ru-RU" sz="2400" spc="-1" strike="noStrike">
                <a:solidFill>
                  <a:srgbClr val="000000"/>
                </a:solidFill>
                <a:latin typeface="Times New Roman"/>
                <a:ea typeface="Times New Roman"/>
              </a:rPr>
              <a:t>Група галузей переважно виробничого обслуговування ядра територіальної рекреаційної системи</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на представлена будівництвом, транспортом. До територіальної рекреаційної системи можна включити культурне обслуговування, торгівлю, виробництво спеціального туристичного спорядження, сувенірів тощо.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Ланцюжкові міжгалузеві зв’язки ядра територіальної рекреаційної системи прямо і безпосередньо впливають на сільське господарство, харчову, а також легку промисловість. Таким чином, територіальна рекреаційна система як міжгалузеве явище тісно пов’язане з іншими системами території і частково перекликається з ни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33240" y="404280"/>
            <a:ext cx="788688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3. </a:t>
            </a:r>
            <a:r>
              <a:rPr b="0" i="1" lang="ru-RU" sz="2800" spc="-1" strike="noStrike">
                <a:solidFill>
                  <a:srgbClr val="000000"/>
                </a:solidFill>
                <a:latin typeface="Times New Roman"/>
                <a:ea typeface="Times New Roman"/>
              </a:rPr>
              <a:t>Галузі, які включають систему навчальних закладів, що готують спеціалістів вищої та середньої кваліфікації для санаторно-курортного, туристичного господарства і сфери відпочинку. </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ут ведеться підготовка не тільки лікарів, інструкторів фізичної культури і альпінізму, а і фахівців з туризму, екскурсоводів, менеджерів економістів, молодших спеціалістів та ін. для сфери санаторно-курортного та туристичного обслуговуванн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920" y="331560"/>
            <a:ext cx="826920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4. </a:t>
            </a:r>
            <a:r>
              <a:rPr b="0" i="1" lang="ru-RU" sz="2400" spc="-1" strike="noStrike">
                <a:solidFill>
                  <a:srgbClr val="000000"/>
                </a:solidFill>
                <a:latin typeface="Times New Roman"/>
                <a:ea typeface="Times New Roman"/>
              </a:rPr>
              <a:t>Галузі, які включають систему спеціалізованих проектно-конструкторських інститутів, бюро, а також науково-дослідних закладів</a:t>
            </a:r>
            <a:r>
              <a:rPr b="0" lang="ru-RU" sz="2400" spc="-1" strike="noStrike">
                <a:solidFill>
                  <a:srgbClr val="000000"/>
                </a:solidFill>
                <a:latin typeface="Times New Roman"/>
                <a:ea typeface="Times New Roman"/>
              </a:rPr>
              <a:t>, які орієнтуються на забезпечення потреб споживачів санаторно-курортних і туристичних підприємств.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юди входить і діяльність з плануванням рекреаційних зон, районів, вузлів, центрів і пунктів.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5. </a:t>
            </a:r>
            <a:r>
              <a:rPr b="0" i="1" lang="ru-RU" sz="2400" spc="-1" strike="noStrike">
                <a:solidFill>
                  <a:srgbClr val="000000"/>
                </a:solidFill>
                <a:latin typeface="Times New Roman"/>
                <a:ea typeface="Times New Roman"/>
              </a:rPr>
              <a:t>Спеціалізовані органи державного та місцевого управління</a:t>
            </a:r>
            <a:r>
              <a:rPr b="0" lang="ru-RU" sz="2400" spc="-1" strike="noStrike">
                <a:solidFill>
                  <a:srgbClr val="000000"/>
                </a:solidFill>
                <a:latin typeface="Times New Roman"/>
                <a:ea typeface="Times New Roman"/>
              </a:rPr>
              <a:t>, які отримують інформацію про стан інших підсистем територіальної рекреаційної системи, приймають рішення, які стосуються питань оптимального функціонування і подальшого розвитку територіальної рекреаційної систем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259920"/>
            <a:ext cx="8928000" cy="65977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385723"/>
                </a:solidFill>
                <a:latin typeface="Times New Roman"/>
                <a:ea typeface="Times New Roman"/>
              </a:rPr>
              <a:t> </a:t>
            </a:r>
            <a:r>
              <a:rPr b="0" lang="ru-RU" sz="2800" spc="-1" strike="noStrike">
                <a:solidFill>
                  <a:srgbClr val="385723"/>
                </a:solidFill>
                <a:latin typeface="Times New Roman"/>
                <a:ea typeface="Times New Roman"/>
              </a:rPr>
              <a:t>2. 2.  Рекреаційна система включає такі підсистеми: </a:t>
            </a:r>
            <a:endParaRPr b="0" lang="en-US" sz="28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природні та культурні комплекси</a:t>
            </a:r>
            <a:r>
              <a:rPr b="0" lang="ru-RU" sz="2100" spc="-1" strike="noStrike">
                <a:solidFill>
                  <a:srgbClr val="000000"/>
                </a:solidFill>
                <a:latin typeface="Times New Roman"/>
                <a:ea typeface="Times New Roman"/>
              </a:rPr>
              <a:t>, що включають рекреаційні ресурси та умови і виступають як субстрат розвитку систем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технічні системи </a:t>
            </a:r>
            <a:r>
              <a:rPr b="0" lang="ru-RU" sz="2100" spc="-1" strike="noStrike">
                <a:solidFill>
                  <a:srgbClr val="000000"/>
                </a:solidFill>
                <a:latin typeface="Times New Roman"/>
                <a:ea typeface="Times New Roman"/>
              </a:rPr>
              <a:t>для забезпечення нормальної життєдіяльності відпочиваючих та обслуговуючого персоналу. Характер і рівень розвитку інфраструктури рекреаційних територій має велику амплітуду: від міст-курортів і курортополісів до місць відпочинку з мало зміненою природою;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обслуговуючий персонал</a:t>
            </a:r>
            <a:r>
              <a:rPr b="0" lang="ru-RU" sz="2100" spc="-1" strike="noStrike">
                <a:solidFill>
                  <a:srgbClr val="000000"/>
                </a:solidFill>
                <a:latin typeface="Times New Roman"/>
                <a:ea typeface="Times New Roman"/>
              </a:rPr>
              <a:t>, завданням якого є професійне і якісне обслуговування рекреант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орган управління</a:t>
            </a:r>
            <a:r>
              <a:rPr b="0" lang="ru-RU" sz="2100" spc="-1" strike="noStrike">
                <a:solidFill>
                  <a:srgbClr val="000000"/>
                </a:solidFill>
                <a:latin typeface="Times New Roman"/>
                <a:ea typeface="Times New Roman"/>
              </a:rPr>
              <a:t>, який здійснює контроль за оптимальним співвідношенням усіх підсистем;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рекреанти</a:t>
            </a:r>
            <a:r>
              <a:rPr b="0" lang="ru-RU" sz="2100" spc="-1" strike="noStrike">
                <a:solidFill>
                  <a:srgbClr val="000000"/>
                </a:solidFill>
                <a:latin typeface="Times New Roman"/>
                <a:ea typeface="Times New Roman"/>
              </a:rPr>
              <a:t> (група відпочиваючих) — основний елемент системи, який визначає вимоги до всіх інших, виходячи з соціальної, вікової, національної, професійної, релігійної належності певних груп людей, а також умов і ресурсів рекреації. Рекреанти є не лише суб’єктом, а й об’єктом рекреаційної діяльності, що вимагає індивідуального підходу в наданні послуг (бажання відпочивати з друзями, сім’єю, самостійно). Група відпочиваючих характеризується особливостями поведінки, що вступають у цикли рекреаційної діяльності.</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549000"/>
            <a:ext cx="834084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2.3. Концептуальні підходи до розробки стратегії розвитку сфери рекреації та туризму в Україні передбачають певну систему поглядів на цю сферу, яка може кардинально вплинути на подальший її розвиток. Для розробки концепції розвитку ТРС необхідно користуватися базовими принципами на основі системного підход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f729c1"/>
                </a:solidFill>
                <a:latin typeface="Times New Roman"/>
                <a:ea typeface="Times New Roman"/>
              </a:rPr>
              <a:t>Концептуальні основи розвитку ТРС передбачають: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 визначення мети й завдання;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2) характеристику районів перспективного рекреаційного освоєння;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3) визначення проблем, що стримують рекреаційний розвиток регіон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4) потенціал розвитку рекреації й туризму;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5) визначення сильних і слабких сторін, можливостей і загроз;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8920" y="189000"/>
            <a:ext cx="8713800" cy="5991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6) визначення рекреаційно-туристичних зон, територій, об’єктів;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7) аналіз стану й тенденції розвитку рекреації та туризму;</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8) визначення пріоритетних видів рекреації та туризму;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9) економічне обґрунтування розвитку пріоритетних видів рекреації й туризму;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0) ресурсне забезпечення;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1) план першочергових заходів з розвитку рекреаційно-туристичної сфери;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2) визначення етапів і механізмів реалізації;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3) соціально-економічну ефективність; </a:t>
            </a:r>
            <a:endParaRPr b="0" lang="en-US" sz="26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14) узгодженість з іншими регіональними концепціями та стратегіями;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94920" y="404280"/>
            <a:ext cx="8124840" cy="577548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5) результати наукових, в тому числі моніторингових досліджень процесів розвитку сфери рекреації та туризму і міжсекторної взаємодії;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6) розробку прогнозних моделей та їхнє активне використання в практичній діяльності рекреаційно-туристичних підприємств, державних структур і суспільного сектора;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7) новітні технології та найбільш ефективні види інновацій у рекреаційнотуристичній сфері (продуктові, технологічні, ринкові, організаційні);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18) міжнародний досвід формування й розвитку ТР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395280" y="861480"/>
            <a:ext cx="8569440" cy="47872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2: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Times New Roman"/>
                <a:ea typeface="Times New Roman"/>
              </a:rPr>
              <a:t>ТЕРИТОРІАЛЬНА РЕКРЕАЦІЙНА СИСТЕМА ЯК ОБ’ЄКТ РЕКРЕАЛОГІЇ </a:t>
            </a:r>
            <a:endParaRPr b="0" lang="en-US" sz="5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Объект 3" descr=""/>
          <p:cNvPicPr/>
          <p:nvPr/>
        </p:nvPicPr>
        <p:blipFill>
          <a:blip r:embed="rId1"/>
          <a:stretch/>
        </p:blipFill>
        <p:spPr>
          <a:xfrm>
            <a:off x="611280" y="147600"/>
            <a:ext cx="7345440" cy="632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
          <p:cNvPicPr/>
          <p:nvPr/>
        </p:nvPicPr>
        <p:blipFill>
          <a:blip r:embed="rId1"/>
          <a:stretch/>
        </p:blipFill>
        <p:spPr>
          <a:xfrm>
            <a:off x="1474920" y="-20520"/>
            <a:ext cx="6913440" cy="668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209520" y="115920"/>
            <a:ext cx="8813880" cy="559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4"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95F90D14-13CA-46DE-B136-03AED7B709C7}"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5"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2" name=""/>
          <p:cNvSpPr txBox="1"/>
          <p:nvPr/>
        </p:nvSpPr>
        <p:spPr>
          <a:xfrm>
            <a:off x="179280" y="765000"/>
            <a:ext cx="8785440" cy="5832720"/>
          </a:xfrm>
          <a:prstGeom prst="rect">
            <a:avLst/>
          </a:prstGeom>
          <a:noFill/>
          <a:ln w="0">
            <a:noFill/>
          </a:ln>
        </p:spPr>
        <p:txBody>
          <a:bodyPr anchor="t">
            <a:normAutofit/>
          </a:bodyPr>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u="sng">
                <a:solidFill>
                  <a:srgbClr val="0563c1"/>
                </a:solidFill>
                <a:uFillTx/>
                <a:latin typeface="Times New Roman"/>
                <a:ea typeface="Times New Roman"/>
                <a:hlinkClick r:id="rId1"/>
              </a:rPr>
              <a:t>Туріянська М. М.</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онцепція розвитку територ</a:t>
            </a:r>
            <a:r>
              <a:rPr b="0" lang="ru-RU" sz="2400" spc="-1" strike="noStrike">
                <a:solidFill>
                  <a:srgbClr val="000000"/>
                </a:solidFill>
                <a:latin typeface="Times New Roman"/>
                <a:ea typeface="Times New Roman"/>
              </a:rPr>
              <a:t>іальних рекреаційних систем [Електронний ресурс] / М. М. Туріянська // </a:t>
            </a:r>
            <a:r>
              <a:rPr b="0" lang="ru-RU" sz="2400" spc="-1" strike="noStrike" u="sng">
                <a:solidFill>
                  <a:srgbClr val="0563c1"/>
                </a:solidFill>
                <a:uFillTx/>
                <a:latin typeface="Times New Roman"/>
                <a:ea typeface="Times New Roman"/>
                <a:hlinkClick r:id="rId2"/>
              </a:rPr>
              <a:t>Вісник ДІТБ. Серія : Економіка, організація та управління підприємствами туристичної індустрії та туристичної галузі в цілому</a:t>
            </a:r>
            <a:r>
              <a:rPr b="0" lang="ru-RU" sz="2400" spc="-1" strike="noStrike">
                <a:solidFill>
                  <a:srgbClr val="000000"/>
                </a:solidFill>
                <a:latin typeface="Times New Roman"/>
                <a:ea typeface="Times New Roman"/>
              </a:rPr>
              <a:t>. - 2013. - № 17. - С. 35-38. </a:t>
            </a:r>
            <a:endParaRPr b="0" lang="en-US" sz="2400" spc="-1" strike="noStrike">
              <a:solidFill>
                <a:srgbClr val="000000"/>
              </a:solidFill>
              <a:latin typeface="Calibri"/>
            </a:endParaRPr>
          </a:p>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u="sng">
                <a:solidFill>
                  <a:srgbClr val="0563c1"/>
                </a:solidFill>
                <a:uFillTx/>
                <a:latin typeface="Times New Roman"/>
                <a:ea typeface="Times New Roman"/>
                <a:hlinkClick r:id="rId3"/>
              </a:rPr>
              <a:t>Кифяк В. Ф.</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етоди та принципи формування територ</a:t>
            </a:r>
            <a:r>
              <a:rPr b="0" lang="ru-RU" sz="2400" spc="-1" strike="noStrike">
                <a:solidFill>
                  <a:srgbClr val="000000"/>
                </a:solidFill>
                <a:latin typeface="Times New Roman"/>
                <a:ea typeface="Times New Roman"/>
              </a:rPr>
              <a:t>іальних рекреаційних систем [Електронний ресурс] / В. Ф. Кифяк // Вісник ДІТБ. Серія : Економіка, організація та управління підприємствами туристичної індустрії та туристичної галузі в цілому. - 2013. - № 17. - С. 51-54. </a:t>
            </a:r>
            <a:endParaRPr b="0" lang="en-US" sz="2400" spc="-1" strike="noStrike">
              <a:solidFill>
                <a:srgbClr val="000000"/>
              </a:solidFill>
              <a:latin typeface="Calibri"/>
            </a:endParaRPr>
          </a:p>
          <a:p>
            <a:pPr marL="457200" indent="-457200" algn="just">
              <a:lnSpc>
                <a:spcPct val="90000"/>
              </a:lnSpc>
              <a:spcBef>
                <a:spcPts val="751"/>
              </a:spcBef>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Times New Roman"/>
                <a:ea typeface="Times New Roman"/>
              </a:rPr>
              <a:t>Рюміна Є. Л. </a:t>
            </a:r>
            <a:r>
              <a:rPr b="1" lang="ru-RU" sz="2400" spc="-1" strike="noStrike">
                <a:solidFill>
                  <a:srgbClr val="000000"/>
                </a:solidFill>
                <a:latin typeface="Times New Roman"/>
                <a:ea typeface="Times New Roman"/>
              </a:rPr>
              <a:t>Сист</a:t>
            </a:r>
            <a:r>
              <a:rPr b="0" lang="ru-RU" sz="2400" spc="-1" strike="noStrike">
                <a:solidFill>
                  <a:srgbClr val="000000"/>
                </a:solidFill>
                <a:latin typeface="Times New Roman"/>
                <a:ea typeface="Times New Roman"/>
              </a:rPr>
              <a:t>емно-структурний аналіз рекреаційно-туристичних ресурсів приморських територій [Електронний ресурс] / Є. Л. Рюміна // Часопис економічних реформ. - 2014. - № 2. - С. 160-164.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3600" spc="-1" strike="noStrike">
                <a:solidFill>
                  <a:srgbClr val="000000"/>
                </a:solidFill>
                <a:latin typeface="Times New Roman"/>
                <a:ea typeface="Times New Roman"/>
              </a:rPr>
              <a:t>ПЛАН</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1. Територіальний характер  рекреаційних систем </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2. Компоненти рекреаційної системи</a:t>
            </a:r>
            <a:endParaRPr b="0" lang="en-US" sz="3600" spc="-1" strike="noStrike">
              <a:solidFill>
                <a:srgbClr val="000000"/>
              </a:solidFill>
              <a:latin typeface="Calibri"/>
            </a:endParaRPr>
          </a:p>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Times New Roman"/>
                <a:ea typeface="Calibri"/>
              </a:rPr>
              <a:t>2.3. </a:t>
            </a:r>
            <a:r>
              <a:rPr b="0" lang="ru-RU" sz="3600" spc="-1" strike="noStrike">
                <a:solidFill>
                  <a:srgbClr val="000000"/>
                </a:solidFill>
                <a:latin typeface="Times New Roman"/>
                <a:ea typeface="Times New Roman"/>
              </a:rPr>
              <a:t>Концептуальні підходи до розробки стратегії розвитку сфери рекреації</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331560"/>
            <a:ext cx="849600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500" spc="-1" strike="noStrike">
                <a:solidFill>
                  <a:srgbClr val="000000"/>
                </a:solidFill>
                <a:latin typeface="Times New Roman"/>
                <a:ea typeface="Times New Roman"/>
              </a:rPr>
              <a:t>2.1. Розглянемо основні наукові підходи, що склались в рекреалогії стосовно визначення категорії «територіальна рекреаційна система».  </a:t>
            </a:r>
            <a:endParaRPr b="0" lang="en-US" sz="25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Times New Roman"/>
                <a:ea typeface="Times New Roman"/>
              </a:rPr>
              <a:t>Топчієв О.Г. розглядає </a:t>
            </a:r>
            <a:r>
              <a:rPr b="0" i="1" lang="ru-RU" sz="3200" spc="-1" strike="noStrike">
                <a:solidFill>
                  <a:srgbClr val="7030a0"/>
                </a:solidFill>
                <a:latin typeface="Times New Roman"/>
                <a:ea typeface="Times New Roman"/>
              </a:rPr>
              <a:t>територіальну рекреаційну систему </a:t>
            </a:r>
            <a:r>
              <a:rPr b="0" lang="ru-RU" sz="3200" spc="-1" strike="noStrike">
                <a:solidFill>
                  <a:srgbClr val="000000"/>
                </a:solidFill>
                <a:latin typeface="Times New Roman"/>
                <a:ea typeface="Times New Roman"/>
              </a:rPr>
              <a:t>як форму організації рекреаційної діяльності на певній території, що забезпечує функціональний взаємозв’язок, взаємодію та координацію всіх підсистем, блоків і елементів рекреаційного господарства для надання послуг відпочинку.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6200" y="331560"/>
            <a:ext cx="8053560" cy="5848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Бейдик О.О. вважає, що </a:t>
            </a:r>
            <a:r>
              <a:rPr b="0" i="1" lang="ru-RU" sz="2800" spc="-1" strike="noStrike" u="sng">
                <a:solidFill>
                  <a:srgbClr val="7030a0"/>
                </a:solidFill>
                <a:uFillTx/>
                <a:latin typeface="Times New Roman"/>
                <a:ea typeface="Times New Roman"/>
              </a:rPr>
              <a:t>територіальна рекреаційна система </a:t>
            </a:r>
            <a:r>
              <a:rPr b="0" lang="ru-RU" sz="2800" spc="-1" strike="noStrike">
                <a:solidFill>
                  <a:srgbClr val="000000"/>
                </a:solidFill>
                <a:latin typeface="Times New Roman"/>
                <a:ea typeface="Times New Roman"/>
              </a:rPr>
              <a:t>— це соціальна, керована (частково самокерована) геосистема, гетерогенна за складом (складається з взаємозв’язаних підсистем відпочиваючих, природних та культурних комплексів, інженерних споруд, обслуговуючого персоналу, органу управління), яка характеризується функціональною (стан підсистеми визначається функцією системи в цілому) і територіальню цілісністю</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50920" y="476280"/>
            <a:ext cx="8269200" cy="570384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f729c1"/>
                </a:solidFill>
                <a:latin typeface="Times New Roman"/>
                <a:ea typeface="Times New Roman"/>
              </a:rPr>
              <a:t>«Територіальна рекреаційна система» - </a:t>
            </a:r>
            <a:r>
              <a:rPr b="0" lang="ru-RU" sz="3200" spc="-1" strike="noStrike">
                <a:solidFill>
                  <a:srgbClr val="000000"/>
                </a:solidFill>
                <a:latin typeface="Times New Roman"/>
                <a:ea typeface="Times New Roman"/>
              </a:rPr>
              <a:t>система </a:t>
            </a:r>
            <a:r>
              <a:rPr b="0" lang="uk-UA" sz="3200" spc="-1" strike="noStrike">
                <a:solidFill>
                  <a:srgbClr val="000000"/>
                </a:solidFill>
                <a:latin typeface="Times New Roman"/>
                <a:ea typeface="Times New Roman"/>
              </a:rPr>
              <a:t>яка, </a:t>
            </a:r>
            <a:r>
              <a:rPr b="0" lang="ru-RU" sz="3200" spc="-1" strike="noStrike">
                <a:solidFill>
                  <a:srgbClr val="000000"/>
                </a:solidFill>
                <a:latin typeface="Times New Roman"/>
                <a:ea typeface="Times New Roman"/>
              </a:rPr>
              <a:t>характеризується єдиною територією, що має значний рекреаційний потенціал, сукупністю рекреаційних установ, які функціонують на основі тісних виробничих контактів, єдністю організаційних форм управління та забезпечують ефективне використання природних рекреаційних ресурсів і соціально-економічних умов, що склалися на даній території.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Объект 3" descr=""/>
          <p:cNvPicPr/>
          <p:nvPr/>
        </p:nvPicPr>
        <p:blipFill>
          <a:blip r:embed="rId1"/>
          <a:stretch/>
        </p:blipFill>
        <p:spPr>
          <a:xfrm>
            <a:off x="28440" y="0"/>
            <a:ext cx="9072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Объект 3" descr=""/>
          <p:cNvPicPr/>
          <p:nvPr/>
        </p:nvPicPr>
        <p:blipFill>
          <a:blip r:embed="rId1"/>
          <a:stretch/>
        </p:blipFill>
        <p:spPr>
          <a:xfrm>
            <a:off x="0" y="932040"/>
            <a:ext cx="9115560" cy="59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1-09-06T16:43:45Z</dcterms:modified>
  <cp:revision>438</cp:revision>
  <dc:subject/>
  <dc:title>Презентация PowerPoint</dc:title>
</cp:coreProperties>
</file>