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232A-4F65-46D4-B0D2-1FF1C8340679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1492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4F7C-A1A6-4032-8A59-CA9B9063DD75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1492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4DE1-8A26-4204-A152-ECE257D7C35D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4F6-A96C-446F-87B5-A556CF0E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BD5-B4FC-484B-896D-B5701840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9AC-1971-4CA0-8E7C-624E4CF4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018-DD89-4C72-9337-502AE336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4A0-C8E4-480B-9156-10381F6D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A59-3566-41F5-9409-5151E89D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F2E-5389-4031-886E-D6AE8948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7AE-3967-46A1-A604-D7F445C0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3A4-27D2-4F89-B425-11C2ACA0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1B3-C9B8-4274-B5F3-C6E62684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C35-F2A3-4AAC-829B-3F19DB6C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FF8-30E2-444C-BDB7-BF0359CF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2"/>
            </a:gs>
            <a:gs pos="100000">
              <a:srgbClr val="00b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59595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595959"/>
                </a:solidFill>
                <a:latin typeface="Trebuchet MS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B6CF-3927-4AFA-ACCD-4A042AB697B6}" type="slidenum">
              <a:rPr b="0" lang="uk-UA" sz="8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buv.gov.ua/UJRN/avk_2019_17-18_45" TargetMode="External"/><Relationship Id="rId2" Type="http://schemas.openxmlformats.org/officeDocument/2006/relationships/hyperlink" Target="http://nbuv.gov.ua/UJRN/avk_2019_17-18_45" TargetMode="External"/><Relationship Id="rId3" Type="http://schemas.openxmlformats.org/officeDocument/2006/relationships/hyperlink" Target="http://nbuv.gov.ua/UJRN/avk_2019_17-18_45" TargetMode="External"/><Relationship Id="rId4" Type="http://schemas.openxmlformats.org/officeDocument/2006/relationships/hyperlink" Target="http://nbuv.gov.ua/UJRN/avk_2019_17-18_45" TargetMode="External"/><Relationship Id="rId5" Type="http://schemas.openxmlformats.org/officeDocument/2006/relationships/hyperlink" Target="http://nbuv.gov.ua/UJRN/avk_2019_17-18_45" TargetMode="External"/><Relationship Id="rId6" Type="http://schemas.openxmlformats.org/officeDocument/2006/relationships/hyperlink" Target="http://nbuv.gov.ua/UJRN/avk_2019_17-18_45" TargetMode="External"/><Relationship Id="rId7" Type="http://schemas.openxmlformats.org/officeDocument/2006/relationships/hyperlink" Target="http://nbuv.gov.ua/UJRN/avk_2019_17-18_45" TargetMode="External"/><Relationship Id="rId8" Type="http://schemas.openxmlformats.org/officeDocument/2006/relationships/hyperlink" Target="http://nbuv.gov.ua/UJRN/avk_2019_17-18_45" TargetMode="External"/><Relationship Id="rId9" Type="http://schemas.openxmlformats.org/officeDocument/2006/relationships/hyperlink" Target="http://nbuv.gov.ua/UJRN/avk_2019_17-18_45" TargetMode="External"/><Relationship Id="rId10" Type="http://schemas.openxmlformats.org/officeDocument/2006/relationships/hyperlink" Target="http://nbuv.gov.ua/UJRN/avk_2019_17-18_45" TargetMode="External"/><Relationship Id="rId11" Type="http://schemas.openxmlformats.org/officeDocument/2006/relationships/hyperlink" Target="http://nbuv.gov.ua/UJRN/avk_2019_17-18_45" TargetMode="External"/><Relationship Id="rId12" Type="http://schemas.openxmlformats.org/officeDocument/2006/relationships/hyperlink" Target="http://nbuv.gov.ua/UJRN/avk_2019_17-18_45" TargetMode="External"/><Relationship Id="rId13" Type="http://schemas.openxmlformats.org/officeDocument/2006/relationships/hyperlink" Target="http://nbuv.gov.ua/UJRN/Nvuumevcg_2019_28(2)__10" TargetMode="External"/><Relationship Id="rId14" Type="http://schemas.openxmlformats.org/officeDocument/2006/relationships/hyperlink" Target="http://nbuv.gov.ua/UJRN/Nvuumevcg_2019_28(2)__10" TargetMode="External"/><Relationship Id="rId15" Type="http://schemas.openxmlformats.org/officeDocument/2006/relationships/hyperlink" Target="http://nbuv.gov.ua/UJRN/Nvuumevcg_2019_28(2)__10" TargetMode="External"/><Relationship Id="rId16" Type="http://schemas.openxmlformats.org/officeDocument/2006/relationships/hyperlink" Target="http://nbuv.gov.ua/UJRN/Nvuumevcg_2019_28(2)__10" TargetMode="External"/><Relationship Id="rId17" Type="http://schemas.openxmlformats.org/officeDocument/2006/relationships/hyperlink" Target="http://nbuv.gov.ua/UJRN/Nvuumevcg_2019_28(2)__10" TargetMode="External"/><Relationship Id="rId18" Type="http://schemas.openxmlformats.org/officeDocument/2006/relationships/hyperlink" Target="http://nbuv.gov.ua/UJRN/Nvuumevcg_2019_28(2)__10" TargetMode="External"/><Relationship Id="rId19" Type="http://schemas.openxmlformats.org/officeDocument/2006/relationships/hyperlink" Target="http://nbuv.gov.ua/UJRN/Nvuumevcg_2019_28(2)__10" TargetMode="External"/><Relationship Id="rId20" Type="http://schemas.openxmlformats.org/officeDocument/2006/relationships/hyperlink" Target="http://nbuv.gov.ua/UJRN/Nvuumevcg_2019_28(2)__10" TargetMode="External"/><Relationship Id="rId21" Type="http://schemas.openxmlformats.org/officeDocument/2006/relationships/hyperlink" Target="http://nbuv.gov.ua/UJRN/Nvuumevcg_2019_28(2)__10" TargetMode="External"/><Relationship Id="rId22" Type="http://schemas.openxmlformats.org/officeDocument/2006/relationships/hyperlink" Target="http://nbuv.gov.ua/UJRN/Nvuumevcg_2019_28(2)__10" TargetMode="External"/><Relationship Id="rId23" Type="http://schemas.openxmlformats.org/officeDocument/2006/relationships/hyperlink" Target="http://nbuv.gov.ua/UJRN/Nvuumevcg_2019_28(2)__10" TargetMode="External"/><Relationship Id="rId24" Type="http://schemas.openxmlformats.org/officeDocument/2006/relationships/hyperlink" Target="http://nbuv.gov.ua/UJRN/Nvuumevcg_2019_28(2)__10" TargetMode="External"/><Relationship Id="rId25" Type="http://schemas.openxmlformats.org/officeDocument/2006/relationships/hyperlink" Target="http://nbuv.gov.ua/UJRN/vknut_2019_2_1_8" TargetMode="External"/><Relationship Id="rId26" Type="http://schemas.openxmlformats.org/officeDocument/2006/relationships/hyperlink" Target="http://nbuv.gov.ua/UJRN/vknut_2019_2_1_8" TargetMode="External"/><Relationship Id="rId27" Type="http://schemas.openxmlformats.org/officeDocument/2006/relationships/hyperlink" Target="http://nbuv.gov.ua/UJRN/vknut_2019_2_1_8" TargetMode="External"/><Relationship Id="rId28" Type="http://schemas.openxmlformats.org/officeDocument/2006/relationships/hyperlink" Target="http://nbuv.gov.ua/UJRN/vknut_2019_2_1_8" TargetMode="External"/><Relationship Id="rId29" Type="http://schemas.openxmlformats.org/officeDocument/2006/relationships/hyperlink" Target="http://nbuv.gov.ua/UJRN/vknut_2019_2_1_8" TargetMode="External"/><Relationship Id="rId30" Type="http://schemas.openxmlformats.org/officeDocument/2006/relationships/hyperlink" Target="http://nbuv.gov.ua/UJRN/vknut_2019_2_1_8" TargetMode="External"/><Relationship Id="rId31" Type="http://schemas.openxmlformats.org/officeDocument/2006/relationships/hyperlink" Target="http://nbuv.gov.ua/UJRN/vknut_2019_2_1_8" TargetMode="External"/><Relationship Id="rId32" Type="http://schemas.openxmlformats.org/officeDocument/2006/relationships/hyperlink" Target="http://nbuv.gov.ua/UJRN/vknut_2019_2_1_8" TargetMode="External"/><Relationship Id="rId33" Type="http://schemas.openxmlformats.org/officeDocument/2006/relationships/hyperlink" Target="http://nbuv.gov.ua/UJRN/vknut_2019_2_1_8" TargetMode="External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79280" y="1841040"/>
            <a:ext cx="8785440" cy="155628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іна: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РЕКРЕАЛОГІЯ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79280" y="4424400"/>
            <a:ext cx="8964720" cy="180036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ладач: д.е.н., доцент кафедри менеджменту зовнішньоекономічної діяльності, готельно-ресторанної справи та туризму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я Олена Михайлівн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3640" y="620280"/>
            <a:ext cx="81961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   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Базовими напрямками рекреаційної і туристичної діяльності у межах територій та об’єктів ПЗФ є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ворення умов для здійснення цих видів діяльності з додержанням режиму територій і об’єктів ПЗ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я та облаштування інформаційно-туристичних центрів, еколого-освітніх стежок, туристичних маршрутів, оглядових майданчиків, рекреаційних ділянок, кемпінгів, таборів для відпочинку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ширення інформації рекламного та інформаційного змісту (оприлюднення у ЗМІ та на веб-сторінках інформації про рекреаційні ресурси і послуги, а також про суб’єктів рекреаційної діяльності в межах ПЗФ та/або поруч з ним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чення, узагальнення та впровадження кращого національного і зарубіжного досвіду і практики з організації рекреаційної та туристичної діяльност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вання у рекреантів і місцевих жителів культури оздоровлення, відпочинку та туризму на природі, бережливого та гуманного ставлення до природної і культурної спадщи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33240" y="1052280"/>
            <a:ext cx="7886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44928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екреаційної і туристичної діяльності є: організація оздоровлення, відпочинку, екскурсійної діяльності, любительського та спортивного рибальства, різних видів туризму: дитячого, молодіжного, сімейного, для осіб похилого віку, для осіб з інвалідністю, культурно-пізнавального, лікувально-оздоровчого, спортивного, релігійного, екологічного (зеленого), сільського, підводного, гірського, пригодницького, автомобільного, самодіяльного тощ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49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33240" y="1052280"/>
            <a:ext cx="7886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ворення умов для розвитку рекреації і туризму включає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тивацію і стимулювання всіх зацікавлених у розвитку регульованої рекреації сторі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ування діяльності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ю обслуговування відвідувачів на території ПЗ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родоохоронний контроль за рекреаційною і туристичною діяльністю усіх суб'єктів на території ПЗ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33240" y="476280"/>
            <a:ext cx="78868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інімізація негативного впливу відпочивальників на природні комплекси й історико-культурні об'єкти здійснюється через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обку і впровадження спеціальних заходів щодо збереження біологічного та ландшафтного різноманіття, історико-культурних об'єкті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кологічну освіту населе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ійснення екологічного моніторинг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новлення порушених природних та історико-культурних комплексів і об'єкт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33240" y="765000"/>
            <a:ext cx="788688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449280" algn="just">
              <a:lnSpc>
                <a:spcPct val="107000"/>
              </a:lnSpc>
              <a:spcBef>
                <a:spcPts val="1026"/>
              </a:spcBef>
              <a:spcAft>
                <a:spcPts val="1026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ціональний природний парк (НПП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риродоохоронна, рекреаційна, культурно-освітня, науково-дослідна установа загальнодержавного значення, що створюється з метою збереження, відтворення і ефективного використання природних комплексів та об’єктів, які мають особливу природоохоронну, оздоровчу, історико-культурну, наукову, освітню та естетичну цінність та забезпечення умов для організованого відпочинку. НПП належить до природно-заповідного фонду України, має свою адміністрацію і є юридичною особою, що утримується за рахунок коштів державного бюдж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49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32880" y="620280"/>
            <a:ext cx="833148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algn="just">
              <a:lnSpc>
                <a:spcPct val="107000"/>
              </a:lnSpc>
              <a:spcBef>
                <a:spcPts val="1026"/>
              </a:spcBef>
              <a:spcAft>
                <a:spcPts val="1026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кладу НПП входять ділянки землі та водного простору з усіма природними ресурсами та об’єктами, що надаються йому у постійне користування та землі без вилучення їх у власників та землекористувач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Завданн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но до мети створення НПП на нього покладається виконання таких завдань: 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збереження цінних природних та історико-культурних комплексів і об’єктів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ворення умов для організованого туризму, відпочинку та інши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иді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креаційно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діяльност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родни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мова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з додержанням режиму охорони заповідних природних комплексів та об’єктів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ня наукових досліджень природних комплексів та їх змін в умовах рекреаційного використання, розробка наукових рекомендаці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итан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хоро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вколишньог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родного середовища та ефективного використання природних ресурс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ня екологічної освітньо-виховної роботи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Rectangle 30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8267760" y="6540480"/>
            <a:ext cx="92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</a:t>
            </a:r>
            <a:fld id="{58E279BC-CDB0-4E39-ADD5-892E7E75A32B}" type="slidenum"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755640" y="1557360"/>
            <a:ext cx="77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395280" y="618480"/>
            <a:ext cx="8569440" cy="527328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5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І ПАРКИ ТА ПРИРОДНО-КУЛЬТУРНІ Й ІСТОРИКО-ПРИРОДНІ КОМПЛЕКСИ ЯК ЕЛЕМЕНТ ІНФРАСТРУКТУРИ РЕКРЕАЦІЙНОЇ СИСТЕМ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633240" y="907920"/>
            <a:ext cx="81946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765000"/>
            <a:ext cx="856944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 лекції: інформаційна (тематич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годин, передбачених робочою програм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 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: вивчення  «комфортних» кліматичних ресурсів та оцінка можливого впливу на розвиток рекреаційно-туристичної діяльності регіональних змін клімат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чити кліматичні умови і ресурси Україн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чити перспективні з погляду розвитку туризму «комфортні» кліматичні умо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50920" y="115920"/>
            <a:ext cx="8642160" cy="606096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риродно-заповідний фонд Украї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аціональні природні пар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а́м'ятки приро́д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50560" y="620280"/>
            <a:ext cx="8713800" cy="555948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2122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дренок Х. М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плив природно-кліматичних факторів на формування дизайну ландшафтно-рекреаційних об’єктів (ЛРО)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рхітектурний вісник КНУБ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2019. Вип. 17-18. С. 332-341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UR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"/>
              </a:rPr>
              <a:t>:/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3"/>
              </a:rPr>
              <a:t>nbuv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4"/>
              </a:rPr>
              <a:t>.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5"/>
              </a:rPr>
              <a:t>gov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7"/>
              </a:rPr>
              <a:t>ua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8"/>
              </a:rPr>
              <a:t>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9"/>
              </a:rPr>
              <a:t>UJRN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1"/>
              </a:rPr>
              <a:t>avk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2"/>
              </a:rPr>
              <a:t>_2019_17-18_4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унько І. В., Галущак О. О., Бурлака С. А. Визначення факторів впливу біопалива на глобальні зміни клімату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хніка, енергетика, транспорт АП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2018. № 3. С. 90-9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розова О. С. Розвиток рекреаційно-туристичної діяльності в умовах змін клімату в південному регіоні України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ковий вісник Ужгородського національного університету. Серія : Міжнародні економічні відносини та світове господарств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019. Вип. 28(2). С. 42-48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UR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3"/>
              </a:rPr>
              <a:t>http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4"/>
              </a:rPr>
              <a:t>:/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5"/>
              </a:rPr>
              <a:t>nbuv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7"/>
              </a:rPr>
              <a:t>gov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8"/>
              </a:rPr>
              <a:t>.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9"/>
              </a:rPr>
              <a:t>ua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0"/>
              </a:rPr>
              <a:t>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1"/>
              </a:rPr>
              <a:t>UJRN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2"/>
              </a:rPr>
              <a:t>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3"/>
              </a:rPr>
              <a:t>Nvuumevcg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4"/>
              </a:rPr>
              <a:t>_2019_28(2)__1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ьовий А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інка комфортності погодно-кліматичних умов в Українських Карпатах для кліматотерапії та рекреації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сник Київського національного університету культури і мистецтв. Серія : Туриз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2019. Т. 2, № 1. С. 60-79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UR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5"/>
              </a:rPr>
              <a:t>http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6"/>
              </a:rPr>
              <a:t>:/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7"/>
              </a:rPr>
              <a:t>nbuv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8"/>
              </a:rPr>
              <a:t>.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9"/>
              </a:rPr>
              <a:t>gov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30"/>
              </a:rPr>
              <a:t>.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31"/>
              </a:rPr>
              <a:t>ua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32"/>
              </a:rPr>
              <a:t>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33"/>
              </a:rPr>
              <a:t>UJRN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vknut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_2019_2_1_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549000"/>
            <a:ext cx="8353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44928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і вимоги до організації рекреаційної та туристичної діяльності викладені у нашому законодавстві. Так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4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Закон України "Про природно-заповідний фонд України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значає можливості та обмеження щодо організації рекреації і туризму залежно від категорій територій та об’єктів природно-заповідного фонду (далі – ПЗФ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4928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иклад, туризм заборонений в природних заповідниках і заповідних зонах національних природних, біосферних заповідників і регіональних ландшафтних парків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Закон України "Про туризм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визначає засади організації туризму як соціально-економічної діяльності, допомагає відповідно взаємодіяти з туристами та туристичним бізнес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49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33240" y="549000"/>
            <a:ext cx="788688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44928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563c1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Положення про рекреаційну діяльність у межах територій та об'єктів природно-заповідного фонду Украї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це підзаконний акт, покликаний сприяти правильній організації рекреації та туризму в межах ПЗФ. За відвідування територій та об’єктів ПЗФ і надання послуг може бути встановлена плата, згідно зі статтею 47 Закону України "Про природно-заповідний фонд України" та відповідно до постанови Кабінету Міністрів України від 28 грудня 2000 ро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4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№ 1913 "Про затвердження переліку платних послуг, які можуть надаватися бюджетними установами природно-заповідного фонду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49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9280" y="620280"/>
            <a:ext cx="86407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44928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же, для забезпечення збереження цінностей і цілісності природних та історико-культурних комплексів і об'єктів для прийдешніх поколінь, адміністрації територій та об’єктів ПЗФ та інші організації і фізичні особи, які відповідають за збереження територій та об’єктів ПЗФ або є власниками чи користувачами земельних ділянок, повинні діяти з урахуванням законодавства і особливостей конкретних природних чи історико-культурних об’єкті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4928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бто рекреаційне і туристичне використання територій та об’єктів ПЗФ можливе за умови розроблення відповідної системи управлінських і господарських заходів з урахуванням встановленого для цих територій та об’єктів режиму охорони і використ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49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2T11:15:48Z</dcterms:created>
  <dc:creator>Татьянка</dc:creator>
  <dc:description/>
  <dc:language>en-US</dc:language>
  <cp:lastModifiedBy>Пользователь Windows</cp:lastModifiedBy>
  <dcterms:modified xsi:type="dcterms:W3CDTF">2021-10-16T20:53:53Z</dcterms:modified>
  <cp:revision>457</cp:revision>
  <dc:subject/>
  <dc:title>Презентация PowerPoint</dc:title>
</cp:coreProperties>
</file>