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33A-6F27-4A31-863B-6B7648BEEEBE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897-8780-4325-AB8C-1BAF78D7F656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9CC7-729D-4679-A761-72AA65AB8659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E95-B932-41E2-AD68-3FD3E71F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52A-C24A-4229-BA25-0E2B7083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25C-0556-41E9-8F8C-8C65A8C5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C75-07C0-496F-B704-0A99C8D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9E8-07B2-4165-8EA2-C62BC89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25B-6766-4A4B-898D-10035DDE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955-3577-483A-A135-0A8B753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D84-B514-48CB-8F26-745E2762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761-3A96-4FE2-BE81-4C2B07A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0F5-C271-46F6-A0B9-1167478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EE0-116B-45E9-801C-0FCB230D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47D-F1E2-466C-A774-F0F8227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C5D-6100-453E-8729-97BF74DE174B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buv.gov.ua/UJRN/avk_2019_17-18_45" TargetMode="External"/><Relationship Id="rId2" Type="http://schemas.openxmlformats.org/officeDocument/2006/relationships/hyperlink" Target="http://nbuv.gov.ua/UJRN/avk_2019_17-18_45" TargetMode="External"/><Relationship Id="rId3" Type="http://schemas.openxmlformats.org/officeDocument/2006/relationships/hyperlink" Target="http://nbuv.gov.ua/UJRN/avk_2019_17-18_45" TargetMode="External"/><Relationship Id="rId4" Type="http://schemas.openxmlformats.org/officeDocument/2006/relationships/hyperlink" Target="http://nbuv.gov.ua/UJRN/avk_2019_17-18_45" TargetMode="External"/><Relationship Id="rId5" Type="http://schemas.openxmlformats.org/officeDocument/2006/relationships/hyperlink" Target="http://nbuv.gov.ua/UJRN/avk_2019_17-18_45" TargetMode="External"/><Relationship Id="rId6" Type="http://schemas.openxmlformats.org/officeDocument/2006/relationships/hyperlink" Target="http://nbuv.gov.ua/UJRN/avk_2019_17-18_45" TargetMode="External"/><Relationship Id="rId7" Type="http://schemas.openxmlformats.org/officeDocument/2006/relationships/hyperlink" Target="http://nbuv.gov.ua/UJRN/avk_2019_17-18_45" TargetMode="External"/><Relationship Id="rId8" Type="http://schemas.openxmlformats.org/officeDocument/2006/relationships/hyperlink" Target="http://nbuv.gov.ua/UJRN/avk_2019_17-18_45" TargetMode="External"/><Relationship Id="rId9" Type="http://schemas.openxmlformats.org/officeDocument/2006/relationships/hyperlink" Target="http://nbuv.gov.ua/UJRN/avk_2019_17-18_45" TargetMode="External"/><Relationship Id="rId10" Type="http://schemas.openxmlformats.org/officeDocument/2006/relationships/hyperlink" Target="http://nbuv.gov.ua/UJRN/avk_2019_17-18_45" TargetMode="External"/><Relationship Id="rId11" Type="http://schemas.openxmlformats.org/officeDocument/2006/relationships/hyperlink" Target="http://nbuv.gov.ua/UJRN/avk_2019_17-18_45" TargetMode="External"/><Relationship Id="rId12" Type="http://schemas.openxmlformats.org/officeDocument/2006/relationships/hyperlink" Target="http://nbuv.gov.ua/UJRN/avk_2019_17-18_45" TargetMode="External"/><Relationship Id="rId13" Type="http://schemas.openxmlformats.org/officeDocument/2006/relationships/hyperlink" Target="http://nbuv.gov.ua/UJRN/Nvuumevcg_2019_28(2)__10" TargetMode="External"/><Relationship Id="rId14" Type="http://schemas.openxmlformats.org/officeDocument/2006/relationships/hyperlink" Target="http://nbuv.gov.ua/UJRN/Nvuumevcg_2019_28(2)__10" TargetMode="External"/><Relationship Id="rId15" Type="http://schemas.openxmlformats.org/officeDocument/2006/relationships/hyperlink" Target="http://nbuv.gov.ua/UJRN/Nvuumevcg_2019_28(2)__10" TargetMode="External"/><Relationship Id="rId16" Type="http://schemas.openxmlformats.org/officeDocument/2006/relationships/hyperlink" Target="http://nbuv.gov.ua/UJRN/Nvuumevcg_2019_28(2)__10" TargetMode="External"/><Relationship Id="rId17" Type="http://schemas.openxmlformats.org/officeDocument/2006/relationships/hyperlink" Target="http://nbuv.gov.ua/UJRN/Nvuumevcg_2019_28(2)__10" TargetMode="External"/><Relationship Id="rId18" Type="http://schemas.openxmlformats.org/officeDocument/2006/relationships/hyperlink" Target="http://nbuv.gov.ua/UJRN/Nvuumevcg_2019_28(2)__10" TargetMode="External"/><Relationship Id="rId19" Type="http://schemas.openxmlformats.org/officeDocument/2006/relationships/hyperlink" Target="http://nbuv.gov.ua/UJRN/Nvuumevcg_2019_28(2)__10" TargetMode="External"/><Relationship Id="rId20" Type="http://schemas.openxmlformats.org/officeDocument/2006/relationships/hyperlink" Target="http://nbuv.gov.ua/UJRN/Nvuumevcg_2019_28(2)__10" TargetMode="External"/><Relationship Id="rId21" Type="http://schemas.openxmlformats.org/officeDocument/2006/relationships/hyperlink" Target="http://nbuv.gov.ua/UJRN/Nvuumevcg_2019_28(2)__10" TargetMode="External"/><Relationship Id="rId22" Type="http://schemas.openxmlformats.org/officeDocument/2006/relationships/hyperlink" Target="http://nbuv.gov.ua/UJRN/Nvuumevcg_2019_28(2)__10" TargetMode="External"/><Relationship Id="rId23" Type="http://schemas.openxmlformats.org/officeDocument/2006/relationships/hyperlink" Target="http://nbuv.gov.ua/UJRN/Nvuumevcg_2019_28(2)__10" TargetMode="External"/><Relationship Id="rId24" Type="http://schemas.openxmlformats.org/officeDocument/2006/relationships/hyperlink" Target="http://nbuv.gov.ua/UJRN/Nvuumevcg_2019_28(2)__10" TargetMode="External"/><Relationship Id="rId25" Type="http://schemas.openxmlformats.org/officeDocument/2006/relationships/hyperlink" Target="http://nbuv.gov.ua/UJRN/vknut_2019_2_1_8" TargetMode="External"/><Relationship Id="rId26" Type="http://schemas.openxmlformats.org/officeDocument/2006/relationships/hyperlink" Target="http://nbuv.gov.ua/UJRN/vknut_2019_2_1_8" TargetMode="External"/><Relationship Id="rId27" Type="http://schemas.openxmlformats.org/officeDocument/2006/relationships/hyperlink" Target="http://nbuv.gov.ua/UJRN/vknut_2019_2_1_8" TargetMode="External"/><Relationship Id="rId28" Type="http://schemas.openxmlformats.org/officeDocument/2006/relationships/hyperlink" Target="http://nbuv.gov.ua/UJRN/vknut_2019_2_1_8" TargetMode="External"/><Relationship Id="rId29" Type="http://schemas.openxmlformats.org/officeDocument/2006/relationships/hyperlink" Target="http://nbuv.gov.ua/UJRN/vknut_2019_2_1_8" TargetMode="External"/><Relationship Id="rId30" Type="http://schemas.openxmlformats.org/officeDocument/2006/relationships/hyperlink" Target="http://nbuv.gov.ua/UJRN/vknut_2019_2_1_8" TargetMode="External"/><Relationship Id="rId31" Type="http://schemas.openxmlformats.org/officeDocument/2006/relationships/hyperlink" Target="http://nbuv.gov.ua/UJRN/vknut_2019_2_1_8" TargetMode="External"/><Relationship Id="rId32" Type="http://schemas.openxmlformats.org/officeDocument/2006/relationships/hyperlink" Target="http://nbuv.gov.ua/UJRN/vknut_2019_2_1_8" TargetMode="External"/><Relationship Id="rId33" Type="http://schemas.openxmlformats.org/officeDocument/2006/relationships/hyperlink" Target="http://nbuv.gov.ua/UJRN/vknut_2019_2_1_8" TargetMode="External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РЕКРЕАЛОГІЯ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3640" y="620280"/>
            <a:ext cx="81961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азовими напрямками рекреаційної і туристичної діяльності у межах територій та об’єктів ПЗФ є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здійснення цих видів діяльності з додержанням режиму територій і об’єктів ПЗ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я та облаштування інформаційно-туристичних центрів, еколого-освітніх стежок, туристичних маршрутів, оглядових майданчиків, рекреаційних ділянок, кемпінгів, таборів для відпочинк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ширення інформації рекламного та інформаційного змісту (оприлюднення у ЗМІ та на веб-сторінках інформації про рекреаційні ресурси і послуги, а також про суб’єктів рекреаційної діяльності в межах ПЗФ та/або поруч з ним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чення, узагальнення та впровадження кращого національного і зарубіжного досвіду і практики з організації рекреаційної та туристичної діяльност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вання у рекреантів і місцевих жителів культури оздоровлення, відпочинку та туризму на природі, бережливого та гуманного ставлення до природної і культурної спадщи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3240" y="1052280"/>
            <a:ext cx="7886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екреаційної і туристичної діяльності є: організація оздоровлення, відпочинку, екскурсійної діяльності, любительського та спортивного рибальства, різних видів туризму: дитячого, молодіжного, сімейного, для осіб похилого віку, для осіб з інвалідністю, культурно-пізнавального, лікувально-оздоровчого, спортивного, релігійного, екологічного (зеленого), сільського, підводного, гірського, пригодницького, автомобільного, самодіяльного тощ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33240" y="1052280"/>
            <a:ext cx="7886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розвитку рекреації і туризму включа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тивацію і стимулювання всіх зацікавлених у розвитку регульованої рекреації сторі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ування діяльност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ю обслуговування відвідувачів на території ПЗ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родоохоронний контроль за рекреаційною і туристичною діяльністю усіх суб'єктів на території ПЗ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33240" y="476280"/>
            <a:ext cx="78868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інімізація негативного впливу відпочивальників на природні комплекси й історико-культурні об'єкти здійснюється чере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у і впровадження спеціальних заходів щодо збереження біологічного та ландшафтного різноманіття, історико-культурних об'єкт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ологічну освіту населе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йснення екологічного моніторинг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влення порушених природних та історико-культурних комплексів і об'єкт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33240" y="765000"/>
            <a:ext cx="78868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1026"/>
              </a:spcBef>
              <a:spcAft>
                <a:spcPts val="1026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ціональний природний парк (НПП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иродоохоронна, рекреаційна, культурно-освітня, науково-дослідна установа загальнодержавного значення, що створюється з метою збереження, відтворення і ефективного використання природних комплексів та об’єктів, які мають особливу природоохоронну, оздоровчу, історико-культурну, наукову, освітню та естетичну цінність та забезпечення умов для організованого відпочинку. НПП належить до природно-заповідного фонду України, має свою адміністрацію і є юридичною особою, що утримується за рахунок коштів державного бюдж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32880" y="620280"/>
            <a:ext cx="8331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algn="just">
              <a:lnSpc>
                <a:spcPct val="107000"/>
              </a:lnSpc>
              <a:spcBef>
                <a:spcPts val="1026"/>
              </a:spcBef>
              <a:spcAft>
                <a:spcPts val="1026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НПП входять ділянки землі та водного простору з усіма природними ресурсами та об’єктами, що надаються йому у постійне користування та землі без вилучення їх у власників та землекористувач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вданн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но до мети створення НПП на нього покладається виконання таких завдань: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береження цінних природних та історико-культурних комплексів і об’єктів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рення умов для організованого туризму, відпочинку та інш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ді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креаційно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яльност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родн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мова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 додержанням режиму охорони заповідних природних комплексів та об’єктів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ня наукових досліджень природних комплексів та їх змін в умовах рекреаційного використання, розробка наукових рекомендаці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та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хоро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вколишньо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родного середовища та ефективного використання природних ресурс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ня екологічної освітньо-виховної роботи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267760" y="6540480"/>
            <a:ext cx="92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</a:t>
            </a:r>
            <a:fld id="{16EE0E54-15AB-4FFB-B277-2D2E4FD36C31}" type="slidenum"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55640" y="155736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95280" y="618480"/>
            <a:ext cx="8569440" cy="52732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5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І ПАРКИ ТА ПРИРОДНО-КУЛЬТУРНІ Й ІСТОРИКО-ПРИРОДНІ КОМПЛЕКСИ ЯК ЕЛЕМЕНТ ІНФРАСТРУКТУРИ РЕКРЕАЦІЙНОЇ СИСТЕ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633240" y="907920"/>
            <a:ext cx="81946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765000"/>
            <a:ext cx="856944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 лекції: інформаційна (тематич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годин, передбачених робочою програм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вивчення  «комфортних» кліматичних ресурсів та оцінка можливого впливу на розвиток рекреаційно-туристичної діяльності регіональних змін кліма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кліматичні умови і ресурси Україн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перспективні з погляду розвитку туризму «комфортні» кліматичні ум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5920"/>
            <a:ext cx="8642160" cy="60609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родно-заповідний фонд Украї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ціональні природні пар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́м'ятки приро́д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52380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620280"/>
            <a:ext cx="8713800" cy="555948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2122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дренок Х. 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лив природно-кліматичних факторів на формування дизайну ландшафтно-рекреаційних об’єктів (ЛРО)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хітектурний вісник КНУБ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9. Вип. 17-18. С. 332-34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5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7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9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1"/>
              </a:rPr>
              <a:t>avk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2"/>
              </a:rPr>
              <a:t>_2019_17-18_4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нько І. В., Галущак О. О., Бурлака С. А. Визначення факторів впливу біопалива на глобальні зміни клімату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іка, енергетика, транспорт АП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8. № 3. С. 90-9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озова О. С. Розвиток рекреаційно-туристичної діяльності в умовах змін клімату в південному регіоні України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ий вісник Ужгородського національного університету. Серія : Міжнародні економічні відносини та світове господарст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9. Вип. 28(2). С. 42-48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3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4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5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7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8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9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0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1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2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3"/>
              </a:rPr>
              <a:t>Nvuumevcg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4"/>
              </a:rPr>
              <a:t>_2019_28(2)__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ьовий 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інка комфортності погодно-кліматичних умов в Українських Карпатах для кліматотерапії та рекреації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сник Київського національного університету культури і мистецтв. Серія : Туриз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2019. Т. 2, № 1. С. 60-79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5"/>
              </a:rPr>
              <a:t>http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6"/>
              </a:rPr>
              <a:t>:/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7"/>
              </a:rPr>
              <a:t>nbu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8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9"/>
              </a:rPr>
              <a:t>gov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0"/>
              </a:rPr>
              <a:t>.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1"/>
              </a:rPr>
              <a:t>ua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2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3"/>
              </a:rPr>
              <a:t>UJRN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vknut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_2019_2_1_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549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і вимоги до організації рекреаційної та туристичної діяльності викладені у нашому законодавстві. Так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Закон України "Про природно-заповідний фонд України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 можливості та обмеження щодо організації рекреації і туризму залежно від категорій територій та об’єктів природно-заповідного фонду (далі – ПЗФ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иклад, туризм заборонений в природних заповідниках і заповідних зонах національних природних, біосферних заповідників і регіональних ландшафтних парків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Закон України "Про туризм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визначає засади організації туризму як соціально-економічної діяльності, допомагає відповідно взаємодіяти з туристами та туристичним бізне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33240" y="549000"/>
            <a:ext cx="788688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563c1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Положення про рекреаційну діяльність у межах територій та об'єктів природно-заповідного фонду Украї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це підзаконний акт, покликаний сприяти правильній організації рекреації та туризму в межах ПЗФ. За відвідування територій та об’єктів ПЗФ і надання послуг може бути встановлена плата, згідно зі статтею 47 Закону України "Про природно-заповідний фонд України" та відповідно до постанови Кабінету Міністрів України від 28 грудня 2000 ро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№ 1913 "Про затвердження переліку платних послуг, які можуть надаватися бюджетними установами природно-заповідного фонду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620280"/>
            <a:ext cx="8640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же, для забезпечення збереження цінностей і цілісності природних та історико-культурних комплексів і об'єктів для прийдешніх поколінь, адміністрації територій та об’єктів ПЗФ та інші організації і фізичні особи, які відповідають за збереження територій та об’єктів ПЗФ або є власниками чи користувачами земельних ділянок, повинні діяти з урахуванням законодавства і особливостей конкретних природних чи історико-культурних об’єкт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 algn="just">
              <a:lnSpc>
                <a:spcPct val="107000"/>
              </a:lnSpc>
              <a:spcBef>
                <a:spcPts val="751"/>
              </a:spcBef>
              <a:spcAft>
                <a:spcPts val="799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бто рекреаційне і туристичне використання територій та об’єктів ПЗФ можливе за умови розроблення відповідної системи управлінських і господарських заходів з урахуванням встановленого для цих територій та об’єктів режиму охорони і використ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1-10-16T20:53:53Z</dcterms:modified>
  <cp:revision>457</cp:revision>
  <dc:subject/>
  <dc:title>Презентация PowerPoint</dc:title>
</cp:coreProperties>
</file>