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29A1-1762-4119-8044-319C02C731BB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1492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4ADD-FEC2-4092-85C7-AAACE4DC8035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1492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4B05-12F4-4D97-A2E1-BDFBB5A70F1E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DDE-ED77-42F6-82F0-8F5BEA14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753-4218-45D9-95E1-C0954C20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A30-E175-4BF8-A952-48B242FB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682-7E03-47D0-9ABE-BE2C4344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6E3-31B7-4C33-95E6-52859247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30B-A38F-4740-AF41-75D80DF0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46F-F86C-4FD0-9C7F-00F03824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5F5-89FE-40C2-8C60-A23CD006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FBC-9EFB-4EC9-A19E-CA2E00FA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C75-1361-4A14-95DA-311B0918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43C-1FB5-4DEE-9B65-B5D997FF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4DE-F1B4-4CB2-9E07-D4135647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2"/>
            </a:gs>
            <a:gs pos="100000">
              <a:srgbClr val="00b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59595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595959"/>
                </a:solidFill>
                <a:latin typeface="Trebuchet MS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2C6A-ABDB-4F1A-AA93-2C71601756B1}" type="slidenum">
              <a:rPr b="0" lang="uk-UA" sz="8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79280" y="184104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іна: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РЕКРЕАЛОГІЯ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79280" y="44244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ладач: д.е.н., доцент кафедри менеджменту зовнішньоекономічної діяльності, готельно-ресторанної справи та туризму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я Олена Михайлівн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6560" y="47592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цесі еволюційного розвитку протягом сотень тисяч років організм людини адаптувався до споживання природної прісної чистої води, мінералізація якої перебуває в межах 0,2–0,1 г/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аслідок техногенної діяльності людини практично вся прісна вода поверхневих і підземних джерел Землі є забруднено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7640" y="476280"/>
            <a:ext cx="8929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в лікувальних цілях використовується з періоду античності. Занепад гігієнічних традицій у середньовічній Європі значно відбився на стані здоров’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ну обмивали двічі – під час народження та після смерті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панська королева Ізабелла Кастильська (1451-1504 рр.) приймала ванну один раз за своє життя у день весілля з Фердинанд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50560" y="554040"/>
            <a:ext cx="46990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торія гідротерапії пов’язана з іменем Себастьяна Кнейпа (німецький католицький священник), який у ХІХ ст. у книзі «Моє водолікування» описав найпростіші методи лікування і збереження здоров’я за допомогою прісної вод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Sebastian Kneipp.jpg"/>
          <p:cNvPicPr/>
          <p:nvPr/>
        </p:nvPicPr>
        <p:blipFill>
          <a:blip r:embed="rId1"/>
          <a:stretch/>
        </p:blipFill>
        <p:spPr>
          <a:xfrm>
            <a:off x="5435640" y="934920"/>
            <a:ext cx="331632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79280" y="331560"/>
            <a:ext cx="88567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потужніші рекреаційні комплекси України сформовано на узбережжі Чорного та Азовського морів. Україні належить 41,3% довжини берегів Чорного моря. Крім того, саме північне його узбережжя вважається найсприятливішим з точки зору рекреації, оскільки невелика глибина (близько 100 м) та впадіння теплих річкових вод у літній період забезпечують значно більше прогрівання води, ніж на інших його ділян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валість купального сезону в Азово-Чорноморському басейні перевищує 4 місяці — з кінця травня до початку жовтня. Загальна одноразова місткість усіх пляжів регіону оцінюється в 5 млн. осі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8000" y="259920"/>
            <a:ext cx="8856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раїні налічується близько 20 тис. озер, з них 43 мають площу понад 10 км2. Вони відіграють значну роль в організації туризму та відпочинку. Озера здебільшого придатні для купання, рибалки, водних видів спорту, пізнавального туризм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географічною ознакою озера України об’єднуються в такі основні групи: Шацькі, Слов’янські, Турійсько-озернянські, Перекопські, Євпаторійські, Керченські та Придунайськ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є надзвичайно широкий спектр рекреаційного використання річок. Річки є невід’ємною складовою краєвиду і при наявності інших сприятливих умов (чиста вода, атрактивність ландшафту) відіграють велику роль. В Україні налічується від 63 до 71 тис. річок загальною довжиною близько 204 тис. км, із них 3,3 тис. — найбільш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6200" y="549000"/>
            <a:ext cx="80535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кщо вести мову про масштаби розвитку рекреації, слід пам'ятати і враховувати, що різні види рекреаційної діяльності вимагають специфічних вимог до параметрів водойм і берегової зони, а також до якості оточуючого середовищ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і фактори можуть відігравати основну, а іноді і вирішальну роль при визначенні рекреаційної цінності акваторіально-територіальних комплексів. Наявні параметри акваторії і берегової зони, які рекомендуються для оптимальних умов відпочинку, коливаються в дуже широких меж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Объект 4" descr=""/>
          <p:cNvPicPr/>
          <p:nvPr/>
        </p:nvPicPr>
        <p:blipFill>
          <a:blip r:embed="rId1"/>
          <a:srcRect l="19553" t="36777" r="23917" b="16890"/>
          <a:stretch/>
        </p:blipFill>
        <p:spPr>
          <a:xfrm>
            <a:off x="108000" y="1052640"/>
            <a:ext cx="8928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4400" spc="-1" strike="noStrike">
                <a:solidFill>
                  <a:srgbClr val="4472c4"/>
                </a:solidFill>
                <a:latin typeface="Calibri"/>
              </a:rPr>
              <a:t>2. Водолокування та гідротерапаія в рекреалогії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50560" y="189000"/>
            <a:ext cx="8785080" cy="61927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 fontScale="98000"/>
          </a:bodyPr>
          <a:p>
            <a:pPr marL="167760" indent="-1677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лікування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ікувальне застосування води. Поділяється на гідротерапію і бальнеотерапію.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лікуванн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дійснюється різними технічними прийомами і процедурами (обливання, купання, обтирання, душ, ванни та ін.) відповідно до характеру захворювання і завдань лікувальної дії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4000" y="549360"/>
            <a:ext cx="8496000" cy="59767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дротерапі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 гр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or 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й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e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ляд, лікування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дротерапі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ікувальне використання прісної води. Прісна вода (водопровідна, річкова, озерна) в лікувальних цілях використовується у виді обливань, обтирань, душів і ванн (загальних і часткових для кінцівок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існу воду часто додають різні ароматичні речовини (хвойний екстракт, шавлія та ін.), а також засоби для посилення впливу на кровообіг (скипидар, гірчиця).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87280" y="4303440"/>
            <a:ext cx="8569440" cy="23184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лекції 7: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ні рекреаційні ресурси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1" name="Picture 4" descr="13.Географія світових природних ресурсів: мінеральних, земельних, лісових,  водних, рекреаційних. | Економічна і соціальна географія світу, 10-11 клас"/>
          <p:cNvPicPr/>
          <p:nvPr/>
        </p:nvPicPr>
        <p:blipFill>
          <a:blip r:embed="rId1"/>
          <a:stretch/>
        </p:blipFill>
        <p:spPr>
          <a:xfrm>
            <a:off x="0" y="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4920" y="404280"/>
            <a:ext cx="8497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ьогодні прісну воду використовують у гідротерапії як у чистому виді, так і з додаванням фітопрепаратів й інших біологічно активних речови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дротерапія набула широкого розповсюдження в лікувально-профілактичній практиці й у відновленні організму після перенесених захворювань, оздоровленні організму, підвищенні його резистентності до несприятливих умов зовнішнього середовища, тренуванні, загартовуванн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121428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ctr">
            <a:noAutofit/>
          </a:bodyPr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дротерапевтичні процеду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асіб тренування й загартовування організму до дії холодових, а також високотермічних подразників.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419120"/>
            <a:ext cx="9036000" cy="532296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н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хвороби системи кровообігу (гіпертонічна хвороба, ішемічна хвороба серця, наслідки міокардитів, нейроциркуляторна дистонія, захворювання периферичних артерій, вен, лімфатичних судин); хвороби кістково-м’язової системи й наслідки травм периферичної і ЦНС; хвороби органів травлення, порушення обміну речовин, порушення менструального циклу, хвороби шкіри, хронічні неспецифічні захворювання легені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показан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хильність до динамічних порушень мозкового й коронарного кровообігу, недостатність кровообігу вище І-Б стадії, виражені явища атеросклеротичного кардіосклерозу із хронічною коронарною недостатністю другої та третьої груп, гіпертонічна хвороба ІІІ-Б стадії, нещодавно перенесений інфаркт міокарда (до року) або інсульт, важка стенокарді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4200" y="115920"/>
            <a:ext cx="8175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 Light"/>
              </a:rPr>
              <a:t>Купання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Picture 2" descr="Безпечне купання влітку: у відповідних місцях і на тверезу голову –  SmartNews"/>
          <p:cNvPicPr/>
          <p:nvPr/>
        </p:nvPicPr>
        <p:blipFill>
          <a:blip r:embed="rId1"/>
          <a:stretch/>
        </p:blipFill>
        <p:spPr>
          <a:xfrm>
            <a:off x="179280" y="907920"/>
            <a:ext cx="878544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50560" y="331560"/>
            <a:ext cx="8713800" cy="584820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упанн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ізняють купання у відкритих природних басейнах (річках, озерах, морях) і в штучних закритих басейнах. При купанні тіло зштовхується з великими, в порівнянні з ваннами, масами води. При цьому вони постійно змінюються завдяки рухам, що утворюються в процесі купання, або завдяки рухам самої води (течія, удари, хвилі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у при купанні, особливо при плаванні, значно різкіше виражена механічна дія води, чим при інших методах водолікування. У відкритих водоймищах температурна дія при купанні значно сильніша, ніж при інших повітряних процедурах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упанні в озерах з мінеральною водою і в морі приєднується ще хімічна дія во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упанні у відкритих басейнах приєднуються потужна дія повітря і сонця, а також навколишнього пейзаж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9280" y="189000"/>
            <a:ext cx="8785440" cy="61927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ня у відкритих басейнах сприяє тренуванню серцево-судинної і нервової системи, процесів терморегуляції і обміну речовин, надають гартуючу ді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ня в закритих приміщеннях (штучних басейнах) діють набагато слабкіше внаслідок відсутності впливу сонячної радіації та інших чинникі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ня призначається для гартування організму, з лікувальною метою при хворобах обміну речовин (подагра, ожиріння), неврастенії, загальній перевтомі, недокрів’ї, рахіті та і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тися у відкритих водоймищах рекомендується при температурі 20-22°С повітря і води не нижче 17-18°С. Перед купанням бажано відпочити 10-15 х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79280" y="259920"/>
            <a:ext cx="8785440" cy="619308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тиранн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лікувально-профілактична процедура, що складається з інтенсивного короткочасового обтирання ті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чатку користуються водою кімнатної температури. У процесі процедури температура води поступово знижується і доводиться зазвичай до температури холодної, водопровідної вод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і обтирання людина відчуває теплоту в тілі, свіжість, бадьорість і прилив сил. Процедура широко застосовується для гартування організму, підвищення його стійкості до простудних захворюван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78868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Calibri Light"/>
              </a:rPr>
              <a:t>Обливання</a:t>
            </a:r>
            <a:r>
              <a:rPr b="0" lang="uk-UA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Объект 3" descr=""/>
          <p:cNvPicPr/>
          <p:nvPr/>
        </p:nvPicPr>
        <p:blipFill>
          <a:blip r:embed="rId1"/>
          <a:stretch/>
        </p:blipFill>
        <p:spPr>
          <a:xfrm>
            <a:off x="0" y="736560"/>
            <a:ext cx="91440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9640" y="1123560"/>
            <a:ext cx="7886880" cy="43513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ванн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йпростіша водна профілактична або лікувальна процедура, що призначається зазвичай на початку курсу водолікування, після чого переходять до процедур з більш вираженою дратівливою дією. Обливання за своєю дією наближається до душ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4000" y="10522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5400" spc="-1" strike="noStrike">
                <a:solidFill>
                  <a:srgbClr val="4472c4"/>
                </a:solidFill>
                <a:latin typeface="Calibri"/>
              </a:rPr>
              <a:t>3. Душі і ванни в гідротерапії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4000" y="115560"/>
            <a:ext cx="8640720" cy="655308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одолікувальна процедура, за якої на тіло пацієнта впливають водою у вигляді струменя або безлічі малих струменів чітко дозованої температури й тис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час процедури лікувального душу струмочки води діють на шкіру пацієнта, подразнюючи на шкірі безліч рецепторів (механічні й температурні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шкірі наростає кількість біологічно активних речовин, які викликають різного ступеня вираженості зміни тонусу найдрібніших кровоносних судин – артеріол, які стимулюють лімфот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42840" y="77760"/>
            <a:ext cx="899316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9280" y="259920"/>
            <a:ext cx="8569440" cy="597708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очасний гарячий або холодний душ підвищує тонус скелетних м’язів, збільшується загальний судинний периферичний опір. Змінюється тривалість фаз серцевого циклу, збільшується скорочувальна здатність серц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ий або прохолодний душ знижує тонус судин, артеріальний тиск, посилює проходження імунних процесів у шкірі. Фізіологічні реакції суттєво посилюються під час збільшення тиску струменя води, що подають на пацієн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і й гарячі душі збуджують процесі у корені головного мозку, теплі й прохолодні – активують гальмівні процеси та зменшують чутливість больового осеред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Объект 3" descr=""/>
          <p:cNvPicPr/>
          <p:nvPr/>
        </p:nvPicPr>
        <p:blipFill>
          <a:blip r:embed="rId1"/>
          <a:srcRect l="23997" t="46265" r="24761" b="11604"/>
          <a:stretch/>
        </p:blipFill>
        <p:spPr>
          <a:xfrm>
            <a:off x="108000" y="765000"/>
            <a:ext cx="903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8868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Calibri Light"/>
              </a:rPr>
              <a:t>Душ Шарко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870120" y="1123920"/>
            <a:ext cx="75564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3240" y="260280"/>
            <a:ext cx="78868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Calibri Light"/>
              </a:rPr>
              <a:t>Циркулярний душ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Объект 3" descr=""/>
          <p:cNvPicPr/>
          <p:nvPr/>
        </p:nvPicPr>
        <p:blipFill>
          <a:blip r:embed="rId1"/>
          <a:stretch/>
        </p:blipFill>
        <p:spPr>
          <a:xfrm>
            <a:off x="365040" y="1197000"/>
            <a:ext cx="84916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8652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Calibri Light"/>
              </a:rPr>
              <a:t>Підводний душ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179280" y="947880"/>
            <a:ext cx="8785440" cy="57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79280" y="26028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одолікувальна процедура, основним діючим фактором якої є гідростатичний тиск водяного стовпа, а також механічне та хімічне подразнення рецепторів шкіри й слизових оболонок водою та розчиненими в ній речовин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ни можуть бути загальні або місцев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емпературою ванни діляться н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ячі — (40°С і вище)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плі — (38-39°С)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плуваті — (37°С)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індиферентні — (34-36°С)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холодні — (32-25°С)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олодні — (нижче 20°С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66560" y="836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ривалістю розрізняють ванни: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роткочасові (1-5 хв.);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вичайної тривалості (15-20 хв.);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ивалі (декілька годин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Объект 3" descr=""/>
          <p:cNvPicPr/>
          <p:nvPr/>
        </p:nvPicPr>
        <p:blipFill>
          <a:blip r:embed="rId1"/>
          <a:srcRect l="27403" t="26437" r="28167" b="25374"/>
          <a:stretch/>
        </p:blipFill>
        <p:spPr>
          <a:xfrm>
            <a:off x="108000" y="692280"/>
            <a:ext cx="90360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Rectangle 30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8267760" y="6540480"/>
            <a:ext cx="92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</a:t>
            </a:r>
            <a:fld id="{22527B03-97AF-493F-9CD3-6C8D4EC0E68E}" type="slidenum"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755640" y="1557360"/>
            <a:ext cx="77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365040"/>
            <a:ext cx="8124840" cy="9763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 Light"/>
              </a:rPr>
              <a:t>Література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83960" y="1483920"/>
            <a:ext cx="8785080" cy="43513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и рекреалогії (економіко-екологічний та маркетинговий аспект) [текст] : навч. посіб. / І. О. Гродзинська, С. Г. Нездоймінов, О. В. Гусєва, А. В. Замкова. – К. : «Центр учбової літератури», 2014. – 264 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ортологія : підручник / О. М. Кравець, А. А. Рябєв ; Харків. нац. ун-т міськ. госп-ва ім. О. М. Бекетова. – Харків : ХНУМГ ім. О. М. Бекетова, 2017. – 167 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0920" y="259920"/>
            <a:ext cx="8642160" cy="60613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гальна характеристика водних рекреаційних ресурсі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одолікування та гідротерапія в рекреалогі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уші і ванни в гідротерапі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1. Загальна характеристика водних рекреаційних ресурсі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560" y="907560"/>
            <a:ext cx="87138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рганізації відпочинку особлива роль належить водним об'єктам. Можливість займатися різноманітними видами спорту, мікрокліматичний комфорт, естетична дія берегових мальовничих ландшафтів, зміна вражень - все це, діючи в комплексі, сприяє тому, що водойми цілком можна вважати природними лікувальниця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ь чому більша частина рекреаційних закладів і майже всі заклади короткочасного відпочинку населення розміщуються або безпосередньо на берегах водойм, або поблизу 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47592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авильної оцінки ситуацій, що виникли в районах масового рекреаційного водокористування, розробки і обґрунтування рішень з його оптимізації дуже важливо враховувати, що водні рекреації - неоднозначне понятт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но включає в себе різні види відпочинку і спорту, які суттєво відрізняються сезонами максимального розвитку, вимогами до природних і антропогенних факторів, дією на навколишнє середовищ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24000" y="189000"/>
            <a:ext cx="84960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 це наочно свідчить вже сам перелік найбільш масових видів рекреаційних занять на водоймах: купання, рибальство (з судна, з берега, з льоду), відпочинок на парусних і веслових суднах, відпочинок з використанням моторного малолітражного флоту, воднолижний спорт, туризм, підводне полювання, полювання на водоплавну здобич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ізноманітність водних видів відпочинку і спорту вимагає диференційованого підходу до вирішення питань рекреаційного водовикористання як для різноманітних типів водних об'єктів (річка, озеро, водосховище, море), так і в межах кожного досить великого водного об'є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2T11:15:48Z</dcterms:created>
  <dc:creator>Татьянка</dc:creator>
  <dc:description/>
  <dc:language>en-US</dc:language>
  <cp:lastModifiedBy>Пользователь Windows</cp:lastModifiedBy>
  <dcterms:modified xsi:type="dcterms:W3CDTF">2021-10-16T18:56:43Z</dcterms:modified>
  <cp:revision>467</cp:revision>
  <dc:subject/>
  <dc:title>Презентация PowerPoint</dc:title>
</cp:coreProperties>
</file>