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579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3A6EE-D699-4776-B348-D403177D5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A32E9-9FA9-467B-B68F-523B9C25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3A634-5D47-4490-9D8B-92724972C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2EA16-F688-485F-8AAE-DEB05F74F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AF09D-B5A7-471E-9056-F0313475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792AA-0D7D-46E8-BB85-DA80D41B2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EC3FE-316F-455B-B03B-311F2EE8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C9C5-0945-4054-9833-7AA268B5B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2A83D-EFFF-49F5-9A23-3C2A40F53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7900E-7167-42FC-A5BD-B61F9663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69D9-B73F-450A-B66C-02F0A2B7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1720-060E-4921-B84E-931431EA4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2CF9-7057-4781-8EFB-D324B2586023}" type="slidenum">
              <a:rPr b="0" lang="uk-U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Спілка"/>
          <p:cNvPicPr/>
          <p:nvPr/>
        </p:nvPicPr>
        <p:blipFill>
          <a:blip r:embed="rId1"/>
          <a:stretch/>
        </p:blipFill>
        <p:spPr>
          <a:xfrm>
            <a:off x="0" y="-171360"/>
            <a:ext cx="9144000" cy="6858000"/>
          </a:xfrm>
          <a:prstGeom prst="rect">
            <a:avLst/>
          </a:prstGeom>
          <a:ln w="0">
            <a:noFill/>
          </a:ln>
        </p:spPr>
      </p:pic>
      <p:sp>
        <p:nvSpPr>
          <p:cNvPr id="42" name="WordArt 7"/>
          <p:cNvSpPr txBox="1"/>
          <p:nvPr/>
        </p:nvSpPr>
        <p:spPr>
          <a:xfrm>
            <a:off x="324000" y="189000"/>
            <a:ext cx="8640720" cy="539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solidFill>
                  <a:srgbClr val="333399"/>
                </a:solidFill>
                <a:effectLst>
                  <a:outerShdw dist="17819" dir="2700000" blurRad="0" rotWithShape="0">
                    <a:srgbClr val="990000"/>
                  </a:outerShdw>
                </a:effectLst>
                <a:latin typeface="Impact"/>
              </a:rPr>
              <a:t>Тема 5. Категоризація у сфері </a:t>
            </a:r>
            <a:endParaRPr b="0" lang="en-US" sz="2000" spc="1" strike="noStrike">
              <a:ln w="19080">
                <a:solidFill>
                  <a:srgbClr val="0000ff"/>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solidFill>
                  <a:srgbClr val="333399"/>
                </a:solidFill>
                <a:effectLst>
                  <a:outerShdw dist="17819" dir="2700000" blurRad="0" rotWithShape="0">
                    <a:srgbClr val="990000"/>
                  </a:outerShdw>
                </a:effectLst>
                <a:latin typeface="Impact"/>
              </a:rPr>
              <a:t>сільського зеленого туризму. </a:t>
            </a:r>
            <a:endParaRPr b="0" lang="en-US" sz="2000" spc="1" strike="noStrike">
              <a:ln w="19080">
                <a:solidFill>
                  <a:srgbClr val="0000ff"/>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solidFill>
                  <a:srgbClr val="333399"/>
                </a:solidFill>
                <a:effectLst>
                  <a:outerShdw dist="17819" dir="2700000" blurRad="0" rotWithShape="0">
                    <a:srgbClr val="990000"/>
                  </a:outerShdw>
                </a:effectLst>
                <a:latin typeface="Impact"/>
              </a:rPr>
              <a:t>Екологічне маркування агросадиб</a:t>
            </a:r>
            <a:endParaRPr b="0" lang="en-US" sz="2000" spc="1" strike="noStrike">
              <a:ln w="19080">
                <a:solidFill>
                  <a:srgbClr val="0000ff"/>
                </a:solidFill>
                <a:miter/>
              </a:ln>
              <a:solidFill>
                <a:srgbClr val="333399"/>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Спілка"/>
          <p:cNvPicPr/>
          <p:nvPr/>
        </p:nvPicPr>
        <p:blipFill>
          <a:blip r:embed="rId1"/>
          <a:stretch/>
        </p:blipFill>
        <p:spPr>
          <a:xfrm>
            <a:off x="0" y="0"/>
            <a:ext cx="9144000" cy="6858000"/>
          </a:xfrm>
          <a:prstGeom prst="rect">
            <a:avLst/>
          </a:prstGeom>
          <a:ln w="0">
            <a:noFill/>
          </a:ln>
        </p:spPr>
      </p:pic>
      <p:sp>
        <p:nvSpPr>
          <p:cNvPr id="63"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468360" y="1135080"/>
            <a:ext cx="84963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4.     ПРОДУК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Перевага надається екологічно чистим продуктам місцевого виробництва, приготованим за традиційними технологія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1.  Джерело питної води перевірене відповідною лабораторією, довідка про це  доступна для туристі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2.  Їжа готується з використанням свіжих сезонних фруктів та овочі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3.  Доступне вегетаріанське меню.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4.  Туристам пропонуються продукти лише українського виробництва.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5.  Не використовується одноразовий пластиковий посуд.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6.  Не використовуються продукти в індивідуальній упаковці.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7.  Туристам пропонуються продукти лише місцевого виробництва.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8.  Туристам пропонуються сертифіковані продукти органічного землеробства.                                                                                                   “3”</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Спілка"/>
          <p:cNvPicPr/>
          <p:nvPr/>
        </p:nvPicPr>
        <p:blipFill>
          <a:blip r:embed="rId1"/>
          <a:stretch/>
        </p:blipFill>
        <p:spPr>
          <a:xfrm>
            <a:off x="0" y="0"/>
            <a:ext cx="9144000" cy="6858000"/>
          </a:xfrm>
          <a:prstGeom prst="rect">
            <a:avLst/>
          </a:prstGeom>
          <a:ln w="0">
            <a:noFill/>
          </a:ln>
        </p:spPr>
      </p:pic>
      <p:sp>
        <p:nvSpPr>
          <p:cNvPr id="66"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5"/>
          <p:cNvSpPr/>
          <p:nvPr/>
        </p:nvSpPr>
        <p:spPr>
          <a:xfrm>
            <a:off x="179280" y="2009160"/>
            <a:ext cx="878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5.     РАЦІОНАЛЬНЕ ВИКОРИСТАННЯ ВОДНИХ РЕСУРС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Використання води з водогонів має бути якомога економнішим. Надається перевага природним джерел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1.  При наявності водогону встановлені системи місцевої каналізації або обладнані асенізаційні колодязі.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2.  Забруднена вода не потрапляє у довкілля.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3.  При наявності водогону крани та регулятори не течуть.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4.  Асенізаційні колодязі ізольовані від грунтових вод.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5.  Водогін обладнаний лічильником.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6.  Кімнати для гостей обладнані окремим лічильником.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7.  У садибі використовується лише вода з природних джерел.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Спілка"/>
          <p:cNvPicPr/>
          <p:nvPr/>
        </p:nvPicPr>
        <p:blipFill>
          <a:blip r:embed="rId1"/>
          <a:stretch/>
        </p:blipFill>
        <p:spPr>
          <a:xfrm>
            <a:off x="0" y="0"/>
            <a:ext cx="9144000" cy="6858000"/>
          </a:xfrm>
          <a:prstGeom prst="rect">
            <a:avLst/>
          </a:prstGeom>
          <a:ln w="0">
            <a:noFill/>
          </a:ln>
        </p:spPr>
      </p:pic>
      <p:sp>
        <p:nvSpPr>
          <p:cNvPr id="69"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250920" y="1682640"/>
            <a:ext cx="8713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6.     РАЦІОНАЛЬНЕ ВИКОРИСТАННЯ ЕЛЕКТРОЕНЕРГІЇ ТА ПАЛИ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Переважна більшість палива та джерел електроенергії належить до невідновлюваних ресурсів, через це їх використання слід зводити до мінімуму</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1.  У садибі встановлені лічильники для електроенергії та газ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2.  Електропобутові прилади (холодильники, електронагрівачі) вимикаються, коли немає туристі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3.  Ведеться розрахунок споживання електроенергії та палива туристами.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4.  Електричні нагрівачі та прилади для сушіння рук не використовуються.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5.  Опалення кімнат для туристів регулюється індивідуально.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6.  Для освітлення використовуються тільки енергоефективні лампи.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7.  Для опалення не використовується паливо з невідновлюваних ресурсів.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8.  Використовуються альтернативні джерела електроенергії.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Спілка"/>
          <p:cNvPicPr/>
          <p:nvPr/>
        </p:nvPicPr>
        <p:blipFill>
          <a:blip r:embed="rId1"/>
          <a:stretch/>
        </p:blipFill>
        <p:spPr>
          <a:xfrm>
            <a:off x="0" y="0"/>
            <a:ext cx="9144000" cy="6858000"/>
          </a:xfrm>
          <a:prstGeom prst="rect">
            <a:avLst/>
          </a:prstGeom>
          <a:ln w="0">
            <a:noFill/>
          </a:ln>
        </p:spPr>
      </p:pic>
      <p:sp>
        <p:nvSpPr>
          <p:cNvPr id="72"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5"/>
          <p:cNvSpPr/>
          <p:nvPr/>
        </p:nvSpPr>
        <p:spPr>
          <a:xfrm>
            <a:off x="324000" y="1902600"/>
            <a:ext cx="8424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7.     ОБМЕЖЕНЕ ВИКОРИСТАННЯ ПОБУТОВИХ ХІМІЧНИХ ЗАСОБ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Засоби побутової хімії як правило є синтетичними матеріалами, агресивними до природного середовища, їх виробництво також належить до найбільш екологічно шкідливих. Через це їх вживання слід обмежува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1.  Використання побутових хімічних засобів зведене до мінімум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2.  Миючі та дезинфікуючі засоби не містять хлору та бору.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3.  Синтетичні миючі засоби не використовуються.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4.  Засоби побутової хімії не використовуються.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5.  Холодильники та аерозолі, що містять фреон не використовуються.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Спілка"/>
          <p:cNvPicPr/>
          <p:nvPr/>
        </p:nvPicPr>
        <p:blipFill>
          <a:blip r:embed="rId1"/>
          <a:stretch/>
        </p:blipFill>
        <p:spPr>
          <a:xfrm>
            <a:off x="0" y="0"/>
            <a:ext cx="9144000" cy="6858000"/>
          </a:xfrm>
          <a:prstGeom prst="rect">
            <a:avLst/>
          </a:prstGeom>
          <a:ln w="0">
            <a:noFill/>
          </a:ln>
        </p:spPr>
      </p:pic>
      <p:sp>
        <p:nvSpPr>
          <p:cNvPr id="75"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395280" y="1672200"/>
            <a:ext cx="856944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Arial"/>
              </a:rPr>
              <a:t>8. ТУРИСТИЧНА ІНФОРМАЦІ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Туристи повинні бути забезпечені екологічно-орієнтованою інформацією, що сприяє збереженню довкілля та сталому розвитку регі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1.  Знак   “Зелена садиба”   демонструється туристам.                                   “1”</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2.  Програма “Зелена садиба” доступна туристам.                                            “1”</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3.  У садибі розміщені  “Поради для гостей”,  що стосуються  екологічно-прийнятної поведінки.                                                                                                  “1”</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4.  Є інформація про місцеві природні, культурні та історичні цінності, охорону довкілля та біорізноманіття.                                                                   “2”</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5.  Туристам доступна карта місцевості.                                                          “2”</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6.  Туристам доступна карта місцевості з позначеними природоохоронними об’єктами та територіями.                                                                                       “3”</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7.  Спеціалізована екологічна преса передплачується або купується.          “3”</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8.  Власники садиби мають добрі знання місцевих традицій, добре поінформовані щодо місцевих природоохоронних територій, стежок, пам’яток історії та культури. На вимогу вони можуть виконувати функції гідів.        “3”</a:t>
            </a:r>
            <a:r>
              <a:rPr b="1" lang="uk-UA"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Спілка"/>
          <p:cNvPicPr/>
          <p:nvPr/>
        </p:nvPicPr>
        <p:blipFill>
          <a:blip r:embed="rId1"/>
          <a:stretch/>
        </p:blipFill>
        <p:spPr>
          <a:xfrm>
            <a:off x="0" y="0"/>
            <a:ext cx="9144000" cy="6858000"/>
          </a:xfrm>
          <a:prstGeom prst="rect">
            <a:avLst/>
          </a:prstGeom>
          <a:ln w="0">
            <a:noFill/>
          </a:ln>
        </p:spPr>
      </p:pic>
      <p:sp>
        <p:nvSpPr>
          <p:cNvPr id="78"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395280" y="1687320"/>
            <a:ext cx="849636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Arial"/>
              </a:rPr>
              <a:t>9.     ТРАНСПОР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Надається перевага громадському та екологічно-чистим видам транспорту</a:t>
            </a:r>
            <a:r>
              <a:rPr b="1" lang="uk-UA"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1.  Туристам доступна інформація про маршрути та розклад громадського транспорту.                                                                    “1”</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2.  Туристи забезпечені транспортними послугами між садибою та найближчою зупинкою громадського транспорту.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3.  Є можливість оренди екологічно-чистих транспортних засобів (велосипедів, коней).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4.  Облаштовані місця стоянки для автотуристів.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5.  Пішим, вело- та кінним туристам пропонуються пільгові умови.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6.  Господарі пропонують туристам оренду екологічно-чистих транспортних засобів.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Спілка"/>
          <p:cNvPicPr/>
          <p:nvPr/>
        </p:nvPicPr>
        <p:blipFill>
          <a:blip r:embed="rId1"/>
          <a:stretch/>
        </p:blipFill>
        <p:spPr>
          <a:xfrm>
            <a:off x="0" y="0"/>
            <a:ext cx="9144000" cy="6858000"/>
          </a:xfrm>
          <a:prstGeom prst="rect">
            <a:avLst/>
          </a:prstGeom>
          <a:ln w="0">
            <a:noFill/>
          </a:ln>
        </p:spPr>
      </p:pic>
      <p:sp>
        <p:nvSpPr>
          <p:cNvPr id="81"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5"/>
          <p:cNvSpPr/>
          <p:nvPr/>
        </p:nvSpPr>
        <p:spPr>
          <a:xfrm>
            <a:off x="684360" y="1406520"/>
            <a:ext cx="7920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0.  РЕКОМЕНДОВАНА ТУРИСТИЧНА ДІЯЛЬНІ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Рекомендована діяльність, яка найменше впливає на довкілля: піші, кінні та велосипедні прогулянки, плавання, сонячні ванни, веслування, віндсерфінг, гірські лижі, збирання грибів та ягід, риболовля, спостереження за птахами та тварин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0.1.       Господарі  надають туристам інформацію про можливість екологічно-сприятливих видів діяльності та відпочинк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0.2.       Господарі  пропонують туристам оренду спорядження для екологічно-сприятливих видів діяльності та відпочинку.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0.3.       Господарі  активно сприяють розвитку екологічно-сприятливих видів діяльності та відпочинку у своїй місцевості.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Спілка"/>
          <p:cNvPicPr/>
          <p:nvPr/>
        </p:nvPicPr>
        <p:blipFill>
          <a:blip r:embed="rId1"/>
          <a:stretch/>
        </p:blipFill>
        <p:spPr>
          <a:xfrm>
            <a:off x="0" y="0"/>
            <a:ext cx="9144000" cy="6858000"/>
          </a:xfrm>
          <a:prstGeom prst="rect">
            <a:avLst/>
          </a:prstGeom>
          <a:ln w="0">
            <a:noFill/>
          </a:ln>
        </p:spPr>
      </p:pic>
      <p:sp>
        <p:nvSpPr>
          <p:cNvPr id="84" name="Rectangle 5"/>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684360" y="1127160"/>
            <a:ext cx="80643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1.  ПІДТРИМКА НАРОДНИХ ТРАДИЦІ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Підтримується збереження та розвиток традиційних для даної місцевості побуту, ремесел та мистецт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1.  В оформленні будинку і садиби використані елементи традиційного стилю та декор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2.  Будинок і садиба цілком оформлені в традиційному стилі.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3.  Туристи мають можливість ознайомитись чи придбати вироби народних ремесел та мистецтв.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4.  Розміщення та побут туристів організовано згідно зі старовинним укладом селянського життя.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5.  Господарі  володіють традиційними ремеслами чи мистецтвами і можуть запропонувати туристам свої вироби та продемонструвати традиційну технологію.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6.  Туристам пропонуються тури та екскурсійні заходи, орієнтовані на підтримку та розвиток місцевих традицій, ремесел та мистецтв.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Спілка"/>
          <p:cNvPicPr/>
          <p:nvPr/>
        </p:nvPicPr>
        <p:blipFill>
          <a:blip r:embed="rId1"/>
          <a:stretch/>
        </p:blipFill>
        <p:spPr>
          <a:xfrm>
            <a:off x="0" y="0"/>
            <a:ext cx="9144000" cy="6858000"/>
          </a:xfrm>
          <a:prstGeom prst="rect">
            <a:avLst/>
          </a:prstGeom>
          <a:ln w="0">
            <a:noFill/>
          </a:ln>
        </p:spPr>
      </p:pic>
      <p:sp>
        <p:nvSpPr>
          <p:cNvPr id="87"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324000" y="1571760"/>
            <a:ext cx="8280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2.  ДОСВІД РОБО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2.1.       Більше двох років діяльності під знаком “ЗЕЛЕНА САДИБА.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2.2.       Більше чотирьох років діяльності під знаком “ЗЕЛЕНА САДИБА”.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Спілка"/>
          <p:cNvPicPr/>
          <p:nvPr/>
        </p:nvPicPr>
        <p:blipFill>
          <a:blip r:embed="rId1"/>
          <a:stretch/>
        </p:blipFill>
        <p:spPr>
          <a:xfrm>
            <a:off x="0" y="0"/>
            <a:ext cx="9144000" cy="6858000"/>
          </a:xfrm>
          <a:prstGeom prst="rect">
            <a:avLst/>
          </a:prstGeom>
          <a:ln w="0">
            <a:noFill/>
          </a:ln>
        </p:spPr>
      </p:pic>
      <p:sp>
        <p:nvSpPr>
          <p:cNvPr id="90" name="Rectangle 4"/>
          <p:cNvSpPr/>
          <p:nvPr/>
        </p:nvSpPr>
        <p:spPr>
          <a:xfrm>
            <a:off x="539640" y="540000"/>
            <a:ext cx="8209080" cy="43005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8080"/>
                </a:solidFill>
                <a:uFillTx/>
                <a:latin typeface="Arial"/>
              </a:rPr>
              <a:t>ЩО ПОТРІБНО ДЛЯ ОТРИМАННЯ І ПОДОВЖЕННЯ ДІЇ ЗНАКУ "ЗЕЛЕНА САДИБ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Для отримання і подовження дії знаку «Зелена садиба» власник садиби повинен надати  у Комісію з екологічного маркування садиб наступні документ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заповнену анкету «Нормативи програми «Зелена садиба», де будуть відмічені ті вимоги, яким садиба задовольняє, завірену власним підписо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короткий (не більше сторінки) опис дій та заходів, що здійснюються господарями садиби для покращення екологічного стану довкілля.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50 гривень (або квитанцію про їх сплату на рахунок Спілки як добровільного внеску на підтримку програми «Зелена садиб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Для отримання знаку «Зелена садиба» більш високого рівня  садибу має відвідати інспектор Спіл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6" descr="Спілка"/>
          <p:cNvPicPr/>
          <p:nvPr/>
        </p:nvPicPr>
        <p:blipFill>
          <a:blip r:embed="rId1"/>
          <a:stretch/>
        </p:blipFill>
        <p:spPr>
          <a:xfrm>
            <a:off x="0" y="0"/>
            <a:ext cx="9144000" cy="6858000"/>
          </a:xfrm>
          <a:prstGeom prst="rect">
            <a:avLst/>
          </a:prstGeom>
          <a:ln w="0">
            <a:noFill/>
          </a:ln>
        </p:spPr>
      </p:pic>
      <p:sp>
        <p:nvSpPr>
          <p:cNvPr id="44" name="Text Box 4"/>
          <p:cNvSpPr/>
          <p:nvPr/>
        </p:nvSpPr>
        <p:spPr>
          <a:xfrm>
            <a:off x="395280" y="1125360"/>
            <a:ext cx="84978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Розвиток сільського та екологічного (зеленого) туризму знаходиться серед основних пріоритетних напрямів державної політ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Сільський зелений екотуризм</a:t>
            </a:r>
            <a:r>
              <a:rPr b="0" lang="uk-UA" sz="1800" spc="-1" strike="noStrike">
                <a:solidFill>
                  <a:srgbClr val="333399"/>
                </a:solidFill>
                <a:latin typeface="Arial"/>
              </a:rPr>
              <a:t> — це специфічний вид туризму. Він передбачає не тільки відпочинок у сільському будинку, але і можливість спостерігати рослинний і тваринний світ, ознайомитися з традиціями певного регіону, відчути взаємозв’язок людини з природо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Зелений туризм</a:t>
            </a:r>
            <a:r>
              <a:rPr b="0" lang="uk-UA" sz="1800" spc="-1" strike="noStrike">
                <a:solidFill>
                  <a:srgbClr val="333399"/>
                </a:solidFill>
                <a:latin typeface="Arial"/>
              </a:rPr>
              <a:t> — це туристська діяльність на території натуральних природних ландшафтів з елементами благоустрою, де існують умови для короткочасного відпочинку (від 5–10 годин до 1–2 днів), збору ягід та грибів, відпочинку на пляжах тощ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Отже, </a:t>
            </a:r>
            <a:r>
              <a:rPr b="1" i="1" lang="uk-UA" sz="1800" spc="-1" strike="noStrike">
                <a:solidFill>
                  <a:srgbClr val="333399"/>
                </a:solidFill>
                <a:latin typeface="Arial"/>
              </a:rPr>
              <a:t>зелений і сільський туризм</a:t>
            </a:r>
            <a:r>
              <a:rPr b="0" lang="uk-UA" sz="1800" spc="-1" strike="noStrike">
                <a:solidFill>
                  <a:srgbClr val="333399"/>
                </a:solidFill>
                <a:latin typeface="Arial"/>
              </a:rPr>
              <a:t> — це господарська діяльність в сфері туристичних послуг, яка включає в себе, як мінімум, надання місця для проживання чи знаходження туриста на лоні природи, як от в лісі, в горах, в селі тощ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Відмінність між сільським і зеленим туризмом</a:t>
            </a:r>
            <a:r>
              <a:rPr b="0" lang="uk-UA" sz="1800" spc="-1" strike="noStrike">
                <a:solidFill>
                  <a:srgbClr val="333399"/>
                </a:solidFill>
                <a:latin typeface="Arial"/>
              </a:rPr>
              <a:t> полягає в тому, що зелений туризм не прив’язується до знаходження (проживання) туриста в селі. Можна жити в лісі у землянці чи в палатці. Спільними ознаками є можливість надання туристу за його бажанням послуг, які пов’язані з таким проживанням і відпочинком: при зеленому — збір ягід, грибів тощо; при сільському — вивчення побуту, робота на присадибній ділянці тощ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
          <p:cNvSpPr/>
          <p:nvPr/>
        </p:nvSpPr>
        <p:spPr>
          <a:xfrm>
            <a:off x="1116000" y="333360"/>
            <a:ext cx="727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8080"/>
                </a:solidFill>
                <a:latin typeface="Arial"/>
              </a:rPr>
              <a:t>ЗАГАЛЬНА ІНФОРМАЦІ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38" descr="Спілка"/>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8080"/>
                </a:solidFill>
                <a:latin typeface="Arial"/>
              </a:rPr>
              <a:t>ТОП – 100 садиб України</a:t>
            </a:r>
            <a:endParaRPr b="0" lang="en-US" sz="4400" spc="-1" strike="noStrike">
              <a:solidFill>
                <a:srgbClr val="000000"/>
              </a:solidFill>
              <a:latin typeface="Arial"/>
            </a:endParaRPr>
          </a:p>
        </p:txBody>
      </p:sp>
      <p:graphicFrame>
        <p:nvGraphicFramePr>
          <p:cNvPr id="93" name=""/>
          <p:cNvGraphicFramePr/>
          <p:nvPr/>
        </p:nvGraphicFramePr>
        <p:xfrm>
          <a:off x="457200" y="1600200"/>
          <a:ext cx="8229600" cy="4525920"/>
        </p:xfrm>
        <a:graphic>
          <a:graphicData uri="http://schemas.openxmlformats.org/drawingml/2006/table">
            <a:tbl>
              <a:tblPr/>
              <a:tblGrid>
                <a:gridCol w="2055960"/>
                <a:gridCol w="2057400"/>
                <a:gridCol w="2058840"/>
                <a:gridCol w="2057400"/>
              </a:tblGrid>
              <a:tr h="503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Обла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Кількість сади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Обла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Кількість сади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Івано-Франкі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27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Львівсь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Закарпат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2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Полта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АРК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Дніпропетро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Черкась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Оде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Киї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Луган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Вінниц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Харкі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Хмельниц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Сум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Чернігі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Миколаї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Спілка"/>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549000"/>
            <a:ext cx="8229600" cy="5832360"/>
          </a:xfrm>
          <a:prstGeom prst="rect">
            <a:avLst/>
          </a:prstGeom>
          <a:noFill/>
          <a:ln w="0">
            <a:noFill/>
          </a:ln>
        </p:spPr>
        <p:txBody>
          <a:bodyPr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ЩО ПОТРІБНО, </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ЩОБ ОТРИМАТИ СЕРТИФІКАТ ЕКОЛОГІЧНОЇ ЯКОСТІ </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ЗЕЛЕНА САДИБА»?</a:t>
            </a:r>
            <a:endParaRPr b="0" lang="en-US" sz="1800" spc="-1" strike="noStrike">
              <a:solidFill>
                <a:srgbClr val="000000"/>
              </a:solidFill>
              <a:latin typeface="Arial"/>
            </a:endParaRPr>
          </a:p>
          <a:p>
            <a:pPr marL="3394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2400" spc="-1" strike="noStrike">
                <a:solidFill>
                  <a:srgbClr val="000000"/>
                </a:solidFill>
                <a:latin typeface="Arial"/>
              </a:rPr>
              <a:t> Е</a:t>
            </a:r>
            <a:r>
              <a:rPr b="1" lang="uk-UA" sz="2400" spc="-1" strike="noStrike">
                <a:solidFill>
                  <a:srgbClr val="333399"/>
                </a:solidFill>
                <a:latin typeface="Arial"/>
              </a:rPr>
              <a:t>кологічна сертифікація за програмою «Зелена Садиба» є повністю добровільною.  Вона також є незалежною від сертифікації якості розміщення, адже свідчить лише про екологічно сприятливий спосіб ведення господарства. Часом підвищення комфортності розміщення може навіть суперечити екологічним вимогам, зокрема  з приводу економії електроенергії та води, або застосування засобів побутової хімії. Але ж існує чималий попит на відпочинок саме у «традиційному народному» стилі, тож, можливо, Вам підійде саме цей напрямок розвитку. Пам’ятайте також, що цю землю Ви передасте у спадок своїм нащадкам, тож  варто попіклуватись про те, щоб вони отримали її у якомога кращому стані.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765000"/>
            <a:ext cx="8229600" cy="53611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Arial"/>
              </a:rPr>
              <a:t>         </a:t>
            </a:r>
            <a:r>
              <a:rPr b="1" lang="uk-UA" sz="2400" spc="-1" strike="noStrike">
                <a:solidFill>
                  <a:srgbClr val="333399"/>
                </a:solidFill>
                <a:latin typeface="Arial"/>
              </a:rPr>
              <a:t>Зупинимось на тих вимогах, невиконання яких найчастіше стає перешкодою до  отримання знаку. Найчастіше це використання  отрутохімікатів у городництві та садівництві. Попри всі запевнення виробників таких речовин, це є несумісним з поняттям екологічно чистих продуктів харчування, а також завдає значної шкоди біорізноманіттю навколишнього середовища. Тож доведеться робити вибір між підвищеним урожаєм картоплі і шляхом екологічно чистого господарювання під знаком “Зелена садиба”. </a:t>
            </a:r>
            <a:br>
              <a:rPr sz="2400"/>
            </a:br>
            <a:r>
              <a:rPr b="1" lang="uk-UA"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89000"/>
            <a:ext cx="8229600" cy="593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Arial"/>
              </a:rPr>
              <a:t>      </a:t>
            </a:r>
            <a:r>
              <a:rPr b="1" lang="uk-UA" sz="2400" spc="-1" strike="noStrike">
                <a:solidFill>
                  <a:srgbClr val="333399"/>
                </a:solidFill>
                <a:latin typeface="Arial"/>
              </a:rPr>
              <a:t>Ще однією вимогою, яка не завжди виконується на сьогоднішній день є наявність довідки з санепідемстанції про відповідність джерела питної води державним стандартам. Зауважимо, що таку довідку все одно доведеться отримати всім, хто офіційно приймає туристів для відпочинку і рекламує свої послуги.</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99"/>
                </a:solidFill>
                <a:latin typeface="Arial"/>
              </a:rPr>
              <a:t> </a:t>
            </a:r>
            <a:br>
              <a:rPr sz="2400"/>
            </a:br>
            <a:r>
              <a:rPr b="1" lang="uk-UA" sz="2400" spc="-1" strike="noStrike">
                <a:solidFill>
                  <a:srgbClr val="333399"/>
                </a:solidFill>
                <a:latin typeface="Arial"/>
              </a:rPr>
              <a:t>      </a:t>
            </a:r>
            <a:r>
              <a:rPr b="1" lang="uk-UA" sz="2400" spc="-1" strike="noStrike">
                <a:solidFill>
                  <a:srgbClr val="333399"/>
                </a:solidFill>
                <a:latin typeface="Arial"/>
              </a:rPr>
              <a:t>Також іноді стає проблемою неохайне сміттєзвалище на території садиби, або поруч із нею. І якщо з упорядкуванням власної території у дбайливих господарів питань не виникає, то до звалища по той бік огорожі багато хто ставиться терпляче – мовляв, то не моя проблема. Але ж природа єдина по обидва боки огорожі і не може бути чистої садиби в брудному оточенні. Саме власники агросадиб, які, як правило, є найбільш активними і передовими жителями села, повинні поклопотатися про чисте довкілля. </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Спілка"/>
          <p:cNvPicPr/>
          <p:nvPr/>
        </p:nvPicPr>
        <p:blipFill>
          <a:blip r:embed="rId1"/>
          <a:stretch/>
        </p:blipFill>
        <p:spPr>
          <a:xfrm>
            <a:off x="0" y="0"/>
            <a:ext cx="9144000" cy="6858000"/>
          </a:xfrm>
          <a:prstGeom prst="rect">
            <a:avLst/>
          </a:prstGeom>
          <a:ln w="0">
            <a:noFill/>
          </a:ln>
        </p:spPr>
      </p:pic>
      <p:sp>
        <p:nvSpPr>
          <p:cNvPr id="51" name="Rectangle 5"/>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468360" y="1557360"/>
            <a:ext cx="8351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Arial"/>
              </a:rPr>
              <a:t>Знак «ЗЕЛЕНА САДИБА» надається агротуристичним садибам, які відповідають вимогам наведених нижче «НОРМАТИВІВ». Знак має три рівні якості, від першого (найнижчого) до третього (найвищ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Для отримання знаку першого рівня садиба  має відповідати </a:t>
            </a:r>
            <a:r>
              <a:rPr b="1" lang="uk-UA" sz="1800" spc="-1" strike="noStrike" u="sng">
                <a:solidFill>
                  <a:srgbClr val="333399"/>
                </a:solidFill>
                <a:uFillTx/>
                <a:latin typeface="Arial"/>
              </a:rPr>
              <a:t>всім</a:t>
            </a:r>
            <a:r>
              <a:rPr b="0" lang="uk-UA" sz="1800" spc="-1" strike="noStrike">
                <a:solidFill>
                  <a:srgbClr val="333399"/>
                </a:solidFill>
                <a:latin typeface="Arial"/>
              </a:rPr>
              <a:t> вимогам, позначеним цифрою “1”.  Для отримання сертифікату другого рівня садиба має  відповідати всім вимогам, позначеним цифрою “1” та 80% вимог, позначених цифрою “2”. Для отримання сертифікату третього рівня садиба має  відповідати всім вимогам, позначеним цифрою “1”,  80% вимог, позначених цифрою “2” та 80% вимог, позначених цифрою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Для проведення сертифікації до садиби виїжджатиме інспектор, який перевірить відповідність садиби зазначеним вимогам. Зібрана інспектором інформація буде надана Комісії, призначеній Спілкою, яка винесе остаточне рішення про надання знаку «ЗЕЛЕНА САДИБА». Знак «ЗЕЛЕНА САДИБА» надаватиметься на термін 2 роки, що буде підтверджено відповідним сертифікат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Спілка"/>
          <p:cNvPicPr/>
          <p:nvPr/>
        </p:nvPicPr>
        <p:blipFill>
          <a:blip r:embed="rId1"/>
          <a:stretch/>
        </p:blipFill>
        <p:spPr>
          <a:xfrm>
            <a:off x="0" y="0"/>
            <a:ext cx="9144000" cy="6858000"/>
          </a:xfrm>
          <a:prstGeom prst="rect">
            <a:avLst/>
          </a:prstGeom>
          <a:ln w="0">
            <a:noFill/>
          </a:ln>
        </p:spPr>
      </p:pic>
      <p:sp>
        <p:nvSpPr>
          <p:cNvPr id="54"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5"/>
          <p:cNvSpPr/>
          <p:nvPr/>
        </p:nvSpPr>
        <p:spPr>
          <a:xfrm>
            <a:off x="900000" y="1341360"/>
            <a:ext cx="748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     ДОВКІЛ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Довкілля садиби повинно бути екологічно чистим та привабливим. господарі повинні стежити за підтримкою та поліпшенням екологічного стану довкілля, сприяти збереженню ландшафтів та біорізноманітт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 Садиба розташована в мальовничому місці, поблизу є привабливі елементи    ландшафту.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2. Околиці садиби чисті і доглянуті, бур’яни виполоті, нема сміття.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3. Довкілля садиби не має  джерел забруднення (сміттєзвалищ, очисних споруд та ін.).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4.  Навколишні місця відпочинку доглянуті та очищені від сміття.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5.  Садиба розташована на безпечній відстані від джерел екологічного ризику.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6. Поблизу садиби є природоохоронна територія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Спілка"/>
          <p:cNvPicPr/>
          <p:nvPr/>
        </p:nvPicPr>
        <p:blipFill>
          <a:blip r:embed="rId1"/>
          <a:stretch/>
        </p:blipFill>
        <p:spPr>
          <a:xfrm>
            <a:off x="0" y="0"/>
            <a:ext cx="9144000" cy="6858000"/>
          </a:xfrm>
          <a:prstGeom prst="rect">
            <a:avLst/>
          </a:prstGeom>
          <a:ln w="0">
            <a:noFill/>
          </a:ln>
        </p:spPr>
      </p:pic>
      <p:sp>
        <p:nvSpPr>
          <p:cNvPr id="57"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395280" y="339480"/>
            <a:ext cx="849780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333399"/>
                </a:solidFill>
                <a:latin typeface="Arial"/>
              </a:rPr>
              <a:t>2.  САДИБ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Садиба не повинна бути джерелом забруднення; використання екологічно-агресивних речовин слід максимально обмежувати; оформлення території має носити ознаки підтримки сталого розвитку регіону та його екологічного стан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 Територія садиби доглянута та не має ознак забруднення.                                                    “1”</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2. Сміття та відходи збираються в спеціально облаштованому місці.                                        “1”</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3. Не застосовуються хімічні засоби захисту рослин.                                                                     “1”</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4. Органічні відходи збираються в компостні ями або згодовуються домашнім тваринам.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5. Не використовуються пластикові садові меблі.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6. Будівельні матеріали не вміщують азбесту.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7. Сміття вивозиться централізовано.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8. Будинок і садиба оформлені у традиційному для даного регіону стилі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9. В оформленні садиби використовуються місцеві види рослин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0. Покращені умови для видів місцевої фауни (годівниці, гніздів’я)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1. Не застосовуються мінеральні добрива.                                                                                    “3”</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2. Сміття сортується і вивозиться централізовано.                                                                  “3”</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3. При будівництві будинку та оформленні садиби використані лише екологічно чисті природні матеріали.                                                                                                                                         “3</a:t>
            </a:r>
            <a:r>
              <a:rPr b="0" i="1" lang="uk-UA" sz="1300" spc="-1" strike="noStrike">
                <a:solidFill>
                  <a:srgbClr val="333399"/>
                </a:solidFill>
                <a:latin typeface="Arial"/>
              </a:rPr>
              <a:t>”</a:t>
            </a:r>
            <a:r>
              <a:rPr b="0" lang="uk-UA" sz="1300" spc="-1" strike="noStrike">
                <a:solidFill>
                  <a:srgbClr val="333399"/>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Спілка"/>
          <p:cNvPicPr/>
          <p:nvPr/>
        </p:nvPicPr>
        <p:blipFill>
          <a:blip r:embed="rId1"/>
          <a:stretch/>
        </p:blipFill>
        <p:spPr>
          <a:xfrm>
            <a:off x="0" y="0"/>
            <a:ext cx="9144000" cy="6858000"/>
          </a:xfrm>
          <a:prstGeom prst="rect">
            <a:avLst/>
          </a:prstGeom>
          <a:ln w="0">
            <a:noFill/>
          </a:ln>
        </p:spPr>
      </p:pic>
      <p:sp>
        <p:nvSpPr>
          <p:cNvPr id="60"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5"/>
          <p:cNvSpPr/>
          <p:nvPr/>
        </p:nvSpPr>
        <p:spPr>
          <a:xfrm>
            <a:off x="611280" y="1959480"/>
            <a:ext cx="8064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3.     КІМНА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1.  В оформленні кімнат використовуються елементи традиційного стилю, витвори народних ремесел та мистецт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2.  Обладнання кімнат виготовлене з використанням натуральних матеріалів місцевого походження.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3.  Куріння дозволене лише в спеціально визначених місцях.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4.  В обладнанні кімнат не використовуються синтетичні матеріали.                                                                                                   “3”</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1:57:46Z</dcterms:created>
  <dc:creator>UDAU</dc:creator>
  <dc:description/>
  <dc:language>en-US</dc:language>
  <cp:lastModifiedBy>USER</cp:lastModifiedBy>
  <dcterms:modified xsi:type="dcterms:W3CDTF">2019-03-04T01:30:38Z</dcterms:modified>
  <cp:revision>12</cp:revision>
  <dc:subject/>
  <dc:title>Слайд 1</dc:title>
</cp:coreProperties>
</file>