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6E0C7-E2DE-4997-B60A-1E5409145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DCF85-B830-47AB-ABFF-1B70B17BD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918-70D4-47F9-81CD-BC8467A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F6D-E687-4BC3-81A9-CAD2B07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1B1-BC6E-47F3-8DF2-B325F22F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98D-6083-4202-B996-D1D64FF7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8298-F5E4-4353-AB69-DB925CA4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EF99-CCDC-420E-9CA0-5236580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A03-7FF5-4004-AE7E-D1C9676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F72C-0D16-44E0-B866-397E8CC4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730-7A82-4319-8F48-1DD8DE07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A131-6EEC-4174-9065-E802D5E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B15-A2E7-4921-B5CD-0C919EB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119-A8C7-4CE1-ABED-EE5D26E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400-EF8B-43CE-88DD-D4676AA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C8F-31AC-44EA-AF81-3333464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6AB-9B7F-46B3-AD01-5DF8E94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67C-1FC4-45E2-BB9B-8988132E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E74F-FB26-4F91-9C1C-5D48339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9634-780A-4602-ABEF-F2A0F223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2299-9447-4E38-A5B7-8BD2A7ED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F262-F85D-4E71-A4B6-00D58C8D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91FD-3544-4392-9EDD-A434B1D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B1D0-9BB0-4323-BFC1-4001FCD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5F3-6DBD-4E3F-99BA-F638C302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9D81-5374-4F03-8DA8-75F9CBE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5F20-1804-4F48-9412-C094617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2D53-F77C-4F39-B97E-998348D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4289-4460-4FA4-ABEE-DE01CC1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567E4-70F0-45BF-9339-7C89DEAA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0211-0FF8-4B5F-9503-E956BB71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383B-F580-47E5-A6B7-168541C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B47F-EEA2-4FA1-80D5-F8247B82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90C7-D3F8-4C94-B78E-995E12C9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EBE1-D06E-4754-9323-576E6A47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3AD-945F-43A3-A860-77A60CA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A0E3-BC59-4D88-ACBC-7F240C44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6ABC-C1EE-468D-8950-7C68839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BCA8-C1EC-40B3-A453-674CAFAE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9A2C-2645-47F0-9B31-D0989A1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812B-EC8E-4905-8620-57F6E6A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E4B3-C4EB-412D-A1A2-A680519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460D-0796-4CCD-B60C-C7DEC91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8D43-5BDF-4B0D-9DC2-52C211D0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8FB5-D9A5-4B8B-A310-ADC7695A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4984B-C9C3-4A88-93E2-B7E7F3471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BAD-2E96-414E-9981-74E3FC5A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6F693-40B9-4051-A6F7-EB200ED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94C9E-48EC-4B18-88E7-0A58FF3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883A2-B925-4534-BFF5-B500B67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2C357-75B4-4840-B414-105983D2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37819-1E8E-4650-B0EA-F79D6CA3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12225-DC57-476C-B716-16BE1877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2BB49-1AD3-4107-8C26-90E5772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136C5-0E3E-4290-A690-3C4E935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C2AC3-9EF8-40FB-82D8-ECC2D270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FE691-564D-4A85-A0AE-003C674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5EB-26D2-4A6A-93D7-A0F338DD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D6121-E6FB-48AC-B23B-9EED8BF82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78A-228A-44F8-8F82-58A1F77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018-C4D4-4A2C-81B2-2D18D62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07E-3C75-4677-AA3A-509A5D2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FA47F-DF62-464C-8D86-4A992E3602C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0265C-E8AE-4F87-8BA6-86809ED2AF8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D7D88-C84B-4C57-B816-C173F45F5C0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84E6B-BA76-4938-8AC7-CFCAABBFD2B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AAF5A-8579-43D7-B3A3-4A9FD207CEB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7772400" cy="532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324000" y="6620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ховуючи значний попит на сільський зелений туризм, багато країн, під егідою Ради Європи, для координації діяльності, об’єдналися в Центрально-Східноєвропейську Федерацію по розвитку сільського зеленого тур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ди входять: Угорщина, Великобританія, Іспанія, Чехія, Німеччина та Італ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324000" y="750960"/>
            <a:ext cx="8280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країні сертифікацію закладів розміщення здійснює орган екологічної сертифікації і маркування «Жива планета», який керується міжнародними стандарта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сеукраїнська громадська організація «Жива планета» є членом міжнародних організац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лобальної мережі екологічного маркуван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народної неурядової організації що об’єднує органи екологічного маркування згід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024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и екологічного маркування І типу) 60 країн с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орено у 1994 році з метою розвитку національних та регіональних програм екологічного маркування на засадах єдності принципів та прозорості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робляє базові екологічні стандарти з метою визначення екологічних переваг товарів та послуг (екологічні критерії) та здійснює керівництво Міжнародною програмою взаємної довіри та визнання між органами екологічного маркуван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324000" y="7509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ітова практика на сьогоднішній день використовує програми екологічної сертифікації закладів розміще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Key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ий Ключ», яка координується Міжнародною організацією з екологічної освіти (Дані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тифікація за цією програмою українських садиб сільського зеленого туризму допомогла би їм вийти на міжнародний ринок туристичних послуг, оскільки наявність такого сертифіката допоможе господарям в плані реклами та зробить їх причетними до міжнародних стандартів екологічного розви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82760" y="1268280"/>
            <a:ext cx="826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е значення при формуванні стратегії розвитку сільського зеленого туризму має організація інформаційно-аналітичного забезпечення. Європейські країни з метою популяризації послуг сільського зеленого туризму, надають досить вагому інформаційну підтримку господарям сільських сади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е місце серед країн Європи за рівнем презентації сільського туризму належить Іспанії, де щорічно проходить міжнародна виставка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ion of Tourism, Sport and Rural Development»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зм, спорт і розвиток сільської місцевост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3" descr=""/>
          <p:cNvPicPr/>
          <p:nvPr/>
        </p:nvPicPr>
        <p:blipFill>
          <a:blip r:embed="rId1"/>
          <a:stretch/>
        </p:blipFill>
        <p:spPr>
          <a:xfrm>
            <a:off x="452520" y="1197000"/>
            <a:ext cx="847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457200" y="907920"/>
            <a:ext cx="82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нцепція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 &amp; Breakfast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вропейська федерація фермерського і сільського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ьно-Східноєвропейська Федерація по розвитку сільського зеленого туриз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755640" y="1052640"/>
            <a:ext cx="7931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віті подорожують щороку близько 700 млн осіб, з них від 10—30% обирають сільський туризм. Кількість "зелених" подорожей на внутрішньому ринку в будь-якій країні набагато більше ніж в інших секторах цієї галуз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клад, у Франції тільки 7% бізнес-туристів зупиняються в готелях, решта 93% обирають сільські готелі і кемпін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90440" y="47628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овий розвиток сільського зеленого туризму почався з другої полови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, коли у Великій Британії та США виникла концепція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 &amp; Breakfast»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передбачала тимчасове проживання (близько 7 діб) у порожніх кімнатах будинків, незалежно від їх розташу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чат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індустрія сільського туризму визнається експертами Всесвітньої туристичної організації як суттєвий, найбільш динамічно зростаючий сектор світового туристичного госпо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яги надання агротуристичних послуг у постіндустріальних країнах нині практично в 2-4 рази перевищують обсяги зростання готельної бази і курортного сервісу в цих краї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179280" y="981000"/>
            <a:ext cx="879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бути фермером, який ефективно розвиває своє господарство, поєднуючи агробізнес і туризм, у Європі неабияк престижно. Цією справою охоче займаються як пенсіонери, так і моло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прияння розвитку та ефективності агротуризму всі національні організації сільського туризму країн Європи об'єднали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Європейську федерацію фермерського і сільського туриз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ederation for Farm and Village Tourism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 скорочено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 даної федерації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пуляризація та розвиток здорового відпочинку в сільській місцевості заради культурного, емоційного, фінансового й етнокультурного розвитку європейц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20520" y="4762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народні організації серйозно зацікавлені в розвитку цього сек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Georgia"/>
              </a:rPr>
              <a:t>У зв'язку з інтеграційними процесами в Європі постало питання вироблення спільних концепцій розвитку сільських територій та втілення їх у життя. Такий висновок зробили члени-засновники Європейської федерації фермерського і сільського туризму </a:t>
            </a:r>
            <a:r>
              <a:rPr b="0" i="1" lang="ru-RU" sz="2000" spc="-1" strike="noStrike">
                <a:solidFill>
                  <a:srgbClr val="222222"/>
                </a:solidFill>
                <a:latin typeface="Georgia"/>
              </a:rPr>
              <a:t>"</a:t>
            </a:r>
            <a:r>
              <a:rPr b="0" i="1" lang="en-US" sz="2000" spc="-1" strike="noStrike">
                <a:solidFill>
                  <a:srgbClr val="222222"/>
                </a:solidFill>
                <a:latin typeface="Georgia"/>
              </a:rPr>
              <a:t>EUROGITES" (European Federation for Farm and Village Tourism).</a:t>
            </a:r>
            <a:r>
              <a:rPr b="0" lang="en-US" sz="2000" spc="-1" strike="noStrike">
                <a:solidFill>
                  <a:srgbClr val="222222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Georgia"/>
              </a:rPr>
              <a:t>Ця федерація поставила перед собою мету вирішення низки проблем, а са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1) вплинути на збереження життя і культури на сільських територіях Європи, а також утримувати в належному, доглянутому стані природний простір як місце проживання сільського насе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2) зробити сільські території альтернативою масовому туризму; налагодити тісніші зв'язки між містом і с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3) сприяти організації на туристичних шляхах зустрічей між людьми з різних країн для їх кращого взаєморозуміння, пізнання, зміцнення миру на плане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457200" y="1197000"/>
            <a:ext cx="8362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Georgia"/>
              </a:rPr>
              <a:t>Членами федерації є організації з Австрії, Бельгії (Валонія і Фландрія), Болгарії, Великої Британії, Грузії, Греції, Іспанії, Кіпру, Литви, Люксембургу, Польщі, Португалії, Румунії, Сербії, Словаччини, Словенії, Угорщини, України, Хорватії, Чехії, Франції, Швейцарії</a:t>
            </a:r>
            <a:r>
              <a:rPr b="0" lang="en-US" sz="32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611280" y="404640"/>
            <a:ext cx="828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України з 2005 р. є "Всеукраїнська спілка сприяння розвитку сільського зеленого туризму" та регіональна асоціація "Спілка сприяння розвитку сільського туризму Крим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ією з найважливіших сфер діяльност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вироблення стандартів і критеріїв якості туристичної пропозиції у Європі. У березні 1996 р. був прийнятий проект "Карта якост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"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якому актуальні стандарти стосуються п'яти тематичних блоків: оточення, облаштування кімнат, обслуговування місць розміщення й оточення, а також професійна підготовка надавачів послуг, атмосфери й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1-10-11T17:56:54Z</dcterms:modified>
  <cp:revision>10</cp:revision>
  <dc:subject/>
  <dc:title>Міжнародні організації в сфері сільського зеленого туризму</dc:title>
</cp:coreProperties>
</file>