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327E7-FD56-40D6-9DAB-42D565173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8E5AF-299D-43A3-B602-CAC6C0457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BB6-47E0-47D3-9915-00CAF5F3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99-720A-4887-8E26-A9618CF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9AC-C270-4D02-A746-79B060B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09-F2A6-46D9-834A-820FF2B6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B4AA-8C68-49B9-853E-44D5894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32D5-48E9-4E8E-95E4-0E875C05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BD27-BCE9-4090-B05E-05C28D57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9D5-A55C-4158-BC1B-949EFEE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6F4-801A-48FB-8C25-1C202E8E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C73-C26B-4B8A-A16D-33B274C9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235C-8F0E-450F-870F-208DB34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353-28C1-405E-80D7-A9D3C134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C15-CB13-4E77-9F4C-08A35D2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EE5-B857-4F9F-A3DE-07B04ED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DED-9244-4D17-B897-0CEB3AF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81F-69DD-42CB-8CB0-9E0200F1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AA0-6DB8-45D8-A735-7302B7EA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ADD3-D31D-4E6C-A9D7-E4E7344E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B32D-552C-43CC-B290-4052846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4505-F361-4A33-B2FD-DAFD434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F66A-4C4C-40C8-A379-9856E2A9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0FAB-1E83-47D7-A991-28E96119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0F0-110B-4157-A9DF-A0AB87C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84EA-A0AE-4AB1-B69A-79D46D24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1321-5678-4C5A-AD6A-D18B944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9A78-D1E3-429E-AE48-BEA5A6F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776F-4524-4653-9F60-25E77B5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835D-F3AD-493E-A986-C668543C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7BCF-D459-4A1B-B74F-8141E9D8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7A66-A4B1-46BF-BEA7-4B23A7D8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3933-8B8C-4921-AC1A-85A202AC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6ECD-8BBB-4B76-9DF5-222BD390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6BC1-5985-41F8-B1A0-287F564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553-C69A-4FC7-820C-6421374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FF20-8B5D-4CD3-9B5B-77A3D40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9385-47D5-4468-B5C2-4C8E523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A4A8-0775-4BBC-B0CB-DD92E57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8B4C-9CDF-4592-9E54-470C01B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32BC-3F21-440B-949B-417CA99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C65C-D66F-4782-92E9-8B6DA24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565D-F825-474D-AC4B-1A745F8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138C-B720-4B8A-A5EC-886EF2E5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4B734-2F72-4A91-9C24-B8DE0C23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2EBA7-2733-477E-9E1F-997A1EA54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C28-BF04-4AC5-80FF-51F76087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BAEB1-D09A-4789-8823-8AFA43B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57E40-D24E-4392-947C-9198C3E1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04DB9-DC2B-4150-8EA6-B177CDF9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F611C-AE8B-4E27-82DB-6FBE4485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0BC0A-0C5E-4188-B71A-E2077C8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DB078-BF51-487C-9A4A-C066F16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36D7C-7A26-4EFC-8B9C-F5EE0F4A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BDFEF-058E-411A-818D-E90643FC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0A8D1-2B6B-4801-A61C-07F3607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B8EFE-D398-49E8-B235-F025DC2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CCD-B893-4391-9337-6792346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FCE04-16E9-474E-A4E5-2EB253280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B2A-D004-4E1C-81FE-4A4F5EC8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72E-DDA7-494F-BD0E-AD36888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708-7974-4908-8AAB-FA883D8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28027-583D-43C5-85EC-EC9B17F9563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2F89F-C672-4005-A152-9D5F8B986FD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85B61-5697-4378-A057-2AC033D68B5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F46AF-4FA7-4FEC-B301-290A26FF04A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3CBDF-34FA-4A3D-9666-8C35026BEE0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7772400" cy="532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324000" y="6620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ховуючи значний попит на сільський зелений туризм, багато країн, під егідою Ради Європи, для координації діяльності, об’єдналися в Центрально-Східноєвропейську Федерацію по розвитку сільського зеленого тур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ди входять: Угорщина, Великобританія, Іспанія, Чехія, Німеччина та Італ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324000" y="750960"/>
            <a:ext cx="8280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країні сертифікацію закладів розміщення здійснює орган екологічної сертифікації і маркування «Жива планета», який керується міжнародними стандарта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сеукраїнська громадська організація «Жива планета» є членом міжнародних організац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лобальної мережі екологічного маркуван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народної неурядової організації що об’єднує органи екологічного маркування згід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024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и екологічного маркування І типу) 60 країн с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орено у 1994 році з метою розвитку національних та регіональних програм екологічного маркування на засадах єдності принципів та прозорості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робляє базові екологічні стандарти з метою визначення екологічних переваг товарів та послуг (екологічні критерії) та здійснює керівництво Міжнародною програмою взаємної довіри та визнання між органами екологічного маркуван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324000" y="7509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ітова практика на сьогоднішній день використовує програми екологічної сертифікації закладів розміще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Key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ий Ключ», яка координується Міжнародною організацією з екологічної освіти (Дані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тифікація за цією програмою українських садиб сільського зеленого туризму допомогла би їм вийти на міжнародний ринок туристичних послуг, оскільки наявність такого сертифіката допоможе господарям в плані реклами та зробить їх причетними до міжнародних стандартів екологічного розви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82760" y="1268280"/>
            <a:ext cx="826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е значення при формуванні стратегії розвитку сільського зеленого туризму має організація інформаційно-аналітичного забезпечення. Європейські країни з метою популяризації послуг сільського зеленого туризму, надають досить вагому інформаційну підтримку господарям сільських сади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е місце серед країн Європи за рівнем презентації сільського туризму належить Іспанії, де щорічно проходить міжнародна виставка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ion of Tourism, Sport and Rural Development»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зм, спорт і розвиток сільської місцевост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3" descr=""/>
          <p:cNvPicPr/>
          <p:nvPr/>
        </p:nvPicPr>
        <p:blipFill>
          <a:blip r:embed="rId1"/>
          <a:stretch/>
        </p:blipFill>
        <p:spPr>
          <a:xfrm>
            <a:off x="452520" y="1197000"/>
            <a:ext cx="847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457200" y="907920"/>
            <a:ext cx="82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нцепція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 &amp; Breakfast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вропейська федерація фермерського і сільського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ьно-Східноєвропейська Федерація по розвитку сільського зеленого туриз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755640" y="1052640"/>
            <a:ext cx="7931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віті подорожують щороку близько 700 млн осіб, з них від 10—30% обирають сільський туризм. Кількість "зелених" подорожей на внутрішньому ринку в будь-якій країні набагато більше ніж в інших секторах цієї галуз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клад, у Франції тільки 7% бізнес-туристів зупиняються в готелях, решта 93% обирають сільські готелі і кемпін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90440" y="47628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овий розвиток сільського зеленого туризму почався з другої полови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, коли у Великій Британії та США виникла концепція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 &amp; Breakfast»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передбачала тимчасове проживання (близько 7 діб) у порожніх кімнатах будинків, незалежно від їх розташув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чат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індустрія сільського туризму визнається експертами Всесвітньої туристичної організації як суттєвий, найбільш динамічно зростаючий сектор світового туристичного госпо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яги надання агротуристичних послуг у постіндустріальних країнах нині практично в 2-4 рази перевищують обсяги зростання готельної бази і курортного сервісу в цих краї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179280" y="981000"/>
            <a:ext cx="879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бути фермером, який ефективно розвиває своє господарство, поєднуючи агробізнес і туризм, у Європі неабияк престижно. Цією справою охоче займаються як пенсіонери, так і моло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прияння розвитку та ефективності агротуризму всі національні організації сільського туризму країн Європи об'єднали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Європейську федерацію фермерського і сільського туриз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ederation for Farm and Village Tourism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 скорочено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 даної федерації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пуляризація та розвиток здорового відпочинку в сільській місцевості заради культурного, емоційного, фінансового й етнокультурного розвитку європейц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20520" y="4762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народні організації серйозно зацікавлені в розвитку цього сек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Georgia"/>
              </a:rPr>
              <a:t>У зв'язку з інтеграційними процесами в Європі постало питання вироблення спільних концепцій розвитку сільських територій та втілення їх у життя. Такий висновок зробили члени-засновники Європейської федерації фермерського і сільського туризму </a:t>
            </a:r>
            <a:r>
              <a:rPr b="0" i="1" lang="ru-RU" sz="2000" spc="-1" strike="noStrike">
                <a:solidFill>
                  <a:srgbClr val="222222"/>
                </a:solidFill>
                <a:latin typeface="Georgia"/>
              </a:rPr>
              <a:t>"</a:t>
            </a:r>
            <a:r>
              <a:rPr b="0" i="1" lang="en-US" sz="2000" spc="-1" strike="noStrike">
                <a:solidFill>
                  <a:srgbClr val="222222"/>
                </a:solidFill>
                <a:latin typeface="Georgia"/>
              </a:rPr>
              <a:t>EUROGITES" (European Federation for Farm and Village Tourism).</a:t>
            </a:r>
            <a:r>
              <a:rPr b="0" lang="en-US" sz="2000" spc="-1" strike="noStrike">
                <a:solidFill>
                  <a:srgbClr val="222222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Georgia"/>
              </a:rPr>
              <a:t>Ця федерація поставила перед собою мету вирішення низки проблем, а са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1) вплинути на збереження життя і культури на сільських територіях Європи, а також утримувати в належному, доглянутому стані природний простір як місце проживання сільського насе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2) зробити сільські території альтернативою масовому туризму; налагодити тісніші зв'язки між містом і се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24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424"/>
                </a:solidFill>
                <a:latin typeface="Georgia"/>
              </a:rPr>
              <a:t>3) сприяти організації на туристичних шляхах зустрічей між людьми з різних країн для їх кращого взаєморозуміння, пізнання, зміцнення миру на плане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457200" y="1197000"/>
            <a:ext cx="8362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Georgia"/>
              </a:rPr>
              <a:t>Членами федерації є організації з Австрії, Бельгії (Валонія і Фландрія), Болгарії, Великої Британії, Грузії, Греції, Іспанії, Кіпру, Литви, Люксембургу, Польщі, Португалії, Румунії, Сербії, Словаччини, Словенії, Угорщини, України, Хорватії, Чехії, Франції, Швейцарії</a:t>
            </a:r>
            <a:r>
              <a:rPr b="0" lang="en-US" sz="3200" spc="-1" strike="noStrike">
                <a:solidFill>
                  <a:srgbClr val="22222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Дата 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12/12/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611280" y="404640"/>
            <a:ext cx="828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України з 2005 р. є "Всеукраїнська спілка сприяння розвитку сільського зеленого туризму" та регіональна асоціація "Спілка сприяння розвитку сільського туризму Крим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ією з найважливіших сфер діяльност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вироблення стандартів і критеріїв якості туристичної пропозиції у Європі. У березні 1996 р. був прийнятий проект "Карта якост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GITES"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якому актуальні стандарти стосуються п'яти тематичних блоків: оточення, облаштування кімнат, обслуговування місць розміщення й оточення, а також професійна підготовка надавачів послуг, атмосфери й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1-10-11T17:56:54Z</dcterms:modified>
  <cp:revision>10</cp:revision>
  <dc:subject/>
  <dc:title>Міжнародні організації в сфері сільського зеленого туризму</dc:title>
</cp:coreProperties>
</file>