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F4FC-BB09-4CCB-97B6-D120B4992920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4ECE-71E8-4874-897D-70CD40624FD9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7680" y="1233360"/>
            <a:ext cx="4440240" cy="33307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2840" y="4749480"/>
            <a:ext cx="5389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1492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4A90-7C48-423A-8580-8C1D34605624}" type="slidenum">
              <a:rPr b="0" lang="uk-UA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FB0-E5F3-46CB-B566-624D2FAF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5E5-2A9D-46C3-8D73-D596F107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20A-D791-44E5-945D-307D9DC8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095-F055-4936-A6C1-FF837D5B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298-0252-4377-8116-5E98270D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218-E51A-4766-A888-0729AA24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D10-9DB6-421D-B9AA-13BFD49B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A3E-2D9F-4AD4-99CA-1FD1FFA8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2AA-2D65-40B6-9002-18B88955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DA2-B19E-41A1-BCB2-42DB505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E84-D2B6-44CC-B5EB-DED9BFB8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41B-C4EE-47AC-9E49-42291E01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2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59595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595959"/>
                </a:solidFill>
                <a:latin typeface="Trebuchet MS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E268-2269-4157-A2E0-66C57EAC1136}" type="slidenum">
              <a:rPr b="0" lang="uk-UA" sz="8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841040"/>
            <a:ext cx="8785440" cy="1556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іна: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ТУРИСТИЧНІ ДЕСТИНАЦІЇ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9280" y="44244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ладач: д.е.н., доцент кафедри менеджменту зовнішньоекономічної діяльності, готельно-ресторанної справи та туризму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я Олена Михайлів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3640" y="404280"/>
            <a:ext cx="819612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ми, відповідно до яких компанії вступаю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льянси, є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ягнення економії на масштабах виробницт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ільне використання виробничих потужност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днання зусиль у виробництві турпродукт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невизначеності та посилення стабільності розвитку, оскільки в довгострокових відносинах з критичним партнером об'єднується їх досвід і ресурс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ризиків у діяльності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ння доступу на ринок, де вже існують сформовані ринкові структури і певний менталітет, просування на ринок продукції один одног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технологій, знань і ноу-хау, проведення спільних досліджень, навчання персона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32880" y="404280"/>
            <a:ext cx="789948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іляють чотири різновид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их альянсі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ьянси з акціонерною участю в існуючих підприємства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атегічні альянси зі створенням нових компаній (спільних підприємст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орціуми для реалізації інвестиційних проекті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ьянси зі слабкою коопераціє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точки зору сфери діяльності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і альянс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но можна поділити на три вид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и по реалізації проектів НДДК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и з організації спільного виробницт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и зі спільного освоєння нових ринк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560" y="11592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и спільних підприємств (СП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 практично в усіх країнах передбачено досить ліберальний режим – зареєстровані СП користуються правами, що й національні підприємства, дольова участь у статутному капіталі СП знижує для інвестора ризик, оскільки його відповідальність обмежується часткою участі в капіталі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а форма акціонерних компаній (що переважає в СП) дозволяє залучати додаткові кошти, тобто обмежує необхідність мати великий початковий капіта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ить часто залучення місцевого партнера дозволяє отримати певні пільги з боку приймаючої країни: пільгові умови придбання земельної ділянки, прямі державні субсидії, податкові пільги тощ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692280"/>
            <a:ext cx="864216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і альянси є містком від кооперації до франчайзингу, який вважається найвищою формою кооперування й одночасно є поширеною стратегією збуту, особливо в готельній сфері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ільним стратегічним альянсом у вигляді територіального, галузевого чи територіально-галузевого об'єднання підприємницьких структур, наукових установ, навчальних закладів, незалежно від форми власності й органів влади, на основі інновації та дотримання економічних інтересів кожного його учасника з метою підвищення конкурентоздатності продукції й економічного росту регіону та галузі є клас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94920" y="404280"/>
            <a:ext cx="812484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уристичному бізнесі найбільшого поширення стратегічні альянси набули у світових готельних мережах. Інтеграційні процеси у сфері готельного господарства викликані такою об’єктивною необхідніст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абезпечення стабільного завантаження готелів. Отже, в основі кожної готельної мережі лежить власна система бронювання, орієнтована на першочергове завантаження готелів, що входять у мережу. Слід, однак, підкреслити, що система готельного бронювання схильна до інтеграційних процесів (системи бронювання готелів, що належать великим авіакомпаніям, а також системи бронювання номерного фонду готелів, що належать незалежним консорціумам). Включення в такі системи електронного резервування коштує дорого, і незалежному готелю це практично не під сил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Формування якісних готельних послуг, що залежить від цілої низки чинників, а саме оформлення інтер’єру, якості обладнання, кваліфікації персоналу та гарантування безпеки клієнтів та їх майна. Отже, провідні готельні об’єднання мають власні нормативи та стандарти оснащення всіх приміщень готелю, а також технологію та стандарти обслуговування. Для того щоб забезпечити відповідність прийнятим нормативам та стандартам оснащення, готелі йдуть на створення не тільки потужних централізованих постачальницьких організацій, але й спеціалізованих підприємств з виробництва та ремонту устаткування і меблів. Дозволити собі це можуть також тільки великі готельні об’єднання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агнення до підвищення завантаження готелю. Пошук нової клієнтури та утримання старої змушують готелі проводити глибокий аналіз ринку, клієнтури, готелів-конкурентів, постачальників тощо, вести активну рекламну та збутову політику, що вимагає використання більших фінансових, інформаційних та людських ресурсів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33240" y="692280"/>
            <a:ext cx="78868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досконалення професіоналізму персоналу готелів, що істотно впливає на якість обслуговування в готелі. Більшість великих готелів вважає підготовку кадрів у державних валютних або комерційних навчальних зак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х недостатньою, тому вони створюють свою власну систему підготовки та підвищення кваліфікації кадрів, витрачаючи на це значні кош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920" y="549000"/>
            <a:ext cx="82692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на основі інтеграційних процесів у галузі туризму формуються стратегічні альянси туристичних підприємств, глобальні об’єднання, готельні мережі, франчайзингові мережі, партнерства тощ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и сприяють оптимізації бізнес-процесів у галузі, оптимізації витрат та надання туристичних послуг. В Україні прояви інтеграції у галузі туризму мають дві форми, а саме представництва відомих світових мереж та формування готельних мереж вітчизняного бізнесу, значно менших за масштаб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4000" y="549000"/>
            <a:ext cx="84960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граційні процеси в галузі туризму викликані необхідністю здобуття конкурентних переваг на туристичному ринку через його значну динаміку, інноваційність розвитку та загострення конкуренції в умовах певних ресурсних обмежень та необхідність підвищення конкурентоспроможності туристичних послуг і продуктів. Їх формою є створення інтегрованих туристичних підприємств корпоративного тип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їні певне обмеження кількості національних стратегічних туристичних альянсів, готельних мереж, франчайзингових туристичних організацій пов’язане з порівняно невисоким розвитком внутрішнього туризму. Їх збільшення вимагає всебічного державного регулювання та підтримки на засадах інституційного забезпечення, державно-приватної підтримки, бюджетування пріоритетних інноваційно-інвестиційних проектів і програм у галуз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50920" y="259920"/>
            <a:ext cx="86421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частіше створенню кластерів передує певна мережа партнер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 між мережею і кластерами є різниц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відміну від кластера, мережа може формуватися будь-де і може бути не прив’язана до певної географічної території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 мережі обмежене членство, а кластер – відкрита сис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режа ґрунтується на контрактних відносинах і зобов'язаннях, а кластер – на соціальних цінностях, довірі, взаєморозумін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режа спрощує для учасників складний виробничий процес. Кластер створює попит і залучає компанії зі схожими і взаємодоповнюючими послу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ережа заснована на кооперації, кластер – на кооперації та конкуренції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ережа має загальну бізнес-задачу, кластер – колективне бачен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95280" y="1753200"/>
            <a:ext cx="8569440" cy="300384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лекції 6: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і альянси як форма співпраці в туристичній дестинації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40464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видно, що кластер – більш складна система, в діяльності якої виділяється як мінімум три взаємопов'язаних «зони»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а – функціональна зона, де взаємодіють учасники виробничого процесу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– територіальна зона, де учасники кластера взаємодіють у рамках обмеженої території (туристичної дестинації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я – зона стратегічного розвит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спішного розвитку кластеру необхідна стратегія, власний бренд, програма розвитку, яку розробляють учасники кластеру. Приклад вдалих брендів відомих кластерів  «Силіконова долина», «Голлівуд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 Light"/>
              </a:rPr>
              <a:t>Література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совська М.В. Інтеграційні процеси в туризмі : монографія / М.В. Босовська. – К. : Київ. нац. торг.-екон. ун-т, 2015. – 832 с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000" y="3319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828440"/>
            <a:ext cx="8353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атегічні альянси в туризмі: чинники та причини формува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ди стратегічних альянсів в туризм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ластери, як вид інтеграц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79280" y="260280"/>
            <a:ext cx="856944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ванн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их альянсів в індустрії туриз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на меті створення єдиної системи збуту туристичного продукту шляхом просування на ринку товарного знака (марки) і розподілу фінансового ризику. За оцінками фахівців, альянси стануть основою стратегії розвитку готельних компаній у ХХІ 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ою мірою глобалізація торкнулася цивільної авіації. Провідні авіакомпанії світу надають перевагу створенню стратегічних альянсів із конкурентами свого рівня, аби обмежити ринкові можливості дрібніших перевізни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інці 90-х років налічувалося більше 350 альянсів авіакомпаній і спостерігалася чітка тенденція до їх збільшення. При цьому одна і та ж компанія може бути членом кількох альянсів. Найбільшими взаємовигідними об’єднаннями авіаперевізників є «Стар Альянс» та «Уануорлд». Кожне із цих об’єднань обслуговує до 180 млн. пасажирів за рі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3640" y="476280"/>
            <a:ext cx="819612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ня ролі та ціле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их альянсі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и змогу виділити різні точки зору на це поняття. У США стратегічні альянси отримали назву «віртуальні корпорації». Сутність стратегічних альянсів у туризмі визначається такими поняттями, як «дружні союзи», «конкуренція», «форми спільного підприємництва з юридичним оформленням договорів, координації дій партнерів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идів міжфірмового обміну у стратегічних альянсах, яким активно користуються у туристичному бізнесі, належать угоди про франчайзинг, контракти на управління, контракти з маркетингу, спільні підприєм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476280"/>
            <a:ext cx="82692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 будь-якого виду міжфірмового обміну 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их альянса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мовлюється такими чинниками, як, зокре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аний рівень взаєморозуміння партнері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іри витрат і ризиків, пов’язані з організацією співробітниц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ість отримання швидких результаті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і цілі партнер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правило, різні види міжфірмового обміну рідко існують в «чистому вигляді», найчастіше вони здійснюються в різних поєднаннях, взаємно доповнюючи і зумовлюючи один од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549000"/>
            <a:ext cx="8640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івробітництво в мережах передбачає участь не тільки суб'єктів туристичної діяльності, а й суб'єктів підприємництва суміжних областей, що обумовлено різноманітністю напрямів туризму й високим ступенем його чутливості до екзогенних факторів мезо- і макрооточення, дифузією інновацій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ий альянс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Alliance)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да про кооперацію двох або більше незалежних фірм для досягнення певних комерційних цілей, для отримання синергії об'єднаних і взаємодоповнюючих стратегічних ресурсів компані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мках стратегічних альянсів, консорціумів виникає можливість мобілізації переваг потужної корпоративної структури за умови збереження відокремленості її члені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4920" y="54900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а такого типу інтеграції, як стратегічні альянси, пояснюється такими причинам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ення прогалин в існуючих ринках і технологічній базі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ення надлишкової виробничої потужності в прибуток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ризиків і видатків, пов’язаних з виходом на новий ринок туристичних послуг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корення розробки й початку виробництва нової продукції й послуг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я на масштабах виробництва послуг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лання законодавчих і торгових бар’єрів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ільшення діапазону операцій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видатків при скороченні операці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2T11:15:48Z</dcterms:created>
  <dc:creator>Татьянка</dc:creator>
  <dc:description/>
  <dc:language>en-US</dc:language>
  <cp:lastModifiedBy>Пользователь Windows</cp:lastModifiedBy>
  <dcterms:modified xsi:type="dcterms:W3CDTF">2020-04-08T08:09:07Z</dcterms:modified>
  <cp:revision>442</cp:revision>
  <dc:subject/>
  <dc:title>Презентация PowerPoint</dc:title>
</cp:coreProperties>
</file>