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7621588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7AC2-F4A5-4090-AD92-B5CE06824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6858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303720"/>
            <a:ext cx="6858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FBC8-74E6-4A73-89C2-4156EFB7D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95200" y="133344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30372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95200" y="330372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21BD-62AF-4A42-90CA-5D2EAE276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22078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699640" y="1333440"/>
            <a:ext cx="22078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018040" y="1333440"/>
            <a:ext cx="22078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303720"/>
            <a:ext cx="22078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699640" y="3303720"/>
            <a:ext cx="22078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018040" y="3303720"/>
            <a:ext cx="22078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9F6A-4F90-4658-A546-6BEA66333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333440"/>
            <a:ext cx="68580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5E29-A39C-4A69-A852-52592B8D0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6858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D184-DEA3-4BA1-879E-D3B6427A4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334656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895200" y="1333440"/>
            <a:ext cx="334656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710B-1641-40B0-ADE2-F36A05AB9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7964-F999-450A-833E-FFC6E7A0F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228600"/>
            <a:ext cx="68580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27EC-E195-4901-83E6-0C7D4D6E7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895200" y="1333440"/>
            <a:ext cx="334656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30372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5123-D6EE-4A38-A333-72A4A2486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334656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895200" y="133344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95200" y="330372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61B8-489F-49FF-ABE0-BB563EE65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895200" y="133344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303720"/>
            <a:ext cx="6858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7AE1-48BE-4CBA-81D7-87426531E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3" descr=""/>
          <p:cNvPicPr/>
          <p:nvPr/>
        </p:nvPicPr>
        <p:blipFill>
          <a:blip r:embed="rId2"/>
          <a:stretch/>
        </p:blipFill>
        <p:spPr>
          <a:xfrm>
            <a:off x="0" y="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1333440"/>
            <a:ext cx="6858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80520" y="5297040"/>
            <a:ext cx="17780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50B5E-380A-403A-B7B8-F5069A38CC11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603160" y="5297040"/>
            <a:ext cx="241308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5460480" y="5297040"/>
            <a:ext cx="17780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AC568-283F-42D7-B68C-1A11691DAB6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3" descr=""/>
          <p:cNvPicPr/>
          <p:nvPr/>
        </p:nvPicPr>
        <p:blipFill>
          <a:blip r:embed="rId1"/>
          <a:srcRect l="0" t="0" r="852" b="0"/>
          <a:stretch/>
        </p:blipFill>
        <p:spPr>
          <a:xfrm>
            <a:off x="-9360" y="1116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3"/>
          <p:cNvSpPr/>
          <p:nvPr/>
        </p:nvSpPr>
        <p:spPr>
          <a:xfrm>
            <a:off x="92160" y="851760"/>
            <a:ext cx="7518240" cy="228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ципліна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0" lang="ru-RU" sz="4800" spc="-1" strike="noStrike">
                <a:solidFill>
                  <a:srgbClr val="000000"/>
                </a:solidFill>
                <a:latin typeface="Trebuchet MS"/>
                <a:ea typeface="Arial"/>
              </a:rPr>
              <a:t>Управлінння бізнес-процесами</a:t>
            </a:r>
            <a:r>
              <a:rPr b="1" lang="uk-UA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92160" y="3659400"/>
            <a:ext cx="7518240" cy="155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кладач: д.е.н., доцент кафедри менеджменту зовнішньоекономічної діяльності, готельно-ресторанної справи та туризм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ловня Олена Михайлі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Дата 2"/>
          <p:cNvSpPr/>
          <p:nvPr/>
        </p:nvSpPr>
        <p:spPr>
          <a:xfrm>
            <a:off x="380880" y="5297400"/>
            <a:ext cx="177804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77DBE-C873-46A8-A4ED-D8C725BA69B7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Рисунок 3" descr=""/>
          <p:cNvPicPr/>
          <p:nvPr/>
        </p:nvPicPr>
        <p:blipFill>
          <a:blip r:embed="rId1"/>
          <a:srcRect l="33463" t="30751" r="33856" b="27951"/>
          <a:stretch/>
        </p:blipFill>
        <p:spPr>
          <a:xfrm>
            <a:off x="209520" y="228600"/>
            <a:ext cx="7129440" cy="50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Дата 2"/>
          <p:cNvSpPr/>
          <p:nvPr/>
        </p:nvSpPr>
        <p:spPr>
          <a:xfrm>
            <a:off x="380880" y="5297400"/>
            <a:ext cx="177804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FB67D-2337-48A0-974F-7E2E61357D7E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3"/>
          <p:cNvSpPr/>
          <p:nvPr/>
        </p:nvSpPr>
        <p:spPr>
          <a:xfrm>
            <a:off x="533520" y="600120"/>
            <a:ext cx="6769080" cy="43628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ідприємств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це складна система, усередині якої протікає безліч взаємопов’язаних процесів, які своїм функціонуванням визначають стан всієї організаційної системи в цілом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цеси, що протікають усередині підприємства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це послідовні функціональні ланцюги, які взаємопов’язані між собою та від яких безпосередньо залежить загальний стан всієї корпоративної систе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те потрібно розуміти, що кожна система має свої, властиві лише їй, особливості, свою реакцію на управління, свої форми можливого відхилення від програми. Це викликає необхідність використання певних підходів в процесі управління операційною системо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Дата 2"/>
          <p:cNvSpPr/>
          <p:nvPr/>
        </p:nvSpPr>
        <p:spPr>
          <a:xfrm>
            <a:off x="380880" y="5297400"/>
            <a:ext cx="177804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496D0-93C9-4250-8B02-C6DA2460CA77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4"/>
          <p:cNvSpPr/>
          <p:nvPr/>
        </p:nvSpPr>
        <p:spPr>
          <a:xfrm>
            <a:off x="246240" y="625320"/>
            <a:ext cx="6948360" cy="40579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умовах сучасного мінливого оточуючого середовища підприємства більш дієвим слід вважати застосування процесного принципу організації управління підприємствами. На сьогоднішній день процесний підхід є найбільш прогресивним, і може широко застосовуватися у різних сферах діяльності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ьогодні це один з небагатьох способів для підприємства залишатися конкурентоспроможни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ний підхід примушує керівників різних рівнів звернути увагу на взаємодію учасників процесів, оскільки через їх невизначеність відбуваються найбільші втрати інформації і часу, що безпосередньо ведуть до економічних втра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Дата 2"/>
          <p:cNvSpPr/>
          <p:nvPr/>
        </p:nvSpPr>
        <p:spPr>
          <a:xfrm>
            <a:off x="380880" y="5297400"/>
            <a:ext cx="177804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640B1-F92C-4390-A57B-C9AFBEFFD600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3"/>
          <p:cNvSpPr/>
          <p:nvPr/>
        </p:nvSpPr>
        <p:spPr>
          <a:xfrm>
            <a:off x="496800" y="696960"/>
            <a:ext cx="6626160" cy="42310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азуючись на даних дослідженнях, зауважимо, що процесний підхід в якості основного об’єкта управління виділяє бізнес-процес, що наскрізно проходить через усі рівні організації і відповідає за будь-яку певну дію від початку і до кінця. Взаємозв’язки всередині підприємства базуються не на виокремленні певних підрозділів, що виконують визначені функції, а на виокремленні наскрізних процесів, які визначаються цілями і задачами діяльності підприємств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цесний підхід орієнтований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у першу чергу, не на організаційну структуру підприємства, а на бізнес-процеси, кінцевими цілями виконання яких, є створення продуктів або послуг, що представляють цінність для зовнішніх або внутрішніх споживачів.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цес узагалі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– це послідовна зміна предметів і явищ, станів об’єкту в часі, сукупність послідовних дій, спрямованих на досягнення певного результату. Отже, ключовими ознаками процесу взагалі і бізнес-процесу зокрема, слід вважати зміну стану об’єкта і спрямованість на певний результ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Дата 2"/>
          <p:cNvSpPr/>
          <p:nvPr/>
        </p:nvSpPr>
        <p:spPr>
          <a:xfrm>
            <a:off x="380880" y="5297400"/>
            <a:ext cx="177804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BB413-E059-473A-83EA-72D06AAF6345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Рисунок 4" descr=""/>
          <p:cNvPicPr/>
          <p:nvPr/>
        </p:nvPicPr>
        <p:blipFill>
          <a:blip r:embed="rId1"/>
          <a:srcRect l="27360" t="42999" r="27557" b="25151"/>
          <a:stretch/>
        </p:blipFill>
        <p:spPr>
          <a:xfrm>
            <a:off x="15840" y="841320"/>
            <a:ext cx="762012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Дата 2"/>
          <p:cNvSpPr/>
          <p:nvPr/>
        </p:nvSpPr>
        <p:spPr>
          <a:xfrm>
            <a:off x="380880" y="5297400"/>
            <a:ext cx="177804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4BB35-FD7B-4C19-AD12-753DF3F3E5B1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3"/>
          <p:cNvSpPr/>
          <p:nvPr/>
        </p:nvSpPr>
        <p:spPr>
          <a:xfrm>
            <a:off x="396720" y="403200"/>
            <a:ext cx="6732720" cy="48488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загальнивши запропоновані вченими визначення, можемо стверджувати, що у широкому розумінні під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ізнес-процесо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лід розуміти структуровану послідовність дій по виконанню відповідного виду діяльності на всіх етапах життєвого циклу предмета діяльності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ізнес-проце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це сукупність різних видів діяльності, в межах якої «на вході» використовується один або декілька ресурсів, а в результаті цієї діяльності «на виході» створюється продукт, що має цінність для споживач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Дата 2"/>
          <p:cNvSpPr/>
          <p:nvPr/>
        </p:nvSpPr>
        <p:spPr>
          <a:xfrm>
            <a:off x="380880" y="5297400"/>
            <a:ext cx="177804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B2A04-0ADB-4C87-819A-0B0C5894DBFF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3"/>
          <p:cNvSpPr/>
          <p:nvPr/>
        </p:nvSpPr>
        <p:spPr>
          <a:xfrm>
            <a:off x="380880" y="444600"/>
            <a:ext cx="7021800" cy="44830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ким чином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ізнес-проце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є сукупністю послідовних пов’язаних бізнес-операцій, яким управляє, так званий, «власник» – посадова особа, яка відповідальна за його хід і результати, використовуючи входи (сировину, матеріали, інформацію тощо), за допомогою ресурсів, які є у його розпорядженні (персоналу, устаткування, технології, інфраструктури тощо), перетворює їх у виходи (готову продукцію, інформацію, документацію тощо) – результати бізнес-процесу, які використовують споживачі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Дата 2"/>
          <p:cNvSpPr/>
          <p:nvPr/>
        </p:nvSpPr>
        <p:spPr>
          <a:xfrm>
            <a:off x="380880" y="5297400"/>
            <a:ext cx="177804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3F398-11A5-4491-8C72-F0F8A4553365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3"/>
          <p:cNvSpPr/>
          <p:nvPr/>
        </p:nvSpPr>
        <p:spPr>
          <a:xfrm>
            <a:off x="401760" y="588960"/>
            <a:ext cx="6984720" cy="40579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управління бізнес-процесом «власник» повинен отримувати зворотну інформацію про хід його виконання та інформацію від споживачів (клієнтів) бізнес-процесу. Крім того, вищому керівництву підприємством повинна регулярно надходити звітність про хід протікання бізнес-процес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дамо, що бізнес-процес має постачальників і споживачів, з якими він взаємодіє. Ними можуть бути інші бізнес-процеси підприємства, фізичні і юридичні особи. Впровадження засад процесного управління базується на виокремленні та групуванні бізнес-процесів, які визначаються галузевою приналежністю суб’єкта господарюванн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Дата 2"/>
          <p:cNvSpPr/>
          <p:nvPr/>
        </p:nvSpPr>
        <p:spPr>
          <a:xfrm>
            <a:off x="380880" y="5297400"/>
            <a:ext cx="177804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A0E89-2DF0-477C-96D1-B74A6397C76E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3"/>
          <p:cNvSpPr/>
          <p:nvPr/>
        </p:nvSpPr>
        <p:spPr>
          <a:xfrm>
            <a:off x="246240" y="293760"/>
            <a:ext cx="7229160" cy="49726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ізнес-процеси поділяються на такі види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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ні бізнес-процеси, котрі утворюють додану вартість продукту (послуги); створюють продукт (послуги), що має цінність для клієнта; формують такий результат, такі споживчі якості, за які клієнт готовий платити гроші, сфокусовані на отриманні прибутку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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поміжні бізнес-процеси, що спрямовані на надання необхідних внутрішніх продуктів, внутрішніх послуг для напрямів бізнесу; забезпечують функціонування інфраструктури компанії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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ізнес-процеси розвитку, націлені на отримання прибутку в довгостроковій перспективі; забезпечують не організацію поточної діяльності, а розвиток або вдосконалення діяльності компанії в перспективі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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цеси управління, що націлені на управління всіма трьома попередніми груп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Дата 2"/>
          <p:cNvSpPr/>
          <p:nvPr/>
        </p:nvSpPr>
        <p:spPr>
          <a:xfrm>
            <a:off x="380880" y="5297400"/>
            <a:ext cx="177804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C108D-5DC3-4F07-AB92-2C5BFB8FED50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3"/>
          <p:cNvSpPr/>
          <p:nvPr/>
        </p:nvSpPr>
        <p:spPr>
          <a:xfrm>
            <a:off x="380880" y="193680"/>
            <a:ext cx="7164360" cy="50317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озглянемо детальніше згадану вище класифікацію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 результативністю бізнес-процеси поділяють на основні; обслуговуючі; управління та розвитк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трібно зауважити, що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ні бізнес-процеси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рямовані на виробництво продукції, виконання робіт, надання послуг, унаслідок чого зростає цінність для споживача (постачання, виробництво, збут) і формується дохід підприємства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слуговуючі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необхідні для функціонування основних, не створюють цінності, однак вимагають затрат (промислова безпека і охорона праці, охорона навколишнього середовища, енергозабезпечення і т.п.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ізнес-процеси управління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є також забезпечуючими, оскільки охоплюють всі функції управління підприємством в цілому як бізнессистеми (кадрове, фінансово-облікове забезпечення діяльності підприємства і т.п.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ізнес-процеси розвитк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які також носять обслуговуючий характер, пов’язані з удосконаленням діяльності підприємства (бізнес-процеси аналізування та поліпшення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Дата 2"/>
          <p:cNvSpPr/>
          <p:nvPr/>
        </p:nvSpPr>
        <p:spPr>
          <a:xfrm>
            <a:off x="380880" y="5297400"/>
            <a:ext cx="177804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61A84-C165-4C5A-97D3-0AEFC0152729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Управління бізнес-процесами — Вікіпедія"/>
          <p:cNvPicPr/>
          <p:nvPr/>
        </p:nvPicPr>
        <p:blipFill>
          <a:blip r:embed="rId1"/>
          <a:stretch/>
        </p:blipFill>
        <p:spPr>
          <a:xfrm>
            <a:off x="749160" y="158760"/>
            <a:ext cx="624708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Дата 2"/>
          <p:cNvSpPr/>
          <p:nvPr/>
        </p:nvSpPr>
        <p:spPr>
          <a:xfrm>
            <a:off x="380880" y="5297400"/>
            <a:ext cx="177804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794CD-05C1-410D-B305-A63756DD59D4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3"/>
          <p:cNvSpPr/>
          <p:nvPr/>
        </p:nvSpPr>
        <p:spPr>
          <a:xfrm>
            <a:off x="569880" y="193680"/>
            <a:ext cx="6308640" cy="47574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 рівнем деталізації вивчення виокремлюють: бізнес-процеси верхнього рівня; детальні; елементарні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ізнес-процеси верхнього рівня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або крос-функціональні процеси) відображають сукупність його функцій без деталізації на окремі підпроцес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кладовими елементами бізнес-процесів верхнього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івня є підпроцеси або детальні бізнес-процеси, що є згрупованою частиною функцій, які беруть участь у формуванні їх кінцевих результатів. Підпроцеси мають власні атрибути, однак спрямовані на досягнення цілей основного бізнес-процесу підприємств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 свою чергу детальні бізнес-процеси складаються з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лементарни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тобто окремих операцій, що не здатні самостійно створювати кінцеві результати і не підлягають поділу. Окремі операції (функції) найнижчого рівня декомпозиції діяльності підприємства виконуються окремими працівник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Дата 2"/>
          <p:cNvSpPr/>
          <p:nvPr/>
        </p:nvSpPr>
        <p:spPr>
          <a:xfrm>
            <a:off x="380880" y="5297400"/>
            <a:ext cx="177804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C5E76-EA0D-44D2-A6A7-F05879A8C086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Рисунок 3" descr=""/>
          <p:cNvPicPr/>
          <p:nvPr/>
        </p:nvPicPr>
        <p:blipFill>
          <a:blip r:embed="rId1"/>
          <a:srcRect l="26776" t="21701" r="27157" b="16353"/>
          <a:stretch/>
        </p:blipFill>
        <p:spPr>
          <a:xfrm>
            <a:off x="0" y="0"/>
            <a:ext cx="7620120" cy="56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Дата 2"/>
          <p:cNvSpPr/>
          <p:nvPr/>
        </p:nvSpPr>
        <p:spPr>
          <a:xfrm>
            <a:off x="380880" y="5297400"/>
            <a:ext cx="177804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D5D2A-AC73-41A5-BEAA-F72CE2E6F568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3"/>
          <p:cNvSpPr/>
          <p:nvPr/>
        </p:nvSpPr>
        <p:spPr>
          <a:xfrm>
            <a:off x="785880" y="264960"/>
            <a:ext cx="6156360" cy="46659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Тема 1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Сутність процесного управління підприємством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Літератур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Дата 2"/>
          <p:cNvSpPr/>
          <p:nvPr/>
        </p:nvSpPr>
        <p:spPr>
          <a:xfrm>
            <a:off x="380880" y="5297400"/>
            <a:ext cx="177804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C6AAE-10C0-4D21-A2CC-3A9BB118D095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Заголовок 1"/>
          <p:cNvSpPr/>
          <p:nvPr/>
        </p:nvSpPr>
        <p:spPr>
          <a:xfrm>
            <a:off x="380880" y="1670040"/>
            <a:ext cx="6858000" cy="230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914400" indent="-9144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мерічевський С.Ф., Захаров В.О. Управління бізнес-процесами: Навч. посібник. – 2-ге вид. – Донецьк: ДонДУУ, 2007. – 199 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Дата 2"/>
          <p:cNvSpPr/>
          <p:nvPr/>
        </p:nvSpPr>
        <p:spPr>
          <a:xfrm>
            <a:off x="380880" y="5297400"/>
            <a:ext cx="177804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69CF1-8B13-4F12-95A1-DCD3194EB2CE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3"/>
          <p:cNvSpPr/>
          <p:nvPr/>
        </p:nvSpPr>
        <p:spPr>
          <a:xfrm>
            <a:off x="533520" y="770040"/>
            <a:ext cx="6226200" cy="3660120"/>
          </a:xfrm>
          <a:prstGeom prst="rect">
            <a:avLst/>
          </a:prstGeom>
          <a:solidFill>
            <a:srgbClr val="e0e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йбільші труднощі в розумінні процесного підходу до управління викликає саме поняття “процес”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цес (від лат. Processus – просування) – це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) послідовна зміна явищ, станів у розвитку чого-небудь; 2) сукупність послідовних дій для досягнення якого-небудь результату ...”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цес – хід, розвиток якогось явища, послідовна зміна станів у розвитку чог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будь”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цес (процедура) – будь-яка тривала, послідовна справа, порядок, обряд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Дата 2"/>
          <p:cNvSpPr/>
          <p:nvPr/>
        </p:nvSpPr>
        <p:spPr>
          <a:xfrm>
            <a:off x="380880" y="5297400"/>
            <a:ext cx="177804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CB93E-D7CD-4E76-9F6B-171792048FC4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Рисунок 4" descr=""/>
          <p:cNvPicPr/>
          <p:nvPr/>
        </p:nvPicPr>
        <p:blipFill>
          <a:blip r:embed="rId1"/>
          <a:srcRect l="30904" t="33900" r="33463" b="30401"/>
          <a:stretch/>
        </p:blipFill>
        <p:spPr>
          <a:xfrm>
            <a:off x="209520" y="804960"/>
            <a:ext cx="74106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Дата 2"/>
          <p:cNvSpPr/>
          <p:nvPr/>
        </p:nvSpPr>
        <p:spPr>
          <a:xfrm>
            <a:off x="380880" y="5297400"/>
            <a:ext cx="177804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F4F16-1D01-41F8-BE8D-30FCA3BEFDBD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3"/>
          <p:cNvSpPr/>
          <p:nvPr/>
        </p:nvSpPr>
        <p:spPr>
          <a:xfrm>
            <a:off x="209520" y="246240"/>
            <a:ext cx="7197840" cy="5306040"/>
          </a:xfrm>
          <a:prstGeom prst="rect">
            <a:avLst/>
          </a:prstGeom>
          <a:solidFill>
            <a:srgbClr val="e0e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іжнародний стандарт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O 9000:2000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ід цим поняттям розуміє “діяльність, що використовує ресурси, керується з метою перетворення вхідних даних на вихідні дані, і може розглядатися як процес”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гадка про ресурси і управління дещо розширює зміст поняття, оскільки вказується, що для виконання перетворень потрібне матеріальне забезпечення і певна програма, що задає напрямок процесу. Базову модель процесу подано на рис. 2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хідні потоки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це матеріали, у т.ч. сировина або інформація, що перетворюються процесом для створення вихідних потоків.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ихідні потоки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це результат перетворення вхідних потоків (матеріальна чи нематеріальна продукція). Відповідно до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O 9001:2000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е може бути устаткування (технічні засоби), інтелек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альна продукція, переробні матеріали і послуги.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правлінські впливи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це додаткові вхідні потоки, що впливають на процес (процедури, методики, плани, стратегія і законодавство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есурс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це сприятливі фактори, що не перетворюються в процесі (персонал, устаткування, матеріали, приміщення тощо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Дата 2"/>
          <p:cNvSpPr/>
          <p:nvPr/>
        </p:nvSpPr>
        <p:spPr>
          <a:xfrm>
            <a:off x="380880" y="5297400"/>
            <a:ext cx="177804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B7DBF-9F7A-4FF6-9C78-2BA6A03F4175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3"/>
          <p:cNvSpPr/>
          <p:nvPr/>
        </p:nvSpPr>
        <p:spPr>
          <a:xfrm>
            <a:off x="317520" y="770040"/>
            <a:ext cx="6913440" cy="222696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ізнес-процесом можна назвати будь-яку діяльність, пов’язану з виробництвом і продажами товарів чи послуг і спроможну хоча б потенційно приносити прибут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Дата 2"/>
          <p:cNvSpPr/>
          <p:nvPr/>
        </p:nvSpPr>
        <p:spPr>
          <a:xfrm>
            <a:off x="380880" y="5297400"/>
            <a:ext cx="177804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250D1-29C5-47ED-985F-6920083013A9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3"/>
          <p:cNvSpPr/>
          <p:nvPr/>
        </p:nvSpPr>
        <p:spPr>
          <a:xfrm>
            <a:off x="425520" y="1187280"/>
            <a:ext cx="6913440" cy="3385800"/>
          </a:xfrm>
          <a:prstGeom prst="rect">
            <a:avLst/>
          </a:prstGeom>
          <a:solidFill>
            <a:srgbClr val="f0f3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і процеси за методологією ВА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Orgware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іляються на основні й детальні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і процеси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є специфічними для визначеного типу організації і визначаються за контрольною моделлю потоку продукції, яка виготовляєтьс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поміжні процеси мають загальну природу, можуть застосовуватися в різних типах організаці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4T05:27:00Z</dcterms:created>
  <dc:creator>高迎春</dc:creator>
  <dc:description/>
  <cp:keywords/>
  <dc:language>en-US</dc:language>
  <cp:lastModifiedBy>Пользователь Windows</cp:lastModifiedBy>
  <cp:lastPrinted>1899-12-30T00:00:00Z</cp:lastPrinted>
  <dcterms:modified xsi:type="dcterms:W3CDTF">2022-01-24T06:07:00Z</dcterms:modified>
  <cp:revision>3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998</vt:lpwstr>
  </property>
</Properties>
</file>