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5AA-1B2B-448B-A79E-6C072363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B1A-93A6-4C7A-813A-077B9D6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07A-E730-4A10-8D74-0A392EE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CC6-2EA8-4F2B-A81E-3DB79437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C3-BE4E-43ED-AE2C-F6FD31F9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0E7-2375-44BA-B51C-B900CBD3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4AE-1142-4FF2-AF34-1125285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6EC-0F53-48A1-BE0B-C1730FDD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ACC-2EF3-4925-B336-8E324AC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088-6B6A-44DC-8B54-2EFE457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E70-443C-4D9F-A686-BB4F8D9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EF4-0A10-4DE8-AB55-19703A5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5297040"/>
            <a:ext cx="1778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9DE-29FD-4409-945D-21BA80D3FF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03160" y="5297040"/>
            <a:ext cx="24130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460480" y="5297040"/>
            <a:ext cx="17780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A08A-6D89-4E1E-85D6-F9CE7C2509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rcRect l="0" t="0" r="852" b="0"/>
          <a:stretch/>
        </p:blipFill>
        <p:spPr>
          <a:xfrm>
            <a:off x="-9360" y="111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92160" y="851760"/>
            <a:ext cx="751824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  <a:ea typeface="Arial"/>
              </a:rPr>
              <a:t>Управлінння бізнес-процесами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2160" y="3659400"/>
            <a:ext cx="7518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F40-CC91-46E0-A512-EB92101D97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33463" t="30751" r="33856" b="27951"/>
          <a:stretch/>
        </p:blipFill>
        <p:spPr>
          <a:xfrm>
            <a:off x="209520" y="228600"/>
            <a:ext cx="71294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DE5-C3BB-487E-B945-5A0B121BFA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533520" y="600120"/>
            <a:ext cx="6769080" cy="436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дприєм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це складна система, усередині якої протікає безліч взаємопов’язаних процесів, які своїм функціонуванням визначають стан всієї організаційної системи в ці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и, що протікають усередині підприєм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це послідовні функціональні ланцюги, які взаємопов’язані між собою та від яких безпосередньо залежить загальний стан всієї корпоративної систе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 потрібно розуміти, що кожна система має свої, властиві лише їй, особливості, свою реакцію на управління, свої форми можливого відхилення від програми. Це викликає необхідність використання певних підходів в процесі управління операційною систе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C16F-8647-479D-AA01-F7BFB3FF19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46240" y="625320"/>
            <a:ext cx="6948360" cy="405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мовах сучасного мінливого оточуючого середовища підприємства більш дієвим слід вважати застосування процесного принципу організації управління підприємствами. На сьогоднішній день процесний підхід є найбільш прогресивним, і може широко застосовуватися у різних сферах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ьогодні це один з небагатьох способів для підприємства залишатися конкурентоспроможн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ий підхід примушує керівників різних рівнів звернути увагу на взаємодію учасників процесів, оскільки через їх невизначеність відбуваються найбільші втрати інформації і часу, що безпосередньо ведуть до економічних в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737-7A9F-4DEE-A6BE-56D25DFD94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96800" y="696960"/>
            <a:ext cx="6626160" cy="423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уючись на даних дослідженнях, зауважимо, що процесний підхід в якості основного об’єкта управління виділяє бізнес-процес, що наскрізно проходить через усі рівні організації і відповідає за будь-яку певну дію від початку і до кінця. Взаємозв’язки всередині підприємства базуються не на виокремленні певних підрозділів, що виконують визначені функції, а на виокремленні наскрізних процесів, які визначаються цілями і задачами діяльності підприєм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ний підхід орієнтова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 першу чергу, не на організаційну структуру підприємства, а на бізнес-процеси, кінцевими цілями виконання яких, є створення продуктів або послуг, що представляють цінність для зовнішніх або внутрішніх споживачі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 узагал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це послідовна зміна предметів і явищ, станів об’єкту в часі, сукупність послідовних дій, спрямованих на досягнення певного результату. Отже, ключовими ознаками процесу взагалі і бізнес-процесу зокрема, слід вважати зміну стану об’єкта і спрямованість на певний 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503-9A3B-4290-9A66-49EE202B4B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rcRect l="27360" t="42999" r="27557" b="25151"/>
          <a:stretch/>
        </p:blipFill>
        <p:spPr>
          <a:xfrm>
            <a:off x="15840" y="841320"/>
            <a:ext cx="7620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268-F728-453D-A04D-864FA970E9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96720" y="403200"/>
            <a:ext cx="6732720" cy="4848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агальнивши запропоновані вченими визначення, можемо стверджувати, що у широкому розумінні пі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ід розуміти структуровану послідовність дій по виконанню відповідного виду діяльності на всіх етапах життєвого циклу предмета діяль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е сукупність різних видів діяльності, в межах якої «на вході» використовується один або декілька ресурсів, а в результаті цієї діяльності «на виході» створюється продукт, що має цінність для спожив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46A2-FCCF-4428-AB44-AE8949F61F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380880" y="444600"/>
            <a:ext cx="7021800" cy="448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чином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ізнес-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є сукупністю послідовних пов’язаних бізнес-операцій, яким управляє, так званий, «власник» – посадова особа, яка відповідальна за його хід і результати, використовуючи входи (сировину, матеріали, інформацію тощо), за допомогою ресурсів, які є у його розпорядженні (персоналу, устаткування, технології, інфраструктури тощо), перетворює їх у виходи (готову продукцію, інформацію, документацію тощо) – результати бізнес-процесу, які використовують споживач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7C5D-5BF9-4FE5-989A-B5CA3E6B34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01760" y="588960"/>
            <a:ext cx="6984720" cy="4057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правління бізнес-процесом «власник» повинен отримувати зворотну інформацію про хід його виконання та інформацію від споживачів (клієнтів) бізнес-процесу. Крім того, вищому керівництву підприємством повинна регулярно надходити звітність про хід протікання бізнес-проце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дамо, що бізнес-процес має постачальників і споживачів, з якими він взаємодіє. Ними можуть бути інші бізнес-процеси підприємства, фізичні і юридичні особи. Впровадження засад процесного управління базується на виокремленні та групуванні бізнес-процесів, які визначаються галузевою приналежністю суб’єкта господар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0C8-8A45-4862-8004-84EF01BAC5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46240" y="293760"/>
            <a:ext cx="7229160" cy="4972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знес-процеси поділяються на такі вид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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і бізнес-процеси, котрі утворюють додану вартість продукту (послуги); створюють продукт (послуги), що має цінність для клієнта; формують такий результат, такі споживчі якості, за які клієнт готовий платити гроші, сфокусовані на отриманні прибут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міжні бізнес-процеси, що спрямовані на надання необхідних внутрішніх продуктів, внутрішніх послуг для напрямів бізнесу; забезпечують функціонування інфраструктури компан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знес-процеси розвитку, націлені на отримання прибутку в довгостроковій перспективі; забезпечують не організацію поточної діяльності, а розвиток або вдосконалення діяльності компанії в перспективі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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и управління, що націлені на управління всіма трьома попередніми груп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1241-F839-4393-ADA6-2130C6DBE9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80880" y="193680"/>
            <a:ext cx="7164360" cy="503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глянемо детальніше згадану вище класифіка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ультативністю бізнес-процеси поділяють на основні; обслуговуючі; управління та розви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ібно зауважити, щ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і бізнес-процес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ямовані на виробництво продукції, виконання робіт, надання послуг, унаслідок чого зростає цінність для споживача (постачання, виробництво, збут) і формується дохід підприємств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луговуюч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обхідні для функціонування основних, не створюють цінності, однак вимагають затрат (промислова безпека і охорона праці, охорона навколишнього середовища, енергозабезпечення і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управлін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є також забезпечуючими, оскільки охоплюють всі функції управління підприємством в цілому як бізнессистеми (кадрове, фінансово-облікове забезпечення діяльності підприємства і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розви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які також носять обслуговуючий характер, пов’язані з удосконаленням діяльності підприємства (бізнес-процеси аналізування та поліпшенн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88B7-2958-406B-8107-F477E2ECB9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Управління бізнес-процесами — Вікіпедія"/>
          <p:cNvPicPr/>
          <p:nvPr/>
        </p:nvPicPr>
        <p:blipFill>
          <a:blip r:embed="rId1"/>
          <a:stretch/>
        </p:blipFill>
        <p:spPr>
          <a:xfrm>
            <a:off x="749160" y="158760"/>
            <a:ext cx="6247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8865-A3B2-4AF2-8EB2-A41C89250C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69880" y="193680"/>
            <a:ext cx="6308640" cy="475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івнем деталізації вивчення виокремлюють: бізнес-процеси верхнього рівня; детальні; елементарн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ізнес-процеси верхнього рі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бо крос-функціональні процеси) відображають сукупність його функцій без деталізації на окремі підпроце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овими елементами бізнес-процесів верхньог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івня є підпроцеси або детальні бізнес-процеси, що є згрупованою частиною функцій, які беруть участь у формуванні їх кінцевих результатів. Підпроцеси мають власні атрибути, однак спрямовані на досягнення цілей основного бізнес-процесу підприєм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ою чергу детальні бізнес-процеси складаються 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ментарн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бто окремих операцій, що не здатні самостійно створювати кінцеві результати і не підлягають поділу. Окремі операції (функції) найнижчого рівня декомпозиції діяльності підприємства виконуються окремими праців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5C93-853B-4687-B126-D3FC61DC6E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rcRect l="26776" t="21701" r="27157" b="16353"/>
          <a:stretch/>
        </p:blipFill>
        <p:spPr>
          <a:xfrm>
            <a:off x="0" y="0"/>
            <a:ext cx="76201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4F60-C6B8-471C-B54F-6D5E03E6DE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785880" y="264960"/>
            <a:ext cx="6156360" cy="4665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ема 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утність процесного управління підприємство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Лі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1295-9AC3-49E8-9888-A5B36BD3D6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380880" y="1670040"/>
            <a:ext cx="6858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річевський С.Ф., Захаров В.О. Управління бізнес-процесами: Навч. посібник. – 2-ге вид. – Донецьк: ДонДУУ, 2007. – 19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E06-82A5-48FE-8482-F441F18714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3520" y="770040"/>
            <a:ext cx="6226200" cy="3660120"/>
          </a:xfrm>
          <a:prstGeom prst="rect">
            <a:avLst/>
          </a:prstGeom>
          <a:solidFill>
            <a:srgbClr val="e0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більші труднощі в розумінні процесного підходу до управління викликає саме поняття “процес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(від лат. Processus – просування) – 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ослідовна зміна явищ, станів у розвитку чого-небудь; 2) сукупність послідовних дій для досягнення якого-небудь результату ...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– хід, розвиток якогось явища, послідовна зміна станів у розвитку ч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удь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(процедура) – будь-яка тривала, послідовна справа, порядок, обря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59F-148C-476A-9F07-04B347AE41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rcRect l="30904" t="33900" r="33463" b="30401"/>
          <a:stretch/>
        </p:blipFill>
        <p:spPr>
          <a:xfrm>
            <a:off x="209520" y="804960"/>
            <a:ext cx="7410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F3C8-DFFC-4B24-A497-326CD1EF6E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09520" y="246240"/>
            <a:ext cx="7197840" cy="5306040"/>
          </a:xfrm>
          <a:prstGeom prst="rect">
            <a:avLst/>
          </a:prstGeom>
          <a:solidFill>
            <a:srgbClr val="e0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жнародний станда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0:2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ід цим поняттям розуміє “діяльність, що використовує ресурси, керується з метою перетворення вхідних даних на вихідні дані, і може розглядатися як процес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гадка про ресурси і управління дещо розширює зміст поняття, оскільки вказується, що для виконання перетворень потрібне матеріальне забезпечення і певна програма, що задає напрямок процесу. Базову модель процесу подано на рис. 2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хідні пото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матеріали, у т.ч. сировина або інформація, що перетворюються процесом для створення вихідних потоків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хідні пото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результат перетворення вхідних потоків (матеріальна чи нематеріальна продукція). Відповідно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1:2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 може бути устаткування (технічні засоби), інтеле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альна продукція, переробні матеріали і послуги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равлінські вплив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це додаткові вхідні потоки, що впливають на процес (процедури, методики, плани, стратегія і законодавств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е сприятливі фактори, що не перетворюються в процесі (персонал, устаткування, матеріали, приміщення тощ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673-0E6C-4422-B5D4-879A039C56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17520" y="770040"/>
            <a:ext cx="6913440" cy="2226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ізнес-процесом можна назвати будь-яку діяльність, пов’язану з виробництвом і продажами товарів чи послуг і спроможну хоча б потенційно приносити приб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2"/>
          <p:cNvSpPr/>
          <p:nvPr/>
        </p:nvSpPr>
        <p:spPr>
          <a:xfrm>
            <a:off x="380880" y="5297400"/>
            <a:ext cx="17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697-7710-4D00-8503-C6A6BD71DE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425520" y="1187280"/>
            <a:ext cx="6913440" cy="3385800"/>
          </a:xfrm>
          <a:prstGeom prst="rect">
            <a:avLst/>
          </a:prstGeom>
          <a:solidFill>
            <a:srgbClr val="f0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і процеси за методологією ВА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rgwa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іляються на основні й деталь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і процес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специфічними для визначеного типу організації і визначаються за контрольною моделлю потоку продукції, яка виготовляє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міжні процеси мають загальну природу, можуть застосовуватися в різних типах організа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5:27:00Z</dcterms:created>
  <dc:creator>高迎春</dc:creator>
  <dc:description/>
  <cp:keywords/>
  <dc:language>en-US</dc:language>
  <cp:lastModifiedBy>Пользователь Windows</cp:lastModifiedBy>
  <cp:lastPrinted>1899-12-30T00:00:00Z</cp:lastPrinted>
  <dcterms:modified xsi:type="dcterms:W3CDTF">2022-01-24T06:07:00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