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7621588"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5901C-7B8A-4B53-B970-D5E9177F9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380880" y="133344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51AE6-0BDB-4342-BD71-32E49D0E9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62C86-B59E-4E1A-81CB-44C3F2651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38088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26996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0180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38088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26996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0180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D8377-3544-4641-AB85-9AEB3AA60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380880" y="1333440"/>
            <a:ext cx="68580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ED052-C10F-4C68-BEFB-16C9FD801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380880" y="1333440"/>
            <a:ext cx="68580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A9E48-0CD3-4423-86D8-F9F1DE92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EE93D-0ACB-4599-94E4-48AD33981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7151F-942E-4A16-B07C-6A08F85BC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28600"/>
            <a:ext cx="68580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C6820-7F61-4851-B3CB-0FA53A5EA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53A79-4BB6-45DE-BEF0-5D4BC19ED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99D69-C94A-4EAA-97FB-3517D40C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57BB-5981-42BE-ACFC-CB2CA79C5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3" descr=""/>
          <p:cNvPicPr/>
          <p:nvPr/>
        </p:nvPicPr>
        <p:blipFill>
          <a:blip r:embed="rId2"/>
          <a:stretch/>
        </p:blipFill>
        <p:spPr>
          <a:xfrm>
            <a:off x="0" y="0"/>
            <a:ext cx="7620120" cy="5715000"/>
          </a:xfrm>
          <a:prstGeom prst="rect">
            <a:avLst/>
          </a:prstGeom>
          <a:ln w="0">
            <a:noFill/>
          </a:ln>
        </p:spPr>
      </p:pic>
      <p:sp>
        <p:nvSpPr>
          <p:cNvPr id="1"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380880" y="1333440"/>
            <a:ext cx="68580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80520" y="5297040"/>
            <a:ext cx="17780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861E-85A2-4A67-86A5-B4128D10E797}"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2603160" y="5297040"/>
            <a:ext cx="241308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5460480" y="5297040"/>
            <a:ext cx="177804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090A-B30E-43B1-9D3A-C993ADB4496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图片 3" descr=""/>
          <p:cNvPicPr/>
          <p:nvPr/>
        </p:nvPicPr>
        <p:blipFill>
          <a:blip r:embed="rId1"/>
          <a:srcRect l="0" t="0" r="852" b="0"/>
          <a:stretch/>
        </p:blipFill>
        <p:spPr>
          <a:xfrm>
            <a:off x="-9360" y="11160"/>
            <a:ext cx="7619760" cy="5715000"/>
          </a:xfrm>
          <a:prstGeom prst="rect">
            <a:avLst/>
          </a:prstGeom>
          <a:ln w="0">
            <a:noFill/>
          </a:ln>
        </p:spPr>
      </p:pic>
      <p:sp>
        <p:nvSpPr>
          <p:cNvPr id="43" name="Rectangle 3"/>
          <p:cNvSpPr/>
          <p:nvPr/>
        </p:nvSpPr>
        <p:spPr>
          <a:xfrm>
            <a:off x="92160" y="851760"/>
            <a:ext cx="7518240" cy="2287440"/>
          </a:xfrm>
          <a:prstGeom prst="rect">
            <a:avLst/>
          </a:prstGeom>
          <a:solidFill>
            <a:srgbClr val="e6b9b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ea typeface="Arial"/>
              </a:rPr>
              <a:t>Управління бізнес-процесами</a:t>
            </a:r>
            <a:r>
              <a:rPr b="1" lang="uk-UA" sz="4800" spc="-1" strike="noStrike">
                <a:solidFill>
                  <a:srgbClr val="000000"/>
                </a:solidFill>
                <a:latin typeface="Times New Roman"/>
                <a:ea typeface="Times New Roman"/>
              </a:rPr>
              <a:t>»</a:t>
            </a:r>
            <a:endParaRPr b="0" lang="en-US" sz="4800" spc="-1" strike="noStrike">
              <a:solidFill>
                <a:srgbClr val="000000"/>
              </a:solidFill>
              <a:latin typeface="Arial"/>
            </a:endParaRPr>
          </a:p>
        </p:txBody>
      </p:sp>
      <p:sp>
        <p:nvSpPr>
          <p:cNvPr id="44" name="Rectangle 3"/>
          <p:cNvSpPr/>
          <p:nvPr/>
        </p:nvSpPr>
        <p:spPr>
          <a:xfrm>
            <a:off x="92160" y="3659400"/>
            <a:ext cx="7518240" cy="1557000"/>
          </a:xfrm>
          <a:prstGeom prst="rect">
            <a:avLst/>
          </a:prstGeom>
          <a:solidFill>
            <a:srgbClr val="e6b9b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Головня Олена Михайлі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8760-7A9F-4378-B9AC-EB7406DCCCE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64" name="Прямоугольник 3"/>
          <p:cNvSpPr/>
          <p:nvPr/>
        </p:nvSpPr>
        <p:spPr>
          <a:xfrm>
            <a:off x="209520" y="565200"/>
            <a:ext cx="7272360" cy="40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72727"/>
                </a:solidFill>
                <a:latin typeface="DINPro"/>
              </a:rPr>
              <a:t>BPM - </a:t>
            </a:r>
            <a:r>
              <a:rPr b="1" lang="ru-RU" sz="2000" spc="-1" strike="noStrike">
                <a:solidFill>
                  <a:srgbClr val="272727"/>
                </a:solidFill>
                <a:latin typeface="DINPro"/>
              </a:rPr>
              <a:t>управління бізнес-процес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27"/>
                </a:solidFill>
                <a:latin typeface="DINPro"/>
              </a:rPr>
              <a:t>BPM (business process management, </a:t>
            </a:r>
            <a:r>
              <a:rPr b="0" lang="ru-RU" sz="2000" spc="-1" strike="noStrike">
                <a:solidFill>
                  <a:srgbClr val="272727"/>
                </a:solidFill>
                <a:latin typeface="DINPro"/>
              </a:rPr>
              <a:t>управління бізнес-процесами) - концепція процесного управління організацією, яка розглядає бізнес-процеси як особливі ресурси підприємства, що безперервно адаптуються до постійних змін; основні принципи даної концепції - зрозумілість і прозорість бізнес-процесі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72727"/>
                </a:solidFill>
                <a:latin typeface="DINPro"/>
              </a:rPr>
              <a:t>Досягається це за рахунок їх моделювання з використанням формальних нотацій, використання програмного забезпечення для симуляції, моніторингу, моделювання та аналізу бізнес-процесів, динамічного перестроювання моделей бізнес-процесів силами персоналу і засобами програмних систе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2C4F-13C0-4232-A9E5-ECA1ADBD28E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66" name="Рисунок 3" descr=""/>
          <p:cNvPicPr/>
          <p:nvPr/>
        </p:nvPicPr>
        <p:blipFill>
          <a:blip r:embed="rId1"/>
          <a:srcRect l="34053" t="38100" r="32478" b="15703"/>
          <a:stretch/>
        </p:blipFill>
        <p:spPr>
          <a:xfrm>
            <a:off x="785880" y="539640"/>
            <a:ext cx="61196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A17F-5B32-4EF5-8C73-6885C12A734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6" name="Прямоугольник 3"/>
          <p:cNvSpPr/>
          <p:nvPr/>
        </p:nvSpPr>
        <p:spPr>
          <a:xfrm>
            <a:off x="569880" y="301680"/>
            <a:ext cx="6877080" cy="466596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Тема 2.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Загальні принципи управління бізнес-процесами підприємств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6858000" cy="952560"/>
          </a:xfrm>
          <a:prstGeom prst="rect">
            <a:avLst/>
          </a:prstGeom>
          <a:solidFill>
            <a:srgbClr val="ffffff"/>
          </a:solid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Література:</a:t>
            </a:r>
            <a:endParaRPr b="0" lang="en-US" sz="4400" spc="-1" strike="noStrike">
              <a:solidFill>
                <a:srgbClr val="000000"/>
              </a:solidFill>
              <a:latin typeface="Calibri"/>
            </a:endParaRPr>
          </a:p>
        </p:txBody>
      </p:sp>
      <p:sp>
        <p:nvSpPr>
          <p:cNvPr id="48"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51E1-3169-491D-8E38-1D5F7FF33A5A}"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9" name="Заголовок 1"/>
          <p:cNvSpPr/>
          <p:nvPr/>
        </p:nvSpPr>
        <p:spPr>
          <a:xfrm>
            <a:off x="65160" y="1397160"/>
            <a:ext cx="7300800" cy="40528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мерічевський С.Ф., Захаров В.О. Управління бізнес-процесами: Навч. посібник. 2-ге вид. Донецьк: ДонДУУ, 2007. 199 с.</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дточій І. І. Сутністо-змістова характеристика бізнес-процесів та особливості управління ними. </a:t>
            </a:r>
            <a:r>
              <a:rPr b="0" i="1" lang="ru-RU" sz="2000" spc="-1" strike="noStrike">
                <a:solidFill>
                  <a:srgbClr val="000000"/>
                </a:solidFill>
                <a:latin typeface="Times New Roman"/>
                <a:ea typeface="Times New Roman"/>
              </a:rPr>
              <a:t>Вісник ХНАУ. Серія : Економічні науки</a:t>
            </a:r>
            <a:r>
              <a:rPr b="0" lang="ru-RU" sz="2000" spc="-1" strike="noStrike">
                <a:solidFill>
                  <a:srgbClr val="000000"/>
                </a:solidFill>
                <a:latin typeface="Times New Roman"/>
                <a:ea typeface="Times New Roman"/>
              </a:rPr>
              <a:t>. 2020. № 4(2). С. 102-111. </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лимчук М. М. Концептуально-методологічні засади управління бізнес-процесами на підприємстві. </a:t>
            </a:r>
            <a:r>
              <a:rPr b="0" i="1" lang="ru-RU" sz="2000" spc="-1" strike="noStrike">
                <a:solidFill>
                  <a:srgbClr val="000000"/>
                </a:solidFill>
                <a:latin typeface="Times New Roman"/>
                <a:ea typeface="Times New Roman"/>
              </a:rPr>
              <a:t>Формування ринкових відносин в Україні</a:t>
            </a:r>
            <a:r>
              <a:rPr b="0" lang="ru-RU" sz="2000" spc="-1" strike="noStrike">
                <a:solidFill>
                  <a:srgbClr val="000000"/>
                </a:solidFill>
                <a:latin typeface="Times New Roman"/>
                <a:ea typeface="Times New Roman"/>
              </a:rPr>
              <a:t>. 2020. № 12. С. 85-91. </a:t>
            </a:r>
            <a:endParaRPr b="0" lang="en-US" sz="2000" spc="-1" strike="noStrike">
              <a:solidFill>
                <a:srgbClr val="000000"/>
              </a:solidFill>
              <a:latin typeface="Arial"/>
            </a:endParaRPr>
          </a:p>
          <a:p>
            <a:pPr marL="914400" indent="-9144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DFA0-34EF-4F61-895B-78D75B1308A4}"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51" name="Прямоугольник 3"/>
          <p:cNvSpPr/>
          <p:nvPr/>
        </p:nvSpPr>
        <p:spPr>
          <a:xfrm>
            <a:off x="173160" y="79200"/>
            <a:ext cx="7229520" cy="558036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ний підхід до організації і управління дозволяє підприємству отримати такі переваги</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творюються умови для широкого делегування повноважень і відповідальності виконавцям, що сприяє підвищенню якості продук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жен працівник підприємства прив’язаний до кінцевого результату і відповідає за його які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новним критерієм якості і цінності продукції є задоволення потреб споживач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корочується кількість рівнів прийняття рішень, унаслідок чого підвищується оперативність і адаптивність діяльності підприєм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0" lang="ru-RU" sz="1800" spc="-1" strike="noStrike">
                <a:solidFill>
                  <a:srgbClr val="000000"/>
                </a:solidFill>
                <a:latin typeface="Arial"/>
              </a:rPr>
              <a:t>усуваються невиправдані витрати, які не впливають на процес створення цінності продук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кращуються комунікації, оскільки обмін інформацією здійснюється усередині робочої групи бізнес-процесу, що виключає її спотворення, а також значно скорочує терміни передачі інформації від одного суб’єкта бізнес-процесу до інш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ворюються умови для автоматизації технологій виконання бізнес-процес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5387-A6F4-4590-9DC7-632A2220774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53" name="Прямоугольник 3"/>
          <p:cNvSpPr/>
          <p:nvPr/>
        </p:nvSpPr>
        <p:spPr>
          <a:xfrm>
            <a:off x="401760" y="588960"/>
            <a:ext cx="6984720" cy="4057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управління бізнес-процесом «власник» повинен отримувати зворотну інформацію про хід його виконання та інформацію від споживачів (клієнтів) бізнес-процесу. Крім того, вищому керівництву підприємством повинна регулярно надходити звітність про хід протікання бізнес-процесу.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дамо, що бізнес-процес має постачальників і споживачів, з якими він взаємодіє. Ними можуть бути інші бізнес-процеси підприємства, фізичні і юридичні особи. Впровадження засад процесного управління базується на виокремленні та групуванні бізнес-процесів, які визначаються галузевою приналежністю суб’єкта господарюван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15BD-BC42-463F-B4C6-B025330D937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55" name="Прямоугольник 3"/>
          <p:cNvSpPr/>
          <p:nvPr/>
        </p:nvSpPr>
        <p:spPr>
          <a:xfrm>
            <a:off x="398520" y="447840"/>
            <a:ext cx="7083360" cy="3987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і бізнес-процеси формуються в залежності від вимог споживачів. Виходом даних процесів є готова продукція або послуги, що реалізуються споживачам. В результаті реалізації підприємство отримує доходи та прибуток, за рахунок чого функціонує підприємство. В свою чергу виходи обслуговуючих бізнеспроцесів направлені на забезпечення основни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ханізм забезпечуючих бізнес-процесів формується в залежності від вимог підприємства. Важливі для підприємства бізнес-процеси розвитку. Механізм формується на основі умов зовнішнього середовища та покликаний адаптувати існуючі бізнес-процеси в залежності від впливу мінливих зовнішніх факторів. Загалом дана класифікація дозволяє визначити пріоритетність бізнес-процесів, їх значення та місце в загальній моделі бізнес-системи, обрати шляхи розвитку, встановити цілі виконання процесів та здійснювати контроль результатів. При здійсненні управління бізнес-процесами важливо здійснювати оцінку та аналіз бізнес-процесів.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8DA1-7B67-4010-882E-CA117C5FD8D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57" name="Прямоугольник 3"/>
          <p:cNvSpPr/>
          <p:nvPr/>
        </p:nvSpPr>
        <p:spPr>
          <a:xfrm>
            <a:off x="209520" y="120600"/>
            <a:ext cx="7237440" cy="17398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изначенні показників оцінки ефективності бізнес-процесів підприємства необхідно враховувати специфіку даного виду діяльності, наприклад, її дуалістичний характер (на макроекономічному рівні – функція посередника з доведення продукції від виробника до споживача; на мікроекономічному рівні підприємство розглядається як суб’єкт господарювання).</a:t>
            </a:r>
            <a:endParaRPr b="0" lang="en-US" sz="1800" spc="-1" strike="noStrike">
              <a:solidFill>
                <a:srgbClr val="000000"/>
              </a:solidFill>
              <a:latin typeface="Arial"/>
            </a:endParaRPr>
          </a:p>
        </p:txBody>
      </p:sp>
      <p:pic>
        <p:nvPicPr>
          <p:cNvPr id="58" name="Рисунок 4" descr=""/>
          <p:cNvPicPr/>
          <p:nvPr/>
        </p:nvPicPr>
        <p:blipFill>
          <a:blip r:embed="rId1"/>
          <a:stretch/>
        </p:blipFill>
        <p:spPr>
          <a:xfrm>
            <a:off x="-9360" y="2130480"/>
            <a:ext cx="7662600" cy="34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0A06-3FDE-4FC3-A71F-971F67940C8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60" name="Прямоугольник 3"/>
          <p:cNvSpPr/>
          <p:nvPr/>
        </p:nvSpPr>
        <p:spPr>
          <a:xfrm>
            <a:off x="380880" y="804960"/>
            <a:ext cx="699300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горитм оцінювання управління бізнес-процесами підприємства включає шість етап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першому здійснюється системна діагностика бізнес-системи. Після отримання якісних та кількісних показників ефективності управління визначаються проблемні місця та аналізується потенційна можливість підприємства вдосконалити власну діяльність за наявних ресурсів. На даних етапах використовується ряд інструментів аналізу, що дозволяють прийняти раціональні управлінські рішення щодо моделювання та вдосконалення бізнес-процес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Дата 2"/>
          <p:cNvSpPr/>
          <p:nvPr/>
        </p:nvSpPr>
        <p:spPr>
          <a:xfrm>
            <a:off x="380880" y="5297400"/>
            <a:ext cx="1778040" cy="30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81A8-614F-4177-B78F-DBE90E7FCD5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62" name="Прямоугольник 3"/>
          <p:cNvSpPr/>
          <p:nvPr/>
        </p:nvSpPr>
        <p:spPr>
          <a:xfrm>
            <a:off x="374760" y="770040"/>
            <a:ext cx="699444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02122"/>
                </a:solidFill>
                <a:latin typeface="Arial"/>
              </a:rPr>
              <a:t>Управлі́ння бі́знес-проце́сами</a:t>
            </a:r>
            <a:r>
              <a:rPr b="0" lang="ru-RU" sz="2400" spc="-1" strike="noStrike">
                <a:solidFill>
                  <a:srgbClr val="202122"/>
                </a:solidFill>
                <a:latin typeface="Arial"/>
              </a:rPr>
              <a:t> — ідентифікація, проектування, документація, впровадження, контроль та вдосконалення </a:t>
            </a:r>
            <a:r>
              <a:rPr b="0" lang="ru-RU" sz="2400" spc="-1" strike="noStrike">
                <a:solidFill>
                  <a:srgbClr val="0645ad"/>
                </a:solidFill>
                <a:latin typeface="Arial"/>
              </a:rPr>
              <a:t>бізнес-процесів</a:t>
            </a:r>
            <a:r>
              <a:rPr b="0" lang="ru-RU" sz="2400" spc="-1" strike="noStrike">
                <a:solidFill>
                  <a:srgbClr val="202122"/>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02122"/>
                </a:solidFill>
                <a:latin typeface="Arial"/>
              </a:rPr>
              <a:t>Означає систематичний підхід до управління, спрямований на </a:t>
            </a:r>
            <a:r>
              <a:rPr b="0" lang="ru-RU" sz="2400" spc="-1" strike="noStrike">
                <a:solidFill>
                  <a:srgbClr val="dd3333"/>
                </a:solidFill>
                <a:latin typeface="Arial"/>
              </a:rPr>
              <a:t>поліпшення</a:t>
            </a:r>
            <a:r>
              <a:rPr b="0" lang="ru-RU" sz="2400" spc="-1" strike="noStrike">
                <a:solidFill>
                  <a:srgbClr val="202122"/>
                </a:solidFill>
                <a:latin typeface="Arial"/>
              </a:rPr>
              <a:t> діяльності організації та її процесів. Цей підхід дає можливість організації визначити свої процеси, організувати їх виконання, а також підвищити якість, як результатів процесів, так і порядку викона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5:27:00Z</dcterms:created>
  <dc:creator>高迎春</dc:creator>
  <dc:description/>
  <cp:keywords/>
  <dc:language>en-US</dc:language>
  <cp:lastModifiedBy>Пользователь Windows</cp:lastModifiedBy>
  <cp:lastPrinted>1899-12-30T00:00:00Z</cp:lastPrinted>
  <dcterms:modified xsi:type="dcterms:W3CDTF">2022-01-27T10:48:39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