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7621588"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F82FBE-3A52-4FA5-AF27-F0101A793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380880" y="1333440"/>
            <a:ext cx="68580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380880" y="3303720"/>
            <a:ext cx="68580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AA1A5-0981-4439-9458-55E4856DB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380880" y="133344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895200" y="133344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380880" y="330372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3895200" y="330372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8133F-B56D-489A-94F7-03AC20941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380880" y="1333440"/>
            <a:ext cx="22078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2699640" y="1333440"/>
            <a:ext cx="22078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018040" y="1333440"/>
            <a:ext cx="22078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380880" y="3303720"/>
            <a:ext cx="22078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2699640" y="3303720"/>
            <a:ext cx="22078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018040" y="3303720"/>
            <a:ext cx="22078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F3120-0999-4920-BBA7-42AFDDDAB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380880" y="1333440"/>
            <a:ext cx="68580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9162F-A964-4BA9-986D-38ACC9F27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380880" y="1333440"/>
            <a:ext cx="68580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8590A-D658-47AF-9C70-3EF763E33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380880" y="1333440"/>
            <a:ext cx="334656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3895200" y="1333440"/>
            <a:ext cx="334656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2CB68-F670-493E-BAD6-9DDF27AB1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BE643-3EF6-42F2-BC57-1CCC2AF09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228600"/>
            <a:ext cx="68580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83F9B-D615-4E5B-9497-538617EEF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380880" y="133344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3895200" y="1333440"/>
            <a:ext cx="334656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380880" y="330372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11479-3A77-439A-B499-023D3DAFD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380880" y="1333440"/>
            <a:ext cx="334656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3895200" y="133344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3895200" y="330372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DE6EB-570D-46DB-A824-D51CBEAA1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380880" y="133344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3895200" y="133344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380880" y="3303720"/>
            <a:ext cx="68580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93237-0DA2-40B3-83B4-C509683B55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3" descr=""/>
          <p:cNvPicPr/>
          <p:nvPr/>
        </p:nvPicPr>
        <p:blipFill>
          <a:blip r:embed="rId2"/>
          <a:stretch/>
        </p:blipFill>
        <p:spPr>
          <a:xfrm>
            <a:off x="0" y="0"/>
            <a:ext cx="7620120" cy="5715000"/>
          </a:xfrm>
          <a:prstGeom prst="rect">
            <a:avLst/>
          </a:prstGeom>
          <a:ln w="0">
            <a:noFill/>
          </a:ln>
        </p:spPr>
      </p:pic>
      <p:sp>
        <p:nvSpPr>
          <p:cNvPr id="1"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380880" y="1333440"/>
            <a:ext cx="68580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380520" y="5297040"/>
            <a:ext cx="177804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4A2FE-F91C-4B23-B06B-5FDD346563D4}"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4" name="PlaceHolder 4"/>
          <p:cNvSpPr>
            <a:spLocks noGrp="1"/>
          </p:cNvSpPr>
          <p:nvPr>
            <p:ph type="ftr" idx="2"/>
          </p:nvPr>
        </p:nvSpPr>
        <p:spPr>
          <a:xfrm>
            <a:off x="2603160" y="5297040"/>
            <a:ext cx="241308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5460480" y="5297040"/>
            <a:ext cx="177804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3FCE4-DE47-4DA3-A016-379BB1769A3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图片 3" descr=""/>
          <p:cNvPicPr/>
          <p:nvPr/>
        </p:nvPicPr>
        <p:blipFill>
          <a:blip r:embed="rId1"/>
          <a:srcRect l="0" t="0" r="852" b="0"/>
          <a:stretch/>
        </p:blipFill>
        <p:spPr>
          <a:xfrm>
            <a:off x="-9360" y="11160"/>
            <a:ext cx="7619760" cy="5715000"/>
          </a:xfrm>
          <a:prstGeom prst="rect">
            <a:avLst/>
          </a:prstGeom>
          <a:ln w="0">
            <a:noFill/>
          </a:ln>
        </p:spPr>
      </p:pic>
      <p:sp>
        <p:nvSpPr>
          <p:cNvPr id="43" name="Rectangle 3"/>
          <p:cNvSpPr/>
          <p:nvPr/>
        </p:nvSpPr>
        <p:spPr>
          <a:xfrm>
            <a:off x="92160" y="851760"/>
            <a:ext cx="7518240" cy="2287440"/>
          </a:xfrm>
          <a:prstGeom prst="rect">
            <a:avLst/>
          </a:prstGeom>
          <a:solidFill>
            <a:srgbClr val="e6b9b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000000"/>
                </a:solidFill>
                <a:latin typeface="Times New Roman"/>
                <a:ea typeface="Times New Roman"/>
              </a:rPr>
              <a:t>Дисципліна:</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000000"/>
                </a:solidFill>
                <a:latin typeface="Times New Roman"/>
                <a:ea typeface="Times New Roman"/>
              </a:rPr>
              <a:t>«</a:t>
            </a:r>
            <a:r>
              <a:rPr b="0" lang="ru-RU" sz="4800" spc="-1" strike="noStrike">
                <a:solidFill>
                  <a:srgbClr val="000000"/>
                </a:solidFill>
                <a:latin typeface="Trebuchet MS"/>
                <a:ea typeface="Arial"/>
              </a:rPr>
              <a:t>Управління бізнес-процесами</a:t>
            </a:r>
            <a:r>
              <a:rPr b="1" lang="uk-UA" sz="4800" spc="-1" strike="noStrike">
                <a:solidFill>
                  <a:srgbClr val="000000"/>
                </a:solidFill>
                <a:latin typeface="Times New Roman"/>
                <a:ea typeface="Times New Roman"/>
              </a:rPr>
              <a:t>»</a:t>
            </a:r>
            <a:endParaRPr b="0" lang="en-US" sz="4800" spc="-1" strike="noStrike">
              <a:solidFill>
                <a:srgbClr val="000000"/>
              </a:solidFill>
              <a:latin typeface="Arial"/>
            </a:endParaRPr>
          </a:p>
        </p:txBody>
      </p:sp>
      <p:sp>
        <p:nvSpPr>
          <p:cNvPr id="44" name="Rectangle 3"/>
          <p:cNvSpPr/>
          <p:nvPr/>
        </p:nvSpPr>
        <p:spPr>
          <a:xfrm>
            <a:off x="92160" y="3659400"/>
            <a:ext cx="7518240" cy="1557000"/>
          </a:xfrm>
          <a:prstGeom prst="rect">
            <a:avLst/>
          </a:prstGeom>
          <a:solidFill>
            <a:srgbClr val="e6b9b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Викладач: д.е.н., доцент кафедри менеджменту зовнішньоекономічної діяльності, готельно-ресторанної справи та туризму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Головня Олена Михайлів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F1D16-2473-4CFF-AFC4-9597FC689E38}"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64" name="Прямоугольник 3"/>
          <p:cNvSpPr/>
          <p:nvPr/>
        </p:nvSpPr>
        <p:spPr>
          <a:xfrm>
            <a:off x="209520" y="565200"/>
            <a:ext cx="7272360" cy="4057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72727"/>
                </a:solidFill>
                <a:latin typeface="DINPro"/>
              </a:rPr>
              <a:t>BPM - </a:t>
            </a:r>
            <a:r>
              <a:rPr b="1" lang="ru-RU" sz="2000" spc="-1" strike="noStrike">
                <a:solidFill>
                  <a:srgbClr val="272727"/>
                </a:solidFill>
                <a:latin typeface="DINPro"/>
              </a:rPr>
              <a:t>управління бізнес-процесам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27"/>
                </a:solidFill>
                <a:latin typeface="DINPro"/>
              </a:rPr>
              <a:t>BPM (business process management, </a:t>
            </a:r>
            <a:r>
              <a:rPr b="0" lang="ru-RU" sz="2000" spc="-1" strike="noStrike">
                <a:solidFill>
                  <a:srgbClr val="272727"/>
                </a:solidFill>
                <a:latin typeface="DINPro"/>
              </a:rPr>
              <a:t>управління бізнес-процесами) - концепція процесного управління організацією, яка розглядає бізнес-процеси як особливі ресурси підприємства, що безперервно адаптуються до постійних змін; основні принципи даної концепції - зрозумілість і прозорість бізнес-процесів.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72727"/>
                </a:solidFill>
                <a:latin typeface="DINPro"/>
              </a:rPr>
              <a:t>Досягається це за рахунок їх моделювання з використанням формальних нотацій, використання програмного забезпечення для симуляції, моніторингу, моделювання та аналізу бізнес-процесів, динамічного перестроювання моделей бізнес-процесів силами персоналу і засобами програмних систе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57E11-2606-418E-A2AF-635DF2FE56ED}"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pic>
        <p:nvPicPr>
          <p:cNvPr id="66" name="Рисунок 3" descr=""/>
          <p:cNvPicPr/>
          <p:nvPr/>
        </p:nvPicPr>
        <p:blipFill>
          <a:blip r:embed="rId1"/>
          <a:srcRect l="34053" t="38100" r="32478" b="15703"/>
          <a:stretch/>
        </p:blipFill>
        <p:spPr>
          <a:xfrm>
            <a:off x="785880" y="539640"/>
            <a:ext cx="6119640" cy="475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517D8-CA05-4172-8A01-C606E55DFAEF}"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46" name="Прямоугольник 3"/>
          <p:cNvSpPr/>
          <p:nvPr/>
        </p:nvSpPr>
        <p:spPr>
          <a:xfrm>
            <a:off x="569880" y="301680"/>
            <a:ext cx="6877080" cy="466596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rial"/>
              </a:rPr>
              <a:t>Тема 2.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rial"/>
              </a:rPr>
              <a:t>Загальні принципи управління бізнес-процесами підприємства</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228600"/>
            <a:ext cx="6858000" cy="952560"/>
          </a:xfrm>
          <a:prstGeom prst="rect">
            <a:avLst/>
          </a:prstGeom>
          <a:solidFill>
            <a:srgbClr val="ffffff"/>
          </a:solidFill>
          <a:ln w="0">
            <a:noFill/>
          </a:ln>
        </p:spPr>
        <p:txBody>
          <a:bodyPr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Література:</a:t>
            </a:r>
            <a:endParaRPr b="0" lang="en-US" sz="4400" spc="-1" strike="noStrike">
              <a:solidFill>
                <a:srgbClr val="000000"/>
              </a:solidFill>
              <a:latin typeface="Calibri"/>
            </a:endParaRPr>
          </a:p>
        </p:txBody>
      </p:sp>
      <p:sp>
        <p:nvSpPr>
          <p:cNvPr id="48"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4AC21-AEF1-434E-B3B1-DADE7B061E9C}"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49" name="Заголовок 1"/>
          <p:cNvSpPr/>
          <p:nvPr/>
        </p:nvSpPr>
        <p:spPr>
          <a:xfrm>
            <a:off x="65160" y="1397160"/>
            <a:ext cx="7300800" cy="40528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marL="914400" indent="-9144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мерічевський С.Ф., Захаров В.О. Управління бізнес-процесами: Навч. посібник. 2-ге вид. Донецьк: ДонДУУ, 2007. 199 с.</a:t>
            </a:r>
            <a:endParaRPr b="0" lang="en-US" sz="2000" spc="-1" strike="noStrike">
              <a:solidFill>
                <a:srgbClr val="000000"/>
              </a:solidFill>
              <a:latin typeface="Arial"/>
            </a:endParaRPr>
          </a:p>
          <a:p>
            <a:pPr marL="914400" indent="-9144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дточій І. І. Сутністо-змістова характеристика бізнес-процесів та особливості управління ними. </a:t>
            </a:r>
            <a:r>
              <a:rPr b="0" i="1" lang="ru-RU" sz="2000" spc="-1" strike="noStrike">
                <a:solidFill>
                  <a:srgbClr val="000000"/>
                </a:solidFill>
                <a:latin typeface="Times New Roman"/>
                <a:ea typeface="Times New Roman"/>
              </a:rPr>
              <a:t>Вісник ХНАУ. Серія : Економічні науки</a:t>
            </a:r>
            <a:r>
              <a:rPr b="0" lang="ru-RU" sz="2000" spc="-1" strike="noStrike">
                <a:solidFill>
                  <a:srgbClr val="000000"/>
                </a:solidFill>
                <a:latin typeface="Times New Roman"/>
                <a:ea typeface="Times New Roman"/>
              </a:rPr>
              <a:t>. 2020. № 4(2). С. 102-111. </a:t>
            </a:r>
            <a:endParaRPr b="0" lang="en-US" sz="2000" spc="-1" strike="noStrike">
              <a:solidFill>
                <a:srgbClr val="000000"/>
              </a:solidFill>
              <a:latin typeface="Arial"/>
            </a:endParaRPr>
          </a:p>
          <a:p>
            <a:pPr marL="914400" indent="-9144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лимчук М. М. Концептуально-методологічні засади управління бізнес-процесами на підприємстві. </a:t>
            </a:r>
            <a:r>
              <a:rPr b="0" i="1" lang="ru-RU" sz="2000" spc="-1" strike="noStrike">
                <a:solidFill>
                  <a:srgbClr val="000000"/>
                </a:solidFill>
                <a:latin typeface="Times New Roman"/>
                <a:ea typeface="Times New Roman"/>
              </a:rPr>
              <a:t>Формування ринкових відносин в Україні</a:t>
            </a:r>
            <a:r>
              <a:rPr b="0" lang="ru-RU" sz="2000" spc="-1" strike="noStrike">
                <a:solidFill>
                  <a:srgbClr val="000000"/>
                </a:solidFill>
                <a:latin typeface="Times New Roman"/>
                <a:ea typeface="Times New Roman"/>
              </a:rPr>
              <a:t>. 2020. № 12. С. 85-91. </a:t>
            </a:r>
            <a:endParaRPr b="0" lang="en-US" sz="2000" spc="-1" strike="noStrike">
              <a:solidFill>
                <a:srgbClr val="000000"/>
              </a:solidFill>
              <a:latin typeface="Arial"/>
            </a:endParaRPr>
          </a:p>
          <a:p>
            <a:pPr marL="914400" indent="-9144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02970-0131-46B9-A534-F8468EF354F9}"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51" name="Прямоугольник 3"/>
          <p:cNvSpPr/>
          <p:nvPr/>
        </p:nvSpPr>
        <p:spPr>
          <a:xfrm>
            <a:off x="173160" y="79200"/>
            <a:ext cx="7229520" cy="5580360"/>
          </a:xfrm>
          <a:prstGeom prst="rect">
            <a:avLst/>
          </a:prstGeom>
          <a:solidFill>
            <a:srgbClr val="d9d9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цесний підхід до організації і управління дозволяє підприємству отримати такі переваги</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створюються умови для широкого делегування повноважень і відповідальності виконавцям, що сприяє підвищенню якості продукції;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ожен працівник підприємства прив’язаний до кінцевого результату і відповідає за його якіс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сновним критерієм якості і цінності продукції є задоволення потреб споживачі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корочується кількість рівнів прийняття рішень, унаслідок чого підвищується оперативність і адаптивність діяльності підприємст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 </a:t>
            </a:r>
            <a:r>
              <a:rPr b="0" lang="ru-RU" sz="1800" spc="-1" strike="noStrike">
                <a:solidFill>
                  <a:srgbClr val="000000"/>
                </a:solidFill>
                <a:latin typeface="Arial"/>
              </a:rPr>
              <a:t>усуваються невиправдані витрати, які не впливають на процес створення цінності продукції;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кращуються комунікації, оскільки обмін інформацією здійснюється усередині робочої групи бізнес-процесу, що виключає її спотворення, а також значно скорочує терміни передачі інформації від одного суб’єкта бізнес-процесу до іншог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творюються умови для автоматизації технологій виконання бізнес-процесі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DA443-66A8-43A4-8241-53BE00BA0E32}"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53" name="Прямоугольник 3"/>
          <p:cNvSpPr/>
          <p:nvPr/>
        </p:nvSpPr>
        <p:spPr>
          <a:xfrm>
            <a:off x="401760" y="588960"/>
            <a:ext cx="6984720" cy="405792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управління бізнес-процесом «власник» повинен отримувати зворотну інформацію про хід його виконання та інформацію від споживачів (клієнтів) бізнес-процесу. Крім того, вищому керівництву підприємством повинна регулярно надходити звітність про хід протікання бізнес-процесу.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дамо, що бізнес-процес має постачальників і споживачів, з якими він взаємодіє. Ними можуть бути інші бізнес-процеси підприємства, фізичні і юридичні особи. Впровадження засад процесного управління базується на виокремленні та групуванні бізнес-процесів, які визначаються галузевою приналежністю суб’єкта господарюванн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02FBE-28C9-4E83-9F5E-7E690D533810}"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55" name="Прямоугольник 3"/>
          <p:cNvSpPr/>
          <p:nvPr/>
        </p:nvSpPr>
        <p:spPr>
          <a:xfrm>
            <a:off x="398520" y="447840"/>
            <a:ext cx="7083360" cy="3987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сновні бізнес-процеси формуються в залежності від вимог споживачів. Виходом даних процесів є готова продукція або послуги, що реалізуються споживачам. В результаті реалізації підприємство отримує доходи та прибуток, за рахунок чого функціонує підприємство. В свою чергу виходи обслуговуючих бізнеспроцесів направлені на забезпечення основних.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еханізм забезпечуючих бізнес-процесів формується в залежності від вимог підприємства. Важливі для підприємства бізнес-процеси розвитку. Механізм формується на основі умов зовнішнього середовища та покликаний адаптувати існуючі бізнес-процеси в залежності від впливу мінливих зовнішніх факторів. Загалом дана класифікація дозволяє визначити пріоритетність бізнес-процесів, їх значення та місце в загальній моделі бізнес-системи, обрати шляхи розвитку, встановити цілі виконання процесів та здійснювати контроль результатів. При здійсненні управління бізнес-процесами важливо здійснювати оцінку та аналіз бізнес-процесів.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3B4AA-6C1F-4E63-8713-61F31DE0CA57}"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57" name="Прямоугольник 3"/>
          <p:cNvSpPr/>
          <p:nvPr/>
        </p:nvSpPr>
        <p:spPr>
          <a:xfrm>
            <a:off x="209520" y="120600"/>
            <a:ext cx="7237440" cy="173988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визначенні показників оцінки ефективності бізнес-процесів підприємства необхідно враховувати специфіку даного виду діяльності, наприклад, її дуалістичний характер (на макроекономічному рівні – функція посередника з доведення продукції від виробника до споживача; на мікроекономічному рівні підприємство розглядається як суб’єкт господарювання).</a:t>
            </a:r>
            <a:endParaRPr b="0" lang="en-US" sz="1800" spc="-1" strike="noStrike">
              <a:solidFill>
                <a:srgbClr val="000000"/>
              </a:solidFill>
              <a:latin typeface="Arial"/>
            </a:endParaRPr>
          </a:p>
        </p:txBody>
      </p:sp>
      <p:pic>
        <p:nvPicPr>
          <p:cNvPr id="58" name="Рисунок 4" descr=""/>
          <p:cNvPicPr/>
          <p:nvPr/>
        </p:nvPicPr>
        <p:blipFill>
          <a:blip r:embed="rId1"/>
          <a:stretch/>
        </p:blipFill>
        <p:spPr>
          <a:xfrm>
            <a:off x="-9360" y="2130480"/>
            <a:ext cx="7662600" cy="347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5DE60-3E9A-435E-956E-BBC9C6FA6AA0}"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60" name="Прямоугольник 3"/>
          <p:cNvSpPr/>
          <p:nvPr/>
        </p:nvSpPr>
        <p:spPr>
          <a:xfrm>
            <a:off x="380880" y="804960"/>
            <a:ext cx="6993000" cy="2837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лгоритм оцінювання управління бізнес-процесами підприємства включає шість етапі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першому здійснюється системна діагностика бізнес-системи. Після отримання якісних та кількісних показників ефективності управління визначаються проблемні місця та аналізується потенційна можливість підприємства вдосконалити власну діяльність за наявних ресурсів. На даних етапах використовується ряд інструментів аналізу, що дозволяють прийняти раціональні управлінські рішення щодо моделювання та вдосконалення бізнес-процесі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58935-8E29-42BE-BC8A-F721C4D71D28}"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62" name="Прямоугольник 3"/>
          <p:cNvSpPr/>
          <p:nvPr/>
        </p:nvSpPr>
        <p:spPr>
          <a:xfrm>
            <a:off x="374760" y="770040"/>
            <a:ext cx="6994440" cy="411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02122"/>
                </a:solidFill>
                <a:latin typeface="Arial"/>
              </a:rPr>
              <a:t>Управлі́ння бі́знес-проце́сами</a:t>
            </a:r>
            <a:r>
              <a:rPr b="0" lang="ru-RU" sz="2400" spc="-1" strike="noStrike">
                <a:solidFill>
                  <a:srgbClr val="202122"/>
                </a:solidFill>
                <a:latin typeface="Arial"/>
              </a:rPr>
              <a:t> — ідентифікація, проектування, документація, впровадження, контроль та вдосконалення </a:t>
            </a:r>
            <a:r>
              <a:rPr b="0" lang="ru-RU" sz="2400" spc="-1" strike="noStrike">
                <a:solidFill>
                  <a:srgbClr val="0645ad"/>
                </a:solidFill>
                <a:latin typeface="Arial"/>
              </a:rPr>
              <a:t>бізнес-процесів</a:t>
            </a:r>
            <a:r>
              <a:rPr b="0" lang="ru-RU" sz="2400" spc="-1" strike="noStrike">
                <a:solidFill>
                  <a:srgbClr val="202122"/>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02122"/>
                </a:solidFill>
                <a:latin typeface="Arial"/>
              </a:rPr>
              <a:t>Означає систематичний підхід до управління, спрямований на </a:t>
            </a:r>
            <a:r>
              <a:rPr b="0" lang="ru-RU" sz="2400" spc="-1" strike="noStrike">
                <a:solidFill>
                  <a:srgbClr val="dd3333"/>
                </a:solidFill>
                <a:latin typeface="Arial"/>
              </a:rPr>
              <a:t>поліпшення</a:t>
            </a:r>
            <a:r>
              <a:rPr b="0" lang="ru-RU" sz="2400" spc="-1" strike="noStrike">
                <a:solidFill>
                  <a:srgbClr val="202122"/>
                </a:solidFill>
                <a:latin typeface="Arial"/>
              </a:rPr>
              <a:t> діяльності організації та її процесів. Цей підхід дає можливість організації визначити свої процеси, організувати їх виконання, а також підвищити якість, як результатів процесів, так і порядку виконанн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4T05:27:00Z</dcterms:created>
  <dc:creator>高迎春</dc:creator>
  <dc:description/>
  <cp:keywords/>
  <dc:language>en-US</dc:language>
  <cp:lastModifiedBy>Пользователь Windows</cp:lastModifiedBy>
  <cp:lastPrinted>1899-12-30T00:00:00Z</cp:lastPrinted>
  <dcterms:modified xsi:type="dcterms:W3CDTF">2022-01-27T10:48:39Z</dcterms:modified>
  <cp:revision>3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ies>
</file>