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7621588"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2A781-CADB-48F0-A253-32DD80919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380880" y="1333440"/>
            <a:ext cx="68580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380880" y="3303720"/>
            <a:ext cx="68580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964B4-A9F3-4FD5-B931-6F6E2D2A2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38088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89520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38088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389520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45807-A22A-4150-8AB1-115D7CA33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380880" y="133344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2699640" y="133344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018040" y="133344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380880" y="330372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2699640" y="330372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018040" y="330372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F445A-9173-4B16-9B16-1ABAEB2B6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380880" y="1333440"/>
            <a:ext cx="68580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35037-1CA6-4D66-8AD7-8103509AF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380880" y="1333440"/>
            <a:ext cx="68580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A9B32-EA66-4B02-9968-00FD22F7A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38088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389520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0D5F5-B941-42D7-8960-FBA406454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5655E-4EA3-4BD0-A98D-FBF7708D2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228600"/>
            <a:ext cx="68580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EA5F9-9502-479C-95BA-0A7513C2D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38088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389520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38088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81C69-936F-4016-B5BD-A8545CD77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38088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389520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389520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1523C-21C5-45F2-91E9-4B1D8B2FC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38088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389520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380880" y="3303720"/>
            <a:ext cx="68580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6FB65-30B2-42A8-8454-282CA30DF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3" descr=""/>
          <p:cNvPicPr/>
          <p:nvPr/>
        </p:nvPicPr>
        <p:blipFill>
          <a:blip r:embed="rId2"/>
          <a:stretch/>
        </p:blipFill>
        <p:spPr>
          <a:xfrm>
            <a:off x="0" y="0"/>
            <a:ext cx="7620120" cy="5715000"/>
          </a:xfrm>
          <a:prstGeom prst="rect">
            <a:avLst/>
          </a:prstGeom>
          <a:ln w="0">
            <a:noFill/>
          </a:ln>
        </p:spPr>
      </p:pic>
      <p:sp>
        <p:nvSpPr>
          <p:cNvPr id="1"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380880" y="1333440"/>
            <a:ext cx="68580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80520" y="5297040"/>
            <a:ext cx="177804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03DA-00CB-4ACB-97F5-78F7AC167125}"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4" name="PlaceHolder 4"/>
          <p:cNvSpPr>
            <a:spLocks noGrp="1"/>
          </p:cNvSpPr>
          <p:nvPr>
            <p:ph type="ftr" idx="2"/>
          </p:nvPr>
        </p:nvSpPr>
        <p:spPr>
          <a:xfrm>
            <a:off x="2603160" y="5297040"/>
            <a:ext cx="241308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5460480" y="5297040"/>
            <a:ext cx="177804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FB0A8-13D9-4E58-B0E4-199796DF556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图片 3" descr=""/>
          <p:cNvPicPr/>
          <p:nvPr/>
        </p:nvPicPr>
        <p:blipFill>
          <a:blip r:embed="rId1"/>
          <a:srcRect l="0" t="0" r="852" b="0"/>
          <a:stretch/>
        </p:blipFill>
        <p:spPr>
          <a:xfrm>
            <a:off x="-9360" y="11160"/>
            <a:ext cx="7619760" cy="5715000"/>
          </a:xfrm>
          <a:prstGeom prst="rect">
            <a:avLst/>
          </a:prstGeom>
          <a:ln w="0">
            <a:noFill/>
          </a:ln>
        </p:spPr>
      </p:pic>
      <p:sp>
        <p:nvSpPr>
          <p:cNvPr id="43" name="Rectangle 3"/>
          <p:cNvSpPr/>
          <p:nvPr/>
        </p:nvSpPr>
        <p:spPr>
          <a:xfrm>
            <a:off x="92160" y="851760"/>
            <a:ext cx="7518240" cy="2287440"/>
          </a:xfrm>
          <a:prstGeom prst="rect">
            <a:avLst/>
          </a:prstGeom>
          <a:solidFill>
            <a:srgbClr val="dce6f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Дисципліна:</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a:t>
            </a:r>
            <a:r>
              <a:rPr b="0" lang="ru-RU" sz="4800" spc="-1" strike="noStrike">
                <a:solidFill>
                  <a:srgbClr val="000000"/>
                </a:solidFill>
                <a:latin typeface="Trebuchet MS"/>
                <a:ea typeface="Arial"/>
              </a:rPr>
              <a:t>Управління бізнес-процесами</a:t>
            </a:r>
            <a:r>
              <a:rPr b="1" lang="uk-UA" sz="4800" spc="-1" strike="noStrike">
                <a:solidFill>
                  <a:srgbClr val="000000"/>
                </a:solidFill>
                <a:latin typeface="Times New Roman"/>
                <a:ea typeface="Times New Roman"/>
              </a:rPr>
              <a:t>»</a:t>
            </a:r>
            <a:endParaRPr b="0" lang="en-US" sz="4800" spc="-1" strike="noStrike">
              <a:solidFill>
                <a:srgbClr val="000000"/>
              </a:solidFill>
              <a:latin typeface="Arial"/>
            </a:endParaRPr>
          </a:p>
        </p:txBody>
      </p:sp>
      <p:sp>
        <p:nvSpPr>
          <p:cNvPr id="44" name="Rectangle 3"/>
          <p:cNvSpPr/>
          <p:nvPr/>
        </p:nvSpPr>
        <p:spPr>
          <a:xfrm>
            <a:off x="92160" y="3659400"/>
            <a:ext cx="7518240" cy="1557000"/>
          </a:xfrm>
          <a:prstGeom prst="rect">
            <a:avLst/>
          </a:prstGeom>
          <a:solidFill>
            <a:srgbClr val="dce6f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Викладач: д.е.н., доцент кафедри менеджменту зовнішньоекономічної діяльності, готельно-ресторанної справи та туризму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Головня Олена Михайлі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F480C-0BEB-4073-9677-5157231215C0}"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63" name="Прямоугольник 3"/>
          <p:cNvSpPr/>
          <p:nvPr/>
        </p:nvSpPr>
        <p:spPr>
          <a:xfrm>
            <a:off x="380880" y="336600"/>
            <a:ext cx="7066080" cy="475740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озглянемо основні етапи проведення </a:t>
            </a:r>
            <a:r>
              <a:rPr b="0" lang="en-US" sz="1800" spc="-1" strike="noStrike">
                <a:solidFill>
                  <a:srgbClr val="000000"/>
                </a:solidFill>
                <a:latin typeface="Arial"/>
              </a:rPr>
              <a:t>SWOT</a:t>
            </a:r>
            <a:r>
              <a:rPr b="0" lang="uk-UA" sz="1800" spc="-1" strike="noStrike">
                <a:solidFill>
                  <a:srgbClr val="000000"/>
                </a:solidFill>
                <a:latin typeface="Arial"/>
              </a:rPr>
              <a:t>-аналізу. На першому етапі виконують збирання та оцінювання ключових даних щодо організаці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приклад, залежно від ситуації і приводу, питання можна задавати в розрізі шести категорі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родукт (що ми продаєм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роцес (як ми продаєм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Клієнт (кому ми продаєм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бут (як організова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Фінанси (які ціни, витрати і інвестиці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дміністрація (як ми управляємо усіма процеса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 другому етапі </a:t>
            </a:r>
            <a:r>
              <a:rPr b="0" lang="en-US" sz="1800" spc="-1" strike="noStrike">
                <a:solidFill>
                  <a:srgbClr val="000000"/>
                </a:solidFill>
                <a:latin typeface="Arial"/>
              </a:rPr>
              <a:t>SWOT-</a:t>
            </a:r>
            <a:r>
              <a:rPr b="0" lang="uk-UA" sz="1800" spc="-1" strike="noStrike">
                <a:solidFill>
                  <a:srgbClr val="000000"/>
                </a:solidFill>
                <a:latin typeface="Arial"/>
              </a:rPr>
              <a:t>аналізу зібрані дані про організацію сортують в чотири категорії: сильні та слабкі сторони, можливості та загрози. Сильні і слабкі сторони, як правило, випливають із внутрішніх факторів організації, а можливості і загрози, зазвичай, виникають від впливу зовнішніх фактор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07AC-F564-4EE7-B564-863EBCCEAED8}"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65" name="Прямоугольник 3"/>
          <p:cNvSpPr/>
          <p:nvPr/>
        </p:nvSpPr>
        <p:spPr>
          <a:xfrm>
            <a:off x="138240" y="517680"/>
            <a:ext cx="7481880" cy="448308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Сильні сторони </a:t>
            </a:r>
            <a:r>
              <a:rPr b="0" lang="uk-UA" sz="1800" spc="-1" strike="noStrike">
                <a:solidFill>
                  <a:srgbClr val="000000"/>
                </a:solidFill>
                <a:latin typeface="Arial"/>
              </a:rPr>
              <a:t>– це те, з чим компанія справляється і відрізняється від конкурентів, наприклад: відомий бренд, велика клієнтська база, сильний баланс, унікальна технологія і т. п.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Слабкі сторони </a:t>
            </a:r>
            <a:r>
              <a:rPr b="0" lang="uk-UA" sz="1800" spc="-1" strike="noStrike">
                <a:solidFill>
                  <a:srgbClr val="000000"/>
                </a:solidFill>
                <a:latin typeface="Arial"/>
              </a:rPr>
              <a:t>– це те, що зупиняє організацію і не дозволяє вийти на новий рівень. Це області, які потребують удосконалення, щоб залишатися конкурентоспроможними, наприклад: плинність кадрів, високий рівень боргу, логістика або нестача капітал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Можливості</a:t>
            </a:r>
            <a:r>
              <a:rPr b="0" lang="uk-UA" sz="1800" spc="-1" strike="noStrike">
                <a:solidFill>
                  <a:srgbClr val="000000"/>
                </a:solidFill>
                <a:latin typeface="Arial"/>
              </a:rPr>
              <a:t> залежать від сприятливих зовнішніх факторів, які організація може використовувати, щоб отримати конкурентну перевагу. Наприклад, виробник зможе експортувати свій товар на новий ринок, це дасть змогу йому збільшити продажі, якщо знизять тарифи в країні – «можливість» в даному випадк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Загрози </a:t>
            </a:r>
            <a:r>
              <a:rPr b="0" lang="uk-UA" sz="1800" spc="-1" strike="noStrike">
                <a:solidFill>
                  <a:srgbClr val="000000"/>
                </a:solidFill>
                <a:latin typeface="Arial"/>
              </a:rPr>
              <a:t>належать до тих факторів, які можуть завдати шкоди організації. Наприклад, коливання курсу валют, значне підвищення цін на комплектуючі, компоненти, посилення конкуренції, обмежені пропозиції праці і т. п.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BFA9-86F9-4888-8938-4A7B855DC8EB}"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pic>
        <p:nvPicPr>
          <p:cNvPr id="67" name="Рисунок 3" descr=""/>
          <p:cNvPicPr/>
          <p:nvPr/>
        </p:nvPicPr>
        <p:blipFill>
          <a:blip r:embed="rId1"/>
          <a:srcRect l="27309" t="43110" r="27862" b="16531"/>
          <a:stretch/>
        </p:blipFill>
        <p:spPr>
          <a:xfrm>
            <a:off x="136440" y="696960"/>
            <a:ext cx="7469280" cy="42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859A-6907-4171-A5FF-834CB44C2227}"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pic>
        <p:nvPicPr>
          <p:cNvPr id="69" name="Рисунок 3" descr=""/>
          <p:cNvPicPr/>
          <p:nvPr/>
        </p:nvPicPr>
        <p:blipFill>
          <a:blip r:embed="rId1"/>
          <a:srcRect l="27862" t="30807" r="28692" b="30807"/>
          <a:stretch/>
        </p:blipFill>
        <p:spPr>
          <a:xfrm>
            <a:off x="1440" y="841320"/>
            <a:ext cx="7494840" cy="3724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2887-38D8-441B-AD0D-60DB00894542}"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71" name="Прямоугольник 3"/>
          <p:cNvSpPr/>
          <p:nvPr/>
        </p:nvSpPr>
        <p:spPr>
          <a:xfrm>
            <a:off x="209520" y="662040"/>
            <a:ext cx="7101000" cy="338580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 третьому етапі будують матрицю </a:t>
            </a:r>
            <a:r>
              <a:rPr b="0" lang="en-US" sz="1800" spc="-1" strike="noStrike">
                <a:solidFill>
                  <a:srgbClr val="000000"/>
                </a:solidFill>
                <a:latin typeface="Arial"/>
              </a:rPr>
              <a:t>SWOT, </a:t>
            </a:r>
            <a:r>
              <a:rPr b="0" lang="uk-UA" sz="1800" spc="-1" strike="noStrike">
                <a:solidFill>
                  <a:srgbClr val="000000"/>
                </a:solidFill>
                <a:latin typeface="Arial"/>
              </a:rPr>
              <a:t>бажано по кожному бізнес-процесу окрем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 четвертому етапі – аналізують </a:t>
            </a:r>
            <a:r>
              <a:rPr b="0" lang="en-US" sz="1800" spc="-1" strike="noStrike">
                <a:solidFill>
                  <a:srgbClr val="000000"/>
                </a:solidFill>
                <a:latin typeface="Arial"/>
              </a:rPr>
              <a:t>SWOT</a:t>
            </a:r>
            <a:r>
              <a:rPr b="0" lang="uk-UA" sz="1800" spc="-1" strike="noStrike">
                <a:solidFill>
                  <a:srgbClr val="000000"/>
                </a:solidFill>
                <a:latin typeface="Arial"/>
              </a:rPr>
              <a:t>матрицю: визначають, які бізнес-альтернативи найкраще відповідають загальному стратегічному плану компанії і приймають відповідні рішення. </a:t>
            </a:r>
            <a:r>
              <a:rPr b="0" lang="en-US" sz="1800" spc="-1" strike="noStrike">
                <a:solidFill>
                  <a:srgbClr val="000000"/>
                </a:solidFill>
                <a:latin typeface="Arial"/>
              </a:rPr>
              <a:t>SWOT-</a:t>
            </a:r>
            <a:r>
              <a:rPr b="0" lang="uk-UA" sz="1800" spc="-1" strike="noStrike">
                <a:solidFill>
                  <a:srgbClr val="000000"/>
                </a:solidFill>
                <a:latin typeface="Arial"/>
              </a:rPr>
              <a:t>аналіз є простою, але корисною основою для аналізу сильних і слабких сторін організації, а також можливостей і загроз, з якими вона стикаєтеся. Це допоможе зосередитися на сильних сторонах компанії, звести до мінімуму загрози і скористатися усіма можливостя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акож, </a:t>
            </a:r>
            <a:r>
              <a:rPr b="0" lang="en-US" sz="1800" spc="-1" strike="noStrike">
                <a:solidFill>
                  <a:srgbClr val="000000"/>
                </a:solidFill>
                <a:latin typeface="Arial"/>
              </a:rPr>
              <a:t>SWOT-</a:t>
            </a:r>
            <a:r>
              <a:rPr b="0" lang="uk-UA" sz="1800" spc="-1" strike="noStrike">
                <a:solidFill>
                  <a:srgbClr val="000000"/>
                </a:solidFill>
                <a:latin typeface="Arial"/>
              </a:rPr>
              <a:t>аналіз може бути використаний як поштовх для розробки подальшої стратегії розвитку компані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02A11-0217-4339-AFBA-5A10B7BD642E}"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73" name="Прямоугольник 3"/>
          <p:cNvSpPr/>
          <p:nvPr/>
        </p:nvSpPr>
        <p:spPr>
          <a:xfrm>
            <a:off x="714240" y="193680"/>
            <a:ext cx="6516720" cy="91692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йбільш простий і наглядний спосіб аналізу якості процесу – скласти його схематичну інформаційну модель і виділити на ній виявлені проблемні зони</a:t>
            </a:r>
            <a:endParaRPr b="0" lang="en-US" sz="1800" spc="-1" strike="noStrike">
              <a:solidFill>
                <a:srgbClr val="000000"/>
              </a:solidFill>
              <a:latin typeface="Arial"/>
            </a:endParaRPr>
          </a:p>
        </p:txBody>
      </p:sp>
      <p:pic>
        <p:nvPicPr>
          <p:cNvPr id="74" name="Рисунок 4" descr=""/>
          <p:cNvPicPr/>
          <p:nvPr/>
        </p:nvPicPr>
        <p:blipFill>
          <a:blip r:embed="rId1"/>
          <a:srcRect l="20945" t="39173" r="51386" b="7672"/>
          <a:stretch/>
        </p:blipFill>
        <p:spPr>
          <a:xfrm>
            <a:off x="1973160" y="1366920"/>
            <a:ext cx="3781440" cy="4083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B574-0010-46D6-A68C-D93CC6418277}"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76" name="Прямоугольник 3"/>
          <p:cNvSpPr/>
          <p:nvPr/>
        </p:nvSpPr>
        <p:spPr>
          <a:xfrm>
            <a:off x="138240" y="409680"/>
            <a:ext cx="7481880" cy="146556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анжування процесів на основі суб'єктивної оцінки. Всі процеси є взаємопов'язаними, ранжування їх за важливістю впливу на кінцеві результати полегшить прийняття рішення про черговість проведення їх реорганізації. Спочатку складають загальний список процесів, що стосуються всіх аспектів діяльності організації.</a:t>
            </a:r>
            <a:endParaRPr b="0" lang="en-US" sz="1800" spc="-1" strike="noStrike">
              <a:solidFill>
                <a:srgbClr val="000000"/>
              </a:solidFill>
              <a:latin typeface="Arial"/>
            </a:endParaRPr>
          </a:p>
        </p:txBody>
      </p:sp>
      <p:pic>
        <p:nvPicPr>
          <p:cNvPr id="77" name="Рисунок 4" descr=""/>
          <p:cNvPicPr/>
          <p:nvPr/>
        </p:nvPicPr>
        <p:blipFill>
          <a:blip r:embed="rId1"/>
          <a:srcRect l="49723" t="30315" r="24542" b="34744"/>
          <a:stretch/>
        </p:blipFill>
        <p:spPr>
          <a:xfrm>
            <a:off x="1722600" y="1866960"/>
            <a:ext cx="5040000" cy="384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F5C8-0835-492C-A903-9106DA1F0609}"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79" name="Прямоугольник 3"/>
          <p:cNvSpPr/>
          <p:nvPr/>
        </p:nvSpPr>
        <p:spPr>
          <a:xfrm>
            <a:off x="533520" y="841320"/>
            <a:ext cx="6742080" cy="448308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андартами якості </a:t>
            </a:r>
            <a:r>
              <a:rPr b="0" lang="en-US" sz="1800" spc="-1" strike="noStrike">
                <a:solidFill>
                  <a:srgbClr val="000000"/>
                </a:solidFill>
                <a:latin typeface="Arial"/>
              </a:rPr>
              <a:t>ISO </a:t>
            </a:r>
            <a:r>
              <a:rPr b="0" lang="uk-UA" sz="1800" spc="-1" strike="noStrike">
                <a:solidFill>
                  <a:srgbClr val="000000"/>
                </a:solidFill>
                <a:latin typeface="Arial"/>
              </a:rPr>
              <a:t>серії 9000 передбачено, що для підвищення конкурентоспроможності підприємства необхідно створювати дієву практику регулярного вдосконалення процесу через застосування циклів </a:t>
            </a:r>
            <a:r>
              <a:rPr b="0" lang="en-US" sz="1800" spc="-1" strike="noStrike">
                <a:solidFill>
                  <a:srgbClr val="000000"/>
                </a:solidFill>
                <a:latin typeface="Arial"/>
              </a:rPr>
              <a:t>PDCA (Plan-Do-Check-Act), </a:t>
            </a:r>
            <a:r>
              <a:rPr b="0" lang="uk-UA" sz="1800" spc="-1" strike="noStrike">
                <a:solidFill>
                  <a:srgbClr val="000000"/>
                </a:solidFill>
                <a:latin typeface="Arial"/>
              </a:rPr>
              <a:t>в які входять повторювані етап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складання планових цілей і завдан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дійснення робочих операці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контроль результат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коригувальні дії, що управляю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одатково в процес необхідно ввести алгоритм управління з урахуванням скорочення відхилень показників від оптимальних значень. Таким чином, вимоги до процесу мають висуватися за двома напряма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астосування до процесу циклів </a:t>
            </a:r>
            <a:r>
              <a:rPr b="0" lang="en-US" sz="1800" spc="-1" strike="noStrike">
                <a:solidFill>
                  <a:srgbClr val="000000"/>
                </a:solidFill>
                <a:latin typeface="Arial"/>
              </a:rPr>
              <a:t>PDC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визначення оптимальних значень показників процесу і відстеження відхилен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35233-A0F1-4CA7-A5A3-6BC91B895D62}"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pic>
        <p:nvPicPr>
          <p:cNvPr id="81" name="Рисунок 3" descr=""/>
          <p:cNvPicPr/>
          <p:nvPr/>
        </p:nvPicPr>
        <p:blipFill>
          <a:blip r:embed="rId1"/>
          <a:srcRect l="15135" t="33268" r="50553" b="13091"/>
          <a:stretch/>
        </p:blipFill>
        <p:spPr>
          <a:xfrm>
            <a:off x="1260360" y="372960"/>
            <a:ext cx="5399280" cy="474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C039-5B6D-424C-BB88-20E02469B1FD}"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pic>
        <p:nvPicPr>
          <p:cNvPr id="83" name="Рисунок 3" descr=""/>
          <p:cNvPicPr/>
          <p:nvPr/>
        </p:nvPicPr>
        <p:blipFill>
          <a:blip r:embed="rId1"/>
          <a:srcRect l="48896" t="32283" r="27862" b="19488"/>
          <a:stretch/>
        </p:blipFill>
        <p:spPr>
          <a:xfrm>
            <a:off x="1757520" y="217440"/>
            <a:ext cx="4614840" cy="538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874E-59A7-43A1-9A14-C042AB790615}"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46" name="Прямоугольник 3"/>
          <p:cNvSpPr/>
          <p:nvPr/>
        </p:nvSpPr>
        <p:spPr>
          <a:xfrm>
            <a:off x="388800" y="770040"/>
            <a:ext cx="6877080" cy="344664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ТЕМА 3:</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0" spc="-1" strike="noStrike">
                <a:solidFill>
                  <a:srgbClr val="000000"/>
                </a:solidFill>
                <a:latin typeface="Times New Roman"/>
                <a:ea typeface="Times New Roman"/>
              </a:rPr>
              <a:t>Аналіз бізнес- процесів</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600"/>
            <a:ext cx="6858000" cy="952560"/>
          </a:xfrm>
          <a:prstGeom prst="rect">
            <a:avLst/>
          </a:prstGeom>
          <a:solidFill>
            <a:srgbClr val="ffffff"/>
          </a:solid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Література:</a:t>
            </a:r>
            <a:endParaRPr b="0" lang="en-US" sz="4400" spc="-1" strike="noStrike">
              <a:solidFill>
                <a:srgbClr val="000000"/>
              </a:solidFill>
              <a:latin typeface="Calibri"/>
            </a:endParaRPr>
          </a:p>
        </p:txBody>
      </p:sp>
      <p:sp>
        <p:nvSpPr>
          <p:cNvPr id="48"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4477C-5FE9-4891-A64D-45FDB09A3AB8}"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49" name="Заголовок 1"/>
          <p:cNvSpPr/>
          <p:nvPr/>
        </p:nvSpPr>
        <p:spPr>
          <a:xfrm>
            <a:off x="65160" y="1397160"/>
            <a:ext cx="7300800" cy="40528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marL="914400" indent="-9144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мерічевський С.Ф., Захаров В.О. Управління бізнес-процесами: Навч. посібник. 2-ге вид. Донецьк: ДонДУУ, 2007. 199 с.</a:t>
            </a:r>
            <a:endParaRPr b="0" lang="en-US" sz="2000" spc="-1" strike="noStrike">
              <a:solidFill>
                <a:srgbClr val="000000"/>
              </a:solidFill>
              <a:latin typeface="Arial"/>
            </a:endParaRPr>
          </a:p>
          <a:p>
            <a:pPr marL="914400" indent="-9144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Тігарєва В. А. Аналіз існуючих підходів та методів оцінювання бізнес-процесів підприємств та організацій. </a:t>
            </a:r>
            <a:r>
              <a:rPr b="0" i="1" lang="uk-UA" sz="2000" spc="-1" strike="noStrike">
                <a:solidFill>
                  <a:srgbClr val="000000"/>
                </a:solidFill>
                <a:latin typeface="Times New Roman"/>
                <a:ea typeface="Times New Roman"/>
              </a:rPr>
              <a:t>Вісник Кременчуцького національного університету імені Михайла Остроградського</a:t>
            </a:r>
            <a:r>
              <a:rPr b="0" lang="uk-UA" sz="2000" spc="-1" strike="noStrike">
                <a:solidFill>
                  <a:srgbClr val="000000"/>
                </a:solidFill>
                <a:latin typeface="Times New Roman"/>
                <a:ea typeface="Times New Roman"/>
              </a:rPr>
              <a:t>. 2016. Вип. 3(1). С. 113-122. </a:t>
            </a:r>
            <a:endParaRPr b="0" lang="en-US" sz="2000" spc="-1" strike="noStrike">
              <a:solidFill>
                <a:srgbClr val="000000"/>
              </a:solidFill>
              <a:latin typeface="Arial"/>
            </a:endParaRPr>
          </a:p>
          <a:p>
            <a:pPr marL="914400" indent="-9144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риворучко О. В. Методики якісного аналізу і оцінки бізнес-процесів. </a:t>
            </a:r>
            <a:r>
              <a:rPr b="0" i="1" lang="ru-RU" sz="2000" spc="-1" strike="noStrike">
                <a:solidFill>
                  <a:srgbClr val="000000"/>
                </a:solidFill>
                <a:latin typeface="Times New Roman"/>
                <a:ea typeface="Times New Roman"/>
              </a:rPr>
              <a:t>Управління розвитком складних систем</a:t>
            </a:r>
            <a:r>
              <a:rPr b="0" lang="ru-RU" sz="2000" spc="-1" strike="noStrike">
                <a:solidFill>
                  <a:srgbClr val="000000"/>
                </a:solidFill>
                <a:latin typeface="Times New Roman"/>
                <a:ea typeface="Times New Roman"/>
              </a:rPr>
              <a:t>.  2017. Вип. 31. С. 83-91.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638FC-8797-4708-AD1B-9CF7C50EBC24}"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51" name="Прямоугольник 3"/>
          <p:cNvSpPr/>
          <p:nvPr/>
        </p:nvSpPr>
        <p:spPr>
          <a:xfrm>
            <a:off x="173160" y="157320"/>
            <a:ext cx="7237440" cy="503172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виділення кількісних показників оцінювання застосовується ряд підходів та методів, залежно ві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витрат по кожному виділеному процесу та ставки драйверів витрат (метод АВС-аналіз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ратегічних планів, розглянутих з точок зору перспективи навчання та розвитку персоналу, перспективи бізнес-процесів, перспективи клієнтів, фінансової перспективи (система збалансованих показників (</a:t>
            </a:r>
            <a:r>
              <a:rPr b="0" lang="en-US" sz="1800" spc="-1" strike="noStrike">
                <a:solidFill>
                  <a:srgbClr val="000000"/>
                </a:solidFill>
                <a:latin typeface="Arial"/>
              </a:rPr>
              <a:t>Balanced Scorecard, BS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можливості проведення реального експерименту в рамках складної системи (імітаційне моделюванн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казників складності, процесності, контрольованості, ресурсоємності, урегульованості (експрес-метод оцінки бізнес-процес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ритичних факторів успіху організації (методика С.М. Ковальова та В.М. Ковальо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ефективності процесу за вартістю, за часом та якістю (методика оцінки економічної ефективності бізнес-процесів підприємства Л.А. Козеро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995FB-7F2D-4AB4-A7F3-A45BBD6D0EB9}"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pic>
        <p:nvPicPr>
          <p:cNvPr id="53" name="Рисунок 3" descr=""/>
          <p:cNvPicPr/>
          <p:nvPr/>
        </p:nvPicPr>
        <p:blipFill>
          <a:blip r:embed="rId1"/>
          <a:srcRect l="28692" t="25886" r="27862" b="7180"/>
          <a:stretch/>
        </p:blipFill>
        <p:spPr>
          <a:xfrm>
            <a:off x="569880" y="44280"/>
            <a:ext cx="6553080" cy="56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D0767-9D81-49A4-97D8-72B133B5C442}"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pic>
        <p:nvPicPr>
          <p:cNvPr id="55" name="Рисунок 3" descr=""/>
          <p:cNvPicPr/>
          <p:nvPr/>
        </p:nvPicPr>
        <p:blipFill>
          <a:blip r:embed="rId1"/>
          <a:srcRect l="21499" t="19975" r="23712" b="21949"/>
          <a:stretch/>
        </p:blipFill>
        <p:spPr>
          <a:xfrm>
            <a:off x="101520" y="480960"/>
            <a:ext cx="7431120" cy="44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BA4A-B83C-4217-B493-5567E4CE7B65}"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pic>
        <p:nvPicPr>
          <p:cNvPr id="57" name="Рисунок 3" descr=""/>
          <p:cNvPicPr/>
          <p:nvPr/>
        </p:nvPicPr>
        <p:blipFill>
          <a:blip r:embed="rId1"/>
          <a:srcRect l="21499" t="27362" r="23159" b="28346"/>
          <a:stretch/>
        </p:blipFill>
        <p:spPr>
          <a:xfrm>
            <a:off x="-3240" y="985680"/>
            <a:ext cx="7601040" cy="36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91F7-5423-4392-92E7-6F40B02F191B}"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pic>
        <p:nvPicPr>
          <p:cNvPr id="59" name="Рисунок 3" descr=""/>
          <p:cNvPicPr/>
          <p:nvPr/>
        </p:nvPicPr>
        <p:blipFill>
          <a:blip r:embed="rId1"/>
          <a:srcRect l="22052" t="20472" r="50833" b="35728"/>
          <a:stretch/>
        </p:blipFill>
        <p:spPr>
          <a:xfrm>
            <a:off x="533520" y="27000"/>
            <a:ext cx="6813360" cy="543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257B0-9054-451B-B75F-216735FC9571}"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61" name="Прямоугольник 3"/>
          <p:cNvSpPr/>
          <p:nvPr/>
        </p:nvSpPr>
        <p:spPr>
          <a:xfrm>
            <a:off x="173160" y="625320"/>
            <a:ext cx="7345080" cy="503172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OT-</a:t>
            </a:r>
            <a:r>
              <a:rPr b="0" lang="uk-UA" sz="1800" spc="-1" strike="noStrike">
                <a:solidFill>
                  <a:srgbClr val="000000"/>
                </a:solidFill>
                <a:latin typeface="Arial"/>
              </a:rPr>
              <a:t>аналі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дним із видів якісного аналізу бізнес-процесів є </a:t>
            </a:r>
            <a:r>
              <a:rPr b="0" lang="en-US" sz="1800" spc="-1" strike="noStrike">
                <a:solidFill>
                  <a:srgbClr val="000000"/>
                </a:solidFill>
                <a:latin typeface="Arial"/>
              </a:rPr>
              <a:t>SWOT-</a:t>
            </a:r>
            <a:r>
              <a:rPr b="0" lang="uk-UA" sz="1800" spc="-1" strike="noStrike">
                <a:solidFill>
                  <a:srgbClr val="000000"/>
                </a:solidFill>
                <a:latin typeface="Arial"/>
              </a:rPr>
              <a:t>аналіз – це техніка, в основі якої лежить дослідження сильних і слабких сторін організації, її можливості і загрози для зростання і вдосконалення. </a:t>
            </a:r>
            <a:r>
              <a:rPr b="0" lang="en-US" sz="1800" spc="-1" strike="noStrike">
                <a:solidFill>
                  <a:srgbClr val="000000"/>
                </a:solidFill>
                <a:latin typeface="Arial"/>
              </a:rPr>
              <a:t>SWOT-</a:t>
            </a:r>
            <a:r>
              <a:rPr b="0" lang="uk-UA" sz="1800" spc="-1" strike="noStrike">
                <a:solidFill>
                  <a:srgbClr val="000000"/>
                </a:solidFill>
                <a:latin typeface="Arial"/>
              </a:rPr>
              <a:t>аналіз широко використовується в різних галузях промисловості і є попередником стратегічного планування, основною метою якого є приведення організації в рівновагу із зовнішнім середовищем і можливість підтримувати цей баланс впродовж тривалого часу (Секетт, Джонс і Ердлей 2005). Часто </a:t>
            </a:r>
            <a:r>
              <a:rPr b="0" lang="en-US" sz="1800" spc="-1" strike="noStrike">
                <a:solidFill>
                  <a:srgbClr val="000000"/>
                </a:solidFill>
                <a:latin typeface="Arial"/>
              </a:rPr>
              <a:t>SWOT-</a:t>
            </a:r>
            <a:r>
              <a:rPr b="0" lang="uk-UA" sz="1800" spc="-1" strike="noStrike">
                <a:solidFill>
                  <a:srgbClr val="000000"/>
                </a:solidFill>
                <a:latin typeface="Arial"/>
              </a:rPr>
              <a:t>аналіз називають внутрішньозовнішнім аналізом підприємст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инцип роботи – аналіз здійснюється за допомогою панелі експертів, які можуть оцінити компанію з критичної точки зору. Ця панель може включати керівників, членів ради директорів, співробітників, клієнтів, технічних експертів тощо. Оцінки всіх членів групи ґрунтуються на різних показниках виробництва, оцінки результатів, статистиці задоволеності клієнтів, організаційних показниках діяльності та фінансового стан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05:27:00Z</dcterms:created>
  <dc:creator>高迎春</dc:creator>
  <dc:description/>
  <cp:keywords/>
  <dc:language>en-US</dc:language>
  <cp:lastModifiedBy>Medion</cp:lastModifiedBy>
  <cp:lastPrinted>1899-12-30T00:00:00Z</cp:lastPrinted>
  <dcterms:modified xsi:type="dcterms:W3CDTF">2022-02-01T20:21:45Z</dcterms:modified>
  <cp:revision>4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