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769-AB8D-48FD-8941-782E03C6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4A6-86F5-4679-8CD4-32323201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A1B-B7ED-434E-96C0-6C9CAE81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1A5-40B7-4160-885A-853489ED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2D9-B628-403B-A0D2-8052F224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8E1-F578-4F14-B180-6228779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737-9896-4D78-9BEE-ECE08907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991-00E3-4265-B9E1-F55E7C5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DD9-FA78-4CE9-B11C-EAEA001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A8D-5C33-47A0-8D58-10467DD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48D-EE9D-4CCF-8BAC-197426C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D71-0649-4F45-AFD4-A543B153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8192-AA55-45B0-9854-5254A79F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ЖНАРОДНА ТОРГІВ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вчення  дисциплі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Міжнародна торгівля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чинники, тенденції та технології сучасної міжнародної торгівл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ьогодні вимагає від нього широкого спектру знань та навичок розробки зовнішньоторговельної стратегії підприємств на міжнародних ринках товарів.Підгрунт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чальна дисципліна «Міжнародна торгівля» базується на таких дисциплінах як «Міжнародна економіка», «Макроекономіка», «Стратегічний аналіз національних та міжнародних ринків», «Міжнародні фінан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іна слугує теоретико-методологічною основою таких дисциплін: «Бізнес-плануванн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Інвестиційний аналіз», «Проектне фінансуван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Управління проектами»та закладає підґрунтя для написання кваліфікаційної роботи магіс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ю викладання навчальної дисциплі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формування у студентів сист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них знань та практичних навичок щодо засад та особливостей міжнародної торгової  діяль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результаті вивчення навчальної дисципліни студент повин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на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дмет, метод та джерела навчальної дисципліни «Міжнародна торгівл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ні принципи і завдання міжнародної торгів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ючі міжнародні нормативно-правові ак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и здійснення митно-тарифного і нетарифного регулю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ґрунтування доцільності виробництва екологічно чистої продукції, з перспективою виходу на світові ринки продукції сільськогосподарського виробниц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обливості сучасного урядового регулювання міжнародної торгів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міт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ієнтуватися в системі джерел міжнародної торгівлі, що регулюють відносини в галузі сільськогосподарського виробниц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стосовувати діюче законодав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загальнювати практику регулювання міжнародних торговельних відносин, та робити відповідні висновки за результатами узагальн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пагувати та тлумачити особливості сучасних інтеграційних процесів України в міжнародну економічну систему та питання щодо регулювання відносин в галузі міжнародного економічного співробітниц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даннями курсу 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вчити аналізувати міжнародну торговельну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із основних чинників, що визначають зовнішньоторговельну діяльність підприємства в умовах глобальної торговельної системи для успішного функціонування на зовнішніх ринк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вчення особливостей організації зовнішньоторговельної діяльно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йомлення студентів із особливостями виникнення стійких партнерських контактівна світовому рівн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вання навичок оцінки економічної ефективності зовнішньоторговель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і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ення дисципліни “Міжнародна торгівля “формує у студента глибоку наукову та фахову підготовку дл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ішної роботи  управлінця різного рівня, включаючи керівника бізнесу зі знанням оптимізації діяльності підприємств на міжнародних ринках, формує стратегічний підхід до управління підприємствами на основі міжнародної економічної діяльн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1T18:25:39Z</dcterms:created>
  <dc:creator>Master</dc:creator>
  <dc:description/>
  <dc:language>en-US</dc:language>
  <cp:lastModifiedBy>Customer</cp:lastModifiedBy>
  <dcterms:modified xsi:type="dcterms:W3CDTF">2019-02-21T19:45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