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77C-0B7A-4DD1-B63C-9F61B846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0A7-B413-4841-ACF4-2D115F8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C97-182F-45DB-8DC6-A4D69478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446-CBD0-45E8-AE75-6C94C186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8CE-B3B5-4E18-B0E6-CA14C15A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17E-5413-49C0-839A-3E774326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41B-BD6D-4163-827B-26176ED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5DC-20A5-445D-91DA-58ECEE8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F20-8D6D-44B5-A8A4-373D8501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CFF-CD9D-4113-8401-2ECC6B5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2F8-975D-4BEB-A996-53AE59E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577-6D32-42CD-A816-A84F5B02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D82-3FB7-40FD-9188-00956BE0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ЖНАРОДНА ТОРГІВ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вчення  дисциплі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Міжнародна торгівля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чинники, тенденції та технології сучасної міжнародної торгівл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ьогодні вимагає від нього широкого спектру знань та навичок розробки зовнішньоторговельної стратегії підприємств на міжнародних ринках товарів.Підгрунт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чальна дисципліна «Міжнародна торгівля» базується на таких дисциплінах як «Міжнародна економіка», «Макроекономіка», «Стратегічний аналіз національних та міжнародних ринків», «Міжнародні фінан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іна слугує теоретико-методологічною основою таких дисциплін: «Бізнес-плануванн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Інвестиційний аналіз», «Проектне фінансуван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Управління проектами»та закладає підґрунтя для написання кваліфікаційної роботи магі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ю викладання навчальної дисциплі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формування у студентів сис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них знань та практичних навичок щодо засад та особливостей міжнародної торгової  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результаті вивчення навчальної дисципліни студент повин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н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дмет, метод та джерела навчальної дисципліни «Міжнародна торгівл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і принципи і завдання міжнародної торгів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ючі міжнародні нормативно-правові а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и здійснення митно-тарифного і нетарифного регулю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ґрунтування доцільності виробництва екологічно чистої продукції, з перспективою виходу на світові ринки продукції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обливості сучасного урядового регулювання міжнародної торгів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міт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ієнтуватися в системі джерел міжнародної торгівлі, що регулюють відносини в галузі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стосовувати діюче законодав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загальнювати практику регулювання міжнародних торговельних відносин, та робити відповідні висновки за результатами узагальн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пагувати та тлумачити особливості сучасних інтеграційних процесів України в міжнародну економічну систему та питання щодо регулювання відносин в галузі міжнародного економічного співробітни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даннями курсу 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вчити аналізувати міжнародну торговельну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із основних чинників, що визначають зовнішньоторговельну діяльність підприємства в умовах глобальної торговельної системи для успішного функціонування на зовнішніх ринк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вчення особливостей організації зовнішньоторговельної діяль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йомлення студентів із особливостями виникнення стійких партнерських контактівна світовому рівн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вання навичок оцінки економічної ефективності зовнішньоторговель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і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ення дисципліни “Міжнародна торгівля “формує у студента глибоку наукову та фахову підготовку дл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шної роботи  управлінця різного рівня, включаючи керівника бізнесу зі знанням оптимізації діяльності підприємств на міжнародних ринках, формує стратегічний підхід до управління підприємствами на основі міжнародної економічної діяльн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1T18:25:39Z</dcterms:created>
  <dc:creator>Master</dc:creator>
  <dc:description/>
  <dc:language>en-US</dc:language>
  <cp:lastModifiedBy>Customer</cp:lastModifiedBy>
  <dcterms:modified xsi:type="dcterms:W3CDTF">2019-02-21T19:45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